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55A-1198-4727-AB6B-4EAD5CF5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92D-9925-4372-A491-A67FCAF8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020-7428-42E3-AFBA-52F6F537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0A6-AF9E-43EB-A38D-C7435BF3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94B-6AB3-4C66-870F-1F8E38B5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677-F300-4C6C-936A-048170EC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D40-1A0D-4EB7-B896-8C6EB577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1C9-DA13-431C-9065-40FFF3E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2393-219E-457D-A806-1BF50AA9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10E-1964-4631-B938-BAC9BB7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7C0-7526-4D15-B75A-16CAB8C3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410-2121-4843-80BB-494EAD2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2D2-D4F2-453A-A9FF-4B016ED3EE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F6DB-3E12-4D09-9E0A-D3B57F453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Упрощенные процедуры банкрот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F7CA-C6A8-4F5D-8D16-CD3AC15A1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Отсутствующий долж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озможно установить местонахождение должника-граждан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возможно установить местонахождение руководителя должника юр.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жник – юр.л. фактически прекратило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94A5-6B7A-4920-AE43-5BE493E86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ассмотрение дела о банкротстве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явление подаётся кредиторами независимо от размера задолж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ный срок рассмотрения дела (1 меся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курсный управляющий уведомляет известных ему креди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кращенный срок предъявления требований кредиторами (1 меся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6FA1-DB3F-49CE-A1E8-F1FCCB5838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 банкротстве отсутствующего должника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не применя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ое оздоро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шнее 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DEF-26F5-4532-96EA-C4E30ABD6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D402-4D66-4BB4-A8E4-E9E40FB59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857160" y="928800"/>
            <a:ext cx="307188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наружение имущества отсутствующего долж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5000760" y="928800"/>
            <a:ext cx="3071520" cy="200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датайство конкурсного управляю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9"/>
          <p:cNvSpPr/>
          <p:nvPr/>
        </p:nvSpPr>
        <p:spPr>
          <a:xfrm>
            <a:off x="5072040" y="3857760"/>
            <a:ext cx="3071880" cy="19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о прекращении упрощенной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0"/>
          <p:cNvSpPr/>
          <p:nvPr/>
        </p:nvSpPr>
        <p:spPr>
          <a:xfrm>
            <a:off x="928800" y="3857760"/>
            <a:ext cx="307188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ход к общим процедурам банкрот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право 11"/>
          <p:cNvSpPr/>
          <p:nvPr/>
        </p:nvSpPr>
        <p:spPr>
          <a:xfrm>
            <a:off x="4143240" y="1571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12"/>
          <p:cNvSpPr/>
          <p:nvPr/>
        </p:nvSpPr>
        <p:spPr>
          <a:xfrm>
            <a:off x="6215040" y="3000240"/>
            <a:ext cx="78588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лево 13"/>
          <p:cNvSpPr/>
          <p:nvPr/>
        </p:nvSpPr>
        <p:spPr>
          <a:xfrm>
            <a:off x="4143240" y="4357800"/>
            <a:ext cx="642960" cy="78588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95959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именение положений о банкротстве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78596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ущество должника – юр. л. не покрывает судебные расх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чение 1 года до подачи заявления о признании банкротом не проводились операции по банковским сче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предпринимательской или иной деятельности долж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E406-B506-4639-854F-8D8A686BB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Процедура банкротства отсутствующе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EDD2-D915-4775-ACDF-7BD24FB41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71424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вление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7"/>
          <p:cNvSpPr/>
          <p:nvPr/>
        </p:nvSpPr>
        <p:spPr>
          <a:xfrm>
            <a:off x="4929120" y="178596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уда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4929120" y="3357720"/>
            <a:ext cx="3071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ие конкурс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9"/>
          <p:cNvSpPr/>
          <p:nvPr/>
        </p:nvSpPr>
        <p:spPr>
          <a:xfrm>
            <a:off x="714240" y="3357720"/>
            <a:ext cx="30718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домление кред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0"/>
          <p:cNvSpPr/>
          <p:nvPr/>
        </p:nvSpPr>
        <p:spPr>
          <a:xfrm>
            <a:off x="714240" y="4929120"/>
            <a:ext cx="307188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ъявление кредиторами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1"/>
          <p:cNvSpPr/>
          <p:nvPr/>
        </p:nvSpPr>
        <p:spPr>
          <a:xfrm>
            <a:off x="5000760" y="4929120"/>
            <a:ext cx="307152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четы с креди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13"/>
          <p:cNvCxnSpPr>
            <a:stCxn id="121" idx="3"/>
            <a:endCxn id="122" idx="1"/>
          </p:cNvCxnSpPr>
          <p:nvPr/>
        </p:nvCxnSpPr>
        <p:spPr>
          <a:xfrm>
            <a:off x="3785760" y="2356920"/>
            <a:ext cx="1143720" cy="25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Прямая со стрелкой 15"/>
          <p:cNvCxnSpPr>
            <a:stCxn id="122" idx="2"/>
            <a:endCxn id="123" idx="0"/>
          </p:cNvCxnSpPr>
          <p:nvPr/>
        </p:nvCxnSpPr>
        <p:spPr>
          <a:xfrm flipH="1">
            <a:off x="6463440" y="2928600"/>
            <a:ext cx="2520" cy="42948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17"/>
          <p:cNvCxnSpPr>
            <a:stCxn id="123" idx="1"/>
            <a:endCxn id="124" idx="3"/>
          </p:cNvCxnSpPr>
          <p:nvPr/>
        </p:nvCxnSpPr>
        <p:spPr>
          <a:xfrm flipH="1" flipV="1">
            <a:off x="3785400" y="396360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Прямая со стрелкой 24"/>
          <p:cNvCxnSpPr>
            <a:stCxn id="124" idx="2"/>
            <a:endCxn id="125" idx="0"/>
          </p:cNvCxnSpPr>
          <p:nvPr/>
        </p:nvCxnSpPr>
        <p:spPr>
          <a:xfrm>
            <a:off x="2248560" y="4572000"/>
            <a:ext cx="1080" cy="35784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26"/>
          <p:cNvCxnSpPr>
            <a:stCxn id="125" idx="3"/>
            <a:endCxn id="126" idx="1"/>
          </p:cNvCxnSpPr>
          <p:nvPr/>
        </p:nvCxnSpPr>
        <p:spPr>
          <a:xfrm>
            <a:off x="3786120" y="5536800"/>
            <a:ext cx="1215360" cy="25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Блок-схема: узел 27"/>
          <p:cNvSpPr/>
          <p:nvPr/>
        </p:nvSpPr>
        <p:spPr>
          <a:xfrm>
            <a:off x="571680" y="164304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28"/>
          <p:cNvSpPr/>
          <p:nvPr/>
        </p:nvSpPr>
        <p:spPr>
          <a:xfrm>
            <a:off x="4857840" y="1571760"/>
            <a:ext cx="500040" cy="57132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29"/>
          <p:cNvSpPr/>
          <p:nvPr/>
        </p:nvSpPr>
        <p:spPr>
          <a:xfrm>
            <a:off x="7715160" y="314316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30"/>
          <p:cNvSpPr/>
          <p:nvPr/>
        </p:nvSpPr>
        <p:spPr>
          <a:xfrm>
            <a:off x="3500280" y="3000240"/>
            <a:ext cx="50040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31"/>
          <p:cNvSpPr/>
          <p:nvPr/>
        </p:nvSpPr>
        <p:spPr>
          <a:xfrm>
            <a:off x="50004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32"/>
          <p:cNvSpPr/>
          <p:nvPr/>
        </p:nvSpPr>
        <p:spPr>
          <a:xfrm>
            <a:off x="478620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92888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нкротство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анкротство отсутствующе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D80C-BC41-4CE2-8F37-17B966B23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Банкротство ликвидируемого долж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856880"/>
            <a:ext cx="822960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яется на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ликвидируем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юридическое лиц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его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имущества недостаточно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довлетворения требований креди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A7D8-343C-46F8-BCA2-7FB6A4E5C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бязаны обратится суд  с  заявлением  о  признании  должника   банкрот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999800"/>
            <a:ext cx="75153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квидационная комис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ственник     имущества   должника – унитарного пред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редители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ители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765-FB60-4A51-9EAD-A2C99147A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1000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ца, не исполнившие эту обязанность несут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убсидиарную ответственность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 неудовлетворенные  требования  креди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BBF4-0B49-4BDE-A0C6-B3FE513AB9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ручное управление 5"/>
          <p:cNvSpPr/>
          <p:nvPr/>
        </p:nvSpPr>
        <p:spPr>
          <a:xfrm>
            <a:off x="4071960" y="357120"/>
            <a:ext cx="1000080" cy="4572000"/>
          </a:xfrm>
          <a:prstGeom prst="flowChartManualOperation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6"/>
          <p:cNvSpPr/>
          <p:nvPr/>
        </p:nvSpPr>
        <p:spPr>
          <a:xfrm>
            <a:off x="4214880" y="5143680"/>
            <a:ext cx="714240" cy="785520"/>
          </a:xfrm>
          <a:prstGeom prst="flowChartConnector">
            <a:avLst/>
          </a:prstGeom>
          <a:solidFill>
            <a:srgbClr val="c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Банкротство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5" descr=""/>
          <p:cNvPicPr/>
          <p:nvPr/>
        </p:nvPicPr>
        <p:blipFill>
          <a:blip r:embed="rId1"/>
          <a:stretch/>
        </p:blipFill>
        <p:spPr>
          <a:xfrm>
            <a:off x="285840" y="1573200"/>
            <a:ext cx="8645400" cy="4522680"/>
          </a:xfrm>
          <a:prstGeom prst="rect">
            <a:avLst/>
          </a:prstGeom>
          <a:ln w="0">
            <a:noFill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E873-4236-43F6-B46C-E16705B1C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ри банкротстве ликвидируемого должника </a:t>
            </a: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не применя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7859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ое оздоро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шнее 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9F46-1E15-4846-91CD-EAC5CD4438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рок для предъявления требований кредитор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2428920"/>
          <a:ext cx="8215200" cy="307188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136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прави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меся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70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банкротстве ликвидируемого долж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окращенный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1f497d"/>
                      </a:solidFill>
                    </a:lnL>
                    <a:lnR w="13680">
                      <a:solidFill>
                        <a:srgbClr val="1f497d"/>
                      </a:solidFill>
                    </a:lnR>
                    <a:lnT w="13680">
                      <a:solidFill>
                        <a:srgbClr val="1f497d"/>
                      </a:solidFill>
                    </a:lnT>
                    <a:lnB w="13680">
                      <a:solidFill>
                        <a:srgbClr val="1f497d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0557-B867-4F1F-9FA6-906C90A4A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оцедура банкротства ликвидируемого долж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йлян А.И. 200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1F87-FB2D-422D-AD12-F9331D814F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/>
          <p:cNvSpPr/>
          <p:nvPr/>
        </p:nvSpPr>
        <p:spPr>
          <a:xfrm>
            <a:off x="714240" y="171468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вление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7"/>
          <p:cNvSpPr/>
          <p:nvPr/>
        </p:nvSpPr>
        <p:spPr>
          <a:xfrm>
            <a:off x="4929120" y="171468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шение суда о признании банкр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8"/>
          <p:cNvSpPr/>
          <p:nvPr/>
        </p:nvSpPr>
        <p:spPr>
          <a:xfrm>
            <a:off x="4929120" y="33577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рытие конкурс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9"/>
          <p:cNvSpPr/>
          <p:nvPr/>
        </p:nvSpPr>
        <p:spPr>
          <a:xfrm>
            <a:off x="714240" y="3286080"/>
            <a:ext cx="30718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едомление креди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10"/>
          <p:cNvSpPr/>
          <p:nvPr/>
        </p:nvSpPr>
        <p:spPr>
          <a:xfrm>
            <a:off x="714240" y="4929120"/>
            <a:ext cx="30718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ъявление кредиторами требов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1"/>
          <p:cNvSpPr/>
          <p:nvPr/>
        </p:nvSpPr>
        <p:spPr>
          <a:xfrm>
            <a:off x="5000760" y="4929120"/>
            <a:ext cx="3071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четы с кредит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 стрелкой 13"/>
          <p:cNvCxnSpPr>
            <a:stCxn id="76" idx="3"/>
            <a:endCxn id="77" idx="1"/>
          </p:cNvCxnSpPr>
          <p:nvPr/>
        </p:nvCxnSpPr>
        <p:spPr>
          <a:xfrm>
            <a:off x="3785760" y="228600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15"/>
          <p:cNvCxnSpPr>
            <a:stCxn id="77" idx="2"/>
            <a:endCxn id="78" idx="0"/>
          </p:cNvCxnSpPr>
          <p:nvPr/>
        </p:nvCxnSpPr>
        <p:spPr>
          <a:xfrm flipH="1">
            <a:off x="6463440" y="2858760"/>
            <a:ext cx="2520" cy="49932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17"/>
          <p:cNvCxnSpPr>
            <a:stCxn id="78" idx="1"/>
            <a:endCxn id="79" idx="3"/>
          </p:cNvCxnSpPr>
          <p:nvPr/>
        </p:nvCxnSpPr>
        <p:spPr>
          <a:xfrm flipH="1" flipV="1">
            <a:off x="3785400" y="3928680"/>
            <a:ext cx="114372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24"/>
          <p:cNvCxnSpPr>
            <a:stCxn id="79" idx="2"/>
            <a:endCxn id="80" idx="0"/>
          </p:cNvCxnSpPr>
          <p:nvPr/>
        </p:nvCxnSpPr>
        <p:spPr>
          <a:xfrm flipH="1">
            <a:off x="2249280" y="4573440"/>
            <a:ext cx="2160" cy="35640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6"/>
          <p:cNvCxnSpPr>
            <a:stCxn id="80" idx="3"/>
            <a:endCxn id="81" idx="1"/>
          </p:cNvCxnSpPr>
          <p:nvPr/>
        </p:nvCxnSpPr>
        <p:spPr>
          <a:xfrm>
            <a:off x="3786120" y="5500800"/>
            <a:ext cx="1215360" cy="2160"/>
          </a:xfrm>
          <a:prstGeom prst="straightConnector1">
            <a:avLst/>
          </a:prstGeom>
          <a:ln w="507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Блок-схема: узел 27"/>
          <p:cNvSpPr/>
          <p:nvPr/>
        </p:nvSpPr>
        <p:spPr>
          <a:xfrm>
            <a:off x="571680" y="164304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28"/>
          <p:cNvSpPr/>
          <p:nvPr/>
        </p:nvSpPr>
        <p:spPr>
          <a:xfrm>
            <a:off x="4857840" y="1571760"/>
            <a:ext cx="500040" cy="57132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узел 29"/>
          <p:cNvSpPr/>
          <p:nvPr/>
        </p:nvSpPr>
        <p:spPr>
          <a:xfrm>
            <a:off x="7715160" y="314316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узел 30"/>
          <p:cNvSpPr/>
          <p:nvPr/>
        </p:nvSpPr>
        <p:spPr>
          <a:xfrm>
            <a:off x="3500280" y="3000240"/>
            <a:ext cx="50040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узел 31"/>
          <p:cNvSpPr/>
          <p:nvPr/>
        </p:nvSpPr>
        <p:spPr>
          <a:xfrm>
            <a:off x="50004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узел 32"/>
          <p:cNvSpPr/>
          <p:nvPr/>
        </p:nvSpPr>
        <p:spPr>
          <a:xfrm>
            <a:off x="4786200" y="4643280"/>
            <a:ext cx="500040" cy="57168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4:51:05Z</dcterms:created>
  <dc:creator>Алексей</dc:creator>
  <dc:description/>
  <dc:language>en-US</dc:language>
  <cp:lastModifiedBy>1</cp:lastModifiedBy>
  <dcterms:modified xsi:type="dcterms:W3CDTF">2013-06-26T10:07:21Z</dcterms:modified>
  <cp:revision>17</cp:revision>
  <dc:subject/>
  <dc:title>Упрощенные процедуры банкротства</dc:title>
</cp:coreProperties>
</file>