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38D-3E26-4A25-9BBB-963C603D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05C-46CF-44C9-B60A-2D37BEBD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115-116E-4EB0-A8A6-2FC1759C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66E-6EFA-4F6D-9EC5-14FBC53E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A77-CF83-454A-BA8B-AB33ADD2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C8A-6DEB-4013-8582-E9EA93E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DC1-35A8-4BEA-918D-3B18F5E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E5C-B58F-458C-B269-E44FAE39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74A-E69E-4F94-B1A9-F799AA4E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E31-B390-4AEA-B42E-D638C98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B75-19A2-463E-B455-1C3B8092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BAF-AF96-4AB1-A8E9-4ECD68D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F9D-EF64-457C-BCB8-6FF5F5C5A6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5F9-E9F1-4BB1-8F8A-25732C98A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Упрощенные процедуры банкрот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CE4D-1D80-475E-A389-E79980596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сутствующий дол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должника-граждан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руководителя должника юр.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жник – юр.л. фактически прекратило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BFE0-908B-482F-AC12-80CDCA449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ссмотрение дела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явление подаётся кредиторами независимо от размера задол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рассмотрения дела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сный управляющий уведомляет известных ему креди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предъявления требований кредиторами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1FE-679C-4672-9F68-67BD7549A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 банкротстве отсутствующего должника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188-2064-4E3A-8343-9C130EED1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273-3C48-411E-988F-440EE03AA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857160" y="928800"/>
            <a:ext cx="307188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наружение имущества отсутствующего дол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5000760" y="928800"/>
            <a:ext cx="307152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атайство конкурсного управля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9"/>
          <p:cNvSpPr/>
          <p:nvPr/>
        </p:nvSpPr>
        <p:spPr>
          <a:xfrm>
            <a:off x="5072040" y="3857760"/>
            <a:ext cx="3071880" cy="19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о прекращении упрощенной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0"/>
          <p:cNvSpPr/>
          <p:nvPr/>
        </p:nvSpPr>
        <p:spPr>
          <a:xfrm>
            <a:off x="928800" y="3857760"/>
            <a:ext cx="307188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к общим процедурам банкро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4143240" y="1571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2"/>
          <p:cNvSpPr/>
          <p:nvPr/>
        </p:nvSpPr>
        <p:spPr>
          <a:xfrm>
            <a:off x="6215040" y="300024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лево 13"/>
          <p:cNvSpPr/>
          <p:nvPr/>
        </p:nvSpPr>
        <p:spPr>
          <a:xfrm>
            <a:off x="4143240" y="4357800"/>
            <a:ext cx="642960" cy="78588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менение положений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7859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ущество должника – юр. л. не покрывает судебные рас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1 года до подачи заявления о признании банкротом не проводились операции по банковским сч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предпринимательской или иной деятельности дол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C6F-C488-4130-B9F0-C1E09634A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цедура банкротства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978-03D0-484D-BF69-6256137BA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71424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492912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492912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9"/>
          <p:cNvSpPr/>
          <p:nvPr/>
        </p:nvSpPr>
        <p:spPr>
          <a:xfrm>
            <a:off x="71424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0"/>
          <p:cNvSpPr/>
          <p:nvPr/>
        </p:nvSpPr>
        <p:spPr>
          <a:xfrm>
            <a:off x="714240" y="4929120"/>
            <a:ext cx="307188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1"/>
          <p:cNvSpPr/>
          <p:nvPr/>
        </p:nvSpPr>
        <p:spPr>
          <a:xfrm>
            <a:off x="5000760" y="4929120"/>
            <a:ext cx="307152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3"/>
          <p:cNvCxnSpPr>
            <a:stCxn id="121" idx="3"/>
            <a:endCxn id="122" idx="1"/>
          </p:cNvCxnSpPr>
          <p:nvPr/>
        </p:nvCxnSpPr>
        <p:spPr>
          <a:xfrm>
            <a:off x="3785760" y="2356920"/>
            <a:ext cx="114372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5"/>
          <p:cNvCxnSpPr>
            <a:stCxn id="122" idx="2"/>
            <a:endCxn id="123" idx="0"/>
          </p:cNvCxnSpPr>
          <p:nvPr/>
        </p:nvCxnSpPr>
        <p:spPr>
          <a:xfrm flipH="1">
            <a:off x="6463440" y="2928600"/>
            <a:ext cx="2520" cy="4294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>
            <a:stCxn id="123" idx="1"/>
            <a:endCxn id="124" idx="3"/>
          </p:cNvCxnSpPr>
          <p:nvPr/>
        </p:nvCxnSpPr>
        <p:spPr>
          <a:xfrm flipH="1" flipV="1">
            <a:off x="3785400" y="39636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24"/>
          <p:cNvCxnSpPr>
            <a:stCxn id="124" idx="2"/>
            <a:endCxn id="125" idx="0"/>
          </p:cNvCxnSpPr>
          <p:nvPr/>
        </p:nvCxnSpPr>
        <p:spPr>
          <a:xfrm>
            <a:off x="2248560" y="4572000"/>
            <a:ext cx="1080" cy="357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26"/>
          <p:cNvCxnSpPr>
            <a:stCxn id="125" idx="3"/>
            <a:endCxn id="126" idx="1"/>
          </p:cNvCxnSpPr>
          <p:nvPr/>
        </p:nvCxnSpPr>
        <p:spPr>
          <a:xfrm>
            <a:off x="3786120" y="5536800"/>
            <a:ext cx="121536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92888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отсутствующе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B4C-473A-487A-B9B8-FA4AF7847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856880"/>
            <a:ext cx="822960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яется на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квидируем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юридическое ли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его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мущества недостаточно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влетворения требований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21F0-4245-450D-AC6F-74F87D052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бязаны обратится суд  с  заявлением  о  признании  должника   банкро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999800"/>
            <a:ext cx="75153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квидационная ко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ик     имущества   должника – унитарного пред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ре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3D48-91F7-4F19-A4EB-08C83392C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1000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ца, не исполнившие эту обязанность несут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убсидиарную ответственность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неудовлетворенные  требования 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5C93-6193-4F80-BF24-B70707E6A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ручное управление 5"/>
          <p:cNvSpPr/>
          <p:nvPr/>
        </p:nvSpPr>
        <p:spPr>
          <a:xfrm>
            <a:off x="4071960" y="357120"/>
            <a:ext cx="1000080" cy="4572000"/>
          </a:xfrm>
          <a:prstGeom prst="flowChartManualOperation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6"/>
          <p:cNvSpPr/>
          <p:nvPr/>
        </p:nvSpPr>
        <p:spPr>
          <a:xfrm>
            <a:off x="4214880" y="5143680"/>
            <a:ext cx="714240" cy="785520"/>
          </a:xfrm>
          <a:prstGeom prst="flowChartConnector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645400" cy="452268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7CBA-724B-436A-A16E-6AE984586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 банкротстве ликвидируемого должника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1CC1-9A25-4181-81DF-1555B3E7A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рок для предъявления требований кредито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2428920"/>
          <a:ext cx="8215200" cy="307188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136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прав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я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70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банкротстве ликвидируемого долж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кращен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B8F4-20D4-4AF3-B103-4F36A9EED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оцедура банкротства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CE3-1F91-4FC1-87B4-7A3A31BB3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71424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492912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4929120" y="33577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9"/>
          <p:cNvSpPr/>
          <p:nvPr/>
        </p:nvSpPr>
        <p:spPr>
          <a:xfrm>
            <a:off x="714240" y="3286080"/>
            <a:ext cx="30718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0"/>
          <p:cNvSpPr/>
          <p:nvPr/>
        </p:nvSpPr>
        <p:spPr>
          <a:xfrm>
            <a:off x="714240" y="49291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5000760" y="4929120"/>
            <a:ext cx="3071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3"/>
          <p:cNvCxnSpPr>
            <a:stCxn id="76" idx="3"/>
            <a:endCxn id="77" idx="1"/>
          </p:cNvCxnSpPr>
          <p:nvPr/>
        </p:nvCxnSpPr>
        <p:spPr>
          <a:xfrm>
            <a:off x="3785760" y="22860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15"/>
          <p:cNvCxnSpPr>
            <a:stCxn id="77" idx="2"/>
            <a:endCxn id="78" idx="0"/>
          </p:cNvCxnSpPr>
          <p:nvPr/>
        </p:nvCxnSpPr>
        <p:spPr>
          <a:xfrm flipH="1">
            <a:off x="6463440" y="2858760"/>
            <a:ext cx="2520" cy="499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7"/>
          <p:cNvCxnSpPr>
            <a:stCxn id="78" idx="1"/>
            <a:endCxn id="79" idx="3"/>
          </p:cNvCxnSpPr>
          <p:nvPr/>
        </p:nvCxnSpPr>
        <p:spPr>
          <a:xfrm flipH="1" flipV="1">
            <a:off x="3785400" y="392868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4"/>
          <p:cNvCxnSpPr>
            <a:stCxn id="79" idx="2"/>
            <a:endCxn id="80" idx="0"/>
          </p:cNvCxnSpPr>
          <p:nvPr/>
        </p:nvCxnSpPr>
        <p:spPr>
          <a:xfrm flipH="1">
            <a:off x="2249280" y="4573440"/>
            <a:ext cx="2160" cy="35640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6"/>
          <p:cNvCxnSpPr>
            <a:stCxn id="80" idx="3"/>
            <a:endCxn id="81" idx="1"/>
          </p:cNvCxnSpPr>
          <p:nvPr/>
        </p:nvCxnSpPr>
        <p:spPr>
          <a:xfrm>
            <a:off x="3786120" y="5500800"/>
            <a:ext cx="121536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4:51:05Z</dcterms:created>
  <dc:creator>Алексей</dc:creator>
  <dc:description/>
  <dc:language>en-US</dc:language>
  <cp:lastModifiedBy>1</cp:lastModifiedBy>
  <dcterms:modified xsi:type="dcterms:W3CDTF">2013-06-26T10:07:21Z</dcterms:modified>
  <cp:revision>17</cp:revision>
  <dc:subject/>
  <dc:title>Упрощенные процедуры банкротства</dc:title>
</cp:coreProperties>
</file>