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move the slide</a:t>
            </a:r>
            <a:endParaRPr b="0" lang="en-US" sz="3600" spc="-1" strike="noStrike">
              <a:solidFill>
                <a:srgbClr val="990033"/>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C407-FEE7-4A24-A09C-B007162FDB5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5F6A-058F-40AA-8295-25487E25230F}"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AFA0-BC5C-41A1-8BE3-CF16C1BE897B}"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3493-B7FD-41D3-A089-BCCD0A254FC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05B5-8425-43C4-A60C-90EC514B9DA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2B04-521C-4EF2-B169-57F53D69502F}"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5506-BB74-4E01-AC3B-AFBE040F319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DFBF-C864-460E-88A9-B4613150BAE7}"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F6AE-DAE9-457D-9AEE-D2ED5E11A70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5331-FEC3-4CAC-92AF-794CF4609CD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F2D4-D71A-4C23-A3E0-7E2C13B97B4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ED16-2E6D-40B6-8A27-E54484BAEE6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FC27-AAD2-408E-A78B-520BD10CD70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F872-5AC0-40E9-9DBB-197328FA240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3CD8-E666-44F2-B58A-5D862536663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502F-2197-40F0-8630-C347C6861D8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A692-CE22-4D0F-A03A-A2DC0A87AE2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8665-EA9C-48C4-8443-E521D74945D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B869-52B0-4374-A506-2DC9E70E43B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5671-76B9-4FDA-A9BC-57AD39C067D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7898-2268-403F-AED5-187CDFDD02BE}"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6219-5202-43A6-8621-CD3D20F433C1}"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E298-E82E-4BF7-9C3C-1CDBA8F8D21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C140-1A27-4A9C-B429-A339DF45E4D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5C00-DF93-47FE-B0F5-2ABF53849B1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8917-3A48-4642-9D40-6273A23B788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FE2C-9215-4EFC-8E1E-54198AF3A35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8058-9C88-4C65-A3DD-6FD3B7D7730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E7E9-AC2E-4B40-A5CF-F05E6E4C6D3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A533-2112-436F-9802-C264F008203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6B88-A238-47D2-A32A-C86DBF3F2B4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ED5B-3750-4CC5-B765-576DF33F5131}"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1824-CC6A-4366-B12B-9109AF48667B}"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2292-C3FF-4EB5-9A85-14CB64EAB06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95EE-C10E-43B5-AFBB-3C9D082706E7}"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5"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8"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33"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3"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5"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2"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6"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4"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7"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72"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8"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3"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1"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0"/>
          <p:cNvSpPr/>
          <p:nvPr/>
        </p:nvSpPr>
        <p:spPr>
          <a:xfrm>
            <a:off x="0" y="3933720"/>
            <a:ext cx="5724360" cy="12240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41"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929040"/>
            <a:ext cx="5715000" cy="121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Lucida Console"/>
              </a:rPr>
              <a:t>Кредитно-денежная система</a:t>
            </a:r>
            <a:br>
              <a:rPr sz="2400"/>
            </a:br>
            <a:r>
              <a:rPr b="1" lang="ru-RU" sz="2400" spc="-1" strike="noStrike">
                <a:solidFill>
                  <a:srgbClr val="ffffff"/>
                </a:solidFill>
                <a:latin typeface="Lucida Console"/>
              </a:rPr>
              <a:t>и кредитно-денежная политика</a:t>
            </a:r>
            <a:endParaRPr b="0"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712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Формы кредита</a:t>
            </a:r>
            <a:br>
              <a:rPr sz="2000"/>
            </a:br>
            <a:endParaRPr b="0" lang="en-US" sz="2000" spc="-1" strike="noStrike">
              <a:solidFill>
                <a:srgbClr val="990033"/>
              </a:solidFill>
              <a:latin typeface="Arial"/>
            </a:endParaRPr>
          </a:p>
        </p:txBody>
      </p:sp>
      <p:sp>
        <p:nvSpPr>
          <p:cNvPr id="102" name=""/>
          <p:cNvSpPr txBox="1"/>
          <p:nvPr/>
        </p:nvSpPr>
        <p:spPr>
          <a:xfrm>
            <a:off x="-360" y="2714760"/>
            <a:ext cx="89298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процессе исторического развития кредит приобрел многообразные формы, основные из которых - это коммерческий и банковский креди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Коммерче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предприятиями, объединениями и другими хозяйственными субъектами друг другу. Коммерческий кредит предоставляется в товарной форме, прежде всего, путем отсрочки платежа. В большинстве случаев коммерческий кредит оформляется векселе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Широкому использованию коммерческого кредита препятствует то, что он ограничен размерами резервного фонда предприятия-кредитора; будучи предоставлен в товарной форме, он не может, например, использоваться для выплаты заработной платы; наконец, он может быть предоставлен лишь предприятиями производящими инвестиционные товары, тем предприятиям, которые их потребляют, а не наоборо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а ограниченность коммерческого кредита преодолевается путем развития банковского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0" y="2428560"/>
            <a:ext cx="9144000" cy="44290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Банков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кредитно-финансовыми учреждениями (банками, фондами, ассоциациями) любым хозяйственным субъектам (частным предпринимателям, предприятиям, организациям и т. п.) в виде денежных ссуд. Банковские кредиты делятся н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краткосрочные (до 1 год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среднесрочные (от 1 года до 5 ле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долгосрочные (свыше 5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и кредиты могут обслуживать не только обращение товаров, но и накопление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Преодолев ограниченность коммерческого кредита по направлению, срокам и суммам сделок, банковский кредит превратился в основную и преимущественную форму кредитных отношен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уществуют другие распространенные формы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Межхозяйственный денеж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a:t>
            </a:r>
            <a:r>
              <a:rPr b="0" lang="en-US" sz="1400" spc="-1" strike="noStrike">
                <a:solidFill>
                  <a:srgbClr val="000000"/>
                </a:solidFill>
                <a:latin typeface="Lucida Sans Unicode"/>
                <a:ea typeface="Lucida Sans Unicode"/>
              </a:rPr>
              <a:t> хозяйствующими субъектами друг другу путем, как правило, выпуска предприятиями и организациями акций, облигаций и других видов ценных бумаг. Эти операции получили название децентрализованного финансирования (выпуск акций) и кредитования (выпуск облигаций и других ценных бумаг) предприят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0" y="2499840"/>
            <a:ext cx="914400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Потребительский кредит </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 частным лицам на срок до 3 лет при покупке, прежде всего, потребительских товаров длительного пользования. Он реализуется или в форме продажи товаров с отсрочкой платежа через розничные магазины, или в форме предоставления банковской ссуды на потребительские цели. За использование потребительским кредитом взимается, как правило, высокий реальный процен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Ипотечный кредит  </a:t>
            </a:r>
            <a:r>
              <a:rPr b="0" lang="en-US" sz="1400" spc="-1" strike="noStrike">
                <a:solidFill>
                  <a:srgbClr val="4d4d4d"/>
                </a:solidFill>
                <a:latin typeface="Lucida Sans Unicode"/>
                <a:ea typeface="Lucida Sans Unicode"/>
              </a:rPr>
              <a:t>предоставляется в виде долгосрочных ссуд под залог недвижимости (земли, зданий). Инструментом предоставления таких ссуд служат ипотечные облигации, выпускаемые банками и предприятиями. Ипотечный кредит используется для обновления основных фондов в сельском хозяйстве, финансирования жилищного строительства и т. п.</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Государствен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систему кредитных отношений, в которой государство выступает заемщиком, а население и частный бизнес - кредиторами денежных средств. Источником средств государственного кредита служат облигации государственных займов, которые могут выпускаться не только центральными, но и местными органами власти. Государство использует данную форму кредита, прежде всего для покрытия дефицита государственного бюдже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Международ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движение ссудного капитала в сфере международных экономических отношений. Международный кредит предоставляется в товарной или денежной (валютной) форме</a:t>
            </a:r>
            <a:r>
              <a:rPr b="0" lang="en-US" sz="1400" spc="-1" strike="noStrike">
                <a:solidFill>
                  <a:srgbClr val="000000"/>
                </a:solidFill>
                <a:latin typeface="Lucida Sans Unicode"/>
                <a:ea typeface="Lucida Sans Unicode"/>
              </a:rPr>
              <a:t>. Кредиторами и заемщиками являются банки, частные фирмы, государства, международные и региональные организа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42960" y="2499840"/>
            <a:ext cx="8786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труктура современной кредитно-денежной системы</a:t>
            </a:r>
            <a:br>
              <a:rPr sz="2400"/>
            </a:br>
            <a:endParaRPr b="0" lang="en-US" sz="2400" spc="-1" strike="noStrike">
              <a:solidFill>
                <a:srgbClr val="990033"/>
              </a:solidFill>
              <a:latin typeface="Arial"/>
            </a:endParaRPr>
          </a:p>
        </p:txBody>
      </p:sp>
      <p:sp>
        <p:nvSpPr>
          <p:cNvPr id="106" name=""/>
          <p:cNvSpPr txBox="1"/>
          <p:nvPr/>
        </p:nvSpPr>
        <p:spPr>
          <a:xfrm>
            <a:off x="285480" y="3142800"/>
            <a:ext cx="84294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ая кредитно система представляет собой результат длительного исторического развития и приспособления кредитных институтов к потребностям развития рыночной экономики. С институциональной точки зрения, кредитно-денежная система представляет собой комплекс валютно-финансовых учреждений активно используемых государством в целях регулир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овременной кредитной системе выделяются три основных звена: Центральный банк; коммерческие банки; специализированные кредитно-финансовые институт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Центральный банк</a:t>
            </a:r>
            <a:br>
              <a:rPr sz="3200"/>
            </a:br>
            <a:endParaRPr b="0" lang="en-US" sz="2000" spc="-1" strike="noStrike">
              <a:solidFill>
                <a:srgbClr val="990033"/>
              </a:solidFill>
              <a:latin typeface="Arial"/>
            </a:endParaRPr>
          </a:p>
        </p:txBody>
      </p:sp>
      <p:sp>
        <p:nvSpPr>
          <p:cNvPr id="108" name=""/>
          <p:cNvSpPr txBox="1"/>
          <p:nvPr/>
        </p:nvSpPr>
        <p:spPr>
          <a:xfrm>
            <a:off x="-143280" y="2357280"/>
            <a:ext cx="9286920" cy="450072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Главенствующее положение в кредитно-денежной системе занимает Центральный банк, который называют «банком банков». В разных странах Центральные банки исторически выделились из массы коммерческих банков, как главные эмиссионные центры. Некоторые из Центральных банков были сразу учреждены как государственные институты (Немецкий федеральный банк), другие были национализированы после Второй мировой войны (Банк Франции, Банк Англии, Банк Японии). Некоторые Центральные банки до сих пор существуют на основе смешанной государственно-частной собственности (например, Федеральная резервная система США, возникшая в 1913 г.). Центральный банк России был создан в 1991 г. и действует в соответствии с Законом о Центральном банке.</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Центральные банки выполняют ряд важных функций, среди которых следует выделить:</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миссию банкнот;</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государственных золотовалютных резервов;</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резервного фонда других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денежно-кредитное регулирование экономики;</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оддержание обменного курса национальной валюты;</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ование коммерческих банков и осуществление кассового обслуживания государствен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оведение расчетов и переводных операц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нтроль за деятельностью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1420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оммерческие банки</a:t>
            </a:r>
            <a:br>
              <a:rPr sz="3200"/>
            </a:br>
            <a:endParaRPr b="0" lang="en-US" sz="2000" spc="-1" strike="noStrike">
              <a:solidFill>
                <a:srgbClr val="990033"/>
              </a:solidFill>
              <a:latin typeface="Arial"/>
            </a:endParaRPr>
          </a:p>
        </p:txBody>
      </p:sp>
      <p:sp>
        <p:nvSpPr>
          <p:cNvPr id="110"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оммерческие банки представляют собой главные «нервные» центры кредитно-денежной системы. Современный коммерческий банк является кредитно-финансовым учреждением универсального характера. На ранних этапах развития банковского дела коммерческие банки обслуживали преимущественно торговлю, кредитовали транспортировку, хранение и другие операции, связанные с товарным обменом. В настоящее время коммерческие банки способны предложить своим клиентам до 200 видов разнообразных банковских услуг. Конституирующие операции коммерческих банков подразделяются н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пассивные (прием депозитов, т. е. привлечение средств клиен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активные (выдача кредитов, т. е. размещение средст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быль банков формируется как разница между суммой процентов, получаемых ими по выданным кредитам, и суммой процентов, уплачиваемых ими по депозита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оме того, коммерческие банки осуществляют денежные платежи и расчеты, могут заниматься посредническими операциями (по поручению клиента на комиссионной основе), к которым относятся, например, обязательства по торговым сделкам или предоставление финансовых гарантий. Банки также осуществляют доверительные операции (т. е. банки принимают на себя функции доверенного лица и выполняют в этом качестве операции по управлению имуществом, ценными бумагами клиентов).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пециализированные кредитно-финансовые институты</a:t>
            </a:r>
            <a:br>
              <a:rPr sz="3200"/>
            </a:br>
            <a:endParaRPr b="0" lang="en-US" sz="2000" spc="-1" strike="noStrike">
              <a:solidFill>
                <a:srgbClr val="990033"/>
              </a:solidFill>
              <a:latin typeface="Arial"/>
            </a:endParaRPr>
          </a:p>
        </p:txBody>
      </p:sp>
      <p:sp>
        <p:nvSpPr>
          <p:cNvPr id="112" name=""/>
          <p:cNvSpPr txBox="1"/>
          <p:nvPr/>
        </p:nvSpPr>
        <p:spPr>
          <a:xfrm>
            <a:off x="-360" y="2786040"/>
            <a:ext cx="864396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собое место в современной рыночной экономике занимают специализированные кредитно-финансовые институты, такие, как пенсионные фонды, страховые компании, взаимные фонды, инвестиционные банки, ипотечные банки, ссудно-сберегательные ассоциации и т. п. Аккумулируя громадные денежные ресурсы, эти институты активно участвуют в процессах накопления и эффективного размещения капитала. Суммарные активы всех этих специализированных кредитно-финансовых учреждений США почти вдвое превышают активы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Таким образом, ведущую роль в кредитной системе занимает Центральный банк, который относительно независим, но согласует с правительством проводимую кредитно-денежную политику, является монополистом в вопросах эмиссии денег и регулирует деятельность как коммерческих банков, так и специализированных кредитно-финансовых институ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2571480"/>
            <a:ext cx="80532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ежная масса и ее структура. Денежные агрегаты</a:t>
            </a:r>
            <a:br>
              <a:rPr sz="2400"/>
            </a:br>
            <a:endParaRPr b="0" lang="en-US" sz="2400" spc="-1" strike="noStrike">
              <a:solidFill>
                <a:srgbClr val="990033"/>
              </a:solidFill>
              <a:latin typeface="Arial"/>
            </a:endParaRPr>
          </a:p>
        </p:txBody>
      </p:sp>
      <p:sp>
        <p:nvSpPr>
          <p:cNvPr id="114" name=""/>
          <p:cNvSpPr txBox="1"/>
          <p:nvPr/>
        </p:nvSpPr>
        <p:spPr>
          <a:xfrm>
            <a:off x="0" y="2928600"/>
            <a:ext cx="8786880" cy="3786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Чуть ранее уже было сказано, что предложение денег в экономике исходит от Центрального банка, являющегося монополистом в вопросе эмиссии денег. Однако, </a:t>
            </a:r>
            <a:r>
              <a:rPr b="0" lang="en-US" sz="1400" spc="-1" strike="noStrike">
                <a:solidFill>
                  <a:srgbClr val="4d4d4d"/>
                </a:solidFill>
                <a:latin typeface="Lucida Sans Unicode"/>
                <a:ea typeface="Lucida Sans Unicode"/>
              </a:rPr>
              <a:t>следует все же уточнить, что включается в структуру денежной массы, как измеряется ее величина? Поскольку деньги выполняют функцию средства обмена при совершении сделок в экономике, то в простой модели экономики предложение денег сводится к величине активов, служащих этой цели (например, измеряется количеством золотых монет, выпущенных государством). Но в сложной реальной экономике ответ на этот вопрос не столь однозначен. Прежде всего, надо определить поняти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Lucida Sans Unicode"/>
                <a:ea typeface="Lucida Sans Unicode"/>
              </a:rPr>
              <a:t>	</a:t>
            </a:r>
            <a:r>
              <a:rPr b="1" lang="en-US" sz="1400" spc="-1" strike="noStrike" u="sng">
                <a:solidFill>
                  <a:srgbClr val="4d4d4d"/>
                </a:solidFill>
                <a:uFillTx/>
                <a:latin typeface="Lucida Sans Unicode"/>
                <a:ea typeface="Lucida Sans Unicode"/>
              </a:rPr>
              <a:t>Денежная масс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 это совокупность наличных и безналичных покупательных и платежных средств, обеспечивающих обращение товаров и услуг в экономике, которыми располагают частные лица, институциональные собственники (предприятия, объединения, организации) и государ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0" y="2285640"/>
            <a:ext cx="878688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структуре денежной массы выделяется активная часть, к которой относятся денежные средства, реально обслуживающие хозяйственный оборот, и пассивная часть, включающая денежные накопления, </a:t>
            </a:r>
            <a:r>
              <a:rPr b="0" lang="en-US" sz="1400" spc="-1" strike="noStrike">
                <a:solidFill>
                  <a:srgbClr val="4d4d4d"/>
                </a:solidFill>
                <a:latin typeface="Lucida Sans Unicode"/>
                <a:ea typeface="Lucida Sans Unicode"/>
              </a:rPr>
              <a:t>остатки на счетах, которые потенциально могут служить расчетными средствами. Таким образом, структура денежной массы достаточно сложна и не совпадает со стереотипом, который сложился в сознании рядового потребителя, считающего деньгами, прежде всего, </a:t>
            </a:r>
            <a:r>
              <a:rPr b="1" i="1" lang="en-US" sz="1400" spc="-1" strike="noStrike">
                <a:solidFill>
                  <a:srgbClr val="4d4d4d"/>
                </a:solidFill>
                <a:latin typeface="Lucida Sans Unicode"/>
                <a:ea typeface="Lucida Sans Unicode"/>
              </a:rPr>
              <a:t>наличные средства</a:t>
            </a:r>
            <a:r>
              <a:rPr b="0" lang="en-US" sz="1400" spc="-1" strike="noStrike">
                <a:solidFill>
                  <a:srgbClr val="4d4d4d"/>
                </a:solidFill>
                <a:latin typeface="Lucida Sans Unicode"/>
                <a:ea typeface="Lucida Sans Unicode"/>
              </a:rPr>
              <a:t> - бумажные деньги и мелкую разменную монету. На деле, основная часть сделок между предприятиями и организациями, даже в розничной торговле, совершается в развитой рыночной экономике путем использования банковских счетов. В результате наступила эра банковских денег - </a:t>
            </a:r>
            <a:r>
              <a:rPr b="1" i="1" lang="en-US" sz="1400" spc="-1" strike="noStrike">
                <a:solidFill>
                  <a:srgbClr val="4d4d4d"/>
                </a:solidFill>
                <a:latin typeface="Lucida Sans Unicode"/>
                <a:ea typeface="Lucida Sans Unicode"/>
              </a:rPr>
              <a:t>депозитов</a:t>
            </a:r>
            <a:r>
              <a:rPr b="0" lang="en-US" sz="1400" spc="-1" strike="noStrike">
                <a:solidFill>
                  <a:srgbClr val="4d4d4d"/>
                </a:solidFill>
                <a:latin typeface="Lucida Sans Unicode"/>
                <a:ea typeface="Lucida Sans Unicode"/>
              </a:rPr>
              <a:t>, которые обслуживаются такими инструментами как чеки, кредитные и депозитные карточки, чеки для путешественников и т. п. Эти инструменты расчетов позволяют распоряжаться </a:t>
            </a:r>
            <a:r>
              <a:rPr b="1" i="1" lang="en-US" sz="1400" spc="-1" strike="noStrike">
                <a:solidFill>
                  <a:srgbClr val="4d4d4d"/>
                </a:solidFill>
                <a:latin typeface="Lucida Sans Unicode"/>
                <a:ea typeface="Lucida Sans Unicode"/>
              </a:rPr>
              <a:t>безналичными деньгами</a:t>
            </a:r>
            <a:r>
              <a:rPr b="0" lang="en-US" sz="1400" spc="-1" strike="noStrike">
                <a:solidFill>
                  <a:srgbClr val="4d4d4d"/>
                </a:solidFill>
                <a:latin typeface="Lucida Sans Unicode"/>
                <a:ea typeface="Lucida Sans Unicode"/>
              </a:rPr>
              <a:t>. При оплате товара или услуги покупатель, используя чек или кредитную карточку, приказывает банку перевести сумму покупки со своего депозита на счет продавца или выдать ему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60" y="2714400"/>
            <a:ext cx="864396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месте с тем, в пассивную часть денежной массы включаются такие компоненты, которые нельзя непосредственно использовать как покупательное или платежное средство. Речь идет о денежных средствах на срочных счетах, сберегательных вкладах в коммерческих банках, других кредитно-финансовых учреждениях, краткосрочных государственных облигациях, акциях инвестиционных фондов, которые вкладывают средства только в краткосрочные денежные обязательства и т. п. Перечисленные компоненты денежной массы получили общее название «квази-деньги» (от латинского </a:t>
            </a:r>
            <a:r>
              <a:rPr b="0" lang="en-US" sz="1400" spc="-1" strike="noStrike">
                <a:solidFill>
                  <a:srgbClr val="000000"/>
                </a:solidFill>
                <a:latin typeface="Lucida Sans Unicode"/>
                <a:ea typeface="Lucida Sans Unicode"/>
              </a:rPr>
              <a:t>quasi</a:t>
            </a:r>
            <a:r>
              <a:rPr b="0" lang="ru-RU" sz="1400" spc="-1" strike="noStrike">
                <a:solidFill>
                  <a:srgbClr val="000000"/>
                </a:solidFill>
                <a:latin typeface="Lucida Sans Unicode"/>
                <a:ea typeface="Lucida Sans Unicode"/>
              </a:rPr>
              <a:t> - как будто, почти). «Квази-деньги» представляют собой наиболее весомую и быстро растущую часть в структур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кономисты называют «квази-деньги» ликвидными активами. Если наличные деньги обладают абсолютной ликвидностью, то ликвидность «квази-денег» не абсолютна. Вы не можете, например, расплатиться деньгами со срочного счета или акцией за покупки в магазине или проезд на транспорте. В то же время, «квази-деньги» действительно относятся к ликвидным видам богатства, поскольку срочные вклады, а так же некоторые виды акций и облигаций можно превратить в наличные деньги, хотя и с определенными транзакционными издержкам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8400" y="2142720"/>
            <a:ext cx="87152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ьги и их функции. Понятие и типы денежных систем</a:t>
            </a:r>
            <a:endParaRPr b="0" lang="en-US" sz="2400" spc="-1" strike="noStrike">
              <a:solidFill>
                <a:srgbClr val="990033"/>
              </a:solidFill>
              <a:latin typeface="Arial"/>
            </a:endParaRPr>
          </a:p>
        </p:txBody>
      </p:sp>
      <p:sp>
        <p:nvSpPr>
          <p:cNvPr id="87" name=""/>
          <p:cNvSpPr txBox="1"/>
          <p:nvPr/>
        </p:nvSpPr>
        <p:spPr>
          <a:xfrm>
            <a:off x="-360" y="2785680"/>
            <a:ext cx="9001080" cy="4071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по определению, обладают абсолютной ликвидностью. На языке экономической теории это означает, что издержки обмена денег на какие-либо другие блага равны нулю.</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рода современных денег такова. С одной стороны, государство выпускает в обращение деньги как законное средство платежа в экономике. Предложение денег (денежную массу) обеспечивает по согласованию с правительством Центральный банк страны. В таком случае, современные деньги представляют собой декретные деньги, которые правительство провозглашает обязательным для приема при обмене и в качестве законного способа уплаты долгов. С другой стороны, население страны воспринимает выпускаемые в обращение бумажные деньги как общепризнанное средство обмена.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овременная денежная система носит фидуциарный характер (от лат. </a:t>
            </a:r>
            <a:r>
              <a:rPr b="0" lang="en-US" sz="1400" spc="-1" strike="noStrike">
                <a:solidFill>
                  <a:srgbClr val="000000"/>
                </a:solidFill>
                <a:latin typeface="Lucida Sans Unicode"/>
                <a:ea typeface="Lucida Sans Unicode"/>
              </a:rPr>
              <a:t>fiducia</a:t>
            </a:r>
            <a:r>
              <a:rPr b="0" lang="ru-RU" sz="1400" spc="-1" strike="noStrike">
                <a:solidFill>
                  <a:srgbClr val="000000"/>
                </a:solidFill>
                <a:latin typeface="Lucida Sans Unicode"/>
                <a:ea typeface="Lucida Sans Unicode"/>
              </a:rPr>
              <a:t> – сделка, основанная на доверии). В экономике страны население предъявляет спрос на деньги, поскольку они выполняют важные функции. Именно благодаря этим функциям население и ценит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выделить четыре основных функции денег: </a:t>
            </a:r>
            <a:r>
              <a:rPr b="1" i="1" lang="ru-RU" sz="1400" spc="-1" strike="noStrike" u="sng">
                <a:solidFill>
                  <a:srgbClr val="4d4d4d"/>
                </a:solidFill>
                <a:uFillTx/>
                <a:latin typeface="Lucida Sans Unicode"/>
                <a:ea typeface="Lucida Sans Unicode"/>
              </a:rPr>
              <a:t>счетная единица, средство обмена, средство сохранения ценности и средство платежа.</a:t>
            </a:r>
            <a:r>
              <a:rPr b="1"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Рассмотрим эти функции подробне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142920" y="2214720"/>
            <a:ext cx="9144000" cy="46432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Расположив компоненты денежной массы по степени убывания ликвидности, можно выделить несколько денежных агрегатов - показателей денежной массы. Наиболее ликвидным денежным агрегатом является агрегат </a:t>
            </a:r>
            <a:r>
              <a:rPr b="1" i="1" lang="ru-RU" sz="1600" spc="-1" strike="noStrike" u="sng">
                <a:solidFill>
                  <a:srgbClr val="4d4d4d"/>
                </a:solidFill>
                <a:uFillTx/>
                <a:latin typeface="Lucida Sans Unicode"/>
                <a:ea typeface="Lucida Sans Unicode"/>
              </a:rPr>
              <a:t>МО</a:t>
            </a:r>
            <a:r>
              <a:rPr b="0" lang="ru-RU" sz="1400" spc="-1" strike="noStrike">
                <a:solidFill>
                  <a:srgbClr val="000000"/>
                </a:solidFill>
                <a:latin typeface="Lucida Sans Unicode"/>
                <a:ea typeface="Lucida Sans Unicode"/>
              </a:rPr>
              <a:t>, который включает наличные деньги в обращении. Аналогичным по ликвидности денежным агрегатом является агрегат </a:t>
            </a:r>
            <a:r>
              <a:rPr b="1" i="1" lang="ru-RU" sz="1600" spc="-1" strike="noStrike" u="sng">
                <a:solidFill>
                  <a:srgbClr val="4d4d4d"/>
                </a:solidFill>
                <a:uFillTx/>
                <a:latin typeface="Lucida Sans Unicode"/>
                <a:ea typeface="Lucida Sans Unicode"/>
              </a:rPr>
              <a:t>М1</a:t>
            </a:r>
            <a:r>
              <a:rPr b="0" lang="ru-RU" sz="1400" spc="-1" strike="noStrike">
                <a:solidFill>
                  <a:srgbClr val="000000"/>
                </a:solidFill>
                <a:latin typeface="Lucida Sans Unicode"/>
                <a:ea typeface="Lucida Sans Unicode"/>
              </a:rPr>
              <a:t>, который объединяет наличные деньги и деньги на текущих счетах (счетах «до востребования»), которые могут обслуживаться с помощью чеков. </a:t>
            </a:r>
            <a:r>
              <a:rPr b="1" i="1" lang="ru-RU" sz="1600" spc="-1" strike="noStrike" u="sng">
                <a:solidFill>
                  <a:srgbClr val="4d4d4d"/>
                </a:solidFill>
                <a:uFillTx/>
                <a:latin typeface="Lucida Sans Unicode"/>
                <a:ea typeface="Lucida Sans Unicode"/>
              </a:rPr>
              <a:t>Чек</a:t>
            </a:r>
            <a:r>
              <a:rPr b="0" lang="ru-RU" sz="1600" spc="-1" strike="noStrike" u="sng">
                <a:solidFill>
                  <a:srgbClr val="4d4d4d"/>
                </a:solidFill>
                <a:uFillTx/>
                <a:latin typeface="Lucida Sans Unicode"/>
                <a:ea typeface="Lucida Sans Unicode"/>
              </a:rPr>
              <a:t> </a:t>
            </a:r>
            <a:r>
              <a:rPr b="0" lang="ru-RU" sz="1400" spc="-1" strike="noStrike">
                <a:solidFill>
                  <a:srgbClr val="000000"/>
                </a:solidFill>
                <a:latin typeface="Lucida Sans Unicode"/>
                <a:ea typeface="Lucida Sans Unicode"/>
              </a:rPr>
              <a:t>представляет собой ценную бумагу, содержащую приказ владельца счета в кредитном учреждении о выплате держателю чека по его предъявлении указанной в нем суммы. Агрегат М1 называют «деньгами в узком смысле слова» или «деньгами для сделок». Депозиты на текущих счетах выполняют все функции денег и могут быть легко превращены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Менее ликвидным денежным агрегатом является агрегат </a:t>
            </a:r>
            <a:r>
              <a:rPr b="1" i="1" lang="ru-RU" sz="1600" spc="-1" strike="noStrike" u="sng">
                <a:solidFill>
                  <a:srgbClr val="4d4d4d"/>
                </a:solidFill>
                <a:uFillTx/>
                <a:latin typeface="Lucida Sans Unicode"/>
                <a:ea typeface="Lucida Sans Unicode"/>
              </a:rPr>
              <a:t>М2</a:t>
            </a:r>
            <a:r>
              <a:rPr b="0" lang="ru-RU" sz="1400" spc="-1" strike="noStrike">
                <a:solidFill>
                  <a:srgbClr val="000000"/>
                </a:solidFill>
                <a:latin typeface="Lucida Sans Unicode"/>
                <a:ea typeface="Lucida Sans Unicode"/>
              </a:rPr>
              <a:t>. Это «деньги в широком смысле слова», которые включают в себя все компоненты агрегата М1 плюс деньги на срочных и сберегательных счетах коммерческих банков, депозиты в специализированных финансовых институтах. Владельцы срочных счетов получают более высокий процент, по сравнению с владельцами текущих вкладов, но они не могут изъять эти вклады ранее определенного условием вклада срока. Поэтому денежные средства на срочных и сберегательных счетах нельзя непосредственно использовать как покупательное и платежное средство, хотя потенциально они могут быть использованы для расчетов. Существует также понятие расширенного денежного агрегата М2Х, включающего дополнительно депозиты в иностранной валю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14200" y="2928600"/>
            <a:ext cx="87156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Еще менее ликвидным денежным агрегатом является агрегат </a:t>
            </a:r>
            <a:r>
              <a:rPr b="1" i="1" lang="ru-RU" sz="1400" spc="-1" strike="noStrike">
                <a:solidFill>
                  <a:srgbClr val="000000"/>
                </a:solidFill>
                <a:latin typeface="Lucida Sans Unicode"/>
                <a:ea typeface="Lucida Sans Unicode"/>
              </a:rPr>
              <a:t>М3</a:t>
            </a:r>
            <a:r>
              <a:rPr b="0" lang="ru-RU" sz="1400" spc="-1" strike="noStrike">
                <a:solidFill>
                  <a:srgbClr val="000000"/>
                </a:solidFill>
                <a:latin typeface="Lucida Sans Unicode"/>
                <a:ea typeface="Lucida Sans Unicode"/>
              </a:rPr>
              <a:t>, который образуется путем добавления к агрегату М2 депозитных сертификатов банков, облигаций государственного займа, других ценных бумаг государства и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зличие между агрегатом М1 и остальными денежными агрегатами заключается, прежде всего, в том, что в агрегаты М2 и М3 включены «квази-деньги», которые затруднительно использовать для сделок, нелегко перевести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отметить, что в нашей стране вплоть до начала 1990-х гг. денежные агрегаты не рассчитывались и не использовались. Но с переходом к рыночной экономике Центральный банк России, Министерство финансов и другие государственные учреждения кредитно-денежной сферы стали активно использовать рассмотренные выше денежные агрегаты при осуществлении макроэкономическ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8440" y="2214360"/>
            <a:ext cx="755316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Спрос на деньги. Равновесии на денежном рынке</a:t>
            </a:r>
            <a:endParaRPr b="0" lang="en-US" sz="2400" spc="-1" strike="noStrike">
              <a:solidFill>
                <a:srgbClr val="990033"/>
              </a:solidFill>
              <a:latin typeface="Arial"/>
            </a:endParaRPr>
          </a:p>
        </p:txBody>
      </p:sp>
      <p:sp>
        <p:nvSpPr>
          <p:cNvPr id="120" name=""/>
          <p:cNvSpPr txBox="1"/>
          <p:nvPr/>
        </p:nvSpPr>
        <p:spPr>
          <a:xfrm>
            <a:off x="0" y="2928600"/>
            <a:ext cx="9144000" cy="1500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денежном рынке предметом сделок является валюта разных стран. Можно выделить три подхода к формированию спроса на деньги: классический, монетаристский  и  кейнсианский.  Что  касается   предложения денег, то оно задается государством, то есть центральным банком страны или уполномоченными на то структурами. Так как деньги находятся на руках у населения или в банковской системе, то совокупное предложение денег можно описать с помощью следующей формулы:</a:t>
            </a:r>
            <a:endParaRPr b="0" lang="en-US" sz="1400" spc="-1" strike="noStrike">
              <a:solidFill>
                <a:srgbClr val="4d4d4d"/>
              </a:solidFill>
              <a:latin typeface="Arial"/>
            </a:endParaRPr>
          </a:p>
        </p:txBody>
      </p:sp>
      <p:sp>
        <p:nvSpPr>
          <p:cNvPr id="121" name="Содержимое 2"/>
          <p:cNvSpPr/>
          <p:nvPr/>
        </p:nvSpPr>
        <p:spPr>
          <a:xfrm>
            <a:off x="785880" y="5357880"/>
            <a:ext cx="7143840" cy="102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4d4d4d"/>
                </a:solidFill>
                <a:latin typeface="Lucida Sans Unicode"/>
                <a:ea typeface="Lucida Sans Unicode"/>
              </a:rPr>
              <a:t> (money)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С</a:t>
            </a:r>
            <a:r>
              <a:rPr b="1" lang="ru-RU" sz="1400" spc="-1" strike="noStrike">
                <a:solidFill>
                  <a:srgbClr val="4d4d4d"/>
                </a:solidFill>
                <a:latin typeface="Lucida Sans Unicode"/>
                <a:ea typeface="Lucida Sans Unicode"/>
              </a:rPr>
              <a:t> </a:t>
            </a:r>
            <a:r>
              <a:rPr b="0" lang="ru-RU" sz="1400" spc="-1" strike="noStrike">
                <a:solidFill>
                  <a:srgbClr val="4d4d4d"/>
                </a:solidFill>
                <a:latin typeface="Lucida Sans Unicode"/>
                <a:ea typeface="Lucida Sans Unicode"/>
              </a:rPr>
              <a:t>(cash)- величина наличных денег у населения;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D </a:t>
            </a:r>
            <a:r>
              <a:rPr b="0" lang="ru-RU" sz="1400" spc="-1" strike="noStrike">
                <a:solidFill>
                  <a:srgbClr val="4d4d4d"/>
                </a:solidFill>
                <a:latin typeface="Lucida Sans Unicode"/>
                <a:ea typeface="Lucida Sans Unicode"/>
              </a:rPr>
              <a:t>(deposits)   деньги на счетах в банках.</a:t>
            </a:r>
            <a:endParaRPr b="0" lang="en-US" sz="1400" spc="-1" strike="noStrike">
              <a:solidFill>
                <a:srgbClr val="4d4d4d"/>
              </a:solidFill>
              <a:latin typeface="Arial"/>
            </a:endParaRPr>
          </a:p>
        </p:txBody>
      </p:sp>
      <p:sp>
        <p:nvSpPr>
          <p:cNvPr id="122" name="Содержимое 2"/>
          <p:cNvSpPr/>
          <p:nvPr/>
        </p:nvSpPr>
        <p:spPr>
          <a:xfrm>
            <a:off x="3143160" y="4429080"/>
            <a:ext cx="2071800" cy="7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1" i="1" lang="en-US" sz="2000" spc="-1" strike="noStrike">
                <a:solidFill>
                  <a:srgbClr val="4d4d4d"/>
                </a:solidFill>
                <a:latin typeface="Arial"/>
              </a:rPr>
              <a:t>M = C + D,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14272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Классическая теория денег</a:t>
            </a:r>
            <a:endParaRPr b="0" lang="en-US" sz="2000" spc="-1" strike="noStrike">
              <a:solidFill>
                <a:srgbClr val="990033"/>
              </a:solidFill>
              <a:latin typeface="Arial"/>
            </a:endParaRPr>
          </a:p>
        </p:txBody>
      </p:sp>
      <p:sp>
        <p:nvSpPr>
          <p:cNvPr id="124" name=""/>
          <p:cNvSpPr txBox="1"/>
          <p:nvPr/>
        </p:nvSpPr>
        <p:spPr>
          <a:xfrm>
            <a:off x="3786120" y="4000320"/>
            <a:ext cx="2571840" cy="500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d4d4d"/>
                </a:solidFill>
                <a:latin typeface="Arial"/>
              </a:rPr>
              <a:t>(М =</a:t>
            </a:r>
            <a:r>
              <a:rPr b="1" i="1" lang="en-US" sz="2000" spc="-1" strike="noStrike">
                <a:solidFill>
                  <a:srgbClr val="4d4d4d"/>
                </a:solidFill>
                <a:latin typeface="Arial"/>
              </a:rPr>
              <a:t>k*P*Q),</a:t>
            </a:r>
            <a:endParaRPr b="0" lang="en-US" sz="2000" spc="-1" strike="noStrike">
              <a:solidFill>
                <a:srgbClr val="4d4d4d"/>
              </a:solidFill>
              <a:latin typeface="Arial"/>
            </a:endParaRPr>
          </a:p>
        </p:txBody>
      </p:sp>
      <p:sp>
        <p:nvSpPr>
          <p:cNvPr id="125" name="Содержимое 2"/>
          <p:cNvSpPr/>
          <p:nvPr/>
        </p:nvSpPr>
        <p:spPr>
          <a:xfrm>
            <a:off x="-142920" y="2643120"/>
            <a:ext cx="928692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В классической теории спрос на деньги рассматривается с точки зрения количественной теории денег. Как мы выяснили на предыдущем занятии, спрос на деньги, или необходимый объем денежной массы, прямо зависит от уровня товарных цен и обратно - от скорости денежного обращения. Спрос на деньги рассчитывается с помощью уравнения Фишера или его вариации, названной «кембриджским уравнением».</a:t>
            </a:r>
            <a:endParaRPr b="0" lang="en-US" sz="1400" spc="-1" strike="noStrike">
              <a:solidFill>
                <a:srgbClr val="4d4d4d"/>
              </a:solidFill>
              <a:latin typeface="Arial"/>
            </a:endParaRPr>
          </a:p>
        </p:txBody>
      </p:sp>
      <p:sp>
        <p:nvSpPr>
          <p:cNvPr id="126" name="Содержимое 2"/>
          <p:cNvSpPr/>
          <p:nvPr/>
        </p:nvSpPr>
        <p:spPr>
          <a:xfrm>
            <a:off x="-142920" y="4572000"/>
            <a:ext cx="92869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000000"/>
                </a:solidFill>
                <a:latin typeface="Lucida Sans Unicode"/>
                <a:ea typeface="Lucida Sans Unicode"/>
              </a:rPr>
              <a:t>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к</a:t>
            </a:r>
            <a:r>
              <a:rPr b="0" lang="ru-RU" sz="1400" spc="-1" strike="noStrike">
                <a:solidFill>
                  <a:srgbClr val="000000"/>
                </a:solidFill>
                <a:latin typeface="Lucida Sans Unicode"/>
                <a:ea typeface="Lucida Sans Unicode"/>
              </a:rPr>
              <a:t> = 1/ V, то есть обратная величина к скорости обращения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суммарная величина товарных цен;</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Q</a:t>
            </a:r>
            <a:r>
              <a:rPr b="0" lang="ru-RU" sz="1400" spc="-1" strike="noStrike">
                <a:solidFill>
                  <a:srgbClr val="000000"/>
                </a:solidFill>
                <a:latin typeface="Lucida Sans Unicode"/>
                <a:ea typeface="Lucida Sans Unicode"/>
              </a:rPr>
              <a:t> - количество продаваемых товар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эффициент (</a:t>
            </a:r>
            <a:r>
              <a:rPr b="1" i="1" lang="ru-RU" sz="1400" spc="-1" strike="noStrike">
                <a:solidFill>
                  <a:srgbClr val="4d4d4d"/>
                </a:solidFill>
                <a:latin typeface="Lucida Sans Unicode"/>
                <a:ea typeface="Lucida Sans Unicode"/>
              </a:rPr>
              <a:t>к</a:t>
            </a:r>
            <a:r>
              <a:rPr b="1" lang="ru-RU" sz="1400" spc="-1" strike="noStrike">
                <a:solidFill>
                  <a:srgbClr val="4d4d4d"/>
                </a:solidFill>
                <a:latin typeface="Lucida Sans Unicode"/>
                <a:ea typeface="Lucida Sans Unicode"/>
              </a:rPr>
              <a:t>)</a:t>
            </a:r>
            <a:r>
              <a:rPr b="0" lang="ru-RU" sz="1400" spc="-1" strike="noStrike">
                <a:solidFill>
                  <a:srgbClr val="000000"/>
                </a:solidFill>
                <a:latin typeface="Lucida Sans Unicode"/>
                <a:ea typeface="Lucida Sans Unicode"/>
              </a:rPr>
              <a:t> показывает долю номинальных денежных, или кассовых, остатков в доходе. В данном случае величина </a:t>
            </a:r>
            <a:r>
              <a:rPr b="1" lang="ru-RU" sz="1400" spc="-1" strike="noStrike">
                <a:solidFill>
                  <a:srgbClr val="4d4d4d"/>
                </a:solidFill>
                <a:latin typeface="Lucida Sans Unicode"/>
                <a:ea typeface="Lucida Sans Unicode"/>
              </a:rPr>
              <a:t>(</a:t>
            </a:r>
            <a:r>
              <a:rPr b="1" i="1" lang="ru-RU" sz="1400" spc="-1" strike="noStrike">
                <a:solidFill>
                  <a:srgbClr val="4d4d4d"/>
                </a:solidFill>
                <a:latin typeface="Lucida Sans Unicode"/>
                <a:ea typeface="Lucida Sans Unicode"/>
              </a:rPr>
              <a:t>P*Q</a:t>
            </a:r>
            <a:r>
              <a:rPr b="1" lang="ru-RU" sz="1400" spc="-1" strike="noStrike">
                <a:solidFill>
                  <a:srgbClr val="4d4d4d"/>
                </a:solidFill>
                <a:latin typeface="Lucida Sans Unicode"/>
                <a:ea typeface="Lucida Sans Unicode"/>
              </a:rPr>
              <a:t>),</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выражая цены на реализуемую продукцию, представляет собой как доходы, так и расходы общества. Потраченные на покупку данной продукции деньги выступают доходом для одних  хозяйствующих   субъектов   и   расходом   для   других.</a:t>
            </a:r>
            <a:endParaRPr b="0" lang="en-US" sz="1400" spc="-1" strike="noStrike">
              <a:solidFill>
                <a:srgbClr val="4d4d4d"/>
              </a:solidFill>
              <a:latin typeface="Arial"/>
            </a:endParaRPr>
          </a:p>
        </p:txBody>
      </p:sp>
      <p:pic>
        <p:nvPicPr>
          <p:cNvPr id="127" name="Picture 2" descr=""/>
          <p:cNvPicPr/>
          <p:nvPr/>
        </p:nvPicPr>
        <p:blipFill>
          <a:blip r:embed="rId2"/>
          <a:stretch/>
        </p:blipFill>
        <p:spPr>
          <a:xfrm>
            <a:off x="1714680" y="3857760"/>
            <a:ext cx="1428480" cy="80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60" y="2356920"/>
            <a:ext cx="9001080" cy="1071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цены, в свою очередь, большое влияние оказывает номинальная величина дохода. Чем выше доходы хозяйствующих субъектов, тем выше их расходы. А увеличение расходов (увеличение спроса) ведет к росту цен. Значит, изменение количества денег в обращении страны ведет к изменению цен в стране.</a:t>
            </a:r>
            <a:endParaRPr b="0" lang="en-US" sz="1400" spc="-1" strike="noStrike">
              <a:solidFill>
                <a:srgbClr val="4d4d4d"/>
              </a:solidFill>
              <a:latin typeface="Arial"/>
            </a:endParaRPr>
          </a:p>
        </p:txBody>
      </p:sp>
      <p:sp>
        <p:nvSpPr>
          <p:cNvPr id="129" name="Содержимое 2"/>
          <p:cNvSpPr/>
          <p:nvPr/>
        </p:nvSpPr>
        <p:spPr>
          <a:xfrm>
            <a:off x="0" y="3571920"/>
            <a:ext cx="6143760" cy="3071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По вертикальной оси отложим уровень цен (Р). а по горизонтальной - объем денежной массы (М). Предложение денег представляет величину,  определяемую правительством, поэтому она имеет форму вертикальной линии (MS). Биссектриса (МD) показывает тенденцию изменения спроса на деньги, который вызывается изменением уровня товарных цен. То есть чем выше цены, тем больше требуется денег. Это объясняет ее положительный наклон.</a:t>
            </a:r>
            <a:endParaRPr b="0" lang="en-US" sz="1400" spc="-1" strike="noStrike">
              <a:solidFill>
                <a:srgbClr val="4d4d4d"/>
              </a:solidFill>
              <a:latin typeface="Arial"/>
            </a:endParaRPr>
          </a:p>
        </p:txBody>
      </p:sp>
      <p:pic>
        <p:nvPicPr>
          <p:cNvPr id="130" name="Picture 2" descr="C:\Users\Rock'n'Rolla\Pictures\image002.jpg"/>
          <p:cNvPicPr/>
          <p:nvPr/>
        </p:nvPicPr>
        <p:blipFill>
          <a:blip r:embed="rId1"/>
          <a:stretch/>
        </p:blipFill>
        <p:spPr>
          <a:xfrm>
            <a:off x="6286680" y="3429000"/>
            <a:ext cx="2143080" cy="1852560"/>
          </a:xfrm>
          <a:prstGeom prst="rect">
            <a:avLst/>
          </a:prstGeom>
          <a:ln w="0">
            <a:noFill/>
          </a:ln>
        </p:spPr>
      </p:pic>
      <p:sp>
        <p:nvSpPr>
          <p:cNvPr id="131" name="Содержимое 2"/>
          <p:cNvSpPr/>
          <p:nvPr/>
        </p:nvSpPr>
        <p:spPr>
          <a:xfrm>
            <a:off x="0" y="5572080"/>
            <a:ext cx="9144000" cy="142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анная модель находится в равновесии, когда линии спроса и предложения денег имеют общую точку пересечения Е (величина спроса на деньги равна отрезку ОЕ0 или превышает его). При понижении уровня цен, например до уровня Р1 величина спроса будет равна отрезку ОЕ1. Тогда количество денег в обращении превышает необходимое количество, что ведет к появлению инфляции. Стоимость денег снижается, а цены возрастают, пока не достигнут уровня Р0.</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4200" y="207144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Монетаристская теория денег</a:t>
            </a:r>
            <a:endParaRPr b="0" lang="en-US" sz="2000" spc="-1" strike="noStrike">
              <a:solidFill>
                <a:srgbClr val="990033"/>
              </a:solidFill>
              <a:latin typeface="Arial"/>
            </a:endParaRPr>
          </a:p>
        </p:txBody>
      </p:sp>
      <p:sp>
        <p:nvSpPr>
          <p:cNvPr id="133" name=""/>
          <p:cNvSpPr txBox="1"/>
          <p:nvPr/>
        </p:nvSpPr>
        <p:spPr>
          <a:xfrm>
            <a:off x="-143280" y="2571840"/>
            <a:ext cx="9286920" cy="13572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Монетаристская денежная теория является производной от классической количественной теории денег. Ее представителями являются экономисты Милтон Фридмен и Анна Шварц. Монетаристы связывают спрос на деньги с оптимизацией активов хозяйствующих субъектов. К таким активам относятся наличные деньги, депозиты, ценные бумаги,</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иностранная валюта, то есть финансовые инструменты с разной доходностью и надежностью, а также физический капитал. </a:t>
            </a:r>
            <a:endParaRPr b="0" lang="en-US" sz="1400" spc="-1" strike="noStrike">
              <a:solidFill>
                <a:srgbClr val="4d4d4d"/>
              </a:solidFill>
              <a:latin typeface="Arial"/>
            </a:endParaRPr>
          </a:p>
        </p:txBody>
      </p:sp>
      <p:sp>
        <p:nvSpPr>
          <p:cNvPr id="134" name="Содержимое 2"/>
          <p:cNvSpPr/>
          <p:nvPr/>
        </p:nvSpPr>
        <p:spPr>
          <a:xfrm>
            <a:off x="-142920" y="4429080"/>
            <a:ext cx="9144000" cy="24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f</a:t>
            </a:r>
            <a:r>
              <a:rPr b="1" i="1" lang="en-US" sz="1400" spc="-1" strike="noStrike">
                <a:solidFill>
                  <a:srgbClr val="4d4d4d"/>
                </a:solidFill>
                <a:latin typeface="Lucida Sans Unicode"/>
                <a:ea typeface="Lucida Sans Unicode"/>
              </a:rPr>
              <a:t> </a:t>
            </a:r>
            <a:r>
              <a:rPr b="0" lang="ru-RU" sz="1400" spc="-1" strike="noStrike">
                <a:solidFill>
                  <a:srgbClr val="000000"/>
                </a:solidFill>
                <a:latin typeface="Lucida Sans Unicode"/>
                <a:ea typeface="Lucida Sans Unicode"/>
              </a:rPr>
              <a:t>- функциональная зависимость;</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pl-PL" sz="1400" spc="-1" strike="noStrike">
                <a:solidFill>
                  <a:srgbClr val="4d4d4d"/>
                </a:solidFill>
                <a:latin typeface="Lucida Sans Unicode"/>
                <a:ea typeface="Lucida Sans Unicode"/>
              </a:rPr>
              <a:t>r</a:t>
            </a:r>
            <a:r>
              <a:rPr b="1" i="1" lang="en-US" sz="1000" spc="-1" strike="noStrike">
                <a:solidFill>
                  <a:srgbClr val="4d4d4d"/>
                </a:solidFill>
                <a:latin typeface="Lucida Sans Unicode"/>
                <a:ea typeface="Lucida Sans Unicode"/>
              </a:rPr>
              <a:t>s</a:t>
            </a:r>
            <a:r>
              <a:rPr b="1" i="1" lang="pl-PL" sz="1400" spc="-1" strike="noStrike">
                <a:solidFill>
                  <a:srgbClr val="4d4d4d"/>
                </a:solidFill>
                <a:latin typeface="Lucida Sans Unicode"/>
                <a:ea typeface="Lucida Sans Unicode"/>
              </a:rPr>
              <a:t>, r</a:t>
            </a:r>
            <a:r>
              <a:rPr b="1" i="1" lang="en-US" sz="600" spc="-1" strike="noStrike">
                <a:solidFill>
                  <a:srgbClr val="4d4d4d"/>
                </a:solidFill>
                <a:latin typeface="Lucida Sans Unicode"/>
                <a:ea typeface="Lucida Sans Unicode"/>
              </a:rPr>
              <a:t>B</a:t>
            </a:r>
            <a:r>
              <a:rPr b="0" lang="en-US" sz="6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доход по акциям (s - shares или stocks) и облигациям (b - bonds);</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00"/>
                </a:solidFill>
                <a:latin typeface="Lucida Sans Unicode"/>
                <a:ea typeface="Lucida Sans Unicode"/>
              </a:rPr>
              <a:t> - темп изменения уровня цен в процентах (уровень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W</a:t>
            </a:r>
            <a:r>
              <a:rPr b="0" lang="ru-RU" sz="1400" spc="-1" strike="noStrike">
                <a:solidFill>
                  <a:srgbClr val="000000"/>
                </a:solidFill>
                <a:latin typeface="Lucida Sans Unicode"/>
                <a:ea typeface="Lucida Sans Unicode"/>
              </a:rPr>
              <a:t> - совокупное капитальное богат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едложение денег задается правительством.</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отличие от классической количественной теории монетаристская концепция ставит спрос на деньги в зависимость не только от цен и необходимых кассовых остатков, но и от всех активов хозяйствующего субъекта с учетом инфляции.</a:t>
            </a:r>
            <a:endParaRPr b="0" lang="en-US" sz="1400" spc="-1" strike="noStrike">
              <a:solidFill>
                <a:srgbClr val="4d4d4d"/>
              </a:solidFill>
              <a:latin typeface="Arial"/>
            </a:endParaRPr>
          </a:p>
        </p:txBody>
      </p:sp>
      <p:sp>
        <p:nvSpPr>
          <p:cNvPr id="135" name="Прямоугольник 5"/>
          <p:cNvSpPr/>
          <p:nvPr/>
        </p:nvSpPr>
        <p:spPr>
          <a:xfrm>
            <a:off x="2842560" y="400536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4d4d4d"/>
                </a:solidFill>
                <a:latin typeface="Arial"/>
              </a:rPr>
              <a:t>MD = f (r</a:t>
            </a:r>
            <a:r>
              <a:rPr b="1" i="1" lang="en-US" sz="1100" spc="-1" strike="noStrike">
                <a:solidFill>
                  <a:srgbClr val="4d4d4d"/>
                </a:solidFill>
                <a:latin typeface="Arial"/>
              </a:rPr>
              <a:t>s</a:t>
            </a:r>
            <a:r>
              <a:rPr b="1" i="1" lang="pl-PL" sz="1800" spc="-1" strike="noStrike">
                <a:solidFill>
                  <a:srgbClr val="4d4d4d"/>
                </a:solidFill>
                <a:latin typeface="Arial"/>
              </a:rPr>
              <a:t>, r</a:t>
            </a:r>
            <a:r>
              <a:rPr b="1" i="1" lang="en-US" sz="800" spc="-1" strike="noStrike">
                <a:solidFill>
                  <a:srgbClr val="4d4d4d"/>
                </a:solidFill>
                <a:latin typeface="Arial"/>
              </a:rPr>
              <a:t>B</a:t>
            </a:r>
            <a:r>
              <a:rPr b="1" i="1" lang="pl-PL" sz="1800" spc="-1" strike="noStrike">
                <a:solidFill>
                  <a:srgbClr val="4d4d4d"/>
                </a:solidFill>
                <a:latin typeface="Arial"/>
              </a:rPr>
              <a:t>, P, W),</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4200" y="214272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ейнсианская теория денег</a:t>
            </a:r>
            <a:endParaRPr b="0" lang="en-US" sz="2000" spc="-1" strike="noStrike">
              <a:solidFill>
                <a:srgbClr val="990033"/>
              </a:solidFill>
              <a:latin typeface="Arial"/>
            </a:endParaRPr>
          </a:p>
        </p:txBody>
      </p:sp>
      <p:sp>
        <p:nvSpPr>
          <p:cNvPr id="137" name=""/>
          <p:cNvSpPr txBox="1"/>
          <p:nvPr/>
        </p:nvSpPr>
        <p:spPr>
          <a:xfrm>
            <a:off x="-143280" y="2500200"/>
            <a:ext cx="928692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ru-RU" sz="1400" spc="-1" strike="noStrike">
                <a:solidFill>
                  <a:srgbClr val="000000"/>
                </a:solidFill>
                <a:latin typeface="Lucida Sans Unicode"/>
                <a:ea typeface="Lucida Sans Unicode"/>
              </a:rPr>
              <a:t>Кейнсианская теория оценивает спрос на деньги несколько с иных позиций. С точки зрения Кейнса, спрос на деньги зависит от предпочтения ликвидности. Предпочтение ликвидности, по Кейнсу, означает предпочтение хранить деньги в наличной, то есть наиболее ликвидной форме. Кейнс сформулировал три мотива такого хранения денег: транзакционный, спекулятивный и мотив предосторожност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Транзакционный мотив</a:t>
            </a:r>
            <a:r>
              <a:rPr b="1" i="1" lang="ru-RU" sz="1400" spc="-1" strike="noStrike" u="sng">
                <a:solidFill>
                  <a:srgbClr val="33cc33"/>
                </a:solidFill>
                <a:uFillTx/>
                <a:latin typeface="Lucida Sans Unicode"/>
                <a:ea typeface="Lucida Sans Unicode"/>
              </a:rPr>
              <a:t>  </a:t>
            </a:r>
            <a:r>
              <a:rPr b="0" lang="ru-RU" sz="1400" spc="-1" strike="noStrike">
                <a:solidFill>
                  <a:srgbClr val="000000"/>
                </a:solidFill>
                <a:latin typeface="Lucida Sans Unicode"/>
                <a:ea typeface="Lucida Sans Unicode"/>
              </a:rPr>
              <a:t>означает, что хозяйствующий субъект будет хранить определенную часть своих денежных средств в наличной форме для того, чтобы финансировать этими деньгами свои ежедневные расход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Спекулятивный мотив  </a:t>
            </a:r>
            <a:r>
              <a:rPr b="0" lang="ru-RU" sz="1400" spc="-1" strike="noStrike">
                <a:solidFill>
                  <a:srgbClr val="4d4d4d"/>
                </a:solidFill>
                <a:latin typeface="Lucida Sans Unicode"/>
                <a:ea typeface="Lucida Sans Unicode"/>
              </a:rPr>
              <a:t>поощряет хозяйствующего субъекта вкладывать деньги в проекты, обеспечивающие наибольшую доходность. Поэтому когда доходность в реальном секторе экономики будет более высокой, чем в банковском, то деньги из банковского сектора уйдут в реальный. В противном случае из реального сектора экономики деньги вернутся в банковский сектор.</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u="sng">
                <a:solidFill>
                  <a:srgbClr val="4d4d4d"/>
                </a:solidFill>
                <a:uFillTx/>
                <a:latin typeface="Lucida Sans Unicode"/>
                <a:ea typeface="Lucida Sans Unicode"/>
              </a:rPr>
              <a:t>Мотив предосторожности  </a:t>
            </a:r>
            <a:r>
              <a:rPr b="0" lang="ru-RU" sz="1400" spc="-1" strike="noStrike">
                <a:solidFill>
                  <a:srgbClr val="4d4d4d"/>
                </a:solidFill>
                <a:latin typeface="Lucida Sans Unicode"/>
                <a:ea typeface="Lucida Sans Unicode"/>
              </a:rPr>
              <a:t>по своей сути близок к транзакционному мотиву. Хозяйствующий субъект, не уверенный в прибыльности инвестиционных проектов, будет хранить деньги в наличной форме. Несмотря на отсутствие доходной 1 и в данном случае, он будет уверен, что при неблагоприятном развитии событий</a:t>
            </a:r>
            <a:r>
              <a:rPr b="0" lang="ru-RU" sz="1400" spc="-1" strike="noStrike">
                <a:solidFill>
                  <a:srgbClr val="000000"/>
                </a:solidFill>
                <a:latin typeface="Lucida Sans Unicode"/>
                <a:ea typeface="Lucida Sans Unicode"/>
              </a:rPr>
              <a:t> в экономике страны он не понесет крупных потерь. Хотя в данном случае он не застрахован от инфляции, в какой бы валюте он ни хранил свои сбереж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Содержимое 2"/>
          <p:cNvSpPr/>
          <p:nvPr/>
        </p:nvSpPr>
        <p:spPr>
          <a:xfrm>
            <a:off x="0" y="2500200"/>
            <a:ext cx="900108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ый подход к сути спроса на деньги объясняется на основе теории предпочтения ликвидности, в рамках которой соединяются вес три мотива . Таким образом, в кейнсианской теории спрос на деньги зависит от уровня дохода и величины ставки процента.</a:t>
            </a:r>
            <a:endParaRPr b="0" lang="en-US" sz="1400" spc="-1" strike="noStrike">
              <a:solidFill>
                <a:srgbClr val="4d4d4d"/>
              </a:solidFill>
              <a:latin typeface="Arial"/>
            </a:endParaRPr>
          </a:p>
        </p:txBody>
      </p:sp>
      <p:pic>
        <p:nvPicPr>
          <p:cNvPr id="139" name="Picture 2" descr=""/>
          <p:cNvPicPr/>
          <p:nvPr/>
        </p:nvPicPr>
        <p:blipFill>
          <a:blip r:embed="rId1"/>
          <a:stretch/>
        </p:blipFill>
        <p:spPr>
          <a:xfrm>
            <a:off x="2428920" y="3429000"/>
            <a:ext cx="3790800" cy="495360"/>
          </a:xfrm>
          <a:prstGeom prst="rect">
            <a:avLst/>
          </a:prstGeom>
          <a:ln w="0">
            <a:noFill/>
          </a:ln>
        </p:spPr>
      </p:pic>
      <p:pic>
        <p:nvPicPr>
          <p:cNvPr id="140" name="Picture 4" descr=""/>
          <p:cNvPicPr/>
          <p:nvPr/>
        </p:nvPicPr>
        <p:blipFill>
          <a:blip r:embed="rId2"/>
          <a:stretch/>
        </p:blipFill>
        <p:spPr>
          <a:xfrm>
            <a:off x="428760" y="4143240"/>
            <a:ext cx="8318520" cy="171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85560" y="24285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Основные направления кредитно-денежной политики Центрального банка</a:t>
            </a:r>
            <a:br>
              <a:rPr sz="2400"/>
            </a:br>
            <a:endParaRPr b="0" lang="en-US" sz="2400" spc="-1" strike="noStrike">
              <a:solidFill>
                <a:srgbClr val="990033"/>
              </a:solidFill>
              <a:latin typeface="Arial"/>
            </a:endParaRPr>
          </a:p>
        </p:txBody>
      </p:sp>
      <p:sp>
        <p:nvSpPr>
          <p:cNvPr id="142" name=""/>
          <p:cNvSpPr txBox="1"/>
          <p:nvPr/>
        </p:nvSpPr>
        <p:spPr>
          <a:xfrm>
            <a:off x="0" y="3142800"/>
            <a:ext cx="91440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Кредитно-денежная (монетарная) политик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комплекс взаимосвязанных мероприятий, предпринимаемых центральным банком</a:t>
            </a:r>
            <a:r>
              <a:rPr b="0" lang="en-US" sz="1400" spc="-1" strike="noStrike">
                <a:solidFill>
                  <a:srgbClr val="000000"/>
                </a:solidFill>
                <a:latin typeface="Lucida Sans Unicode"/>
                <a:ea typeface="Lucida Sans Unicode"/>
              </a:rPr>
              <a:t> в целях регулирования деловой активности путем планируемого воздействия на состояние кредита и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Центральный банк играет ключевую роль в проведении кредитно-денежной политики. Тем самым, он стремится обеспечить благоприятные условия для экономического роста и преследует конкретные цели: регулирование темпов экономического роста, смягчение циклических колебаний, сдерживание инфляции, достижение сбалансированности внешнеэкономических связе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ажнейшими инструментами кредитно-денежной политики Центрального банка являются:</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операции на открытом рынке;</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учетно-процентная (дисконтная) политик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регулирование обязательной нормы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57120" y="24285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Операции на открытом рынке</a:t>
            </a:r>
            <a:br>
              <a:rPr sz="3200"/>
            </a:br>
            <a:endParaRPr b="0" lang="en-US" sz="2000" spc="-1" strike="noStrike">
              <a:solidFill>
                <a:srgbClr val="990033"/>
              </a:solidFill>
              <a:latin typeface="Arial"/>
            </a:endParaRPr>
          </a:p>
        </p:txBody>
      </p:sp>
      <p:sp>
        <p:nvSpPr>
          <p:cNvPr id="144" name=""/>
          <p:cNvSpPr txBox="1"/>
          <p:nvPr/>
        </p:nvSpPr>
        <p:spPr>
          <a:xfrm>
            <a:off x="-360" y="2857320"/>
            <a:ext cx="9001080" cy="3571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перации на открытом рынке являются важнейшим направлением кредитно-денежной политики Центрального банка во многих странах с рыночной экономикой. Суть этих операций, воздействующих на предложение денег, - покупка или продажа государственных долговых ценных бумаг. В США на открытом рынке обращаются казначейские векселя (краткосрочные обязательства), казначейские ноты (среднесрочные обязательства) и государственные облигации (долгосрочные — до 30 лет— ценные бумаги). В России до финансового кризиса 1998 г. существовал достаточно масштабный рынок государственных краткосрочных обязательств (ГКО). Центральные банки могут с наибольшей эффективностью проводить операции на открытом рынке в тех странах, где существует емкий рынок государственных ценных бумаг (США, Великобритания, Канад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четная единица</a:t>
            </a:r>
            <a:br>
              <a:rPr sz="2000"/>
            </a:br>
            <a:endParaRPr b="0" lang="en-US" sz="2000" spc="-1" strike="noStrike">
              <a:solidFill>
                <a:srgbClr val="990033"/>
              </a:solidFill>
              <a:latin typeface="Arial"/>
            </a:endParaRPr>
          </a:p>
        </p:txBody>
      </p:sp>
      <p:sp>
        <p:nvSpPr>
          <p:cNvPr id="89" name=""/>
          <p:cNvSpPr txBox="1"/>
          <p:nvPr/>
        </p:nvSpPr>
        <p:spPr>
          <a:xfrm>
            <a:off x="0" y="2857680"/>
            <a:ext cx="91440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Lucida Sans Unicode"/>
                <a:ea typeface="Lucida Sans Unicode"/>
              </a:rPr>
              <a:t>В бартерной экономике, где нет места деньгам, торговля ведется по относительным ценам товаров (ценность овцы выражается через топоры, ценность которых, в свою очередь, выражается через пшеницу, ценность которой можно выразить через овец и т. д.). Чем больше товаров вовлекается в обмен, тем больше количество относительных цен. Поэтому объективно требуется своеобразная «мерная линейка», единая мера ценности всех других товаров, роль которой выполняют деньги. С появлением денег цены всех товаров получают денежное выражение. Цена - это пропорция обмена товаров на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4200" y="24998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Учетно-процентная (дисконтная) политика</a:t>
            </a:r>
            <a:br>
              <a:rPr sz="3200"/>
            </a:br>
            <a:endParaRPr b="0" lang="en-US" sz="2000" spc="-1" strike="noStrike">
              <a:solidFill>
                <a:srgbClr val="990033"/>
              </a:solidFill>
              <a:latin typeface="Arial"/>
            </a:endParaRPr>
          </a:p>
        </p:txBody>
      </p:sp>
      <p:sp>
        <p:nvSpPr>
          <p:cNvPr id="146" name=""/>
          <p:cNvSpPr txBox="1"/>
          <p:nvPr/>
        </p:nvSpPr>
        <p:spPr>
          <a:xfrm>
            <a:off x="-142920" y="278604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на заключается в регулировании величины учетной процентной ставки (дисконта), по которой коммерческие банки могут заимствовать денежные средства у Центрального банка. В России эта процентная ставка называется ставкой рефинансирования коммерческих банков. Кроме того, используется ломбардная ставка, представляющая собой процентную ставку, по которой Центральный банк кредитует коммерческие банки под залог их собственных долговых обязательств. Механизм регулирования учетных ставок достаточно надежно функционировал еще в начале века, но затем его применение стало наталкиваться на противодействие сформировавшихся банков-гигантов, которые устанавливали процентные ставки по сговору, а не в условиях жесткой конкуренции. Интернационализация хозяйственной жизни также отрицательно повлияла на эффективность учетно-процентной политики. Если снижать учетную ставку в современных условиях, то это ведет к отливу капиталов из страны, что серьезно ослабляет влияние монетарной политики на экономическую конъюнктуру. В то же время повышение учетных ставок в современных условиях часто вызывается не внутриэкономической, а международной ситуацией (например, Россия, Бразилия и другие страны резко повысили свою учетную ставку из-за финансового кризиса в Юго-Восточной Аз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57120" y="26427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Регулирование обязательной нормы банковского резервирования</a:t>
            </a:r>
            <a:br>
              <a:rPr sz="3200"/>
            </a:br>
            <a:endParaRPr b="0" lang="en-US" sz="2000" spc="-1" strike="noStrike">
              <a:solidFill>
                <a:srgbClr val="990033"/>
              </a:solidFill>
              <a:latin typeface="Arial"/>
            </a:endParaRPr>
          </a:p>
        </p:txBody>
      </p:sp>
      <p:sp>
        <p:nvSpPr>
          <p:cNvPr id="148" name=""/>
          <p:cNvSpPr txBox="1"/>
          <p:nvPr/>
        </p:nvSpPr>
        <p:spPr>
          <a:xfrm>
            <a:off x="0" y="2999880"/>
            <a:ext cx="9144000" cy="40006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Центральный банк также имеет возможность непосредственно воздействовать на величину банковских резервов путем регулирования обязательной нормы банковского резервирования. Этот инструмент позволяет гибко и оперативно влиять на финансовую ситуацию и проводить необходимую кредитно-денежную политику. Норма банковского резервирования устанавливается Центральным банком и может колебаться от 3% до 20% в зависимости от экономической конъюнктуры. В США это регулирование начало осуществляться с 1933 г., а в 1980 г. был принят Закон о дерегулировании депозитных институтов и монетарном контроле, в соответствии с которым резервные требования ФРС были распространены на все депозитные институты страны (ранее - только на коммерческие банки - члены ФРС). Это существенно усилило позиции и роль ФРС в кредитной системе США. В России Закон о Центральном банке также предоставляет Центральному банку возможность гибко изменять обязательную норму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49984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Виды кредитно денежной политики</a:t>
            </a:r>
            <a:br>
              <a:rPr sz="3200"/>
            </a:br>
            <a:endParaRPr b="0" lang="en-US" sz="2000" spc="-1" strike="noStrike">
              <a:solidFill>
                <a:srgbClr val="990033"/>
              </a:solidFill>
              <a:latin typeface="Arial"/>
            </a:endParaRPr>
          </a:p>
        </p:txBody>
      </p:sp>
      <p:sp>
        <p:nvSpPr>
          <p:cNvPr id="150" name=""/>
          <p:cNvSpPr txBox="1"/>
          <p:nvPr/>
        </p:nvSpPr>
        <p:spPr>
          <a:xfrm>
            <a:off x="0" y="271440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Следует выделить две разновидности кредитно-денежной политики. Во-первых, </a:t>
            </a:r>
            <a:r>
              <a:rPr b="1" i="1" lang="en-US" sz="1400" spc="-1" strike="noStrike" u="sng">
                <a:solidFill>
                  <a:srgbClr val="4d4d4d"/>
                </a:solidFill>
                <a:uFillTx/>
                <a:latin typeface="Lucida Sans Unicode"/>
                <a:ea typeface="Lucida Sans Unicode"/>
              </a:rPr>
              <a:t>мягкую кредитно-денежную политику</a:t>
            </a:r>
            <a:r>
              <a:rPr b="0" lang="en-US" sz="1400" spc="-1" strike="noStrike">
                <a:solidFill>
                  <a:srgbClr val="33cc33"/>
                </a:solidFill>
                <a:latin typeface="Lucida Sans Unicode"/>
                <a:ea typeface="Lucida Sans Unicode"/>
              </a:rPr>
              <a:t>  </a:t>
            </a:r>
            <a:r>
              <a:rPr b="0" lang="en-US" sz="1400" spc="-1" strike="noStrike">
                <a:solidFill>
                  <a:srgbClr val="000000"/>
                </a:solidFill>
                <a:latin typeface="Lucida Sans Unicode"/>
                <a:ea typeface="Lucida Sans Unicode"/>
              </a:rPr>
              <a:t>(ее называют политикой «дешевы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а) покупает государственные ценные бумаги на открытом рынке, переводя деньги в оплату за них на счета населения и в резервы банков. Это обеспечивает расширение возможностей кредитования коммерческими банками и увеличив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б) снижает учетную ставку процента, что позволяет коммерческим банкам увеличить объем заимствований и расширить объем кредитования своих клиентов по пониженным процентным ставкам. Это увеличивает денежную массу. Так, в течение 2001 г. ФРС 11 раз снижала учетную ставку для борьбы с начавшейся рецессией американской экономики, в результате чего ее уровень в конце 2001 - начале 2002 гг. (1,75%) достиг самого низкого значения за последние 40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 снижает обязательную норму банковского резервирования, что ведет к росту денежного мультипликатора и расширению возможностей кредит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ледовательно, мягкая кредитно-денежная политика направлена на стимулирование экономики через рост денежной массы и снижение процентных ставо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0" y="2428920"/>
            <a:ext cx="885816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о-вторых, </a:t>
            </a:r>
            <a:r>
              <a:rPr b="1" i="1" lang="ru-RU" sz="1400" spc="-1" strike="noStrike" u="sng">
                <a:solidFill>
                  <a:srgbClr val="4d4d4d"/>
                </a:solidFill>
                <a:uFillTx/>
                <a:latin typeface="Lucida Sans Unicode"/>
                <a:ea typeface="Lucida Sans Unicode"/>
              </a:rPr>
              <a:t>жесткую кредитно-денежную политику</a:t>
            </a:r>
            <a:r>
              <a:rPr b="0"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ее называют политикой «дороги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а) продает государственные ценные бумаги на открытом рынке, что вызывает сокращение резервов коммерческих банков и текущих счетов населения, уплачивающих за эти ценные бумаги. Это ведет к сокращению возможностей кредитования коммерческими банками и сокращ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б) повышает учетную ставку процента, что вынуждает коммерческие банки прекратить объем заимствований у Центрального банка и повысить процентные ставки по своим кредитам. Это сдерж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повышает обязательную норму банковского резервирования, что снижает денежный мультипликатор и огранич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жесткая кредитно-денежная политика носит рестриктивный (ограничительный) характер, сдерживает рост денежной массы и может использоваться для противодействия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ссмотренные выше примеры политики «дорогих» и «дешевых» денег характеризуют </a:t>
            </a:r>
            <a:r>
              <a:rPr b="1" i="1" lang="ru-RU" sz="1400" spc="-1" strike="noStrike" u="sng">
                <a:solidFill>
                  <a:srgbClr val="4d4d4d"/>
                </a:solidFill>
                <a:uFillTx/>
                <a:latin typeface="Lucida Sans Unicode"/>
                <a:ea typeface="Lucida Sans Unicode"/>
              </a:rPr>
              <a:t>дискреционную (гибкую) кредитно-денежную политику</a:t>
            </a:r>
            <a:r>
              <a:rPr b="0" lang="ru-RU" sz="1400" spc="-1" strike="noStrike">
                <a:solidFill>
                  <a:srgbClr val="000000"/>
                </a:solidFill>
                <a:latin typeface="Lucida Sans Unicode"/>
                <a:ea typeface="Lucida Sans Unicode"/>
              </a:rPr>
              <a:t>. Гибкой она называется потому, что изменяется в соответствии с фазами экономического цикла. Стимулирующая политика проводится в фазе спада, а сдерживающая - в фазе бум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60" y="2500200"/>
            <a:ext cx="900108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Таков, в общем виде, механизм воздействия дискреционной кредитно-денежной политики государства на изменение инвестиций, занятости и валового внутреннего продукта. Однако, в реальной жизни гибкая монетарная политика порой приводит к непредсказуемым результатам и ее эффективность снижается как результат развития побочных процесс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тремлении добиться стабилизации экономики Центральные банки сталкиваются с дилеммой: что именно выбрать в качестве инструмента монетарной политики - контроль над денежным предложением или контроль над динамикой процентной ставки. Так, в стремлении стабилизировать процентную ставку, государство должно отказаться от каких-либо строгих ориентиров прироста денежного предложения, и увеличивать денежную массу для снижения ставки процента до желаемого уровня. Напротив, ЦБ придется ограничивать предложение денег для повышения процентной ставки до целевого уровня. Если же приоритетной задачей ставится поддержание стабильного прироста денежного предложения на всех фазах экономического цикла, то ЦБ должен допустить колебания процентной ставки. Невозможность одновременного контроля денежного предложения и уровня процентной ставки называется дилеммой целей кредитно-денежн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712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обмена</a:t>
            </a:r>
            <a:br>
              <a:rPr sz="2000"/>
            </a:br>
            <a:endParaRPr b="0" lang="en-US" sz="2000" spc="-1" strike="noStrike">
              <a:solidFill>
                <a:srgbClr val="990033"/>
              </a:solidFill>
              <a:latin typeface="Arial"/>
            </a:endParaRPr>
          </a:p>
        </p:txBody>
      </p:sp>
      <p:sp>
        <p:nvSpPr>
          <p:cNvPr id="91" name=""/>
          <p:cNvSpPr txBox="1"/>
          <p:nvPr/>
        </p:nvSpPr>
        <p:spPr>
          <a:xfrm>
            <a:off x="-360" y="2928960"/>
            <a:ext cx="871524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бартерной экономике необходимо двойное совпадение потребностей для заключения сделок: человек, торгующий яблоками, сможет обменять их на груши, только, если он встретит такого продавца, располагающего грушами, которому нужны яблоки. Эта проблема становится все более сложной по мере роста числа товаров и продавцов. Деньги прекрасно решают эту проблему. Они становятся посредниками в товарообменных сделках. Формула бартерного обмена «Товар-Товар» превращается в формулу товарного обмена «Товар-Деньги-Товар». Первоначально в функции средства обмена выступали реальные товарные деньги - слитки золота и серебра, которые необходимо было делить, взвешивать, устанавливать пробу. Позднее люди перешли к использованию монет, т. е. слитков денежного металла определенного веса, пробы и формы с печатью государства, удостоверяющей их подлинность. Это экономило транзакционные издержки, но полноценные монеты в обращении стирались и обесценивались, что привело, в конечном счете, к их замене символическими деньгами - бумажными купюрами различного достоинств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85480" y="26427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сохранения ценности</a:t>
            </a:r>
            <a:br>
              <a:rPr sz="3200"/>
            </a:br>
            <a:endParaRPr b="0" lang="en-US" sz="2000" spc="-1" strike="noStrike">
              <a:solidFill>
                <a:srgbClr val="990033"/>
              </a:solidFill>
              <a:latin typeface="Arial"/>
            </a:endParaRPr>
          </a:p>
        </p:txBody>
      </p:sp>
      <p:sp>
        <p:nvSpPr>
          <p:cNvPr id="93" name=""/>
          <p:cNvSpPr txBox="1"/>
          <p:nvPr/>
        </p:nvSpPr>
        <p:spPr>
          <a:xfrm>
            <a:off x="0" y="292896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Люди хранят свое богатство в форме различных активов и деньги являются одним из таких активов. Деньги позволяют сохранить ценность богатства, служат его накоплению, хотя их ценность может со временем меняться. Но то же самое мы можем сказать и о других активах, которые используются для сохранения ценности. Кроме того, если сравнить деньги с акциями или недвижимостью, то можно сказать, что деньги - относительно безрисковый актив и достаточно надежная форма хранения богатства в отсутствие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платежа</a:t>
            </a:r>
            <a:br>
              <a:rPr sz="2000"/>
            </a:br>
            <a:endParaRPr b="0" lang="en-US" sz="2000" spc="-1" strike="noStrike">
              <a:solidFill>
                <a:srgbClr val="990033"/>
              </a:solidFill>
              <a:latin typeface="Arial"/>
            </a:endParaRPr>
          </a:p>
        </p:txBody>
      </p:sp>
      <p:sp>
        <p:nvSpPr>
          <p:cNvPr id="95" name=""/>
          <p:cNvSpPr txBox="1"/>
          <p:nvPr/>
        </p:nvSpPr>
        <p:spPr>
          <a:xfrm>
            <a:off x="-142920" y="285732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денежной форме может фиксироваться величина обязательств и долгов; поэтому деньги служат средством платежа. В этой роли деньги используются, когда наблюдается несовпадение по времени покупок и продаж, т. е. товары продаются в кредит. Инструментом, обслуживающим кредитные сделки, является вексель - безусловное долговое обязательство. Имея в своих активах векселя различных фирм, банки могли на их основе выпускать собственные векселя - банкноты, которые превращали банки в должников: банкноты могли быть погашены за счет имущества банков. Таким образом, появились кредитные деньги, получившие широкое хожд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деньги представляют собой ведущий актив, который выполняет четыре главные функции, но при этом, в отличие от других активов (например, акций, облигаций и т. п.), не приносит дохода своему владельцу. Отсутствие дохода является платой за высокую ликвидность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2143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Денежное обращение</a:t>
            </a:r>
            <a:br>
              <a:rPr sz="2000"/>
            </a:br>
            <a:endParaRPr b="0" lang="en-US" sz="2000" spc="-1" strike="noStrike">
              <a:solidFill>
                <a:srgbClr val="990033"/>
              </a:solidFill>
              <a:latin typeface="Arial"/>
            </a:endParaRPr>
          </a:p>
        </p:txBody>
      </p:sp>
      <p:sp>
        <p:nvSpPr>
          <p:cNvPr id="97"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в экономике совершают непрерывный кругооборот, находятся в постоянном движении, меняя своих владельцев. Это движение денег, опосредствующее оборот товаров и услуг, называется денежным обращением. Оно обслуживает реализацию товаров, а также движение финансового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мире существуют различные системы денежного обращения, которые сложились исторически и закреплены законодательно каждым государством. К важнейшим компонентам денежной системы относятс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1) национальная денежная единица (доллар, рубль, евро, и т. д.), в которой выражаются цены товаров и услу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2) система кредитных и бумажных денег, разменных монет, которые являются законными платежными средствами в наличном оборо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З) система эмиссии денег, т. е. законодательно закрепленный порядок выпуска денег в обращ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4) государственные органы, ведающие вопросами регулирования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28480" y="24998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ущность, функции и формы кредита</a:t>
            </a:r>
            <a:br>
              <a:rPr sz="2400"/>
            </a:br>
            <a:endParaRPr b="0" lang="en-US" sz="2400" spc="-1" strike="noStrike">
              <a:solidFill>
                <a:srgbClr val="990033"/>
              </a:solidFill>
              <a:latin typeface="Arial"/>
            </a:endParaRPr>
          </a:p>
        </p:txBody>
      </p:sp>
      <p:sp>
        <p:nvSpPr>
          <p:cNvPr id="99" name=""/>
          <p:cNvSpPr txBox="1"/>
          <p:nvPr/>
        </p:nvSpPr>
        <p:spPr>
          <a:xfrm>
            <a:off x="-360" y="3143160"/>
            <a:ext cx="9001080" cy="3454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рыночной экономике непреложным законом является то, что деньги должны находиться в постоянном обороте, совершать непрерывное обращение. Временно свободные денежные средства поступают на рынок ссудных капиталов, аккумулируются в кредитно-финансовых учреждениях, а затем пускаются в дело, размещаются в тех отраслях экономики, где есть потребность в дополнительных капиталовложениях.</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 представляет собой движение ссудного капитала, осуществляемое на началах срочности, возвратности и платности. Хотя кредит зародился еще в рабовладельческом обществе, когда деньги предоставлялись в долг ростовщиками, он получил наибольшее развитие в капиталистическом хозяйств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500200"/>
            <a:ext cx="8572320" cy="41436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редит выполняет важные </a:t>
            </a:r>
            <a:r>
              <a:rPr b="0" i="1" lang="ru-RU" sz="1400" spc="-1" strike="noStrike">
                <a:solidFill>
                  <a:srgbClr val="000000"/>
                </a:solidFill>
                <a:latin typeface="Lucida Sans Unicode"/>
                <a:ea typeface="Lucida Sans Unicode"/>
              </a:rPr>
              <a:t>функции</a:t>
            </a:r>
            <a:r>
              <a:rPr b="0" lang="ru-RU" sz="1400" spc="-1" strike="noStrike">
                <a:solidFill>
                  <a:srgbClr val="000000"/>
                </a:solidFill>
                <a:latin typeface="Lucida Sans Unicode"/>
                <a:ea typeface="Lucida Sans Unicode"/>
              </a:rPr>
              <a:t> в рыночной экономик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Исторически кредит позволил существенно раздвинуть рамки общественного производства по сравнению с теми, которые устанавливались наличным количеством имеющегося в той или иной стране предложения денег, т. е. золотых монет в тот период.</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перераспределительную функцию. Благодаря ему частные сбережения, прибыли предприятий, доходы государства превращаются в ссудный капитал и направляются в прибыльные сферы экономики.</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содействует экономии транзакционных издержек. В процессе его развития появляются разнообразные средства использования банковских счетов и вкладов (кредитные карточки, различные виды счетов, депозитные сертификаты), происходит опережающий рост безналичного оборота, ускорение движения денежных потоков.</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функцию ускорения концентрации и централизации капитала. Кредит активно используется в конкурентной борьбе, содействует процессу поглощений и слияний фир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11:07:21Z</dcterms:created>
  <dc:creator>Rock'n'Rolla</dc:creator>
  <dc:description/>
  <dc:language>en-US</dc:language>
  <cp:lastModifiedBy>Рена</cp:lastModifiedBy>
  <dcterms:modified xsi:type="dcterms:W3CDTF">2009-11-29T09:23:51Z</dcterms:modified>
  <cp:revision>33</cp:revision>
  <dc:subject/>
  <dc:title>Кредитно-денежная система и кредитно-денежная политика</dc:title>
</cp:coreProperties>
</file>