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0D9-A1AD-4F29-B4B0-6AA3CBFB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9C2-8175-4691-9ED5-947084F3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42B-F9E7-4AA7-B866-1EC3E570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F6D-13DD-4CED-AE75-08189C24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AD4-A8A0-4A0B-ACB2-43C50214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ABF-0FE6-4442-9675-E4EC361A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CB9-968E-40B3-8718-9B089EA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3B7-352E-4852-859E-7D97A75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264-5BEA-484B-9AE8-3E04C2A9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615-0ACE-444A-9436-0A07FF0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7F5-647A-4776-90FA-1B0693AC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4CB-DF97-47D4-BBA1-5AC09B3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1B0E-51D3-4DD4-9DB6-831C03D03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9/5910/591082/Img0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mples.ru/private/f000086/24-0004b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lchevskpravoslavniy.ru/wp-content/uploads/2011/08/13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ardenhistory.ru/photos/pages/330-2873smal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vshestvoxx1.narod.ru/igorbeg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037.radikal.ru/1104/9a/ca7839fde5ea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novshestvoxx1.narod.ru/igor1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80880"/>
            <a:ext cx="802008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Образы "Слова о полку Игореве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715000"/>
            <a:ext cx="7924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живописи, графике, скульптуре, музык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6 из 102"/>
          <p:cNvPicPr/>
          <p:nvPr/>
        </p:nvPicPr>
        <p:blipFill>
          <a:blip r:embed="rId1"/>
          <a:stretch/>
        </p:blipFill>
        <p:spPr>
          <a:xfrm>
            <a:off x="2711520" y="685800"/>
            <a:ext cx="3595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5768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-02.jpg (25825 bytes)"/>
          <p:cNvPicPr/>
          <p:nvPr/>
        </p:nvPicPr>
        <p:blipFill>
          <a:blip r:embed="rId2"/>
          <a:stretch/>
        </p:blipFill>
        <p:spPr>
          <a:xfrm>
            <a:off x="6019920" y="914400"/>
            <a:ext cx="2857320" cy="2390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-05.jpg (23275 bytes)"/>
          <p:cNvPicPr/>
          <p:nvPr/>
        </p:nvPicPr>
        <p:blipFill>
          <a:blip r:embed="rId3"/>
          <a:stretch/>
        </p:blipFill>
        <p:spPr>
          <a:xfrm>
            <a:off x="2895480" y="3048120"/>
            <a:ext cx="3276720" cy="182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5800" y="46080"/>
            <a:ext cx="79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Графические работы В.А.Фавор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3696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Я оформил и иллюстрировал «Слово о полку Игореве», потому что это произведение всегда меня восхищает. Трудно, по-моему, даже в мировой литературе найти эпическое произведение, равное «Сло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.А.Фав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286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«Слово о полку Игореве» - неиссякаемый источник, щедро одаряющий тех, кто припадает к его живой воде. Познание «слова» носит у нас всенародный характер, являя собой прекрасное и волнующее, вечно живое явление отечественной культур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.С.Лих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18 из 102"/>
          <p:cNvPicPr/>
          <p:nvPr/>
        </p:nvPicPr>
        <p:blipFill>
          <a:blip r:embed="rId1"/>
          <a:stretch/>
        </p:blipFill>
        <p:spPr>
          <a:xfrm>
            <a:off x="304920" y="2209680"/>
            <a:ext cx="3504960" cy="249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875480"/>
            <a:ext cx="40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авюра В. Фаворского на форзаце                      "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лов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к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орев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20 из 103"/>
          <p:cNvPicPr/>
          <p:nvPr/>
        </p:nvPicPr>
        <p:blipFill>
          <a:blip r:embed="rId2"/>
          <a:srcRect l="0" t="0" r="-7924" b="46006"/>
          <a:stretch/>
        </p:blipFill>
        <p:spPr>
          <a:xfrm>
            <a:off x="3657600" y="3276720"/>
            <a:ext cx="281952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48 из 102"/>
          <p:cNvPicPr/>
          <p:nvPr/>
        </p:nvPicPr>
        <p:blipFill>
          <a:blip r:embed="rId3"/>
          <a:stretch/>
        </p:blipFill>
        <p:spPr>
          <a:xfrm>
            <a:off x="6400800" y="304812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15360" y="555156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Опера «Князь Игор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2296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узыкальное, графическое, живописное «Слово» вошло в наш духовный обиход и стало его неотъемлемой частью. Гордостью наполняется сердце, когда звучат имена Александра Бородина, Виктора Васнецова, Ивана Голикова, Владимира Фаворского… Этими первоклассными именами не ограничивается список тех, кто на протяжении десятилетий обогащал и умножал изобразительную и музыкальную традиции воплощения «Сло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5 из 5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088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79848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сследователи не раз сопоставляли песню Игорева похода с белокаменным красавцем-богатырём – Дмитриевским собором во Владимире, построенным во времена Всеволода Большое Гнез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9960" y="6172200"/>
            <a:ext cx="5455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2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митриев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и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1194 - 1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11 из 1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886200"/>
            <a:ext cx="472428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376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оргиев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Юрьев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ьско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1230-123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23 из 12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124080"/>
            <a:ext cx="3376440" cy="239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36 из 12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228600"/>
            <a:ext cx="3300480" cy="247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648320"/>
            <a:ext cx="563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скульптуре Георгиевского собора, как и в «Слове», с особой силой звучат воинские мотивы. И поэма, и скульптурный декор, дополняя друг друга, могут служить энциклопедическим словарём по истории русского оруж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Уваров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54720" cy="579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867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1880г. один из известных художников-передвижников                                                                                                                                                                                          В.Г.Перов написал картину «Плач Яросла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63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80060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1880г. В.Васнецов завершил свою картину «После побоища Игоря Святославича с половцами», находящуюся ныне в Третьяковской гале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Бились день, рубились день, друг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третий день к полудню стяги п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расстался с братом брат р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 реке кровавой, на Кая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лово о полку Игор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049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Бывают сочетания имён, представляющиеся почти символическими. Такова встреча Александра Порфирьевича Бородина, композито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ьё творчество отмечено чертами мужества и эпической широты, с песнью Игорева п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Опера «Князь Игорь» (1890) открывается величественной сценой выступления рати Игоря, которого Бородин сделал главным героем. Его образ наиболее полно раскрывается в каватине «Ни сна, ни отдыха измученной душе…», ставшей знамени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211788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нязь Игорь (Сергей Артамонов) в плену. Пытается оправдаться перед собственной совестью. "/>
          <p:cNvPicPr/>
          <p:nvPr/>
        </p:nvPicPr>
        <p:blipFill>
          <a:blip r:embed="rId2"/>
          <a:stretch/>
        </p:blipFill>
        <p:spPr>
          <a:xfrm>
            <a:off x="152280" y="274320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нязь Игорь (Сергей Артамонов). "/>
          <p:cNvPicPr/>
          <p:nvPr/>
        </p:nvPicPr>
        <p:blipFill>
          <a:blip r:embed="rId3"/>
          <a:stretch/>
        </p:blipFill>
        <p:spPr>
          <a:xfrm>
            <a:off x="5867280" y="467352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794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И.Голиков. &quot;Битва&quot;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67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760" y="5043240"/>
            <a:ext cx="88772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И.Голик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Битва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ародный художник из Палеха Иван Голиков  воскресил всю безмерную радость красок, живших в поэтическом шедевре, рождённым Киевской Рус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а 11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0"/>
            <a:ext cx="2656080" cy="40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828800"/>
            <a:ext cx="287028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 из 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2666880"/>
            <a:ext cx="2674800" cy="403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9440" y="10152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ллюстрации И. Гол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9-11T19:54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