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4301-2CC5-432C-9B12-7658A4D41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C112-59D5-4600-9F8A-FCEFC0E1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4DFA-A609-4C7C-8B2F-DBDD7B2CE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563F-4E70-41CE-B293-52E6A38D3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F08D-0666-4226-AB6A-307B8069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B4CD-576B-47DB-B224-190C7183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A0D7-9AC0-4003-BD77-FCD890FD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97CC-6350-4D4C-8CA8-8B3E6E21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414B-A19D-4BE4-A57E-21F269C4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8A6C-37BC-4AA4-92C3-C7C0379A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668B-13EA-4AE7-AD77-1DAD0976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0190-6054-4AC9-A730-8D3BB521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39EB-F325-495E-ACE6-525EE31EC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festival.1september.ru/files/articles/59/5910/591082/Img05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emples.ru/private/f000086/24-0004b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alchevskpravoslavniy.ru/wp-content/uploads/2011/08/133.jp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www.gardenhistory.ru/photos/pages/330-2873small.jpg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novshestvoxx1.narod.ru/igorbeg.jp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037.radikal.ru/1104/9a/ca7839fde5ea.jpg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novshestvoxx1.narod.ru/igor1.jpg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380880"/>
            <a:ext cx="8020080" cy="1752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Образы "Слова о полку Игореве"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5715000"/>
            <a:ext cx="79246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живописи, графике, скульптуре, музык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43" name="" descr="Картинка 6 из 102"/>
          <p:cNvPicPr/>
          <p:nvPr/>
        </p:nvPicPr>
        <p:blipFill>
          <a:blip r:embed="rId1"/>
          <a:stretch/>
        </p:blipFill>
        <p:spPr>
          <a:xfrm>
            <a:off x="2711520" y="685800"/>
            <a:ext cx="3595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2857680" cy="3000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fil-02.jpg (25825 bytes)"/>
          <p:cNvPicPr/>
          <p:nvPr/>
        </p:nvPicPr>
        <p:blipFill>
          <a:blip r:embed="rId2"/>
          <a:stretch/>
        </p:blipFill>
        <p:spPr>
          <a:xfrm>
            <a:off x="6019920" y="914400"/>
            <a:ext cx="2857320" cy="2390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fil-05.jpg (23275 bytes)"/>
          <p:cNvPicPr/>
          <p:nvPr/>
        </p:nvPicPr>
        <p:blipFill>
          <a:blip r:embed="rId3"/>
          <a:stretch/>
        </p:blipFill>
        <p:spPr>
          <a:xfrm>
            <a:off x="2895480" y="3048120"/>
            <a:ext cx="3276720" cy="18237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6019920" y="4419720"/>
            <a:ext cx="2857320" cy="2133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15800" y="46080"/>
            <a:ext cx="79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Графические работы В.А.Фавор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836960"/>
            <a:ext cx="5486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Я оформил и иллюстрировал «Слово о полку Игореве», потому что это произведение всегда меня восхищает. Трудно, по-моему, даже в мировой литературе найти эпическое произведение, равное «Слову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В.А.Фавор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22860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«Слово о полку Игореве» - неиссякаемый источник, щедро одаряющий тех, кто припадает к его живой воде. Познание «слова» носит у нас всенародный характер, являя собой прекрасное и волнующее, вечно живое явление отечественной культуры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  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Д.С.Лихачё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Картинка 18 из 102"/>
          <p:cNvPicPr/>
          <p:nvPr/>
        </p:nvPicPr>
        <p:blipFill>
          <a:blip r:embed="rId1"/>
          <a:stretch/>
        </p:blipFill>
        <p:spPr>
          <a:xfrm>
            <a:off x="304920" y="2209680"/>
            <a:ext cx="3504960" cy="2498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04920" y="4875480"/>
            <a:ext cx="407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Гравюра В. Фаворского на форзаце                      "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Слова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олку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гореве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Картинка 20 из 103"/>
          <p:cNvPicPr/>
          <p:nvPr/>
        </p:nvPicPr>
        <p:blipFill>
          <a:blip r:embed="rId2"/>
          <a:srcRect l="0" t="0" r="-7924" b="46006"/>
          <a:stretch/>
        </p:blipFill>
        <p:spPr>
          <a:xfrm>
            <a:off x="3657600" y="3276720"/>
            <a:ext cx="2819520" cy="2238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Картинка 48 из 102"/>
          <p:cNvPicPr/>
          <p:nvPr/>
        </p:nvPicPr>
        <p:blipFill>
          <a:blip r:embed="rId3"/>
          <a:stretch/>
        </p:blipFill>
        <p:spPr>
          <a:xfrm>
            <a:off x="6400800" y="3048120"/>
            <a:ext cx="2552760" cy="3809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915360" y="5551560"/>
            <a:ext cx="233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Опера «Князь Игор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228600"/>
            <a:ext cx="82296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Музыкальное, графическое, живописное «Слово» вошло в наш духовный обиход и стало его неотъемлемой частью. Гордостью наполняется сердце, когда звучат имена Александра Бородина, Виктора Васнецова, Ивана Голикова, Владимира Фаворского… Этими первоклассными именами не ограничивается список тех, кто на протяжении десятилетий обогащал и умножал изобразительную и музыкальную традиции воплощения «Слов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Картинка 5 из 5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380880"/>
            <a:ext cx="4172040" cy="5562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029200" y="798480"/>
            <a:ext cx="3886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Исследователи не раз сопоставляли песню Игорева похода с белокаменным красавцем-богатырём – Дмитриевским собором во Владимире, построенным во времена Всеволода Большое Гнезд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9960" y="6172200"/>
            <a:ext cx="54554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237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митриевски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бо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ладимир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1194 - 11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Картинка 11 из 123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076720" cy="3800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600" y="3886200"/>
            <a:ext cx="472428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2376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еоргиевски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бо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Юрьев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льско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1230-1234 г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Картинка 23 из 124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4120" y="3124080"/>
            <a:ext cx="3376440" cy="2394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Картинка 36 из 124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57800" y="228600"/>
            <a:ext cx="3300480" cy="2476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4648320"/>
            <a:ext cx="5638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В скульптуре Георгиевского собора, как и в «Слове», с особой силой звучат воинские мотивы. И поэма, и скульптурный декор, дополняя друг друга, могут служить энциклопедическим словарём по истории русского оруж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Уваров К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4554720" cy="5791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" y="586728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В 1880г. один из известных художников-передвижников                                                                                                                                                                                          В.Г.Перов написал картину «Плач Ярославн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4633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4800600"/>
            <a:ext cx="885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В 1880г. В.Васнецов завершил свою картину «После побоища Игоря Святославича с половцами», находящуюся ныне в Третьяковской галер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Бились день, рубились день, друг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В третий день к полудню стяги пал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И расстался с братом брат род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На реке кровавой, на Кая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Слово о полку Игоре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304920"/>
            <a:ext cx="8534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Бывают сочетания имён, представляющиеся почти символическими. Такова встреча Александра Порфирьевича Бородина, композитор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чьё творчество отмечено чертами мужества и эпической широты, с песнью Игорева пох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Опера «Князь Игорь» (1890) открывается величественной сценой выступления рати Игоря, которого Бородин сделал главным героем. Его образ наиболее полно раскрывается в каватине «Ни сна, ни отдыха измученной душе…», ставшей знаменит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657600" y="3276720"/>
            <a:ext cx="2117880" cy="3352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Князь Игорь (Сергей Артамонов) в плену. Пытается оправдаться перед собственной совестью. "/>
          <p:cNvPicPr/>
          <p:nvPr/>
        </p:nvPicPr>
        <p:blipFill>
          <a:blip r:embed="rId2"/>
          <a:stretch/>
        </p:blipFill>
        <p:spPr>
          <a:xfrm>
            <a:off x="152280" y="2743200"/>
            <a:ext cx="3348000" cy="2232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Князь Игорь (Сергей Артамонов). "/>
          <p:cNvPicPr/>
          <p:nvPr/>
        </p:nvPicPr>
        <p:blipFill>
          <a:blip r:embed="rId3"/>
          <a:stretch/>
        </p:blipFill>
        <p:spPr>
          <a:xfrm>
            <a:off x="5867280" y="4673520"/>
            <a:ext cx="3124440" cy="208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8534520" y="6400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37943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И.Голиков. &quot;Битва&quot;"/>
          <p:cNvPicPr/>
          <p:nvPr/>
        </p:nvPicPr>
        <p:blipFill>
          <a:blip r:embed="rId1"/>
          <a:stretch/>
        </p:blipFill>
        <p:spPr>
          <a:xfrm>
            <a:off x="1143000" y="380880"/>
            <a:ext cx="7010280" cy="4673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66760" y="5043240"/>
            <a:ext cx="887724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И.Голиков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"Битва"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Народный художник из Палеха Иван Голиков  воскресил всю безмерную радость красок, живших в поэтическом шедевре, рождённым Киевской Русь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Картинка 11 из 1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0"/>
            <a:ext cx="2656080" cy="4038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Картинка 5 из 1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87640" y="1828800"/>
            <a:ext cx="2870280" cy="4114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Картинка 4 из 1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72200" y="2666880"/>
            <a:ext cx="2674800" cy="4038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349440" y="101520"/>
            <a:ext cx="546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Иллюстрации И. Голи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1-09-11T19:54:0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