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0D1-64CF-4E18-842B-E6145E56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3F8-89E8-43EA-8AC2-CF976F26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445-2520-4AD1-91C1-977A64AA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EE9-5378-4E14-ACE5-A75BBBA7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D9D-8CF9-418E-91F8-515380A4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DDB-3D8C-4CD5-B484-F53721E4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3B1-F84E-46EF-AC4B-7447BD65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D31-3AE6-4767-8052-B3D4401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B8B-A14C-45DC-84C1-6C8C7867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B50-860B-4533-8A97-5F53796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8DD-1077-45F4-AA94-0DDC31F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590-7598-44B7-86A8-67061B7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BF19-3754-4B1A-9CDD-23561A106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59/5910/591082/Img0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mples.ru/private/f000086/24-0004b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alchevskpravoslavniy.ru/wp-content/uploads/2011/08/13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ardenhistory.ru/photos/pages/330-2873small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ovshestvoxx1.narod.ru/igorbeg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037.radikal.ru/1104/9a/ca7839fde5ea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novshestvoxx1.narod.ru/igor1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80880"/>
            <a:ext cx="8020080" cy="175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Образы "Слова о полку Игореве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715000"/>
            <a:ext cx="79246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живописи, графике, скульптуре, музык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6 из 102"/>
          <p:cNvPicPr/>
          <p:nvPr/>
        </p:nvPicPr>
        <p:blipFill>
          <a:blip r:embed="rId1"/>
          <a:stretch/>
        </p:blipFill>
        <p:spPr>
          <a:xfrm>
            <a:off x="2711520" y="685800"/>
            <a:ext cx="3595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57680" cy="300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-02.jpg (25825 bytes)"/>
          <p:cNvPicPr/>
          <p:nvPr/>
        </p:nvPicPr>
        <p:blipFill>
          <a:blip r:embed="rId2"/>
          <a:stretch/>
        </p:blipFill>
        <p:spPr>
          <a:xfrm>
            <a:off x="6019920" y="914400"/>
            <a:ext cx="2857320" cy="2390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-05.jpg (23275 bytes)"/>
          <p:cNvPicPr/>
          <p:nvPr/>
        </p:nvPicPr>
        <p:blipFill>
          <a:blip r:embed="rId3"/>
          <a:stretch/>
        </p:blipFill>
        <p:spPr>
          <a:xfrm>
            <a:off x="2895480" y="3048120"/>
            <a:ext cx="3276720" cy="182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5800" y="46080"/>
            <a:ext cx="79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Графические работы В.А.Фавор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83696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Я оформил и иллюстрировал «Слово о полку Игореве», потому что это произведение всегда меня восхищает. Трудно, по-моему, даже в мировой литературе найти эпическое произведение, равное «Слов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.А.Фав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286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«Слово о полку Игореве» - неиссякаемый источник, щедро одаряющий тех, кто припадает к его живой воде. Познание «слова» носит у нас всенародный характер, являя собой прекрасное и волнующее, вечно живое явление отечественной культур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Д.С.Лих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18 из 102"/>
          <p:cNvPicPr/>
          <p:nvPr/>
        </p:nvPicPr>
        <p:blipFill>
          <a:blip r:embed="rId1"/>
          <a:stretch/>
        </p:blipFill>
        <p:spPr>
          <a:xfrm>
            <a:off x="304920" y="2209680"/>
            <a:ext cx="3504960" cy="249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875480"/>
            <a:ext cx="407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авюра В. Фаворского на форзаце                      "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лов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лку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орев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артинка 20 из 103"/>
          <p:cNvPicPr/>
          <p:nvPr/>
        </p:nvPicPr>
        <p:blipFill>
          <a:blip r:embed="rId2"/>
          <a:srcRect l="0" t="0" r="-7924" b="46006"/>
          <a:stretch/>
        </p:blipFill>
        <p:spPr>
          <a:xfrm>
            <a:off x="3657600" y="3276720"/>
            <a:ext cx="2819520" cy="223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48 из 102"/>
          <p:cNvPicPr/>
          <p:nvPr/>
        </p:nvPicPr>
        <p:blipFill>
          <a:blip r:embed="rId3"/>
          <a:stretch/>
        </p:blipFill>
        <p:spPr>
          <a:xfrm>
            <a:off x="6400800" y="304812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15360" y="555156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Опера «Князь Игор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2296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Музыкальное, графическое, живописное «Слово» вошло в наш духовный обиход и стало его неотъемлемой частью. Гордостью наполняется сердце, когда звучат имена Александра Бородина, Виктора Васнецова, Ивана Голикова, Владимира Фаворского… Этими первоклассными именами не ограничивается список тех, кто на протяжении десятилетий обогащал и умножал изобразительную и музыкальную традиции воплощения «Сло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5 из 5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088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798480"/>
            <a:ext cx="38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Исследователи не раз сопоставляли песню Игорева похода с белокаменным красавцем-богатырём – Дмитриевским собором во Владимире, построенным во времена Всеволода Большое Гнез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9960" y="6172200"/>
            <a:ext cx="5455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2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митриевск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б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ади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1194 - 1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11 из 1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886200"/>
            <a:ext cx="472428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376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еоргиевск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б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Юрьев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ьско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1230-1234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23 из 12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124080"/>
            <a:ext cx="3376440" cy="239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36 из 12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228600"/>
            <a:ext cx="3300480" cy="247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648320"/>
            <a:ext cx="563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 скульптуре Георгиевского собора, как и в «Слове», с особой силой звучат воинские мотивы. И поэма, и скульптурный декор, дополняя друг друга, могут служить энциклопедическим словарём по истории русского оруж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Уваров К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554720" cy="579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867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 1880г. один из известных художников-передвижников                                                                                                                                                                                          В.Г.Перов написал картину «Плач Ярослав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63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80060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1880г. В.Васнецов завершил свою картину «После побоища Игоря Святославича с половцами», находящуюся ныне в Третьяковской гале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Бились день, рубились день, друг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третий день к полудню стяги п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расстался с братом брат р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 реке кровавой, на Кая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лово о полку Игор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30492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Бывают сочетания имён, представляющиеся почти символическими. Такова встреча Александра Порфирьевича Бородина, композито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чьё творчество отмечено чертами мужества и эпической широты, с песнью Игорева по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Опера «Князь Игорь» (1890) открывается величественной сценой выступления рати Игоря, которого Бородин сделал главным героем. Его образ наиболее полно раскрывается в каватине «Ни сна, ни отдыха измученной душе…», ставшей знамени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2117880" cy="33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нязь Игорь (Сергей Артамонов) в плену. Пытается оправдаться перед собственной совестью. "/>
          <p:cNvPicPr/>
          <p:nvPr/>
        </p:nvPicPr>
        <p:blipFill>
          <a:blip r:embed="rId2"/>
          <a:stretch/>
        </p:blipFill>
        <p:spPr>
          <a:xfrm>
            <a:off x="152280" y="274320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нязь Игорь (Сергей Артамонов). "/>
          <p:cNvPicPr/>
          <p:nvPr/>
        </p:nvPicPr>
        <p:blipFill>
          <a:blip r:embed="rId3"/>
          <a:stretch/>
        </p:blipFill>
        <p:spPr>
          <a:xfrm>
            <a:off x="5867280" y="4673520"/>
            <a:ext cx="3124440" cy="208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794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И.Голиков. &quot;Битва&quot;"/>
          <p:cNvPicPr/>
          <p:nvPr/>
        </p:nvPicPr>
        <p:blipFill>
          <a:blip r:embed="rId1"/>
          <a:stretch/>
        </p:blipFill>
        <p:spPr>
          <a:xfrm>
            <a:off x="1143000" y="380880"/>
            <a:ext cx="7010280" cy="4673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760" y="5043240"/>
            <a:ext cx="88772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И.Голико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Битва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ародный художник из Палеха Иван Голиков  воскресил всю безмерную радость красок, живших в поэтическом шедевре, рождённым Киевской Рус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Картинка 11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0"/>
            <a:ext cx="2656080" cy="403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5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1828800"/>
            <a:ext cx="287028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4 из 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2666880"/>
            <a:ext cx="2674800" cy="403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9440" y="10152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ллюстрации И. Гол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9-11T19:54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