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A03-163E-4BA3-AF14-FF1F13884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CCD-48FD-48B4-A65C-005DDE30AE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492A-C380-4E8B-853C-D8D1CA9E74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792E-F277-43D2-AF5B-3E45CFFA44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BB56-27E3-4818-BEAA-1EA185BB1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5A8-0B69-4D51-A312-D13B08B4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5DC-CB98-4DDF-9627-7EADD71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3C7-0589-4241-A143-FC3D4FD8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F8F-062C-4BCB-9BBC-88AEFEF3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067-FA6A-4367-847D-C175FA95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DDD-0742-4AB5-9657-88EC99E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4A0F-0DB5-442A-9259-E14FC430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5F54-B944-4C23-8829-3A62AF24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F5B-B2F9-4E13-8148-8268177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D136-B7F7-4FF3-98B8-7A610E9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2F67-BF46-407A-B0CB-7F0282F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C18-90D2-4136-A616-91ED69F7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A6A5-693A-4995-8CE1-F0D92E0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1B6D-EDCC-4F2F-A087-A221AC17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731-1BAC-43AD-B179-79B04228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0D69-F2CD-40BD-94FB-BCBB6F57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260-C230-4C20-8C18-325E463F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9DA1-8E91-4B8C-8DC6-6A6CB3B5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E0AF-920A-4407-8B6C-19DA1971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D952-701A-4047-A697-BC39B39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4D27-9913-4854-9D30-1A36227D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25CC-1C62-43A6-BAEB-1EAD612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515-EFE3-4C7B-A022-B787F28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FE3B-B46F-4C2F-BC06-E097C51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4E58-CCD0-4BF1-B602-413C560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E90D-31D4-40DA-BFA9-497E4B2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6382-2E43-4E1B-A3F8-CD46771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D34D-6DAA-470B-94E3-0C3EA9C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7B35-AFF0-4435-BA04-B1799601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9927-C43B-47CE-93ED-35C34B46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DD78-AAB1-4177-8419-584198AB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E154-6A28-4EF8-84BF-DC09379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6907-2141-471F-A0A2-D56E07C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4F0-155E-4DF8-B83C-BEF4890D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9138-48A8-4593-B5B3-1828443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7F60-0FB2-4E93-9624-8F74EAC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0B08-6B5B-4F12-9E06-52CB6D6A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EC44-47BE-4779-806A-7CF24A2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A3AA-9481-4190-9510-99F5989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9312-5894-4371-A142-EF88EB8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C020-42B0-4888-860F-95E506E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2C02-E2C7-496B-9767-C24C1589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AB8E-68EF-493D-AD93-2D2B563E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499-6A8E-4F43-8C46-FB0274E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E83-3523-4B59-8B25-9D3E01C3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58F-8882-487A-9110-A1076CF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34D-8FCD-4FBE-8D37-A91A1FF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8AE-A5F0-4B02-940D-F7D0C75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19D1-6E97-4A6D-B942-8A098D488CF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вал 13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AE5-8DFE-4C47-BE58-3E6B6EEAA40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F6F-7DEF-4A8A-A920-A14C1B5EF0F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Овал 13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726F-A3D2-4312-BEEB-2C7D7A9F128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15b5c"/>
                </a:solidFill>
                <a:latin typeface="Arial"/>
              </a:rPr>
              <a:t>Общество, Гражданин, Армия </a:t>
            </a:r>
            <a:endParaRPr b="0" lang="en-US" sz="3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57C-F413-45C5-93EA-9FE36A18F03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760" y="1916280"/>
            <a:ext cx="82864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оциально-экономические пробл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ормирования «нового обл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оружённых Сил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Министерства об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ымбал Витали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7072200" y="8571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1B30-EE96-4428-A6E9-544C450CA7F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15b5c"/>
                </a:solidFill>
                <a:latin typeface="Arial"/>
              </a:rPr>
              <a:t>Интенсивность призыва на военную службу в ВО РФ</a:t>
            </a:r>
            <a:br>
              <a:rPr sz="2400"/>
            </a:br>
            <a:r>
              <a:rPr b="0" lang="ru-RU" sz="2400" spc="-1" strike="noStrike">
                <a:solidFill>
                  <a:srgbClr val="415b5c"/>
                </a:solidFill>
                <a:latin typeface="Arial"/>
              </a:rPr>
              <a:t>(тыс. чел. каждое полугодие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33" name="Object 7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9899"/>
                </a:solidFill>
                <a:latin typeface="Arial"/>
              </a:rPr>
              <a:t>Опыт преодоления трудностей перехода на добровольный способ комплектования</a:t>
            </a:r>
            <a:endParaRPr b="0" lang="en-US" sz="28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 отказа США от призыва и перехода к добровольному способу комплектования (с 1.07.1972 по 1.07.1973) возникли трудности: некомплект особенно в Армии = 17% и снижение качества доброво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причина </a:t>
            </a:r>
            <a:r>
              <a:rPr b="0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о оцен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. Шлы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«элементарна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дность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ов, решивших, что контрактники получают слишком много», в результате чего  ДД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3 года с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П на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йствия военно-политического руковод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С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ёрдость в отказе от призыва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мотря на труд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енералы стали «борцами» за рост ДД контракт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ение ДД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на 11,3% в 1981 г;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14.3% в 1982 г;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42% в период с 2002 г. по н/в (при 32% росте СЗ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привилеги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  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енщины!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285-B4B2-40C1-9E48-7FD47BE8BD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Выгнутая вправо стрелка 4"/>
          <p:cNvSpPr/>
          <p:nvPr/>
        </p:nvSpPr>
        <p:spPr>
          <a:xfrm>
            <a:off x="7236000" y="4365720"/>
            <a:ext cx="865080" cy="863640"/>
          </a:xfrm>
          <a:custGeom>
            <a:avLst/>
            <a:gdLst>
              <a:gd name="textAreaLeft" fmla="*/ 115920 w 865080"/>
              <a:gd name="textAreaRight" fmla="*/ 749160 w 865080"/>
              <a:gd name="textAreaTop" fmla="*/ 135000 h 863640"/>
              <a:gd name="textAreaBottom" fmla="*/ 621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9451"/>
                <a:lnTo>
                  <a:pt x="5390" y="21386"/>
                </a:lnTo>
                <a:lnTo>
                  <a:pt x="0" y="16200"/>
                </a:lnTo>
                <a:lnTo>
                  <a:pt x="5390" y="10586"/>
                </a:lnTo>
                <a:lnTo>
                  <a:pt x="5390" y="13286"/>
                </a:lnTo>
                <a:arcTo wR="21600" hR="6750" stAng="3029451" swAng="-256346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Выгнутая вправо стрелка 5"/>
          <p:cNvSpPr/>
          <p:nvPr/>
        </p:nvSpPr>
        <p:spPr>
          <a:xfrm>
            <a:off x="8172360" y="4941720"/>
            <a:ext cx="647640" cy="935280"/>
          </a:xfrm>
          <a:custGeom>
            <a:avLst/>
            <a:gdLst>
              <a:gd name="textAreaLeft" fmla="*/ 86760 w 647640"/>
              <a:gd name="textAreaRight" fmla="*/ 560880 w 647640"/>
              <a:gd name="textAreaTop" fmla="*/ 172800 h 935280"/>
              <a:gd name="textAreaBottom" fmla="*/ 6814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5" stAng="-5400000" swAng="5400000"/>
                <a:lnTo>
                  <a:pt x="21600" y="11736"/>
                </a:lnTo>
                <a:arcTo wR="21600" hR="7995" stAng="0" swAng="3305984"/>
                <a:lnTo>
                  <a:pt x="5400" y="21346"/>
                </a:lnTo>
                <a:lnTo>
                  <a:pt x="0" y="17860"/>
                </a:lnTo>
                <a:lnTo>
                  <a:pt x="5400" y="13865"/>
                </a:lnTo>
                <a:lnTo>
                  <a:pt x="5400" y="15735"/>
                </a:lnTo>
                <a:arcTo wR="21600" hR="7995" stAng="3305984" swAng="-3000591"/>
                <a:lnTo>
                  <a:pt x="21000" y="9865"/>
                </a:lnTo>
                <a:arcTo wR="21600" hR="7995" stAng="-305393" swAng="-5094607"/>
                <a:close/>
              </a:path>
              <a:path fill="darkenLess" w="21600" h="21600">
                <a:moveTo>
                  <a:pt x="0" y="0"/>
                </a:moveTo>
                <a:arcTo wR="21600" hR="7995" stAng="-5400000" swAng="5400000"/>
                <a:lnTo>
                  <a:pt x="21600" y="11736"/>
                </a:lnTo>
                <a:arcTo wR="21600" hR="7995" stAng="0" swAng="-305393"/>
                <a:lnTo>
                  <a:pt x="21000" y="9865"/>
                </a:lnTo>
                <a:arcTo wR="21600" hR="7995" stAng="-305393" swAng="-5094607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Опыт пасования перед трудностями нашего военно-политического руководства 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1920" y="1066680"/>
            <a:ext cx="850428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корное» подписание указов, предусматривающих увеличение призыва для заполнения штатных должностей, не укомплектованных контрак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кадровых перестановок, направленных на устранение от руков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ва ФЦ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валивши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уче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рассмотрения и реализации всех возможностей по увеличению ДД относительно СЗ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сё время выполнения ФЦП специально введенная (3300 р/мес) «стимулирующая» надбавка  контрактникам ни разу не индексировала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военных чиновников (ЦА) не было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необходимости добиваться роста ДД-к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2EE-7B61-43B9-93AC-8A5209D861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Динамика денежного довольствия 2002</a:t>
            </a:r>
            <a:r>
              <a:rPr b="0" lang="ru-RU" sz="2800" spc="-1" strike="noStrike">
                <a:solidFill>
                  <a:srgbClr val="7b9899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2008.</a:t>
            </a:r>
            <a:br>
              <a:rPr sz="2800"/>
            </a:br>
            <a:r>
              <a:rPr b="0" lang="ru-RU" sz="2800" spc="-1" strike="noStrike">
                <a:solidFill>
                  <a:srgbClr val="a50021"/>
                </a:solidFill>
                <a:latin typeface="Georgia"/>
              </a:rPr>
              <a:t>Супер-жадность!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AF9-25B6-43DE-A268-AF08A1EADC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-4752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0" y="1095480"/>
            <a:ext cx="92394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5052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Georgia"/>
              </a:rPr>
              <a:t>Как быть с комплектованием?! 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</a:t>
            </a:r>
            <a:br>
              <a:rPr sz="2600"/>
            </a:br>
            <a:r>
              <a:rPr b="0" lang="ru-RU" sz="2400" spc="-1" strike="noStrike">
                <a:solidFill>
                  <a:srgbClr val="415b5c"/>
                </a:solidFill>
                <a:latin typeface="Georgia"/>
              </a:rPr>
              <a:t>(Концепция новой ФЦП,  утв. В.В. Путиным 15.07.08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81080" y="1197000"/>
            <a:ext cx="8712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В ближайшее время планируется поступление в ВС РФ военной техники нового поколения, которая, отличаясь повышенной эффективностью, будет одновременно и значительно сложнее эксплуатируемой в настоящее время, а значит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к комплектованию по контракту является единственным реальным выходом из сложившейся ситу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При сохранении системы смешанного способа комплектования неизбежн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уменьшение количества военнослужащих, проходящих военную службу по контракту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дальнейшее снижение привлекательности военной службы в ВС РФ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потеря специалистов, способных обеспечивать качественную эксплуатацию военной техники и выполнять поставленные задач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неэффективная работа по подготовке военнослужащих младшего командного звена</a:t>
            </a:r>
            <a:r>
              <a:rPr b="0" lang="ru-RU" sz="2000" spc="-1" strike="noStrike">
                <a:solidFill>
                  <a:srgbClr val="665a00"/>
                </a:solidFill>
                <a:latin typeface="Times New Roman"/>
                <a:ea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 не менее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8.08.08 новая ФЦП, сохраняющая призыв в регулярные войска и смешанное комплектование, была утверждена!?!?!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071960" y="64292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15b5c"/>
                </a:solidFill>
                <a:latin typeface="Georgia"/>
              </a:rPr>
              <a:t>Роль и значение новой ФЦП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9280" y="1410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именование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жняя ФЦ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"Переход к комплектованию военнослужащими, проходящими военную службу по контракту, ряда соединений и воинских частей" на 2004 - 2007 г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в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овершенствование системы комплектования должностей сержантов и солдат военнослужащими, переведенными на военную службу по контракту, и осуществление перехода к комплектованию должностей сержантов (старшин) ВС РФ, других войск, воинских формирований и органов, а также матросов плавсостава ВМФ военнослужащими, проходящими военную службу по контракту (2009-2015 годы)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вание ложное - не соответствуют содержани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00 руб/мес – сохранённая, якобы  «стимулирующая» надбав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1481c"/>
                </a:solidFill>
                <a:latin typeface="Arial"/>
              </a:rPr>
              <a:t>Ширма для  сохранения коррупции в системе призыв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5"/>
          <p:cNvSpPr/>
          <p:nvPr/>
        </p:nvSpPr>
        <p:spPr>
          <a:xfrm>
            <a:off x="4249800" y="1052640"/>
            <a:ext cx="609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A83-7236-4F0C-823D-F0873F9E58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Экспертная оценка зависимости боеспособности от продолжительности службы и занятий боевой подготовки</a:t>
            </a:r>
            <a:endParaRPr b="0" lang="en-US" sz="20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071360"/>
            <a:ext cx="8964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БП ВС РФ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. № 553/3/1211 от 16.09.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. Уровень боеспособности военнослужащег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После 6 мес. службы и Б/П                       = 0,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После 12 мес. службы и Б/П                     = 0,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b400"/>
                </a:solidFill>
                <a:latin typeface="Times New Roman"/>
              </a:rPr>
              <a:t>После 18 мес. службы и Б/П                     = 0,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b400"/>
                </a:solidFill>
                <a:latin typeface="Times New Roman"/>
              </a:rPr>
              <a:t>После 24 мес. службы и Б/П                     = 0,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После 5 лет (призыв + контракт) 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 (профессионал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Для социальной и психологической адаптации военнослужащего к условиям службы в новом воинском коллективе необходим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 менее 3 м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ок обучения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6 мес. достаточ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ля последующей службы в в/ч ПГ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для направления в район вооружённого конфликта требуется  дополнительная подготов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786120" y="6429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B24-6B1E-4C52-81C4-9C15A8950C7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71524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Arial"/>
              </a:rPr>
              <a:t>Эффективная численность РМКС в регулярных войсках ВО РФ </a:t>
            </a:r>
            <a:r>
              <a:rPr b="0" lang="ru-RU" sz="2400" spc="-1" strike="noStrike">
                <a:solidFill>
                  <a:srgbClr val="415b5c"/>
                </a:solidFill>
                <a:latin typeface="Arial"/>
              </a:rPr>
              <a:t>(тыс. чел. по полугодиям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57" name="Object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273560"/>
          </a:xfrm>
          <a:prstGeom prst="rect">
            <a:avLst/>
          </a:prstGeom>
          <a:ln w="0">
            <a:noFill/>
          </a:ln>
        </p:spPr>
      </p:pic>
      <p:sp>
        <p:nvSpPr>
          <p:cNvPr id="358" name="Скругленный прямоугольник 4"/>
          <p:cNvSpPr/>
          <p:nvPr/>
        </p:nvSpPr>
        <p:spPr>
          <a:xfrm>
            <a:off x="5435640" y="1700280"/>
            <a:ext cx="3313080" cy="10810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покоящее общество двукратное снижение боеспособност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С-Э анализ расслоения обществ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о признакам отношения к военной службе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01680" y="1066680"/>
          <a:ext cx="8534520" cy="5429520"/>
        </p:xfrm>
        <a:graphic>
          <a:graphicData uri="http://schemas.openxmlformats.org/drawingml/2006/table">
            <a:tbl>
              <a:tblPr/>
              <a:tblGrid>
                <a:gridCol w="2746440"/>
                <a:gridCol w="2819160"/>
                <a:gridCol w="2968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й граждан РФ. Их интересы и вклад в Ф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. Связь с ВОГ и военная служб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бюджетов и ДД по видам служб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богатые, чьё имущество в РФ надо охранять; 13% +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6d2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рубежом, в т.ч.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ультет МГУ в Женев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С н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&g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и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&gt;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Д безотносительно к видам сл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6d2b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дающие админ. и финанс. ресурс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вилегированных 68 вузах, имеющих В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ВС н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Запа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СЗП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Д, н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зятки в вузах и на В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92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й обеспечен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3b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ругих вузах (600 гос. и 400 негосударст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которые служа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контракту = 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призыву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&l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зятка на освоб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3b6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имущ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 + 34% (соц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оциальный лифт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9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ругих вузах и + в средних Спец. У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льшинство служи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но много и «беглецов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контракту = 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Д по призыву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&l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ЗП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тери на побе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61" name="Прямая со стрелкой 30"/>
          <p:cNvCxnSpPr/>
          <p:nvPr/>
        </p:nvCxnSpPr>
        <p:spPr>
          <a:xfrm flipV="1">
            <a:off x="5292720" y="4221000"/>
            <a:ext cx="575280" cy="6483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2" name="Прямая со стрелкой 32"/>
          <p:cNvCxnSpPr/>
          <p:nvPr/>
        </p:nvCxnSpPr>
        <p:spPr>
          <a:xfrm flipV="1">
            <a:off x="5364000" y="4580640"/>
            <a:ext cx="504000" cy="3610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3" name="Прямая со стрелкой 34"/>
          <p:cNvCxnSpPr/>
          <p:nvPr/>
        </p:nvCxnSpPr>
        <p:spPr>
          <a:xfrm flipV="1">
            <a:off x="5507640" y="5300280"/>
            <a:ext cx="432360" cy="65016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364" name="Прямая со стрелкой 36"/>
          <p:cNvCxnSpPr/>
          <p:nvPr/>
        </p:nvCxnSpPr>
        <p:spPr>
          <a:xfrm flipV="1">
            <a:off x="5508720" y="5732280"/>
            <a:ext cx="358920" cy="2894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365" name="TextBox 7"/>
          <p:cNvSpPr/>
          <p:nvPr/>
        </p:nvSpPr>
        <p:spPr>
          <a:xfrm>
            <a:off x="7786800" y="3571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b9899"/>
                </a:solidFill>
                <a:latin typeface="Georgia"/>
              </a:rPr>
              <a:t>Оценка ущербов для различных социальных слоёв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1280" cy="5767560"/>
          </a:xfrm>
          <a:prstGeom prst="rect">
            <a:avLst/>
          </a:prstGeom>
          <a:noFill/>
          <a:ln w="9360">
            <a:solidFill>
              <a:srgbClr val="e3bc92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1481c"/>
                </a:solidFill>
                <a:latin typeface="Times New Roman"/>
              </a:rPr>
              <a:t>1. Самая богатая часть общества не испытывает ущерб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300" spc="-1" strike="noStrike">
                <a:solidFill>
                  <a:srgbClr val="a96d2b"/>
                </a:solidFill>
                <a:latin typeface="Times New Roman"/>
              </a:rPr>
              <a:t>Ресурсо-обеспеченная часть общества испытывает ущерб от взяток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 поступлении в вузы, на ВК и обучении. Оценка  представлена в таблице ИНДЕМ как коррупция в образова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. Ущерб той части общества, чьи молодые граждане  уклоняются от военной службы, определяе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                    </a:t>
            </a: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криминогенным потенциалом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3 млн (в ПК) – 1,4 (рассылка повесток) = 1,6 мл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Times New Roman"/>
              </a:rPr>
              <a:t>1,4 – 0,7 (призванные) = 0,7 (избежавшие призыв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Расходы: (1,6 + 0,7) млн. чел. * 60 тыс.р.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38 млрд.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4. Ущерб семей в той части общества, чьи молодые граждане проходят службу по призыву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700 тыс. чел.*(19 – 0,5 – 3)тыс.р.*12 = </a:t>
            </a:r>
            <a:r>
              <a:rPr b="1" lang="ru-RU" sz="2300" spc="-1" strike="noStrike">
                <a:solidFill>
                  <a:srgbClr val="a50021"/>
                </a:solidFill>
                <a:latin typeface="Times New Roman"/>
              </a:rPr>
              <a:t>130 млрд. руб./год</a:t>
            </a:r>
            <a:r>
              <a:rPr b="0" lang="ru-RU" sz="23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</a:rPr>
              <a:t>В целом ущербы семей превышают финансовые расходы бюджета, требуемые для перехода на добровольную службу по контракту! Это </a:t>
            </a:r>
            <a:r>
              <a:rPr b="1" lang="en-GB" sz="2300" spc="-1" strike="noStrike">
                <a:solidFill>
                  <a:srgbClr val="002060"/>
                </a:solidFill>
                <a:latin typeface="Times New Roman"/>
              </a:rPr>
              <a:t>&lt; </a:t>
            </a:r>
            <a:r>
              <a:rPr b="1" lang="ru-RU" sz="2300" spc="-1" strike="noStrike">
                <a:solidFill>
                  <a:srgbClr val="002060"/>
                </a:solidFill>
                <a:latin typeface="Times New Roman"/>
              </a:rPr>
              <a:t>100 млрд.руб./го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4000680" y="650088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Было: крах </a:t>
            </a:r>
            <a:r>
              <a:rPr b="1" lang="ru-RU" sz="28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ФЦП-2004-2007!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Ф-Э кризис! Война-2008!</a:t>
            </a:r>
            <a:br>
              <a:rPr sz="2800"/>
            </a:br>
            <a:r>
              <a:rPr b="1" lang="ru-RU" sz="2800" spc="-1" strike="noStrike">
                <a:solidFill>
                  <a:srgbClr val="415b5c"/>
                </a:solidFill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были 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</a:rPr>
              <a:t>ли</a:t>
            </a:r>
            <a:r>
              <a:rPr b="1" lang="ru-RU" sz="30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ственно важные достижения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00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E7F-4C7D-4327-BCFD-AAE31FDBF2B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521000"/>
            <a:ext cx="90360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далось 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д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/ч, укомплектованн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ключитель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тракту: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гранслужба ФСБ!!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ч ПГ в СВ 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кипажи ПЛ - ?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далось разрушить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чне не было службы по призы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р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вень Д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ое врем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ответствовал запрос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инансирование Б/подготовки </a:t>
            </a:r>
            <a:r>
              <a:rPr b="0" lang="ru-RU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/способность!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прояв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ас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/действиях-2008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егии военнослужащим в получении высшего образования в пери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ле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общественности к проблемам комплектования и в/службы, её безопасности, пр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срока службы по призыву: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од </a:t>
            </a:r>
            <a:r>
              <a:rPr b="0" lang="ru-RU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Однако предназначение службы по призыву -- прежнее.</a:t>
            </a:r>
            <a:r>
              <a:rPr b="1" lang="ru-RU" sz="2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Другие виды С-Э ущерба (зарубежные данные - С. Гуриев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 исследованиям, выполненным в Шве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46b86"/>
                </a:solidFill>
                <a:latin typeface="Times New Roman"/>
              </a:rPr>
              <a:t>Отложенное поступление в университет на год (на два года) снижает зарплату в возрасте 40 лет на 21% (на 37%). </a:t>
            </a:r>
            <a:endParaRPr b="0" lang="en-US" sz="2500" spc="-1" strike="noStrike">
              <a:solidFill>
                <a:srgbClr val="646b8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 исследованиям, выполненным в Нидерланд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46b86"/>
                </a:solidFill>
                <a:latin typeface="Times New Roman"/>
              </a:rPr>
              <a:t>В течение всей жизни те, кто отслужил по призыву, зарабатывают в среднем на 5% меньше, чем те, кто не служил</a:t>
            </a:r>
            <a:r>
              <a:rPr b="0" lang="ru-RU" sz="25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646b86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646b86"/>
                </a:solidFill>
                <a:uFillTx/>
                <a:latin typeface="Times New Roman"/>
              </a:rPr>
              <a:t>Примечание</a:t>
            </a:r>
            <a:r>
              <a:rPr b="0" lang="ru-RU" sz="2500" spc="-1" strike="noStrike">
                <a:solidFill>
                  <a:srgbClr val="646b86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Потеря квалификации и карьерного роста специалистами, принудительно отвлечёнными в совершенно иную сферу деятельности, может быть проиллюстрирована на примере гипотетического призыва выпускников военных училищ на решение проблем продовольственной безопасности РФ.     А ведь продовольственная безопасность не менее важна, чем военная!</a:t>
            </a:r>
            <a:endParaRPr b="0" lang="en-US" sz="2400" spc="-1" strike="noStrike">
              <a:solidFill>
                <a:srgbClr val="646b86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4000680" y="642924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Направленность первоочередных действий </a:t>
            </a:r>
            <a:br>
              <a:rPr sz="2600"/>
            </a:b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общества и граждан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Обеспечить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Д 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ЗП для всех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проходит службу в регулярных войсках, в т.ч. по призыву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вать коррупциогенный потенциал призыва! Обеспечить С-Э выравнивание граждан по отношению к военной служ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вести все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егулярные войс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тегорию действительно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стоянной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оевой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готов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 несущих боевое дежур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укомплектование исключительно по контра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менить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едназнач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готовка к службе по контракту и в резерве, в мобресурс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р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ы по призыву -- до 6 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порядочить стимулы для заклю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родления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ов в целях достижения средней продолжи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 на должностях РМКС - 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DAF-3BBF-470D-943B-52FF74B1F8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3786120" y="65008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817-6FCE-4B19-82DF-42350F48FCB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179280" y="0"/>
            <a:ext cx="8964720" cy="67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правленность первоочередных действий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ести текст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20, Концепции-2020, ОНД-2012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, новой ГПВ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овой ФЦ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е с потребностями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а регулярных войск в категорию действительно постоянной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</a:rPr>
              <a:t>боевой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ност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гласовать системы и программы начального (в учебных заведениях), добровольного (в ДОСААФ) и целевого (в учебных воинских частях ВС РФ и других войск) 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я граждан с целью гарантированной их подготовки к защите Отечест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</a:rPr>
              <a:t>Р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зоблачать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рез УПЧ, Общественную палату, Общественный совет при МО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И, научные издания, Интернет…)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попытки ввести руководство РФ и граждан в заблуждение    лицами, которые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Президента РФ </a:t>
            </a: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удрят мозги»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324000" y="3645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62D-E5AA-49F5-A862-52B324ABB35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101520" y="406440"/>
          <a:ext cx="904248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406440"/>
                    <a:ext cx="904248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Скругленный прямоугольник 3"/>
          <p:cNvSpPr/>
          <p:nvPr/>
        </p:nvSpPr>
        <p:spPr>
          <a:xfrm>
            <a:off x="2340000" y="1413000"/>
            <a:ext cx="6408720" cy="9363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акую же «пятёрку» лучших армий мира должны войти ВС РФ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Нет денег? = </a:t>
            </a:r>
            <a:r>
              <a:rPr b="1" lang="ru-RU" sz="2400" spc="-1" strike="noStrike">
                <a:solidFill>
                  <a:srgbClr val="435e40"/>
                </a:solidFill>
                <a:latin typeface="Georgia"/>
              </a:rPr>
              <a:t>Ложь</a:t>
            </a:r>
            <a:r>
              <a:rPr b="0" lang="ru-RU" sz="2400" spc="-1" strike="noStrike">
                <a:solidFill>
                  <a:srgbClr val="435e40"/>
                </a:solidFill>
                <a:latin typeface="Georgia"/>
              </a:rPr>
              <a:t>: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«Проедание» (?) / «Развитие» (?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Весь мир развивается по схеме: около 60 процентов идет на приобретение вооружения, научно-исследовательские и опытно-конструкторские работы, и где-то процентов 30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40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 на денежное довольствие и вопросы, связанные с материальным обеспечением и боевой подготовкой войск.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»</a:t>
            </a:r>
            <a:r>
              <a:rPr b="1" lang="ru-RU" sz="22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Georgia"/>
              </a:rPr>
              <a:t>Ю. Балуевский.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Г 1ноября (№ 245) 2005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актически по докладам ООН №№ А/59/192 и А/60/159 расходы в 2004 г. распределялись т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 flipV="1">
            <a:off x="304920" y="620244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Arial"/>
              </a:rPr>
              <a:t>Российская газета. – 2005. – 1ноября (№ 245). –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6"/>
          <p:cNvGraphicFramePr/>
          <p:nvPr/>
        </p:nvGraphicFramePr>
        <p:xfrm>
          <a:off x="214200" y="3357720"/>
          <a:ext cx="85345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357720"/>
                    <a:ext cx="85345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5"/>
          <p:cNvSpPr/>
          <p:nvPr/>
        </p:nvSpPr>
        <p:spPr>
          <a:xfrm>
            <a:off x="3786120" y="6429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0560" y="189000"/>
            <a:ext cx="889308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Ответственность за сокрытие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  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Georgia"/>
              </a:rPr>
              <a:t>и дезинформацию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ституция РФ. Ст. 41, п. 3: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окрытие должностными лицами фактов и обстоятельст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создающих угрозу для жизни и здоровья людей, влечет за собой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тветственность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 соответствии с Ф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З «О средствах массовой информации». Ст. 38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раждане имеют право на оперативное получение через СМИ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достоверных сведений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 деятельности государственных органов и организаций, общественных объединений, их должностных 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 РФ. Ст. 237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крытие или искажение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событиях, фактах или явлениях, …, если они соверш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цом, занимающим государственную должность РФ, 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казываютс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штрафом в размере от 700 до 1000 МРОТ 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бо лишением свободы на срок до 5 л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лишением права занимать определенные должности или заниматься определенной деятельностью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рок до 3 лет или без таков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Судиться с дезинформаторами и выигрывать суд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1FE-2B1A-4569-A245-ACBE1E4944B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b400"/>
                </a:solidFill>
                <a:latin typeface="Georgia"/>
              </a:rPr>
              <a:t>Мудрые мысли</a:t>
            </a:r>
            <a:r>
              <a:rPr b="1" lang="ru-RU" sz="2500" spc="-1" strike="noStrike">
                <a:solidFill>
                  <a:srgbClr val="7b9899"/>
                </a:solidFill>
                <a:latin typeface="Georgia"/>
              </a:rPr>
              <a:t>. Шарль де Голль </a:t>
            </a:r>
            <a:r>
              <a:rPr b="1" lang="ru-RU" sz="2100" spc="-1" strike="noStrike">
                <a:solidFill>
                  <a:srgbClr val="7b9899"/>
                </a:solidFill>
                <a:latin typeface="Arial Unicode MS"/>
                <a:ea typeface="Arial Unicode MS"/>
              </a:rPr>
              <a:t>:</a:t>
            </a:r>
            <a:r>
              <a:rPr b="1" lang="ru-RU" sz="3300" spc="-1" strike="noStrike">
                <a:solidFill>
                  <a:srgbClr val="7b9899"/>
                </a:solidFill>
                <a:latin typeface="Arial Unicode MS"/>
                <a:ea typeface="Arial Unicode MS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360" y="1856880"/>
            <a:ext cx="88394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Arial Unicode MS"/>
              </a:rPr>
              <a:t>«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  <a:ea typeface="Arial Unicode MS"/>
              </a:rPr>
              <a:t>Над профессиональными частями не должно тяготеть ничего такого, от чего трудно было бы оторваться: привычек, семейных уз, различных интересов</a:t>
            </a: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Arial Unicode MS"/>
              </a:rPr>
              <a:t>»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  <a:ea typeface="Arial Unicode MS"/>
              </a:rPr>
              <a:t>.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Из этого 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следует</a:t>
            </a:r>
            <a:r>
              <a:rPr b="0" lang="ru-RU" sz="2200" spc="-1" strike="noStrike">
                <a:solidFill>
                  <a:srgbClr val="646b86"/>
                </a:solidFill>
                <a:latin typeface="Georgia"/>
                <a:ea typeface="Arial Unicode MS"/>
              </a:rPr>
              <a:t> рекомендация: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6349"/>
                </a:solidFill>
                <a:latin typeface="Times New Roman"/>
                <a:ea typeface="Arial Unicode MS"/>
              </a:rPr>
              <a:t>«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Для прохождения всего цикла 20-летним добровольцам достаточно будет </a:t>
            </a:r>
            <a:r>
              <a:rPr b="1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6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 лет, 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после чего в полном расцвете сил они составят активные кадры для обучения резервов и новобранцев</a:t>
            </a:r>
            <a:r>
              <a:rPr b="0" lang="ru-RU" sz="2200" spc="-1" strike="noStrike">
                <a:solidFill>
                  <a:srgbClr val="d16349"/>
                </a:solidFill>
                <a:latin typeface="Times New Roman"/>
                <a:ea typeface="Arial Unicode MS"/>
              </a:rPr>
              <a:t>»</a:t>
            </a:r>
            <a:r>
              <a:rPr b="0" lang="ru-RU" sz="2200" spc="-1" strike="noStrike">
                <a:solidFill>
                  <a:srgbClr val="d16349"/>
                </a:solidFill>
                <a:latin typeface="Georgia"/>
                <a:ea typeface="Arial Unicode MS"/>
              </a:rPr>
              <a:t>.</a:t>
            </a: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З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а профессиональную армию. Идеи Шарля де Голля и их развитие в </a:t>
            </a:r>
            <a:r>
              <a:rPr b="0" lang="en-US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XX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 веке. </a:t>
            </a:r>
            <a:r>
              <a:rPr b="0" lang="ru-RU" sz="1300" spc="-1" strike="noStrike">
                <a:solidFill>
                  <a:srgbClr val="646b86"/>
                </a:solidFill>
                <a:latin typeface="Georgia"/>
                <a:ea typeface="Arial Unicode MS"/>
              </a:rPr>
              <a:t>–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М.: Военный университет. 1998. </a:t>
            </a:r>
            <a:r>
              <a:rPr b="0" lang="ru-RU" sz="1300" spc="-1" strike="noStrike">
                <a:solidFill>
                  <a:srgbClr val="646b86"/>
                </a:solidFill>
                <a:latin typeface="Georgia"/>
                <a:ea typeface="Arial Unicode MS"/>
              </a:rPr>
              <a:t>–</a:t>
            </a:r>
            <a:r>
              <a:rPr b="0" lang="ru-RU" sz="13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 570с.</a:t>
            </a:r>
            <a:endParaRPr b="0" lang="en-US" sz="1300" spc="-1" strike="noStrike">
              <a:solidFill>
                <a:srgbClr val="646b86"/>
              </a:solidFill>
              <a:latin typeface="Arial"/>
            </a:endParaRPr>
          </a:p>
          <a:p>
            <a:pPr lvl="1" marL="5475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A93C-99A0-4606-80ED-A1EC5EF2A7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b400"/>
                </a:solidFill>
                <a:latin typeface="Georgia"/>
              </a:rPr>
              <a:t>Мудрые мысли</a:t>
            </a:r>
            <a:r>
              <a:rPr b="1" lang="ru-RU" sz="2500" spc="-1" strike="noStrike">
                <a:solidFill>
                  <a:srgbClr val="7b9899"/>
                </a:solidFill>
                <a:latin typeface="Georgia"/>
              </a:rPr>
              <a:t> </a:t>
            </a:r>
            <a:br>
              <a:rPr sz="2500"/>
            </a:b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(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  <a:ea typeface="Times New Roman"/>
              </a:rPr>
              <a:t>из царского манифеста, утверд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ившего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  <a:ea typeface="Times New Roman"/>
              </a:rPr>
              <a:t> Устав о воинской повинности 1 января 1874 года</a:t>
            </a:r>
            <a:r>
              <a:rPr b="0" lang="ru-RU" sz="14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1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3840" y="1471320"/>
            <a:ext cx="86439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«Новейшие события доказали, что сила государства не в одной численности войс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но преимущественно в нравственных и умственных его качествах, достигающих высшего развития лишь тогд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0021"/>
                </a:solidFill>
                <a:latin typeface="Georgia"/>
                <a:ea typeface="Times New Roman"/>
              </a:rPr>
              <a:t>когда дело защиты Отечества становится общим делом народа, когда все, без различия званий и состояний, соединяются на это святое дело»</a:t>
            </a:r>
            <a:r>
              <a:rPr b="0" lang="ru-RU" sz="2700" spc="-1" strike="noStrike">
                <a:solidFill>
                  <a:srgbClr val="a50021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Устав о воинской повинности. Вильна, 1874. с.3-4. (См. также В. Крылов, А. Жарский. Николай </a:t>
            </a:r>
            <a:r>
              <a:rPr b="0" lang="en-US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I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: </a:t>
            </a: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Arial Unicode MS"/>
              </a:rPr>
              <a:t>«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Когда настанет минута воззвать мне к России, она станет та же, как была в 1812 году</a:t>
            </a:r>
            <a:r>
              <a:rPr b="0" lang="ru-RU" sz="1800" spc="-1" strike="noStrike">
                <a:solidFill>
                  <a:srgbClr val="646b86"/>
                </a:solidFill>
                <a:latin typeface="Georgia"/>
                <a:ea typeface="Arial Unicode MS"/>
              </a:rPr>
              <a:t>»</a:t>
            </a:r>
            <a:r>
              <a:rPr b="0" lang="ru-RU" sz="1800" spc="-1" strike="noStrike">
                <a:solidFill>
                  <a:srgbClr val="646b86"/>
                </a:solidFill>
                <a:latin typeface="Arial Unicode MS"/>
                <a:ea typeface="Arial Unicode MS"/>
              </a:rPr>
              <a:t>. Военно-исторический журнал. № 10. 2004. С.19-24).</a:t>
            </a:r>
            <a:endParaRPr b="0" lang="en-US" sz="1800" spc="-1" strike="noStrike">
              <a:solidFill>
                <a:srgbClr val="646b86"/>
              </a:solidFill>
              <a:latin typeface="Arial"/>
            </a:endParaRPr>
          </a:p>
          <a:p>
            <a:pPr lvl="3" marL="109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F7D-D6D4-4822-89A0-FF9B4D5727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37152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15b5c"/>
                </a:solidFill>
                <a:latin typeface="Arial"/>
              </a:rPr>
              <a:t>Явления, дискредитировавшие реформу</a:t>
            </a:r>
            <a:endParaRPr b="0" lang="en-US" sz="29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874-FCF8-479C-9655-AA9F97FF3DC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360" y="1413000"/>
            <a:ext cx="90360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Georgia"/>
              </a:rPr>
              <a:t>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Georgia"/>
              </a:rPr>
              <a:t>У контрактников</a:t>
            </a: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ДД контрактников ниже СЗ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рынок труда?) – везде, кроме Чечни в начале ФЦП.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Факты отъёма ДД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ловия службы и быта не соответствовали стату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а контракта не позволяет отразить в нём права военнослужащего и обязательства перед ним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ринуждение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заключению контракта и выполнению непрофильных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перечислений в пенсионный фо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зкое сокращение количест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050"/>
                </a:solidFill>
                <a:uFillTx/>
                <a:latin typeface="Georgia"/>
              </a:rPr>
              <a:t>         </a:t>
            </a:r>
            <a:r>
              <a:rPr b="0" lang="ru-RU" sz="2400" spc="-1" strike="noStrike" u="sng">
                <a:solidFill>
                  <a:srgbClr val="00b050"/>
                </a:solidFill>
                <a:uFillTx/>
                <a:latin typeface="Georgia"/>
              </a:rPr>
              <a:t>У служащих по призы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довщина, т.к. 2 призыва! Неоправданно жёстки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мена (без внятной необходимости) ряда социально и экономически значимых отсрочек от службы по призы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Коррупция и незаконное использование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4249800" y="1052640"/>
            <a:ext cx="609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D707-7A32-4BC1-BAE4-E893171095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Динамика основных рынков коррупции, млн.</a:t>
            </a:r>
            <a:r>
              <a:rPr b="1" lang="en-US" sz="2600" spc="-1" strike="noStrike">
                <a:solidFill>
                  <a:srgbClr val="415b5c"/>
                </a:solidFill>
                <a:latin typeface="Arial"/>
              </a:rPr>
              <a:t>US$</a:t>
            </a:r>
            <a:br>
              <a:rPr sz="2600"/>
            </a:br>
            <a:r>
              <a:rPr b="0" lang="en-US" sz="2000" spc="-1" strike="noStrike">
                <a:solidFill>
                  <a:srgbClr val="415b5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415b5c"/>
                </a:solidFill>
                <a:latin typeface="Arial"/>
              </a:rPr>
              <a:t>Сведения от Г. Сатарова – </a:t>
            </a:r>
            <a:r>
              <a:rPr b="0" lang="en-US" sz="2000" spc="-1" strike="noStrike">
                <a:solidFill>
                  <a:srgbClr val="415b5c"/>
                </a:solidFill>
                <a:latin typeface="Arial"/>
              </a:rPr>
              <a:t>http://www.indem.ru)</a:t>
            </a:r>
            <a:endParaRPr b="0" lang="en-US" sz="20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14200" y="1601640"/>
          <a:ext cx="8701200" cy="4359600"/>
        </p:xfrm>
        <a:graphic>
          <a:graphicData uri="http://schemas.openxmlformats.org/drawingml/2006/table">
            <a:tbl>
              <a:tblPr/>
              <a:tblGrid>
                <a:gridCol w="714600"/>
                <a:gridCol w="5262480"/>
                <a:gridCol w="1361880"/>
                <a:gridCol w="1362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ынок корруп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6b8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, Вузы (в т.ч. связанные с отсрочк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Призыв на военную служб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5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ость на рынке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бретение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ж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ж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и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инспе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67"/>
          <p:cNvSpPr/>
          <p:nvPr/>
        </p:nvSpPr>
        <p:spPr>
          <a:xfrm>
            <a:off x="0" y="592920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концепции и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лане борьбы с коррупцией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п.3 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«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быт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»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solidFill>
            <a:srgbClr val="d9d9d9"/>
          </a:solidFill>
          <a:ln w="9360">
            <a:solidFill>
              <a:srgbClr val="71481c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d1634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е боевые соединения должны быть переведены в категорию постоянной готовности».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оеспособ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d1634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организационно-штатную структуру и систему управ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систему подготовки кад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е Образование + Военная Нау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«</a:t>
            </a:r>
            <a:r>
              <a:rPr b="1" lang="ru-RU" sz="2200" spc="-1" strike="noStrike">
                <a:solidFill>
                  <a:srgbClr val="a9432b"/>
                </a:solidFill>
                <a:latin typeface="Times New Roman"/>
                <a:ea typeface="Times New Roman"/>
              </a:rPr>
              <a:t>Оснастить армию принципиально новыми       высокотехнологичными образцами вооружен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 военно-технической политики (ВТП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Улучшить социальное самочувствие военнослужащих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тегия С-Э 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 Реформа военно-кадровой политики (ВКП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??? Приоритеты:   </a:t>
            </a:r>
            <a:r>
              <a:rPr b="0" lang="ru-RU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ТП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КП ???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СНБ – 2020 : «Безопасность через развитие»!?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415b5c"/>
                </a:solidFill>
                <a:uFillTx/>
                <a:latin typeface="Arial"/>
              </a:rPr>
              <a:t>Военные</a:t>
            </a: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 задачи нового этапа военной реформы – </a:t>
            </a:r>
            <a:br>
              <a:rPr sz="2600"/>
            </a:br>
            <a:r>
              <a:rPr b="1" lang="ru-RU" sz="2600" spc="-1" strike="noStrike">
                <a:solidFill>
                  <a:srgbClr val="415b5c"/>
                </a:solidFill>
                <a:latin typeface="Arial"/>
              </a:rPr>
              <a:t>перехода к «новому облику» ВС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11" name="Номер слайда 2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Двойная стрелка влево/вправо 4"/>
          <p:cNvSpPr/>
          <p:nvPr/>
        </p:nvSpPr>
        <p:spPr>
          <a:xfrm>
            <a:off x="3780000" y="5516640"/>
            <a:ext cx="72072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70c0"/>
                </a:solidFill>
                <a:uFillTx/>
                <a:latin typeface="Georgia"/>
              </a:rPr>
              <a:t>Социально-экономические</a:t>
            </a:r>
            <a:r>
              <a:rPr b="1" lang="ru-RU" sz="2600" spc="-1" strike="noStrike">
                <a:solidFill>
                  <a:srgbClr val="0070c0"/>
                </a:solidFill>
                <a:latin typeface="Georgia"/>
              </a:rPr>
              <a:t>  аспекты</a:t>
            </a:r>
            <a:r>
              <a:rPr b="1" lang="ru-RU" sz="2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a50021"/>
                </a:solidFill>
                <a:latin typeface="Georgia"/>
              </a:rPr>
              <a:t>«нового облика»</a:t>
            </a:r>
            <a:r>
              <a:rPr b="0" lang="ru-RU" sz="2600" spc="-1" strike="noStrike">
                <a:solidFill>
                  <a:srgbClr val="7b9899"/>
                </a:solidFill>
                <a:latin typeface="Georgia"/>
              </a:rPr>
              <a:t> военной организации государства (ВОГ)</a:t>
            </a:r>
            <a:endParaRPr b="0" lang="en-US" sz="26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560" y="1341360"/>
            <a:ext cx="8713800" cy="5516640"/>
          </a:xfrm>
          <a:prstGeom prst="rect">
            <a:avLst/>
          </a:prstGeom>
          <a:solidFill>
            <a:srgbClr val="d9d9d9"/>
          </a:solidFill>
          <a:ln w="9360">
            <a:solidFill>
              <a:srgbClr val="71481c"/>
            </a:solidFill>
            <a:miter/>
          </a:ln>
        </p:spPr>
        <p:txBody>
          <a:bodyPr anchor="t">
            <a:normAutofit/>
          </a:bodyPr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Необходимость учё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интересов, потребностей и бюдж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х социальных слоёв общ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криминогенности и криминальных издерже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влияния военной реформы на все сектора народнохозяйственной эконом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Неправомочность заведомой приоритетност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есов ВОГ по сравнению с другими при ограниченных ресурсах (людских, финансовых и т.д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Информированность/дезинформированность граждан как  морально-политический факто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Повышенное внимание к ВК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                                              </a:t>
            </a:r>
            <a:r>
              <a:rPr b="1" lang="ru-RU" sz="2600" spc="-1" strike="noStrike">
                <a:solidFill>
                  <a:srgbClr val="71481c"/>
                </a:solidFill>
                <a:latin typeface="Arial"/>
              </a:rPr>
              <a:t>и её В-Э эффективнос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D0FF-EA2C-4EC5-B428-A4D4AF15B1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Обсуждаемые параметры ВКП 2008 – 2016 (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рытость?</a:t>
            </a:r>
            <a:r>
              <a:rPr b="1" lang="ru-RU" sz="2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85840" y="1643040"/>
          <a:ext cx="8615160" cy="4538520"/>
        </p:xfrm>
        <a:graphic>
          <a:graphicData uri="http://schemas.openxmlformats.org/drawingml/2006/table">
            <a:tbl>
              <a:tblPr/>
              <a:tblGrid>
                <a:gridCol w="2628720"/>
                <a:gridCol w="3514680"/>
                <a:gridCol w="247176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34 млн.ч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о=35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А=20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енность ВС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млн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о=150; ЦА=8,5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Выс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4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тар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Млад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Прапорщики, Мичм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в ВС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6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 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ержанты – К!!!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жанты –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71284 (ФЦП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 0 к 201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4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Солдаты (матросы) – 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даты (матросы) - П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Курсанты (слушател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 70 000--2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?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 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 4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Номер слайда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320-7CDB-422D-8FEE-09D9ABD815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9E9-8271-4A56-8C1E-F6AF7DB8B67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28760" y="285840"/>
            <a:ext cx="814392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Arial"/>
              </a:rPr>
              <a:t>Схема анализа военно-кадровой политики РФ 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347840" y="1066680"/>
            <a:ext cx="59086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ш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офиц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ладш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371600" y="5181480"/>
            <a:ext cx="5557680" cy="68580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1447920" y="6019920"/>
            <a:ext cx="5597280" cy="30456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Юноши (девушки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 1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326360" y="6019920"/>
            <a:ext cx="158904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850000" y="5562720"/>
            <a:ext cx="105552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 – до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619280" y="5157720"/>
            <a:ext cx="4641840" cy="33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МР1 (</a:t>
            </a: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&lt; 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076720" y="5562720"/>
            <a:ext cx="773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 flipH="1" flipV="1">
            <a:off x="4442760" y="5562720"/>
            <a:ext cx="633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347840" y="5486400"/>
            <a:ext cx="30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К (18 –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12"/>
          <p:cNvCxnSpPr>
            <a:stCxn id="225" idx="1"/>
            <a:endCxn id="224" idx="3"/>
          </p:cNvCxnSpPr>
          <p:nvPr/>
        </p:nvCxnSpPr>
        <p:spPr>
          <a:xfrm flipH="1">
            <a:off x="7044480" y="6171840"/>
            <a:ext cx="2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13"/>
          <p:cNvSpPr/>
          <p:nvPr/>
        </p:nvSpPr>
        <p:spPr>
          <a:xfrm>
            <a:off x="6905520" y="5181480"/>
            <a:ext cx="200988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он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342120" y="5181480"/>
            <a:ext cx="9144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 – до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250920" y="1981080"/>
            <a:ext cx="95724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ж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ск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В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К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68 вуз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419120" y="4343400"/>
            <a:ext cx="1335240" cy="609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по призы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1419120" y="1981080"/>
            <a:ext cx="105408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фицер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2543040" y="1981080"/>
            <a:ext cx="10558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ы м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2543040" y="2060640"/>
            <a:ext cx="105588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порщ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2543040" y="1989000"/>
            <a:ext cx="1055880" cy="1516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е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жан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чман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3668760" y="3429000"/>
            <a:ext cx="11318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256520" y="1066680"/>
            <a:ext cx="16588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оне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4648320" y="1828800"/>
            <a:ext cx="19810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льнейшие контракт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МКС,прапорщиков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чм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нтер-офицеро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1419120" y="4581360"/>
            <a:ext cx="1208160" cy="3715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ые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834240" y="1600200"/>
            <a:ext cx="4921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2895480" y="388620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4302000" y="2971800"/>
            <a:ext cx="12607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акт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6905520" y="1295280"/>
            <a:ext cx="5619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7045200" y="1066680"/>
            <a:ext cx="5637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0"/>
          <p:cNvCxnSpPr>
            <a:stCxn id="245" idx="3"/>
            <a:endCxn id="240" idx="2"/>
          </p:cNvCxnSpPr>
          <p:nvPr/>
        </p:nvCxnSpPr>
        <p:spPr>
          <a:xfrm flipV="1">
            <a:off x="4038120" y="3809520"/>
            <a:ext cx="197640" cy="26712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0" name="AutoShape 31"/>
          <p:cNvCxnSpPr>
            <a:stCxn id="240" idx="3"/>
            <a:endCxn id="246" idx="2"/>
          </p:cNvCxnSpPr>
          <p:nvPr/>
        </p:nvCxnSpPr>
        <p:spPr>
          <a:xfrm flipV="1">
            <a:off x="4800600" y="3352320"/>
            <a:ext cx="132480" cy="26712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1" name="AutoShape 32"/>
          <p:cNvCxnSpPr>
            <a:stCxn id="246" idx="3"/>
            <a:endCxn id="242" idx="2"/>
          </p:cNvCxnSpPr>
          <p:nvPr/>
        </p:nvCxnSpPr>
        <p:spPr>
          <a:xfrm flipV="1">
            <a:off x="5562360" y="2742840"/>
            <a:ext cx="76680" cy="41976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2" name="AutoShape 33"/>
          <p:cNvCxnSpPr>
            <a:stCxn id="235" idx="0"/>
            <a:endCxn id="245" idx="1"/>
          </p:cNvCxnSpPr>
          <p:nvPr/>
        </p:nvCxnSpPr>
        <p:spPr>
          <a:xfrm flipH="1" flipV="1" rot="5400000">
            <a:off x="2367360" y="3796200"/>
            <a:ext cx="248400" cy="80856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53" name="AutoShape 34"/>
          <p:cNvCxnSpPr>
            <a:stCxn id="235" idx="0"/>
            <a:endCxn id="236" idx="2"/>
          </p:cNvCxnSpPr>
          <p:nvPr/>
        </p:nvCxnSpPr>
        <p:spPr>
          <a:xfrm flipV="1" rot="16200000">
            <a:off x="1758960" y="3995640"/>
            <a:ext cx="515160" cy="142200"/>
          </a:xfrm>
          <a:prstGeom prst="bentConnector3">
            <a:avLst>
              <a:gd name="adj1" fmla="val 48111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254" name="Line 35"/>
          <p:cNvSpPr/>
          <p:nvPr/>
        </p:nvSpPr>
        <p:spPr>
          <a:xfrm>
            <a:off x="28195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36"/>
          <p:cNvCxnSpPr>
            <a:stCxn id="235" idx="0"/>
            <a:endCxn id="254" idx="0"/>
          </p:cNvCxnSpPr>
          <p:nvPr/>
        </p:nvCxnSpPr>
        <p:spPr>
          <a:xfrm flipH="1" rot="16200000">
            <a:off x="2405520" y="4005000"/>
            <a:ext cx="96120" cy="732600"/>
          </a:xfrm>
          <a:prstGeom prst="bentConnector3">
            <a:avLst>
              <a:gd name="adj1" fmla="val -12481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6" name="Line 37"/>
          <p:cNvSpPr/>
          <p:nvPr/>
        </p:nvSpPr>
        <p:spPr>
          <a:xfrm flipV="1">
            <a:off x="3457440" y="426708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38"/>
          <p:cNvCxnSpPr>
            <a:stCxn id="239" idx="2"/>
            <a:endCxn id="240" idx="1"/>
          </p:cNvCxnSpPr>
          <p:nvPr/>
        </p:nvCxnSpPr>
        <p:spPr>
          <a:xfrm flipH="1" rot="16200000">
            <a:off x="3313080" y="3263400"/>
            <a:ext cx="114840" cy="597600"/>
          </a:xfrm>
          <a:prstGeom prst="bentConnector2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</p:cxnSp>
      <p:sp>
        <p:nvSpPr>
          <p:cNvPr id="258" name="Line 39"/>
          <p:cNvSpPr/>
          <p:nvPr/>
        </p:nvSpPr>
        <p:spPr>
          <a:xfrm flipH="1">
            <a:off x="4091040" y="304812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0"/>
          <p:cNvSpPr/>
          <p:nvPr/>
        </p:nvSpPr>
        <p:spPr>
          <a:xfrm flipV="1">
            <a:off x="41623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41"/>
          <p:cNvCxnSpPr>
            <a:stCxn id="245" idx="3"/>
            <a:endCxn id="259" idx="0"/>
          </p:cNvCxnSpPr>
          <p:nvPr/>
        </p:nvCxnSpPr>
        <p:spPr>
          <a:xfrm>
            <a:off x="4038480" y="4076280"/>
            <a:ext cx="12456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Line 42"/>
          <p:cNvSpPr/>
          <p:nvPr/>
        </p:nvSpPr>
        <p:spPr>
          <a:xfrm flipV="1">
            <a:off x="48769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43"/>
          <p:cNvCxnSpPr>
            <a:stCxn id="261" idx="0"/>
            <a:endCxn id="240" idx="3"/>
          </p:cNvCxnSpPr>
          <p:nvPr/>
        </p:nvCxnSpPr>
        <p:spPr>
          <a:xfrm flipV="1" rot="16200000">
            <a:off x="4209840" y="4209480"/>
            <a:ext cx="1258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" name="Line 44"/>
          <p:cNvSpPr/>
          <p:nvPr/>
        </p:nvSpPr>
        <p:spPr>
          <a:xfrm flipV="1">
            <a:off x="5715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45"/>
          <p:cNvCxnSpPr>
            <a:stCxn id="246" idx="3"/>
          </p:cNvCxnSpPr>
          <p:nvPr/>
        </p:nvCxnSpPr>
        <p:spPr>
          <a:xfrm>
            <a:off x="5562360" y="3161880"/>
            <a:ext cx="153000" cy="163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AutoShape 46"/>
          <p:cNvCxnSpPr>
            <a:stCxn id="242" idx="3"/>
            <a:endCxn id="244" idx="2"/>
          </p:cNvCxnSpPr>
          <p:nvPr/>
        </p:nvCxnSpPr>
        <p:spPr>
          <a:xfrm flipV="1">
            <a:off x="6629400" y="1904760"/>
            <a:ext cx="451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Line 47"/>
          <p:cNvSpPr/>
          <p:nvPr/>
        </p:nvSpPr>
        <p:spPr>
          <a:xfrm flipV="1">
            <a:off x="3036960" y="17521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8"/>
          <p:cNvSpPr/>
          <p:nvPr/>
        </p:nvSpPr>
        <p:spPr>
          <a:xfrm flipV="1">
            <a:off x="2050920" y="17521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1700280" y="1752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0"/>
          <p:cNvSpPr/>
          <p:nvPr/>
        </p:nvSpPr>
        <p:spPr>
          <a:xfrm flipV="1">
            <a:off x="1488960" y="502884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 flipV="1">
            <a:off x="1628640" y="38095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2"/>
          <p:cNvSpPr/>
          <p:nvPr/>
        </p:nvSpPr>
        <p:spPr>
          <a:xfrm flipV="1">
            <a:off x="1278000" y="40384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1208160" y="342900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4"/>
          <p:cNvSpPr/>
          <p:nvPr/>
        </p:nvSpPr>
        <p:spPr>
          <a:xfrm>
            <a:off x="3598920" y="2590920"/>
            <a:ext cx="1049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0666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1558800" y="533412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57"/>
          <p:cNvCxnSpPr/>
          <p:nvPr/>
        </p:nvCxnSpPr>
        <p:spPr>
          <a:xfrm flipH="1" rot="16200000">
            <a:off x="1218960" y="4952520"/>
            <a:ext cx="2293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7" name="Line 59"/>
          <p:cNvSpPr/>
          <p:nvPr/>
        </p:nvSpPr>
        <p:spPr>
          <a:xfrm>
            <a:off x="198108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AutoShape 60"/>
          <p:cNvCxnSpPr>
            <a:endCxn id="277" idx="0"/>
          </p:cNvCxnSpPr>
          <p:nvPr/>
        </p:nvCxnSpPr>
        <p:spPr>
          <a:xfrm>
            <a:off x="1701720" y="5466960"/>
            <a:ext cx="280080" cy="19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AutoShape 61"/>
          <p:cNvCxnSpPr>
            <a:stCxn id="275" idx="0"/>
            <a:endCxn id="277" idx="0"/>
          </p:cNvCxnSpPr>
          <p:nvPr/>
        </p:nvCxnSpPr>
        <p:spPr>
          <a:xfrm>
            <a:off x="1839960" y="5333760"/>
            <a:ext cx="141840" cy="108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sp>
        <p:nvSpPr>
          <p:cNvPr id="280" name="Line 62"/>
          <p:cNvSpPr/>
          <p:nvPr/>
        </p:nvSpPr>
        <p:spPr>
          <a:xfrm>
            <a:off x="1208160" y="4495680"/>
            <a:ext cx="210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3"/>
          <p:cNvSpPr/>
          <p:nvPr/>
        </p:nvSpPr>
        <p:spPr>
          <a:xfrm flipV="1">
            <a:off x="1628640" y="49525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64"/>
          <p:cNvSpPr/>
          <p:nvPr/>
        </p:nvSpPr>
        <p:spPr>
          <a:xfrm flipV="1">
            <a:off x="2403360" y="4952880"/>
            <a:ext cx="0" cy="152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5"/>
          <p:cNvSpPr/>
          <p:nvPr/>
        </p:nvSpPr>
        <p:spPr>
          <a:xfrm flipH="1">
            <a:off x="1071360" y="1643040"/>
            <a:ext cx="285480" cy="71640"/>
          </a:xfrm>
          <a:prstGeom prst="line">
            <a:avLst/>
          </a:prstGeom>
          <a:ln w="38160">
            <a:solidFill>
              <a:srgbClr val="008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66"/>
          <p:cNvSpPr/>
          <p:nvPr/>
        </p:nvSpPr>
        <p:spPr>
          <a:xfrm flipV="1">
            <a:off x="26845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67"/>
          <p:cNvSpPr/>
          <p:nvPr/>
        </p:nvSpPr>
        <p:spPr>
          <a:xfrm flipV="1">
            <a:off x="472428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8"/>
          <p:cNvSpPr/>
          <p:nvPr/>
        </p:nvSpPr>
        <p:spPr>
          <a:xfrm flipV="1">
            <a:off x="5427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9"/>
          <p:cNvSpPr/>
          <p:nvPr/>
        </p:nvSpPr>
        <p:spPr>
          <a:xfrm flipV="1">
            <a:off x="63421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70"/>
          <p:cNvCxnSpPr>
            <a:stCxn id="241" idx="2"/>
          </p:cNvCxnSpPr>
          <p:nvPr/>
        </p:nvCxnSpPr>
        <p:spPr>
          <a:xfrm rot="5400000">
            <a:off x="5802480" y="2897640"/>
            <a:ext cx="3277080" cy="1291320"/>
          </a:xfrm>
          <a:prstGeom prst="bentConnector3">
            <a:avLst>
              <a:gd name="adj1" fmla="val 198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Text Box 71"/>
          <p:cNvSpPr/>
          <p:nvPr/>
        </p:nvSpPr>
        <p:spPr>
          <a:xfrm>
            <a:off x="6553440" y="3143160"/>
            <a:ext cx="109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72"/>
          <p:cNvSpPr/>
          <p:nvPr/>
        </p:nvSpPr>
        <p:spPr>
          <a:xfrm flipV="1">
            <a:off x="6172200" y="2743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AutoShape 73"/>
          <p:cNvCxnSpPr/>
          <p:nvPr/>
        </p:nvCxnSpPr>
        <p:spPr>
          <a:xfrm flipV="1">
            <a:off x="6171840" y="2818800"/>
            <a:ext cx="1080" cy="236268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sp>
        <p:nvSpPr>
          <p:cNvPr id="292" name="Line 74"/>
          <p:cNvSpPr/>
          <p:nvPr/>
        </p:nvSpPr>
        <p:spPr>
          <a:xfrm flipH="1">
            <a:off x="3598920" y="2743200"/>
            <a:ext cx="844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9"/>
          <p:cNvSpPr/>
          <p:nvPr/>
        </p:nvSpPr>
        <p:spPr>
          <a:xfrm flipH="1">
            <a:off x="3598920" y="2895480"/>
            <a:ext cx="280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80"/>
          <p:cNvCxnSpPr/>
          <p:nvPr/>
        </p:nvCxnSpPr>
        <p:spPr>
          <a:xfrm flipH="1" rot="16200000">
            <a:off x="3953520" y="2827800"/>
            <a:ext cx="286560" cy="421560"/>
          </a:xfrm>
          <a:prstGeom prst="bentConnector4">
            <a:avLst>
              <a:gd name="adj1" fmla="val 96100"/>
              <a:gd name="adj2" fmla="val 49743"/>
            </a:avLst>
          </a:prstGeom>
          <a:ln w="3816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295" name="Line 81"/>
          <p:cNvSpPr/>
          <p:nvPr/>
        </p:nvSpPr>
        <p:spPr>
          <a:xfrm flipH="1">
            <a:off x="1278000" y="5029200"/>
            <a:ext cx="210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2"/>
          <p:cNvSpPr/>
          <p:nvPr/>
        </p:nvSpPr>
        <p:spPr>
          <a:xfrm>
            <a:off x="1278000" y="4038480"/>
            <a:ext cx="350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4"/>
          <p:cNvSpPr/>
          <p:nvPr/>
        </p:nvSpPr>
        <p:spPr>
          <a:xfrm>
            <a:off x="4269600" y="38098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5"/>
          <p:cNvSpPr/>
          <p:nvPr/>
        </p:nvSpPr>
        <p:spPr>
          <a:xfrm>
            <a:off x="4955400" y="33526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6"/>
          <p:cNvSpPr/>
          <p:nvPr/>
        </p:nvSpPr>
        <p:spPr>
          <a:xfrm>
            <a:off x="5641200" y="2895480"/>
            <a:ext cx="32544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7"/>
          <p:cNvSpPr/>
          <p:nvPr/>
        </p:nvSpPr>
        <p:spPr>
          <a:xfrm flipV="1">
            <a:off x="2965320" y="365724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8"/>
          <p:cNvSpPr/>
          <p:nvPr/>
        </p:nvSpPr>
        <p:spPr>
          <a:xfrm flipH="1">
            <a:off x="2472840" y="3657600"/>
            <a:ext cx="492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9"/>
          <p:cNvSpPr/>
          <p:nvPr/>
        </p:nvSpPr>
        <p:spPr>
          <a:xfrm flipV="1">
            <a:off x="1000080" y="1714320"/>
            <a:ext cx="46080" cy="28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0"/>
          <p:cNvSpPr/>
          <p:nvPr/>
        </p:nvSpPr>
        <p:spPr>
          <a:xfrm flipV="1">
            <a:off x="1628640" y="4941360"/>
            <a:ext cx="1143000" cy="163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2"/>
          <p:cNvSpPr/>
          <p:nvPr/>
        </p:nvSpPr>
        <p:spPr>
          <a:xfrm>
            <a:off x="3598920" y="2133720"/>
            <a:ext cx="4921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3"/>
          <p:cNvSpPr/>
          <p:nvPr/>
        </p:nvSpPr>
        <p:spPr>
          <a:xfrm flipV="1">
            <a:off x="4091040" y="213372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4"/>
          <p:cNvSpPr/>
          <p:nvPr/>
        </p:nvSpPr>
        <p:spPr>
          <a:xfrm flipH="1">
            <a:off x="4443480" y="2895480"/>
            <a:ext cx="172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5"/>
          <p:cNvSpPr/>
          <p:nvPr/>
        </p:nvSpPr>
        <p:spPr>
          <a:xfrm flipV="1">
            <a:off x="4443480" y="274284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6"/>
          <p:cNvSpPr/>
          <p:nvPr/>
        </p:nvSpPr>
        <p:spPr>
          <a:xfrm>
            <a:off x="250920" y="449568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учеб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тсро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97"/>
          <p:cNvSpPr/>
          <p:nvPr/>
        </p:nvSpPr>
        <p:spPr>
          <a:xfrm>
            <a:off x="2333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98"/>
          <p:cNvCxnSpPr>
            <a:stCxn id="309" idx="0"/>
            <a:endCxn id="270" idx="0"/>
          </p:cNvCxnSpPr>
          <p:nvPr/>
        </p:nvCxnSpPr>
        <p:spPr>
          <a:xfrm flipV="1" rot="16200000">
            <a:off x="1971360" y="3447360"/>
            <a:ext cx="19800" cy="705240"/>
          </a:xfrm>
          <a:prstGeom prst="bentConnector3">
            <a:avLst>
              <a:gd name="adj1" fmla="val 1124074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</p:cxnSp>
      <p:cxnSp>
        <p:nvCxnSpPr>
          <p:cNvPr id="311" name="AutoShape 99"/>
          <p:cNvCxnSpPr/>
          <p:nvPr/>
        </p:nvCxnSpPr>
        <p:spPr>
          <a:xfrm>
            <a:off x="837720" y="4952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2" name="Line 100"/>
          <p:cNvSpPr/>
          <p:nvPr/>
        </p:nvSpPr>
        <p:spPr>
          <a:xfrm>
            <a:off x="838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01"/>
          <p:cNvSpPr/>
          <p:nvPr/>
        </p:nvSpPr>
        <p:spPr>
          <a:xfrm flipH="1">
            <a:off x="83808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2"/>
          <p:cNvSpPr/>
          <p:nvPr/>
        </p:nvSpPr>
        <p:spPr>
          <a:xfrm>
            <a:off x="250920" y="5867280"/>
            <a:ext cx="104436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</a:rPr>
              <a:t>соци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</a:rPr>
              <a:t>отсроч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3"/>
          <p:cNvSpPr/>
          <p:nvPr/>
        </p:nvSpPr>
        <p:spPr>
          <a:xfrm flipV="1">
            <a:off x="99072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04"/>
          <p:cNvSpPr/>
          <p:nvPr/>
        </p:nvSpPr>
        <p:spPr>
          <a:xfrm flipH="1">
            <a:off x="9907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05"/>
          <p:cNvSpPr/>
          <p:nvPr/>
        </p:nvSpPr>
        <p:spPr>
          <a:xfrm>
            <a:off x="83808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6"/>
          <p:cNvSpPr/>
          <p:nvPr/>
        </p:nvSpPr>
        <p:spPr>
          <a:xfrm>
            <a:off x="8458200" y="1905120"/>
            <a:ext cx="0" cy="3276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07"/>
          <p:cNvSpPr/>
          <p:nvPr/>
        </p:nvSpPr>
        <p:spPr>
          <a:xfrm>
            <a:off x="2362320" y="114300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Стрелка влево 103"/>
          <p:cNvSpPr/>
          <p:nvPr/>
        </p:nvSpPr>
        <p:spPr>
          <a:xfrm>
            <a:off x="8388360" y="5950080"/>
            <a:ext cx="755640" cy="43164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Стрелка вправо 104"/>
          <p:cNvSpPr/>
          <p:nvPr/>
        </p:nvSpPr>
        <p:spPr>
          <a:xfrm>
            <a:off x="8532720" y="3500280"/>
            <a:ext cx="611280" cy="4860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71481c"/>
          </a:solidFill>
          <a:ln w="1152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Стрелка вверх 105"/>
          <p:cNvSpPr/>
          <p:nvPr/>
        </p:nvSpPr>
        <p:spPr>
          <a:xfrm flipH="1">
            <a:off x="4284720" y="5300640"/>
            <a:ext cx="216000" cy="28908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E67-F4E2-460E-BB88-4F5ED0C09F5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5b5c"/>
                </a:solidFill>
                <a:latin typeface="Georgia"/>
              </a:rPr>
              <a:t>Динамика численности военнослужащих РМКС в  военной организации РФ – </a:t>
            </a:r>
            <a:r>
              <a:rPr b="0" lang="en-US" sz="2400" spc="-1" strike="noStrike">
                <a:solidFill>
                  <a:srgbClr val="415b5c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415b5c"/>
                </a:solidFill>
                <a:latin typeface="Georgia"/>
              </a:rPr>
              <a:t>тыс. чел.</a:t>
            </a:r>
            <a:r>
              <a:rPr b="0" lang="en-US" sz="2400" spc="-1" strike="noStrike">
                <a:solidFill>
                  <a:srgbClr val="415b5c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7b9899"/>
              </a:solidFill>
              <a:latin typeface="Arial"/>
            </a:endParaRPr>
          </a:p>
        </p:txBody>
      </p:sp>
      <p:pic>
        <p:nvPicPr>
          <p:cNvPr id="325" name="Object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44492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3" descr=""/>
          <p:cNvPicPr/>
          <p:nvPr/>
        </p:nvPicPr>
        <p:blipFill>
          <a:blip r:embed="rId2"/>
          <a:stretch/>
        </p:blipFill>
        <p:spPr>
          <a:xfrm>
            <a:off x="406440" y="1341360"/>
            <a:ext cx="8737560" cy="4826160"/>
          </a:xfrm>
          <a:prstGeom prst="rect">
            <a:avLst/>
          </a:prstGeom>
          <a:ln w="0">
            <a:noFill/>
          </a:ln>
        </p:spPr>
      </p:pic>
      <p:sp>
        <p:nvSpPr>
          <p:cNvPr id="327" name="Скругленный прямоугольник 5"/>
          <p:cNvSpPr/>
          <p:nvPr/>
        </p:nvSpPr>
        <p:spPr>
          <a:xfrm>
            <a:off x="5651640" y="1916280"/>
            <a:ext cx="3241440" cy="64908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еспокоенность общества неосуществимостью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1187280" y="1413000"/>
            <a:ext cx="4897440" cy="431640"/>
          </a:xfrm>
          <a:prstGeom prst="rect">
            <a:avLst/>
          </a:prstGeom>
          <a:solidFill>
            <a:srgbClr val="a96d2b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зыв в регулярные войска на 2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732720" y="1413000"/>
            <a:ext cx="2160360" cy="431640"/>
          </a:xfrm>
          <a:prstGeom prst="rect">
            <a:avLst/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зыв на 1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Стрелка вправо 8"/>
          <p:cNvSpPr/>
          <p:nvPr/>
        </p:nvSpPr>
        <p:spPr>
          <a:xfrm>
            <a:off x="6084720" y="1484280"/>
            <a:ext cx="648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7:25:49Z</dcterms:created>
  <dc:creator>Nikolay Kardashevsky</dc:creator>
  <dc:description/>
  <dc:language>en-US</dc:language>
  <cp:lastModifiedBy>ZooM</cp:lastModifiedBy>
  <dcterms:modified xsi:type="dcterms:W3CDTF">2013-11-07T18:26:43Z</dcterms:modified>
  <cp:revision>224</cp:revision>
  <dc:subject/>
  <dc:title>Национальная безопасность России</dc:title>
</cp:coreProperties>
</file>