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9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DB6-42A6-440B-A8EC-CD8F8EFA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9FA-1161-4133-BE12-9AAAAB64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30B-6BF6-4811-9E51-EC6A8046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B01-25F4-401A-9FF2-B006564F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639-658B-443C-A538-D91DC6D6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76F-ED01-4B7B-ABD4-6896398F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CA2-CF8F-44BE-A11E-40649F3D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464-1A4D-4436-9B37-91640530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F7D-B73E-4D72-99DE-8C492995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35C-1D9B-47DC-9DB8-A6E6C30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41A-5E87-4957-9D37-228F78FF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DD3-C0E9-46B1-A98C-CF92254C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9D1E-EC79-452C-AEA9-A58DA4E4D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javascript:%20void(0);" TargetMode="External"/><Relationship Id="rId4" Type="http://schemas.openxmlformats.org/officeDocument/2006/relationships/image" Target="../media/image19.jpeg"/><Relationship Id="rId5" Type="http://schemas.openxmlformats.org/officeDocument/2006/relationships/hyperlink" Target="javascript:%20void(0);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35308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Заповедники</a:t>
            </a:r>
            <a:br>
              <a:rPr sz="9600"/>
            </a:b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 России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778280"/>
            <a:ext cx="2771640" cy="2079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59640" y="4818240"/>
            <a:ext cx="2484360" cy="2039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0" r="0" b="2984"/>
          <a:stretch/>
        </p:blipFill>
        <p:spPr>
          <a:xfrm>
            <a:off x="3564000" y="0"/>
            <a:ext cx="2663640" cy="1916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2484360" cy="2449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627280" cy="2421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622920" y="155736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516720" y="4221000"/>
            <a:ext cx="2627280" cy="2637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08000" y="907920"/>
            <a:ext cx="6193080" cy="28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снован в 1976 году, площадь 795 тысяч га.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15920"/>
            <a:ext cx="7777080" cy="711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9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aa9df5"/>
                </a:solidFill>
                <a:latin typeface="Georgia"/>
              </a:rPr>
              <a:t>Заповедник на острове Врангеля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aa9df5"/>
              </a:solidFill>
              <a:latin typeface="Georgia"/>
              <a:ea typeface="Georgia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628640"/>
            <a:ext cx="414036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итают песец, белый медвед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омаха, морж, нерпа, лахта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ый гусь, кайра, чист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рингов бакл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ая трясогузк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789360"/>
            <a:ext cx="3887640" cy="1008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 заснеженных склонах гор родильные берлоги белого медведя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5440" y="5305320"/>
            <a:ext cx="3329280" cy="1557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кклиматизир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омаш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еверные ол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 овцебы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1052640"/>
            <a:ext cx="792972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стров Врангеля – «родимый дом» белых медве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 острове до 250 берлог</a:t>
            </a:r>
            <a:r>
              <a:rPr b="1" lang="en-US" sz="4000" spc="-1" strike="noStrike">
                <a:solidFill>
                  <a:srgbClr val="eda5c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63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11280" y="3962520"/>
            <a:ext cx="345600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Овцебы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2127" t="0" r="0" b="0"/>
          <a:stretch/>
        </p:blipFill>
        <p:spPr>
          <a:xfrm>
            <a:off x="1476360" y="1557360"/>
            <a:ext cx="663732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Фото В. Преображенског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сположен в Тундре на Таймырском полуостр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Таймырский заповед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581640" cy="2381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0920" y="53352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кий северный 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000" y="4572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вцеб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3440" y="350028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раснозобая каз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5080" y="34290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кол-сап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3353040" cy="250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505320" cy="2625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1485" t="0" r="0" b="0"/>
          <a:stretch/>
        </p:blipFill>
        <p:spPr>
          <a:xfrm>
            <a:off x="4932360" y="914400"/>
            <a:ext cx="36781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иокско-Террасный 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Находится на юге Московской области, на берегу О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оздан в 1945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сю территорию заповедника занимает л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зные типы ле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4496040" cy="3372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25320" y="26668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Хвойн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15000" y="259092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946120" y="20574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мешанн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елколиственные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21120" y="10666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ез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191120" y="4038480"/>
            <a:ext cx="4572000" cy="225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6960" y="35812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син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Широколиственные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008" t="7058" r="0" b="2958"/>
          <a:stretch/>
        </p:blipFill>
        <p:spPr>
          <a:xfrm>
            <a:off x="611280" y="2060640"/>
            <a:ext cx="380844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61080" y="134136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уб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9080" y="551664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повый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272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лекопитающие – 54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тицы – 134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смыкающиеся – 5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емноводные – 1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6880" y="263700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уб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льменский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оздан в 1920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положен на Ура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ерритория заповедника включает Ильменский хребет, восточные предгорья Уральских гор с многочисленными озе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a5c6"/>
                </a:solidFill>
                <a:latin typeface="Arial"/>
              </a:rPr>
              <a:t>Заповедник «Черные Земл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Расположен в районе Республики Калмы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Создан в 1990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da5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Охраняются участки полупустынь, пусты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da5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a5c6"/>
                </a:solidFill>
                <a:latin typeface="Arial"/>
              </a:rPr>
              <a:t>Озеро Маныч-Гуд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876920" y="2565360"/>
            <a:ext cx="3943080" cy="388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24000" y="2514600"/>
            <a:ext cx="4319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a5c6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9040" y="129528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Журавль-крас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20640" y="11826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Д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8240" y="39625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Сайг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3280" y="304812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Лиса-кор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62120" y="1828800"/>
            <a:ext cx="2108160" cy="3352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638680" y="1752480"/>
            <a:ext cx="2971800" cy="2225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819520" y="3581280"/>
            <a:ext cx="2895480" cy="2098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324480" y="4343400"/>
            <a:ext cx="1900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86160" y="314172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Тушкан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" y="685800"/>
            <a:ext cx="4043520" cy="2311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219640" y="765000"/>
            <a:ext cx="3456000" cy="2206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9720" y="228600"/>
            <a:ext cx="38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Ящерица-кругло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10160" y="33336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a5c6"/>
                </a:solidFill>
                <a:latin typeface="Arial"/>
              </a:rPr>
              <a:t>Песчаный удав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1440" y="306864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a5c6"/>
                </a:solidFill>
                <a:latin typeface="Arial"/>
              </a:rPr>
              <a:t>Ушастый 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29272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06440"/>
            <a:ext cx="79581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очинский национальный па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ам город Сочи и его окрестности, в основном горные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одоплавающи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500720" cy="3383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495680" y="1125360"/>
            <a:ext cx="4648320" cy="3383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6496" t="8982" r="4443" b="7322"/>
          <a:stretch/>
        </p:blipFill>
        <p:spPr>
          <a:xfrm>
            <a:off x="2771640" y="4149720"/>
            <a:ext cx="4105440" cy="2708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74520" y="134136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еб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3240" y="162864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10160" y="42926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3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920" y="1773000"/>
            <a:ext cx="904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da5c6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Тисо-самшитовая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  рощ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140360" y="836640"/>
            <a:ext cx="5003640" cy="3744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4140360" cy="3672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>
            <a:lum bright="-6000"/>
          </a:blip>
          <a:srcRect l="0" t="0" r="2831" b="3538"/>
          <a:stretch/>
        </p:blipFill>
        <p:spPr>
          <a:xfrm>
            <a:off x="3059280" y="3581280"/>
            <a:ext cx="3673440" cy="3276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51640" y="436572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ис яг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50160" y="436572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a5c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м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лхид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9440" y="623736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глица колхид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7040" y="137160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льфин черноморская аф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484360" y="1905120"/>
            <a:ext cx="4248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35280" y="5605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Жужелица кавказ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61912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здан для охраны минеральных богатств Ур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бнаружено более 200 разновидностей минер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200400" cy="214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581280" y="4267080"/>
            <a:ext cx="277200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9800" y="2852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льме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6880" y="37162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алах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7360" y="26668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зум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962520" cy="4495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871800" cy="447660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296720" y="137160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ерезовая ро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5440" y="13413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основый 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1280" y="1916280"/>
            <a:ext cx="3962160" cy="4495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962160" cy="449568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Живот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8 видов млекопитающ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63 вида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 видов пресмыкаю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 вида земнов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9880" y="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2438280" cy="39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781680" y="0"/>
            <a:ext cx="2362320" cy="32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438280" y="3048120"/>
            <a:ext cx="3581640" cy="398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97800" y="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3320" y="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с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8920" y="304812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6880" y="24210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арс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2220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я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7"/>
          <a:srcRect l="6661" t="6208" r="5739" b="6832"/>
          <a:stretch/>
        </p:blipFill>
        <p:spPr>
          <a:xfrm>
            <a:off x="6012000" y="3141720"/>
            <a:ext cx="3132000" cy="3887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32720" y="3357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Дальневосточный морской заповед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Находится на Дальнем востоке в Японском море, в Заливе Петра Вели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0" t="0" r="0" b="2984"/>
          <a:stretch/>
        </p:blipFill>
        <p:spPr>
          <a:xfrm>
            <a:off x="5562720" y="2971800"/>
            <a:ext cx="358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оздан в 197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ыбы – более 100 видов. Моллюски, иглокожие, ракообразные более 2000 видов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2666880" cy="259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79280" y="3068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348000" y="4653000"/>
            <a:ext cx="3124080" cy="2066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4600" y="266688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ские л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1440" y="3357720"/>
            <a:ext cx="15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89080" y="256536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орские е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аповедник «Остров Врангел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2769840"/>
            <a:ext cx="792936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рктический остров расположен между Восточно-Сибирским и Чукотским мор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увеличить карту ООПТ"/>
          <p:cNvPicPr/>
          <p:nvPr/>
        </p:nvPicPr>
        <p:blipFill>
          <a:blip r:embed="rId2"/>
          <a:stretch/>
        </p:blipFill>
        <p:spPr>
          <a:xfrm>
            <a:off x="0" y="4365720"/>
            <a:ext cx="3276720" cy="249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ДРЕМ ХЭТ БАЗА  JPG JPG - открыть в новом ок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05264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В ТОРОСАХ JPG JPG - открыть в новом ок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1125360"/>
            <a:ext cx="2160360" cy="1798920"/>
          </a:xfrm>
          <a:prstGeom prst="rect">
            <a:avLst/>
          </a:prstGeom>
          <a:ln w="0">
            <a:noFill/>
          </a:ln>
        </p:spPr>
      </p:pic>
      <p:pic>
        <p:nvPicPr>
          <p:cNvPr id="90" name="img225711059" descr="IMAGE19 JPG JPG - открыть в новом окне"/>
          <p:cNvPicPr/>
          <p:nvPr/>
        </p:nvPicPr>
        <p:blipFill>
          <a:blip r:embed="rId7"/>
          <a:stretch/>
        </p:blipFill>
        <p:spPr>
          <a:xfrm>
            <a:off x="5796000" y="1125360"/>
            <a:ext cx="2592360" cy="1798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6516720" y="4581360"/>
            <a:ext cx="26272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6:01:26Z</dcterms:created>
  <dc:creator>лена</dc:creator>
  <dc:description/>
  <dc:language>en-US</dc:language>
  <cp:lastModifiedBy>Admin</cp:lastModifiedBy>
  <dcterms:modified xsi:type="dcterms:W3CDTF">2011-04-24T21:21:51Z</dcterms:modified>
  <cp:revision>11</cp:revision>
  <dc:subject/>
  <dc:title>Слайд 1</dc:title>
</cp:coreProperties>
</file>