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42.jpeg" ContentType="image/jpeg"/>
  <Override PartName="/ppt/media/image5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28.jpeg" ContentType="image/jpeg"/>
  <Override PartName="/ppt/media/image11.jpeg" ContentType="image/jpeg"/>
  <Override PartName="/ppt/media/image24.png" ContentType="image/png"/>
  <Override PartName="/ppt/media/image9.jpeg" ContentType="image/jpeg"/>
  <Override PartName="/ppt/media/image6.jpeg" ContentType="image/jpeg"/>
  <Override PartName="/ppt/media/image63.jpeg" ContentType="image/jpeg"/>
  <Override PartName="/ppt/media/image5.jpeg" ContentType="image/jpeg"/>
  <Override PartName="/ppt/media/image62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png" ContentType="image/pn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26.png" ContentType="image/png"/>
  <Override PartName="/ppt/media/image8.jpeg" ContentType="image/jpeg"/>
  <Override PartName="/ppt/media/image39.jpeg" ContentType="image/jpeg"/>
  <Override PartName="/ppt/media/image5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23.png" ContentType="image/png"/>
  <Override PartName="/ppt/media/image53.jpeg" ContentType="image/jpeg"/>
  <Override PartName="/ppt/media/image54.jpeg" ContentType="image/jpeg"/>
  <Override PartName="/ppt/media/image56.jpeg" ContentType="image/jpeg"/>
  <Override PartName="/ppt/media/image5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6C01-0BDC-4486-AD48-B9591FC1A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36E9-4048-4776-82A4-D4458487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6F99-6A8D-45C8-B390-7F1D3D994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B712-DBDE-4B88-A1F7-FCC761F18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921E-56CB-4232-BAA9-6BA916BA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F1E2-6DF8-4EA8-A2FC-DA6CA35D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3F13-16AC-4F58-A47D-B6B7D347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0E69-B59C-4C24-9494-AE05AA52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03CC-B81E-4249-8B72-B846800E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043F-B4E6-493F-B469-7FEEC8CC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6BC0-D49C-4866-B7DE-57CB13B2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74F2-C02B-4B76-83C2-8D8D2A70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4195-7F3C-42A5-A990-7A9870C16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hyperlink" Target="javascript:%20void(0);" TargetMode="External"/><Relationship Id="rId4" Type="http://schemas.openxmlformats.org/officeDocument/2006/relationships/image" Target="../media/image19.jpeg"/><Relationship Id="rId5" Type="http://schemas.openxmlformats.org/officeDocument/2006/relationships/hyperlink" Target="javascript:%20void(0);" TargetMode="External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1628640"/>
            <a:ext cx="7772400" cy="35308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Заповедники</a:t>
            </a:r>
            <a:br>
              <a:rPr sz="9600"/>
            </a:b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 России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4778280"/>
            <a:ext cx="2771640" cy="20797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659640" y="4818240"/>
            <a:ext cx="2484360" cy="2039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4"/>
          <a:srcRect l="0" t="0" r="0" b="2984"/>
          <a:stretch/>
        </p:blipFill>
        <p:spPr>
          <a:xfrm>
            <a:off x="3564000" y="0"/>
            <a:ext cx="2663640" cy="19162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2484360" cy="2449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4437000"/>
            <a:ext cx="2627280" cy="2421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622920" y="1557360"/>
            <a:ext cx="2521080" cy="2521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6516720" y="4221000"/>
            <a:ext cx="2627280" cy="2637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1908000" y="907920"/>
            <a:ext cx="6193080" cy="28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Основан в 1976 году, площадь 795 тысяч га.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115920"/>
            <a:ext cx="7777080" cy="711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9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aa9df5"/>
                </a:solidFill>
                <a:latin typeface="Georgia"/>
              </a:rPr>
              <a:t>Заповедник на острове Врангеля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aa9df5"/>
              </a:solidFill>
              <a:latin typeface="Georgia"/>
              <a:ea typeface="Georgia"/>
            </a:endParaRPr>
          </a:p>
        </p:txBody>
      </p:sp>
      <p:sp>
        <p:nvSpPr>
          <p:cNvPr id="100" name=""/>
          <p:cNvSpPr/>
          <p:nvPr/>
        </p:nvSpPr>
        <p:spPr>
          <a:xfrm>
            <a:off x="2411280" y="1628640"/>
            <a:ext cx="4140360" cy="180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итают песец, белый медвед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осомаха, морж, нерпа, лахта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лый гусь, кайра, чисти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рингов баклан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лая трясогузка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56000" y="3789360"/>
            <a:ext cx="3887640" cy="10087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а заснеженных склонах гор родильные берлоги белого медведя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45440" y="5305320"/>
            <a:ext cx="3329280" cy="15570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кклиматизиров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омаш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еверные ол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и овцебы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77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770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5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7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2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4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6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77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770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3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5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0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2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4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94920" y="1052640"/>
            <a:ext cx="7929720" cy="18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Остров Врангеля – «родимый дом» белых медвед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На острове до 250 берлог</a:t>
            </a:r>
            <a:r>
              <a:rPr b="1" lang="en-US" sz="4000" spc="-1" strike="noStrike">
                <a:solidFill>
                  <a:srgbClr val="eda5c6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732720" y="0"/>
            <a:ext cx="2411280" cy="2637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11280" y="3962520"/>
            <a:ext cx="3456000" cy="2666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572000" y="3962520"/>
            <a:ext cx="35053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Овцебы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2127" t="0" r="0" b="0"/>
          <a:stretch/>
        </p:blipFill>
        <p:spPr>
          <a:xfrm>
            <a:off x="1476360" y="1557360"/>
            <a:ext cx="663732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Фото В. Преображенского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Расположен в Тундре на Таймырском полуостро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79280" y="47592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Таймырский заповедн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3581640" cy="23810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10920" y="533520"/>
            <a:ext cx="37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икий северный ол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64000" y="45720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Овцеб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3440" y="350028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раснозобая каза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75080" y="342900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окол-сапс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3353040" cy="2508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800600" y="3886200"/>
            <a:ext cx="3505320" cy="2625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rcRect l="1485" t="0" r="0" b="0"/>
          <a:stretch/>
        </p:blipFill>
        <p:spPr>
          <a:xfrm>
            <a:off x="4932360" y="914400"/>
            <a:ext cx="367812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Приокско-Террасный заповед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1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Находится на юге Московской области, на берегу О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Создан в 1945 год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52280" y="10663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сю территорию заповедника занимает л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Разные типы ле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09480" y="3124080"/>
            <a:ext cx="4496040" cy="3372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525320" y="2666880"/>
            <a:ext cx="21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Хвойный л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715000" y="2590920"/>
            <a:ext cx="2743200" cy="3657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946120" y="205740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мешанный л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Мелколиственные ле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221120" y="1066680"/>
            <a:ext cx="25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Березовый л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191120" y="4038480"/>
            <a:ext cx="4572000" cy="2259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096960" y="358128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Осиновый л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Широколиственные ле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rcRect l="2008" t="7058" r="0" b="2958"/>
          <a:stretch/>
        </p:blipFill>
        <p:spPr>
          <a:xfrm>
            <a:off x="611280" y="2060640"/>
            <a:ext cx="3808440" cy="2952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261080" y="1341360"/>
            <a:ext cx="21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убовый л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29080" y="5516640"/>
            <a:ext cx="22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Липовый л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952880" y="1676520"/>
            <a:ext cx="32720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067280" y="3357720"/>
            <a:ext cx="5076720" cy="35002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Животны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Млекопитающие – 54 в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тицы – 134 в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есмыкающиеся – 5 ви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Земноводные – 10 ви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26880" y="2637000"/>
            <a:ext cx="10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Зуб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Ильменский</a:t>
            </a: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заповед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Создан в 1920 го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Расположен на Ура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Территория заповедника включает Ильменский хребет, восточные предгорья Уральских гор с многочисленными озе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a5c6"/>
                </a:solidFill>
                <a:latin typeface="Arial"/>
              </a:rPr>
              <a:t>Заповедник «Черные Земл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a5c6"/>
                </a:solidFill>
                <a:latin typeface="Arial"/>
              </a:rPr>
              <a:t>Расположен в районе Республики Калмык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a5c6"/>
                </a:solidFill>
                <a:latin typeface="Arial"/>
              </a:rPr>
              <a:t>Создан в 1990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da5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a5c6"/>
                </a:solidFill>
                <a:latin typeface="Arial"/>
              </a:rPr>
              <a:t>Охраняются участки полупустынь, пусты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a5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a5c6"/>
                </a:solidFill>
                <a:latin typeface="Arial"/>
              </a:rPr>
              <a:t>Озеро Маныч-Гуди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876920" y="2565360"/>
            <a:ext cx="3943080" cy="3888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324000" y="2514600"/>
            <a:ext cx="4319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5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5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a5c6"/>
                </a:solidFill>
                <a:latin typeface="Arial"/>
              </a:rPr>
              <a:t>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9040" y="1295280"/>
            <a:ext cx="30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a5c6"/>
                </a:solidFill>
                <a:latin typeface="Arial"/>
              </a:rPr>
              <a:t>Журавль-краса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20640" y="118260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a5c6"/>
                </a:solidFill>
                <a:latin typeface="Arial"/>
              </a:rPr>
              <a:t>Дро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18240" y="39625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a5c6"/>
                </a:solidFill>
                <a:latin typeface="Arial"/>
              </a:rPr>
              <a:t>Сайг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3280" y="304812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a5c6"/>
                </a:solidFill>
                <a:latin typeface="Arial"/>
              </a:rPr>
              <a:t>Лиса-корс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762120" y="1828800"/>
            <a:ext cx="2108160" cy="33526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5638680" y="1752480"/>
            <a:ext cx="2971800" cy="22258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2819520" y="3581280"/>
            <a:ext cx="2895480" cy="2098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6324480" y="4343400"/>
            <a:ext cx="19004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086160" y="3141720"/>
            <a:ext cx="18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a5c6"/>
                </a:solidFill>
                <a:latin typeface="Arial"/>
              </a:rPr>
              <a:t>Тушкан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57200" y="685800"/>
            <a:ext cx="4043520" cy="2311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5219640" y="765000"/>
            <a:ext cx="3456000" cy="2206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59720" y="228600"/>
            <a:ext cx="38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a5c6"/>
                </a:solidFill>
                <a:latin typeface="Arial"/>
              </a:rPr>
              <a:t>Ящерица-круглогол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10160" y="333360"/>
            <a:ext cx="30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a5c6"/>
                </a:solidFill>
                <a:latin typeface="Arial"/>
              </a:rPr>
              <a:t>Песчаный удав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01440" y="306864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a5c6"/>
                </a:solidFill>
                <a:latin typeface="Arial"/>
              </a:rPr>
              <a:t>Ушастый е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457200" y="3657600"/>
            <a:ext cx="3809880" cy="2619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5292720" y="3716280"/>
            <a:ext cx="3456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3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4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406440"/>
            <a:ext cx="79581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Сочинский национальный пар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ам город Сочи и его окрестности, в основном горные л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2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Водоплавающие пт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4500720" cy="3383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495680" y="1125360"/>
            <a:ext cx="4648320" cy="3383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rcRect l="6496" t="8982" r="4443" b="7322"/>
          <a:stretch/>
        </p:blipFill>
        <p:spPr>
          <a:xfrm>
            <a:off x="2771640" y="4149720"/>
            <a:ext cx="4105440" cy="2708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774520" y="1341360"/>
            <a:ext cx="13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Леб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743240" y="1628640"/>
            <a:ext cx="8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Гу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510160" y="429264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У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9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7920" y="1773000"/>
            <a:ext cx="904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da5c6"/>
                </a:solidFill>
                <a:latin typeface="Arial"/>
              </a:rPr>
              <a:t>  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Тисо-самшитовая </a:t>
            </a: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   рощ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140360" y="836640"/>
            <a:ext cx="5003640" cy="3744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836640"/>
            <a:ext cx="4140360" cy="3672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>
            <a:lum bright="-6000"/>
          </a:blip>
          <a:srcRect l="0" t="0" r="2831" b="3538"/>
          <a:stretch/>
        </p:blipFill>
        <p:spPr>
          <a:xfrm>
            <a:off x="3059280" y="3581280"/>
            <a:ext cx="3673440" cy="32767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51640" y="4365720"/>
            <a:ext cx="21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Тис яго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50160" y="4365720"/>
            <a:ext cx="204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a5c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амш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лхид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89440" y="623736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глица колхид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1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7040" y="1371600"/>
            <a:ext cx="610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Дельфин черноморская афа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2484360" y="1905120"/>
            <a:ext cx="42483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1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7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835280" y="56052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Жужелица кавказс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523880" y="1600200"/>
            <a:ext cx="619128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оздан для охраны минеральных богатств Ур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Обнаружено более 200 разновидностей минер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33520" y="3352680"/>
            <a:ext cx="3200400" cy="2144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248520" y="327672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581280" y="4267080"/>
            <a:ext cx="2772000" cy="2362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9800" y="285264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Ильмен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6880" y="371628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алах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17360" y="266688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Изумр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5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5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Ле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3962520" cy="449568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859280" y="1916280"/>
            <a:ext cx="3871800" cy="447660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1296720" y="1371600"/>
            <a:ext cx="26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Березовая рощ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25440" y="1341360"/>
            <a:ext cx="24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основый 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11280" y="1916280"/>
            <a:ext cx="3962160" cy="449568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611280" y="1916280"/>
            <a:ext cx="3962160" cy="449568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7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70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Животн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48 видов млекопитающи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63 вида пти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6 видов пресмыкающих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3 вида земновод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9880" cy="3200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809880" y="0"/>
            <a:ext cx="2971800" cy="3200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0" y="3048120"/>
            <a:ext cx="2438280" cy="3981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6781680" y="0"/>
            <a:ext cx="2362320" cy="3276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2438280" y="3048120"/>
            <a:ext cx="3581640" cy="3981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297800" y="0"/>
            <a:ext cx="113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Ры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13320" y="0"/>
            <a:ext cx="14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Косу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98920" y="3048120"/>
            <a:ext cx="163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Глуха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06880" y="2421000"/>
            <a:ext cx="14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Барс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22200" y="304812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Дя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7"/>
          <a:srcRect l="6661" t="6208" r="5739" b="6832"/>
          <a:stretch/>
        </p:blipFill>
        <p:spPr>
          <a:xfrm>
            <a:off x="6012000" y="3141720"/>
            <a:ext cx="3132000" cy="3887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732720" y="335772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Ли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Дальневосточный морской заповед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Находится на Дальнем востоке в Японском море, в Заливе Петра Велик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rcRect l="0" t="0" r="0" b="2984"/>
          <a:stretch/>
        </p:blipFill>
        <p:spPr>
          <a:xfrm>
            <a:off x="5562720" y="2971800"/>
            <a:ext cx="3581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оздан в 1978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Рыбы – более 100 видов. Моллюски, иглокожие, ракообразные более 2000 видов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372360" y="2997360"/>
            <a:ext cx="2666880" cy="2590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79280" y="306864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348000" y="4653000"/>
            <a:ext cx="3124080" cy="2066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4600" y="266688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орские лил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41440" y="3357720"/>
            <a:ext cx="157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ор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вез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89080" y="2565360"/>
            <a:ext cx="21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орские е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2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Заповедник «Остров Врангел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2769840"/>
            <a:ext cx="792936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Арктический остров расположен между Восточно-Сибирским и Чукотским мор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увеличить карту ООПТ"/>
          <p:cNvPicPr/>
          <p:nvPr/>
        </p:nvPicPr>
        <p:blipFill>
          <a:blip r:embed="rId2"/>
          <a:stretch/>
        </p:blipFill>
        <p:spPr>
          <a:xfrm>
            <a:off x="0" y="4365720"/>
            <a:ext cx="3276720" cy="2492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ДРЕМ ХЭТ БАЗА  JPG JPG - открыть в новом окн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1052640"/>
            <a:ext cx="2089080" cy="1871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В ТОРОСАХ JPG JPG - открыть в новом окне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59280" y="1125360"/>
            <a:ext cx="2160360" cy="1798920"/>
          </a:xfrm>
          <a:prstGeom prst="rect">
            <a:avLst/>
          </a:prstGeom>
          <a:ln w="0">
            <a:noFill/>
          </a:ln>
        </p:spPr>
      </p:pic>
      <p:pic>
        <p:nvPicPr>
          <p:cNvPr id="90" name="img225711059" descr="IMAGE19 JPG JPG - открыть в новом окне"/>
          <p:cNvPicPr/>
          <p:nvPr/>
        </p:nvPicPr>
        <p:blipFill>
          <a:blip r:embed="rId7"/>
          <a:stretch/>
        </p:blipFill>
        <p:spPr>
          <a:xfrm>
            <a:off x="5796000" y="1125360"/>
            <a:ext cx="2592360" cy="1798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10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6516720" y="4581360"/>
            <a:ext cx="26272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8T16:01:26Z</dcterms:created>
  <dc:creator>лена</dc:creator>
  <dc:description/>
  <dc:language>en-US</dc:language>
  <cp:lastModifiedBy>Admin</cp:lastModifiedBy>
  <dcterms:modified xsi:type="dcterms:W3CDTF">2011-04-24T21:21:51Z</dcterms:modified>
  <cp:revision>11</cp:revision>
  <dc:subject/>
  <dc:title>Слайд 1</dc:title>
</cp:coreProperties>
</file>