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49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8.png" ContentType="image/png"/>
  <Override PartName="/ppt/media/image5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110-94D5-4B1D-8748-206D57E2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F91-8331-4F97-898B-DE6A5C5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4F1-3723-4061-95D7-217DB613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3B4-7E85-472A-9E00-4EAD2640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30E-D663-4D98-B168-8A0ABD7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0D9-BE79-4595-8E4D-1143CAB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FAC-22F1-46D8-B5C8-4ABACB86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B12-D725-4086-9073-05AA781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6ED-7C4A-409B-A6E4-3DD66187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40D-8AA8-4924-B37A-70F7065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838-7AE5-4CFA-BB7B-C3F8E55F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587-6B32-48B7-9AB1-8FDBC8C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75F2-4728-4493-8AFB-0B5A2AE49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55720" y="212760"/>
            <a:ext cx="577224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932360" y="2590560"/>
            <a:ext cx="39924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«Городок 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в табакерке»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43" name="Picture 2" descr="C:\Documents and Settings\Admin\Рабочий стол\одоевский.jpg"/>
          <p:cNvPicPr/>
          <p:nvPr/>
        </p:nvPicPr>
        <p:blipFill>
          <a:blip r:embed="rId2"/>
          <a:stretch/>
        </p:blipFill>
        <p:spPr>
          <a:xfrm>
            <a:off x="119160" y="1557360"/>
            <a:ext cx="51735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4"/>
          <p:cNvSpPr/>
          <p:nvPr/>
        </p:nvSpPr>
        <p:spPr>
          <a:xfrm>
            <a:off x="4756320" y="5516640"/>
            <a:ext cx="3992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БОУ г.Москвы СОШ №8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усейнова М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19080"/>
            <a:ext cx="8229600" cy="112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1617840"/>
            <a:ext cx="431928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Го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– это мебель для посуды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2" name="Picture 2" descr="C:\Documents and Settings\Admin\Рабочий стол\52.jpg"/>
          <p:cNvPicPr/>
          <p:nvPr/>
        </p:nvPicPr>
        <p:blipFill>
          <a:blip r:embed="rId2"/>
          <a:stretch/>
        </p:blipFill>
        <p:spPr>
          <a:xfrm>
            <a:off x="4788000" y="1484280"/>
            <a:ext cx="4176720" cy="52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2349360"/>
            <a:ext cx="49068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Ставни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деревянный затвор  на окнах в деревянных домах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5" name="Picture 2" descr="C:\Documents and Settings\Admin\Рабочий стол\0_7c80d_cf62e52d_XL.jpg"/>
          <p:cNvPicPr/>
          <p:nvPr/>
        </p:nvPicPr>
        <p:blipFill>
          <a:blip r:embed="rId2"/>
          <a:stretch/>
        </p:blipFill>
        <p:spPr>
          <a:xfrm>
            <a:off x="5076720" y="1149480"/>
            <a:ext cx="3816360" cy="50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Segoe UI"/>
              </a:rPr>
              <a:t>Флюгер</a:t>
            </a:r>
            <a:r>
              <a:rPr b="0" lang="ru-RU" sz="2800" spc="-1" strike="noStrike">
                <a:solidFill>
                  <a:srgbClr val="0d0d0d"/>
                </a:solidFill>
                <a:latin typeface="Segoe UI"/>
              </a:rPr>
              <a:t> - прибор для определения направления и измерения скорости ветра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8" name="Picture 2" descr="C:\Documents and Settings\Admin\Рабочий стол\49.jpg"/>
          <p:cNvPicPr/>
          <p:nvPr/>
        </p:nvPicPr>
        <p:blipFill>
          <a:blip r:embed="rId2"/>
          <a:stretch/>
        </p:blipFill>
        <p:spPr>
          <a:xfrm>
            <a:off x="5724360" y="2514600"/>
            <a:ext cx="3168720" cy="422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Admin\Рабочий стол\t10.gif"/>
          <p:cNvPicPr/>
          <p:nvPr/>
        </p:nvPicPr>
        <p:blipFill>
          <a:blip r:embed="rId3"/>
          <a:stretch/>
        </p:blipFill>
        <p:spPr>
          <a:xfrm>
            <a:off x="324000" y="3110040"/>
            <a:ext cx="4319280" cy="33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Documents and Settings\Admin\Рабочий стол\був.jpg"/>
          <p:cNvPicPr/>
          <p:nvPr/>
        </p:nvPicPr>
        <p:blipFill>
          <a:blip r:embed="rId1"/>
          <a:stretch/>
        </p:blipFill>
        <p:spPr>
          <a:xfrm>
            <a:off x="179280" y="173664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dmin\Рабочий стол\Tisnenaya%20bumaga_5.jpg"/>
          <p:cNvPicPr/>
          <p:nvPr/>
        </p:nvPicPr>
        <p:blipFill>
          <a:blip r:embed="rId3"/>
          <a:stretch/>
        </p:blipFill>
        <p:spPr>
          <a:xfrm>
            <a:off x="4848120" y="1773360"/>
            <a:ext cx="41878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4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4000" y="1143000"/>
            <a:ext cx="8820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Затеплилась звездочка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Право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-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С сими словами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Учтив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2"/>
          <a:stretch/>
        </p:blipFill>
        <p:spPr>
          <a:xfrm>
            <a:off x="5132520" y="1042920"/>
            <a:ext cx="376704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3"/>
          <a:stretch/>
        </p:blipFill>
        <p:spPr>
          <a:xfrm>
            <a:off x="2109960" y="2266920"/>
            <a:ext cx="3943080" cy="671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8" descr=""/>
          <p:cNvPicPr/>
          <p:nvPr/>
        </p:nvPicPr>
        <p:blipFill>
          <a:blip r:embed="rId4"/>
          <a:stretch/>
        </p:blipFill>
        <p:spPr>
          <a:xfrm>
            <a:off x="3693960" y="3419640"/>
            <a:ext cx="39387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5"/>
          <a:stretch/>
        </p:blipFill>
        <p:spPr>
          <a:xfrm>
            <a:off x="2182680" y="4572000"/>
            <a:ext cx="3936960" cy="8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0" name="Содержимое 3" descr="6.jpg"/>
          <p:cNvPicPr/>
          <p:nvPr/>
        </p:nvPicPr>
        <p:blipFill>
          <a:blip r:embed="rId1"/>
          <a:stretch/>
        </p:blipFill>
        <p:spPr>
          <a:xfrm>
            <a:off x="1547640" y="0"/>
            <a:ext cx="6193080" cy="689940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уж и было чего посмотреть! Какая прекрасная табакерка! пестренькая, из черепахи. А что на крышке-то! Ворота, башенки, домик, другой, третий, четвертый, — и счесть нельзя, и все мал мала меньше, и все золотые; а деревья-то также золотые, а листики на них серебряные; а за деревьями встает солнышко, и от него розовые лучи расходятся по всему неб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одержимое 2"/>
          <p:cNvSpPr/>
          <p:nvPr/>
        </p:nvSpPr>
        <p:spPr>
          <a:xfrm>
            <a:off x="457200" y="0"/>
            <a:ext cx="8362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тем музыка играет да играет; вот все тише да тише, как будто что-то цепляется за каждую нотку, как будто что-то отталкивает один звук от другого. Вот Миша смотрит: внизу табакерки отворяется дверца, и из дверцы выбегает мальчик с золотою головкою и в стальной юбочке, останавливается на пороге и манит к себе Миш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Да отчего же, — подумал Миша, — папенька сказал, что в этом городке и без меня тесно? Нет, видно, в нем живут добрые люди, видите, зовут меня в гости”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Извольте, с величайшею радостью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4" name="Содержимое 5" descr="2.jpg"/>
          <p:cNvPicPr/>
          <p:nvPr/>
        </p:nvPicPr>
        <p:blipFill>
          <a:blip r:embed="rId1"/>
          <a:stretch/>
        </p:blipFill>
        <p:spPr>
          <a:xfrm>
            <a:off x="1763640" y="39600"/>
            <a:ext cx="5256360" cy="677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одержимое 2"/>
          <p:cNvSpPr/>
          <p:nvPr/>
        </p:nvSpPr>
        <p:spPr>
          <a:xfrm>
            <a:off x="457200" y="33336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ь-динь-динь! — отвечал мальчик. — Пройдем, не беспокойтесь, ступайте только за мн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ша послушался. В самом деле, с каждым их шагом, казалось, своды подымались, и наши мальчики всюду свободно проходили; когда же они дошли до последнего свода, тогда мальчик-колокольчик попросил Мишу оглянуться назад. Миша оглянулся, и что же он увидел? Теперь тот первый свод, под который он подошел, входя в дверцы, показался ему маленьким, как будто, пока они шли, свод опустился. Миша был очень удивлен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.jpg"/>
          <p:cNvPicPr/>
          <p:nvPr/>
        </p:nvPicPr>
        <p:blipFill>
          <a:blip r:embed="rId1"/>
          <a:stretch/>
        </p:blipFill>
        <p:spPr>
          <a:xfrm>
            <a:off x="1332000" y="28440"/>
            <a:ext cx="5580000" cy="678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08000" y="11592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тем их окружили мальчики-колокольчики, теребили Мишу за платье, звенели, прыгали, бег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Весело вы живете, — сказал им Миша, — век бы с вами остался. Целый день вы ничего не делаете, у вас ни уроков, ни учителей, да еще и музыка целый ден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инь-динь-динь! — закричали колокольчики. — Уж нашел у нас веселье! Нет, Миша, плохое нам житье. Правда, уроков у нас нет, да что же в том толку? Мы бы уроков не побоялися. Вся наша беда именно в том, что у нас, бедных, никакого нет дела; нет у нас ни книжек, ни картинок; нет ни папеньки, ни маменьки; нечем заняться; целый день играй да играй, а ведь это, Миша, очень, очень скучно. Поверишь ли? Хорошо наше черепаховое небо, хорошо и золотое солнышко и золотые деревья; но мы, бедные, мы насмотрелись на них вдоволь, и все это очень нам надоело; из городка мы — ни пяди, а ты можешь себе вообразить, каково целый век, ничего не делая, просидеть в табакерке, и даже в табакерке с музыко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3.jpg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83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одержимое 2"/>
          <p:cNvSpPr/>
          <p:nvPr/>
        </p:nvSpPr>
        <p:spPr>
          <a:xfrm>
            <a:off x="0" y="4428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что Миша к нему подошел, как надзиратель закричал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Шуры-муры! кто здесь ходит? кто здесь бродит? Шуры-муры? кто прочь не идет? кто мне спать не дает? Шуры-муры! шуры-муры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Это я, — храбро отвечал Миша, — я — Миша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что тебе надобно? — спросил надзирател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Да мне жаль бедных мальчиков-колокольчиков, они все такие умные, такие добрые, такие музыканты, а по вашему приказанию дядьки их беспрестанно постукивают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мне какое дело, шуры-муры! Не я здесь набольший. Пусть себе дядьки стукают мальчиков! Мне что за дело! Я надзиратель добрый, все на диване лежу и ни за кем не гляжу. Шуры-муры, шуры-муры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102" name="Содержимое 3" descr="4.jpg"/>
          <p:cNvPicPr/>
          <p:nvPr/>
        </p:nvPicPr>
        <p:blipFill>
          <a:blip r:embed="rId1"/>
          <a:stretch/>
        </p:blipFill>
        <p:spPr>
          <a:xfrm>
            <a:off x="2050920" y="0"/>
            <a:ext cx="5400720" cy="683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560" y="217656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Лежит ежик у елки, у ежа иголки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А внизу, похожие на маленьких ежат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Шишки прошлогодние на траве лежат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0" y="44280"/>
            <a:ext cx="91440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т, золотой шатер с жемчужною бахромою; наверху золотой флюгер вертится, будто ветряная мельница, а под шатром лежит царевна Пружинка и, как змейка, то свернется, то развернется и беспрестанно надзирателя под бок толкает. Миша этому очень удивился и сказал е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Сударыня царевна! Зачем вы надзирателя под бок толкает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Зиц-зиц-зиц, — отвечала царевна. — Глупый ты мальчик, неразумный мальчик. На все смотришь, ничего не видишь! Кабы я валик не толкала, валик бы не вертелся; кабы валик не вертелся, то он за молоточки бы не цеплялся, молоточки бы не стучали; кабы молоточки не стучали, колокольчики бы не звенели; кабы колокольчики не звенели, и музыки бы не был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5.jpg"/>
          <p:cNvPicPr/>
          <p:nvPr/>
        </p:nvPicPr>
        <p:blipFill>
          <a:blip r:embed="rId1"/>
          <a:stretch/>
        </p:blipFill>
        <p:spPr>
          <a:xfrm>
            <a:off x="1763640" y="0"/>
            <a:ext cx="5329440" cy="681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дно мгновение пружинка с силою развилась, валик сильно завертелся, молоточки быстро застучали, колокольчики заиграли дребедень и вдруг пружинка лопнула. Все умолкло, валик остановился, молоточки попадали, колокольчики свернулись на сторону, солнышко повисло, домики изломались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tmp_18.jpg"/>
          <p:cNvPicPr/>
          <p:nvPr/>
        </p:nvPicPr>
        <p:blipFill>
          <a:blip r:embed="rId1"/>
          <a:stretch/>
        </p:blipFill>
        <p:spPr>
          <a:xfrm>
            <a:off x="487440" y="87480"/>
            <a:ext cx="8332560" cy="66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2" descr=""/>
          <p:cNvPicPr/>
          <p:nvPr/>
        </p:nvPicPr>
        <p:blipFill>
          <a:blip r:embed="rId1"/>
          <a:stretch/>
        </p:blipFill>
        <p:spPr>
          <a:xfrm>
            <a:off x="249120" y="384120"/>
            <a:ext cx="8723520" cy="574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19120" y="253692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Segoe UI"/>
              </a:rPr>
              <a:t>Перечитать сказку, поделив ее на части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165240" y="669960"/>
            <a:ext cx="8588160" cy="507852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3348000" y="1764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Segoe UI"/>
              </a:rPr>
              <a:t>С В. Кутявина Поурочные разработки по литературному чтению: 4 класс. – М.: ВАКО,2010.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slovari.yandex.ru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lubs.ya.ru/fetes-galantes/posts.xml?tb=530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www.liveinternet.ru/users/iposlad/rubric/1663824/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onstruct.md/ru/moldova/cuzneabudulaia/storelist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da-zdra-per-m.livejournal.com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PlanetaSkazok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allskazki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4" descr=""/>
          <p:cNvPicPr/>
          <p:nvPr/>
        </p:nvPicPr>
        <p:blipFill>
          <a:blip r:embed="rId1"/>
          <a:stretch/>
        </p:blipFill>
        <p:spPr>
          <a:xfrm>
            <a:off x="596880" y="12600"/>
            <a:ext cx="8229600" cy="20973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3" descr="untitled.bmp"/>
          <p:cNvPicPr/>
          <p:nvPr/>
        </p:nvPicPr>
        <p:blipFill>
          <a:blip r:embed="rId2"/>
          <a:stretch/>
        </p:blipFill>
        <p:spPr>
          <a:xfrm>
            <a:off x="1908000" y="2090880"/>
            <a:ext cx="4969080" cy="487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Ris_3.jpg"/>
          <p:cNvPicPr/>
          <p:nvPr/>
        </p:nvPicPr>
        <p:blipFill>
          <a:blip r:embed="rId1"/>
          <a:stretch/>
        </p:blipFill>
        <p:spPr>
          <a:xfrm>
            <a:off x="4788000" y="320760"/>
            <a:ext cx="4284720" cy="584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-27360"/>
            <a:ext cx="5184720" cy="80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В. Ф. Одоевский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работал под псевдонимом «Дедушка Ириней».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Когда ему исполнилось 30 лет, в свет вышел сборник для дете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Детские сказки дедушки Иринея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Сюда вошли сказки «Червячок»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Мороз Иванович» и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Городок в табакерке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2" name="Picture 3" descr="C:\Documents and Settings\Admin\Рабочий стол\0_49953_d0ba2dbc_L.jpg"/>
          <p:cNvPicPr/>
          <p:nvPr/>
        </p:nvPicPr>
        <p:blipFill>
          <a:blip r:embed="rId1"/>
          <a:stretch/>
        </p:blipFill>
        <p:spPr>
          <a:xfrm>
            <a:off x="1258920" y="44280"/>
            <a:ext cx="6738840" cy="680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Табаке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маленькая изящная коробочка, вмещавшая горсточку ароматной пыли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6" name="Picture 2" descr="C:\Documents and Settings\Admin\Рабочий стол\та.jpg"/>
          <p:cNvPicPr/>
          <p:nvPr/>
        </p:nvPicPr>
        <p:blipFill>
          <a:blip r:embed="rId2"/>
          <a:stretch/>
        </p:blipFill>
        <p:spPr>
          <a:xfrm>
            <a:off x="4859280" y="364500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Рабочий стол\та3.jpg"/>
          <p:cNvPicPr/>
          <p:nvPr/>
        </p:nvPicPr>
        <p:blipFill>
          <a:blip r:embed="rId3"/>
          <a:stretch/>
        </p:blipFill>
        <p:spPr>
          <a:xfrm>
            <a:off x="343080" y="3645000"/>
            <a:ext cx="39416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9" name="Picture 3" descr="C:\Documents and Settings\Admin\Рабочий стол\та2.jpg"/>
          <p:cNvPicPr/>
          <p:nvPr/>
        </p:nvPicPr>
        <p:blipFill>
          <a:blip r:embed="rId1"/>
          <a:stretch/>
        </p:blipFill>
        <p:spPr>
          <a:xfrm>
            <a:off x="235080" y="2757600"/>
            <a:ext cx="4336920" cy="376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\Рабочий стол\та4.jpg"/>
          <p:cNvPicPr/>
          <p:nvPr/>
        </p:nvPicPr>
        <p:blipFill>
          <a:blip r:embed="rId2"/>
          <a:stretch/>
        </p:blipFill>
        <p:spPr>
          <a:xfrm>
            <a:off x="4781520" y="614520"/>
            <a:ext cx="4183200" cy="31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2" name="Picture 2" descr="C:\Documents and Settings\Гав\Мои документы\табакерка.JPG"/>
          <p:cNvPicPr/>
          <p:nvPr/>
        </p:nvPicPr>
        <p:blipFill>
          <a:blip r:embed="rId1"/>
          <a:stretch/>
        </p:blipFill>
        <p:spPr>
          <a:xfrm>
            <a:off x="808200" y="260280"/>
            <a:ext cx="3476520" cy="266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4" name="Picture 7" descr="C:\Documents and Settings\Admin\Рабочий стол\та6.jpg"/>
          <p:cNvPicPr/>
          <p:nvPr/>
        </p:nvPicPr>
        <p:blipFill>
          <a:blip r:embed="rId3"/>
          <a:stretch/>
        </p:blipFill>
        <p:spPr>
          <a:xfrm>
            <a:off x="1003320" y="3645000"/>
            <a:ext cx="428940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Рабочий стол\та5.jpg"/>
          <p:cNvPicPr/>
          <p:nvPr/>
        </p:nvPicPr>
        <p:blipFill>
          <a:blip r:embed="rId4"/>
          <a:stretch/>
        </p:blipFill>
        <p:spPr>
          <a:xfrm>
            <a:off x="5435640" y="98100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60480" y="12600"/>
            <a:ext cx="559728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-360" y="16178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Segoe UI"/>
              </a:rPr>
              <a:t>Бюр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-  письменный стол с конторкой, имеющей несколько небольших ящиков и отделений для хранения бумаг и мелких вещей. Обычно верхняя часть закрывается выдвигающейся гибкой шторко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8" name="Picture 2" descr="C:\Documents and Settings\Admin\Рабочий стол\б.jpg"/>
          <p:cNvPicPr/>
          <p:nvPr/>
        </p:nvPicPr>
        <p:blipFill>
          <a:blip r:embed="rId2"/>
          <a:stretch/>
        </p:blipFill>
        <p:spPr>
          <a:xfrm>
            <a:off x="5153040" y="476280"/>
            <a:ext cx="360216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80000" y="3441600"/>
            <a:ext cx="2928960" cy="337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2:54Z</dcterms:created>
  <dc:creator>Admin</dc:creator>
  <dc:description/>
  <dc:language>en-US</dc:language>
  <cp:lastModifiedBy>Admin</cp:lastModifiedBy>
  <dcterms:modified xsi:type="dcterms:W3CDTF">2012-12-18T17:00:47Z</dcterms:modified>
  <cp:revision>34</cp:revision>
  <dc:subject/>
  <dc:title>В.М.Одоевский</dc:title>
</cp:coreProperties>
</file>