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49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48.png" ContentType="image/png"/>
  <Override PartName="/ppt/media/image50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4AF-08CA-4D5E-8A58-3C696F4A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53C4-8356-41A6-8C93-56DF57CA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0DD-3790-4210-962C-94149003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1C2-090B-4070-9BB7-68FE3883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6AB-94B8-4D0F-A95D-E86A6B28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6D3-1A12-418F-BFB3-8BA9D3EB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EC0-9E3B-4FB3-88AB-787E01B5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F8E-C8AE-4D0D-A56C-392A89CF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C9B-C256-4A81-8E03-5F8FA711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8E4-84C0-4380-933B-C3CD6281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0FD-A1B1-42F1-B7C2-3E62F647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A24-F4BE-467C-87EE-F7BD9939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18DE-110D-4028-A35A-064123BB7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1755720" y="212760"/>
            <a:ext cx="5772240" cy="109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932360" y="2590560"/>
            <a:ext cx="399240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Segoe UI"/>
              </a:rPr>
              <a:t>«Городок </a:t>
            </a:r>
            <a:endParaRPr b="0" lang="en-US" sz="4800" spc="-1" strike="noStrike">
              <a:solidFill>
                <a:srgbClr val="0d0d0d"/>
              </a:solidFill>
              <a:latin typeface="Segoe U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Segoe UI"/>
              </a:rPr>
              <a:t>в табакерке»</a:t>
            </a:r>
            <a:endParaRPr b="0" lang="en-US" sz="4800" spc="-1" strike="noStrike">
              <a:solidFill>
                <a:srgbClr val="0d0d0d"/>
              </a:solidFill>
              <a:latin typeface="Segoe U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43" name="Picture 2" descr="C:\Documents and Settings\Admin\Рабочий стол\одоевский.jpg"/>
          <p:cNvPicPr/>
          <p:nvPr/>
        </p:nvPicPr>
        <p:blipFill>
          <a:blip r:embed="rId2"/>
          <a:stretch/>
        </p:blipFill>
        <p:spPr>
          <a:xfrm>
            <a:off x="119160" y="1557360"/>
            <a:ext cx="5173560" cy="403236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4"/>
          <p:cNvSpPr/>
          <p:nvPr/>
        </p:nvSpPr>
        <p:spPr>
          <a:xfrm>
            <a:off x="4756320" y="5516640"/>
            <a:ext cx="39924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ГБОУ г.Москвы СОШ №8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Segoe UI"/>
              </a:rPr>
              <a:t>Гусейнова М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19080"/>
            <a:ext cx="8229600" cy="1120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24000" y="1617840"/>
            <a:ext cx="4319280" cy="26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Segoe UI"/>
              </a:rPr>
              <a:t>Горка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– это мебель для посуды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2" name="Picture 2" descr="C:\Documents and Settings\Admin\Рабочий стол\52.jpg"/>
          <p:cNvPicPr/>
          <p:nvPr/>
        </p:nvPicPr>
        <p:blipFill>
          <a:blip r:embed="rId2"/>
          <a:stretch/>
        </p:blipFill>
        <p:spPr>
          <a:xfrm>
            <a:off x="4788000" y="1484280"/>
            <a:ext cx="4176720" cy="52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2349360"/>
            <a:ext cx="490680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Segoe UI"/>
              </a:rPr>
              <a:t>Ставни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деревянный затвор  на окнах в деревянных домах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5" name="Picture 2" descr="C:\Documents and Settings\Admin\Рабочий стол\0_7c80d_cf62e52d_XL.jpg"/>
          <p:cNvPicPr/>
          <p:nvPr/>
        </p:nvPicPr>
        <p:blipFill>
          <a:blip r:embed="rId2"/>
          <a:stretch/>
        </p:blipFill>
        <p:spPr>
          <a:xfrm>
            <a:off x="5076720" y="1149480"/>
            <a:ext cx="3816360" cy="508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599840"/>
            <a:ext cx="82915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Segoe UI"/>
              </a:rPr>
              <a:t>Флюгер</a:t>
            </a:r>
            <a:r>
              <a:rPr b="0" lang="ru-RU" sz="2800" spc="-1" strike="noStrike">
                <a:solidFill>
                  <a:srgbClr val="0d0d0d"/>
                </a:solidFill>
                <a:latin typeface="Segoe UI"/>
              </a:rPr>
              <a:t> - прибор для определения направления и измерения скорости ветра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8" name="Picture 2" descr="C:\Documents and Settings\Admin\Рабочий стол\49.jpg"/>
          <p:cNvPicPr/>
          <p:nvPr/>
        </p:nvPicPr>
        <p:blipFill>
          <a:blip r:embed="rId2"/>
          <a:stretch/>
        </p:blipFill>
        <p:spPr>
          <a:xfrm>
            <a:off x="5724360" y="2514600"/>
            <a:ext cx="3168720" cy="422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Admin\Рабочий стол\t10.gif"/>
          <p:cNvPicPr/>
          <p:nvPr/>
        </p:nvPicPr>
        <p:blipFill>
          <a:blip r:embed="rId3"/>
          <a:stretch/>
        </p:blipFill>
        <p:spPr>
          <a:xfrm>
            <a:off x="324000" y="3110040"/>
            <a:ext cx="4319280" cy="33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:\Documents and Settings\Admin\Рабочий стол\був.jpg"/>
          <p:cNvPicPr/>
          <p:nvPr/>
        </p:nvPicPr>
        <p:blipFill>
          <a:blip r:embed="rId1"/>
          <a:stretch/>
        </p:blipFill>
        <p:spPr>
          <a:xfrm>
            <a:off x="179280" y="173664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Admin\Рабочий стол\Tisnenaya%20bumaga_5.jpg"/>
          <p:cNvPicPr/>
          <p:nvPr/>
        </p:nvPicPr>
        <p:blipFill>
          <a:blip r:embed="rId3"/>
          <a:stretch/>
        </p:blipFill>
        <p:spPr>
          <a:xfrm>
            <a:off x="4848120" y="1773360"/>
            <a:ext cx="418788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4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44000" y="1143000"/>
            <a:ext cx="8820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Затеплилась звездочка 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–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Право 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-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С сими словами 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–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Segoe UI"/>
              </a:rPr>
              <a:t>Учтиво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 –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85" name="Прямоугольник 6" descr=""/>
          <p:cNvPicPr/>
          <p:nvPr/>
        </p:nvPicPr>
        <p:blipFill>
          <a:blip r:embed="rId2"/>
          <a:stretch/>
        </p:blipFill>
        <p:spPr>
          <a:xfrm>
            <a:off x="5132520" y="1042920"/>
            <a:ext cx="3767040" cy="6699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3"/>
          <a:stretch/>
        </p:blipFill>
        <p:spPr>
          <a:xfrm>
            <a:off x="2109960" y="2266920"/>
            <a:ext cx="3943080" cy="6714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8" descr=""/>
          <p:cNvPicPr/>
          <p:nvPr/>
        </p:nvPicPr>
        <p:blipFill>
          <a:blip r:embed="rId4"/>
          <a:stretch/>
        </p:blipFill>
        <p:spPr>
          <a:xfrm>
            <a:off x="3693960" y="3419640"/>
            <a:ext cx="39387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9" descr=""/>
          <p:cNvPicPr/>
          <p:nvPr/>
        </p:nvPicPr>
        <p:blipFill>
          <a:blip r:embed="rId5"/>
          <a:stretch/>
        </p:blipFill>
        <p:spPr>
          <a:xfrm>
            <a:off x="2182680" y="4572000"/>
            <a:ext cx="3936960" cy="85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90" name="Содержимое 3" descr="6.jpg"/>
          <p:cNvPicPr/>
          <p:nvPr/>
        </p:nvPicPr>
        <p:blipFill>
          <a:blip r:embed="rId1"/>
          <a:stretch/>
        </p:blipFill>
        <p:spPr>
          <a:xfrm>
            <a:off x="1547640" y="0"/>
            <a:ext cx="6193080" cy="6899400"/>
          </a:xfrm>
          <a:prstGeom prst="rect">
            <a:avLst/>
          </a:prstGeom>
          <a:ln w="0">
            <a:noFill/>
          </a:ln>
        </p:spPr>
      </p:pic>
      <p:sp>
        <p:nvSpPr>
          <p:cNvPr id="91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уж и было чего посмотреть! Какая прекрасная табакерка! пестренькая, из черепахи. А что на крышке-то! Ворота, башенки, домик, другой, третий, четвертый, — и счесть нельзя, и все мал мала меньше, и все золотые; а деревья-то также золотые, а листики на них серебряные; а за деревьями встает солнышко, и от него розовые лучи расходятся по всему неб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одержимое 2"/>
          <p:cNvSpPr/>
          <p:nvPr/>
        </p:nvSpPr>
        <p:spPr>
          <a:xfrm>
            <a:off x="457200" y="0"/>
            <a:ext cx="8362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ду тем музыка играет да играет; вот все тише да тише, как будто что-то цепляется за каждую нотку, как будто что-то отталкивает один звук от другого. Вот Миша смотрит: внизу табакерки отворяется дверца, и из дверцы выбегает мальчик с золотою головкою и в стальной юбочке, останавливается на пороге и манит к себе Миш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“Да отчего же, — подумал Миша, — папенька сказал, что в этом городке и без меня тесно? Нет, видно, в нем живут добрые люди, видите, зовут меня в гости”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Извольте, с величайшею радостью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94" name="Содержимое 5" descr="2.jpg"/>
          <p:cNvPicPr/>
          <p:nvPr/>
        </p:nvPicPr>
        <p:blipFill>
          <a:blip r:embed="rId1"/>
          <a:stretch/>
        </p:blipFill>
        <p:spPr>
          <a:xfrm>
            <a:off x="1763640" y="39600"/>
            <a:ext cx="5256360" cy="677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Содержимое 2"/>
          <p:cNvSpPr/>
          <p:nvPr/>
        </p:nvSpPr>
        <p:spPr>
          <a:xfrm>
            <a:off x="457200" y="33336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ь-динь-динь! — отвечал мальчик. — Пройдем, не беспокойтесь, ступайте только за мн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ша послушался. В самом деле, с каждым их шагом, казалось, своды подымались, и наши мальчики всюду свободно проходили; когда же они дошли до последнего свода, тогда мальчик-колокольчик попросил Мишу оглянуться назад. Миша оглянулся, и что же он увидел? Теперь тот первый свод, под который он подошел, входя в дверцы, показался ему маленьким, как будто, пока они шли, свод опустился. Миша был очень удивлен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3" descr="1.jpg"/>
          <p:cNvPicPr/>
          <p:nvPr/>
        </p:nvPicPr>
        <p:blipFill>
          <a:blip r:embed="rId1"/>
          <a:stretch/>
        </p:blipFill>
        <p:spPr>
          <a:xfrm>
            <a:off x="1332000" y="28440"/>
            <a:ext cx="5580000" cy="678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8" name="Содержимое 2"/>
          <p:cNvSpPr/>
          <p:nvPr/>
        </p:nvSpPr>
        <p:spPr>
          <a:xfrm>
            <a:off x="108000" y="115920"/>
            <a:ext cx="89647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тем их окружили мальчики-колокольчики, теребили Мишу за платье, звенели, прыгали, бега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Весело вы живете, — сказал им Миша, — век бы с вами остался. Целый день вы ничего не делаете, у вас ни уроков, ни учителей, да еще и музыка целый ден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Динь-динь-динь! — закричали колокольчики. — Уж нашел у нас веселье! Нет, Миша, плохое нам житье. Правда, уроков у нас нет, да что же в том толку? Мы бы уроков не побоялися. Вся наша беда именно в том, что у нас, бедных, никакого нет дела; нет у нас ни книжек, ни картинок; нет ни папеньки, ни маменьки; нечем заняться; целый день играй да играй, а ведь это, Миша, очень, очень скучно. Поверишь ли? Хорошо наше черепаховое небо, хорошо и золотое солнышко и золотые деревья; но мы, бедные, мы насмотрелись на них вдоволь, и все это очень нам надоело; из городка мы — ни пяди, а ты можешь себе вообразить, каково целый век, ничего не делая, просидеть в табакерке, и даже в табакерке с музыко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3" descr="3.jpg"/>
          <p:cNvPicPr/>
          <p:nvPr/>
        </p:nvPicPr>
        <p:blipFill>
          <a:blip r:embed="rId1"/>
          <a:stretch/>
        </p:blipFill>
        <p:spPr>
          <a:xfrm>
            <a:off x="1835280" y="0"/>
            <a:ext cx="5329080" cy="683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одержимое 2"/>
          <p:cNvSpPr/>
          <p:nvPr/>
        </p:nvSpPr>
        <p:spPr>
          <a:xfrm>
            <a:off x="0" y="44280"/>
            <a:ext cx="89647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что Миша к нему подошел, как надзиратель закричал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Шуры-муры! кто здесь ходит? кто здесь бродит? Шуры-муры? кто прочь не идет? кто мне спать не дает? Шуры-муры! шуры-муры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Это я, — храбро отвечал Миша, — я — Миша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А что тебе надобно? — спросил надзирател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Да мне жаль бедных мальчиков-колокольчиков, они все такие умные, такие добрые, такие музыканты, а по вашему приказанию дядьки их беспрестанно постукивают.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А мне какое дело, шуры-муры! Не я здесь набольший. Пусть себе дядьки стукают мальчиков! Мне что за дело! Я надзиратель добрый, все на диване лежу и ни за кем не гляжу. Шуры-муры, шуры-муры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102" name="Содержимое 3" descr="4.jpg"/>
          <p:cNvPicPr/>
          <p:nvPr/>
        </p:nvPicPr>
        <p:blipFill>
          <a:blip r:embed="rId1"/>
          <a:stretch/>
        </p:blipFill>
        <p:spPr>
          <a:xfrm>
            <a:off x="2050920" y="0"/>
            <a:ext cx="5400720" cy="683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560" y="2176560"/>
            <a:ext cx="8893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Лежит ежик у елки, у ежа иголки,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А внизу, похожие на маленьких ежат,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Шишки прошлогодние на траве лежат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0" y="44280"/>
            <a:ext cx="91440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отрит, золотой шатер с жемчужною бахромою; наверху золотой флюгер вертится, будто ветряная мельница, а под шатром лежит царевна Пружинка и, как змейка, то свернется, то развернется и беспрестанно надзирателя под бок толкает. Миша этому очень удивился и сказал е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Сударыня царевна! Зачем вы надзирателя под бок толкаете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Зиц-зиц-зиц, — отвечала царевна. — Глупый ты мальчик, неразумный мальчик. На все смотришь, ничего не видишь! Кабы я валик не толкала, валик бы не вертелся; кабы валик не вертелся, то он за молоточки бы не цеплялся, молоточки бы не стучали; кабы молоточки не стучали, колокольчики бы не звенели; кабы колокольчики не звенели, и музыки бы не было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3" descr="5.jpg"/>
          <p:cNvPicPr/>
          <p:nvPr/>
        </p:nvPicPr>
        <p:blipFill>
          <a:blip r:embed="rId1"/>
          <a:stretch/>
        </p:blipFill>
        <p:spPr>
          <a:xfrm>
            <a:off x="1763640" y="0"/>
            <a:ext cx="5329440" cy="681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4572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одно мгновение пружинка с силою развилась, валик сильно завертелся, молоточки быстро застучали, колокольчики заиграли дребедень и вдруг пружинка лопнула. Все умолкло, валик остановился, молоточки попадали, колокольчики свернулись на сторону, солнышко повисло, домики изломались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Рабочий стол\tmp_18.jpg"/>
          <p:cNvPicPr/>
          <p:nvPr/>
        </p:nvPicPr>
        <p:blipFill>
          <a:blip r:embed="rId1"/>
          <a:stretch/>
        </p:blipFill>
        <p:spPr>
          <a:xfrm>
            <a:off x="487440" y="87480"/>
            <a:ext cx="8332560" cy="66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2" descr=""/>
          <p:cNvPicPr/>
          <p:nvPr/>
        </p:nvPicPr>
        <p:blipFill>
          <a:blip r:embed="rId1"/>
          <a:stretch/>
        </p:blipFill>
        <p:spPr>
          <a:xfrm>
            <a:off x="249120" y="384120"/>
            <a:ext cx="8723520" cy="574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8240760" cy="115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519120" y="253692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Segoe UI"/>
              </a:rPr>
              <a:t>Перечитать сказку, поделив ее на части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3" descr=""/>
          <p:cNvPicPr/>
          <p:nvPr/>
        </p:nvPicPr>
        <p:blipFill>
          <a:blip r:embed="rId1"/>
          <a:stretch/>
        </p:blipFill>
        <p:spPr>
          <a:xfrm>
            <a:off x="165240" y="669960"/>
            <a:ext cx="8588160" cy="5078520"/>
          </a:xfrm>
          <a:prstGeom prst="rect">
            <a:avLst/>
          </a:prstGeom>
          <a:ln w="0">
            <a:noFill/>
          </a:ln>
        </p:spPr>
      </p:pic>
      <p:sp>
        <p:nvSpPr>
          <p:cNvPr id="113" name="Подзаголовок 2"/>
          <p:cNvSpPr/>
          <p:nvPr/>
        </p:nvSpPr>
        <p:spPr>
          <a:xfrm>
            <a:off x="3348000" y="17640"/>
            <a:ext cx="2736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Segoe UI"/>
              </a:rPr>
              <a:t>С В. Кутявина Поурочные разработки по литературному чтению: 4 класс. – М.: ВАКО,2010.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slovari.yandex.ru 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http://clubs.ya.ru/fetes-galantes/posts.xml?tb=530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http://www.liveinternet.ru/users/iposlad/rubric/1663824/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http://construct.md/ru/moldova/cuzneabudulaia/storelist 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da-zdra-per-m.livejournal.com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PlanetaSkazok.ru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d0d0d"/>
                </a:solidFill>
                <a:latin typeface="Segoe UI"/>
              </a:rPr>
              <a:t>allskazki.ru</a:t>
            </a:r>
            <a:endParaRPr b="0" lang="en-US" sz="27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4" descr=""/>
          <p:cNvPicPr/>
          <p:nvPr/>
        </p:nvPicPr>
        <p:blipFill>
          <a:blip r:embed="rId1"/>
          <a:stretch/>
        </p:blipFill>
        <p:spPr>
          <a:xfrm>
            <a:off x="596880" y="12600"/>
            <a:ext cx="8229600" cy="209736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3" descr="untitled.bmp"/>
          <p:cNvPicPr/>
          <p:nvPr/>
        </p:nvPicPr>
        <p:blipFill>
          <a:blip r:embed="rId2"/>
          <a:stretch/>
        </p:blipFill>
        <p:spPr>
          <a:xfrm>
            <a:off x="1908000" y="2090880"/>
            <a:ext cx="4969080" cy="487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Admin\Рабочий стол\Ris_3.jpg"/>
          <p:cNvPicPr/>
          <p:nvPr/>
        </p:nvPicPr>
        <p:blipFill>
          <a:blip r:embed="rId1"/>
          <a:stretch/>
        </p:blipFill>
        <p:spPr>
          <a:xfrm>
            <a:off x="4788000" y="320760"/>
            <a:ext cx="4284720" cy="584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79280" y="-27360"/>
            <a:ext cx="5184720" cy="80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В. Ф. Одоевский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работал под псевдонимом «Дедушка Ириней».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Когда ему исполнилось 30 лет, в свет вышел сборник для детей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«Детские сказки дедушки Иринея»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Сюда вошли сказки «Червячок»,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«Мороз Иванович» и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  <a:ea typeface="Arial"/>
              </a:rPr>
              <a:t>«Городок в табакерке»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2" name="Picture 3" descr="C:\Documents and Settings\Admin\Рабочий стол\0_49953_d0ba2dbc_L.jpg"/>
          <p:cNvPicPr/>
          <p:nvPr/>
        </p:nvPicPr>
        <p:blipFill>
          <a:blip r:embed="rId1"/>
          <a:stretch/>
        </p:blipFill>
        <p:spPr>
          <a:xfrm>
            <a:off x="1258920" y="44280"/>
            <a:ext cx="6738840" cy="680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572080" y="1643040"/>
            <a:ext cx="33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787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8ed5"/>
                </a:solidFill>
                <a:latin typeface="Segoe UI"/>
              </a:rPr>
              <a:t>Табакерка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- маленькая изящная коробочка, вмещавшая горсточку ароматной пыли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56" name="Picture 2" descr="C:\Documents and Settings\Admin\Рабочий стол\та.jpg"/>
          <p:cNvPicPr/>
          <p:nvPr/>
        </p:nvPicPr>
        <p:blipFill>
          <a:blip r:embed="rId2"/>
          <a:stretch/>
        </p:blipFill>
        <p:spPr>
          <a:xfrm>
            <a:off x="4859280" y="3645000"/>
            <a:ext cx="360036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Admin\Рабочий стол\та3.jpg"/>
          <p:cNvPicPr/>
          <p:nvPr/>
        </p:nvPicPr>
        <p:blipFill>
          <a:blip r:embed="rId3"/>
          <a:stretch/>
        </p:blipFill>
        <p:spPr>
          <a:xfrm>
            <a:off x="343080" y="3645000"/>
            <a:ext cx="394164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59" name="Picture 3" descr="C:\Documents and Settings\Admin\Рабочий стол\та2.jpg"/>
          <p:cNvPicPr/>
          <p:nvPr/>
        </p:nvPicPr>
        <p:blipFill>
          <a:blip r:embed="rId1"/>
          <a:stretch/>
        </p:blipFill>
        <p:spPr>
          <a:xfrm>
            <a:off x="235080" y="2757600"/>
            <a:ext cx="4336920" cy="376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Admin\Рабочий стол\та4.jpg"/>
          <p:cNvPicPr/>
          <p:nvPr/>
        </p:nvPicPr>
        <p:blipFill>
          <a:blip r:embed="rId2"/>
          <a:stretch/>
        </p:blipFill>
        <p:spPr>
          <a:xfrm>
            <a:off x="4781520" y="614520"/>
            <a:ext cx="4183200" cy="310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2" name="Picture 2" descr="C:\Documents and Settings\Гав\Мои документы\табакерка.JPG"/>
          <p:cNvPicPr/>
          <p:nvPr/>
        </p:nvPicPr>
        <p:blipFill>
          <a:blip r:embed="rId1"/>
          <a:stretch/>
        </p:blipFill>
        <p:spPr>
          <a:xfrm>
            <a:off x="808200" y="260280"/>
            <a:ext cx="3476520" cy="266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572080" y="1643040"/>
            <a:ext cx="33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4" name="Picture 7" descr="C:\Documents and Settings\Admin\Рабочий стол\та6.jpg"/>
          <p:cNvPicPr/>
          <p:nvPr/>
        </p:nvPicPr>
        <p:blipFill>
          <a:blip r:embed="rId3"/>
          <a:stretch/>
        </p:blipFill>
        <p:spPr>
          <a:xfrm>
            <a:off x="1003320" y="3645000"/>
            <a:ext cx="4289400" cy="285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Admin\Рабочий стол\та5.jpg"/>
          <p:cNvPicPr/>
          <p:nvPr/>
        </p:nvPicPr>
        <p:blipFill>
          <a:blip r:embed="rId4"/>
          <a:stretch/>
        </p:blipFill>
        <p:spPr>
          <a:xfrm>
            <a:off x="5435640" y="98100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60480" y="12600"/>
            <a:ext cx="5597280" cy="8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-360" y="161784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Segoe UI"/>
              </a:rPr>
              <a:t>Бюро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 -  письменный стол с конторкой, имеющей несколько небольших ящиков и отделений для хранения бумаг и мелких вещей. Обычно верхняя часть закрывается выдвигающейся гибкой шторкой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8" name="Picture 2" descr="C:\Documents and Settings\Admin\Рабочий стол\б.jpg"/>
          <p:cNvPicPr/>
          <p:nvPr/>
        </p:nvPicPr>
        <p:blipFill>
          <a:blip r:embed="rId2"/>
          <a:stretch/>
        </p:blipFill>
        <p:spPr>
          <a:xfrm>
            <a:off x="5153040" y="476280"/>
            <a:ext cx="3602160" cy="288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5580000" y="3441600"/>
            <a:ext cx="2928960" cy="337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1:52:54Z</dcterms:created>
  <dc:creator>Admin</dc:creator>
  <dc:description/>
  <dc:language>en-US</dc:language>
  <cp:lastModifiedBy>Admin</cp:lastModifiedBy>
  <dcterms:modified xsi:type="dcterms:W3CDTF">2012-12-18T17:00:47Z</dcterms:modified>
  <cp:revision>34</cp:revision>
  <dc:subject/>
  <dc:title>В.М.Одоевский</dc:title>
</cp:coreProperties>
</file>