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941-A871-46CC-9836-22F2C612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CC2-E786-4773-8897-F72F2ABC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67D-59CD-43FC-A25D-34577B35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93D-6F87-4405-8F9C-6934BD94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E837-5A30-486A-A6DE-280623AC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2F5E-0BE0-455D-9CEF-039D9A55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C980-F78F-4CFD-8370-37800AB7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5644-00A6-457F-9DD3-5A086437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874A-87B3-4BC9-9FA8-2019191D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DDDD-CDD2-4CDE-805A-35B1D46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C602-0530-46AB-ADF6-8689E1C5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BD2-AB00-4D30-B7B3-B5EECE2D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4F26-BDC9-4414-9CE9-0BE404D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8113-A998-4D8F-941B-DB21B4C3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1934-9CA8-4445-A043-71DB94AD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02F1-2F98-456F-8ABC-C093C3BE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ED61-3311-44B2-9CAD-5221BBB7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39B-8F90-46B4-86B0-3A09F043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678-34AB-41B0-A7DF-DE411747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C93-1CB0-4F27-B507-E709E015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8DE-A62A-4A3C-93F9-10365B3C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B53-02F0-4809-B9AC-95C5243E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E76-FD5F-41D0-A7B6-95731E2D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19C-2E22-45A4-BB73-57103442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E825-06F1-4F91-ABAE-21535636A7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D83A-C21D-4EB9-925A-47A57BBD1F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australia-tour.ru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27280" y="4869000"/>
            <a:ext cx="4321080" cy="1346040"/>
          </a:xfrm>
          <a:prstGeom prst="upArrowCallout">
            <a:avLst>
              <a:gd name="adj1" fmla="val 80263"/>
              <a:gd name="adj2" fmla="val 80255"/>
              <a:gd name="adj3" fmla="val 16667"/>
              <a:gd name="adj4" fmla="val 66660"/>
            </a:avLst>
          </a:prstGeom>
          <a:solidFill>
            <a:srgbClr val="cc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бозначьте тему урока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cument"/>
          <p:cNvSpPr/>
          <p:nvPr/>
        </p:nvSpPr>
        <p:spPr>
          <a:xfrm>
            <a:off x="684360" y="1628640"/>
            <a:ext cx="7993080" cy="2808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такая шутка. Однажды австралийскому фермеру упали на лоб капли дожд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н от удивления упал в обмо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ственники пытались привести его в чув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ызгая на лицо холодную вод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безуспешно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коне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дин из них догадался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ыплеснуть» в лицо несчастному 2 ведра пыли. И фермер тот час же пришел в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1280" y="0"/>
            <a:ext cx="8353440" cy="1490760"/>
          </a:xfrm>
          <a:prstGeom prst="rect">
            <a:avLst/>
          </a:prstGeom>
          <a:solidFill>
            <a:srgbClr val="cccc99"/>
          </a:solidFill>
          <a:ln w="38160">
            <a:solidFill>
              <a:srgbClr val="e2e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-за жаркого и сухого климата на большей части Австралии.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або развиты внутренние воды (реки и озера). Крупная р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ррей и приток Дарлинг.Озеро  Эй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щадь озера изменяется в зависимости от оса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5103" t="5601" r="6378" b="3664"/>
          <a:stretch/>
        </p:blipFill>
        <p:spPr>
          <a:xfrm>
            <a:off x="755640" y="1628640"/>
            <a:ext cx="8209080" cy="5229360"/>
          </a:xfrm>
          <a:prstGeom prst="rect">
            <a:avLst/>
          </a:prstGeom>
          <a:ln w="57240">
            <a:solidFill>
              <a:srgbClr val="b2b2b2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977080" y="5195880"/>
            <a:ext cx="1751040" cy="257040"/>
          </a:xfrm>
          <a:custGeom>
            <a:avLst/>
            <a:gdLst/>
            <a:ahLst/>
            <a:rect l="l" t="t" r="r" b="b"/>
            <a:pathLst>
              <a:path w="1103" h="162">
                <a:moveTo>
                  <a:pt x="1103" y="120"/>
                </a:moveTo>
                <a:cubicBezTo>
                  <a:pt x="1055" y="136"/>
                  <a:pt x="1003" y="129"/>
                  <a:pt x="955" y="113"/>
                </a:cubicBezTo>
                <a:cubicBezTo>
                  <a:pt x="910" y="68"/>
                  <a:pt x="882" y="33"/>
                  <a:pt x="815" y="21"/>
                </a:cubicBezTo>
                <a:cubicBezTo>
                  <a:pt x="787" y="16"/>
                  <a:pt x="731" y="7"/>
                  <a:pt x="731" y="7"/>
                </a:cubicBezTo>
                <a:cubicBezTo>
                  <a:pt x="707" y="9"/>
                  <a:pt x="683" y="10"/>
                  <a:pt x="660" y="14"/>
                </a:cubicBezTo>
                <a:cubicBezTo>
                  <a:pt x="645" y="17"/>
                  <a:pt x="632" y="23"/>
                  <a:pt x="618" y="28"/>
                </a:cubicBezTo>
                <a:cubicBezTo>
                  <a:pt x="611" y="30"/>
                  <a:pt x="597" y="35"/>
                  <a:pt x="597" y="35"/>
                </a:cubicBezTo>
                <a:cubicBezTo>
                  <a:pt x="578" y="56"/>
                  <a:pt x="547" y="69"/>
                  <a:pt x="520" y="78"/>
                </a:cubicBezTo>
                <a:cubicBezTo>
                  <a:pt x="497" y="76"/>
                  <a:pt x="473" y="75"/>
                  <a:pt x="450" y="71"/>
                </a:cubicBezTo>
                <a:cubicBezTo>
                  <a:pt x="435" y="68"/>
                  <a:pt x="407" y="57"/>
                  <a:pt x="407" y="57"/>
                </a:cubicBezTo>
                <a:cubicBezTo>
                  <a:pt x="364" y="12"/>
                  <a:pt x="315" y="6"/>
                  <a:pt x="253" y="0"/>
                </a:cubicBezTo>
                <a:cubicBezTo>
                  <a:pt x="230" y="2"/>
                  <a:pt x="206" y="2"/>
                  <a:pt x="183" y="7"/>
                </a:cubicBezTo>
                <a:cubicBezTo>
                  <a:pt x="173" y="9"/>
                  <a:pt x="164" y="16"/>
                  <a:pt x="155" y="21"/>
                </a:cubicBezTo>
                <a:cubicBezTo>
                  <a:pt x="148" y="25"/>
                  <a:pt x="142" y="33"/>
                  <a:pt x="134" y="35"/>
                </a:cubicBezTo>
                <a:cubicBezTo>
                  <a:pt x="113" y="40"/>
                  <a:pt x="91" y="40"/>
                  <a:pt x="70" y="43"/>
                </a:cubicBezTo>
                <a:cubicBezTo>
                  <a:pt x="43" y="83"/>
                  <a:pt x="0" y="106"/>
                  <a:pt x="0" y="162"/>
                </a:cubicBezTo>
                <a:lnTo>
                  <a:pt x="22" y="112"/>
                </a:lnTo>
              </a:path>
            </a:pathLst>
          </a:custGeom>
          <a:noFill/>
          <a:ln w="28440">
            <a:solidFill>
              <a:srgbClr val="272f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8720" y="4527720"/>
            <a:ext cx="1631880" cy="722160"/>
          </a:xfrm>
          <a:custGeom>
            <a:avLst/>
            <a:gdLst/>
            <a:ahLst/>
            <a:rect l="l" t="t" r="r" b="b"/>
            <a:pathLst>
              <a:path w="1028" h="455">
                <a:moveTo>
                  <a:pt x="1028" y="49"/>
                </a:moveTo>
                <a:cubicBezTo>
                  <a:pt x="927" y="41"/>
                  <a:pt x="832" y="17"/>
                  <a:pt x="733" y="0"/>
                </a:cubicBezTo>
                <a:cubicBezTo>
                  <a:pt x="613" y="8"/>
                  <a:pt x="662" y="9"/>
                  <a:pt x="585" y="28"/>
                </a:cubicBezTo>
                <a:cubicBezTo>
                  <a:pt x="551" y="50"/>
                  <a:pt x="512" y="48"/>
                  <a:pt x="473" y="56"/>
                </a:cubicBezTo>
                <a:cubicBezTo>
                  <a:pt x="456" y="66"/>
                  <a:pt x="441" y="82"/>
                  <a:pt x="423" y="91"/>
                </a:cubicBezTo>
                <a:cubicBezTo>
                  <a:pt x="410" y="98"/>
                  <a:pt x="381" y="105"/>
                  <a:pt x="381" y="105"/>
                </a:cubicBezTo>
                <a:cubicBezTo>
                  <a:pt x="360" y="137"/>
                  <a:pt x="326" y="135"/>
                  <a:pt x="290" y="147"/>
                </a:cubicBezTo>
                <a:cubicBezTo>
                  <a:pt x="261" y="157"/>
                  <a:pt x="241" y="197"/>
                  <a:pt x="227" y="218"/>
                </a:cubicBezTo>
                <a:cubicBezTo>
                  <a:pt x="216" y="234"/>
                  <a:pt x="190" y="228"/>
                  <a:pt x="171" y="232"/>
                </a:cubicBezTo>
                <a:cubicBezTo>
                  <a:pt x="146" y="257"/>
                  <a:pt x="150" y="277"/>
                  <a:pt x="121" y="295"/>
                </a:cubicBezTo>
                <a:cubicBezTo>
                  <a:pt x="109" y="331"/>
                  <a:pt x="66" y="360"/>
                  <a:pt x="30" y="372"/>
                </a:cubicBezTo>
                <a:cubicBezTo>
                  <a:pt x="14" y="421"/>
                  <a:pt x="35" y="360"/>
                  <a:pt x="9" y="421"/>
                </a:cubicBezTo>
                <a:cubicBezTo>
                  <a:pt x="0" y="442"/>
                  <a:pt x="2" y="455"/>
                  <a:pt x="2" y="421"/>
                </a:cubicBezTo>
                <a:lnTo>
                  <a:pt x="68" y="397"/>
                </a:lnTo>
              </a:path>
            </a:pathLst>
          </a:custGeom>
          <a:noFill/>
          <a:ln w="38160">
            <a:solidFill>
              <a:srgbClr val="272fc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60840" y="4255920"/>
            <a:ext cx="268560" cy="204840"/>
          </a:xfrm>
          <a:custGeom>
            <a:avLst/>
            <a:gdLst/>
            <a:ahLst/>
            <a:rect l="l" t="t" r="r" b="b"/>
            <a:pathLst>
              <a:path w="169" h="129">
                <a:moveTo>
                  <a:pt x="135" y="108"/>
                </a:moveTo>
                <a:cubicBezTo>
                  <a:pt x="128" y="101"/>
                  <a:pt x="124" y="90"/>
                  <a:pt x="114" y="87"/>
                </a:cubicBezTo>
                <a:cubicBezTo>
                  <a:pt x="76" y="76"/>
                  <a:pt x="91" y="100"/>
                  <a:pt x="79" y="115"/>
                </a:cubicBezTo>
                <a:cubicBezTo>
                  <a:pt x="74" y="122"/>
                  <a:pt x="65" y="124"/>
                  <a:pt x="58" y="129"/>
                </a:cubicBezTo>
                <a:cubicBezTo>
                  <a:pt x="16" y="119"/>
                  <a:pt x="2" y="115"/>
                  <a:pt x="37" y="80"/>
                </a:cubicBezTo>
                <a:cubicBezTo>
                  <a:pt x="25" y="43"/>
                  <a:pt x="0" y="48"/>
                  <a:pt x="37" y="23"/>
                </a:cubicBezTo>
                <a:cubicBezTo>
                  <a:pt x="42" y="16"/>
                  <a:pt x="43" y="3"/>
                  <a:pt x="51" y="2"/>
                </a:cubicBezTo>
                <a:cubicBezTo>
                  <a:pt x="66" y="0"/>
                  <a:pt x="93" y="16"/>
                  <a:pt x="93" y="16"/>
                </a:cubicBezTo>
                <a:cubicBezTo>
                  <a:pt x="79" y="57"/>
                  <a:pt x="112" y="44"/>
                  <a:pt x="149" y="51"/>
                </a:cubicBezTo>
                <a:cubicBezTo>
                  <a:pt x="144" y="56"/>
                  <a:pt x="135" y="59"/>
                  <a:pt x="135" y="66"/>
                </a:cubicBezTo>
                <a:cubicBezTo>
                  <a:pt x="135" y="112"/>
                  <a:pt x="169" y="125"/>
                  <a:pt x="135" y="108"/>
                </a:cubicBezTo>
                <a:close/>
              </a:path>
            </a:pathLst>
          </a:custGeom>
          <a:solidFill>
            <a:srgbClr val="a8b0ee"/>
          </a:solidFill>
          <a:ln w="2844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4360" y="491040"/>
            <a:ext cx="8137440" cy="5580360"/>
          </a:xfrm>
          <a:prstGeom prst="rect">
            <a:avLst/>
          </a:prstGeom>
          <a:solidFill>
            <a:srgbClr val="b2b2b2"/>
          </a:solidFill>
          <a:ln w="381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ррей начинается в Австралийских Альпах на юго-востоке страны, впадает в Индийский океан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в Муррей не проникала соленая вода океана, воздвигнуты запруды длиной около 20 км. Получилось неглубокое озеро, на песчаных берегах которого гнездятся пеликан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Муррея, словно щупальца осьминога, тянутся длинные белые трубы к городам Аделаида, Порт-Огаста, Уайалла и еще дальше в пустыню. Муррей оделяет живительной влагой большую часть Южной Австрал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 в том, что в Муррей впадают притоки — Дарлинг и др. Его бассейн составляет 1/7 часть территории континента. Чтобы пропорционально распределить необходимую для развития хозяйства воду, по всему течению реки построены плотины и запруды. Для регулирования расхода воды вырыто огромное искусственное озеро. Когда дождей много, в озере накапливается вода, ее используют в засушливо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площадь материка покрыта сухими руслами ( крики) они ненадолго после редких дождей наполняются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500280"/>
            <a:ext cx="7993080" cy="2521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 какой целью проложены трубы к городам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Закончи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Исторический пароход Marion в Маннуме на реставрации"/>
          <p:cNvPicPr/>
          <p:nvPr/>
        </p:nvPicPr>
        <p:blipFill>
          <a:blip r:embed="rId1"/>
          <a:stretch/>
        </p:blipFill>
        <p:spPr>
          <a:xfrm>
            <a:off x="34920" y="-27000"/>
            <a:ext cx="914544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Ветряной насос для воды - типичная картина в глубинке.&lt;br&gt; &lt;A HREF="/>
          <p:cNvPicPr/>
          <p:nvPr/>
        </p:nvPicPr>
        <p:blipFill>
          <a:blip r:embed="rId1"/>
          <a:stretch/>
        </p:blipFill>
        <p:spPr>
          <a:xfrm>
            <a:off x="684360" y="189000"/>
            <a:ext cx="4751280" cy="648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5508720" y="1628640"/>
            <a:ext cx="3524040" cy="3385800"/>
          </a:xfrm>
          <a:prstGeom prst="rect">
            <a:avLst/>
          </a:prstGeom>
          <a:solidFill>
            <a:srgbClr val="cccc99"/>
          </a:solidFill>
          <a:ln w="38160">
            <a:solidFill>
              <a:srgbClr val="e3e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личительная особенность Австра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ие подземных 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земные водоно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и залегают от 20-2000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торые артезиан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одцы дают теплую и даже горячую в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т район Большого артезианского бассей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08720" y="5373720"/>
            <a:ext cx="2519280" cy="1204920"/>
          </a:xfrm>
          <a:prstGeom prst="leftArrow">
            <a:avLst>
              <a:gd name="adj1" fmla="val 50000"/>
              <a:gd name="adj2" fmla="val 5227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ровая 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4360" y="189000"/>
            <a:ext cx="8351640" cy="2157120"/>
          </a:xfrm>
          <a:prstGeom prst="rect">
            <a:avLst/>
          </a:prstGeom>
          <a:solidFill>
            <a:srgbClr val="cccc99"/>
          </a:solidFill>
          <a:ln w="38160">
            <a:solidFill>
              <a:srgbClr val="e3e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такая шутка. Однажды австралийскому фермеру упали на лоб капли дожд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он от удивления упал в обмо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ственники пытались привести его в чув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ызгая на лицо холодную вод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безуспешно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аконе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дин из них догадался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ыплеснуть» в лицо несчастному 2 ведра пыли. И фермер тот час же пришел в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0920" y="2421000"/>
            <a:ext cx="5113440" cy="865080"/>
          </a:xfrm>
          <a:prstGeom prst="upArrowCallout">
            <a:avLst>
              <a:gd name="adj1" fmla="val 147787"/>
              <a:gd name="adj2" fmla="val 147774"/>
              <a:gd name="adj3" fmla="val 16667"/>
              <a:gd name="adj4" fmla="val 6666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чему же фермер упал в обмор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8532720" cy="3429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Австралия. Туры в Австралию. Визы в Австралию. Авиабилеты. Отели Австралии. Сидней. Отдых в Австралии от лучших туроператоров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448080"/>
            <a:ext cx="8532720" cy="3409920"/>
          </a:xfrm>
          <a:prstGeom prst="rect">
            <a:avLst/>
          </a:prstGeom>
          <a:ln w="38160">
            <a:solidFill>
              <a:srgbClr val="ca711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Карта Австралии"/>
          <p:cNvPicPr/>
          <p:nvPr/>
        </p:nvPicPr>
        <p:blipFill>
          <a:blip r:embed="rId1"/>
          <a:srcRect l="1966" t="2752" r="1966" b="6941"/>
          <a:stretch/>
        </p:blipFill>
        <p:spPr>
          <a:xfrm>
            <a:off x="34920" y="-27000"/>
            <a:ext cx="9215280" cy="6912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sp>
        <p:nvSpPr>
          <p:cNvPr id="220" name=""/>
          <p:cNvSpPr txBox="1"/>
          <p:nvPr/>
        </p:nvSpPr>
        <p:spPr>
          <a:xfrm>
            <a:off x="1187280" y="1341360"/>
            <a:ext cx="6985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763640" y="1916280"/>
            <a:ext cx="590400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мат </a:t>
            </a:r>
            <a:endParaRPr b="0" i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i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утренние воды </a:t>
            </a:r>
            <a:endParaRPr b="0" i="1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стралии</a:t>
            </a:r>
            <a:endParaRPr b="0" i="1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08560" y="495360"/>
            <a:ext cx="72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спомните какие факторы образуют климат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ocument"/>
          <p:cNvSpPr/>
          <p:nvPr/>
        </p:nvSpPr>
        <p:spPr>
          <a:xfrm>
            <a:off x="684360" y="1557360"/>
            <a:ext cx="3457440" cy="4824360"/>
          </a:xfrm>
          <a:prstGeom prst="pie">
            <a:avLst/>
          </a:prstGeom>
          <a:solidFill>
            <a:srgbClr val="d8ebb3"/>
          </a:solidFill>
          <a:ln w="38160">
            <a:solidFill>
              <a:srgbClr val="ca711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ографическая ши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изость к оке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ушные 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в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еанически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27640" y="1523880"/>
            <a:ext cx="4537080" cy="4929480"/>
          </a:xfrm>
          <a:prstGeom prst="rect">
            <a:avLst/>
          </a:prstGeom>
          <a:ln w="38160">
            <a:solidFill>
              <a:srgbClr val="ca7110"/>
            </a:solidFill>
            <a:miter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10800000">
            <a:off x="0" y="2204640"/>
            <a:ext cx="493560" cy="2954520"/>
          </a:xfrm>
          <a:custGeom>
            <a:avLst/>
            <a:gdLst>
              <a:gd name="textAreaLeft" fmla="*/ 65880 w 493560"/>
              <a:gd name="textAreaRight" fmla="*/ 427680 w 493560"/>
              <a:gd name="textAreaTop" fmla="*/ 516960 h 2954520"/>
              <a:gd name="textAreaBottom" fmla="*/ 2142000 h 295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692287"/>
                <a:lnTo>
                  <a:pt x="9795" y="20371"/>
                </a:lnTo>
                <a:lnTo>
                  <a:pt x="21600" y="17280"/>
                </a:lnTo>
                <a:lnTo>
                  <a:pt x="9795" y="11731"/>
                </a:lnTo>
                <a:lnTo>
                  <a:pt x="9795" y="13891"/>
                </a:lnTo>
                <a:arcTo wR="21600" hR="7560" stAng="9107713" swAng="1334852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72fc7"/>
          </a:solidFill>
          <a:ln w="9360">
            <a:solidFill>
              <a:srgbClr val="272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67640" y="549360"/>
            <a:ext cx="649440" cy="1942920"/>
          </a:xfrm>
          <a:custGeom>
            <a:avLst/>
            <a:gdLst>
              <a:gd name="textAreaLeft" fmla="*/ 86760 w 649440"/>
              <a:gd name="textAreaRight" fmla="*/ 562680 w 649440"/>
              <a:gd name="textAreaTop" fmla="*/ 339840 h 1942920"/>
              <a:gd name="textAreaBottom" fmla="*/ 14086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10680" y="2708280"/>
            <a:ext cx="482400" cy="2655720"/>
          </a:xfrm>
          <a:custGeom>
            <a:avLst/>
            <a:gdLst>
              <a:gd name="textAreaLeft" fmla="*/ 64440 w 482400"/>
              <a:gd name="textAreaRight" fmla="*/ 417960 w 482400"/>
              <a:gd name="textAreaTop" fmla="*/ 464760 h 2655720"/>
              <a:gd name="textAreaBottom" fmla="*/ 1925640 h 265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1557360"/>
            <a:ext cx="987480" cy="609480"/>
          </a:xfrm>
          <a:prstGeom prst="cloudCallout">
            <a:avLst>
              <a:gd name="adj1" fmla="val -14953"/>
              <a:gd name="adj2" fmla="val 93490"/>
            </a:avLst>
          </a:prstGeom>
          <a:solidFill>
            <a:srgbClr val="79d1ed"/>
          </a:solidFill>
          <a:ln w="38160">
            <a:solidFill>
              <a:srgbClr val="272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3429000"/>
            <a:ext cx="574920" cy="433440"/>
          </a:xfrm>
          <a:prstGeom prst="cloudCallout">
            <a:avLst>
              <a:gd name="adj1" fmla="val 22375"/>
              <a:gd name="adj2" fmla="val 169046"/>
            </a:avLst>
          </a:prstGeom>
          <a:solidFill>
            <a:srgbClr val="79d1ed"/>
          </a:solidFill>
          <a:ln w="38160">
            <a:solidFill>
              <a:srgbClr val="272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260280"/>
            <a:ext cx="792000" cy="1152720"/>
          </a:xfrm>
          <a:prstGeom prst="line">
            <a:avLst/>
          </a:prstGeom>
          <a:ln w="57240">
            <a:solidFill>
              <a:srgbClr val="272fc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0"/>
            <a:ext cx="865080" cy="504720"/>
          </a:xfrm>
          <a:prstGeom prst="rect">
            <a:avLst/>
          </a:prstGeom>
          <a:solidFill>
            <a:srgbClr val="79d1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8346200">
            <a:off x="6338160" y="532440"/>
            <a:ext cx="1861920" cy="486000"/>
          </a:xfrm>
          <a:prstGeom prst="leftArrow">
            <a:avLst>
              <a:gd name="adj1" fmla="val 50000"/>
              <a:gd name="adj2" fmla="val 95778"/>
            </a:avLst>
          </a:prstGeom>
          <a:solidFill>
            <a:srgbClr val="79d1e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2492280"/>
            <a:ext cx="914400" cy="914400"/>
          </a:xfrm>
          <a:prstGeom prst="sun">
            <a:avLst>
              <a:gd name="adj" fmla="val 25000"/>
            </a:avLst>
          </a:prstGeom>
          <a:solidFill>
            <a:srgbClr val="e0f76d"/>
          </a:solidFill>
          <a:ln w="28440">
            <a:solidFill>
              <a:srgbClr val="ca71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516640"/>
            <a:ext cx="5796000" cy="1341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589720"/>
            <a:ext cx="468360" cy="503280"/>
          </a:xfrm>
          <a:custGeom>
            <a:avLst/>
            <a:gdLst>
              <a:gd name="textAreaLeft" fmla="*/ 62640 w 468360"/>
              <a:gd name="textAreaRight" fmla="*/ 405720 w 46836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566100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лы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281640"/>
            <a:ext cx="395280" cy="387360"/>
          </a:xfrm>
          <a:custGeom>
            <a:avLst/>
            <a:gdLst>
              <a:gd name="textAreaLeft" fmla="*/ 52920 w 395280"/>
              <a:gd name="textAreaRight" fmla="*/ 342360 w 395280"/>
              <a:gd name="textAreaTop" fmla="*/ 67680 h 387360"/>
              <a:gd name="textAreaBottom" fmla="*/ 280800 h 3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00" y="6184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ые 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5589720"/>
            <a:ext cx="576000" cy="431640"/>
          </a:xfrm>
          <a:prstGeom prst="sun">
            <a:avLst>
              <a:gd name="adj" fmla="val 25000"/>
            </a:avLst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10160" y="5589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565360"/>
            <a:ext cx="358560" cy="36036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6093000"/>
            <a:ext cx="287280" cy="21744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16200" y="59691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ис Сприн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6381720"/>
            <a:ext cx="504720" cy="287280"/>
          </a:xfrm>
          <a:prstGeom prst="cloudCallout">
            <a:avLst>
              <a:gd name="adj1" fmla="val -81444"/>
              <a:gd name="adj2" fmla="val 158287"/>
            </a:avLst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16200" y="630864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21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3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72fc7"/>
                                      </p:to>
                                    </p:animClr>
                                    <p:animClr clrSpc="rgb">
                                      <p:cBhvr>
                                        <p:cTn id="144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72fc7"/>
                                      </p:to>
                                    </p:animClr>
                                    <p:set>
                                      <p:cBhvr>
                                        <p:cTn id="145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00000" y="836640"/>
            <a:ext cx="5977080" cy="5162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899640" y="4076280"/>
            <a:ext cx="59778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900000" y="501336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314172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486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360" y="560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393372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0880" y="2997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26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900000" y="836640"/>
            <a:ext cx="0" cy="511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77080" y="836640"/>
            <a:ext cx="0" cy="511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6021360"/>
            <a:ext cx="59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5681520"/>
            <a:ext cx="6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7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200" y="386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99736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9890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220500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50880" y="198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134136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080" y="331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213000"/>
            <a:ext cx="503280" cy="278604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3213000"/>
            <a:ext cx="504720" cy="278604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149720"/>
            <a:ext cx="503280" cy="1849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5084640"/>
            <a:ext cx="505080" cy="91440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5589720"/>
            <a:ext cx="503280" cy="409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373720"/>
            <a:ext cx="431640" cy="625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661000"/>
            <a:ext cx="433440" cy="33804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5734080"/>
            <a:ext cx="431640" cy="26496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5589720"/>
            <a:ext cx="432000" cy="409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5373720"/>
            <a:ext cx="503280" cy="625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5300640"/>
            <a:ext cx="504720" cy="69840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4365720"/>
            <a:ext cx="503280" cy="1633320"/>
          </a:xfrm>
          <a:prstGeom prst="rect">
            <a:avLst/>
          </a:prstGeom>
          <a:solidFill>
            <a:srgbClr val="272f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969160"/>
            <a:ext cx="1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69040" y="596916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     Ф     М     А      М    Ин   Ил   А    С    О     Н     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6720" y="903240"/>
            <a:ext cx="5798880" cy="1405080"/>
          </a:xfrm>
          <a:custGeom>
            <a:avLst/>
            <a:gdLst/>
            <a:ahLst/>
            <a:rect l="l" t="t" r="r" b="b"/>
            <a:pathLst>
              <a:path w="3653" h="885">
                <a:moveTo>
                  <a:pt x="0" y="0"/>
                </a:moveTo>
                <a:cubicBezTo>
                  <a:pt x="28" y="9"/>
                  <a:pt x="31" y="28"/>
                  <a:pt x="56" y="42"/>
                </a:cubicBezTo>
                <a:cubicBezTo>
                  <a:pt x="72" y="51"/>
                  <a:pt x="88" y="63"/>
                  <a:pt x="105" y="70"/>
                </a:cubicBezTo>
                <a:cubicBezTo>
                  <a:pt x="136" y="83"/>
                  <a:pt x="128" y="71"/>
                  <a:pt x="155" y="84"/>
                </a:cubicBezTo>
                <a:cubicBezTo>
                  <a:pt x="182" y="98"/>
                  <a:pt x="190" y="122"/>
                  <a:pt x="211" y="140"/>
                </a:cubicBezTo>
                <a:cubicBezTo>
                  <a:pt x="235" y="161"/>
                  <a:pt x="268" y="179"/>
                  <a:pt x="295" y="197"/>
                </a:cubicBezTo>
                <a:cubicBezTo>
                  <a:pt x="333" y="222"/>
                  <a:pt x="363" y="263"/>
                  <a:pt x="407" y="274"/>
                </a:cubicBezTo>
                <a:cubicBezTo>
                  <a:pt x="446" y="311"/>
                  <a:pt x="445" y="307"/>
                  <a:pt x="492" y="323"/>
                </a:cubicBezTo>
                <a:cubicBezTo>
                  <a:pt x="528" y="350"/>
                  <a:pt x="578" y="382"/>
                  <a:pt x="618" y="400"/>
                </a:cubicBezTo>
                <a:cubicBezTo>
                  <a:pt x="651" y="415"/>
                  <a:pt x="660" y="409"/>
                  <a:pt x="688" y="428"/>
                </a:cubicBezTo>
                <a:cubicBezTo>
                  <a:pt x="709" y="442"/>
                  <a:pt x="724" y="464"/>
                  <a:pt x="745" y="478"/>
                </a:cubicBezTo>
                <a:cubicBezTo>
                  <a:pt x="765" y="491"/>
                  <a:pt x="794" y="488"/>
                  <a:pt x="815" y="499"/>
                </a:cubicBezTo>
                <a:cubicBezTo>
                  <a:pt x="867" y="525"/>
                  <a:pt x="920" y="557"/>
                  <a:pt x="976" y="576"/>
                </a:cubicBezTo>
                <a:cubicBezTo>
                  <a:pt x="1009" y="608"/>
                  <a:pt x="1051" y="630"/>
                  <a:pt x="1096" y="639"/>
                </a:cubicBezTo>
                <a:cubicBezTo>
                  <a:pt x="1140" y="669"/>
                  <a:pt x="1190" y="683"/>
                  <a:pt x="1236" y="709"/>
                </a:cubicBezTo>
                <a:cubicBezTo>
                  <a:pt x="1265" y="726"/>
                  <a:pt x="1283" y="749"/>
                  <a:pt x="1314" y="759"/>
                </a:cubicBezTo>
                <a:cubicBezTo>
                  <a:pt x="1349" y="785"/>
                  <a:pt x="1373" y="804"/>
                  <a:pt x="1405" y="836"/>
                </a:cubicBezTo>
                <a:cubicBezTo>
                  <a:pt x="1412" y="843"/>
                  <a:pt x="1418" y="852"/>
                  <a:pt x="1426" y="857"/>
                </a:cubicBezTo>
                <a:cubicBezTo>
                  <a:pt x="1440" y="866"/>
                  <a:pt x="1468" y="885"/>
                  <a:pt x="1468" y="885"/>
                </a:cubicBezTo>
                <a:cubicBezTo>
                  <a:pt x="1653" y="879"/>
                  <a:pt x="1824" y="862"/>
                  <a:pt x="2009" y="857"/>
                </a:cubicBezTo>
                <a:cubicBezTo>
                  <a:pt x="2021" y="850"/>
                  <a:pt x="2032" y="842"/>
                  <a:pt x="2044" y="836"/>
                </a:cubicBezTo>
                <a:cubicBezTo>
                  <a:pt x="2051" y="833"/>
                  <a:pt x="2058" y="832"/>
                  <a:pt x="2065" y="829"/>
                </a:cubicBezTo>
                <a:cubicBezTo>
                  <a:pt x="2073" y="825"/>
                  <a:pt x="2080" y="820"/>
                  <a:pt x="2086" y="815"/>
                </a:cubicBezTo>
                <a:cubicBezTo>
                  <a:pt x="2094" y="809"/>
                  <a:pt x="2098" y="799"/>
                  <a:pt x="2107" y="794"/>
                </a:cubicBezTo>
                <a:cubicBezTo>
                  <a:pt x="2120" y="787"/>
                  <a:pt x="2150" y="780"/>
                  <a:pt x="2150" y="780"/>
                </a:cubicBezTo>
                <a:cubicBezTo>
                  <a:pt x="2171" y="759"/>
                  <a:pt x="2185" y="747"/>
                  <a:pt x="2213" y="738"/>
                </a:cubicBezTo>
                <a:cubicBezTo>
                  <a:pt x="2260" y="688"/>
                  <a:pt x="2359" y="639"/>
                  <a:pt x="2423" y="618"/>
                </a:cubicBezTo>
                <a:cubicBezTo>
                  <a:pt x="2474" y="569"/>
                  <a:pt x="2414" y="619"/>
                  <a:pt x="2473" y="590"/>
                </a:cubicBezTo>
                <a:cubicBezTo>
                  <a:pt x="2488" y="582"/>
                  <a:pt x="2499" y="567"/>
                  <a:pt x="2515" y="562"/>
                </a:cubicBezTo>
                <a:cubicBezTo>
                  <a:pt x="2551" y="550"/>
                  <a:pt x="2586" y="530"/>
                  <a:pt x="2620" y="513"/>
                </a:cubicBezTo>
                <a:cubicBezTo>
                  <a:pt x="2666" y="490"/>
                  <a:pt x="2616" y="509"/>
                  <a:pt x="2662" y="478"/>
                </a:cubicBezTo>
                <a:cubicBezTo>
                  <a:pt x="2668" y="474"/>
                  <a:pt x="2676" y="474"/>
                  <a:pt x="2683" y="471"/>
                </a:cubicBezTo>
                <a:cubicBezTo>
                  <a:pt x="2709" y="458"/>
                  <a:pt x="2719" y="437"/>
                  <a:pt x="2747" y="428"/>
                </a:cubicBezTo>
                <a:cubicBezTo>
                  <a:pt x="2794" y="358"/>
                  <a:pt x="2936" y="306"/>
                  <a:pt x="3014" y="281"/>
                </a:cubicBezTo>
                <a:cubicBezTo>
                  <a:pt x="3064" y="265"/>
                  <a:pt x="3112" y="244"/>
                  <a:pt x="3161" y="225"/>
                </a:cubicBezTo>
                <a:cubicBezTo>
                  <a:pt x="3192" y="212"/>
                  <a:pt x="3223" y="207"/>
                  <a:pt x="3252" y="190"/>
                </a:cubicBezTo>
                <a:cubicBezTo>
                  <a:pt x="3274" y="177"/>
                  <a:pt x="3292" y="155"/>
                  <a:pt x="3316" y="147"/>
                </a:cubicBezTo>
                <a:cubicBezTo>
                  <a:pt x="3342" y="138"/>
                  <a:pt x="3368" y="129"/>
                  <a:pt x="3393" y="119"/>
                </a:cubicBezTo>
                <a:cubicBezTo>
                  <a:pt x="3432" y="103"/>
                  <a:pt x="3468" y="82"/>
                  <a:pt x="3505" y="63"/>
                </a:cubicBezTo>
                <a:cubicBezTo>
                  <a:pt x="3538" y="46"/>
                  <a:pt x="3613" y="42"/>
                  <a:pt x="3653" y="42"/>
                </a:cubicBezTo>
                <a:lnTo>
                  <a:pt x="3560" y="49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907920"/>
            <a:ext cx="144360" cy="144720"/>
          </a:xfrm>
          <a:prstGeom prst="flowChartConnector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1341360"/>
            <a:ext cx="142920" cy="142920"/>
          </a:xfrm>
          <a:prstGeom prst="flowChartConnector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95640" y="1628640"/>
            <a:ext cx="144360" cy="1447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184464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205000"/>
            <a:ext cx="144720" cy="1429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564000" y="2204280"/>
            <a:ext cx="144360" cy="1429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2205000"/>
            <a:ext cx="14292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1989000"/>
            <a:ext cx="144720" cy="1447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773360"/>
            <a:ext cx="144360" cy="14292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148428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6000" y="119700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981000"/>
            <a:ext cx="144360" cy="144360"/>
          </a:xfrm>
          <a:prstGeom prst="ellipse">
            <a:avLst/>
          </a:prstGeom>
          <a:solidFill>
            <a:srgbClr val="e3e3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05264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073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364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0 мм в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630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акому климатическому поясу подходит диаграм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11840" y="208080"/>
            <a:ext cx="10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Австралийская пустыня, фото сайта www.pierluigisurace.it"/>
          <p:cNvPicPr/>
          <p:nvPr/>
        </p:nvPicPr>
        <p:blipFill>
          <a:blip r:embed="rId1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Океан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097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Ветряной насос для воды - типичная картина в глубинке.&lt;br&gt; &lt;A HREF=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Барра - городок потерянный в бескрайнем аутбеке.&lt;br&gt; &lt;A HREF="/>
          <p:cNvPicPr/>
          <p:nvPr/>
        </p:nvPicPr>
        <p:blipFill>
          <a:blip r:embed="rId4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5280" y="20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7640" y="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3640" y="373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26360" y="359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Австралийская пустыня, фото сайта www.pierluigisurace.it"/>
          <p:cNvPicPr/>
          <p:nvPr/>
        </p:nvPicPr>
        <p:blipFill>
          <a:blip r:embed="rId2"/>
          <a:stretch/>
        </p:blipFill>
        <p:spPr>
          <a:xfrm>
            <a:off x="1763640" y="1844640"/>
            <a:ext cx="4248360" cy="3168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Океан"/>
          <p:cNvPicPr/>
          <p:nvPr/>
        </p:nvPicPr>
        <p:blipFill>
          <a:blip r:embed="rId3"/>
          <a:stretch/>
        </p:blipFill>
        <p:spPr>
          <a:xfrm>
            <a:off x="7885080" y="1341360"/>
            <a:ext cx="1258920" cy="460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Ветряной насос для воды - типичная картина в глубинке.&lt;br&gt; &lt;A HREF="/>
          <p:cNvPicPr/>
          <p:nvPr/>
        </p:nvPicPr>
        <p:blipFill>
          <a:blip r:embed="rId4"/>
          <a:stretch/>
        </p:blipFill>
        <p:spPr>
          <a:xfrm>
            <a:off x="6084720" y="1916280"/>
            <a:ext cx="1730520" cy="2017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Барра - городок потерянный в бескрайнем аутбеке.&lt;br&gt; &lt;A HREF="/>
          <p:cNvPicPr/>
          <p:nvPr/>
        </p:nvPicPr>
        <p:blipFill>
          <a:blip r:embed="rId5"/>
          <a:stretch/>
        </p:blipFill>
        <p:spPr>
          <a:xfrm>
            <a:off x="0" y="3500280"/>
            <a:ext cx="1692360" cy="25927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9280" y="616572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Какие особенности климата будут характерны для большей части Австрал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71640" y="6308640"/>
            <a:ext cx="80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 из космоса Барханы Большой Австралийской пусты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type:jpg, atr:1280,847, title:Фотографии земли из космоса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165720"/>
          </a:xfrm>
          <a:prstGeom prst="rect">
            <a:avLst/>
          </a:prstGeom>
          <a:ln w="28440">
            <a:solidFill>
              <a:srgbClr val="ca7110"/>
            </a:solidFill>
            <a:miter/>
          </a:ln>
        </p:spPr>
      </p:pic>
      <p:pic>
        <p:nvPicPr>
          <p:cNvPr id="194" name="" descr="type:jpg, atr:1280,847, title:Фотографии земли из космоса"/>
          <p:cNvPicPr/>
          <p:nvPr/>
        </p:nvPicPr>
        <p:blipFill>
          <a:blip r:embed="rId2"/>
          <a:stretch/>
        </p:blipFill>
        <p:spPr>
          <a:xfrm>
            <a:off x="611280" y="0"/>
            <a:ext cx="8532720" cy="6165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42920" y="6237360"/>
            <a:ext cx="7632720" cy="620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ыня Гибсона вид из косм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Карта Австралии"/>
          <p:cNvPicPr/>
          <p:nvPr/>
        </p:nvPicPr>
        <p:blipFill>
          <a:blip r:embed="rId1"/>
          <a:srcRect l="1966" t="2752" r="1966" b="69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730600" y="849240"/>
            <a:ext cx="4836960" cy="1689120"/>
          </a:xfrm>
          <a:custGeom>
            <a:avLst/>
            <a:gdLst/>
            <a:ahLst/>
            <a:rect l="l" t="t" r="r" b="b"/>
            <a:pathLst>
              <a:path w="3047" h="1064">
                <a:moveTo>
                  <a:pt x="16" y="550"/>
                </a:moveTo>
                <a:cubicBezTo>
                  <a:pt x="31" y="552"/>
                  <a:pt x="92" y="555"/>
                  <a:pt x="117" y="567"/>
                </a:cubicBezTo>
                <a:cubicBezTo>
                  <a:pt x="145" y="581"/>
                  <a:pt x="171" y="605"/>
                  <a:pt x="200" y="617"/>
                </a:cubicBezTo>
                <a:cubicBezTo>
                  <a:pt x="263" y="644"/>
                  <a:pt x="334" y="645"/>
                  <a:pt x="400" y="650"/>
                </a:cubicBezTo>
                <a:cubicBezTo>
                  <a:pt x="461" y="663"/>
                  <a:pt x="509" y="699"/>
                  <a:pt x="567" y="717"/>
                </a:cubicBezTo>
                <a:cubicBezTo>
                  <a:pt x="645" y="770"/>
                  <a:pt x="766" y="764"/>
                  <a:pt x="851" y="767"/>
                </a:cubicBezTo>
                <a:cubicBezTo>
                  <a:pt x="976" y="771"/>
                  <a:pt x="1102" y="773"/>
                  <a:pt x="1227" y="776"/>
                </a:cubicBezTo>
                <a:cubicBezTo>
                  <a:pt x="1252" y="782"/>
                  <a:pt x="1279" y="782"/>
                  <a:pt x="1302" y="792"/>
                </a:cubicBezTo>
                <a:cubicBezTo>
                  <a:pt x="1336" y="807"/>
                  <a:pt x="1349" y="838"/>
                  <a:pt x="1385" y="851"/>
                </a:cubicBezTo>
                <a:cubicBezTo>
                  <a:pt x="1464" y="909"/>
                  <a:pt x="1492" y="917"/>
                  <a:pt x="1594" y="926"/>
                </a:cubicBezTo>
                <a:cubicBezTo>
                  <a:pt x="1666" y="940"/>
                  <a:pt x="1687" y="1006"/>
                  <a:pt x="1753" y="1026"/>
                </a:cubicBezTo>
                <a:cubicBezTo>
                  <a:pt x="1879" y="1064"/>
                  <a:pt x="2070" y="1047"/>
                  <a:pt x="2195" y="1051"/>
                </a:cubicBezTo>
                <a:cubicBezTo>
                  <a:pt x="2274" y="1064"/>
                  <a:pt x="2350" y="1052"/>
                  <a:pt x="2429" y="1043"/>
                </a:cubicBezTo>
                <a:cubicBezTo>
                  <a:pt x="2470" y="1028"/>
                  <a:pt x="2511" y="1024"/>
                  <a:pt x="2554" y="1018"/>
                </a:cubicBezTo>
                <a:cubicBezTo>
                  <a:pt x="2595" y="1003"/>
                  <a:pt x="2637" y="989"/>
                  <a:pt x="2679" y="976"/>
                </a:cubicBezTo>
                <a:cubicBezTo>
                  <a:pt x="2738" y="936"/>
                  <a:pt x="2827" y="926"/>
                  <a:pt x="2896" y="918"/>
                </a:cubicBezTo>
                <a:cubicBezTo>
                  <a:pt x="2944" y="905"/>
                  <a:pt x="3010" y="910"/>
                  <a:pt x="3047" y="876"/>
                </a:cubicBezTo>
                <a:cubicBezTo>
                  <a:pt x="3009" y="845"/>
                  <a:pt x="2970" y="843"/>
                  <a:pt x="2938" y="817"/>
                </a:cubicBezTo>
                <a:cubicBezTo>
                  <a:pt x="2889" y="778"/>
                  <a:pt x="2894" y="778"/>
                  <a:pt x="2871" y="734"/>
                </a:cubicBezTo>
                <a:cubicBezTo>
                  <a:pt x="2865" y="670"/>
                  <a:pt x="2868" y="578"/>
                  <a:pt x="2838" y="517"/>
                </a:cubicBezTo>
                <a:cubicBezTo>
                  <a:pt x="2801" y="443"/>
                  <a:pt x="2724" y="453"/>
                  <a:pt x="2671" y="400"/>
                </a:cubicBezTo>
                <a:cubicBezTo>
                  <a:pt x="2627" y="356"/>
                  <a:pt x="2580" y="303"/>
                  <a:pt x="2546" y="250"/>
                </a:cubicBezTo>
                <a:cubicBezTo>
                  <a:pt x="2533" y="199"/>
                  <a:pt x="2508" y="153"/>
                  <a:pt x="2471" y="116"/>
                </a:cubicBezTo>
                <a:cubicBezTo>
                  <a:pt x="2453" y="66"/>
                  <a:pt x="2455" y="50"/>
                  <a:pt x="2404" y="24"/>
                </a:cubicBezTo>
                <a:cubicBezTo>
                  <a:pt x="2371" y="89"/>
                  <a:pt x="2381" y="103"/>
                  <a:pt x="2370" y="191"/>
                </a:cubicBezTo>
                <a:cubicBezTo>
                  <a:pt x="2355" y="307"/>
                  <a:pt x="2325" y="443"/>
                  <a:pt x="2270" y="550"/>
                </a:cubicBezTo>
                <a:cubicBezTo>
                  <a:pt x="2261" y="604"/>
                  <a:pt x="2258" y="635"/>
                  <a:pt x="2212" y="667"/>
                </a:cubicBezTo>
                <a:cubicBezTo>
                  <a:pt x="2167" y="663"/>
                  <a:pt x="2118" y="670"/>
                  <a:pt x="2078" y="650"/>
                </a:cubicBezTo>
                <a:cubicBezTo>
                  <a:pt x="2037" y="629"/>
                  <a:pt x="2041" y="585"/>
                  <a:pt x="1986" y="567"/>
                </a:cubicBezTo>
                <a:cubicBezTo>
                  <a:pt x="1929" y="528"/>
                  <a:pt x="1978" y="555"/>
                  <a:pt x="1853" y="542"/>
                </a:cubicBezTo>
                <a:cubicBezTo>
                  <a:pt x="1810" y="537"/>
                  <a:pt x="1797" y="520"/>
                  <a:pt x="1761" y="508"/>
                </a:cubicBezTo>
                <a:cubicBezTo>
                  <a:pt x="1732" y="498"/>
                  <a:pt x="1604" y="492"/>
                  <a:pt x="1602" y="492"/>
                </a:cubicBezTo>
                <a:cubicBezTo>
                  <a:pt x="1609" y="445"/>
                  <a:pt x="1603" y="395"/>
                  <a:pt x="1619" y="350"/>
                </a:cubicBezTo>
                <a:cubicBezTo>
                  <a:pt x="1622" y="342"/>
                  <a:pt x="1636" y="345"/>
                  <a:pt x="1644" y="342"/>
                </a:cubicBezTo>
                <a:cubicBezTo>
                  <a:pt x="1724" y="288"/>
                  <a:pt x="1684" y="174"/>
                  <a:pt x="1711" y="91"/>
                </a:cubicBezTo>
                <a:cubicBezTo>
                  <a:pt x="1663" y="76"/>
                  <a:pt x="1615" y="71"/>
                  <a:pt x="1586" y="116"/>
                </a:cubicBezTo>
                <a:cubicBezTo>
                  <a:pt x="1489" y="113"/>
                  <a:pt x="1385" y="134"/>
                  <a:pt x="1294" y="99"/>
                </a:cubicBezTo>
                <a:cubicBezTo>
                  <a:pt x="1269" y="89"/>
                  <a:pt x="1229" y="44"/>
                  <a:pt x="1218" y="33"/>
                </a:cubicBezTo>
                <a:cubicBezTo>
                  <a:pt x="1199" y="15"/>
                  <a:pt x="1143" y="8"/>
                  <a:pt x="1143" y="8"/>
                </a:cubicBezTo>
                <a:cubicBezTo>
                  <a:pt x="1099" y="22"/>
                  <a:pt x="1069" y="0"/>
                  <a:pt x="1051" y="49"/>
                </a:cubicBezTo>
                <a:cubicBezTo>
                  <a:pt x="1054" y="71"/>
                  <a:pt x="1056" y="94"/>
                  <a:pt x="1060" y="116"/>
                </a:cubicBezTo>
                <a:cubicBezTo>
                  <a:pt x="1062" y="125"/>
                  <a:pt x="1071" y="133"/>
                  <a:pt x="1068" y="141"/>
                </a:cubicBezTo>
                <a:cubicBezTo>
                  <a:pt x="1064" y="152"/>
                  <a:pt x="1051" y="158"/>
                  <a:pt x="1043" y="166"/>
                </a:cubicBezTo>
                <a:cubicBezTo>
                  <a:pt x="1002" y="160"/>
                  <a:pt x="967" y="150"/>
                  <a:pt x="926" y="166"/>
                </a:cubicBezTo>
                <a:cubicBezTo>
                  <a:pt x="896" y="178"/>
                  <a:pt x="872" y="202"/>
                  <a:pt x="843" y="216"/>
                </a:cubicBezTo>
                <a:cubicBezTo>
                  <a:pt x="803" y="275"/>
                  <a:pt x="741" y="300"/>
                  <a:pt x="701" y="358"/>
                </a:cubicBezTo>
                <a:cubicBezTo>
                  <a:pt x="679" y="355"/>
                  <a:pt x="655" y="358"/>
                  <a:pt x="634" y="350"/>
                </a:cubicBezTo>
                <a:cubicBezTo>
                  <a:pt x="615" y="343"/>
                  <a:pt x="603" y="322"/>
                  <a:pt x="584" y="316"/>
                </a:cubicBezTo>
                <a:cubicBezTo>
                  <a:pt x="576" y="313"/>
                  <a:pt x="567" y="311"/>
                  <a:pt x="559" y="308"/>
                </a:cubicBezTo>
                <a:cubicBezTo>
                  <a:pt x="475" y="251"/>
                  <a:pt x="345" y="293"/>
                  <a:pt x="250" y="300"/>
                </a:cubicBezTo>
                <a:cubicBezTo>
                  <a:pt x="213" y="312"/>
                  <a:pt x="207" y="331"/>
                  <a:pt x="167" y="342"/>
                </a:cubicBezTo>
                <a:cubicBezTo>
                  <a:pt x="134" y="375"/>
                  <a:pt x="96" y="391"/>
                  <a:pt x="50" y="400"/>
                </a:cubicBezTo>
                <a:cubicBezTo>
                  <a:pt x="39" y="432"/>
                  <a:pt x="18" y="455"/>
                  <a:pt x="0" y="483"/>
                </a:cubicBezTo>
                <a:cubicBezTo>
                  <a:pt x="3" y="497"/>
                  <a:pt x="1" y="513"/>
                  <a:pt x="8" y="525"/>
                </a:cubicBezTo>
                <a:cubicBezTo>
                  <a:pt x="23" y="552"/>
                  <a:pt x="51" y="533"/>
                  <a:pt x="16" y="550"/>
                </a:cubicBezTo>
                <a:close/>
              </a:path>
            </a:pathLst>
          </a:custGeom>
          <a:solidFill>
            <a:srgbClr val="f68370"/>
          </a:solidFill>
          <a:ln w="284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628640"/>
            <a:ext cx="8228160" cy="3533760"/>
          </a:xfrm>
          <a:custGeom>
            <a:avLst/>
            <a:gdLst/>
            <a:ahLst/>
            <a:rect l="l" t="t" r="r" b="b"/>
            <a:pathLst>
              <a:path w="5183" h="2226">
                <a:moveTo>
                  <a:pt x="1326" y="0"/>
                </a:moveTo>
                <a:cubicBezTo>
                  <a:pt x="1297" y="45"/>
                  <a:pt x="1312" y="99"/>
                  <a:pt x="1276" y="141"/>
                </a:cubicBezTo>
                <a:cubicBezTo>
                  <a:pt x="1251" y="170"/>
                  <a:pt x="1236" y="176"/>
                  <a:pt x="1201" y="200"/>
                </a:cubicBezTo>
                <a:cubicBezTo>
                  <a:pt x="1193" y="206"/>
                  <a:pt x="1176" y="217"/>
                  <a:pt x="1176" y="217"/>
                </a:cubicBezTo>
                <a:cubicBezTo>
                  <a:pt x="1153" y="251"/>
                  <a:pt x="1115" y="312"/>
                  <a:pt x="1068" y="317"/>
                </a:cubicBezTo>
                <a:cubicBezTo>
                  <a:pt x="1024" y="322"/>
                  <a:pt x="979" y="322"/>
                  <a:pt x="934" y="325"/>
                </a:cubicBezTo>
                <a:cubicBezTo>
                  <a:pt x="866" y="338"/>
                  <a:pt x="821" y="381"/>
                  <a:pt x="759" y="409"/>
                </a:cubicBezTo>
                <a:cubicBezTo>
                  <a:pt x="714" y="429"/>
                  <a:pt x="664" y="431"/>
                  <a:pt x="617" y="442"/>
                </a:cubicBezTo>
                <a:cubicBezTo>
                  <a:pt x="573" y="464"/>
                  <a:pt x="551" y="468"/>
                  <a:pt x="500" y="475"/>
                </a:cubicBezTo>
                <a:cubicBezTo>
                  <a:pt x="474" y="501"/>
                  <a:pt x="451" y="514"/>
                  <a:pt x="416" y="525"/>
                </a:cubicBezTo>
                <a:cubicBezTo>
                  <a:pt x="362" y="562"/>
                  <a:pt x="293" y="568"/>
                  <a:pt x="233" y="592"/>
                </a:cubicBezTo>
                <a:cubicBezTo>
                  <a:pt x="210" y="626"/>
                  <a:pt x="208" y="639"/>
                  <a:pt x="166" y="626"/>
                </a:cubicBezTo>
                <a:cubicBezTo>
                  <a:pt x="163" y="609"/>
                  <a:pt x="173" y="585"/>
                  <a:pt x="158" y="576"/>
                </a:cubicBezTo>
                <a:cubicBezTo>
                  <a:pt x="146" y="569"/>
                  <a:pt x="134" y="591"/>
                  <a:pt x="124" y="601"/>
                </a:cubicBezTo>
                <a:cubicBezTo>
                  <a:pt x="85" y="640"/>
                  <a:pt x="57" y="515"/>
                  <a:pt x="74" y="634"/>
                </a:cubicBezTo>
                <a:cubicBezTo>
                  <a:pt x="65" y="620"/>
                  <a:pt x="58" y="604"/>
                  <a:pt x="46" y="592"/>
                </a:cubicBezTo>
                <a:cubicBezTo>
                  <a:pt x="37" y="583"/>
                  <a:pt x="64" y="613"/>
                  <a:pt x="66" y="626"/>
                </a:cubicBezTo>
                <a:cubicBezTo>
                  <a:pt x="70" y="650"/>
                  <a:pt x="45" y="690"/>
                  <a:pt x="32" y="709"/>
                </a:cubicBezTo>
                <a:cubicBezTo>
                  <a:pt x="4" y="797"/>
                  <a:pt x="0" y="790"/>
                  <a:pt x="24" y="926"/>
                </a:cubicBezTo>
                <a:cubicBezTo>
                  <a:pt x="28" y="947"/>
                  <a:pt x="61" y="950"/>
                  <a:pt x="74" y="968"/>
                </a:cubicBezTo>
                <a:cubicBezTo>
                  <a:pt x="115" y="1024"/>
                  <a:pt x="149" y="1087"/>
                  <a:pt x="191" y="1143"/>
                </a:cubicBezTo>
                <a:cubicBezTo>
                  <a:pt x="188" y="1179"/>
                  <a:pt x="197" y="1218"/>
                  <a:pt x="183" y="1252"/>
                </a:cubicBezTo>
                <a:cubicBezTo>
                  <a:pt x="178" y="1263"/>
                  <a:pt x="159" y="1249"/>
                  <a:pt x="149" y="1243"/>
                </a:cubicBezTo>
                <a:cubicBezTo>
                  <a:pt x="54" y="1190"/>
                  <a:pt x="149" y="1223"/>
                  <a:pt x="82" y="1202"/>
                </a:cubicBezTo>
                <a:cubicBezTo>
                  <a:pt x="70" y="1239"/>
                  <a:pt x="81" y="1245"/>
                  <a:pt x="99" y="1277"/>
                </a:cubicBezTo>
                <a:cubicBezTo>
                  <a:pt x="111" y="1299"/>
                  <a:pt x="133" y="1344"/>
                  <a:pt x="133" y="1344"/>
                </a:cubicBezTo>
                <a:cubicBezTo>
                  <a:pt x="137" y="1438"/>
                  <a:pt x="103" y="1560"/>
                  <a:pt x="208" y="1594"/>
                </a:cubicBezTo>
                <a:cubicBezTo>
                  <a:pt x="236" y="1622"/>
                  <a:pt x="267" y="1664"/>
                  <a:pt x="300" y="1686"/>
                </a:cubicBezTo>
                <a:cubicBezTo>
                  <a:pt x="347" y="1935"/>
                  <a:pt x="749" y="1747"/>
                  <a:pt x="959" y="1702"/>
                </a:cubicBezTo>
                <a:cubicBezTo>
                  <a:pt x="968" y="1691"/>
                  <a:pt x="1001" y="1647"/>
                  <a:pt x="1017" y="1636"/>
                </a:cubicBezTo>
                <a:cubicBezTo>
                  <a:pt x="1042" y="1619"/>
                  <a:pt x="1099" y="1613"/>
                  <a:pt x="1126" y="1611"/>
                </a:cubicBezTo>
                <a:cubicBezTo>
                  <a:pt x="1185" y="1607"/>
                  <a:pt x="1429" y="1596"/>
                  <a:pt x="1485" y="1594"/>
                </a:cubicBezTo>
                <a:cubicBezTo>
                  <a:pt x="1552" y="1581"/>
                  <a:pt x="1618" y="1593"/>
                  <a:pt x="1685" y="1602"/>
                </a:cubicBezTo>
                <a:cubicBezTo>
                  <a:pt x="1924" y="1586"/>
                  <a:pt x="2150" y="1613"/>
                  <a:pt x="2386" y="1636"/>
                </a:cubicBezTo>
                <a:cubicBezTo>
                  <a:pt x="2455" y="1678"/>
                  <a:pt x="2365" y="1627"/>
                  <a:pt x="2445" y="1661"/>
                </a:cubicBezTo>
                <a:cubicBezTo>
                  <a:pt x="2473" y="1673"/>
                  <a:pt x="2500" y="1703"/>
                  <a:pt x="2528" y="1711"/>
                </a:cubicBezTo>
                <a:cubicBezTo>
                  <a:pt x="2547" y="1717"/>
                  <a:pt x="2567" y="1716"/>
                  <a:pt x="2587" y="1719"/>
                </a:cubicBezTo>
                <a:cubicBezTo>
                  <a:pt x="2607" y="1729"/>
                  <a:pt x="2625" y="1743"/>
                  <a:pt x="2645" y="1753"/>
                </a:cubicBezTo>
                <a:cubicBezTo>
                  <a:pt x="2672" y="1767"/>
                  <a:pt x="2708" y="1770"/>
                  <a:pt x="2737" y="1778"/>
                </a:cubicBezTo>
                <a:cubicBezTo>
                  <a:pt x="2827" y="1868"/>
                  <a:pt x="2896" y="1856"/>
                  <a:pt x="3029" y="1861"/>
                </a:cubicBezTo>
                <a:cubicBezTo>
                  <a:pt x="3107" y="1864"/>
                  <a:pt x="3185" y="1866"/>
                  <a:pt x="3263" y="1869"/>
                </a:cubicBezTo>
                <a:cubicBezTo>
                  <a:pt x="3309" y="1917"/>
                  <a:pt x="3381" y="2024"/>
                  <a:pt x="3447" y="2045"/>
                </a:cubicBezTo>
                <a:cubicBezTo>
                  <a:pt x="3515" y="2067"/>
                  <a:pt x="3586" y="2076"/>
                  <a:pt x="3655" y="2095"/>
                </a:cubicBezTo>
                <a:cubicBezTo>
                  <a:pt x="3692" y="2132"/>
                  <a:pt x="3716" y="2124"/>
                  <a:pt x="3764" y="2137"/>
                </a:cubicBezTo>
                <a:cubicBezTo>
                  <a:pt x="3827" y="2177"/>
                  <a:pt x="3909" y="2171"/>
                  <a:pt x="3981" y="2178"/>
                </a:cubicBezTo>
                <a:cubicBezTo>
                  <a:pt x="4195" y="2174"/>
                  <a:pt x="4318" y="2210"/>
                  <a:pt x="4482" y="2128"/>
                </a:cubicBezTo>
                <a:cubicBezTo>
                  <a:pt x="4554" y="2131"/>
                  <a:pt x="4627" y="2127"/>
                  <a:pt x="4699" y="2137"/>
                </a:cubicBezTo>
                <a:cubicBezTo>
                  <a:pt x="4708" y="2138"/>
                  <a:pt x="4734" y="2196"/>
                  <a:pt x="4757" y="2212"/>
                </a:cubicBezTo>
                <a:cubicBezTo>
                  <a:pt x="4835" y="2191"/>
                  <a:pt x="4748" y="2226"/>
                  <a:pt x="4799" y="2137"/>
                </a:cubicBezTo>
                <a:cubicBezTo>
                  <a:pt x="4809" y="2120"/>
                  <a:pt x="4832" y="2114"/>
                  <a:pt x="4849" y="2103"/>
                </a:cubicBezTo>
                <a:cubicBezTo>
                  <a:pt x="4877" y="2084"/>
                  <a:pt x="4900" y="2069"/>
                  <a:pt x="4924" y="2045"/>
                </a:cubicBezTo>
                <a:cubicBezTo>
                  <a:pt x="4933" y="2012"/>
                  <a:pt x="4939" y="1951"/>
                  <a:pt x="4966" y="1928"/>
                </a:cubicBezTo>
                <a:cubicBezTo>
                  <a:pt x="4983" y="1914"/>
                  <a:pt x="5005" y="1907"/>
                  <a:pt x="5024" y="1894"/>
                </a:cubicBezTo>
                <a:cubicBezTo>
                  <a:pt x="5027" y="1886"/>
                  <a:pt x="5027" y="1876"/>
                  <a:pt x="5033" y="1869"/>
                </a:cubicBezTo>
                <a:cubicBezTo>
                  <a:pt x="5039" y="1861"/>
                  <a:pt x="5054" y="1862"/>
                  <a:pt x="5058" y="1853"/>
                </a:cubicBezTo>
                <a:cubicBezTo>
                  <a:pt x="5084" y="1787"/>
                  <a:pt x="5065" y="1691"/>
                  <a:pt x="5091" y="1611"/>
                </a:cubicBezTo>
                <a:cubicBezTo>
                  <a:pt x="5096" y="1580"/>
                  <a:pt x="5104" y="1550"/>
                  <a:pt x="5108" y="1519"/>
                </a:cubicBezTo>
                <a:cubicBezTo>
                  <a:pt x="5114" y="1471"/>
                  <a:pt x="5109" y="1429"/>
                  <a:pt x="5125" y="1385"/>
                </a:cubicBezTo>
                <a:cubicBezTo>
                  <a:pt x="5133" y="1363"/>
                  <a:pt x="5139" y="1339"/>
                  <a:pt x="5150" y="1318"/>
                </a:cubicBezTo>
                <a:cubicBezTo>
                  <a:pt x="5159" y="1300"/>
                  <a:pt x="5183" y="1268"/>
                  <a:pt x="5183" y="1268"/>
                </a:cubicBezTo>
                <a:cubicBezTo>
                  <a:pt x="5180" y="1246"/>
                  <a:pt x="5183" y="1223"/>
                  <a:pt x="5175" y="1202"/>
                </a:cubicBezTo>
                <a:cubicBezTo>
                  <a:pt x="5171" y="1193"/>
                  <a:pt x="5157" y="1192"/>
                  <a:pt x="5150" y="1185"/>
                </a:cubicBezTo>
                <a:cubicBezTo>
                  <a:pt x="5128" y="1163"/>
                  <a:pt x="5117" y="1130"/>
                  <a:pt x="5108" y="1101"/>
                </a:cubicBezTo>
                <a:cubicBezTo>
                  <a:pt x="5103" y="1063"/>
                  <a:pt x="5092" y="961"/>
                  <a:pt x="5083" y="934"/>
                </a:cubicBezTo>
                <a:cubicBezTo>
                  <a:pt x="5079" y="923"/>
                  <a:pt x="5066" y="918"/>
                  <a:pt x="5058" y="909"/>
                </a:cubicBezTo>
                <a:cubicBezTo>
                  <a:pt x="5022" y="866"/>
                  <a:pt x="4970" y="810"/>
                  <a:pt x="4916" y="793"/>
                </a:cubicBezTo>
                <a:cubicBezTo>
                  <a:pt x="4873" y="750"/>
                  <a:pt x="4841" y="701"/>
                  <a:pt x="4807" y="651"/>
                </a:cubicBezTo>
                <a:cubicBezTo>
                  <a:pt x="4796" y="634"/>
                  <a:pt x="4774" y="628"/>
                  <a:pt x="4757" y="617"/>
                </a:cubicBezTo>
                <a:cubicBezTo>
                  <a:pt x="4749" y="612"/>
                  <a:pt x="4732" y="601"/>
                  <a:pt x="4732" y="601"/>
                </a:cubicBezTo>
                <a:cubicBezTo>
                  <a:pt x="4687" y="536"/>
                  <a:pt x="4642" y="468"/>
                  <a:pt x="4590" y="409"/>
                </a:cubicBezTo>
                <a:cubicBezTo>
                  <a:pt x="4574" y="391"/>
                  <a:pt x="4563" y="365"/>
                  <a:pt x="4540" y="358"/>
                </a:cubicBezTo>
                <a:cubicBezTo>
                  <a:pt x="4479" y="339"/>
                  <a:pt x="4507" y="347"/>
                  <a:pt x="4457" y="333"/>
                </a:cubicBezTo>
                <a:cubicBezTo>
                  <a:pt x="4435" y="336"/>
                  <a:pt x="4411" y="333"/>
                  <a:pt x="4390" y="342"/>
                </a:cubicBezTo>
                <a:cubicBezTo>
                  <a:pt x="4382" y="346"/>
                  <a:pt x="4389" y="361"/>
                  <a:pt x="4382" y="367"/>
                </a:cubicBezTo>
                <a:cubicBezTo>
                  <a:pt x="4370" y="377"/>
                  <a:pt x="4354" y="378"/>
                  <a:pt x="4340" y="384"/>
                </a:cubicBezTo>
                <a:cubicBezTo>
                  <a:pt x="4275" y="360"/>
                  <a:pt x="4291" y="405"/>
                  <a:pt x="4256" y="409"/>
                </a:cubicBezTo>
                <a:cubicBezTo>
                  <a:pt x="4176" y="419"/>
                  <a:pt x="4095" y="414"/>
                  <a:pt x="4014" y="417"/>
                </a:cubicBezTo>
                <a:cubicBezTo>
                  <a:pt x="3993" y="420"/>
                  <a:pt x="3945" y="424"/>
                  <a:pt x="3922" y="434"/>
                </a:cubicBezTo>
                <a:cubicBezTo>
                  <a:pt x="3891" y="447"/>
                  <a:pt x="3873" y="478"/>
                  <a:pt x="3839" y="484"/>
                </a:cubicBezTo>
                <a:cubicBezTo>
                  <a:pt x="3771" y="496"/>
                  <a:pt x="3699" y="502"/>
                  <a:pt x="3630" y="509"/>
                </a:cubicBezTo>
                <a:cubicBezTo>
                  <a:pt x="3211" y="501"/>
                  <a:pt x="3250" y="499"/>
                  <a:pt x="2988" y="475"/>
                </a:cubicBezTo>
                <a:cubicBezTo>
                  <a:pt x="2923" y="412"/>
                  <a:pt x="2905" y="331"/>
                  <a:pt x="2804" y="317"/>
                </a:cubicBezTo>
                <a:cubicBezTo>
                  <a:pt x="2771" y="312"/>
                  <a:pt x="2737" y="311"/>
                  <a:pt x="2704" y="308"/>
                </a:cubicBezTo>
                <a:cubicBezTo>
                  <a:pt x="2391" y="175"/>
                  <a:pt x="2377" y="216"/>
                  <a:pt x="1919" y="208"/>
                </a:cubicBezTo>
                <a:cubicBezTo>
                  <a:pt x="1855" y="193"/>
                  <a:pt x="1798" y="153"/>
                  <a:pt x="1744" y="116"/>
                </a:cubicBezTo>
                <a:cubicBezTo>
                  <a:pt x="1730" y="106"/>
                  <a:pt x="1711" y="104"/>
                  <a:pt x="1694" y="100"/>
                </a:cubicBezTo>
                <a:cubicBezTo>
                  <a:pt x="1613" y="80"/>
                  <a:pt x="1535" y="66"/>
                  <a:pt x="1452" y="58"/>
                </a:cubicBezTo>
                <a:cubicBezTo>
                  <a:pt x="1404" y="47"/>
                  <a:pt x="1362" y="36"/>
                  <a:pt x="1326" y="0"/>
                </a:cubicBezTo>
                <a:close/>
              </a:path>
            </a:pathLst>
          </a:custGeom>
          <a:solidFill>
            <a:srgbClr val="ffcc66"/>
          </a:solidFill>
          <a:ln w="284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933720"/>
            <a:ext cx="7318440" cy="1970280"/>
          </a:xfrm>
          <a:custGeom>
            <a:avLst/>
            <a:gdLst/>
            <a:ahLst/>
            <a:rect l="l" t="t" r="r" b="b"/>
            <a:pathLst>
              <a:path w="4610" h="1241">
                <a:moveTo>
                  <a:pt x="142" y="249"/>
                </a:moveTo>
                <a:cubicBezTo>
                  <a:pt x="139" y="329"/>
                  <a:pt x="189" y="534"/>
                  <a:pt x="67" y="567"/>
                </a:cubicBezTo>
                <a:cubicBezTo>
                  <a:pt x="48" y="586"/>
                  <a:pt x="0" y="621"/>
                  <a:pt x="50" y="658"/>
                </a:cubicBezTo>
                <a:cubicBezTo>
                  <a:pt x="75" y="676"/>
                  <a:pt x="111" y="664"/>
                  <a:pt x="142" y="667"/>
                </a:cubicBezTo>
                <a:cubicBezTo>
                  <a:pt x="249" y="701"/>
                  <a:pt x="146" y="658"/>
                  <a:pt x="217" y="717"/>
                </a:cubicBezTo>
                <a:cubicBezTo>
                  <a:pt x="242" y="738"/>
                  <a:pt x="324" y="739"/>
                  <a:pt x="359" y="750"/>
                </a:cubicBezTo>
                <a:cubicBezTo>
                  <a:pt x="431" y="747"/>
                  <a:pt x="504" y="747"/>
                  <a:pt x="576" y="742"/>
                </a:cubicBezTo>
                <a:cubicBezTo>
                  <a:pt x="602" y="740"/>
                  <a:pt x="636" y="710"/>
                  <a:pt x="651" y="700"/>
                </a:cubicBezTo>
                <a:cubicBezTo>
                  <a:pt x="659" y="694"/>
                  <a:pt x="676" y="683"/>
                  <a:pt x="676" y="683"/>
                </a:cubicBezTo>
                <a:cubicBezTo>
                  <a:pt x="698" y="651"/>
                  <a:pt x="732" y="621"/>
                  <a:pt x="768" y="608"/>
                </a:cubicBezTo>
                <a:cubicBezTo>
                  <a:pt x="902" y="620"/>
                  <a:pt x="1035" y="629"/>
                  <a:pt x="1169" y="642"/>
                </a:cubicBezTo>
                <a:cubicBezTo>
                  <a:pt x="1197" y="639"/>
                  <a:pt x="1225" y="639"/>
                  <a:pt x="1252" y="633"/>
                </a:cubicBezTo>
                <a:cubicBezTo>
                  <a:pt x="1281" y="626"/>
                  <a:pt x="1276" y="610"/>
                  <a:pt x="1294" y="592"/>
                </a:cubicBezTo>
                <a:cubicBezTo>
                  <a:pt x="1360" y="526"/>
                  <a:pt x="1276" y="631"/>
                  <a:pt x="1344" y="550"/>
                </a:cubicBezTo>
                <a:cubicBezTo>
                  <a:pt x="1350" y="542"/>
                  <a:pt x="1353" y="531"/>
                  <a:pt x="1361" y="525"/>
                </a:cubicBezTo>
                <a:cubicBezTo>
                  <a:pt x="1390" y="501"/>
                  <a:pt x="1435" y="497"/>
                  <a:pt x="1469" y="483"/>
                </a:cubicBezTo>
                <a:cubicBezTo>
                  <a:pt x="1542" y="452"/>
                  <a:pt x="1607" y="436"/>
                  <a:pt x="1687" y="425"/>
                </a:cubicBezTo>
                <a:cubicBezTo>
                  <a:pt x="1727" y="414"/>
                  <a:pt x="1757" y="391"/>
                  <a:pt x="1795" y="375"/>
                </a:cubicBezTo>
                <a:cubicBezTo>
                  <a:pt x="1821" y="364"/>
                  <a:pt x="1863" y="362"/>
                  <a:pt x="1887" y="358"/>
                </a:cubicBezTo>
                <a:cubicBezTo>
                  <a:pt x="1918" y="353"/>
                  <a:pt x="1922" y="342"/>
                  <a:pt x="1979" y="341"/>
                </a:cubicBezTo>
                <a:cubicBezTo>
                  <a:pt x="2085" y="339"/>
                  <a:pt x="2191" y="345"/>
                  <a:pt x="2296" y="358"/>
                </a:cubicBezTo>
                <a:cubicBezTo>
                  <a:pt x="2337" y="419"/>
                  <a:pt x="2367" y="423"/>
                  <a:pt x="2438" y="433"/>
                </a:cubicBezTo>
                <a:cubicBezTo>
                  <a:pt x="2477" y="446"/>
                  <a:pt x="2512" y="460"/>
                  <a:pt x="2546" y="483"/>
                </a:cubicBezTo>
                <a:cubicBezTo>
                  <a:pt x="2567" y="514"/>
                  <a:pt x="2602" y="529"/>
                  <a:pt x="2638" y="542"/>
                </a:cubicBezTo>
                <a:cubicBezTo>
                  <a:pt x="2671" y="575"/>
                  <a:pt x="2704" y="604"/>
                  <a:pt x="2730" y="642"/>
                </a:cubicBezTo>
                <a:cubicBezTo>
                  <a:pt x="2750" y="706"/>
                  <a:pt x="2700" y="788"/>
                  <a:pt x="2788" y="767"/>
                </a:cubicBezTo>
                <a:cubicBezTo>
                  <a:pt x="2834" y="721"/>
                  <a:pt x="2894" y="689"/>
                  <a:pt x="2930" y="633"/>
                </a:cubicBezTo>
                <a:cubicBezTo>
                  <a:pt x="2942" y="591"/>
                  <a:pt x="2950" y="570"/>
                  <a:pt x="2980" y="617"/>
                </a:cubicBezTo>
                <a:cubicBezTo>
                  <a:pt x="2972" y="677"/>
                  <a:pt x="2970" y="685"/>
                  <a:pt x="2930" y="725"/>
                </a:cubicBezTo>
                <a:cubicBezTo>
                  <a:pt x="2910" y="788"/>
                  <a:pt x="2895" y="836"/>
                  <a:pt x="2847" y="884"/>
                </a:cubicBezTo>
                <a:cubicBezTo>
                  <a:pt x="2886" y="896"/>
                  <a:pt x="2893" y="877"/>
                  <a:pt x="2930" y="859"/>
                </a:cubicBezTo>
                <a:cubicBezTo>
                  <a:pt x="2947" y="842"/>
                  <a:pt x="2972" y="831"/>
                  <a:pt x="2980" y="809"/>
                </a:cubicBezTo>
                <a:cubicBezTo>
                  <a:pt x="2983" y="801"/>
                  <a:pt x="2983" y="791"/>
                  <a:pt x="2989" y="784"/>
                </a:cubicBezTo>
                <a:cubicBezTo>
                  <a:pt x="2995" y="776"/>
                  <a:pt x="3006" y="773"/>
                  <a:pt x="3014" y="767"/>
                </a:cubicBezTo>
                <a:cubicBezTo>
                  <a:pt x="3017" y="748"/>
                  <a:pt x="3010" y="724"/>
                  <a:pt x="3022" y="709"/>
                </a:cubicBezTo>
                <a:cubicBezTo>
                  <a:pt x="3038" y="689"/>
                  <a:pt x="3050" y="733"/>
                  <a:pt x="3056" y="750"/>
                </a:cubicBezTo>
                <a:cubicBezTo>
                  <a:pt x="3050" y="758"/>
                  <a:pt x="3047" y="769"/>
                  <a:pt x="3039" y="775"/>
                </a:cubicBezTo>
                <a:cubicBezTo>
                  <a:pt x="3029" y="783"/>
                  <a:pt x="3011" y="781"/>
                  <a:pt x="3005" y="792"/>
                </a:cubicBezTo>
                <a:cubicBezTo>
                  <a:pt x="3000" y="802"/>
                  <a:pt x="3003" y="821"/>
                  <a:pt x="3014" y="825"/>
                </a:cubicBezTo>
                <a:cubicBezTo>
                  <a:pt x="3064" y="842"/>
                  <a:pt x="3119" y="842"/>
                  <a:pt x="3172" y="850"/>
                </a:cubicBezTo>
                <a:cubicBezTo>
                  <a:pt x="3186" y="864"/>
                  <a:pt x="3204" y="875"/>
                  <a:pt x="3214" y="892"/>
                </a:cubicBezTo>
                <a:cubicBezTo>
                  <a:pt x="3226" y="912"/>
                  <a:pt x="3226" y="939"/>
                  <a:pt x="3239" y="959"/>
                </a:cubicBezTo>
                <a:cubicBezTo>
                  <a:pt x="3245" y="967"/>
                  <a:pt x="3250" y="976"/>
                  <a:pt x="3256" y="984"/>
                </a:cubicBezTo>
                <a:cubicBezTo>
                  <a:pt x="3264" y="1010"/>
                  <a:pt x="3270" y="1042"/>
                  <a:pt x="3281" y="1067"/>
                </a:cubicBezTo>
                <a:cubicBezTo>
                  <a:pt x="3314" y="1145"/>
                  <a:pt x="3454" y="1131"/>
                  <a:pt x="3515" y="1151"/>
                </a:cubicBezTo>
                <a:cubicBezTo>
                  <a:pt x="3552" y="1188"/>
                  <a:pt x="3569" y="1185"/>
                  <a:pt x="3623" y="1193"/>
                </a:cubicBezTo>
                <a:cubicBezTo>
                  <a:pt x="3696" y="1227"/>
                  <a:pt x="3713" y="1209"/>
                  <a:pt x="3799" y="1201"/>
                </a:cubicBezTo>
                <a:cubicBezTo>
                  <a:pt x="3827" y="1192"/>
                  <a:pt x="3849" y="1184"/>
                  <a:pt x="3874" y="1168"/>
                </a:cubicBezTo>
                <a:cubicBezTo>
                  <a:pt x="3935" y="1171"/>
                  <a:pt x="3997" y="1167"/>
                  <a:pt x="4057" y="1176"/>
                </a:cubicBezTo>
                <a:cubicBezTo>
                  <a:pt x="4075" y="1179"/>
                  <a:pt x="4089" y="1196"/>
                  <a:pt x="4107" y="1201"/>
                </a:cubicBezTo>
                <a:cubicBezTo>
                  <a:pt x="4132" y="1207"/>
                  <a:pt x="4158" y="1206"/>
                  <a:pt x="4183" y="1209"/>
                </a:cubicBezTo>
                <a:cubicBezTo>
                  <a:pt x="4271" y="1241"/>
                  <a:pt x="4270" y="1166"/>
                  <a:pt x="4341" y="1143"/>
                </a:cubicBezTo>
                <a:cubicBezTo>
                  <a:pt x="4452" y="1169"/>
                  <a:pt x="4510" y="1171"/>
                  <a:pt x="4575" y="1076"/>
                </a:cubicBezTo>
                <a:cubicBezTo>
                  <a:pt x="4568" y="1017"/>
                  <a:pt x="4537" y="971"/>
                  <a:pt x="4592" y="934"/>
                </a:cubicBezTo>
                <a:cubicBezTo>
                  <a:pt x="4603" y="900"/>
                  <a:pt x="4595" y="875"/>
                  <a:pt x="4583" y="842"/>
                </a:cubicBezTo>
                <a:cubicBezTo>
                  <a:pt x="4602" y="814"/>
                  <a:pt x="4593" y="824"/>
                  <a:pt x="4608" y="809"/>
                </a:cubicBezTo>
                <a:cubicBezTo>
                  <a:pt x="4605" y="792"/>
                  <a:pt x="4610" y="773"/>
                  <a:pt x="4600" y="759"/>
                </a:cubicBezTo>
                <a:cubicBezTo>
                  <a:pt x="4582" y="733"/>
                  <a:pt x="4552" y="726"/>
                  <a:pt x="4525" y="717"/>
                </a:cubicBezTo>
                <a:cubicBezTo>
                  <a:pt x="4416" y="643"/>
                  <a:pt x="4266" y="697"/>
                  <a:pt x="4141" y="717"/>
                </a:cubicBezTo>
                <a:cubicBezTo>
                  <a:pt x="3675" y="709"/>
                  <a:pt x="3794" y="720"/>
                  <a:pt x="3556" y="692"/>
                </a:cubicBezTo>
                <a:cubicBezTo>
                  <a:pt x="3472" y="669"/>
                  <a:pt x="3346" y="648"/>
                  <a:pt x="3281" y="592"/>
                </a:cubicBezTo>
                <a:cubicBezTo>
                  <a:pt x="3248" y="563"/>
                  <a:pt x="3219" y="551"/>
                  <a:pt x="3181" y="525"/>
                </a:cubicBezTo>
                <a:cubicBezTo>
                  <a:pt x="3173" y="519"/>
                  <a:pt x="3156" y="508"/>
                  <a:pt x="3156" y="508"/>
                </a:cubicBezTo>
                <a:cubicBezTo>
                  <a:pt x="3153" y="503"/>
                  <a:pt x="3089" y="412"/>
                  <a:pt x="3081" y="408"/>
                </a:cubicBezTo>
                <a:cubicBezTo>
                  <a:pt x="2982" y="363"/>
                  <a:pt x="2864" y="386"/>
                  <a:pt x="2755" y="383"/>
                </a:cubicBezTo>
                <a:cubicBezTo>
                  <a:pt x="2738" y="380"/>
                  <a:pt x="2721" y="379"/>
                  <a:pt x="2705" y="375"/>
                </a:cubicBezTo>
                <a:cubicBezTo>
                  <a:pt x="2680" y="368"/>
                  <a:pt x="2630" y="350"/>
                  <a:pt x="2630" y="350"/>
                </a:cubicBezTo>
                <a:cubicBezTo>
                  <a:pt x="2490" y="255"/>
                  <a:pt x="2322" y="225"/>
                  <a:pt x="2162" y="174"/>
                </a:cubicBezTo>
                <a:cubicBezTo>
                  <a:pt x="2116" y="159"/>
                  <a:pt x="2051" y="125"/>
                  <a:pt x="2004" y="124"/>
                </a:cubicBezTo>
                <a:cubicBezTo>
                  <a:pt x="1804" y="119"/>
                  <a:pt x="1603" y="119"/>
                  <a:pt x="1403" y="116"/>
                </a:cubicBezTo>
                <a:cubicBezTo>
                  <a:pt x="1358" y="108"/>
                  <a:pt x="1314" y="98"/>
                  <a:pt x="1269" y="91"/>
                </a:cubicBezTo>
                <a:cubicBezTo>
                  <a:pt x="1141" y="96"/>
                  <a:pt x="955" y="0"/>
                  <a:pt x="885" y="107"/>
                </a:cubicBezTo>
                <a:cubicBezTo>
                  <a:pt x="879" y="116"/>
                  <a:pt x="875" y="126"/>
                  <a:pt x="868" y="133"/>
                </a:cubicBezTo>
                <a:cubicBezTo>
                  <a:pt x="861" y="140"/>
                  <a:pt x="851" y="144"/>
                  <a:pt x="843" y="149"/>
                </a:cubicBezTo>
                <a:cubicBezTo>
                  <a:pt x="760" y="279"/>
                  <a:pt x="674" y="243"/>
                  <a:pt x="518" y="249"/>
                </a:cubicBezTo>
                <a:cubicBezTo>
                  <a:pt x="479" y="257"/>
                  <a:pt x="432" y="280"/>
                  <a:pt x="393" y="283"/>
                </a:cubicBezTo>
                <a:cubicBezTo>
                  <a:pt x="334" y="288"/>
                  <a:pt x="276" y="288"/>
                  <a:pt x="217" y="291"/>
                </a:cubicBezTo>
                <a:cubicBezTo>
                  <a:pt x="170" y="306"/>
                  <a:pt x="167" y="291"/>
                  <a:pt x="142" y="249"/>
                </a:cubicBezTo>
                <a:close/>
              </a:path>
            </a:pathLst>
          </a:custGeom>
          <a:solidFill>
            <a:srgbClr val="cccc00"/>
          </a:solidFill>
          <a:ln w="284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632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4360" y="1557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бэкваториа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31840" y="2727360"/>
            <a:ext cx="48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стынный      троп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4149720"/>
            <a:ext cx="227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бтроп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4:48:48Z</dcterms:created>
  <dc:creator>Алексей</dc:creator>
  <dc:description/>
  <dc:language>en-US</dc:language>
  <cp:lastModifiedBy>Алексей</cp:lastModifiedBy>
  <dcterms:modified xsi:type="dcterms:W3CDTF">2007-02-02T04:52:35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