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99B-523D-4DAA-ADF5-C58D35AC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136-BF28-4841-85DD-1ADD5D4C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F5F-C655-4F27-AB46-C317ABDC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B66-15C1-42CC-8695-4E346AB0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FE63-A57E-40D2-850D-46201DEF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28D9-4405-44BB-B1F0-D4E93505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BDB4-CAD1-4721-BD04-69753EC0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6B46-B661-445A-9B34-14A49465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F41A-6553-435F-803D-7625CE9F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A01-B76B-4776-BEF6-8E9655F0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FCAB-08E1-4F34-B37D-7418E9BB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C23-7C16-46B3-81BA-8C9628E7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8548-0A50-4693-8ED4-83750167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65C3-CAD5-4500-B5A5-8DD921B9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D8CD-7B8F-45AB-8E35-B9BD30E4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9E02-3526-46FB-ABE1-F66B97AB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0072-B36C-4A3F-850A-B7C2AEDA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8A9-A008-46D1-9ED8-F0BB9E22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DA9-13A3-4ABE-B258-E2B77FCC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31E-BF07-4ED3-9F8C-495B4764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E0EF-97E2-4516-8DBB-1E0D42A3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A02-CE31-4B0C-8255-FC2C439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9B1-6274-46C7-B9E9-61EC78E5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717-84B5-4DC5-B0F5-81D65D9C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E4A1-80B7-469C-B260-AB573332F3B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A080-AA17-49F0-A2A9-6829F295802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1;&#1072;&#1090;&#1083;&#1100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«Шоколад и здоровье»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68480" y="3068280"/>
            <a:ext cx="4475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олнила:                                                                      Крестовская Кристина Михайловна                                                                   ученица 8 класса 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чный руководитель:                                                                              Торопова Лидия Дмитриевна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09120" y="259920"/>
            <a:ext cx="65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У «Средняя общеобразовательная школа с углубленным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учением отдельных предметов №8»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52880" y="5835600"/>
            <a:ext cx="224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.Ленинск-Кузнецкий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279720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лияние шоколада на организ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крепляет сердце, улучшает кровообращение и препятствует образованию кровяных тромбов, приводящих к инфарктам и инсультам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 шоколаде содержится большое количество физиологически активных веществ - теобромина и кофеина. Они стимулируют сердечно-сосудистую и нервную систем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Шоколад поднимает настроение, стимулируя выработку гормона радости - серотонин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ромат шоколада оказывает на организм целительное действие, успокаивая и умиротворя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32360" y="2635920"/>
            <a:ext cx="38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Можно сделать вывод, что понятия шоколад и здоровье совместимы. И даже больше, шоколад помогает сохранять здоровье и красоту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С поставленной задачей мы справились  и рекомендуем употреблять шоколад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7800" y="476280"/>
            <a:ext cx="32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2637000"/>
            <a:ext cx="8791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Times New Roman"/>
              </a:rPr>
              <a:t>Спасибо за внимание !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Определить, совместимы ли понятия здоровье и шоколад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8366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Цель работы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Задачи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ить понятие «шоколад» и привести классификацию шокола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снить когда и где появился шокола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ить, как влияет шоколад на организм челове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снить, как в наше время используется шоколад в других областях производ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Плюсы и минусы шоколада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11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лово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«шоколад»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происходит от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ацтекского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слова "xocolātl" (название напитка из бобов какао, досл. "горькая вода" (науатль xocolli "горечь", atl "вода"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Шоколад"/>
          <p:cNvPicPr/>
          <p:nvPr/>
        </p:nvPicPr>
        <p:blipFill>
          <a:blip r:embed="rId2"/>
          <a:stretch/>
        </p:blipFill>
        <p:spPr>
          <a:xfrm>
            <a:off x="5003640" y="2565360"/>
            <a:ext cx="3176640" cy="3135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околад без добавл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околад с добавлени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околад с начинк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околад диабетическ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околад белы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12675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В зависимости от состава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60280"/>
            <a:ext cx="77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Классификация шоколада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70440" y="2565360"/>
            <a:ext cx="351792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40360" y="1269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Достоверные факты о шоколаде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2276280"/>
            <a:ext cx="8820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лод дерева какао растет прямо на стволе. Он выглядит как маленькая дыня, а во внутренней мякоти содержится от двадцати до сорока зерен или бобов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еобходимо почти 900 бобов какао, чтобы сделать килограмм шоколад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акао и шоколад богаты необходимыми для тела минералами, включая магний и желез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ервый раз плитка шоколада была сделана в Мексике в восемнадцатом век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ботаническое имя растения, из которого производят шоколад - Theobramba cacao, что с латыни означает «пища богов»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амыми крупными потребителями шоколада являются британцы, которые съедают в год около восьми килограммов шоколада на человека, и швейцарцы, изобревшие, между прочим, белый шоколад, употребляющие чуть меньше 11 килограммов на человека в год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амая большая плитка шоколада весит 2,5 килограмм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10-18T09:24:02Z</dcterms:modified>
  <cp:revision>5</cp:revision>
  <dc:subject/>
  <dc:title>PowerPoint Presentation</dc:title>
</cp:coreProperties>
</file>