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67B-BB03-4AF4-AB88-712FA24A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0CC-A4CD-4D8A-BC94-5009ACC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916-0DAA-4737-BC17-D620C227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97B-8FF6-4073-BE7B-A62CD2D7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FA56-12DE-4A41-A1AF-F7A3837F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8B3-57E4-4C31-AEF2-04744AB3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29EE-4B23-4294-AF91-75672CB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5880-2EFF-49F3-97D7-B2C1B2FA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FE4-7D8A-465C-A219-0F75BD0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51EC-B444-44D0-99BF-73E58ED9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4FB-3EE5-484D-937E-E8A18BC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C68-2168-43E0-985C-AC47F79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5EAA-856E-46BB-93EA-608B024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32BC-DCF4-452C-8511-9E4F25A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9F4E-0EBD-4F0D-8459-5888996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352D-AB9A-4D86-9F07-D1AA77B2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7315-09B6-4DC0-9B7D-00341880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6A6-1F63-497F-BFF7-B3E469C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A32-6943-4E00-96C8-9AF27B3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2EC-E9CE-4696-A127-831A4638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B26-1539-4FA1-B601-2EAEEB6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7AE-742E-4B68-A860-77FFED5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A42-F8B9-491F-927B-94D7B04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D15-5B8B-4283-959C-A53F214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886-AC65-4FC0-8397-705787D320E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387-65A1-4C86-8A1D-AE6BB7FC4D2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1;&#1072;&#1090;&#1083;&#1100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«Шоколад и здоровье»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68480" y="3068280"/>
            <a:ext cx="4475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ила:                                                                      Крестовская Кристина Михайловна                                                                   ученица 8 класса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                                                                             Торопова Лидия Дмитрие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09120" y="259920"/>
            <a:ext cx="65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с углубленным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учением отдельных предметов №8»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2880" y="5835600"/>
            <a:ext cx="224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.Ленинск-Кузнецкий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9720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лияние шоколада на орган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крепляет сердце, улучшает кровообращение и препятствует образованию кровяных тромбов, приводящих к инфарктам и инсульта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шоколаде содержится большое количество физиологически активных веществ - теобромина и кофеина. Они стимулируют сердечно-сосудистую и нервную систем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околад поднимает настроение, стимулируя выработку гормона радости - серотон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ромат шоколада оказывает на организм целительное действие, успокаивая и умиротворя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32360" y="263592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Можно сделать вывод, что понятия шоколад и здоровье совместимы. И даже больше, шоколад помогает сохранять здоровье и красоту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С поставленной задачей мы справились  и рекомендуем употреблять шоколад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7800" y="47628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2637000"/>
            <a:ext cx="879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Спасибо за внимание !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Определить, совместимы ли понятия здоровье и шоколад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8366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Цель работы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Задачи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ь понятие «шоколад» и привести классификацию шокола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снить когда и где появился шокола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, как влияет шоколад на организм челове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снить, как в наше время используется шоколад в других областях производ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Плюсы и минусы шоколада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лово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шоколад»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происходит от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ацтекского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слова "xocolātl" (название напитка из бобов какао, досл. "горькая вода" (науатль xocolli "горечь", atl "вода"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Шоколад"/>
          <p:cNvPicPr/>
          <p:nvPr/>
        </p:nvPicPr>
        <p:blipFill>
          <a:blip r:embed="rId2"/>
          <a:stretch/>
        </p:blipFill>
        <p:spPr>
          <a:xfrm>
            <a:off x="5003640" y="2565360"/>
            <a:ext cx="3176640" cy="313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без добавл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с добавлен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с начинк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диабетическ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околад бел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2675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В зависимости от состава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028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Классификация шоколада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70440" y="2565360"/>
            <a:ext cx="35179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4036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остоверные факты о шоколаде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276280"/>
            <a:ext cx="8820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лод дерева какао растет прямо на стволе. Он выглядит как маленькая дыня, а во внутренней мякоти содержится от двадцати до сорока зерен или бобов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обходимо почти 900 бобов какао, чтобы сделать килограмм шоколад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акао и шоколад богаты необходимыми для тела минералами, включая магний и желез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ервый раз плитка шоколада была сделана в Мексике в восемнадцатом век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отаническое имя растения, из которого производят шоколад - Theobramba cacao, что с латыни означает «пища богов»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амыми крупными потребителями шоколада являются британцы, которые съедают в год около восьми килограммов шоколада на человека, и швейцарцы, изобревшие, между прочим, белый шоколад, употребляющие чуть меньше 11 килограммов на человека в год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амая большая плитка шоколада весит 2,5 килограмм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10-18T09:24:02Z</dcterms:modified>
  <cp:revision>5</cp:revision>
  <dc:subject/>
  <dc:title>PowerPoint Presentation</dc:title>
</cp:coreProperties>
</file>