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AEA-DFF1-4C8C-9A99-A25CAC5E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61-E6C4-4CC8-B8CE-242C0D09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C3E-DC21-4FBB-B08D-D4587F8D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9C0-0519-4FEC-83DE-BA97F491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C80-FA56-4740-8177-2BB2AE7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E879-7681-4345-8438-868770C9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7663-5382-4C0F-ACE6-07C13964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A124-0CB5-45C2-97C9-9E4BDFDE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7EF8-ABBF-4143-A104-2FF0C13D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F1FC-D355-4857-8E40-EDC25F8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D1EA-6835-48AD-A4B0-02E61E9E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37B-94E7-4AC5-A0B3-1F0B33DE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4C5C-9110-402D-BFF1-C515F6C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AB2F-5B1E-475B-91B2-7EC56A5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CBF3-AD12-480B-937E-63FF9F0A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AA34-6281-4365-99B5-F1520480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6D6-6200-4485-82F2-1E68471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0294-EEE8-48EC-8B81-53E7340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ED02-6121-4E83-8262-BCADF2A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B38F-59B5-4E53-BF01-C780756C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BBE1-CAAF-441C-9DBA-28F10B3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C4C6-8985-441A-8DAB-41ED6CA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74C-59AF-4417-B67B-69EAD6D1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7E01-6924-43EC-8BFB-89179B31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5BE1-B88E-4A04-ADAA-09FF170E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65DB-960B-47B2-9530-B40CAA0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1E86-A66B-4EDB-9EB9-DF97853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B83D-B6A0-4FE0-B40E-F603BA8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F349-6560-46C1-A5D5-9D4EB9C6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82A6-00F5-4DD0-A519-5F1F3A57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4E71D-6601-478B-AF93-C79DCE1C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9050D-9C3F-4EA8-BC93-928D6509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EA3D-C055-446A-BF1D-E7BC623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1AB-0FED-4CE8-9B02-4EA5364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C0CB-3A31-4F43-846D-3E7746C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8C4A-74F3-4B96-913A-A827F0E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0457-8E34-4FE4-AFB4-27DBE2AC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E129-43CD-4CED-AA33-DFEEA190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FCF0-AFC8-4A99-A544-82D25BB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BC43-1DAA-4A86-B12A-CD84402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1263-949E-4454-863B-8A3FC89A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237D-5529-4FE7-AF99-EEE2F4B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A6D2-6A73-4445-BBA5-405BC34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6126-A4C7-4B09-B43E-7D720D8B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6A7-FB96-482F-81DE-4F892C26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F3E6-0C02-48F0-B350-36AEDB5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8FAA0-DC12-4E41-830A-1C1E0CC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7B67-BB0E-4516-8CFC-1D3A000E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20415-CA90-472A-99BD-9D595269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70DF-C98E-4A3E-BBE8-6073292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1E9A-8CE0-45E0-8171-052C7FA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42A1-3A6E-4F80-AA50-7B26F95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F4136-693B-4FB1-8580-02E65D3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C577-389D-493F-9486-6D57573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3983-5E69-461D-BB47-7EE3A4D1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52A-790D-4983-8FD3-DDA3699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1F77-CB15-4305-8D58-33FC71E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C64-249E-4AA2-9D4E-1A2E321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D37-6004-4881-8EEE-73F050F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240-3BCD-497C-998B-E91B6A8B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6E5-839E-41CB-ACD9-AE10DCAE989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7DA1-A917-4A50-94B4-97FE7F1A39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854-B4D7-4CE5-927A-AB4C987DA7E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046D-19B1-4564-8BF1-CD1F25A1B3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32C-F251-4817-AFEC-6A273C2494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Русская литература XX века: общая характеристика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Век и конец века на евангельском языке не означает конца и начала столетия, но означает конец одного мировоззрения, одной веры, одного способа общения люд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Л. Н. Толсто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Picture 2" descr="C:\Documents and Settings\Admin\Мои документы\Мои рисунки\245.jpg"/>
          <p:cNvPicPr/>
          <p:nvPr/>
        </p:nvPicPr>
        <p:blipFill>
          <a:blip r:embed="rId1"/>
          <a:stretch/>
        </p:blipFill>
        <p:spPr>
          <a:xfrm>
            <a:off x="571680" y="500040"/>
            <a:ext cx="2428560" cy="3857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Мои рисунки\249.jpg"/>
          <p:cNvPicPr/>
          <p:nvPr/>
        </p:nvPicPr>
        <p:blipFill>
          <a:blip r:embed="rId2"/>
          <a:stretch/>
        </p:blipFill>
        <p:spPr>
          <a:xfrm>
            <a:off x="6715080" y="2571840"/>
            <a:ext cx="1905120" cy="2333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Admin\Мои документы\Мои рисунки\252.jpg"/>
          <p:cNvPicPr/>
          <p:nvPr/>
        </p:nvPicPr>
        <p:blipFill>
          <a:blip r:embed="rId3"/>
          <a:stretch/>
        </p:blipFill>
        <p:spPr>
          <a:xfrm>
            <a:off x="6500880" y="500040"/>
            <a:ext cx="228132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Documents and Settings\Admin\Мои документы\Мои рисунки\250.jpg"/>
          <p:cNvPicPr/>
          <p:nvPr/>
        </p:nvPicPr>
        <p:blipFill>
          <a:blip r:embed="rId4"/>
          <a:stretch/>
        </p:blipFill>
        <p:spPr>
          <a:xfrm>
            <a:off x="3619440" y="50004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Documents and Settings\Admin\Мои документы\Мои рисунки\212.jpg"/>
          <p:cNvPicPr/>
          <p:nvPr/>
        </p:nvPicPr>
        <p:blipFill>
          <a:blip r:embed="rId5"/>
          <a:stretch/>
        </p:blipFill>
        <p:spPr>
          <a:xfrm>
            <a:off x="3365640" y="3071880"/>
            <a:ext cx="241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ставители    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литературных направл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р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Д.С. Мережковский, З.Н. Гиппиус, Ф.К. Сологуб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стики—богоискате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Д.С. Мережковский, З.Н. Гиппиус, Н. Минск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денты—индивидуа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Ф.К. Сологуб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лад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А.А. Блок, Андрей Белый (Б.Н. Бугаев), В.И. Иван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кмеиз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.С. Гумилев, А.А. Ахматова, С.М. Городецкий, О.Э. Мандельштам, М.А. Зенкевич, В.И. Нарбу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уб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поэты "Гилеи"): Д.Д. Бурлюк, В.В. Хлебников, В.В. Каменский, В.В. Маяковский, А.Е. Кручены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г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И. Северянин, И. Игнатьев, К. Олимпов, В. Гнед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упп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"Мезонин поэзии": В. Шершеневич, Хрисанф, Р. Ивне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динение "Центрифуга"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Б.Л. Пастернак, Н.Н. Асеев, С.П. Бобр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имволизм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71720" y="1428840"/>
            <a:ext cx="2971800" cy="4206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мистическое содержание, символы и расширение художественной впечатлительности» </a:t>
            </a: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не знаю друг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язательств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Кроме дев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ы в себ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Брю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вое и самое крупное из модернистских течений, возникших в Росс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оретическая основа русского символизма  - лекция Д. С. Мережковского «О причинах упадка и о новых течениях современной русской литературы»(1892 год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МВОЛИЗ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2" descr="C:\Documents and Settings\Admin\Мои документы\Мои рисунки\254.jpg"/>
          <p:cNvPicPr/>
          <p:nvPr/>
        </p:nvPicPr>
        <p:blipFill>
          <a:blip r:embed="rId1"/>
          <a:stretch/>
        </p:blipFill>
        <p:spPr>
          <a:xfrm>
            <a:off x="5072040" y="571680"/>
            <a:ext cx="3500640" cy="464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Admin\Мои документы\Мои рисунки\253.jpg"/>
          <p:cNvPicPr/>
          <p:nvPr/>
        </p:nvPicPr>
        <p:blipFill>
          <a:blip r:embed="rId2"/>
          <a:stretch/>
        </p:blipFill>
        <p:spPr>
          <a:xfrm>
            <a:off x="500040" y="428760"/>
            <a:ext cx="3857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C:\Documents and Settings\Admin\Мои документы\Мои рисунки\259.jpg"/>
          <p:cNvPicPr/>
          <p:nvPr/>
        </p:nvPicPr>
        <p:blipFill>
          <a:blip r:embed="rId1"/>
          <a:stretch/>
        </p:blipFill>
        <p:spPr>
          <a:xfrm>
            <a:off x="7286760" y="4000680"/>
            <a:ext cx="1428480" cy="1919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Акмеизм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гичность художественного замысла, стройность композиции, четкость организации всех элементов художественной фор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тетика разума и гармо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атья"О прекрасной ясности"(1910 год М. Кузмин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тературное объединение  "Цех поэтов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программной статье "Наследие акмеизма и символизм" Н. Гумилев называл символизм "достойным отцом". При этом он подчеркивал, что новое поколение выработало иной - "мужественно твердый и ясный взгляд на жизнь"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C:\Documents and Settings\Admin\Мои документы\Мои рисунки\257.jpg"/>
          <p:cNvPicPr/>
          <p:nvPr/>
        </p:nvPicPr>
        <p:blipFill>
          <a:blip r:embed="rId2"/>
          <a:stretch/>
        </p:blipFill>
        <p:spPr>
          <a:xfrm>
            <a:off x="5786280" y="4357800"/>
            <a:ext cx="1428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85920" y="500040"/>
            <a:ext cx="2938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Футуризм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(от лат. </a:t>
            </a:r>
            <a:r>
              <a:rPr b="1" lang="en-US" sz="2000" spc="-1" strike="noStrike">
                <a:solidFill>
                  <a:srgbClr val="f07f09"/>
                </a:solidFill>
                <a:latin typeface="Verdana"/>
              </a:rPr>
              <a:t>futurum -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будущее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топическая мечта о рождении сверхискусства, способного перевернуть мир. - стремление к рациональному обоснованию творчества с опорой на фундаментальные науки - физику, математик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лавный технический принцип их работы - принцип "сдвига", канон "сдвинутой конструк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рождения русского футуризма - 1910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футуристический сборник "Садок Судей" (его авторами были Д. Бурлюк, В. Хлебников и В. Каменски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детляне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C:\Documents and Settings\Admin\Мои документы\Мои рисунки\262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Крестьянские писатели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Деревенская Русь - главный источник поэтического мироощущения крестьянских поэ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тив «возвращения на родин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изация крестьянского труда  и деревенского быта, зоо- и антропоморфизм (антропоморфизация природных яв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стьянские поэты не выпускали поэтических деклараций и не обосновывали теоретически свои литературно-художественные принципы. Однако именно их группу раз и отличают яркая литературная самобытность социально-мировоззренческое еди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.И.Суриков. Крыши зимой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юд. 1880 г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2" descr="C:\Documents and Settings\Admin\Мои документы\Мои рисунки\268.jpg"/>
          <p:cNvPicPr/>
          <p:nvPr/>
        </p:nvPicPr>
        <p:blipFill>
          <a:blip r:embed="rId1"/>
          <a:stretch/>
        </p:blipFill>
        <p:spPr>
          <a:xfrm>
            <a:off x="2690640" y="642960"/>
            <a:ext cx="38102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НЕ  ТЕЧ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ина Цвета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ша Чёр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416560" y="1447920"/>
            <a:ext cx="2403360" cy="3338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vetaeva"/>
          <p:cNvPicPr/>
          <p:nvPr/>
        </p:nvPicPr>
        <p:blipFill>
          <a:blip r:embed="rId2"/>
          <a:stretch/>
        </p:blipFill>
        <p:spPr>
          <a:xfrm>
            <a:off x="928800" y="1530360"/>
            <a:ext cx="29289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ип Мандельштам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е на плечи кидается век-волкода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е волк я по крови свое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хай меня лучше, как шапку,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а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ркой шубы сибирских степ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Mandelstam"/>
          <p:cNvPicPr/>
          <p:nvPr/>
        </p:nvPicPr>
        <p:blipFill>
          <a:blip r:embed="rId1"/>
          <a:stretch/>
        </p:blipFill>
        <p:spPr>
          <a:xfrm>
            <a:off x="571680" y="642960"/>
            <a:ext cx="2786040" cy="37861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928800" y="464328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ПОХА ВОЙН И РЕВОЛЮЦ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2 –СОЗДАНИЕ ПОЛИТИЧЕСКИХ ПАР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4-1905 – РУССКО-ЯПОНСКАЯ ВОЙ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5-1907 – ПЕРВАЯ РУССКАЯ РЕВОЛЮ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4-НАЧАЛО 1 МИРОВОЙ ВОЙ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7- ФЕВРАЛЬСКАЯ РЕВОЛЮЦИЯ, ОКТЯБРЬСКАЯ РЕВОЛЮ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2" descr="C:\Documents and Settings\Admin\Мои документы\Мои рисунки\243.jpg"/>
          <p:cNvPicPr/>
          <p:nvPr/>
        </p:nvPicPr>
        <p:blipFill>
          <a:blip r:embed="rId1"/>
          <a:stretch/>
        </p:blipFill>
        <p:spPr>
          <a:xfrm>
            <a:off x="642960" y="500040"/>
            <a:ext cx="3852720" cy="45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Documents and Settings\Admin\Мои документы\Мои рисунки\244.gif"/>
          <p:cNvPicPr/>
          <p:nvPr/>
        </p:nvPicPr>
        <p:blipFill>
          <a:blip r:embed="rId2"/>
          <a:stretch/>
        </p:blipFill>
        <p:spPr>
          <a:xfrm>
            <a:off x="5143680" y="57168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ие научные открытия поколебали классические представления об устройстве мира, привели к парадоксальному выводу: "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материя исчез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. Новое видение мира, таким образом, определит и новое лицо реализма XX в., который будет существенно отличаться от классического реализма предшествен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ОГОИСКАТЕЛЬСТ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зис веры. "Бог умер!" — воскликнул Ницш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XX века все больше стал испытывать на себе влияние безрелигиозных ид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 – теур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Бог умер!»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Ницш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C:\Documents and Settings\Admin\Мои документы\Мои рисунки\256.jpg"/>
          <p:cNvPicPr/>
          <p:nvPr/>
        </p:nvPicPr>
        <p:blipFill>
          <a:blip r:embed="rId1"/>
          <a:stretch/>
        </p:blipFill>
        <p:spPr>
          <a:xfrm>
            <a:off x="1428840" y="571680"/>
            <a:ext cx="6429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"На Парнасе серебряного века"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 С.Маковски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осмысление старых средств выразительности и возрождение поэзии ознаменуют наступление "серебряного века" русской литературы. Термин этот связывают с именем Н. Бердяева, употребившего его в одном из выступлений в салоне Д. Мережков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…серебряный месяц ярко / Над серебряным веком стыл". А.Ахмат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вал 1"/>
          <p:cNvSpPr/>
          <p:nvPr/>
        </p:nvSpPr>
        <p:spPr>
          <a:xfrm>
            <a:off x="714240" y="85716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>
            <a:off x="5428800" y="3786120"/>
            <a:ext cx="1358280" cy="10008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5"/>
          <p:cNvCxnSpPr/>
          <p:nvPr/>
        </p:nvCxnSpPr>
        <p:spPr>
          <a:xfrm flipH="1" flipV="1">
            <a:off x="3142800" y="1999440"/>
            <a:ext cx="1286640" cy="1143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0"/>
          <p:cNvCxnSpPr/>
          <p:nvPr/>
        </p:nvCxnSpPr>
        <p:spPr>
          <a:xfrm flipH="1">
            <a:off x="3142800" y="3786120"/>
            <a:ext cx="929520" cy="12153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39" name="Овал 17"/>
          <p:cNvSpPr/>
          <p:nvPr/>
        </p:nvSpPr>
        <p:spPr>
          <a:xfrm>
            <a:off x="1214280" y="507204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дер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5572080" y="4929120"/>
            <a:ext cx="292896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анг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6215040" y="100008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23"/>
          <p:cNvCxnSpPr>
            <a:stCxn id="243" idx="7"/>
          </p:cNvCxnSpPr>
          <p:nvPr/>
        </p:nvCxnSpPr>
        <p:spPr>
          <a:xfrm flipV="1">
            <a:off x="5918040" y="2071080"/>
            <a:ext cx="983520" cy="7815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3" name="Овал 24"/>
          <p:cNvSpPr/>
          <p:nvPr/>
        </p:nvSpPr>
        <p:spPr>
          <a:xfrm>
            <a:off x="3357720" y="2643120"/>
            <a:ext cx="3000240" cy="14288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Прямая со стрелкой 30"/>
          <p:cNvCxnSpPr/>
          <p:nvPr/>
        </p:nvCxnSpPr>
        <p:spPr>
          <a:xfrm flipH="1" flipV="1">
            <a:off x="1356480" y="4572000"/>
            <a:ext cx="50076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5" name="Овал 31"/>
          <p:cNvSpPr/>
          <p:nvPr/>
        </p:nvSpPr>
        <p:spPr>
          <a:xfrm>
            <a:off x="214200" y="3857760"/>
            <a:ext cx="207180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мво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33"/>
          <p:cNvCxnSpPr/>
          <p:nvPr/>
        </p:nvCxnSpPr>
        <p:spPr>
          <a:xfrm flipH="1" flipV="1">
            <a:off x="2428200" y="3499560"/>
            <a:ext cx="572040" cy="17866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7" name="Овал 34"/>
          <p:cNvSpPr/>
          <p:nvPr/>
        </p:nvSpPr>
        <p:spPr>
          <a:xfrm>
            <a:off x="928800" y="2571840"/>
            <a:ext cx="2071440" cy="9284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м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39"/>
          <p:cNvCxnSpPr/>
          <p:nvPr/>
        </p:nvCxnSpPr>
        <p:spPr>
          <a:xfrm flipV="1">
            <a:off x="7571160" y="4214880"/>
            <a:ext cx="14364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9" name="Овал 40"/>
          <p:cNvSpPr/>
          <p:nvPr/>
        </p:nvSpPr>
        <p:spPr>
          <a:xfrm>
            <a:off x="6786720" y="3286080"/>
            <a:ext cx="207144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ту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42"/>
          <p:cNvCxnSpPr/>
          <p:nvPr/>
        </p:nvCxnSpPr>
        <p:spPr>
          <a:xfrm flipV="1">
            <a:off x="4999680" y="1571040"/>
            <a:ext cx="1080" cy="9291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1" name="Овал 43"/>
          <p:cNvSpPr/>
          <p:nvPr/>
        </p:nvSpPr>
        <p:spPr>
          <a:xfrm>
            <a:off x="3643200" y="35712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естья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э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48"/>
          <p:cNvCxnSpPr/>
          <p:nvPr/>
        </p:nvCxnSpPr>
        <p:spPr>
          <a:xfrm>
            <a:off x="4286160" y="5785920"/>
            <a:ext cx="1215360" cy="2520"/>
          </a:xfrm>
          <a:prstGeom prst="straightConnector1">
            <a:avLst/>
          </a:prstGeom>
          <a:ln w="9360">
            <a:solidFill>
              <a:srgbClr val="ff8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Реализм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ипы "маленького человека" или интеллигента, пережившего духовную драм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естрота души" русского челове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ообразие тематики и человеческих характер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разы внешне заурядных, "маленьких" людей, вдруг находивших в себе силы на значительный духовный рост и обретавших достоинство в сложных для них внешних обстоятельств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. Бунин, А. Куприн, Е. Замятин, М. Горьк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Жили и творили Толстой и Чех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вые принципы пись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ще большая авторская своб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Широчайший арсенал художественной выразитель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увство меры, обязательное для художн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росшая внутренняя самокритичность и авторефлекси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0:08:32Z</dcterms:created>
  <dc:creator>Admin</dc:creator>
  <dc:description/>
  <dc:language>en-US</dc:language>
  <cp:lastModifiedBy>Галина</cp:lastModifiedBy>
  <dcterms:modified xsi:type="dcterms:W3CDTF">2013-04-14T12:56:51Z</dcterms:modified>
  <cp:revision>22</cp:revision>
  <dc:subject/>
  <dc:title>Русская литература XX века: общая характеристика </dc:title>
</cp:coreProperties>
</file>