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FA0-0EDF-45D2-B29B-3C15D775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3DE-589B-432D-BE30-A658EF5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DC9-8BDB-4339-9528-AD97B8EF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323-5189-4FDD-AA09-96C3F4BC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ADD-BE45-42C3-B1C3-68D60045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2E3-4352-4BCA-85B9-5874D15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52D3-514C-49D7-A117-C3D487A5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FA4B-7BAA-482E-BE67-8BAA98E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CBC-BA07-4B8E-96BE-6BCB54B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04B1-7CE0-46E3-98C9-5BBFE008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5C8-8876-4932-BABB-32E767D3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FF0-E6B5-4F33-9BDC-579033B1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1DF1-C7FC-4655-99A8-10CF0A3A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476-BF01-408E-8339-74B177C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E8F7-5485-4B01-BDB1-52135434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19E-B98D-44AF-8FCD-316DA510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D53-CDF8-41B5-866E-0C7414F6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FDDC4-FED7-4D8E-9456-FC89ABFB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BD67-57A1-42EB-B425-7A0DD50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289A-D3EB-4CD1-9DE4-032C71D7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26B2-D8BF-4E76-A87C-B53BFAD6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9CE4-372D-4B9C-B83C-F8D17C2D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F47-AA5F-408A-9595-3038172F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536F-5630-4AC1-A4F9-9328252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E31C-483A-4367-A239-B66E78C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2DBD-8B18-4CD2-A96C-6B21A2C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5D0A-E76D-4439-BAFC-5B4D58D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C20B-A83D-4777-90DA-6ADBE8A9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4AB6-B865-4D26-84DD-4568568A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5D66-40CB-4466-ADFB-B4803350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8DEB-843B-49A8-8A27-2B549315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32ED-3035-43BA-975A-860A0C92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75824-E766-42C2-A967-F5F0667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FF7-CA3B-4922-BFCE-8A0B09BC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9BBB-D50B-4BAC-9F10-B07745F5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883FB-2C77-400D-8D10-0892C32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BD3B-B100-4A11-BA3B-83E5C87B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2191E-26B6-43BD-A533-AEF0ACAF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D953-6061-4BB8-855D-2674319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1C673-5D0C-4986-B9C9-75862BA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B793-181F-405E-9D63-4BE61686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C9FE-8360-4317-96D4-6492782C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4B9D4-282F-49B9-83C4-FAC1441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65AA9-5CC2-47C2-B318-5AF1528D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128-64C6-443E-BEB4-6122DFC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49D64-1EC4-4439-BAF6-4FE69725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7679-B269-4F77-AAEE-EE7ABE88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97BD-0038-4918-9C14-10D8AA3A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6322-003B-48C5-A1BE-977F001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3B53-0188-4560-ABFB-807B0AC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19628-35B8-48DD-96CE-059E39F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DD17-873E-41CA-945A-31C63219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7CB8-F889-45EB-BAB7-413E105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0D27-7290-4B68-BA4F-2AEAA1D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D0F32-DE1D-4764-AF1E-1B98098F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2C6-7E5B-4000-820A-9CD93BD2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54BF-BF88-4347-9394-3BB92AB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2E4-9ABF-4003-8ABC-664C992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6A5-6DE2-4628-B586-020C909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A23-2E88-4B2E-A38C-6241E0E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2D2-A8E4-46C0-B5C6-81B45621AE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E12-D12E-41BA-AF2F-1AB6EF6A0E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3572-0D15-4273-AB65-37FE7906B8E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C81D-0CE0-4E2B-A4C9-6F23FC7DEC9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D8B-A765-49AB-8A09-3BACBB395B8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Русская литература XX века: общая характеристика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Век и конец века на евангельском языке не означает конца и начала столетия, но означает конец одного мировоззрения, одной веры, одного способа общения люде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9766f"/>
                </a:solidFill>
                <a:latin typeface="Verdana"/>
              </a:rPr>
              <a:t>Л. Н. Толсто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Picture 2" descr="C:\Documents and Settings\Admin\Мои документы\Мои рисунки\245.jpg"/>
          <p:cNvPicPr/>
          <p:nvPr/>
        </p:nvPicPr>
        <p:blipFill>
          <a:blip r:embed="rId1"/>
          <a:stretch/>
        </p:blipFill>
        <p:spPr>
          <a:xfrm>
            <a:off x="571680" y="500040"/>
            <a:ext cx="2428560" cy="3857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Admin\Мои документы\Мои рисунки\249.jpg"/>
          <p:cNvPicPr/>
          <p:nvPr/>
        </p:nvPicPr>
        <p:blipFill>
          <a:blip r:embed="rId2"/>
          <a:stretch/>
        </p:blipFill>
        <p:spPr>
          <a:xfrm>
            <a:off x="6715080" y="2571840"/>
            <a:ext cx="1905120" cy="2333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C:\Documents and Settings\Admin\Мои документы\Мои рисунки\252.jpg"/>
          <p:cNvPicPr/>
          <p:nvPr/>
        </p:nvPicPr>
        <p:blipFill>
          <a:blip r:embed="rId3"/>
          <a:stretch/>
        </p:blipFill>
        <p:spPr>
          <a:xfrm>
            <a:off x="6500880" y="500040"/>
            <a:ext cx="2281320" cy="1905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C:\Documents and Settings\Admin\Мои документы\Мои рисунки\250.jpg"/>
          <p:cNvPicPr/>
          <p:nvPr/>
        </p:nvPicPr>
        <p:blipFill>
          <a:blip r:embed="rId4"/>
          <a:stretch/>
        </p:blipFill>
        <p:spPr>
          <a:xfrm>
            <a:off x="3619440" y="50004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C:\Documents and Settings\Admin\Мои документы\Мои рисунки\212.jpg"/>
          <p:cNvPicPr/>
          <p:nvPr/>
        </p:nvPicPr>
        <p:blipFill>
          <a:blip r:embed="rId5"/>
          <a:stretch/>
        </p:blipFill>
        <p:spPr>
          <a:xfrm>
            <a:off x="3365640" y="3071880"/>
            <a:ext cx="241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ставители    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литературных направл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ар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Д.С. Мережковский, З.Н. Гиппиус, Ф.К. Сологуб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стики—богоискате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Д.С. Мережковский, З.Н. Гиппиус, Н. Минск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денты—индивидуа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В.Я. Брюсов, К.Д. Бальмонт, Ф.К. Сологуб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ладшие символ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А.А. Блок, Андрей Белый (Б.Н. Бугаев), В.И. Иван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кмеиз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.С. Гумилев, А.А. Ахматова, С.М. Городецкий, О.Э. Мандельштам, М.А. Зенкевич, В.И. Нарбу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уб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поэты "Гилеи"): Д.Д. Бурлюк, В.В. Хлебников, В.В. Каменский, В.В. Маяковский, А.Е. Кручены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гофутуристы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И. Северянин, И. Игнатьев, К. Олимпов, В. Гнед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упп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"Мезонин поэзии": В. Шершеневич, Хрисанф, Р. Ивне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динение "Центрифуга"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Б.Л. Пастернак, Н.Н. Асеев, С.П. Бобров и д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имволизм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71720" y="1428840"/>
            <a:ext cx="2971800" cy="4206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мистическое содержание, символы и расширение художественной впечатлительности» </a:t>
            </a:r>
            <a:br>
              <a:rPr sz="20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не знаю друг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язательств,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Кроме девствен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ры в себ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Брю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вое и самое крупное из модернистских течений, возникших в Росси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еоретическая основа русского символизма  - лекция Д. С. Мережковского «О причинах упадка и о новых течениях современной русской литературы»(1892 год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МВОЛИЗ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2" descr="C:\Documents and Settings\Admin\Мои документы\Мои рисунки\254.jpg"/>
          <p:cNvPicPr/>
          <p:nvPr/>
        </p:nvPicPr>
        <p:blipFill>
          <a:blip r:embed="rId1"/>
          <a:stretch/>
        </p:blipFill>
        <p:spPr>
          <a:xfrm>
            <a:off x="5072040" y="571680"/>
            <a:ext cx="3500640" cy="464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Admin\Мои документы\Мои рисунки\253.jpg"/>
          <p:cNvPicPr/>
          <p:nvPr/>
        </p:nvPicPr>
        <p:blipFill>
          <a:blip r:embed="rId2"/>
          <a:stretch/>
        </p:blipFill>
        <p:spPr>
          <a:xfrm>
            <a:off x="500040" y="428760"/>
            <a:ext cx="38577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C:\Documents and Settings\Admin\Мои документы\Мои рисунки\259.jpg"/>
          <p:cNvPicPr/>
          <p:nvPr/>
        </p:nvPicPr>
        <p:blipFill>
          <a:blip r:embed="rId1"/>
          <a:stretch/>
        </p:blipFill>
        <p:spPr>
          <a:xfrm>
            <a:off x="7286760" y="4000680"/>
            <a:ext cx="1428480" cy="19191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Акмеизм 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огичность художественного замысла, стройность композиции, четкость организации всех элементов художественной фор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тетика разума и гармо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атья"О прекрасной ясности"(1910 год М. Кузмин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тературное объединение  "Цех поэтов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программной статье "Наследие акмеизма и символизм" Н. Гумилев называл символизм "достойным отцом". При этом он подчеркивал, что новое поколение выработало иной - "мужественно твердый и ясный взгляд на жизнь"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6" descr="C:\Documents and Settings\Admin\Мои документы\Мои рисунки\257.jpg"/>
          <p:cNvPicPr/>
          <p:nvPr/>
        </p:nvPicPr>
        <p:blipFill>
          <a:blip r:embed="rId2"/>
          <a:stretch/>
        </p:blipFill>
        <p:spPr>
          <a:xfrm>
            <a:off x="5786280" y="4357800"/>
            <a:ext cx="1428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85920" y="500040"/>
            <a:ext cx="2938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Футуризм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(от лат. </a:t>
            </a:r>
            <a:r>
              <a:rPr b="1" lang="en-US" sz="2000" spc="-1" strike="noStrike">
                <a:solidFill>
                  <a:srgbClr val="f07f09"/>
                </a:solidFill>
                <a:latin typeface="Verdana"/>
              </a:rPr>
              <a:t>futurum -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будущее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топическая мечта о рождении сверхискусства, способного перевернуть мир. - стремление к рациональному обоснованию творчества с опорой на фундаментальные науки - физику, математик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лавный технический принцип их работы - принцип "сдвига", канон "сдвинутой конструк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рождения русского футуризма - 1910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й футуристический сборник "Садок Судей" (его авторами были Д. Бурлюк, В. Хлебников и В. Каменски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детляне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C:\Documents and Settings\Admin\Мои документы\Мои рисунки\262.jpg"/>
          <p:cNvPicPr/>
          <p:nvPr/>
        </p:nvPicPr>
        <p:blipFill>
          <a:blip r:embed="rId1"/>
          <a:stretch/>
        </p:blipFill>
        <p:spPr>
          <a:xfrm>
            <a:off x="5786280" y="4214880"/>
            <a:ext cx="25005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Крестьянские писатели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Деревенская Русь - главный источник поэтического мироощущения крестьянских поэ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тив «возвращения на родин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изация крестьянского труда  и деревенского быта, зоо- и антропоморфизм (антропоморфизация природных яв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стьянские поэты не выпускали поэтических деклараций и не обосновывали теоретически свои литературно-художественные принципы. Однако именно их группу раз и отличают яркая литературная самобытность социально-мировоззренческое еди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.И.Суриков. Крыши зимой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юд. 1880 г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2" descr="C:\Documents and Settings\Admin\Мои документы\Мои рисунки\268.jpg"/>
          <p:cNvPicPr/>
          <p:nvPr/>
        </p:nvPicPr>
        <p:blipFill>
          <a:blip r:embed="rId1"/>
          <a:stretch/>
        </p:blipFill>
        <p:spPr>
          <a:xfrm>
            <a:off x="2690640" y="642960"/>
            <a:ext cx="381024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НЕ  ТЕЧЕНИЙ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ина Цветае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аша Чёр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416560" y="1447920"/>
            <a:ext cx="2403360" cy="3338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vetaeva"/>
          <p:cNvPicPr/>
          <p:nvPr/>
        </p:nvPicPr>
        <p:blipFill>
          <a:blip r:embed="rId2"/>
          <a:stretch/>
        </p:blipFill>
        <p:spPr>
          <a:xfrm>
            <a:off x="928800" y="1530360"/>
            <a:ext cx="29289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сип Мандельштам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не на плечи кидается век-волкода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е волк я по крови свое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ихай меня лучше, как шапку,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а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аркой шубы сибирских степ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Mandelstam"/>
          <p:cNvPicPr/>
          <p:nvPr/>
        </p:nvPicPr>
        <p:blipFill>
          <a:blip r:embed="rId1"/>
          <a:stretch/>
        </p:blipFill>
        <p:spPr>
          <a:xfrm>
            <a:off x="571680" y="642960"/>
            <a:ext cx="2786040" cy="37861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928800" y="464328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ПОХА ВОЙН И РЕВОЛЮЦИ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2 –СОЗДАНИЕ ПОЛИТИЧЕСКИХ ПАР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4-1905 – РУССКО-ЯПОНСКАЯ ВОЙ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05-1907 – ПЕРВАЯ РУССКАЯ РЕВОЛЮ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4-НАЧАЛО 1 МИРОВОЙ ВОЙ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17- ФЕВРАЛЬСКАЯ РЕВОЛЮЦИЯ, ОКТЯБРЬСКАЯ РЕВОЛЮ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Picture 2" descr="C:\Documents and Settings\Admin\Мои документы\Мои рисунки\243.jpg"/>
          <p:cNvPicPr/>
          <p:nvPr/>
        </p:nvPicPr>
        <p:blipFill>
          <a:blip r:embed="rId1"/>
          <a:stretch/>
        </p:blipFill>
        <p:spPr>
          <a:xfrm>
            <a:off x="642960" y="500040"/>
            <a:ext cx="3852720" cy="45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Documents and Settings\Admin\Мои документы\Мои рисунки\244.gif"/>
          <p:cNvPicPr/>
          <p:nvPr/>
        </p:nvPicPr>
        <p:blipFill>
          <a:blip r:embed="rId2"/>
          <a:stretch/>
        </p:blipFill>
        <p:spPr>
          <a:xfrm>
            <a:off x="5143680" y="57168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ИЖЕНИЯ НАУ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ие научные открытия поколебали классические представления об устройстве мира, привели к парадоксальному выводу: "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материя исчез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. Новое видение мира, таким образом, определит и новое лицо реализма XX в., который будет существенно отличаться от классического реализма предшествен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ОГОИСКАТЕЛЬСТ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зис веры. "Бог умер!" — воскликнул Ницш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XX века все больше стал испытывать на себе влияние безрелигиозных ид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эт – теур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Бог умер!»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Ницш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Picture 2" descr="C:\Documents and Settings\Admin\Мои документы\Мои рисунки\256.jpg"/>
          <p:cNvPicPr/>
          <p:nvPr/>
        </p:nvPicPr>
        <p:blipFill>
          <a:blip r:embed="rId1"/>
          <a:stretch/>
        </p:blipFill>
        <p:spPr>
          <a:xfrm>
            <a:off x="1428840" y="571680"/>
            <a:ext cx="6429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"На Парнасе серебряного века".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            С.Маковский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осмысление старых средств выразительности и возрождение поэзии ознаменуют наступление "серебряного века" русской литературы. Термин этот связывают с именем Н. Бердяева, употребившего его в одном из выступлений в салоне Д. Мережковск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…серебряный месяц ярко / Над серебряным веком стыл". А.Ахмат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вал 1"/>
          <p:cNvSpPr/>
          <p:nvPr/>
        </p:nvSpPr>
        <p:spPr>
          <a:xfrm>
            <a:off x="714240" y="85716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3"/>
          <p:cNvCxnSpPr/>
          <p:nvPr/>
        </p:nvCxnSpPr>
        <p:spPr>
          <a:xfrm>
            <a:off x="5428800" y="3786120"/>
            <a:ext cx="1358280" cy="10008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7" name="Прямая со стрелкой 5"/>
          <p:cNvCxnSpPr/>
          <p:nvPr/>
        </p:nvCxnSpPr>
        <p:spPr>
          <a:xfrm flipH="1" flipV="1">
            <a:off x="3142800" y="1999440"/>
            <a:ext cx="1286640" cy="1143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8" name="Прямая со стрелкой 10"/>
          <p:cNvCxnSpPr/>
          <p:nvPr/>
        </p:nvCxnSpPr>
        <p:spPr>
          <a:xfrm flipH="1">
            <a:off x="3142800" y="3786120"/>
            <a:ext cx="929520" cy="12153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39" name="Овал 17"/>
          <p:cNvSpPr/>
          <p:nvPr/>
        </p:nvSpPr>
        <p:spPr>
          <a:xfrm>
            <a:off x="1214280" y="507204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дер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18"/>
          <p:cNvSpPr/>
          <p:nvPr/>
        </p:nvSpPr>
        <p:spPr>
          <a:xfrm>
            <a:off x="5572080" y="4929120"/>
            <a:ext cx="292896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анг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19"/>
          <p:cNvSpPr/>
          <p:nvPr/>
        </p:nvSpPr>
        <p:spPr>
          <a:xfrm>
            <a:off x="6215040" y="100008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23"/>
          <p:cNvCxnSpPr>
            <a:stCxn id="243" idx="7"/>
          </p:cNvCxnSpPr>
          <p:nvPr/>
        </p:nvCxnSpPr>
        <p:spPr>
          <a:xfrm flipV="1">
            <a:off x="5918040" y="2071080"/>
            <a:ext cx="983520" cy="7815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3" name="Овал 24"/>
          <p:cNvSpPr/>
          <p:nvPr/>
        </p:nvSpPr>
        <p:spPr>
          <a:xfrm>
            <a:off x="3357720" y="2643120"/>
            <a:ext cx="3000240" cy="14288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тературны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Прямая со стрелкой 30"/>
          <p:cNvCxnSpPr/>
          <p:nvPr/>
        </p:nvCxnSpPr>
        <p:spPr>
          <a:xfrm flipH="1" flipV="1">
            <a:off x="1356480" y="4572000"/>
            <a:ext cx="50076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5" name="Овал 31"/>
          <p:cNvSpPr/>
          <p:nvPr/>
        </p:nvSpPr>
        <p:spPr>
          <a:xfrm>
            <a:off x="214200" y="3857760"/>
            <a:ext cx="207180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имво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33"/>
          <p:cNvCxnSpPr/>
          <p:nvPr/>
        </p:nvCxnSpPr>
        <p:spPr>
          <a:xfrm flipH="1" flipV="1">
            <a:off x="2428200" y="3499560"/>
            <a:ext cx="572040" cy="178668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7" name="Овал 34"/>
          <p:cNvSpPr/>
          <p:nvPr/>
        </p:nvSpPr>
        <p:spPr>
          <a:xfrm>
            <a:off x="928800" y="2571840"/>
            <a:ext cx="2071440" cy="9284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км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39"/>
          <p:cNvCxnSpPr/>
          <p:nvPr/>
        </p:nvCxnSpPr>
        <p:spPr>
          <a:xfrm flipV="1">
            <a:off x="7571160" y="4214880"/>
            <a:ext cx="143640" cy="6433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49" name="Овал 40"/>
          <p:cNvSpPr/>
          <p:nvPr/>
        </p:nvSpPr>
        <p:spPr>
          <a:xfrm>
            <a:off x="6786720" y="3286080"/>
            <a:ext cx="207144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ту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Прямая со стрелкой 42"/>
          <p:cNvCxnSpPr/>
          <p:nvPr/>
        </p:nvCxnSpPr>
        <p:spPr>
          <a:xfrm flipV="1">
            <a:off x="4999680" y="1571040"/>
            <a:ext cx="1080" cy="9291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1" name="Овал 43"/>
          <p:cNvSpPr/>
          <p:nvPr/>
        </p:nvSpPr>
        <p:spPr>
          <a:xfrm>
            <a:off x="3643200" y="357120"/>
            <a:ext cx="2928960" cy="120024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рестьян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э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48"/>
          <p:cNvCxnSpPr/>
          <p:nvPr/>
        </p:nvCxnSpPr>
        <p:spPr>
          <a:xfrm>
            <a:off x="4286160" y="5785920"/>
            <a:ext cx="1215360" cy="2520"/>
          </a:xfrm>
          <a:prstGeom prst="straightConnector1">
            <a:avLst/>
          </a:prstGeom>
          <a:ln w="9360">
            <a:solidFill>
              <a:srgbClr val="ff8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    </a:t>
            </a: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Реализм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ипы "маленького человека" или интеллигента, пережившего духовную драм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естрота души" русского челове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ообразие тематики и человеческих характер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разы внешне заурядных, "маленьких" людей, вдруг находивших в себе силы на значительный духовный рост и обретавших достоинство в сложных для них внешних обстоятельств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. Бунин, А. Куприн, Е. Замятин, М. Горьк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Жили и творили Толстой и Чех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вые принципы пись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ще большая авторская свобод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Широчайший арсенал художественной выразительно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увство меры, обязательное для художн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озросшая внутренняя самокритичность и авторефлекси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0:08:32Z</dcterms:created>
  <dc:creator>Admin</dc:creator>
  <dc:description/>
  <dc:language>en-US</dc:language>
  <cp:lastModifiedBy>Галина</cp:lastModifiedBy>
  <dcterms:modified xsi:type="dcterms:W3CDTF">2013-04-14T12:56:51Z</dcterms:modified>
  <cp:revision>22</cp:revision>
  <dc:subject/>
  <dc:title>Русская литература XX века: общая характеристика </dc:title>
</cp:coreProperties>
</file>