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E9C-4BF0-409D-BEE3-3A8063AD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D26-7A38-4F4A-9D4C-CBA380FE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AE9-4B66-4B5A-B7DB-8190C42F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FF3-4CD7-4FAC-B6DB-3CACC0EC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93A5-FC26-404F-B201-99B3AB0A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AE6-357C-4D86-ADAE-ABA48F95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6AF-1503-4919-B4E7-07C2D97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97D-24F8-401C-8F41-69636603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DD26-6942-475F-8EDE-A375394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6069-15D0-4B2D-AF77-AB17458F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8323-CA1B-43DA-B5B2-2B59766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D2A-EB04-4301-B803-50F5BF1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8405-D94C-4522-AF96-4AF4C8B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0F2-1815-4E46-A86A-B379E05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7C06-1E28-4134-A7BD-72E8D85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F87A-2D41-48D5-A573-7D4870FF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0CAF-C1AE-4F57-A9A8-4EDE603C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6C96-1E64-4D27-9D1F-734BF42D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8057-3F5D-4548-9FD7-2EB6563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57E4-C2B6-4A9F-A18C-5195D0EC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C3C4-2B18-494A-81F1-BA53D84A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AEAA-D8F0-4A10-A4E5-CB339FAF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1AF-1609-4ACA-95EB-E73510A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E5FD-5952-4207-9EAA-BDEB920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244F-3A20-4209-89CD-E94CFBA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65BE-66A6-4742-87BE-B9A4C93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D0F5-5DDB-4360-B92A-131FD41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77C5-CFA4-4B12-906A-8E35986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F9C0-BD7F-433E-9504-F114D1E4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4813-2913-4DB0-89A0-5F8F376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3CED-BC9E-4671-8F02-BCFB96B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4594-572F-4F15-BF19-F05F97A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7CCB-23D1-49B7-AC51-1E0CB2B8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607-9DE7-41A4-9ABA-AD74A9E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BCE9-3922-41F1-9BA3-ADDDDEC0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9879-7190-4AB0-968C-9309929A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E369-C02F-4D33-A54F-62B012B3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6E53-B07E-4555-BD60-A1B0AC0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9443-413D-4695-82FC-B782EF9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2EF1-172A-4CBD-83FE-A60A057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760B-F660-4ED5-A255-0B2ABBF8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A73B-77B1-4876-9CA9-F2B0E398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580B-5B9D-405D-9E4B-9DFB029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75A4C-77CE-4789-A1A1-8B72C102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D17-93A1-4E0F-BC70-B422B288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73D6-56D5-48BA-9C02-9D511D4E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ADE15-1D04-46B9-B3FE-4797D3B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BD25-42A3-4EC6-A6D6-07D2B364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BC0B-1250-41FC-9778-BB01DB4F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EA13A-E4BE-4E62-A507-924D230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9547-2C01-48B0-8486-34FF622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3958-79B5-4539-AD9F-88A8759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FB12-AEF8-486B-BAEE-F94563A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303C-F327-49BD-9B70-C7B0DE1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CFDBC-9B81-4691-9B27-AB6E54B3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66A-F935-4C96-8A1D-313AF9D1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D342-3EC7-4E35-8AA9-36664CA2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A7B-1D43-4CA4-98AD-24DAFD5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98A-8D86-42A1-855F-07AD109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15D-CF78-4B62-8F34-B0635C5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08F3-FEB4-448E-9E48-EF6CB63735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ECF-63BB-4B49-9F3D-2561D75B02A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EFD-14AD-4E01-B6F7-31DE018B73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837-7D44-488A-87F3-FF256B71D1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57E4-7035-43AB-AFA2-4A2BB0D074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Русская литература XX века: общая характеристика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Век и конец века на евангельском языке не означает конца и начала столетия, но означает конец одного мировоззрения, одной веры, одного способа общения люд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Л. Н. Толсто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Picture 2" descr="C:\Documents and Settings\Admin\Мои документы\Мои рисунки\245.jpg"/>
          <p:cNvPicPr/>
          <p:nvPr/>
        </p:nvPicPr>
        <p:blipFill>
          <a:blip r:embed="rId1"/>
          <a:stretch/>
        </p:blipFill>
        <p:spPr>
          <a:xfrm>
            <a:off x="571680" y="500040"/>
            <a:ext cx="2428560" cy="3857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Мои рисунки\249.jpg"/>
          <p:cNvPicPr/>
          <p:nvPr/>
        </p:nvPicPr>
        <p:blipFill>
          <a:blip r:embed="rId2"/>
          <a:stretch/>
        </p:blipFill>
        <p:spPr>
          <a:xfrm>
            <a:off x="6715080" y="2571840"/>
            <a:ext cx="1905120" cy="2333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Admin\Мои документы\Мои рисунки\252.jpg"/>
          <p:cNvPicPr/>
          <p:nvPr/>
        </p:nvPicPr>
        <p:blipFill>
          <a:blip r:embed="rId3"/>
          <a:stretch/>
        </p:blipFill>
        <p:spPr>
          <a:xfrm>
            <a:off x="6500880" y="500040"/>
            <a:ext cx="228132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Documents and Settings\Admin\Мои документы\Мои рисунки\250.jpg"/>
          <p:cNvPicPr/>
          <p:nvPr/>
        </p:nvPicPr>
        <p:blipFill>
          <a:blip r:embed="rId4"/>
          <a:stretch/>
        </p:blipFill>
        <p:spPr>
          <a:xfrm>
            <a:off x="3619440" y="50004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Documents and Settings\Admin\Мои документы\Мои рисунки\212.jpg"/>
          <p:cNvPicPr/>
          <p:nvPr/>
        </p:nvPicPr>
        <p:blipFill>
          <a:blip r:embed="rId5"/>
          <a:stretch/>
        </p:blipFill>
        <p:spPr>
          <a:xfrm>
            <a:off x="3365640" y="3071880"/>
            <a:ext cx="241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ставители    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литературных направл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р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Д.С. Мережковский, З.Н. Гиппиус, Ф.К. Сологуб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стики—богоискате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Д.С. Мережковский, З.Н. Гиппиус, Н. Минск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денты—индивидуа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Ф.К. Сологуб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лад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А.А. Блок, Андрей Белый (Б.Н. Бугаев), В.И. Иван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кмеиз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.С. Гумилев, А.А. Ахматова, С.М. Городецкий, О.Э. Мандельштам, М.А. Зенкевич, В.И. Нарбу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уб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поэты "Гилеи"): Д.Д. Бурлюк, В.В. Хлебников, В.В. Каменский, В.В. Маяковский, А.Е. Кручены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г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И. Северянин, И. Игнатьев, К. Олимпов, В. Гнед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упп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"Мезонин поэзии": В. Шершеневич, Хрисанф, Р. Ивне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динение "Центрифуга"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Б.Л. Пастернак, Н.Н. Асеев, С.П. Бобр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имволизм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71720" y="1428840"/>
            <a:ext cx="2971800" cy="4206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мистическое содержание, символы и расширение художественной впечатлительности» </a:t>
            </a: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не знаю друг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язательств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Кроме дев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ы в себ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Брю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вое и самое крупное из модернистских течений, возникших в Росс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оретическая основа русского символизма  - лекция Д. С. Мережковского «О причинах упадка и о новых течениях современной русской литературы»(1892 год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МВОЛИЗ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2" descr="C:\Documents and Settings\Admin\Мои документы\Мои рисунки\254.jpg"/>
          <p:cNvPicPr/>
          <p:nvPr/>
        </p:nvPicPr>
        <p:blipFill>
          <a:blip r:embed="rId1"/>
          <a:stretch/>
        </p:blipFill>
        <p:spPr>
          <a:xfrm>
            <a:off x="5072040" y="571680"/>
            <a:ext cx="3500640" cy="464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Admin\Мои документы\Мои рисунки\253.jpg"/>
          <p:cNvPicPr/>
          <p:nvPr/>
        </p:nvPicPr>
        <p:blipFill>
          <a:blip r:embed="rId2"/>
          <a:stretch/>
        </p:blipFill>
        <p:spPr>
          <a:xfrm>
            <a:off x="500040" y="428760"/>
            <a:ext cx="3857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C:\Documents and Settings\Admin\Мои документы\Мои рисунки\259.jpg"/>
          <p:cNvPicPr/>
          <p:nvPr/>
        </p:nvPicPr>
        <p:blipFill>
          <a:blip r:embed="rId1"/>
          <a:stretch/>
        </p:blipFill>
        <p:spPr>
          <a:xfrm>
            <a:off x="7286760" y="4000680"/>
            <a:ext cx="1428480" cy="1919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Акмеизм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гичность художественного замысла, стройность композиции, четкость организации всех элементов художественной фор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тетика разума и гармо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атья"О прекрасной ясности"(1910 год М. Кузмин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тературное объединение  "Цех поэтов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программной статье "Наследие акмеизма и символизм" Н. Гумилев называл символизм "достойным отцом". При этом он подчеркивал, что новое поколение выработало иной - "мужественно твердый и ясный взгляд на жизнь"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C:\Documents and Settings\Admin\Мои документы\Мои рисунки\257.jpg"/>
          <p:cNvPicPr/>
          <p:nvPr/>
        </p:nvPicPr>
        <p:blipFill>
          <a:blip r:embed="rId2"/>
          <a:stretch/>
        </p:blipFill>
        <p:spPr>
          <a:xfrm>
            <a:off x="5786280" y="4357800"/>
            <a:ext cx="1428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85920" y="500040"/>
            <a:ext cx="2938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Футуризм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(от лат. </a:t>
            </a:r>
            <a:r>
              <a:rPr b="1" lang="en-US" sz="2000" spc="-1" strike="noStrike">
                <a:solidFill>
                  <a:srgbClr val="f07f09"/>
                </a:solidFill>
                <a:latin typeface="Verdana"/>
              </a:rPr>
              <a:t>futurum -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будущее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топическая мечта о рождении сверхискусства, способного перевернуть мир. - стремление к рациональному обоснованию творчества с опорой на фундаментальные науки - физику, математик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лавный технический принцип их работы - принцип "сдвига", канон "сдвинутой конструк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рождения русского футуризма - 1910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футуристический сборник "Садок Судей" (его авторами были Д. Бурлюк, В. Хлебников и В. Каменски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детляне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C:\Documents and Settings\Admin\Мои документы\Мои рисунки\262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Крестьянские писатели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Деревенская Русь - главный источник поэтического мироощущения крестьянских поэ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тив «возвращения на родин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изация крестьянского труда  и деревенского быта, зоо- и антропоморфизм (антропоморфизация природных яв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стьянские поэты не выпускали поэтических деклараций и не обосновывали теоретически свои литературно-художественные принципы. Однако именно их группу раз и отличают яркая литературная самобытность социально-мировоззренческое еди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.И.Суриков. Крыши зимой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юд. 1880 г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2" descr="C:\Documents and Settings\Admin\Мои документы\Мои рисунки\268.jpg"/>
          <p:cNvPicPr/>
          <p:nvPr/>
        </p:nvPicPr>
        <p:blipFill>
          <a:blip r:embed="rId1"/>
          <a:stretch/>
        </p:blipFill>
        <p:spPr>
          <a:xfrm>
            <a:off x="2690640" y="642960"/>
            <a:ext cx="38102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НЕ  ТЕЧ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ина Цвета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ша Чёр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416560" y="1447920"/>
            <a:ext cx="2403360" cy="3338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vetaeva"/>
          <p:cNvPicPr/>
          <p:nvPr/>
        </p:nvPicPr>
        <p:blipFill>
          <a:blip r:embed="rId2"/>
          <a:stretch/>
        </p:blipFill>
        <p:spPr>
          <a:xfrm>
            <a:off x="928800" y="1530360"/>
            <a:ext cx="29289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ип Мандельштам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е на плечи кидается век-волкода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е волк я по крови свое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хай меня лучше, как шапку,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а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ркой шубы сибирских степ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Mandelstam"/>
          <p:cNvPicPr/>
          <p:nvPr/>
        </p:nvPicPr>
        <p:blipFill>
          <a:blip r:embed="rId1"/>
          <a:stretch/>
        </p:blipFill>
        <p:spPr>
          <a:xfrm>
            <a:off x="571680" y="642960"/>
            <a:ext cx="2786040" cy="37861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928800" y="464328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ПОХА ВОЙН И РЕВОЛЮЦ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2 –СОЗДАНИЕ ПОЛИТИЧЕСКИХ ПАР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4-1905 – РУССКО-ЯПОНСКАЯ ВОЙ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5-1907 – ПЕРВАЯ РУССКАЯ РЕВОЛЮ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4-НАЧАЛО 1 МИРОВОЙ ВОЙ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7- ФЕВРАЛЬСКАЯ РЕВОЛЮЦИЯ, ОКТЯБРЬСКАЯ РЕВОЛЮ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2" descr="C:\Documents and Settings\Admin\Мои документы\Мои рисунки\243.jpg"/>
          <p:cNvPicPr/>
          <p:nvPr/>
        </p:nvPicPr>
        <p:blipFill>
          <a:blip r:embed="rId1"/>
          <a:stretch/>
        </p:blipFill>
        <p:spPr>
          <a:xfrm>
            <a:off x="642960" y="500040"/>
            <a:ext cx="3852720" cy="45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Documents and Settings\Admin\Мои документы\Мои рисунки\244.gif"/>
          <p:cNvPicPr/>
          <p:nvPr/>
        </p:nvPicPr>
        <p:blipFill>
          <a:blip r:embed="rId2"/>
          <a:stretch/>
        </p:blipFill>
        <p:spPr>
          <a:xfrm>
            <a:off x="5143680" y="57168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ие научные открытия поколебали классические представления об устройстве мира, привели к парадоксальному выводу: "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материя исчез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. Новое видение мира, таким образом, определит и новое лицо реализма XX в., который будет существенно отличаться от классического реализма предшествен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ОГОИСКАТЕЛЬСТ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зис веры. "Бог умер!" — воскликнул Ницш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XX века все больше стал испытывать на себе влияние безрелигиозных ид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 – теур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Бог умер!»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Ницш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C:\Documents and Settings\Admin\Мои документы\Мои рисунки\256.jpg"/>
          <p:cNvPicPr/>
          <p:nvPr/>
        </p:nvPicPr>
        <p:blipFill>
          <a:blip r:embed="rId1"/>
          <a:stretch/>
        </p:blipFill>
        <p:spPr>
          <a:xfrm>
            <a:off x="1428840" y="571680"/>
            <a:ext cx="6429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"На Парнасе серебряного века"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 С.Маковски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осмысление старых средств выразительности и возрождение поэзии ознаменуют наступление "серебряного века" русской литературы. Термин этот связывают с именем Н. Бердяева, употребившего его в одном из выступлений в салоне Д. Мережков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…серебряный месяц ярко / Над серебряным веком стыл". А.Ахмат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вал 1"/>
          <p:cNvSpPr/>
          <p:nvPr/>
        </p:nvSpPr>
        <p:spPr>
          <a:xfrm>
            <a:off x="714240" y="85716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>
            <a:off x="5428800" y="3786120"/>
            <a:ext cx="1358280" cy="10008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5"/>
          <p:cNvCxnSpPr/>
          <p:nvPr/>
        </p:nvCxnSpPr>
        <p:spPr>
          <a:xfrm flipH="1" flipV="1">
            <a:off x="3142800" y="1999440"/>
            <a:ext cx="1286640" cy="1143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0"/>
          <p:cNvCxnSpPr/>
          <p:nvPr/>
        </p:nvCxnSpPr>
        <p:spPr>
          <a:xfrm flipH="1">
            <a:off x="3142800" y="3786120"/>
            <a:ext cx="929520" cy="12153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39" name="Овал 17"/>
          <p:cNvSpPr/>
          <p:nvPr/>
        </p:nvSpPr>
        <p:spPr>
          <a:xfrm>
            <a:off x="1214280" y="507204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дер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5572080" y="4929120"/>
            <a:ext cx="292896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анг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6215040" y="100008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23"/>
          <p:cNvCxnSpPr>
            <a:stCxn id="243" idx="7"/>
          </p:cNvCxnSpPr>
          <p:nvPr/>
        </p:nvCxnSpPr>
        <p:spPr>
          <a:xfrm flipV="1">
            <a:off x="5918040" y="2071080"/>
            <a:ext cx="983520" cy="7815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3" name="Овал 24"/>
          <p:cNvSpPr/>
          <p:nvPr/>
        </p:nvSpPr>
        <p:spPr>
          <a:xfrm>
            <a:off x="3357720" y="2643120"/>
            <a:ext cx="3000240" cy="14288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Прямая со стрелкой 30"/>
          <p:cNvCxnSpPr/>
          <p:nvPr/>
        </p:nvCxnSpPr>
        <p:spPr>
          <a:xfrm flipH="1" flipV="1">
            <a:off x="1356480" y="4572000"/>
            <a:ext cx="50076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5" name="Овал 31"/>
          <p:cNvSpPr/>
          <p:nvPr/>
        </p:nvSpPr>
        <p:spPr>
          <a:xfrm>
            <a:off x="214200" y="3857760"/>
            <a:ext cx="207180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мво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33"/>
          <p:cNvCxnSpPr/>
          <p:nvPr/>
        </p:nvCxnSpPr>
        <p:spPr>
          <a:xfrm flipH="1" flipV="1">
            <a:off x="2428200" y="3499560"/>
            <a:ext cx="572040" cy="17866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7" name="Овал 34"/>
          <p:cNvSpPr/>
          <p:nvPr/>
        </p:nvSpPr>
        <p:spPr>
          <a:xfrm>
            <a:off x="928800" y="2571840"/>
            <a:ext cx="2071440" cy="9284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м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39"/>
          <p:cNvCxnSpPr/>
          <p:nvPr/>
        </p:nvCxnSpPr>
        <p:spPr>
          <a:xfrm flipV="1">
            <a:off x="7571160" y="4214880"/>
            <a:ext cx="14364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9" name="Овал 40"/>
          <p:cNvSpPr/>
          <p:nvPr/>
        </p:nvSpPr>
        <p:spPr>
          <a:xfrm>
            <a:off x="6786720" y="3286080"/>
            <a:ext cx="207144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ту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42"/>
          <p:cNvCxnSpPr/>
          <p:nvPr/>
        </p:nvCxnSpPr>
        <p:spPr>
          <a:xfrm flipV="1">
            <a:off x="4999680" y="1571040"/>
            <a:ext cx="1080" cy="9291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1" name="Овал 43"/>
          <p:cNvSpPr/>
          <p:nvPr/>
        </p:nvSpPr>
        <p:spPr>
          <a:xfrm>
            <a:off x="3643200" y="35712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естья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э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48"/>
          <p:cNvCxnSpPr/>
          <p:nvPr/>
        </p:nvCxnSpPr>
        <p:spPr>
          <a:xfrm>
            <a:off x="4286160" y="5785920"/>
            <a:ext cx="1215360" cy="2520"/>
          </a:xfrm>
          <a:prstGeom prst="straightConnector1">
            <a:avLst/>
          </a:prstGeom>
          <a:ln w="9360">
            <a:solidFill>
              <a:srgbClr val="ff8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Реализм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ипы "маленького человека" или интеллигента, пережившего духовную драм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естрота души" русского челове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ообразие тематики и человеческих характер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разы внешне заурядных, "маленьких" людей, вдруг находивших в себе силы на значительный духовный рост и обретавших достоинство в сложных для них внешних обстоятельств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. Бунин, А. Куприн, Е. Замятин, М. Горьк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Жили и творили Толстой и Чех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вые принципы пись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ще большая авторская своб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Широчайший арсенал художественной выразитель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увство меры, обязательное для художн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росшая внутренняя самокритичность и авторефлекси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0:08:32Z</dcterms:created>
  <dc:creator>Admin</dc:creator>
  <dc:description/>
  <dc:language>en-US</dc:language>
  <cp:lastModifiedBy>Галина</cp:lastModifiedBy>
  <dcterms:modified xsi:type="dcterms:W3CDTF">2013-04-14T12:56:51Z</dcterms:modified>
  <cp:revision>22</cp:revision>
  <dc:subject/>
  <dc:title>Русская литература XX века: общая характеристика </dc:title>
</cp:coreProperties>
</file>