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9B2-623B-4D12-9A00-BEE6D834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395-5D19-4EA1-90C1-8CDFC74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A38-0B76-4EDD-B1F1-3EBE162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1CA-E67E-4320-A565-C44F5A6D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454-DC97-47D1-A78F-FE881FDD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AFA-2FFB-47B8-A8F2-1D02966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18D-4EA4-46E9-8C76-16EF7C7B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E8B-A203-44D1-9B76-8C851AD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4943-6769-4D3F-B7BB-687F8076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B10-36D4-4FDE-8C56-8751CDAA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3F6-2933-470B-BB1E-1FDEEFD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F2B-6FD8-4DCF-ABEC-089FB443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418A-CC0F-4A52-A417-BE622C501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кция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Активные технологии обучен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Школа профессионального мастер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4200" y="214200"/>
            <a:ext cx="87868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Как обеспечить становление личности, успеш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профессиональной, общественной и личной жизн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- Как сформировать в школьнике навыки и качества, дающие ему возможность эффективно адаптироваться в современной жизн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- Как создать условия для всестороннего развития способностей ребен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к сделать обучение в школе творческим, приносящим удовлетворение и ученикам, и учителя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ем заменить устаревшее репродуктивное обучени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readmsg?id=13009902150000000192;0;6&amp;mode=attachment"/>
          <p:cNvPicPr/>
          <p:nvPr/>
        </p:nvPicPr>
        <p:blipFill>
          <a:blip r:embed="rId1"/>
          <a:stretch/>
        </p:blipFill>
        <p:spPr>
          <a:xfrm>
            <a:off x="5510160" y="3714840"/>
            <a:ext cx="3633840" cy="3143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Образовательная технология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1214280"/>
            <a:ext cx="8929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равляемая система взаимосвязанных целенаправленных действий, осуществляемых всеми участниками образовательного процесса для достижения запланированных результатов обучения, воспитания и разви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8584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ХЕМА 1 (пассивный мето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785880" y="2714760"/>
            <a:ext cx="2571840" cy="1214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8"/>
          <p:cNvCxnSpPr/>
          <p:nvPr/>
        </p:nvCxnSpPr>
        <p:spPr>
          <a:xfrm flipV="1">
            <a:off x="3571920" y="2285640"/>
            <a:ext cx="1643760" cy="7149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1" name="Прямая со стрелкой 10"/>
          <p:cNvCxnSpPr/>
          <p:nvPr/>
        </p:nvCxnSpPr>
        <p:spPr>
          <a:xfrm flipV="1">
            <a:off x="3571560" y="3285360"/>
            <a:ext cx="1786680" cy="7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2" name="Прямая со стрелкой 11"/>
          <p:cNvCxnSpPr/>
          <p:nvPr/>
        </p:nvCxnSpPr>
        <p:spPr>
          <a:xfrm>
            <a:off x="3571560" y="3714840"/>
            <a:ext cx="1786680" cy="6433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3" name="Овал 16"/>
          <p:cNvSpPr/>
          <p:nvPr/>
        </p:nvSpPr>
        <p:spPr>
          <a:xfrm>
            <a:off x="5357880" y="1571760"/>
            <a:ext cx="2928960" cy="10713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5500800" y="4071960"/>
            <a:ext cx="2928960" cy="107172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5500800" y="2857680"/>
            <a:ext cx="2928960" cy="107136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Уче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eadmsg?id=13002990280000000824;0;3&amp;mode=attachment"/>
          <p:cNvPicPr/>
          <p:nvPr/>
        </p:nvPicPr>
        <p:blipFill>
          <a:blip r:embed="rId1"/>
          <a:stretch/>
        </p:blipFill>
        <p:spPr>
          <a:xfrm>
            <a:off x="2643120" y="4429080"/>
            <a:ext cx="1905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"/>
          <p:cNvPicPr/>
          <p:nvPr/>
        </p:nvPicPr>
        <p:blipFill>
          <a:blip r:embed="rId1"/>
          <a:stretch/>
        </p:blipFill>
        <p:spPr>
          <a:xfrm>
            <a:off x="4056120" y="3714840"/>
            <a:ext cx="5087880" cy="314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Рисунок 10" descr=""/>
          <p:cNvPicPr/>
          <p:nvPr/>
        </p:nvPicPr>
        <p:blipFill>
          <a:blip r:embed="rId2"/>
          <a:stretch/>
        </p:blipFill>
        <p:spPr>
          <a:xfrm>
            <a:off x="0" y="0"/>
            <a:ext cx="5500800" cy="3705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6" descr="readmsg?id=13001262300000000900;0;3&amp;mode=attachment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eadmsg?id=13002990280000000824;0;6&amp;mode=attachment"/>
          <p:cNvPicPr/>
          <p:nvPr/>
        </p:nvPicPr>
        <p:blipFill>
          <a:blip r:embed="rId4"/>
          <a:stretch/>
        </p:blipFill>
        <p:spPr>
          <a:xfrm>
            <a:off x="357120" y="3857760"/>
            <a:ext cx="30718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педагогические технологи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2560" y="856800"/>
            <a:ext cx="450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менологический подх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подход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ристическ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ирован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кст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уч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ая эврист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1640" y="7855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предметные технологии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ские педагогические технолог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смысловой подхо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технологии обуч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уровневое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через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ое обуч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ген (создание миров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апедия (обучение в утробе матер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9001080" cy="60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Цель образования 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позаботиться о том, чтобы знания были актуальные;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делать все необходимо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чтобы обучающийся смог осознанно и эффективно применять полученные знания в своей жизни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 работы се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идактические игры на уроках русского языка как способ социализации лич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ирнова О.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хнология модерации в обучени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трова И.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ное обучение на уроках русского языка и литературы как средство социализации личности обучающего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трова З.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4-13T20:11:12Z</dcterms:modified>
  <cp:revision>10</cp:revision>
  <dc:subject/>
  <dc:title>Секция  Активные технологии обучения  </dc:title>
</cp:coreProperties>
</file>