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2B64-B16F-4287-80F3-C8E17DC08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3AD5-C99A-42D9-A144-1582D962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D5EB-9DBA-4D31-81DC-D40B70962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1AEF-387C-472B-9D54-E4EC8D9DB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0601-4835-4C5E-9BA5-AB466937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B100-132E-46B4-9C9A-9030D94B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CF15-A568-420D-886B-C7740A5B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BAE3-B01A-47D2-9C7D-3FCB13B7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E267-F3EF-45AE-93CC-99EC27EE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E961-D9BD-489A-8CDA-75ED358F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005C-D891-45DB-8B9B-6D0F3748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2A41-D0DF-4926-999C-F23427E0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BFA8-0D44-48EB-8056-A86E395215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785880"/>
            <a:ext cx="77724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кция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Активные технологии обучения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14520"/>
            <a:ext cx="6400800" cy="14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Школа профессионального мастер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14200" y="214200"/>
            <a:ext cx="878688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Как обеспечить становление личности, успешно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 профессиональной, общественной и личной жизни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- Как сформировать в школьнике навыки и качества, дающие ему возможность эффективно адаптироваться в современной жизни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- Как создать условия для всестороннего развития способностей ребенка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Как сделать обучение в школе творческим, приносящим удовлетворение и ученикам, и учителям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Чем заменить устаревшее репродуктивное обучение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readmsg?id=13009902150000000192;0;6&amp;mode=attachment"/>
          <p:cNvPicPr/>
          <p:nvPr/>
        </p:nvPicPr>
        <p:blipFill>
          <a:blip r:embed="rId1"/>
          <a:stretch/>
        </p:blipFill>
        <p:spPr>
          <a:xfrm>
            <a:off x="5510160" y="3714840"/>
            <a:ext cx="3633840" cy="31431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alibri"/>
              </a:rPr>
              <a:t>Образовательная технология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–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13840" y="1214280"/>
            <a:ext cx="89298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правляемая система взаимосвязанных целенаправленных действий, осуществляемых всеми участниками образовательного процесса для достижения запланированных результатов обучения, воспитания и развит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79560" indent="0"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285840"/>
            <a:ext cx="64008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СХЕМА 1 (пассивный метод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6"/>
          <p:cNvSpPr/>
          <p:nvPr/>
        </p:nvSpPr>
        <p:spPr>
          <a:xfrm>
            <a:off x="785880" y="2714760"/>
            <a:ext cx="2571840" cy="1214280"/>
          </a:xfrm>
          <a:prstGeom prst="rect">
            <a:avLst/>
          </a:prstGeom>
          <a:solidFill>
            <a:srgbClr val="dddddd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Учи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Прямая со стрелкой 8"/>
          <p:cNvCxnSpPr/>
          <p:nvPr/>
        </p:nvCxnSpPr>
        <p:spPr>
          <a:xfrm flipV="1">
            <a:off x="3571920" y="2285640"/>
            <a:ext cx="1643760" cy="71496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51" name="Прямая со стрелкой 10"/>
          <p:cNvCxnSpPr/>
          <p:nvPr/>
        </p:nvCxnSpPr>
        <p:spPr>
          <a:xfrm flipV="1">
            <a:off x="3571560" y="3285360"/>
            <a:ext cx="1786680" cy="7236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52" name="Прямая со стрелкой 11"/>
          <p:cNvCxnSpPr/>
          <p:nvPr/>
        </p:nvCxnSpPr>
        <p:spPr>
          <a:xfrm>
            <a:off x="3571560" y="3714840"/>
            <a:ext cx="1786680" cy="64332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53" name="Овал 16"/>
          <p:cNvSpPr/>
          <p:nvPr/>
        </p:nvSpPr>
        <p:spPr>
          <a:xfrm>
            <a:off x="5357880" y="1571760"/>
            <a:ext cx="2928960" cy="1071360"/>
          </a:xfrm>
          <a:prstGeom prst="ellipse">
            <a:avLst/>
          </a:prstGeom>
          <a:solidFill>
            <a:srgbClr val="dddddd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Уче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 19"/>
          <p:cNvSpPr/>
          <p:nvPr/>
        </p:nvSpPr>
        <p:spPr>
          <a:xfrm>
            <a:off x="5500800" y="4071960"/>
            <a:ext cx="2928960" cy="1071720"/>
          </a:xfrm>
          <a:prstGeom prst="ellipse">
            <a:avLst/>
          </a:prstGeom>
          <a:solidFill>
            <a:srgbClr val="dddddd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Уче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20"/>
          <p:cNvSpPr/>
          <p:nvPr/>
        </p:nvSpPr>
        <p:spPr>
          <a:xfrm>
            <a:off x="5500800" y="2857680"/>
            <a:ext cx="2928960" cy="1071360"/>
          </a:xfrm>
          <a:prstGeom prst="ellipse">
            <a:avLst/>
          </a:prstGeom>
          <a:solidFill>
            <a:srgbClr val="dddddd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Уче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readmsg?id=13002990280000000824;0;3&amp;mode=attachment"/>
          <p:cNvPicPr/>
          <p:nvPr/>
        </p:nvPicPr>
        <p:blipFill>
          <a:blip r:embed="rId1"/>
          <a:stretch/>
        </p:blipFill>
        <p:spPr>
          <a:xfrm>
            <a:off x="2643120" y="4429080"/>
            <a:ext cx="190512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3" descr=""/>
          <p:cNvPicPr/>
          <p:nvPr/>
        </p:nvPicPr>
        <p:blipFill>
          <a:blip r:embed="rId1"/>
          <a:stretch/>
        </p:blipFill>
        <p:spPr>
          <a:xfrm>
            <a:off x="4056120" y="3714840"/>
            <a:ext cx="5087880" cy="31431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58" name="Рисунок 10" descr=""/>
          <p:cNvPicPr/>
          <p:nvPr/>
        </p:nvPicPr>
        <p:blipFill>
          <a:blip r:embed="rId2"/>
          <a:stretch/>
        </p:blipFill>
        <p:spPr>
          <a:xfrm>
            <a:off x="0" y="0"/>
            <a:ext cx="5500800" cy="37051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59" name="Picture 6" descr="readmsg?id=13001262300000000900;0;3&amp;mode=attachment"/>
          <p:cNvPicPr/>
          <p:nvPr/>
        </p:nvPicPr>
        <p:blipFill>
          <a:blip r:embed="rId3"/>
          <a:stretch/>
        </p:blipFill>
        <p:spPr>
          <a:xfrm>
            <a:off x="5572080" y="214200"/>
            <a:ext cx="3357720" cy="2786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readmsg?id=13002990280000000824;0;6&amp;mode=attachment"/>
          <p:cNvPicPr/>
          <p:nvPr/>
        </p:nvPicPr>
        <p:blipFill>
          <a:blip r:embed="rId4"/>
          <a:stretch/>
        </p:blipFill>
        <p:spPr>
          <a:xfrm>
            <a:off x="357120" y="3857760"/>
            <a:ext cx="30718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ые педагогические технологии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42560" y="856800"/>
            <a:ext cx="45003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ное обучен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номенологический подход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тивные подход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ее обучен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ое обучен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ое обучен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ристическое обучен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ированное обучен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екстное обучен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е обучен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ая эвристик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1640" y="785520"/>
            <a:ext cx="43578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нопредметные технологии обучени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ские педагогические технологи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о-смысловой подход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ные технологии обучени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уровневое обучени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проекто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е через обучени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тивное обучени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оген (создание миров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напедия (обучение в утробе матери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2560" y="274680"/>
            <a:ext cx="9001080" cy="60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70c0"/>
                </a:solidFill>
                <a:uFillTx/>
                <a:latin typeface="Calibri"/>
              </a:rPr>
              <a:t>Цель образования </a:t>
            </a:r>
            <a:br>
              <a:rPr sz="40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)позаботиться о том, чтобы знания были актуальные;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сделать все необходимое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, чтобы обучающийся смог осознанно и эффективно применять полученные знания в своей жизни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держание работы сек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Дидактические игры на уроках русского языка как способ социализации лично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мирнова О.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Технология модерации в обучении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етрова И.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роблемное обучение на уроках русского языка и литературы как средство социализации личности обучающегос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етрова З.Н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4-13T20:11:12Z</dcterms:modified>
  <cp:revision>10</cp:revision>
  <dc:subject/>
  <dc:title>Секция  Активные технологии обучения  </dc:title>
</cp:coreProperties>
</file>