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C06-4AB2-43B4-8626-337273A2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2F7-EF56-4F1C-BF0F-AB920E21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58E-A215-4FA9-9A63-48459140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12B-3863-46B6-A37E-1C73DE24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1C5-0E12-4EAB-9B3C-1A1B8BA2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5D4-90AA-44A0-9750-13ECF94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3D0-973B-40E4-9C7C-1100759C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C32-80E5-4148-86D6-4A25813A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7A5-E378-46CF-869A-E8CAB157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4CC-F2E7-412E-82AC-A95AA6C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375-461D-494D-98F3-659A8EC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871-EB96-4682-B0EE-40C915D9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3843-F88B-47CD-8FF3-EEB5139A1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кци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ктивные технологии обучени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Школа профессионального масте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4200" y="214200"/>
            <a:ext cx="8786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ак обеспечить становление личности, успеш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профессиональной, общественной и личной жизн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- Как сформировать в школьнике навыки и качества, дающие ему возможность эффективно адаптироваться в современной жизн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Как создать условия для всестороннего развития способностей ребен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к сделать обучение в школе творческим, приносящим удовлетворение и ученикам, и учителя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ем заменить устаревшее репродуктивное обучени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readmsg?id=13009902150000000192;0;6&amp;mode=attachment"/>
          <p:cNvPicPr/>
          <p:nvPr/>
        </p:nvPicPr>
        <p:blipFill>
          <a:blip r:embed="rId1"/>
          <a:stretch/>
        </p:blipFill>
        <p:spPr>
          <a:xfrm>
            <a:off x="5510160" y="3714840"/>
            <a:ext cx="3633840" cy="3143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Образовательная технология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–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1214280"/>
            <a:ext cx="8929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равляемая система взаимосвязанных целенаправленных действий, осуществляемых всеми участниками образовательного процесса для достижения запланированных результатов обучения, воспитания и разви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8584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ХЕМА 1 (пассивный мето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785880" y="2714760"/>
            <a:ext cx="2571840" cy="121428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8"/>
          <p:cNvCxnSpPr/>
          <p:nvPr/>
        </p:nvCxnSpPr>
        <p:spPr>
          <a:xfrm flipV="1">
            <a:off x="3571920" y="2285640"/>
            <a:ext cx="1643760" cy="7149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1" name="Прямая со стрелкой 10"/>
          <p:cNvCxnSpPr/>
          <p:nvPr/>
        </p:nvCxnSpPr>
        <p:spPr>
          <a:xfrm flipV="1">
            <a:off x="3571560" y="3285360"/>
            <a:ext cx="1786680" cy="72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2" name="Прямая со стрелкой 11"/>
          <p:cNvCxnSpPr/>
          <p:nvPr/>
        </p:nvCxnSpPr>
        <p:spPr>
          <a:xfrm>
            <a:off x="3571560" y="3714840"/>
            <a:ext cx="1786680" cy="6433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3" name="Овал 16"/>
          <p:cNvSpPr/>
          <p:nvPr/>
        </p:nvSpPr>
        <p:spPr>
          <a:xfrm>
            <a:off x="5357880" y="1571760"/>
            <a:ext cx="2928960" cy="107136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9"/>
          <p:cNvSpPr/>
          <p:nvPr/>
        </p:nvSpPr>
        <p:spPr>
          <a:xfrm>
            <a:off x="5500800" y="4071960"/>
            <a:ext cx="2928960" cy="107172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5500800" y="2857680"/>
            <a:ext cx="2928960" cy="107136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eadmsg?id=13002990280000000824;0;3&amp;mode=attachment"/>
          <p:cNvPicPr/>
          <p:nvPr/>
        </p:nvPicPr>
        <p:blipFill>
          <a:blip r:embed="rId1"/>
          <a:stretch/>
        </p:blipFill>
        <p:spPr>
          <a:xfrm>
            <a:off x="2643120" y="4429080"/>
            <a:ext cx="1905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3" descr=""/>
          <p:cNvPicPr/>
          <p:nvPr/>
        </p:nvPicPr>
        <p:blipFill>
          <a:blip r:embed="rId1"/>
          <a:stretch/>
        </p:blipFill>
        <p:spPr>
          <a:xfrm>
            <a:off x="4056120" y="3714840"/>
            <a:ext cx="5087880" cy="314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8" name="Рисунок 10" descr=""/>
          <p:cNvPicPr/>
          <p:nvPr/>
        </p:nvPicPr>
        <p:blipFill>
          <a:blip r:embed="rId2"/>
          <a:stretch/>
        </p:blipFill>
        <p:spPr>
          <a:xfrm>
            <a:off x="0" y="0"/>
            <a:ext cx="5500800" cy="3705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Picture 6" descr="readmsg?id=13001262300000000900;0;3&amp;mode=attachment"/>
          <p:cNvPicPr/>
          <p:nvPr/>
        </p:nvPicPr>
        <p:blipFill>
          <a:blip r:embed="rId3"/>
          <a:stretch/>
        </p:blipFill>
        <p:spPr>
          <a:xfrm>
            <a:off x="5572080" y="21420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eadmsg?id=13002990280000000824;0;6&amp;mode=attachment"/>
          <p:cNvPicPr/>
          <p:nvPr/>
        </p:nvPicPr>
        <p:blipFill>
          <a:blip r:embed="rId4"/>
          <a:stretch/>
        </p:blipFill>
        <p:spPr>
          <a:xfrm>
            <a:off x="357120" y="3857760"/>
            <a:ext cx="3071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педагогические технологи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2560" y="856800"/>
            <a:ext cx="450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менологический подх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подхо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стическ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кст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эврист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1640" y="785520"/>
            <a:ext cx="4357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опредметные технологии обу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е педагогические техноло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смысловой подхо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технологии обу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уровневое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через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ое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ген (создание миро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апедия (обучение в утробе матери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60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Цель образования 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позаботиться о том, чтобы знания были актуальные;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делать все необходимо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чтобы обучающийся смог осознанно и эффективно применять полученные знания в своей жизн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 работы се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идактические игры на уроках русского языка как способ социализации лич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ирнова О.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хнология модерации в обучени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трова И.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ное обучение на уроках русского языка и литературы как средство социализации личности обучающего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трова З.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13T20:11:12Z</dcterms:modified>
  <cp:revision>10</cp:revision>
  <dc:subject/>
  <dc:title>Секция  Активные технологии обучения  </dc:title>
</cp:coreProperties>
</file>