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EFCD-6CBB-4874-947F-F931815FD0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F0D6-719B-43D5-BC5A-F4693BB793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6BA8-2018-44EA-995F-8C72E8A1F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0A8F-05E6-47A6-B716-8DEDBB8137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D2F-84D5-4C53-8861-9C56E452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DEF-D82D-42AC-8AEF-B15B0755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5A0-C0AD-481B-A845-45E5DB6D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A8E-7430-44BB-9A3F-3E3973A1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552-029D-4F47-950C-AE921C45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B4B-4193-42A8-BA86-E44CBDE6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8FA-E927-4BEF-A8F7-B4146F86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53E-1E21-4340-9C0E-2FF4984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B5D-15E7-463E-813E-ED501DB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7AB-C5AE-4139-A0CE-18F713C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789-5714-437B-8B28-E13B6A5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DBF-6AB7-48C7-9FCE-FD70221D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6CC5-5CED-4AB8-A417-B2126FA0275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572320" cy="171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с использованием ИКТ на основе модульной техноло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4143240"/>
            <a:ext cx="6400800" cy="2471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Глагол как часть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Грамматические и морфологические признаки глагол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14200" y="1429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учителя русского языка и литературы МОУ «Заволжская СОШ» Булатовой Татьяны Викторо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ская область, Калин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3928680"/>
            <a:ext cx="83581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 – несоверш. в. – заговорит – соверш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Запиши глаголы в 2 столб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лонился, положил, загорает, запирать, освещать, решает,  ненавидит, слышится,  влюбится, опечалилась, красится, думает, участвует, хочется, беж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Уроки русского\5 класс\Картинки к презентациям\Шрек1.jpg"/>
          <p:cNvPicPr/>
          <p:nvPr/>
        </p:nvPicPr>
        <p:blipFill>
          <a:blip r:embed="rId1"/>
          <a:stretch/>
        </p:blipFill>
        <p:spPr>
          <a:xfrm>
            <a:off x="142920" y="142920"/>
            <a:ext cx="416700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Блок-схема: память с посл. доступом 4"/>
          <p:cNvSpPr/>
          <p:nvPr/>
        </p:nvSpPr>
        <p:spPr>
          <a:xfrm flipH="1">
            <a:off x="4500000" y="142920"/>
            <a:ext cx="4429080" cy="2357280"/>
          </a:xfrm>
          <a:prstGeom prst="flowChartMagnetic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иды глаголов.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лаголы бывают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овершенного и несоверше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2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лонение глаг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43240" y="928800"/>
            <a:ext cx="47865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голы изменяются по наклонениям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зъявитель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клонение: все времена глагола: скучает, задумал, поможет, проснулся, подума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велитель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клонение – побуждение  к действию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Запиши глаголы, указанные выше, в повелительном наклонен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слов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клонение – действие может произойти;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потребляется с частицами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бы- 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Запиши глаголы, указанные выше, в условном наклон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shrek_17-1024x768"/>
          <p:cNvPicPr/>
          <p:nvPr/>
        </p:nvPicPr>
        <p:blipFill>
          <a:blip r:embed="rId1"/>
          <a:stretch/>
        </p:blipFill>
        <p:spPr>
          <a:xfrm>
            <a:off x="0" y="928800"/>
            <a:ext cx="4175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714560" y="999720"/>
            <a:ext cx="39718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носпрягаемые глаг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лаголы </a:t>
            </a: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хоте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бежа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 образованные от них глаголы называю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разноспрягаем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прягайте данные глаголы в ед.ч. и мн.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E:\Уроки русского\5 класс\Картинки к презентациям\G15881633918826.jpg"/>
          <p:cNvPicPr/>
          <p:nvPr/>
        </p:nvPicPr>
        <p:blipFill>
          <a:blip r:embed="rId1"/>
          <a:stretch/>
        </p:blipFill>
        <p:spPr>
          <a:xfrm>
            <a:off x="500040" y="285840"/>
            <a:ext cx="4071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72080" y="274320"/>
            <a:ext cx="3114720" cy="439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зличные глагол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572080" y="785880"/>
            <a:ext cx="31147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езличные глаголы обозначают действие, которое совершается без действующего ли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 предложении безличные глагол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бываю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азуем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 них 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не может бы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длежаще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те синтаксический разбор предложени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рень хорошо пах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аду пахнет сирен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вечеру подморози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плело  с приходом вес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Уроки русского\5 класс\Картинки к презентациям\Shrek-the-Third-shrek-135320_800_600.jpg"/>
          <p:cNvPicPr/>
          <p:nvPr/>
        </p:nvPicPr>
        <p:blipFill>
          <a:blip r:embed="rId1"/>
          <a:stretch/>
        </p:blipFill>
        <p:spPr>
          <a:xfrm>
            <a:off x="357120" y="285840"/>
            <a:ext cx="51436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изучения темы «Глагол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2920" y="1143000"/>
            <a:ext cx="3543120" cy="5143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ого о глаголе  вы узнали сегодня на урок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очинение-миниатю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-10 предложений) по теме : Для чего нам нужен глагол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1242812424_allgrafica"/>
          <p:cNvPicPr/>
          <p:nvPr/>
        </p:nvPicPr>
        <p:blipFill>
          <a:blip r:embed="rId1"/>
          <a:stretch/>
        </p:blipFill>
        <p:spPr>
          <a:xfrm>
            <a:off x="3643200" y="114300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0" y="1428840"/>
            <a:ext cx="411480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оставленную на уроке «памят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морфемный, морфологический разбор слов: задумался,  старался бы, выу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ен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ома сочинить стихотворение, используя только глаголы и служебные части реч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интаксическую роль этих глагол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: на «5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амые «длинные» глаголы в русском язы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rekas"/>
          <p:cNvPicPr/>
          <p:nvPr/>
        </p:nvPicPr>
        <p:blipFill>
          <a:blip r:embed="rId1"/>
          <a:stretch/>
        </p:blipFill>
        <p:spPr>
          <a:xfrm>
            <a:off x="214200" y="1428840"/>
            <a:ext cx="4429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в классах развивающего обучения по системе Л. Занкова позволяет мне обоснованно утверждать, что,  учитывая возрастные особенности 5-классников и уровень их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едмету «Русский язык» в начальной школе (стандартные программы), считаю оправданным  использование  уроках русского языка  опережающего обучения на основе модульной технологии, так как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базовый уровень  теоретической  подготовки по предм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целостное представление  о грамматических и морфологических категориях  самостоятельных и служебных часте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 умения  анализа и синтеза  предлагаемой  учебной информ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илолога  есть возможность  гибко планировать распределение часов на изучение тематического учебного матери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 грамматическими и морфологическими признаками глаг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 навыки выделения глаголов из речи и определять их грамматические и морфологически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 умения выделять главное, сопоставлять, обобщ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ть  интерес к русскому язы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0040" y="1143000"/>
          <a:ext cx="8229600" cy="3784680"/>
        </p:xfrm>
        <a:graphic>
          <a:graphicData uri="http://schemas.openxmlformats.org/drawingml/2006/table">
            <a:tbl>
              <a:tblPr/>
              <a:tblGrid>
                <a:gridCol w="500040"/>
                <a:gridCol w="498636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ч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слова (работа со словарем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атическое значение глагола как части ре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фологические признаки глаг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заранее дать задание подготовить «закладку-памятку» для записей на уроке с алгоритмом морфологического разбора глаго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инити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ные и невозвратные глаг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ршенный и несовершенный вид глаго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лонение  глаг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спрягаемые глаг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личные глагол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иши предлож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речи, которая упала с печи, ударилась об пол, называется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лаго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5LAdx6"/>
          <p:cNvPicPr/>
          <p:nvPr/>
        </p:nvPicPr>
        <p:blipFill>
          <a:blip r:embed="rId1"/>
          <a:stretch/>
        </p:blipFill>
        <p:spPr>
          <a:xfrm>
            <a:off x="4214880" y="1571760"/>
            <a:ext cx="46432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2920" y="142560"/>
            <a:ext cx="4286520" cy="5429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»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обозначало речь вообщ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ре Даля: «Глагол – это речь человека, разумный говор, язык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называют различные действи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связанные с трудовой деятельностью человека: рубить, копать, вяз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связанные с умственной и речевой деятельностью человека: наблюдать, решать, воображ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перемещения и положение в пространстве: стоять, лежать, ид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различные состояния: грустить, болеть, сп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то, что происходит в природе: подморозило, светает, пахн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E:\Уроки русского\5 класс\Картинки к презентациям\f94d701715ca3687524ad86442a.jpg"/>
          <p:cNvPicPr/>
          <p:nvPr/>
        </p:nvPicPr>
        <p:blipFill>
          <a:blip r:embed="rId1"/>
          <a:stretch/>
        </p:blipFill>
        <p:spPr>
          <a:xfrm>
            <a:off x="0" y="142920"/>
            <a:ext cx="464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797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Морфологические признаки глагол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6160" y="1143000"/>
            <a:ext cx="4400640" cy="4983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 Ф.(инфинити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ые 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стоянны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аксическая роль в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:\Уроки русского\5 класс\Картинки к презентациям\9abe5a2e572b.jpg"/>
          <p:cNvPicPr/>
          <p:nvPr/>
        </p:nvPicPr>
        <p:blipFill>
          <a:blip r:embed="rId1"/>
          <a:stretch/>
        </p:blipFill>
        <p:spPr>
          <a:xfrm>
            <a:off x="214200" y="285840"/>
            <a:ext cx="40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71960" y="214200"/>
            <a:ext cx="4500720" cy="79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инити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14840" y="1285560"/>
            <a:ext cx="5186160" cy="500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лагол имеет свою начальную форму, которая называется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инитиво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инитив – неизменяемая форма глагола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указывает ни на время, ни на число, ни на лицо; только называет дей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нитив имеет суффиксы  - ть – ти: играть, нести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лаголов, оканчивающихся на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Ь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, печь, стеречь  -чь- входит в состав корня.  При изменении глагола возможно чередование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- лёг, печь – пёк, стеречь – стерё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ой инфинитива является часть слова без  - ть – ти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суффиксов –ть, -ти в инфинитиве выделяются суффиксы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а, -и, -е, -ова, -н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нитив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следующие грамматические свойства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озвратность и невозврат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E:\Уроки русского\5 класс\Картинки к презентациям\shrek_main.jpg"/>
          <p:cNvPicPr/>
          <p:nvPr/>
        </p:nvPicPr>
        <p:blipFill>
          <a:blip r:embed="rId1"/>
          <a:stretch/>
        </p:blipFill>
        <p:spPr>
          <a:xfrm>
            <a:off x="357120" y="21420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4900680" cy="158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вратные и невозвратные глаг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1928880"/>
            <a:ext cx="47862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Запиши глаголы в 2 столби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возвр.      невозв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Calibri"/>
              </a:rPr>
              <a:t>Решает, ненавиди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Calibri"/>
              </a:rPr>
              <a:t>слышится, влюбиться, опечалилась, красится, думает, участвует, хочется, бежит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полни   морфемный разбор записанных глаголов.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:\Уроки русского\5 класс\Картинки к презентациям\Shrek_the_Third_800_26.jpg"/>
          <p:cNvPicPr/>
          <p:nvPr/>
        </p:nvPicPr>
        <p:blipFill>
          <a:blip r:embed="rId1"/>
          <a:stretch/>
        </p:blipFill>
        <p:spPr>
          <a:xfrm>
            <a:off x="5143680" y="285840"/>
            <a:ext cx="3857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3</cp:lastModifiedBy>
  <dcterms:modified xsi:type="dcterms:W3CDTF">2004-12-31T22:51:23Z</dcterms:modified>
  <cp:revision>50</cp:revision>
  <dc:subject/>
  <dc:title>Слайд 1</dc:title>
</cp:coreProperties>
</file>