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4FBA-67EC-4181-9ED4-830D6060E5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601B-C2C8-45D0-8EC0-248CA71ACD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2713-B422-43C6-88EF-140B8B1AE0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3DA5-BC43-4453-93C3-F41FAC0DD5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460-2DD9-41FE-B332-F41DE254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9AF-423D-4025-9459-981079F2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382-283C-4069-A4CF-5D7BA947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E80-3C0F-4A41-A222-62EE558A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0D5-2C47-4399-AFF4-F71C186D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F48-D0C9-4DE3-B0EB-86B2FD0E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65C-49E4-4DFB-8161-69867E61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378-B8AB-407F-9D59-16F94FCB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B05-C046-4A79-8A61-C7E9DEF0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767-6F18-468D-9036-A6C8E39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528-253B-4AF7-82D3-6A5FBC9D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41F-DDD2-4D19-ACD9-9549C94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47D8-578E-4ECB-B62C-4794BFB8505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572320" cy="171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с использованием ИКТ на основе модульной технолог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4143240"/>
            <a:ext cx="6400800" cy="2471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Глагол как часть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Грамматические и морфологические признаки глагола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14200" y="14292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 разработка учителя русского языка и литературы МОУ «Заволжская СОШ» Булатовой Татьяны Викторо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ская область, Калин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6760" y="3928680"/>
            <a:ext cx="83581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ворит – несоверш. в. – заговорит – соверш.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Запиши глаголы в 2 столби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лонился, положил, загорает, запирать, освещать, решает,  ненавидит, слышится,  влюбится, опечалилась, красится, думает, участвует, хочется, беж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Уроки русского\5 класс\Картинки к презентациям\Шрек1.jpg"/>
          <p:cNvPicPr/>
          <p:nvPr/>
        </p:nvPicPr>
        <p:blipFill>
          <a:blip r:embed="rId1"/>
          <a:stretch/>
        </p:blipFill>
        <p:spPr>
          <a:xfrm>
            <a:off x="142920" y="142920"/>
            <a:ext cx="4167000" cy="3571920"/>
          </a:xfrm>
          <a:prstGeom prst="rect">
            <a:avLst/>
          </a:prstGeom>
          <a:ln w="0">
            <a:noFill/>
          </a:ln>
        </p:spPr>
      </p:pic>
      <p:sp>
        <p:nvSpPr>
          <p:cNvPr id="71" name="Блок-схема: память с посл. доступом 4"/>
          <p:cNvSpPr/>
          <p:nvPr/>
        </p:nvSpPr>
        <p:spPr>
          <a:xfrm flipH="1">
            <a:off x="4500000" y="142920"/>
            <a:ext cx="4429080" cy="2357280"/>
          </a:xfrm>
          <a:prstGeom prst="flowChartMagnetic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иды глаголов.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лаголы бывают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овершенного и несоверше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2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лонение глаг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143240" y="928800"/>
            <a:ext cx="47865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голы изменяются по наклонениям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зъявительн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клонение: все времена глагола: скучает, задумал, поможет, проснулся, подума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овелительн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клонение – побуждение  к действию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Запиши глаголы, указанные выше, в повелительном наклонен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Услов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клонение – действие может произойти;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употребляется с частицами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бы- 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Запиши глаголы, указанные выше, в условном наклон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shrek_17-1024x768"/>
          <p:cNvPicPr/>
          <p:nvPr/>
        </p:nvPicPr>
        <p:blipFill>
          <a:blip r:embed="rId1"/>
          <a:stretch/>
        </p:blipFill>
        <p:spPr>
          <a:xfrm>
            <a:off x="0" y="928800"/>
            <a:ext cx="41752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714560" y="999720"/>
            <a:ext cx="397188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азноспрягаемые глаг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лаголы </a:t>
            </a: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хоте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и </a:t>
            </a: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бежа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 образованные от них глаголы называютс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разноспрягаем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прягайте данные глаголы в ед.ч. и мн.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E:\Уроки русского\5 класс\Картинки к презентациям\G15881633918826.jpg"/>
          <p:cNvPicPr/>
          <p:nvPr/>
        </p:nvPicPr>
        <p:blipFill>
          <a:blip r:embed="rId1"/>
          <a:stretch/>
        </p:blipFill>
        <p:spPr>
          <a:xfrm>
            <a:off x="500040" y="285840"/>
            <a:ext cx="4071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72080" y="274320"/>
            <a:ext cx="3114720" cy="4395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езличные глагол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572080" y="785880"/>
            <a:ext cx="311472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Безличные глаголы обозначают действие, которое совершается без действующего лиц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 предложении безличные глагол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да бываю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казуемы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и них 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не может бы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длежаще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те синтаксический разбор предложений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рень хорошо пах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аду пахнет сирен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вечеру подморозил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еплело  с приходом вес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т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Уроки русского\5 класс\Картинки к презентациям\Shrek-the-Third-shrek-135320_800_600.jpg"/>
          <p:cNvPicPr/>
          <p:nvPr/>
        </p:nvPicPr>
        <p:blipFill>
          <a:blip r:embed="rId1"/>
          <a:stretch/>
        </p:blipFill>
        <p:spPr>
          <a:xfrm>
            <a:off x="357120" y="285840"/>
            <a:ext cx="51436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 изучения темы «Глагол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2920" y="1143000"/>
            <a:ext cx="3543120" cy="5143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ового о глаголе  вы узнали сегодня на урока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сочинение-миниатюр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-10 предложений) по теме : Для чего нам нужен глагол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1242812424_allgrafica"/>
          <p:cNvPicPr/>
          <p:nvPr/>
        </p:nvPicPr>
        <p:blipFill>
          <a:blip r:embed="rId1"/>
          <a:stretch/>
        </p:blipFill>
        <p:spPr>
          <a:xfrm>
            <a:off x="3643200" y="1143000"/>
            <a:ext cx="5143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0" y="1428840"/>
            <a:ext cx="4114800" cy="4525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оставленную на уроке «памят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морфемный, морфологический разбор слов: задумался,  старался бы, выуч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зента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дома сочинить стихотворение, используя только глаголы и служебные части речи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интаксическую роль этих глагол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: на «5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амые «длинные» глаголы в русском язы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srekas"/>
          <p:cNvPicPr/>
          <p:nvPr/>
        </p:nvPicPr>
        <p:blipFill>
          <a:blip r:embed="rId1"/>
          <a:stretch/>
        </p:blipFill>
        <p:spPr>
          <a:xfrm>
            <a:off x="214200" y="1428840"/>
            <a:ext cx="4429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работы в классах развивающего обучения по системе Л. Занкова позволяет мне обоснованно утверждать, что,  учитывая возрастные особенности 5-классников и уровень их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едмету «Русский язык» в начальной школе (стандартные программы), считаю оправданным  использование  уроках русского языка  опережающего обучения на основе модульной технологии, так как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 базовый уровень  теоретической  подготовки по предме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 целостное представление  о грамматических и морфологических категориях  самостоятельных и служебных часте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ся  умения  анализа и синтеза  предлагаемой  учебной информ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илолога  есть возможность  гибко планировать распределение часов на изучение тематического учебного матери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с грамматическими и морфологическими признаками глаго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 навыки выделения глаголов из речи и определять их грамматические и морфологические при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 умения выделять главное, сопоставлять, обобщ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ывать  интерес к русскому язы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0040" y="1143000"/>
          <a:ext cx="8229600" cy="3784680"/>
        </p:xfrm>
        <a:graphic>
          <a:graphicData uri="http://schemas.openxmlformats.org/drawingml/2006/table">
            <a:tbl>
              <a:tblPr/>
              <a:tblGrid>
                <a:gridCol w="500040"/>
                <a:gridCol w="4986360"/>
                <a:gridCol w="2743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ч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 слова (работа со словарем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матическое значение глагола как части реч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фологические признаки глаго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заранее дать задание подготовить «закладку-памятку» для записей на уроке с алгоритмом морфологического разбора глаго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инити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ные и невозвратные глаг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ершенный и несовершенный вид глаго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лонение  глаго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оспрягаемые глаг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личные глагол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иши предлож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ь речи, которая упала с печи, ударилась об пол, называется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лаго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5LAdx6"/>
          <p:cNvPicPr/>
          <p:nvPr/>
        </p:nvPicPr>
        <p:blipFill>
          <a:blip r:embed="rId1"/>
          <a:stretch/>
        </p:blipFill>
        <p:spPr>
          <a:xfrm>
            <a:off x="4214880" y="1571760"/>
            <a:ext cx="46432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2920" y="142560"/>
            <a:ext cx="4286520" cy="54291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»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й Руси обозначало речь вообщ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аре Даля: «Глагол – это речь человека, разумный говор, язык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называют различные действия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связанные с трудовой деятельностью человека: рубить, копать, вяза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связанные с умственной и речевой деятельностью человека: наблюдать, решать, вообража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называющие перемещения и положение в пространстве: стоять, лежать, идт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называющие различные состояния: грустить, болеть, спа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называющие то, что происходит в природе: подморозило, светает, пахне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E:\Уроки русского\5 класс\Картинки к презентациям\f94d701715ca3687524ad86442a.jpg"/>
          <p:cNvPicPr/>
          <p:nvPr/>
        </p:nvPicPr>
        <p:blipFill>
          <a:blip r:embed="rId1"/>
          <a:stretch/>
        </p:blipFill>
        <p:spPr>
          <a:xfrm>
            <a:off x="0" y="142920"/>
            <a:ext cx="4643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6160" y="274680"/>
            <a:ext cx="4400640" cy="797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Морфологические признаки глагол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6160" y="1143000"/>
            <a:ext cx="4400640" cy="4983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мматическое зна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 Ф.(инфинити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ые  при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остоянные при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таксическая роль в предлож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:\Уроки русского\5 класс\Картинки к презентациям\9abe5a2e572b.jpg"/>
          <p:cNvPicPr/>
          <p:nvPr/>
        </p:nvPicPr>
        <p:blipFill>
          <a:blip r:embed="rId1"/>
          <a:stretch/>
        </p:blipFill>
        <p:spPr>
          <a:xfrm>
            <a:off x="214200" y="285840"/>
            <a:ext cx="4071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71960" y="214200"/>
            <a:ext cx="4500720" cy="79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финити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714840" y="1285560"/>
            <a:ext cx="5186160" cy="5000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лагол имеет свою начальную форму, которая называется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инитиво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инитив – неизменяемая форма глагола: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указывает ни на время, ни на число, ни на лицо; только называет действи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инитив имеет суффиксы  - ть – ти: играть, нести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лаголов, оканчивающихся на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Ь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ь, печь, стеречь  -чь- входит в состав корня.  При изменении глагола возможно чередование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ь- лёг, печь – пёк, стеречь – стерё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ой инфинитива является часть слова без  - ть – ти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суффиксов –ть, -ти в инфинитиве выделяются суффиксы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а, -и, -е, -ова, -н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инитив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следующие грамматические свойства: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озвратность и невозвратност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E:\Уроки русского\5 класс\Картинки к презентациям\shrek_main.jpg"/>
          <p:cNvPicPr/>
          <p:nvPr/>
        </p:nvPicPr>
        <p:blipFill>
          <a:blip r:embed="rId1"/>
          <a:stretch/>
        </p:blipFill>
        <p:spPr>
          <a:xfrm>
            <a:off x="357120" y="214200"/>
            <a:ext cx="3286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4900680" cy="1582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звратные и невозвратные глаго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1928880"/>
            <a:ext cx="47862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Запиши глаголы в 2 столбик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возвр.      невозв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Calibri"/>
              </a:rPr>
              <a:t>Решает, ненавидит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Calibri"/>
              </a:rPr>
              <a:t>слышится, влюбиться, опечалилась, красится, думает, участвует, хочется, бежит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ыполни   морфемный разбор записанных глаголов.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E:\Уроки русского\5 класс\Картинки к презентациям\Shrek_the_Third_800_26.jpg"/>
          <p:cNvPicPr/>
          <p:nvPr/>
        </p:nvPicPr>
        <p:blipFill>
          <a:blip r:embed="rId1"/>
          <a:stretch/>
        </p:blipFill>
        <p:spPr>
          <a:xfrm>
            <a:off x="5143680" y="285840"/>
            <a:ext cx="38574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3</cp:lastModifiedBy>
  <dcterms:modified xsi:type="dcterms:W3CDTF">2004-12-31T22:51:23Z</dcterms:modified>
  <cp:revision>50</cp:revision>
  <dc:subject/>
  <dc:title>Слайд 1</dc:title>
</cp:coreProperties>
</file>