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78EA5-2E9A-4600-BA5E-614206087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01F4FD-DFE7-4A41-9E4C-65FCB78FC04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5AD161-25B7-440A-8A41-E3B924CD23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10996F-AD24-4D47-A942-346A4E49D2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B006D8-08A3-434E-B9CA-19D2297AFC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B8E-617B-4F88-8A06-2682D1C8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F35-522F-49D5-8D76-8461639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464-3861-40FB-B9A0-B3579614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13F-7569-4F80-8E42-585ED57E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2F92-A4E7-4486-8563-78A749F6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3D56-A423-45F6-89B9-017FE41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E52-273B-4C00-9192-2CD99AE4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5B3E-3EE5-4660-B906-6F42301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779-3A5D-40F6-BAF7-1B54C608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36D-F319-4DDA-A46C-928EFE8C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617-9A3B-4D45-B829-E0B568E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9AA-910B-4E29-8EEE-4E31B27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37B1-EE80-4E4F-A61C-9264380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286-24A4-46E7-8A97-9834B02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49C-28A3-439B-B906-1E1F36C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0C6-54C7-4D02-B18E-BEB5D56D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6E2E-EA12-4A3B-A420-4A15E16E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C49-BBB7-4E94-803D-58FE09A1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22D-3C13-437F-A16E-38CBC55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B59-7EB9-44C6-9EA0-153AE22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FC4-4A6A-4089-A5B6-1C888A59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C43-B9E7-409C-9511-94E88E4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BA7-566C-4AB8-9372-4D230E6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F54-1343-405E-90AF-5E739A3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1A0CBC-5C7C-480D-B838-123C865C34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22E2B2-C8C0-4EB1-B96C-99DBB35CED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643040"/>
            <a:ext cx="8229240" cy="22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Park Avenue"/>
              </a:rPr>
              <a:t>Стволовые клетки и выращивание органов и тканей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240" cy="12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>
                <a:solidFill>
                  <a:srgbClr val="000000"/>
                </a:solidFill>
                <a:latin typeface="Palatino Linotype"/>
              </a:rPr>
              <a:t>Цель  работы - проанализировать проблему использования стволовых клеток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17" descr="cfsem.jpg"/>
          <p:cNvPicPr/>
          <p:nvPr/>
        </p:nvPicPr>
        <p:blipFill>
          <a:blip r:embed="rId1"/>
          <a:stretch/>
        </p:blipFill>
        <p:spPr>
          <a:xfrm>
            <a:off x="2028960" y="2205720"/>
            <a:ext cx="4899960" cy="39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Задачи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643120"/>
            <a:ext cx="82292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исать феномен стволовой клетки с научной и обывательской точек зрения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ь «плюсы» и «минусы» клеточных технологий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анализировать опыты ученых с использованием стволовых клеток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Описание феномена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 последним данным об СК оплодотворенная яйцеклетка начинает свою жизнь с процесса деления на клетки со специфическими особенностями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К - фундамент будущего организма, и из них образуются клетки любого органа, а, что удивительно, у них отсутствуют реакции несовместимости. Более того, введение СК в больной орган приводит к замещению участков, пораженных болезнью, в результате их трансформации. Как часто бывает, практика, несмотря на недостаток знаний о механизме воздействия СК, уже имеет успехи в восстановлении разрушенных органов, кожи, зубов и даже спинного мозга.</a:t>
            </a: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«Плюсы» и «минусы» клеточных технологий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Мину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тволовые клетки можно получить из плода 9-12-недельного внутриутробного развития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обходима тщательная проверка источника СК на инфицированность вирусами герпеса, гепатитов, иммунодефицита человека и другими опасными инфекциям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щество в целом неправильно воспринимает подобные опыты в области биотехнологи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Плю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Успешное использование стволовых клеток поможет при лечении таких болезней как рак, ишемическая болезнь сердца, болезни связанные с нарушением обмена веществ, анемия и многие другие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История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78320"/>
            <a:ext cx="8229240" cy="31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ека ученые определили, что клетки являются своеобразными строительными материалами для организма, будь то человеческий или другой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начале 1900 годов европейские исследователи выявили, что все типы клеток, будь то белые кровяные тельца, тромбоциты и многие другие. Развиваются именно из «стволовых клеток».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Подведем итоги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721240"/>
            <a:ext cx="8229240" cy="27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зучение и применение стволовых клеток является первостепенной задачей для современной науки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авайте просто задумаемся, ради чего мы даем почву для научного прогресса? 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сто каждый из нас хочет хоть в чем-то послужить Человечеству…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92888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Спасибо за внимание!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  <Words>176</Words>
  <Paragraphs>32</Paragraphs>
  <Company>EM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09:58Z</dcterms:created>
  <dc:creator>User</dc:creator>
  <dc:description/>
  <dc:language>en-US</dc:language>
  <cp:lastModifiedBy>User</cp:lastModifiedBy>
  <dcterms:modified xsi:type="dcterms:W3CDTF">2009-03-04T15:10:22Z</dcterms:modified>
  <cp:revision>13</cp:revision>
  <dc:subject/>
  <dc:title>Стволовые клетки и выращивание органов и ткан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