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9ED1B2-66CB-4D6B-A3A1-4790530D4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воловые клетки - это клетки, сохраняющие потенциал к развити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ных направлениях. Из стволовой клетки могут возникнуть и кожная, и нервная клетки, и клетки крови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C25773-5B4E-42B9-B2F0-608278913CC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воловые клетки - это клетки, сохраняющие потенциал к развити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ных направлениях. Из стволовой клетки могут возникнуть и кожная, и нервная клетки, и клетки крови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2EA99F-5C94-4435-95B1-EF924A603EC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BDBB44-07AE-4243-B27E-A78342A6815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0B367D-2E82-4F3E-8108-3D6EDF6ECCC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039-E38E-401C-811E-956BA392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0F7-3606-4EF0-A7AD-73F111C9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4BB-F545-4272-B59A-0477B1E9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4C0-66CF-4CA2-B940-32FB60CD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561D-7BE9-44AB-BC36-8D77841C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B6A9-BB72-46FD-AC00-F9A48B6A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8409-327A-43DB-8110-ED3ABF99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9DE9-7EBA-4C62-9B5C-8318CB0B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3C07-66BE-4A6E-936A-D762DFFE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7711-65F7-45CD-8104-5EF072C2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B17A-9945-4917-828F-F053AA8F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F61-2D4A-4D08-8163-E94833A6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AAA7-FC80-4FD8-B042-C80530BB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A8FF-2FCE-40F1-8F8A-7D66E545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5476-E084-4BDD-A88F-A33B4E81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BCD3-69C2-4755-8DF0-7264239A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1E3E-5120-4563-870C-6B8D6C39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1C2-9DA0-4E0B-A783-FDD07EF3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EC7-7216-4C64-8D1B-D5E4C185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9AF-4F12-4806-BEE0-E2DF342E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619-6DBD-4F96-B560-B67EB753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8F0-34F7-4B14-A8B2-136E7C49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2BE-A404-41A5-A2C2-08C1976A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EA9-A550-442A-A99D-3FD80CFC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F394DC-6BFA-48A0-B42D-DD0634E5375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37D246-A794-4F41-BAB1-9911DDA8CC4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7120" y="1643040"/>
            <a:ext cx="8229240" cy="22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00000"/>
                </a:solidFill>
                <a:latin typeface="Park Avenue"/>
              </a:rPr>
              <a:t>Стволовые клетки и выращивание органов и тканей 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240" cy="12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000" spc="-1" strike="noStrike">
                <a:solidFill>
                  <a:srgbClr val="000000"/>
                </a:solidFill>
                <a:latin typeface="Palatino Linotype"/>
              </a:rPr>
              <a:t>Цель  работы - проанализировать проблему использования стволовых клеток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17" descr="cfsem.jpg"/>
          <p:cNvPicPr/>
          <p:nvPr/>
        </p:nvPicPr>
        <p:blipFill>
          <a:blip r:embed="rId1"/>
          <a:stretch/>
        </p:blipFill>
        <p:spPr>
          <a:xfrm>
            <a:off x="2028960" y="2205720"/>
            <a:ext cx="4899960" cy="39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700" spc="-1" strike="noStrike">
                <a:solidFill>
                  <a:srgbClr val="000000"/>
                </a:solidFill>
                <a:latin typeface="Palatino Linotype"/>
              </a:rPr>
              <a:t>Задачи:</a:t>
            </a:r>
            <a:endParaRPr b="0" lang="ru-RU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2643120"/>
            <a:ext cx="822924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541"/>
              </a:spcBef>
              <a:buClr>
                <a:srgbClr val="000000"/>
              </a:buClr>
              <a:buFont typeface="Calibri"/>
              <a:buAutoNum type="arabicParenR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Описать феномен стволовой клетки с научной и обывательской точек зрения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1"/>
              </a:spcBef>
              <a:buClr>
                <a:srgbClr val="000000"/>
              </a:buClr>
              <a:buFont typeface="Calibri"/>
              <a:buAutoNum type="arabicParenR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казать «плюсы» и «минусы» клеточных технологий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1"/>
              </a:spcBef>
              <a:buClr>
                <a:srgbClr val="000000"/>
              </a:buClr>
              <a:buFont typeface="Calibri"/>
              <a:buAutoNum type="arabicParenR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оанализировать опыты ученых с использованием стволовых клеток 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700" spc="-1" strike="noStrike">
                <a:solidFill>
                  <a:srgbClr val="000000"/>
                </a:solidFill>
                <a:latin typeface="Palatino Linotype"/>
              </a:rPr>
              <a:t>Описание феномена:</a:t>
            </a:r>
            <a:endParaRPr b="0" lang="ru-RU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о последним данным об СК оплодотворенная яйцеклетка начинает свою жизнь с процесса деления на клетки со специфическими особенностями.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К - фундамент будущего организма, и из них образуются клетки любого органа, а, что удивительно, у них отсутствуют реакции несовместимости. Более того, введение СК в больной орган приводит к замещению участков, пораженных болезнью, в результате их трансформации. Как часто бывает, практика, несмотря на недостаток знаний о механизме воздействия СК, уже имеет успехи в восстановлении разрушенных органов, кожи, зубов и даже спинного мозга.</a:t>
            </a:r>
            <a:endParaRPr b="0" lang="ru-RU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240" cy="14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700" spc="-1" strike="noStrike">
                <a:solidFill>
                  <a:srgbClr val="000000"/>
                </a:solidFill>
                <a:latin typeface="Palatino Linotype"/>
              </a:rPr>
              <a:t>«Плюсы» и «минусы» клеточных технологий:</a:t>
            </a:r>
            <a:endParaRPr b="0" lang="ru-RU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«Минусы»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тволовые клетки можно получить из плода 9-12-недельного внутриутробного развития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обходима тщательная проверка источника СК на инфицированность вирусами герпеса, гепатитов, иммунодефицита человека и другими опасными инфекциям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бщество в целом неправильно воспринимает подобные опыты в области биотехнологий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«Плюсы»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- Успешное использование стволовых клеток поможет при лечении таких болезней как рак, ишемическая болезнь сердца, болезни связанные с нарушением обмена веществ, анемия и многие другие.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700" spc="-1" strike="noStrike">
                <a:solidFill>
                  <a:srgbClr val="000000"/>
                </a:solidFill>
                <a:latin typeface="Palatino Linotype"/>
              </a:rPr>
              <a:t>История:</a:t>
            </a:r>
            <a:endParaRPr b="0" lang="ru-RU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578320"/>
            <a:ext cx="8229240" cy="313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ачиная с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века ученые определили, что клетки являются своеобразными строительными материалами для организма, будь то человеческий или другой.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 начале 1900 годов европейские исследователи выявили, что все типы клеток, будь то белые кровяные тельца, тромбоциты и многие другие. Развиваются именно из «стволовых клеток». 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700" spc="-1" strike="noStrike">
                <a:solidFill>
                  <a:srgbClr val="000000"/>
                </a:solidFill>
                <a:latin typeface="Palatino Linotype"/>
              </a:rPr>
              <a:t>Подведем итоги</a:t>
            </a:r>
            <a:endParaRPr b="0" lang="ru-RU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721240"/>
            <a:ext cx="8229240" cy="277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зучение и применение стволовых клеток является первостепенной задачей для современной науки.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авайте просто задумаемся, ради чего мы даем почву для научного прогресса?  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осто каждый из нас хочет хоть в чем-то послужить Человечеству…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192888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700" spc="-1" strike="noStrike">
                <a:solidFill>
                  <a:srgbClr val="000000"/>
                </a:solidFill>
                <a:latin typeface="Palatino Linotype"/>
              </a:rPr>
              <a:t>Спасибо за внимание!</a:t>
            </a:r>
            <a:endParaRPr b="0" lang="ru-RU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  <Words>176</Words>
  <Paragraphs>32</Paragraphs>
  <Company>EM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3:09:58Z</dcterms:created>
  <dc:creator>User</dc:creator>
  <dc:description/>
  <dc:language>en-US</dc:language>
  <cp:lastModifiedBy>User</cp:lastModifiedBy>
  <dcterms:modified xsi:type="dcterms:W3CDTF">2009-03-04T15:10:22Z</dcterms:modified>
  <cp:revision>13</cp:revision>
  <dc:subject/>
  <dc:title>Стволовые клетки и выращивание органов и ткан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Экран (4:3)</vt:lpwstr>
  </property>
  <property fmtid="{D5CDD505-2E9C-101B-9397-08002B2CF9AE}" pid="4" name="Slides">
    <vt:r8>8</vt:r8>
  </property>
</Properties>
</file>