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5B975D-E0A1-4C37-AA9A-084A27BB3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воловые клетки - это клетки, сохраняющие потенциал к развит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направлениях. Из стволовой клетки могут возникнуть и кожная, и нервная клетки, и клетки кров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CA09A2-675A-4D59-BDDF-50A1C5EA618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воловые клетки - это клетки, сохраняющие потенциал к развит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ных направлениях. Из стволовой клетки могут возникнуть и кожная, и нервная клетки, и клетки кров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A86864-AB4C-450D-9672-D5A773FE6D4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lnSpc>
                <a:spcPct val="100000"/>
              </a:lnSpc>
              <a:buNone/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D5C458-F0F1-4405-8823-B9A0E0A244E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ECD08B-92DC-4780-93D1-C39D6737AE4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4A4-C04D-4B82-B593-144AF815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786-F2E0-4A8F-A924-20F82491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257-6D6E-4FC3-A311-AFD92B76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B1F-9F0A-4C96-B94A-724D01D7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002B-FD56-45B8-B853-5B0253C9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7AA1-09AF-44A2-BA08-EF6F906B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B064-7C9F-47F3-889A-498109B7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93B2-7DEF-49D0-85EB-B1162AE0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F605-634A-4AB2-9556-4C4068FF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CF8-2B8B-4401-B3D7-D310813E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5C42-A557-4984-AA7B-560E6E4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727-9CBF-4238-A01A-699EBD97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513A-5783-4A68-AC73-07EC5EB2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3EF8-1971-4B11-9EC6-E1B4E1BC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5F42-FFD3-4849-BA0C-257286F0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6D05-7898-4419-AE7A-F079B236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E47F-B27B-40D4-81F8-8899CDC2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16E-C999-4908-8544-7009F693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B16-0FE0-41FB-9FDA-BAC7F1A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093-5F47-4DE0-9FD4-019A419A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26D-3143-4974-8CBA-A016F7C4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34E-67D5-444F-8E86-B19B40D7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0C1-3320-4F4E-83D4-BD53CB5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0AE-82B9-42CB-B744-2860E34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EF5CF1-5431-4460-9815-8F6C4CA16B9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BED688-AE3D-438F-B9B8-00915690C75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643040"/>
            <a:ext cx="8229240" cy="22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Park Avenue"/>
              </a:rPr>
              <a:t>Стволовые клетки и выращивание органов и тканей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240" cy="12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>
                <a:solidFill>
                  <a:srgbClr val="000000"/>
                </a:solidFill>
                <a:latin typeface="Palatino Linotype"/>
              </a:rPr>
              <a:t>Цель  работы - проанализировать проблему использования стволовых клеток</a:t>
            </a:r>
            <a:endParaRPr b="0" lang="ru-RU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17" descr="cfsem.jpg"/>
          <p:cNvPicPr/>
          <p:nvPr/>
        </p:nvPicPr>
        <p:blipFill>
          <a:blip r:embed="rId1"/>
          <a:stretch/>
        </p:blipFill>
        <p:spPr>
          <a:xfrm>
            <a:off x="2028960" y="2205720"/>
            <a:ext cx="4899960" cy="39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Задачи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643120"/>
            <a:ext cx="82292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Calibri"/>
              <a:buAutoNum type="arabicParenR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писать феномен стволовой клетки с научной и обывательской точек зрения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Calibri"/>
              <a:buAutoNum type="arabicParenR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казать «плюсы» и «минусы» клеточных технологий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1"/>
              </a:spcBef>
              <a:buClr>
                <a:srgbClr val="000000"/>
              </a:buClr>
              <a:buFont typeface="Calibri"/>
              <a:buAutoNum type="arabicParenR"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анализировать опыты ученых с использованием стволовых клеток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Описание феномена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 последним данным об СК оплодотворенная яйцеклетка начинает свою жизнь с процесса деления на клетки со специфическими особенностями.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К - фундамент будущего организма, и из них образуются клетки любого органа, а, что удивительно, у них отсутствуют реакции несовместимости. Более того, введение СК в больной орган приводит к замещению участков, пораженных болезнью, в результате их трансформации. Как часто бывает, практика, несмотря на недостаток знаний о механизме воздействия СК, уже имеет успехи в восстановлении разрушенных органов, кожи, зубов и даже спинного мозга.</a:t>
            </a:r>
            <a:endParaRPr b="0" lang="ru-RU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49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«Плюсы» и «минусы» клеточных технологий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«Минусы»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тволовые клетки можно получить из плода 9-12-недельного внутриутробного развития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обходима тщательная проверка источника СК на инфицированность вирусами герпеса, гепатитов, иммунодефицита человека и другими опасными инфекциям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щество в целом неправильно воспринимает подобные опыты в области биотехнологий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«Плюсы»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- Успешное использование стволовых клеток поможет при лечении таких болезней как рак, ишемическая болезнь сердца, болезни связанные с нарушением обмена веществ, анемия и многие другие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История: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78320"/>
            <a:ext cx="8229240" cy="313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чиная с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ека ученые определили, что клетки являются своеобразными строительными материалами для организма, будь то человеческий или другой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 начале 1900 годов европейские исследователи выявили, что все типы клеток, будь то белые кровяные тельца, тромбоциты и многие другие. Развиваются именно из «стволовых клеток». 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Подведем итоги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721240"/>
            <a:ext cx="8229240" cy="277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зучение и применение стволовых клеток является первостепенной задачей для современной науки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авайте просто задумаемся, ради чего мы даем почву для научного прогресса?  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осто каждый из нас хочет хоть в чем-то послужить Человечеству…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92888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700" spc="-1" strike="noStrike">
                <a:solidFill>
                  <a:srgbClr val="000000"/>
                </a:solidFill>
                <a:latin typeface="Palatino Linotype"/>
              </a:rPr>
              <a:t>Спасибо за внимание!</a:t>
            </a:r>
            <a:endParaRPr b="0" lang="ru-RU" sz="4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  <Words>176</Words>
  <Paragraphs>32</Paragraphs>
  <Company>EM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3:09:58Z</dcterms:created>
  <dc:creator>User</dc:creator>
  <dc:description/>
  <dc:language>en-US</dc:language>
  <cp:lastModifiedBy>User</cp:lastModifiedBy>
  <dcterms:modified xsi:type="dcterms:W3CDTF">2009-03-04T15:10:22Z</dcterms:modified>
  <cp:revision>13</cp:revision>
  <dc:subject/>
  <dc:title>Стволовые клетки и выращивание органов и ткан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