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350F-2996-40C7-8E4C-E93A9EBD97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EB37-40A6-45B3-84CB-947A8095C70D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751-D4BD-452B-9598-D65992E0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401-8308-4C9E-8FCA-F35A4769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314-B9D0-4B97-A535-5F1572C0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A14-EC3D-4195-B5CF-E809D0AF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C641-FF66-47BA-AF66-8F961CB0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9715-2E32-4910-8C9A-D3B8869A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F7E8-5DFE-4C28-BB2F-501011D4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2AAA-3F82-451B-A95B-738CB3D7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F17F-51B0-461D-91BA-A13ABFB5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51A5-D527-43AF-A883-314AD612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10CB-A5F7-48E5-A1F6-8FFBBD70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E69-0EDA-4921-AFE5-65D60A4B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2E82-BD66-44DF-AA4D-CCA3EEA8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605D-B395-4C48-8B6E-72B0066B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FE5D-6F5B-4744-9D1F-F157BC37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7F3B-30EF-4A61-B720-39954E96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9CAD-6740-413D-8FBE-8DB2F3BB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8A5DB-4325-474A-82FD-182FBF62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BF01D-4BD1-49A4-BB04-DCE975BE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43A05-A788-40DA-9D09-00426D32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CC371-E623-48DC-9E28-82BA021E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2363E-618F-4321-B9FE-9A379D71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455-1440-4946-8C64-A1AE5682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555A9-0E42-4905-BE9A-FFB3DBD1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F08D5-543C-4E7C-AFAE-8B7B3788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3951-0E73-4591-BF24-2F57B577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3E0CF-CA7F-419F-919B-922B89C9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CC78A-3386-40F8-9AFD-E62B1EAA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2241E-138C-4453-981E-AD5D8B1E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7800A-308D-4B29-A140-AF6D33BD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A53-B2C0-4CD7-9143-9CFE3B5D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2B7-982C-41BC-BB4C-5A956FF0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1B26-621F-40FB-B75C-B145B1D0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A099-B50D-4E66-B9EA-CD790A66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3DE-EFB5-4373-BD71-D7CDCD0D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0E27-55DC-4F2C-AA87-232B19C7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9F92-54B7-4C2E-BA69-DCE6D12AAA8C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5183-72C4-4801-B3EA-BC67E985D0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7E24-9C6D-416B-880F-37480D69BEA1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84520" y="1252440"/>
            <a:ext cx="4855680" cy="96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"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спользование информационно-коммуникативных технологий в начальной школе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"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630760" y="5511960"/>
            <a:ext cx="19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Швецова Н. А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857840" y="214200"/>
            <a:ext cx="3929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Муниципальное бюджетное образовательное учреждение «Лицей имени Г.Ф.Атякшева»</a:t>
            </a: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6000840" y="6143760"/>
            <a:ext cx="1500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. Югорск</a:t>
            </a: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2010 год</a:t>
            </a: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5"/>
          <p:cNvSpPr txBox="1"/>
          <p:nvPr/>
        </p:nvSpPr>
        <p:spPr>
          <a:xfrm>
            <a:off x="971640" y="1125360"/>
            <a:ext cx="7632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лагодарю  за  внимание  !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торые позволять в дальнейш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ку решать практические за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оненты учебной деятельност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Умение поставить учебную задач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ировать, контролировать и оцени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е действи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сихическ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Развиваю память, внимание, мышл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26920" y="3284640"/>
            <a:ext cx="1584360" cy="1800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11280" y="5084640"/>
            <a:ext cx="2016000" cy="432000"/>
          </a:xfrm>
          <a:prstGeom prst="rect">
            <a:avLst/>
          </a:prstGeom>
          <a:solidFill>
            <a:srgbClr val="70dc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 rot="7998000">
            <a:off x="937080" y="2599200"/>
            <a:ext cx="1368360" cy="1443240"/>
          </a:xfrm>
          <a:prstGeom prst="rtTriangl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 flipH="1">
            <a:off x="1834920" y="278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H="1">
            <a:off x="183528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H="1">
            <a:off x="2268000" y="5300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900000" y="620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971640" y="404640"/>
            <a:ext cx="708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Параметры развития личности учащегося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Цель использования ИК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Diagram 3"/>
          <p:cNvGrpSpPr/>
          <p:nvPr/>
        </p:nvGrpSpPr>
        <p:grpSpPr>
          <a:xfrm>
            <a:off x="1075680" y="1766160"/>
            <a:ext cx="7061760" cy="4187520"/>
            <a:chOff x="1075680" y="1766160"/>
            <a:chExt cx="7061760" cy="4187520"/>
          </a:xfrm>
        </p:grpSpPr>
        <p:sp>
          <p:nvSpPr>
            <p:cNvPr id="158" name="_s1028"/>
            <p:cNvSpPr/>
            <p:nvPr/>
          </p:nvSpPr>
          <p:spPr>
            <a:xfrm flipH="1" flipV="1">
              <a:off x="2902680" y="3336120"/>
              <a:ext cx="855720" cy="263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_s1029"/>
            <p:cNvSpPr/>
            <p:nvPr/>
          </p:nvSpPr>
          <p:spPr>
            <a:xfrm>
              <a:off x="1075680" y="2552040"/>
              <a:ext cx="1959840" cy="1045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Объяснение 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материала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_s1030"/>
            <p:cNvSpPr/>
            <p:nvPr/>
          </p:nvSpPr>
          <p:spPr>
            <a:xfrm flipH="1">
              <a:off x="2905920" y="4120560"/>
              <a:ext cx="855000" cy="263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_s1031"/>
            <p:cNvSpPr/>
            <p:nvPr/>
          </p:nvSpPr>
          <p:spPr>
            <a:xfrm>
              <a:off x="1078200" y="4123440"/>
              <a:ext cx="1959840" cy="1046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Проверка  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уровня  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усвоения  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_s1032"/>
            <p:cNvSpPr/>
            <p:nvPr/>
          </p:nvSpPr>
          <p:spPr>
            <a:xfrm>
              <a:off x="4608000" y="4379040"/>
              <a:ext cx="0" cy="527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_s1033"/>
            <p:cNvSpPr/>
            <p:nvPr/>
          </p:nvSpPr>
          <p:spPr>
            <a:xfrm>
              <a:off x="3629520" y="4907520"/>
              <a:ext cx="1959840" cy="1046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Усиление  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мотивации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обучения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_s1034"/>
            <p:cNvSpPr/>
            <p:nvPr/>
          </p:nvSpPr>
          <p:spPr>
            <a:xfrm>
              <a:off x="5451840" y="4118760"/>
              <a:ext cx="855000" cy="263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_s1035"/>
            <p:cNvSpPr/>
            <p:nvPr/>
          </p:nvSpPr>
          <p:spPr>
            <a:xfrm>
              <a:off x="6177600" y="4120560"/>
              <a:ext cx="1959840" cy="1045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Создание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проблемной</a:t>
              </a: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1" lang="en-US" sz="11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ситуации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_s1036"/>
            <p:cNvSpPr/>
            <p:nvPr/>
          </p:nvSpPr>
          <p:spPr>
            <a:xfrm flipV="1">
              <a:off x="5451840" y="3334320"/>
              <a:ext cx="855000" cy="263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_s1037"/>
            <p:cNvSpPr/>
            <p:nvPr/>
          </p:nvSpPr>
          <p:spPr>
            <a:xfrm>
              <a:off x="6174000" y="2550240"/>
              <a:ext cx="1960560" cy="1046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Привлечение</a:t>
              </a: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1" lang="en-US" sz="11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внимания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_s1038"/>
            <p:cNvSpPr/>
            <p:nvPr/>
          </p:nvSpPr>
          <p:spPr>
            <a:xfrm flipV="1">
              <a:off x="4605120" y="2810520"/>
              <a:ext cx="0" cy="527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_s1039"/>
            <p:cNvSpPr/>
            <p:nvPr/>
          </p:nvSpPr>
          <p:spPr>
            <a:xfrm>
              <a:off x="3626280" y="1766160"/>
              <a:ext cx="1959840" cy="10458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Демонстрация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_s1040"/>
            <p:cNvSpPr/>
            <p:nvPr/>
          </p:nvSpPr>
          <p:spPr>
            <a:xfrm>
              <a:off x="3626280" y="3337560"/>
              <a:ext cx="1959840" cy="10458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С какой </a:t>
              </a:r>
              <a:endParaRPr b="1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целью я</a:t>
              </a:r>
              <a:endParaRPr b="1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использую</a:t>
              </a:r>
              <a:endParaRPr b="1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ИКТ </a:t>
              </a:r>
              <a:endParaRPr b="1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на уроке?</a:t>
              </a:r>
              <a:endParaRPr b="1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611280" y="3826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14800" y="395280"/>
            <a:ext cx="82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Arial"/>
              </a:rPr>
              <a:t>Триединая дидактическая цель урока: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79280" y="112536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2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Образовательная цель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: восприятие  учащимися учебного     материала, осмысливание связей и отношений в объектах изучения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Развивающая цель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: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Воспитательная  цель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: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7" descr="Копия Швецова Нина Анатольевна"/>
          <p:cNvPicPr/>
          <p:nvPr/>
        </p:nvPicPr>
        <p:blipFill>
          <a:blip r:embed="rId1"/>
          <a:stretch/>
        </p:blipFill>
        <p:spPr>
          <a:xfrm>
            <a:off x="5076720" y="4613400"/>
            <a:ext cx="3527640" cy="201600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684360" y="1890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92200" y="2746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826920" y="26028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Arial"/>
              </a:rPr>
              <a:t>ИКТ помогают решить следующие дидактические задачи: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Picture 7" descr="Копия DSC05207"/>
          <p:cNvPicPr/>
          <p:nvPr/>
        </p:nvPicPr>
        <p:blipFill>
          <a:blip r:embed="rId1"/>
          <a:stretch/>
        </p:blipFill>
        <p:spPr>
          <a:xfrm>
            <a:off x="4788000" y="3429000"/>
            <a:ext cx="3960720" cy="324180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  <p:sp>
        <p:nvSpPr>
          <p:cNvPr id="179" name="Text Box 9"/>
          <p:cNvSpPr/>
          <p:nvPr/>
        </p:nvSpPr>
        <p:spPr>
          <a:xfrm>
            <a:off x="395280" y="1557360"/>
            <a:ext cx="36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50920" y="1484280"/>
            <a:ext cx="864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своить базовые знания по предмету;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истематизировать усвоенные знания;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формировать навыки самоконтроля;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формировать мотивацию к учению;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казать учебно – методическую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мощь учащимся в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амостоятельной работе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д учебным материалом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179280" y="345960"/>
            <a:ext cx="90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Arial"/>
              </a:rPr>
              <a:t>ИКТ могут  быть использованы: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755640" y="112536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ля  обозначения темы урока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к сопровождение объяснения учителя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к информационно-обучающее пособие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ля контроля знаний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 другое</a:t>
            </a:r>
            <a:r>
              <a:rPr b="0" lang="ru-RU" sz="2400" spc="-1" strike="noStrike">
                <a:solidFill>
                  <a:srgbClr val="000062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Picture 9" descr="DSC00205"/>
          <p:cNvPicPr/>
          <p:nvPr/>
        </p:nvPicPr>
        <p:blipFill>
          <a:blip r:embed="rId1"/>
          <a:stretch/>
        </p:blipFill>
        <p:spPr>
          <a:xfrm>
            <a:off x="468360" y="3459240"/>
            <a:ext cx="3821040" cy="306684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  <p:pic>
        <p:nvPicPr>
          <p:cNvPr id="184" name="Picture 10" descr="DSC00207"/>
          <p:cNvPicPr/>
          <p:nvPr/>
        </p:nvPicPr>
        <p:blipFill>
          <a:blip r:embed="rId2"/>
          <a:stretch/>
        </p:blipFill>
        <p:spPr>
          <a:xfrm>
            <a:off x="4500720" y="2421000"/>
            <a:ext cx="4038480" cy="280044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447840" y="345960"/>
            <a:ext cx="84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Arial"/>
              </a:rPr>
              <a:t>Пути использования ИКТ: 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79280" y="162864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оздание ярких слайдов и серий слайдов, легко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меняющих друг друга с возможностью оперативного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х редактирования;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спользование разнообразных мультипликационных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эффектов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озможность воспроизведения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идео и аудио материалов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оздание интерактивных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глядных пособий, гипертекстов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Picture 6" descr="Копия Окружающий мир"/>
          <p:cNvPicPr/>
          <p:nvPr/>
        </p:nvPicPr>
        <p:blipFill>
          <a:blip r:embed="rId1"/>
          <a:stretch/>
        </p:blipFill>
        <p:spPr>
          <a:xfrm>
            <a:off x="5364000" y="3284640"/>
            <a:ext cx="3579840" cy="261144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519120" y="189000"/>
            <a:ext cx="80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Arial"/>
              </a:rPr>
              <a:t>Особенности ИТК: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105264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становление  межпредметных связей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ккуратное, яркое, четкое и цветное изображение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 экране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сокий уровень  наглядности на уроке;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вышение производительности урока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есто учащегося всегда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свещено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ожно показать то, что не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писать или нарисовать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 доске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огика подачи  учебного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атериала;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омпьютер – инструмент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ля работы, а не для игр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2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6" descr="Части тела"/>
          <p:cNvPicPr/>
          <p:nvPr/>
        </p:nvPicPr>
        <p:blipFill>
          <a:blip r:embed="rId1"/>
          <a:stretch/>
        </p:blipFill>
        <p:spPr>
          <a:xfrm>
            <a:off x="5076720" y="3068640"/>
            <a:ext cx="3600720" cy="324000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971640" y="4372200"/>
            <a:ext cx="3529080" cy="73620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азвитие творческих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пособностей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3571920" y="1363320"/>
            <a:ext cx="5121360" cy="53388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 использования ИКТ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971640" y="2859120"/>
            <a:ext cx="3539880" cy="73620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азвитие познавательных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пособностей и мотивации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5148360" y="3579840"/>
            <a:ext cx="3743280" cy="73620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спешнее достигаются  цели урока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5292720" y="5235840"/>
            <a:ext cx="3557520" cy="73620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ормирование компетенции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в области коммуникации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 rot="1200000">
            <a:off x="3635280" y="2276640"/>
            <a:ext cx="152640" cy="4572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6877080" y="4437000"/>
            <a:ext cx="142920" cy="647640"/>
          </a:xfrm>
          <a:prstGeom prst="downArrow">
            <a:avLst>
              <a:gd name="adj1" fmla="val 50000"/>
              <a:gd name="adj2" fmla="val 113287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 rot="20400000">
            <a:off x="6564240" y="2260440"/>
            <a:ext cx="171360" cy="1152720"/>
          </a:xfrm>
          <a:prstGeom prst="downArrow">
            <a:avLst>
              <a:gd name="adj1" fmla="val 49120"/>
              <a:gd name="adj2" fmla="val 103021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2700360" y="3716280"/>
            <a:ext cx="142920" cy="576360"/>
          </a:xfrm>
          <a:prstGeom prst="downArrow">
            <a:avLst>
              <a:gd name="adj1" fmla="val 50000"/>
              <a:gd name="adj2" fmla="val 100819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2590920" y="285840"/>
            <a:ext cx="6553080" cy="5875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Times New Roman"/>
              </a:rPr>
              <a:t>В ногу со временем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2700360" y="5229360"/>
            <a:ext cx="142920" cy="503280"/>
          </a:xfrm>
          <a:prstGeom prst="downArrow">
            <a:avLst>
              <a:gd name="adj1" fmla="val 50000"/>
              <a:gd name="adj2" fmla="val 88035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>
            <a:off x="971640" y="5811840"/>
            <a:ext cx="3529080" cy="73620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вышение успеваемости 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 предметам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3" name="Picture 14" descr="IMG_1697"/>
          <p:cNvPicPr/>
          <p:nvPr/>
        </p:nvPicPr>
        <p:blipFill>
          <a:blip r:embed="rId1"/>
          <a:stretch/>
        </p:blipFill>
        <p:spPr>
          <a:xfrm>
            <a:off x="250920" y="333360"/>
            <a:ext cx="2592360" cy="2087640"/>
          </a:xfrm>
          <a:prstGeom prst="rect">
            <a:avLst/>
          </a:prstGeom>
          <a:ln w="38160">
            <a:solidFill>
              <a:srgbClr val="008000"/>
            </a:solidFill>
            <a:prstDash val="sysDash"/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В Швецов</cp:lastModifiedBy>
  <dcterms:modified xsi:type="dcterms:W3CDTF">2010-10-26T11:44:01Z</dcterms:modified>
  <cp:revision>134</cp:revision>
  <dc:subject/>
  <dc:title>PowerPoint Presentation</dc:title>
</cp:coreProperties>
</file>