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26E6-E827-4D20-BA19-1CA01B24E0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2EB9-4DBF-4E70-8D6F-C77667459196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CC14-B20F-4941-94DA-72C51B29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0977-224B-4430-B102-961C3BEE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CC68-FA43-440B-9723-7891AF99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FE7-8A67-4A5A-80A5-64AE4313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2B8D-6F1C-4834-B23C-BDFAC402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E384-0B01-4276-992A-2978AF78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2904-B067-4912-ADA8-A4E47165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C66B-F361-44C4-BCC9-88874CCF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D309-C9F2-42D7-9B43-29567BF2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9873-9E85-4C3F-BB68-B96A4D99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A956-20C0-4B40-8FCD-DA1D661D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4330-6B89-463A-A56A-9F331FC5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A6C1-22EB-4037-ABA2-3C29A578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4993-69B0-48BA-9F66-3F4C0DD6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8BA0-5EE2-4A0E-B228-4B84361F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024E-76AC-444B-B385-0F64F806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1E25-B3D3-4B75-B89C-F675382A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AAF96-4404-4ABD-83B3-0EA96A1B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4DF4E-8709-41D1-A921-8923B20D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3CB82-7B5D-496C-912F-1A7BAF65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3A926-53D0-45E8-AB1F-E6D6A112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ECFBB-1A0F-4927-BF1A-7B3C24DE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B3DD-C079-451A-9B49-75B4D848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B84FE-08A9-46D6-81CC-C7BDC518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BE85C-A6D8-4F83-A37F-66FCB07A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12852-0D0E-4B41-B693-849D6D42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2CEE2-55FB-47DB-89D8-C53F9C54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C45E2-DDF4-4B87-8863-D71DA5DC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2E77D-B3FA-4C2F-B5C0-73A722C1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82A0C-1F07-4787-8A9F-FBF6F5A6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8F3E-1053-48C2-A46A-3D3EC475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536A-A2FD-40FF-AFD7-C7EFE64F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C26D-55E2-4507-A2BA-D57A9740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9931-D2B4-4DBF-B180-7C272CD4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9BE-B790-45ED-BE22-7ED78EAF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93D3-148B-4A31-85E9-5A9E2C8D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5260-3051-40F9-BF8B-410A750243E4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FADC-F74B-4603-AE07-F5CC4B4C5A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ADFD-8ED3-4066-8016-B4EC47AE9B62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84520" y="1252440"/>
            <a:ext cx="4855680" cy="96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"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спользование информационно-коммуникативных технологий в начальной школе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"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630760" y="5511960"/>
            <a:ext cx="19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Швецова Н. А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857840" y="214200"/>
            <a:ext cx="3929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Муниципальное бюджетное образовательное учреждение «Лицей имени Г.Ф.Атякшева»</a:t>
            </a:r>
            <a:endParaRPr b="1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6000840" y="6143760"/>
            <a:ext cx="1500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. Югорск</a:t>
            </a:r>
            <a:endParaRPr b="1" lang="en-US" sz="11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2010 год</a:t>
            </a:r>
            <a:endParaRPr b="1" lang="en-US" sz="11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5"/>
          <p:cNvSpPr txBox="1"/>
          <p:nvPr/>
        </p:nvSpPr>
        <p:spPr>
          <a:xfrm>
            <a:off x="971640" y="1125360"/>
            <a:ext cx="7632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лагодарю  за  внимание  !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681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торые позволять в дальнейш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нику решать практические зада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оненты учебной деятельност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Умение поставить учебную задач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нировать, контролировать и оценив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е действи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сихически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Развиваю память, внимание, мышлени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826920" y="3284640"/>
            <a:ext cx="1584360" cy="1800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611280" y="5084640"/>
            <a:ext cx="2016000" cy="432000"/>
          </a:xfrm>
          <a:prstGeom prst="rect">
            <a:avLst/>
          </a:prstGeom>
          <a:solidFill>
            <a:srgbClr val="70dc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 rot="7998000">
            <a:off x="937080" y="2599200"/>
            <a:ext cx="1368360" cy="1443240"/>
          </a:xfrm>
          <a:prstGeom prst="rtTriangl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 flipH="1">
            <a:off x="1834920" y="278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 flipH="1">
            <a:off x="183528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 flipH="1">
            <a:off x="2268000" y="53006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900000" y="6206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971640" y="404640"/>
            <a:ext cx="708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33"/>
                </a:solidFill>
                <a:latin typeface="Arial"/>
              </a:rPr>
              <a:t>Параметры развития личности учащегося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33"/>
                </a:solidFill>
                <a:latin typeface="Arial"/>
              </a:rPr>
              <a:t>Цель использования ИК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Diagram 3"/>
          <p:cNvGrpSpPr/>
          <p:nvPr/>
        </p:nvGrpSpPr>
        <p:grpSpPr>
          <a:xfrm>
            <a:off x="1075680" y="1766160"/>
            <a:ext cx="7061760" cy="4187520"/>
            <a:chOff x="1075680" y="1766160"/>
            <a:chExt cx="7061760" cy="4187520"/>
          </a:xfrm>
        </p:grpSpPr>
        <p:sp>
          <p:nvSpPr>
            <p:cNvPr id="158" name="_s1028"/>
            <p:cNvSpPr/>
            <p:nvPr/>
          </p:nvSpPr>
          <p:spPr>
            <a:xfrm flipH="1" flipV="1">
              <a:off x="2902680" y="3336120"/>
              <a:ext cx="855720" cy="263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_s1029"/>
            <p:cNvSpPr/>
            <p:nvPr/>
          </p:nvSpPr>
          <p:spPr>
            <a:xfrm>
              <a:off x="1075680" y="2552040"/>
              <a:ext cx="1959840" cy="1045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Объяснение 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материала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_s1030"/>
            <p:cNvSpPr/>
            <p:nvPr/>
          </p:nvSpPr>
          <p:spPr>
            <a:xfrm flipH="1">
              <a:off x="2905920" y="4120560"/>
              <a:ext cx="855000" cy="263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_s1031"/>
            <p:cNvSpPr/>
            <p:nvPr/>
          </p:nvSpPr>
          <p:spPr>
            <a:xfrm>
              <a:off x="1078200" y="4123440"/>
              <a:ext cx="1959840" cy="1046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Проверка  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уровня  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усвоения  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_s1032"/>
            <p:cNvSpPr/>
            <p:nvPr/>
          </p:nvSpPr>
          <p:spPr>
            <a:xfrm>
              <a:off x="4608000" y="4379040"/>
              <a:ext cx="0" cy="527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_s1033"/>
            <p:cNvSpPr/>
            <p:nvPr/>
          </p:nvSpPr>
          <p:spPr>
            <a:xfrm>
              <a:off x="3629520" y="4907520"/>
              <a:ext cx="1959840" cy="1046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Усиление  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мотивации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обучения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_s1034"/>
            <p:cNvSpPr/>
            <p:nvPr/>
          </p:nvSpPr>
          <p:spPr>
            <a:xfrm>
              <a:off x="5451840" y="4118760"/>
              <a:ext cx="855000" cy="263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_s1035"/>
            <p:cNvSpPr/>
            <p:nvPr/>
          </p:nvSpPr>
          <p:spPr>
            <a:xfrm>
              <a:off x="6177600" y="4120560"/>
              <a:ext cx="1959840" cy="1045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Создание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проблемной</a:t>
              </a: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1" lang="en-US" sz="11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ситуации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_s1036"/>
            <p:cNvSpPr/>
            <p:nvPr/>
          </p:nvSpPr>
          <p:spPr>
            <a:xfrm flipV="1">
              <a:off x="5451840" y="3334320"/>
              <a:ext cx="855000" cy="263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_s1037"/>
            <p:cNvSpPr/>
            <p:nvPr/>
          </p:nvSpPr>
          <p:spPr>
            <a:xfrm>
              <a:off x="6174000" y="2550240"/>
              <a:ext cx="1960560" cy="1046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Привлечение</a:t>
              </a:r>
              <a:r>
                <a:rPr b="1" lang="ru-RU" sz="11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1" lang="en-US" sz="11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внимания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_s1038"/>
            <p:cNvSpPr/>
            <p:nvPr/>
          </p:nvSpPr>
          <p:spPr>
            <a:xfrm flipV="1">
              <a:off x="4605120" y="2810520"/>
              <a:ext cx="0" cy="527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_s1039"/>
            <p:cNvSpPr/>
            <p:nvPr/>
          </p:nvSpPr>
          <p:spPr>
            <a:xfrm>
              <a:off x="3626280" y="1766160"/>
              <a:ext cx="1959840" cy="10458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3366"/>
                  </a:solidFill>
                  <a:latin typeface="Arial"/>
                </a:rPr>
                <a:t>Демонстрация</a:t>
              </a:r>
              <a:endParaRPr b="1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_s1040"/>
            <p:cNvSpPr/>
            <p:nvPr/>
          </p:nvSpPr>
          <p:spPr>
            <a:xfrm>
              <a:off x="3626280" y="3337560"/>
              <a:ext cx="1959840" cy="10458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С какой </a:t>
              </a:r>
              <a:endParaRPr b="1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целью я</a:t>
              </a:r>
              <a:endParaRPr b="1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использую</a:t>
              </a:r>
              <a:endParaRPr b="1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ИКТ </a:t>
              </a:r>
              <a:endParaRPr b="1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66"/>
                  </a:solidFill>
                  <a:latin typeface="Arial"/>
                </a:rPr>
                <a:t>на уроке?</a:t>
              </a:r>
              <a:endParaRPr b="1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611280" y="3826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514800" y="395280"/>
            <a:ext cx="82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Arial"/>
              </a:rPr>
              <a:t>Триединая дидактическая цель урока: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79280" y="1125360"/>
            <a:ext cx="89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2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Образовательная цель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: восприятие  учащимися учебного     материала, осмысливание связей и отношений в объектах изучения.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Развивающая цель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: развитие познавательного интереса у учащихся, умения обобщать, анализировать, сравнивать, активизация творческой деятельности учащихся.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Воспитательная  цель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: воспитание научного мировоззрения, умения четко организовать самостоятельную и групповую работу, воспитание чувства товарищества, взаимопомощи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7" descr="Копия Швецова Нина Анатольевна"/>
          <p:cNvPicPr/>
          <p:nvPr/>
        </p:nvPicPr>
        <p:blipFill>
          <a:blip r:embed="rId1"/>
          <a:stretch/>
        </p:blipFill>
        <p:spPr>
          <a:xfrm>
            <a:off x="5076720" y="4613400"/>
            <a:ext cx="3527640" cy="2016000"/>
          </a:xfrm>
          <a:prstGeom prst="rect">
            <a:avLst/>
          </a:prstGeom>
          <a:ln w="38160">
            <a:solidFill>
              <a:srgbClr val="008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684360" y="1890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592200" y="27468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826920" y="26028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Arial"/>
              </a:rPr>
              <a:t>ИКТ помогают решить следующие дидактические задачи: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Picture 7" descr="Копия DSC05207"/>
          <p:cNvPicPr/>
          <p:nvPr/>
        </p:nvPicPr>
        <p:blipFill>
          <a:blip r:embed="rId1"/>
          <a:stretch/>
        </p:blipFill>
        <p:spPr>
          <a:xfrm>
            <a:off x="4788000" y="3429000"/>
            <a:ext cx="3960720" cy="3241800"/>
          </a:xfrm>
          <a:prstGeom prst="rect">
            <a:avLst/>
          </a:prstGeom>
          <a:ln w="38160">
            <a:solidFill>
              <a:srgbClr val="008000"/>
            </a:solidFill>
            <a:prstDash val="sysDot"/>
            <a:miter/>
          </a:ln>
        </p:spPr>
      </p:pic>
      <p:sp>
        <p:nvSpPr>
          <p:cNvPr id="179" name="Text Box 9"/>
          <p:cNvSpPr/>
          <p:nvPr/>
        </p:nvSpPr>
        <p:spPr>
          <a:xfrm>
            <a:off x="395280" y="1557360"/>
            <a:ext cx="36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50920" y="1484280"/>
            <a:ext cx="864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своить базовые знания по предмету;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истематизировать усвоенные знания;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формировать навыки самоконтроля;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формировать мотивацию к учению;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казать учебно – методическую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мощь учащимся в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амостоятельной работе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д учебным материалом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179280" y="345960"/>
            <a:ext cx="907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Arial"/>
              </a:rPr>
              <a:t>ИКТ могут  быть использованы: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755640" y="112536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для  обозначения темы урока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ак сопровождение объяснения учителя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ак информационно-обучающее пособие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для контроля знаний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 другое</a:t>
            </a:r>
            <a:r>
              <a:rPr b="0" lang="ru-RU" sz="2400" spc="-1" strike="noStrike">
                <a:solidFill>
                  <a:srgbClr val="000062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Picture 9" descr="DSC00205"/>
          <p:cNvPicPr/>
          <p:nvPr/>
        </p:nvPicPr>
        <p:blipFill>
          <a:blip r:embed="rId1"/>
          <a:stretch/>
        </p:blipFill>
        <p:spPr>
          <a:xfrm>
            <a:off x="468360" y="3459240"/>
            <a:ext cx="3821040" cy="3066840"/>
          </a:xfrm>
          <a:prstGeom prst="rect">
            <a:avLst/>
          </a:prstGeom>
          <a:ln w="38160">
            <a:solidFill>
              <a:srgbClr val="008000"/>
            </a:solidFill>
            <a:prstDash val="sysDot"/>
            <a:miter/>
          </a:ln>
        </p:spPr>
      </p:pic>
      <p:pic>
        <p:nvPicPr>
          <p:cNvPr id="184" name="Picture 10" descr="DSC00207"/>
          <p:cNvPicPr/>
          <p:nvPr/>
        </p:nvPicPr>
        <p:blipFill>
          <a:blip r:embed="rId2"/>
          <a:stretch/>
        </p:blipFill>
        <p:spPr>
          <a:xfrm>
            <a:off x="4500720" y="2421000"/>
            <a:ext cx="4038480" cy="2800440"/>
          </a:xfrm>
          <a:prstGeom prst="rect">
            <a:avLst/>
          </a:prstGeom>
          <a:ln w="38160">
            <a:solidFill>
              <a:srgbClr val="008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447840" y="345960"/>
            <a:ext cx="84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Arial"/>
              </a:rPr>
              <a:t>Пути использования ИКТ: 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179280" y="162864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оздание ярких слайдов и серий слайдов, легко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меняющих друг друга с возможностью оперативного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х редактирования;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спользование разнообразных мультипликационных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эффектов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озможность воспроизведения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идео и аудио материалов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оздание интерактивных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глядных пособий, гипертекстов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7" name="Picture 6" descr="Копия Окружающий мир"/>
          <p:cNvPicPr/>
          <p:nvPr/>
        </p:nvPicPr>
        <p:blipFill>
          <a:blip r:embed="rId1"/>
          <a:stretch/>
        </p:blipFill>
        <p:spPr>
          <a:xfrm>
            <a:off x="5364000" y="3284640"/>
            <a:ext cx="3579840" cy="2611440"/>
          </a:xfrm>
          <a:prstGeom prst="rect">
            <a:avLst/>
          </a:prstGeom>
          <a:ln w="38160">
            <a:solidFill>
              <a:srgbClr val="008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519120" y="189000"/>
            <a:ext cx="801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Arial"/>
              </a:rPr>
              <a:t>Особенности ИТК: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39640" y="105264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становление  межпредметных связей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аккуратное, яркое, четкое и цветное изображение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 экране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ысокий уровень  наглядности на уроке;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вышение производительности урока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есто учащегося всегда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свещено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ожно показать то, что не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писать или нарисовать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 доске;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логика подачи  учебного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материала;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омпьютер – инструмент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для работы, а не для игр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2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Picture 6" descr="Части тела"/>
          <p:cNvPicPr/>
          <p:nvPr/>
        </p:nvPicPr>
        <p:blipFill>
          <a:blip r:embed="rId1"/>
          <a:stretch/>
        </p:blipFill>
        <p:spPr>
          <a:xfrm>
            <a:off x="5076720" y="3068640"/>
            <a:ext cx="3600720" cy="3240000"/>
          </a:xfrm>
          <a:prstGeom prst="rect">
            <a:avLst/>
          </a:prstGeom>
          <a:ln w="38160">
            <a:solidFill>
              <a:srgbClr val="008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"/>
          <p:cNvSpPr/>
          <p:nvPr/>
        </p:nvSpPr>
        <p:spPr>
          <a:xfrm>
            <a:off x="971640" y="4372200"/>
            <a:ext cx="3529080" cy="736200"/>
          </a:xfrm>
          <a:prstGeom prst="roundRect">
            <a:avLst>
              <a:gd name="adj" fmla="val 16667"/>
            </a:avLst>
          </a:prstGeom>
          <a:solidFill>
            <a:srgbClr val="ffe4a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развитие творческих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пособностей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3571920" y="1363320"/>
            <a:ext cx="5121360" cy="533880"/>
          </a:xfrm>
          <a:prstGeom prst="roundRect">
            <a:avLst>
              <a:gd name="adj" fmla="val 16667"/>
            </a:avLst>
          </a:prstGeom>
          <a:solidFill>
            <a:srgbClr val="ffe4a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 использования ИКТ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971640" y="2859120"/>
            <a:ext cx="3539880" cy="736200"/>
          </a:xfrm>
          <a:prstGeom prst="roundRect">
            <a:avLst>
              <a:gd name="adj" fmla="val 16667"/>
            </a:avLst>
          </a:prstGeom>
          <a:solidFill>
            <a:srgbClr val="ffe4a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развитие познавательных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пособностей и мотивации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5148360" y="3579840"/>
            <a:ext cx="3743280" cy="736200"/>
          </a:xfrm>
          <a:prstGeom prst="roundRect">
            <a:avLst>
              <a:gd name="adj" fmla="val 16667"/>
            </a:avLst>
          </a:prstGeom>
          <a:solidFill>
            <a:srgbClr val="ffe4a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успешнее достигаются  цели урока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5292720" y="5235840"/>
            <a:ext cx="3557520" cy="736200"/>
          </a:xfrm>
          <a:prstGeom prst="roundRect">
            <a:avLst>
              <a:gd name="adj" fmla="val 16667"/>
            </a:avLst>
          </a:prstGeom>
          <a:solidFill>
            <a:srgbClr val="ffe4a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ормирование компетенции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в области коммуникации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 rot="1200000">
            <a:off x="3635280" y="2276640"/>
            <a:ext cx="152640" cy="4572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6877080" y="4437000"/>
            <a:ext cx="142920" cy="647640"/>
          </a:xfrm>
          <a:prstGeom prst="downArrow">
            <a:avLst>
              <a:gd name="adj1" fmla="val 50000"/>
              <a:gd name="adj2" fmla="val 113287"/>
            </a:avLst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AutoShape 9"/>
          <p:cNvSpPr/>
          <p:nvPr/>
        </p:nvSpPr>
        <p:spPr>
          <a:xfrm rot="20400000">
            <a:off x="6564240" y="2260440"/>
            <a:ext cx="171360" cy="1152720"/>
          </a:xfrm>
          <a:prstGeom prst="downArrow">
            <a:avLst>
              <a:gd name="adj1" fmla="val 49120"/>
              <a:gd name="adj2" fmla="val 103021"/>
            </a:avLst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2700360" y="3716280"/>
            <a:ext cx="142920" cy="576360"/>
          </a:xfrm>
          <a:prstGeom prst="downArrow">
            <a:avLst>
              <a:gd name="adj1" fmla="val 50000"/>
              <a:gd name="adj2" fmla="val 100819"/>
            </a:avLst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2590920" y="285840"/>
            <a:ext cx="6553080" cy="5875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Times New Roman"/>
              </a:rPr>
              <a:t>В ногу со временем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2700360" y="5229360"/>
            <a:ext cx="142920" cy="503280"/>
          </a:xfrm>
          <a:prstGeom prst="downArrow">
            <a:avLst>
              <a:gd name="adj1" fmla="val 50000"/>
              <a:gd name="adj2" fmla="val 88035"/>
            </a:avLst>
          </a:prstGeom>
          <a:solidFill>
            <a:srgbClr val="fffff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AutoShape 13"/>
          <p:cNvSpPr/>
          <p:nvPr/>
        </p:nvSpPr>
        <p:spPr>
          <a:xfrm>
            <a:off x="971640" y="5811840"/>
            <a:ext cx="3529080" cy="736200"/>
          </a:xfrm>
          <a:prstGeom prst="roundRect">
            <a:avLst>
              <a:gd name="adj" fmla="val 16667"/>
            </a:avLst>
          </a:prstGeom>
          <a:solidFill>
            <a:srgbClr val="ffe4af"/>
          </a:solidFill>
          <a:ln w="2556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вышение успеваемости 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3032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 предметам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3" name="Picture 14" descr="IMG_1697"/>
          <p:cNvPicPr/>
          <p:nvPr/>
        </p:nvPicPr>
        <p:blipFill>
          <a:blip r:embed="rId1"/>
          <a:stretch/>
        </p:blipFill>
        <p:spPr>
          <a:xfrm>
            <a:off x="250920" y="333360"/>
            <a:ext cx="2592360" cy="2087640"/>
          </a:xfrm>
          <a:prstGeom prst="rect">
            <a:avLst/>
          </a:prstGeom>
          <a:ln w="38160">
            <a:solidFill>
              <a:srgbClr val="008000"/>
            </a:solidFill>
            <a:prstDash val="sysDash"/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В Швецов</cp:lastModifiedBy>
  <dcterms:modified xsi:type="dcterms:W3CDTF">2010-10-26T11:44:01Z</dcterms:modified>
  <cp:revision>134</cp:revision>
  <dc:subject/>
  <dc:title>PowerPoint Presentation</dc:title>
</cp:coreProperties>
</file>