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2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147-86BA-4F08-A228-42AA4D05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C2F-D994-4981-B66A-291FFBF7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20B-8F15-4127-89D4-A0771242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FA1-8485-4DF4-BAC0-6DAB205A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A88-E53F-4207-94E2-ABFA934E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916-4181-41C7-9F89-27A8FE68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7B1-A7D3-4E42-B121-60272EC0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9F3-EACD-4AC4-B0D5-150292CE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D2C-77DE-427C-A6A7-6CAEC949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B12-9AB9-4E52-9AEF-D2A891CA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E84-5A2D-43BA-8CAE-7AD19BF7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810-C55E-4BFF-A86D-62BD3589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882F-12E1-4A13-BD96-B7C5DDB5F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95280" y="1773360"/>
            <a:ext cx="8424720" cy="122400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00" y="1916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КА ПРЕПОДАВАНИЯ ХИ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24000" y="3789360"/>
            <a:ext cx="4464000" cy="14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Лек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к.х.н., доц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Балдин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92360" y="3333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Уральский государственный университет им. А.М. Гор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53172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547640" y="90792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ХИМИЧЕСКИЙ ФАКУЛЬ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84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инципы дидактик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55640" y="69228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дактические принцип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положения, которые определ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00000" y="1052640"/>
            <a:ext cx="756144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ли обучения, обусловленные общественными потребност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кономерности процесса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особы использования этих закономерностей в частных методи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ловия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3203640" y="27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95280" y="2997360"/>
            <a:ext cx="8640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я обучения возрастным и индивидуальным особенностям  обучаем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емственности, последовательности и систематич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даментальности и прикладной направлен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ющего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а группового и индивидуального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нательности и творческой активности обучаем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ляд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547640" y="2997360"/>
            <a:ext cx="5977080" cy="360036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92360" y="620640"/>
            <a:ext cx="60483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ивности и надеж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енности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го эмоционального фона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обучения с жизнью, практ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и обу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анитаризаци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анизации 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уровень слож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ой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а от обучения к самообу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в быстром тем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предметные связи в обу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инципы дидактик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ИМЕРНАЯ СХЕМА НАКОПЛЕНИЯ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19120" y="836640"/>
          <a:ext cx="8229600" cy="4068720"/>
        </p:xfrm>
        <a:graphic>
          <a:graphicData uri="http://schemas.openxmlformats.org/drawingml/2006/table">
            <a:tbl>
              <a:tblPr/>
              <a:tblGrid>
                <a:gridCol w="2114640"/>
                <a:gridCol w="2987640"/>
                <a:gridCol w="3127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Calibri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Calibri"/>
                        </a:rPr>
                        <a:t>Пояснения (крите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Calibri"/>
                        </a:rPr>
                        <a:t>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удиторная работ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обсуждени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ы на задания письм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ашня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*20=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ферат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-20 ст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стир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зач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амостоятельная домашняя работ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395280" y="2133720"/>
            <a:ext cx="5032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395280" y="2133720"/>
            <a:ext cx="0" cy="266544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395280" y="4797360"/>
            <a:ext cx="5032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95280" y="3429000"/>
            <a:ext cx="5032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7667640" y="170028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7 – 9 нед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826920" y="1700280"/>
            <a:ext cx="6624720" cy="93672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 flipV="1" rot="10800000">
            <a:off x="900000" y="19695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алгоритма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900000" y="3068640"/>
            <a:ext cx="6624720" cy="100980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900000" y="3213000"/>
            <a:ext cx="6553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тематического плана урока (темы) или составление конспекта урока (те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7740720" y="3213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10 - 14 нед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900000" y="4508640"/>
            <a:ext cx="6624720" cy="79200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55640" y="4508640"/>
            <a:ext cx="655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заданий для контроль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7740720" y="4581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15 - 17 нед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5"/>
          <p:cNvSpPr/>
          <p:nvPr/>
        </p:nvSpPr>
        <p:spPr>
          <a:xfrm>
            <a:off x="395280" y="2060640"/>
            <a:ext cx="8424720" cy="230508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СИХОЛОГО-ПЕДАГОГИЧЕСКИЕ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0" y="739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ма 1. 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050920" y="1341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мет методики преподавания хим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9640" y="2276640"/>
            <a:ext cx="8066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Методика учебн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дагогическая наука, занимающаяся исследованием закономерностей обучения определенному 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Методика преподавания (обучения) хим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дагогическая наука, занимающаяся исследованием закономерностей обучения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940360" y="429264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042920" y="4869000"/>
            <a:ext cx="7274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дакти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это наука об обучении и образовании, их целях, содержании, методах, средствах, организации, достигаемых результат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55640" y="836640"/>
            <a:ext cx="78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едагогика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овокупность теоретических и прикладных наук, изучающих воспитание, образование и об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84360" y="1773360"/>
            <a:ext cx="80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Воспит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оцесс целенаправленного формирования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250920" y="98100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2360" y="1916280"/>
            <a:ext cx="358920" cy="144360"/>
          </a:xfrm>
          <a:prstGeom prst="rightArrow">
            <a:avLst>
              <a:gd name="adj1" fmla="val 50000"/>
              <a:gd name="adj2" fmla="val 62157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едагогическая наук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50920" y="256536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250920" y="515772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250920" y="443700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11280" y="2421000"/>
            <a:ext cx="77058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браз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владение обучающимися научными знаниями, практическими умениями и навыками, развитие их умственных и творческих способностей, а также мировоззрения и нравственно-этической культуры, вследствие чего они приобретают определенный образ и индивидуальное свое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684360" y="4221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бучени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передачи и усвоения знаний, умений и навыков и способов познавательной деятельност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82560" y="5013360"/>
            <a:ext cx="8137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браз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чество личности, которое характеризует ее способность использовать в своей познавательной  и практической деятельности продукты материального и духовного труда людей, руководствуясь социальными нормами и духовными цен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324000" y="2781360"/>
            <a:ext cx="8424720" cy="324000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24000" y="189000"/>
            <a:ext cx="849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реподавание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рядоченная деятельность педагога по реализации цели обучения (образовательных задач), обеспечение информирования, воспитания, осознания и практического примен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95280" y="1557360"/>
            <a:ext cx="820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Уч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роцесс (точнее, сопроцесс), в ходе которого на основе познания, упражнения и приобретенного опыта возникают новые формы поведения и деятельности, изменяются ранее приобрет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71640" y="314172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нание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а существования и систематизации результатов познавательной деятельности человека (информация, включенная в структуру лич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Ум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владение способами (приемами, действиями) применения усвоенных знаний на прак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вык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умения, доведенные до автоматизма, высокой степени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8360" y="3716280"/>
            <a:ext cx="842472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дагогический эксперим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го контролируемое педагогическое наблюдение процесса, целесообразно и планомерно осуществляе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массового сбора материала с помощью специально разработанных опросников – ан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личественные мето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т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шка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ЕДАГОГИЧЕСКИЕ МЕТОДЫ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14160" y="7650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адиционные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84360" y="1125360"/>
            <a:ext cx="48243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опыта, первоисточ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 школьной док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ученическ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еды (интервью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87600" y="321300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временные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2"/>
          <p:cNvSpPr/>
          <p:nvPr/>
        </p:nvSpPr>
        <p:spPr>
          <a:xfrm>
            <a:off x="7596360" y="765000"/>
            <a:ext cx="504720" cy="561672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1"/>
          <p:cNvSpPr/>
          <p:nvPr/>
        </p:nvSpPr>
        <p:spPr>
          <a:xfrm>
            <a:off x="826920" y="692280"/>
            <a:ext cx="505080" cy="561636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идактическая модель обучения хими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771640" y="54936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чем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о учить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771640" y="14191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чему и как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770200" y="23558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ему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484360" y="5157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де и когда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916360" y="41562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 помощи чего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635280" y="32194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627280" y="609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, 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овы результаты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4500720" y="119700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4500720" y="206064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4500720" y="2997360"/>
            <a:ext cx="0" cy="2156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4500720" y="393372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4500720" y="479736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4500720" y="580536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900000" y="969840"/>
            <a:ext cx="3589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7669080" y="907920"/>
            <a:ext cx="3589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1619280" y="9079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5796000" y="9079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1619280" y="1628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5796000" y="1628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5796000" y="256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1619280" y="256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5796000" y="3429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1619280" y="3429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5796000" y="429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1619280" y="429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5867280" y="5373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4"/>
          <p:cNvSpPr/>
          <p:nvPr/>
        </p:nvSpPr>
        <p:spPr>
          <a:xfrm>
            <a:off x="161928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5"/>
          <p:cNvSpPr/>
          <p:nvPr/>
        </p:nvSpPr>
        <p:spPr>
          <a:xfrm>
            <a:off x="5867280" y="6237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1619280" y="6237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108000" y="1052640"/>
            <a:ext cx="8856720" cy="143964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24000" y="11592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чебная, образовательная) — то, к чему стремится обучение, будущее, на которое направлены его уси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79280" y="1082520"/>
            <a:ext cx="87138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Главная цель химическо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средней школе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химически грамотной, достаточно социально и культурно развитой, профессионально компетентной личности, готовой к дальнейшему химическому образованию и самообразованию, а также к профессионализации и специа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000" y="2565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задачи школьного курса хим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95280" y="2997360"/>
            <a:ext cx="835344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научной картины окружающего мира и развитие естественнонаучного мировозз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химического мышления, умения анализировать явления окружающего мира в химических термин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пуляризация химического знания и внедрение представлений о роли химии в повседневной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экологического мышления и знакомство с современными химическими технолог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практических навыков безопасного обращения с веществами в повседневной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буждение живого интереса у школьников к изучению химии как в рамках школьной программы, так и дополн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4:40:51Z</dcterms:created>
  <dc:creator>Neorg</dc:creator>
  <dc:description/>
  <dc:language>en-US</dc:language>
  <cp:lastModifiedBy>User</cp:lastModifiedBy>
  <dcterms:modified xsi:type="dcterms:W3CDTF">2011-09-07T15:46:04Z</dcterms:modified>
  <cp:revision>48</cp:revision>
  <dc:subject/>
  <dc:title>Слайд 1</dc:title>
</cp:coreProperties>
</file>