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099-D99D-4148-8940-98DFE839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C1A-948F-40CF-930A-5BA618A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C83-B0D4-4289-9266-2694C148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C2E-98DC-4670-B9C3-21383E4F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CC1-2922-4CE7-9FEA-13989B12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65C-484B-4F76-B3B6-96A8BE47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6D2-538A-4BB2-AED4-330B352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D0C-B67C-4E82-9141-16BE8B4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43C-26B5-4BA6-83D4-1CDC88D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981-4684-49A0-AAB5-2CF4E7D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4EC-0975-4365-B902-D1F389A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EE1-1192-4673-A0F6-26B7EE8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E7CD-DDE6-4F6D-82A9-00A48A995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1773360"/>
            <a:ext cx="8424720" cy="1224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00" y="1916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КА ПРЕПОДАВАНИЯ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000" y="3789360"/>
            <a:ext cx="446400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Лек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.х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лдин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33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ральский государственный университет им. А.М. Гор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53172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547640" y="90792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ХИМИЧЕСКИЙ ФАКУЛЬ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84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55640" y="692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ложения, которые определ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00000" y="1052640"/>
            <a:ext cx="7561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и обучения, обусловленные общественными потребност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кономерности процесса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собы использования этих закономерностей в частных методи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ловия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3203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2997360"/>
            <a:ext cx="8640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я обучения возрастным и индивидуальным особенностям 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емственности, последовательности и системати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альности и прикладной направлен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юще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а группового и индивидуально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ости и творческой активности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547640" y="2997360"/>
            <a:ext cx="5977080" cy="3600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92360" y="620640"/>
            <a:ext cx="60483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ивности и наде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енности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го эмоционального фон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обучения с жизнью, пра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и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таризац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и 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сло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от обучения к само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в быстром тем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редметные связи в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МЕРНАЯ СХЕМА НАКОПЛЕНИЯ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9120" y="836640"/>
          <a:ext cx="8229600" cy="4068720"/>
        </p:xfrm>
        <a:graphic>
          <a:graphicData uri="http://schemas.openxmlformats.org/drawingml/2006/table">
            <a:tbl>
              <a:tblPr/>
              <a:tblGrid>
                <a:gridCol w="2114640"/>
                <a:gridCol w="2987640"/>
                <a:gridCol w="312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Пояснения (крите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удиторная рабо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обсужден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ы на задания пись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я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*20=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е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-20 ст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амостоятельная домашняя рабо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95280" y="213372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395280" y="2133720"/>
            <a:ext cx="0" cy="2665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95280" y="479736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95280" y="342900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667640" y="1700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7 – 9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826920" y="1700280"/>
            <a:ext cx="6624720" cy="93672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 flipV="1" rot="10800000">
            <a:off x="900000" y="19695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алгоритма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900000" y="3068640"/>
            <a:ext cx="6624720" cy="10098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900000" y="3213000"/>
            <a:ext cx="65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тематического плана урока (темы) или составление конспекта урока (т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740720" y="3213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0 - 14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900000" y="4508640"/>
            <a:ext cx="6624720" cy="7920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55640" y="4508640"/>
            <a:ext cx="65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заданий для контроль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740720" y="4581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5 - 17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395280" y="2060640"/>
            <a:ext cx="8424720" cy="230508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СИХОЛОГО-ПЕДАГОГИЧЕСКИ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739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ма 1. 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5092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методики преподавания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9640" y="2276640"/>
            <a:ext cx="8066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учебн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определенному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преподавания (обучения)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940360" y="429264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042920" y="4869000"/>
            <a:ext cx="7274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наука об обучении и образовании, их целях, содержании, методах, средствах, организации, достигаемых результа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55640" y="83664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дагогика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вокупность теоретических и прикладных наук, изучающих воспитание, образование и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4360" y="1773360"/>
            <a:ext cx="80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Воспит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оцесс целенаправленного формирован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250920" y="981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2360" y="191628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гогическая нау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50920" y="256536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250920" y="515772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250920" y="4437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11280" y="2421000"/>
            <a:ext cx="7705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владение обучающимися научными знаниями, практическими умениями и навыками, развитие их умственных и творческих способностей, а также мировоззрения и нравственно-этической культуры, вследствие чего они приобретают определенный образ и индивидуальное свое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4360" y="422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уче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ередачи и усвоения знаний, умений и навыков и способов познавательной деятельно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82560" y="5013360"/>
            <a:ext cx="81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чество личности, которое характеризует ее способность использовать в своей познавательной  и практической деятельности продукты материального и духовного труда людей, руководствуясь социальными нормами и духовными цен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24000" y="2781360"/>
            <a:ext cx="8424720" cy="3240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18900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еподавание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рядоченная деятельность педагога по реализации цели обучения (образовательных задач), обеспечение информирования, воспитания, осознания и практического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155736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ч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роцесс (точнее, сопроцесс), в ходе которого на основе познания, упражнения и приобретенного опыта возникают новые формы поведения и деятельности, изменяются ранее 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71640" y="314172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а существования и систематизации результатов познавательной деятельности человека (информация, включенная в структуру лич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Ум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владение способами (приемами, действиями) применения усвоенных знаний на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вы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умения, доведенные до автоматизма, высокой степени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716280"/>
            <a:ext cx="84247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ический эксперим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контролируемое педагогическое наблюдение процесса, целесообразно и планомерно осуществля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массового сбора материала с помощью специально разработанных опросников – ан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ичественные мето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т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ка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ЕДАГОГИЧЕСКИЕ МЕТОДЫ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14160" y="765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адицио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84360" y="1125360"/>
            <a:ext cx="4824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опыта, перво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школьн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учениче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еды (интервью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87600" y="3213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време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2"/>
          <p:cNvSpPr/>
          <p:nvPr/>
        </p:nvSpPr>
        <p:spPr>
          <a:xfrm>
            <a:off x="7596360" y="765000"/>
            <a:ext cx="504720" cy="561672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826920" y="692280"/>
            <a:ext cx="505080" cy="5616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идактическая модель обучения хими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771640" y="549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чем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о учить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71640" y="14191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чему и 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770200" y="23558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му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84360" y="51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и когда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16360" y="41562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 помощи чего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635280" y="32194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627280" y="609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,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овы результат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4500720" y="119700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4500720" y="206064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4500720" y="393372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900000" y="96984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669080" y="90792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161928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79600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61928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79600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579600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61928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79600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61928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579600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161928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5867280" y="537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161928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5867280" y="6237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619280" y="6237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108000" y="1052640"/>
            <a:ext cx="8856720" cy="143964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1592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чебная, образовательная) — то, к чему стремится обучение, будущее, на которое направлены его уси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79280" y="1082520"/>
            <a:ext cx="87138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Главная цель химическ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средней школе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химически грамотной, достаточно социально и культурно развитой, профессионально компетентной личности, готовой к дальнейшему химическому образованию и самообразованию, а также к профессионализации и спе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565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задачи школьного курса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95280" y="2997360"/>
            <a:ext cx="835344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научной картины окружающего мира и развитие естественнонаучного мировозз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химического мышления, умения анализировать явления окружающего мира в химических терми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уляризация химического знания и внедрение представлений о роли хими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экологического мышления и знакомство с современными химическими технолог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практических навыков безопасного обращения с веществам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уждение живого интереса у школьников к изучению химии как в рамках школьной программы, так и дополн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4:40:51Z</dcterms:created>
  <dc:creator>Neorg</dc:creator>
  <dc:description/>
  <dc:language>en-US</dc:language>
  <cp:lastModifiedBy>User</cp:lastModifiedBy>
  <dcterms:modified xsi:type="dcterms:W3CDTF">2011-09-07T15:46:04Z</dcterms:modified>
  <cp:revision>48</cp:revision>
  <dc:subject/>
  <dc:title>Слайд 1</dc:title>
</cp:coreProperties>
</file>