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989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792-A7C0-4AEB-A49D-35A9E2C9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E9C-19DE-425E-888F-FE6FC24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286-2509-431F-AD28-A8227D4E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CB-5C57-4685-98C5-8DD8503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FB7-9371-40BB-808C-468E23FC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19E-4258-4E63-A300-1853A70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D2C-91B2-4121-AD71-82090B2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91D-3F89-4CBB-8D82-72C8CEAB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96720"/>
            <a:ext cx="914400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A12-8850-44AE-ACDB-094EC5A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555-2D7B-48D0-8053-CBE8D44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B95-0AA5-4A07-950E-FA85C7A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158-090B-4945-A45D-02A44F6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6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9009000"/>
            <a:ext cx="3216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A2D-D9D8-490B-A9DC-CAB8D8A67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960" y="3803400"/>
            <a:ext cx="863604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инейная функция           и ее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1201" t="30406" r="49556" b="28511"/>
          <a:stretch/>
        </p:blipFill>
        <p:spPr>
          <a:xfrm>
            <a:off x="7000920" y="272880"/>
            <a:ext cx="2959200" cy="33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rcRect l="32199" t="30737" r="38693" b="26551"/>
          <a:stretch/>
        </p:blipFill>
        <p:spPr>
          <a:xfrm>
            <a:off x="360360" y="5800680"/>
            <a:ext cx="3279600" cy="3906720"/>
          </a:xfrm>
          <a:prstGeom prst="rect">
            <a:avLst/>
          </a:prstGeom>
          <a:ln w="0">
            <a:noFill/>
          </a:ln>
        </p:spPr>
      </p:pic>
      <p:pic>
        <p:nvPicPr>
          <p:cNvPr id="44" name="i-main-pic" descr="Картинка 5 из 720424"/>
          <p:cNvPicPr/>
          <p:nvPr/>
        </p:nvPicPr>
        <p:blipFill>
          <a:blip r:embed="rId3"/>
          <a:srcRect l="0" t="15084" r="0" b="0"/>
          <a:stretch/>
        </p:blipFill>
        <p:spPr>
          <a:xfrm>
            <a:off x="615960" y="482760"/>
            <a:ext cx="3666960" cy="323352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0 из 40"/>
          <p:cNvPicPr/>
          <p:nvPr/>
        </p:nvPicPr>
        <p:blipFill>
          <a:blip r:embed="rId4"/>
          <a:stretch/>
        </p:blipFill>
        <p:spPr>
          <a:xfrm>
            <a:off x="6959520" y="6024600"/>
            <a:ext cx="2506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6012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бщего в этих изображен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0 из 1195047"/>
          <p:cNvPicPr/>
          <p:nvPr/>
        </p:nvPicPr>
        <p:blipFill>
          <a:blip r:embed="rId1"/>
          <a:stretch/>
        </p:blipFill>
        <p:spPr>
          <a:xfrm>
            <a:off x="3959280" y="1206360"/>
            <a:ext cx="296208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2 из 1195047"/>
          <p:cNvPicPr/>
          <p:nvPr/>
        </p:nvPicPr>
        <p:blipFill>
          <a:blip r:embed="rId2"/>
          <a:stretch/>
        </p:blipFill>
        <p:spPr>
          <a:xfrm>
            <a:off x="7719840" y="1309680"/>
            <a:ext cx="2187720" cy="425916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5 из 11459"/>
          <p:cNvPicPr/>
          <p:nvPr/>
        </p:nvPicPr>
        <p:blipFill>
          <a:blip r:embed="rId3"/>
          <a:stretch/>
        </p:blipFill>
        <p:spPr>
          <a:xfrm>
            <a:off x="7719840" y="5881680"/>
            <a:ext cx="2160720" cy="37386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6 из 23053"/>
          <p:cNvPicPr/>
          <p:nvPr/>
        </p:nvPicPr>
        <p:blipFill>
          <a:blip r:embed="rId4"/>
          <a:stretch/>
        </p:blipFill>
        <p:spPr>
          <a:xfrm>
            <a:off x="279360" y="4427640"/>
            <a:ext cx="2960640" cy="286380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720424"/>
          <p:cNvPicPr/>
          <p:nvPr/>
        </p:nvPicPr>
        <p:blipFill>
          <a:blip r:embed="rId5"/>
          <a:srcRect l="0" t="23942" r="0" b="0"/>
          <a:stretch/>
        </p:blipFill>
        <p:spPr>
          <a:xfrm>
            <a:off x="279360" y="1309680"/>
            <a:ext cx="2879640" cy="29574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11 из 28716"/>
          <p:cNvPicPr/>
          <p:nvPr/>
        </p:nvPicPr>
        <p:blipFill>
          <a:blip r:embed="rId6"/>
          <a:stretch/>
        </p:blipFill>
        <p:spPr>
          <a:xfrm>
            <a:off x="4038480" y="6815160"/>
            <a:ext cx="2870280" cy="280044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23 из 28716"/>
          <p:cNvPicPr/>
          <p:nvPr/>
        </p:nvPicPr>
        <p:blipFill>
          <a:blip r:embed="rId7"/>
          <a:stretch/>
        </p:blipFill>
        <p:spPr>
          <a:xfrm>
            <a:off x="4038480" y="3906720"/>
            <a:ext cx="2801880" cy="279252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1 из 22190"/>
          <p:cNvPicPr/>
          <p:nvPr/>
        </p:nvPicPr>
        <p:blipFill>
          <a:blip r:embed="rId8"/>
          <a:stretch/>
        </p:blipFill>
        <p:spPr>
          <a:xfrm>
            <a:off x="279360" y="7408800"/>
            <a:ext cx="2960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396720"/>
            <a:ext cx="624816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м различие рисун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31876"/>
          <p:cNvPicPr/>
          <p:nvPr/>
        </p:nvPicPr>
        <p:blipFill>
          <a:blip r:embed="rId1"/>
          <a:stretch/>
        </p:blipFill>
        <p:spPr>
          <a:xfrm>
            <a:off x="360360" y="6192720"/>
            <a:ext cx="4000680" cy="320544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17 из 101124"/>
          <p:cNvPicPr/>
          <p:nvPr/>
        </p:nvPicPr>
        <p:blipFill>
          <a:blip r:embed="rId2"/>
          <a:stretch/>
        </p:blipFill>
        <p:spPr>
          <a:xfrm>
            <a:off x="5799240" y="5675400"/>
            <a:ext cx="4122720" cy="401472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35 из 101124"/>
          <p:cNvPicPr/>
          <p:nvPr/>
        </p:nvPicPr>
        <p:blipFill>
          <a:blip r:embed="rId3"/>
          <a:stretch/>
        </p:blipFill>
        <p:spPr>
          <a:xfrm>
            <a:off x="3398760" y="5361120"/>
            <a:ext cx="2932200" cy="3046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67 из 101124"/>
          <p:cNvPicPr/>
          <p:nvPr/>
        </p:nvPicPr>
        <p:blipFill>
          <a:blip r:embed="rId4"/>
          <a:stretch/>
        </p:blipFill>
        <p:spPr>
          <a:xfrm>
            <a:off x="360360" y="2349360"/>
            <a:ext cx="36226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6 из 701638"/>
          <p:cNvPicPr/>
          <p:nvPr/>
        </p:nvPicPr>
        <p:blipFill>
          <a:blip r:embed="rId5"/>
          <a:stretch/>
        </p:blipFill>
        <p:spPr>
          <a:xfrm>
            <a:off x="6680160" y="2728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44 из 101124"/>
          <p:cNvPicPr/>
          <p:nvPr/>
        </p:nvPicPr>
        <p:blipFill>
          <a:blip r:embed="rId6"/>
          <a:stretch/>
        </p:blipFill>
        <p:spPr>
          <a:xfrm>
            <a:off x="3479760" y="2349360"/>
            <a:ext cx="288144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3 из 28716"/>
          <p:cNvPicPr/>
          <p:nvPr/>
        </p:nvPicPr>
        <p:blipFill>
          <a:blip r:embed="rId7"/>
          <a:srcRect l="0" t="14734" r="0" b="0"/>
          <a:stretch/>
        </p:blipFill>
        <p:spPr>
          <a:xfrm>
            <a:off x="6600960" y="3284640"/>
            <a:ext cx="3382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3360" y="228600"/>
            <a:ext cx="105919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 - 36"/>
              </a:rPr>
              <a:t>Линейная функция     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 - 36"/>
              </a:rPr>
              <a:t>у=кх+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952560"/>
            <a:ext cx="2919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возраст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51240" y="984240"/>
            <a:ext cx="3166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у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517920" y="963720"/>
            <a:ext cx="10287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постоя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SOfficePNG"/>
          <p:cNvPicPr/>
          <p:nvPr/>
        </p:nvPicPr>
        <p:blipFill>
          <a:blip r:embed="rId1"/>
          <a:stretch/>
        </p:blipFill>
        <p:spPr>
          <a:xfrm>
            <a:off x="749160" y="147312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SOfficePNG"/>
          <p:cNvPicPr/>
          <p:nvPr/>
        </p:nvPicPr>
        <p:blipFill>
          <a:blip r:embed="rId2"/>
          <a:stretch/>
        </p:blipFill>
        <p:spPr>
          <a:xfrm>
            <a:off x="4000680" y="1411200"/>
            <a:ext cx="193500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SOfficePNG"/>
          <p:cNvPicPr/>
          <p:nvPr/>
        </p:nvPicPr>
        <p:blipFill>
          <a:blip r:embed="rId3"/>
          <a:stretch/>
        </p:blipFill>
        <p:spPr>
          <a:xfrm>
            <a:off x="7429680" y="1397160"/>
            <a:ext cx="17301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SOfficePNG"/>
          <p:cNvPicPr/>
          <p:nvPr/>
        </p:nvPicPr>
        <p:blipFill>
          <a:blip r:embed="rId4"/>
          <a:stretch/>
        </p:blipFill>
        <p:spPr>
          <a:xfrm>
            <a:off x="774720" y="3530520"/>
            <a:ext cx="19731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SOfficePNG"/>
          <p:cNvPicPr/>
          <p:nvPr/>
        </p:nvPicPr>
        <p:blipFill>
          <a:blip r:embed="rId5"/>
          <a:stretch/>
        </p:blipFill>
        <p:spPr>
          <a:xfrm>
            <a:off x="4025880" y="3390840"/>
            <a:ext cx="1928880" cy="189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MSOfficePNG"/>
          <p:cNvPicPr/>
          <p:nvPr/>
        </p:nvPicPr>
        <p:blipFill>
          <a:blip r:embed="rId6"/>
          <a:stretch/>
        </p:blipFill>
        <p:spPr>
          <a:xfrm>
            <a:off x="7404120" y="3301920"/>
            <a:ext cx="1924200" cy="188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114480" y="1447920"/>
            <a:ext cx="101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41600" y="341640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27080" y="345276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505320" y="142236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921360" y="149688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781680" y="337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90440" y="7493040"/>
            <a:ext cx="9804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 - 20"/>
              </a:rPr>
              <a:t>Задание.</a:t>
            </a:r>
            <a:r>
              <a:rPr b="1" lang="ru-RU" sz="2900" spc="-1" strike="noStrike">
                <a:solidFill>
                  <a:srgbClr val="000000"/>
                </a:solidFill>
                <a:latin typeface="Times New Roman - 20"/>
              </a:rPr>
              <a:t> Схематично изобразите соответствующие графики  функц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9" descr="MSOfficePNG"/>
          <p:cNvPicPr/>
          <p:nvPr/>
        </p:nvPicPr>
        <p:blipFill>
          <a:blip r:embed="rId7"/>
          <a:stretch/>
        </p:blipFill>
        <p:spPr>
          <a:xfrm>
            <a:off x="825480" y="5613480"/>
            <a:ext cx="181944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MSOfficePNG"/>
          <p:cNvPicPr/>
          <p:nvPr/>
        </p:nvPicPr>
        <p:blipFill>
          <a:blip r:embed="rId8"/>
          <a:stretch/>
        </p:blipFill>
        <p:spPr>
          <a:xfrm>
            <a:off x="4038480" y="5602320"/>
            <a:ext cx="187668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MSOfficePNG"/>
          <p:cNvPicPr/>
          <p:nvPr/>
        </p:nvPicPr>
        <p:blipFill>
          <a:blip r:embed="rId9"/>
          <a:stretch/>
        </p:blipFill>
        <p:spPr>
          <a:xfrm>
            <a:off x="7391520" y="5537160"/>
            <a:ext cx="1876320" cy="1846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152280" y="554832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40080" y="551196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667560" y="544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SOfficePNG(5)"/>
          <p:cNvPicPr/>
          <p:nvPr/>
        </p:nvPicPr>
        <p:blipFill>
          <a:blip r:embed="rId1"/>
          <a:stretch/>
        </p:blipFill>
        <p:spPr>
          <a:xfrm>
            <a:off x="317520" y="4324320"/>
            <a:ext cx="3073320" cy="283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SOfficePNG(6)"/>
          <p:cNvPicPr/>
          <p:nvPr/>
        </p:nvPicPr>
        <p:blipFill>
          <a:blip r:embed="rId2"/>
          <a:stretch/>
        </p:blipFill>
        <p:spPr>
          <a:xfrm>
            <a:off x="3567240" y="1633680"/>
            <a:ext cx="2908080" cy="284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SOfficePNG(7)"/>
          <p:cNvPicPr/>
          <p:nvPr/>
        </p:nvPicPr>
        <p:blipFill>
          <a:blip r:embed="rId3"/>
          <a:stretch/>
        </p:blipFill>
        <p:spPr>
          <a:xfrm>
            <a:off x="6813720" y="4775040"/>
            <a:ext cx="2709720" cy="2721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760" y="88920"/>
            <a:ext cx="610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5240" y="495360"/>
            <a:ext cx="92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 - 24"/>
              </a:rPr>
              <a:t>Задание.</a:t>
            </a:r>
            <a:r>
              <a:rPr b="0" lang="ru-RU" sz="3300" spc="-1" strike="noStrike">
                <a:solidFill>
                  <a:srgbClr val="800080"/>
                </a:solidFill>
                <a:latin typeface="Times New Roman - 24"/>
              </a:rPr>
              <a:t> </a:t>
            </a:r>
            <a:r>
              <a:rPr b="0" lang="ru-RU" sz="2900" spc="-1" strike="noStrike">
                <a:solidFill>
                  <a:srgbClr val="800080"/>
                </a:solidFill>
                <a:latin typeface="Times New Roman - 22"/>
              </a:rPr>
              <a:t>Сравните угловые коэффициенты прямы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483760" y="4330800"/>
            <a:ext cx="58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43600" y="170640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2000" y="4216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933640" y="486396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639960" y="18511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118440" y="454644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7520" y="3848040"/>
            <a:ext cx="3352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5880" y="7672320"/>
            <a:ext cx="4114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 1 "круче" граф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578640" y="2489040"/>
            <a:ext cx="4038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симметричны относительно оси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47600" y="1776240"/>
            <a:ext cx="2540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1  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98400" y="7315200"/>
            <a:ext cx="23115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587920" y="4430880"/>
            <a:ext cx="23623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SOfficePNG(4)"/>
          <p:cNvPicPr/>
          <p:nvPr/>
        </p:nvPicPr>
        <p:blipFill>
          <a:blip r:embed="rId1"/>
          <a:stretch/>
        </p:blipFill>
        <p:spPr>
          <a:xfrm>
            <a:off x="6838920" y="1494000"/>
            <a:ext cx="1962360" cy="24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MSOfficePNG(1)"/>
          <p:cNvPicPr/>
          <p:nvPr/>
        </p:nvPicPr>
        <p:blipFill>
          <a:blip r:embed="rId2"/>
          <a:stretch/>
        </p:blipFill>
        <p:spPr>
          <a:xfrm>
            <a:off x="1111320" y="1276200"/>
            <a:ext cx="2370240" cy="26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SOfficePNG(2)"/>
          <p:cNvPicPr/>
          <p:nvPr/>
        </p:nvPicPr>
        <p:blipFill>
          <a:blip r:embed="rId3"/>
          <a:stretch/>
        </p:blipFill>
        <p:spPr>
          <a:xfrm>
            <a:off x="1168560" y="4290840"/>
            <a:ext cx="2171520" cy="258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SOfficePNG(3)"/>
          <p:cNvPicPr/>
          <p:nvPr/>
        </p:nvPicPr>
        <p:blipFill>
          <a:blip r:embed="rId4"/>
          <a:stretch/>
        </p:blipFill>
        <p:spPr>
          <a:xfrm>
            <a:off x="4070520" y="4336920"/>
            <a:ext cx="1931760" cy="238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SOfficePNG(3)"/>
          <p:cNvPicPr/>
          <p:nvPr/>
        </p:nvPicPr>
        <p:blipFill>
          <a:blip r:embed="rId5"/>
          <a:stretch/>
        </p:blipFill>
        <p:spPr>
          <a:xfrm>
            <a:off x="6978600" y="4324320"/>
            <a:ext cx="1932120" cy="239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165240" y="63360"/>
            <a:ext cx="4292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7600" y="519120"/>
            <a:ext cx="8280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 - 28"/>
              </a:rPr>
              <a:t>Установите соответствие между графиком линейной функции и ее форм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SOfficePNG(4)"/>
          <p:cNvPicPr/>
          <p:nvPr/>
        </p:nvPicPr>
        <p:blipFill>
          <a:blip r:embed="rId6"/>
          <a:stretch/>
        </p:blipFill>
        <p:spPr>
          <a:xfrm>
            <a:off x="4235400" y="1415880"/>
            <a:ext cx="1962360" cy="2408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8039160" y="7253280"/>
            <a:ext cx="2031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32520" y="7289640"/>
            <a:ext cx="215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394160" y="7327800"/>
            <a:ext cx="1879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-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641680" y="7353360"/>
            <a:ext cx="2006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+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244520" y="7378560"/>
            <a:ext cx="165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76320" y="7404120"/>
            <a:ext cx="1473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5960" y="156168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ы понял сегодня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го ты сегодня не понял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выполнении каких заданий ты ошибся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ажи причины успехов и неудач сво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вам дало изучение понятия  линейная фун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 смысл сегодняшнего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39960" y="165240"/>
            <a:ext cx="6769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Из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указанных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букв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остави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ло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п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теме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«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Линейн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фун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685800" y="3809880"/>
            <a:ext cx="1595520" cy="11415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4840" y="3897360"/>
            <a:ext cx="1270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2476440" y="3822840"/>
            <a:ext cx="1596960" cy="11430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4299120" y="381492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717480" y="55198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607680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2482920" y="553068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>
            <a:off x="4349880" y="5519880"/>
            <a:ext cx="1596960" cy="113976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6153120" y="55054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55800" y="3925800"/>
            <a:ext cx="17528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Ф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673520" y="39369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527880" y="3949560"/>
            <a:ext cx="1549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Г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079640" y="56134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870280" y="56260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749840" y="56386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642000" y="5638680"/>
            <a:ext cx="14986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792468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8255160" y="3936960"/>
            <a:ext cx="1625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Я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1"/>
          <p:cNvSpPr/>
          <p:nvPr/>
        </p:nvSpPr>
        <p:spPr>
          <a:xfrm>
            <a:off x="8026560" y="549108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8318520" y="55767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У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23:34:56Z</dcterms:created>
  <dc:creator>Пользователь</dc:creator>
  <dc:description/>
  <dc:language>en-US</dc:language>
  <cp:lastModifiedBy>Коля</cp:lastModifiedBy>
  <dcterms:modified xsi:type="dcterms:W3CDTF">2013-03-26T17:13:47Z</dcterms:modified>
  <cp:revision>6</cp:revision>
  <dc:subject/>
  <dc:title>График линейной функции</dc:title>
</cp:coreProperties>
</file>