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9893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BF0-F971-4206-8476-8664C2E1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571860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A75-A20E-42EE-9DDA-B73D42A0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C5D-697C-411B-B1DB-0324636B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30796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30796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571860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571860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571860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727-CAF4-4FF2-9767-F13BFAE6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30796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EA1-19FA-4E4C-B1D5-DF7E0268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07A-B653-49E1-A2B9-99371CE1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C2E-8FD8-470A-A38B-B77605E6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95A-A89C-44CE-AA2F-E89E672E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96720"/>
            <a:ext cx="9144000" cy="76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5AC-62EE-4971-A899-421AD1CF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605-AD71-426B-82EB-F9817806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AB1-12CD-4E01-8C25-5AF491D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571860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AEB-B49B-418E-AEC1-6EAFE49E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30796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68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9009000"/>
            <a:ext cx="23702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9009000"/>
            <a:ext cx="32162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9009000"/>
            <a:ext cx="23702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8E6C-3A17-4927-8915-0616834CE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960" y="3803400"/>
            <a:ext cx="863604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инейная функция           и ее граф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21201" t="30406" r="49556" b="28511"/>
          <a:stretch/>
        </p:blipFill>
        <p:spPr>
          <a:xfrm>
            <a:off x="7000920" y="272880"/>
            <a:ext cx="2959200" cy="33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rcRect l="32199" t="30737" r="38693" b="26551"/>
          <a:stretch/>
        </p:blipFill>
        <p:spPr>
          <a:xfrm>
            <a:off x="360360" y="5800680"/>
            <a:ext cx="3279600" cy="3906720"/>
          </a:xfrm>
          <a:prstGeom prst="rect">
            <a:avLst/>
          </a:prstGeom>
          <a:ln w="0">
            <a:noFill/>
          </a:ln>
        </p:spPr>
      </p:pic>
      <p:pic>
        <p:nvPicPr>
          <p:cNvPr id="44" name="i-main-pic" descr="Картинка 5 из 720424"/>
          <p:cNvPicPr/>
          <p:nvPr/>
        </p:nvPicPr>
        <p:blipFill>
          <a:blip r:embed="rId3"/>
          <a:srcRect l="0" t="15084" r="0" b="0"/>
          <a:stretch/>
        </p:blipFill>
        <p:spPr>
          <a:xfrm>
            <a:off x="615960" y="482760"/>
            <a:ext cx="3666960" cy="323352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0 из 40"/>
          <p:cNvPicPr/>
          <p:nvPr/>
        </p:nvPicPr>
        <p:blipFill>
          <a:blip r:embed="rId4"/>
          <a:stretch/>
        </p:blipFill>
        <p:spPr>
          <a:xfrm>
            <a:off x="6959520" y="6024600"/>
            <a:ext cx="2506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60120" cy="15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общего в этих изображения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-main-pic" descr="Картинка 10 из 1195047"/>
          <p:cNvPicPr/>
          <p:nvPr/>
        </p:nvPicPr>
        <p:blipFill>
          <a:blip r:embed="rId1"/>
          <a:stretch/>
        </p:blipFill>
        <p:spPr>
          <a:xfrm>
            <a:off x="3959280" y="1206360"/>
            <a:ext cx="2962080" cy="256392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12 из 1195047"/>
          <p:cNvPicPr/>
          <p:nvPr/>
        </p:nvPicPr>
        <p:blipFill>
          <a:blip r:embed="rId2"/>
          <a:stretch/>
        </p:blipFill>
        <p:spPr>
          <a:xfrm>
            <a:off x="7719840" y="1309680"/>
            <a:ext cx="2187720" cy="4259160"/>
          </a:xfrm>
          <a:prstGeom prst="rect">
            <a:avLst/>
          </a:prstGeom>
          <a:ln w="0">
            <a:noFill/>
          </a:ln>
        </p:spPr>
      </p:pic>
      <p:pic>
        <p:nvPicPr>
          <p:cNvPr id="49" name="i-main-pic" descr="Картинка 5 из 11459"/>
          <p:cNvPicPr/>
          <p:nvPr/>
        </p:nvPicPr>
        <p:blipFill>
          <a:blip r:embed="rId3"/>
          <a:stretch/>
        </p:blipFill>
        <p:spPr>
          <a:xfrm>
            <a:off x="7719840" y="5881680"/>
            <a:ext cx="2160720" cy="3738600"/>
          </a:xfrm>
          <a:prstGeom prst="rect">
            <a:avLst/>
          </a:prstGeom>
          <a:ln w="0">
            <a:noFill/>
          </a:ln>
        </p:spPr>
      </p:pic>
      <p:pic>
        <p:nvPicPr>
          <p:cNvPr id="50" name="i-main-pic" descr="Картинка 6 из 23053"/>
          <p:cNvPicPr/>
          <p:nvPr/>
        </p:nvPicPr>
        <p:blipFill>
          <a:blip r:embed="rId4"/>
          <a:stretch/>
        </p:blipFill>
        <p:spPr>
          <a:xfrm>
            <a:off x="279360" y="4427640"/>
            <a:ext cx="2960640" cy="2863800"/>
          </a:xfrm>
          <a:prstGeom prst="rect">
            <a:avLst/>
          </a:prstGeom>
          <a:ln w="0">
            <a:noFill/>
          </a:ln>
        </p:spPr>
      </p:pic>
      <p:pic>
        <p:nvPicPr>
          <p:cNvPr id="51" name="i-main-pic" descr="Картинка 5 из 720424"/>
          <p:cNvPicPr/>
          <p:nvPr/>
        </p:nvPicPr>
        <p:blipFill>
          <a:blip r:embed="rId5"/>
          <a:srcRect l="0" t="23942" r="0" b="0"/>
          <a:stretch/>
        </p:blipFill>
        <p:spPr>
          <a:xfrm>
            <a:off x="279360" y="1309680"/>
            <a:ext cx="2879640" cy="2957400"/>
          </a:xfrm>
          <a:prstGeom prst="rect">
            <a:avLst/>
          </a:prstGeom>
          <a:ln w="0">
            <a:noFill/>
          </a:ln>
        </p:spPr>
      </p:pic>
      <p:pic>
        <p:nvPicPr>
          <p:cNvPr id="52" name="i-main-pic" descr="Картинка 11 из 28716"/>
          <p:cNvPicPr/>
          <p:nvPr/>
        </p:nvPicPr>
        <p:blipFill>
          <a:blip r:embed="rId6"/>
          <a:stretch/>
        </p:blipFill>
        <p:spPr>
          <a:xfrm>
            <a:off x="4038480" y="6815160"/>
            <a:ext cx="2870280" cy="2800440"/>
          </a:xfrm>
          <a:prstGeom prst="rect">
            <a:avLst/>
          </a:prstGeom>
          <a:ln w="0">
            <a:noFill/>
          </a:ln>
        </p:spPr>
      </p:pic>
      <p:pic>
        <p:nvPicPr>
          <p:cNvPr id="53" name="i-main-pic" descr="Картинка 23 из 28716"/>
          <p:cNvPicPr/>
          <p:nvPr/>
        </p:nvPicPr>
        <p:blipFill>
          <a:blip r:embed="rId7"/>
          <a:stretch/>
        </p:blipFill>
        <p:spPr>
          <a:xfrm>
            <a:off x="4038480" y="3906720"/>
            <a:ext cx="2801880" cy="279252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31 из 22190"/>
          <p:cNvPicPr/>
          <p:nvPr/>
        </p:nvPicPr>
        <p:blipFill>
          <a:blip r:embed="rId8"/>
          <a:stretch/>
        </p:blipFill>
        <p:spPr>
          <a:xfrm>
            <a:off x="279360" y="7408800"/>
            <a:ext cx="29606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396720"/>
            <a:ext cx="624816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м различие рисун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2 из 31876"/>
          <p:cNvPicPr/>
          <p:nvPr/>
        </p:nvPicPr>
        <p:blipFill>
          <a:blip r:embed="rId1"/>
          <a:stretch/>
        </p:blipFill>
        <p:spPr>
          <a:xfrm>
            <a:off x="360360" y="6192720"/>
            <a:ext cx="4000680" cy="3205440"/>
          </a:xfrm>
          <a:prstGeom prst="rect">
            <a:avLst/>
          </a:prstGeom>
          <a:ln w="0">
            <a:noFill/>
          </a:ln>
        </p:spPr>
      </p:pic>
      <p:pic>
        <p:nvPicPr>
          <p:cNvPr id="57" name="i-main-pic" descr="Картинка 17 из 101124"/>
          <p:cNvPicPr/>
          <p:nvPr/>
        </p:nvPicPr>
        <p:blipFill>
          <a:blip r:embed="rId2"/>
          <a:stretch/>
        </p:blipFill>
        <p:spPr>
          <a:xfrm>
            <a:off x="5799240" y="5675400"/>
            <a:ext cx="4122720" cy="4014720"/>
          </a:xfrm>
          <a:prstGeom prst="rect">
            <a:avLst/>
          </a:prstGeom>
          <a:ln w="0">
            <a:noFill/>
          </a:ln>
        </p:spPr>
      </p:pic>
      <p:pic>
        <p:nvPicPr>
          <p:cNvPr id="58" name="i-main-pic" descr="Картинка 35 из 101124"/>
          <p:cNvPicPr/>
          <p:nvPr/>
        </p:nvPicPr>
        <p:blipFill>
          <a:blip r:embed="rId3"/>
          <a:stretch/>
        </p:blipFill>
        <p:spPr>
          <a:xfrm>
            <a:off x="3398760" y="5361120"/>
            <a:ext cx="2932200" cy="304632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67 из 101124"/>
          <p:cNvPicPr/>
          <p:nvPr/>
        </p:nvPicPr>
        <p:blipFill>
          <a:blip r:embed="rId4"/>
          <a:stretch/>
        </p:blipFill>
        <p:spPr>
          <a:xfrm>
            <a:off x="360360" y="2349360"/>
            <a:ext cx="3622680" cy="352908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6 из 701638"/>
          <p:cNvPicPr/>
          <p:nvPr/>
        </p:nvPicPr>
        <p:blipFill>
          <a:blip r:embed="rId5"/>
          <a:stretch/>
        </p:blipFill>
        <p:spPr>
          <a:xfrm>
            <a:off x="6680160" y="272880"/>
            <a:ext cx="3200400" cy="2924280"/>
          </a:xfrm>
          <a:prstGeom prst="rect">
            <a:avLst/>
          </a:prstGeom>
          <a:ln w="0">
            <a:noFill/>
          </a:ln>
        </p:spPr>
      </p:pic>
      <p:pic>
        <p:nvPicPr>
          <p:cNvPr id="61" name="i-main-pic" descr="Картинка 44 из 101124"/>
          <p:cNvPicPr/>
          <p:nvPr/>
        </p:nvPicPr>
        <p:blipFill>
          <a:blip r:embed="rId6"/>
          <a:stretch/>
        </p:blipFill>
        <p:spPr>
          <a:xfrm>
            <a:off x="3479760" y="2349360"/>
            <a:ext cx="288144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i-main-pic" descr="Картинка 3 из 28716"/>
          <p:cNvPicPr/>
          <p:nvPr/>
        </p:nvPicPr>
        <p:blipFill>
          <a:blip r:embed="rId7"/>
          <a:srcRect l="0" t="14734" r="0" b="0"/>
          <a:stretch/>
        </p:blipFill>
        <p:spPr>
          <a:xfrm>
            <a:off x="6600960" y="3284640"/>
            <a:ext cx="33829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3360" y="228600"/>
            <a:ext cx="105919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 - 36"/>
              </a:rPr>
              <a:t>Линейная функция      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 - 36"/>
              </a:rPr>
              <a:t>у=кх+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952560"/>
            <a:ext cx="2919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- 28"/>
              </a:rPr>
              <a:t>возраста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351240" y="984240"/>
            <a:ext cx="3166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- 28"/>
              </a:rPr>
              <a:t>убыв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517920" y="963720"/>
            <a:ext cx="10287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- 28"/>
              </a:rPr>
              <a:t>постоя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MSOfficePNG"/>
          <p:cNvPicPr/>
          <p:nvPr/>
        </p:nvPicPr>
        <p:blipFill>
          <a:blip r:embed="rId1"/>
          <a:stretch/>
        </p:blipFill>
        <p:spPr>
          <a:xfrm>
            <a:off x="749160" y="147312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SOfficePNG"/>
          <p:cNvPicPr/>
          <p:nvPr/>
        </p:nvPicPr>
        <p:blipFill>
          <a:blip r:embed="rId2"/>
          <a:stretch/>
        </p:blipFill>
        <p:spPr>
          <a:xfrm>
            <a:off x="4000680" y="1411200"/>
            <a:ext cx="1935000" cy="190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MSOfficePNG"/>
          <p:cNvPicPr/>
          <p:nvPr/>
        </p:nvPicPr>
        <p:blipFill>
          <a:blip r:embed="rId3"/>
          <a:stretch/>
        </p:blipFill>
        <p:spPr>
          <a:xfrm>
            <a:off x="7429680" y="1397160"/>
            <a:ext cx="17301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MSOfficePNG"/>
          <p:cNvPicPr/>
          <p:nvPr/>
        </p:nvPicPr>
        <p:blipFill>
          <a:blip r:embed="rId4"/>
          <a:stretch/>
        </p:blipFill>
        <p:spPr>
          <a:xfrm>
            <a:off x="774720" y="3530520"/>
            <a:ext cx="1973160" cy="194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SOfficePNG"/>
          <p:cNvPicPr/>
          <p:nvPr/>
        </p:nvPicPr>
        <p:blipFill>
          <a:blip r:embed="rId5"/>
          <a:stretch/>
        </p:blipFill>
        <p:spPr>
          <a:xfrm>
            <a:off x="4025880" y="3390840"/>
            <a:ext cx="1928880" cy="189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MSOfficePNG"/>
          <p:cNvPicPr/>
          <p:nvPr/>
        </p:nvPicPr>
        <p:blipFill>
          <a:blip r:embed="rId6"/>
          <a:stretch/>
        </p:blipFill>
        <p:spPr>
          <a:xfrm>
            <a:off x="7404120" y="3301920"/>
            <a:ext cx="1924200" cy="1889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114480" y="1447920"/>
            <a:ext cx="1015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441600" y="3416400"/>
            <a:ext cx="10922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&lt;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l&lt;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27080" y="3452760"/>
            <a:ext cx="1041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 &gt;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l&lt;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505320" y="142236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921360" y="149688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781680" y="337824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190440" y="7493040"/>
            <a:ext cx="9804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 - 20"/>
              </a:rPr>
              <a:t>Задание.</a:t>
            </a:r>
            <a:r>
              <a:rPr b="1" lang="ru-RU" sz="2900" spc="-1" strike="noStrike">
                <a:solidFill>
                  <a:srgbClr val="000000"/>
                </a:solidFill>
                <a:latin typeface="Times New Roman - 20"/>
              </a:rPr>
              <a:t> Схематично изобразите соответствующие графики  функц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9" descr="MSOfficePNG"/>
          <p:cNvPicPr/>
          <p:nvPr/>
        </p:nvPicPr>
        <p:blipFill>
          <a:blip r:embed="rId7"/>
          <a:stretch/>
        </p:blipFill>
        <p:spPr>
          <a:xfrm>
            <a:off x="825480" y="5613480"/>
            <a:ext cx="1819440" cy="178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MSOfficePNG"/>
          <p:cNvPicPr/>
          <p:nvPr/>
        </p:nvPicPr>
        <p:blipFill>
          <a:blip r:embed="rId8"/>
          <a:stretch/>
        </p:blipFill>
        <p:spPr>
          <a:xfrm>
            <a:off x="4038480" y="5602320"/>
            <a:ext cx="1876680" cy="184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MSOfficePNG"/>
          <p:cNvPicPr/>
          <p:nvPr/>
        </p:nvPicPr>
        <p:blipFill>
          <a:blip r:embed="rId9"/>
          <a:stretch/>
        </p:blipFill>
        <p:spPr>
          <a:xfrm>
            <a:off x="7391520" y="5537160"/>
            <a:ext cx="1876320" cy="1846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152280" y="5548320"/>
            <a:ext cx="1041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 &gt;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 - 26"/>
              </a:rPr>
              <a:t>=</a:t>
            </a: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3340080" y="5511960"/>
            <a:ext cx="10922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&lt;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 - 26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667560" y="544824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SOfficePNG(5)"/>
          <p:cNvPicPr/>
          <p:nvPr/>
        </p:nvPicPr>
        <p:blipFill>
          <a:blip r:embed="rId1"/>
          <a:stretch/>
        </p:blipFill>
        <p:spPr>
          <a:xfrm>
            <a:off x="317520" y="4324320"/>
            <a:ext cx="3073320" cy="283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MSOfficePNG(6)"/>
          <p:cNvPicPr/>
          <p:nvPr/>
        </p:nvPicPr>
        <p:blipFill>
          <a:blip r:embed="rId2"/>
          <a:stretch/>
        </p:blipFill>
        <p:spPr>
          <a:xfrm>
            <a:off x="3567240" y="1633680"/>
            <a:ext cx="2908080" cy="284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SOfficePNG(7)"/>
          <p:cNvPicPr/>
          <p:nvPr/>
        </p:nvPicPr>
        <p:blipFill>
          <a:blip r:embed="rId3"/>
          <a:stretch/>
        </p:blipFill>
        <p:spPr>
          <a:xfrm>
            <a:off x="6813720" y="4775040"/>
            <a:ext cx="2709720" cy="2721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760" y="88920"/>
            <a:ext cx="6108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4"/>
              </a:rPr>
              <a:t>График линейн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5240" y="495360"/>
            <a:ext cx="921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 - 24"/>
              </a:rPr>
              <a:t>Задание.</a:t>
            </a:r>
            <a:r>
              <a:rPr b="0" lang="ru-RU" sz="3300" spc="-1" strike="noStrike">
                <a:solidFill>
                  <a:srgbClr val="800080"/>
                </a:solidFill>
                <a:latin typeface="Times New Roman - 24"/>
              </a:rPr>
              <a:t> </a:t>
            </a:r>
            <a:r>
              <a:rPr b="0" lang="ru-RU" sz="2900" spc="-1" strike="noStrike">
                <a:solidFill>
                  <a:srgbClr val="800080"/>
                </a:solidFill>
                <a:latin typeface="Times New Roman - 22"/>
              </a:rPr>
              <a:t>Сравните угловые коэффициенты прямы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8483760" y="4330800"/>
            <a:ext cx="583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943600" y="170640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2000" y="4216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933640" y="486396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639960" y="18511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9118440" y="454644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17520" y="3848040"/>
            <a:ext cx="3352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Графики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095880" y="7672320"/>
            <a:ext cx="4114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График 1 "круче" график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578640" y="2489040"/>
            <a:ext cx="4038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Графики симметричны относительно оси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047600" y="1776240"/>
            <a:ext cx="25401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imes New Roman - 18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18"/>
              </a:rPr>
              <a:t>1      </a:t>
            </a:r>
            <a:r>
              <a:rPr b="0" lang="ru-RU" sz="5100" spc="-1" strike="noStrike">
                <a:solidFill>
                  <a:srgbClr val="000000"/>
                </a:solidFill>
                <a:latin typeface="Times New Roman - 18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18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98400" y="7315200"/>
            <a:ext cx="23115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24"/>
              </a:rPr>
              <a:t>1    </a:t>
            </a:r>
            <a:r>
              <a:rPr b="0" lang="ru-RU" sz="51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587920" y="4430880"/>
            <a:ext cx="23623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500" spc="-1" strike="noStrike" baseline="-25000">
                <a:solidFill>
                  <a:srgbClr val="000000"/>
                </a:solidFill>
                <a:latin typeface="Times New Roman - 24"/>
              </a:rPr>
              <a:t>1    </a:t>
            </a:r>
            <a:r>
              <a:rPr b="0" lang="ru-RU" sz="53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500" spc="-1" strike="noStrike" baseline="-25000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MSOfficePNG(4)"/>
          <p:cNvPicPr/>
          <p:nvPr/>
        </p:nvPicPr>
        <p:blipFill>
          <a:blip r:embed="rId1"/>
          <a:stretch/>
        </p:blipFill>
        <p:spPr>
          <a:xfrm>
            <a:off x="6838920" y="1494000"/>
            <a:ext cx="1962360" cy="240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MSOfficePNG(1)"/>
          <p:cNvPicPr/>
          <p:nvPr/>
        </p:nvPicPr>
        <p:blipFill>
          <a:blip r:embed="rId2"/>
          <a:stretch/>
        </p:blipFill>
        <p:spPr>
          <a:xfrm>
            <a:off x="1111320" y="1276200"/>
            <a:ext cx="2370240" cy="263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SOfficePNG(2)"/>
          <p:cNvPicPr/>
          <p:nvPr/>
        </p:nvPicPr>
        <p:blipFill>
          <a:blip r:embed="rId3"/>
          <a:stretch/>
        </p:blipFill>
        <p:spPr>
          <a:xfrm>
            <a:off x="1168560" y="4290840"/>
            <a:ext cx="2171520" cy="258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SOfficePNG(3)"/>
          <p:cNvPicPr/>
          <p:nvPr/>
        </p:nvPicPr>
        <p:blipFill>
          <a:blip r:embed="rId4"/>
          <a:stretch/>
        </p:blipFill>
        <p:spPr>
          <a:xfrm>
            <a:off x="4070520" y="4336920"/>
            <a:ext cx="1931760" cy="238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SOfficePNG(3)"/>
          <p:cNvPicPr/>
          <p:nvPr/>
        </p:nvPicPr>
        <p:blipFill>
          <a:blip r:embed="rId5"/>
          <a:stretch/>
        </p:blipFill>
        <p:spPr>
          <a:xfrm>
            <a:off x="6978600" y="4324320"/>
            <a:ext cx="1932120" cy="2390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165240" y="63360"/>
            <a:ext cx="4292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 - 24"/>
              </a:rPr>
              <a:t>График линейной фун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47600" y="519120"/>
            <a:ext cx="82807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 - 28"/>
              </a:rPr>
              <a:t>Установите соответствие между графиком линейной функции и ее форму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SOfficePNG(4)"/>
          <p:cNvPicPr/>
          <p:nvPr/>
        </p:nvPicPr>
        <p:blipFill>
          <a:blip r:embed="rId6"/>
          <a:stretch/>
        </p:blipFill>
        <p:spPr>
          <a:xfrm>
            <a:off x="4235400" y="1415880"/>
            <a:ext cx="1962360" cy="2408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8039160" y="7253280"/>
            <a:ext cx="2031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 - 36"/>
              </a:rPr>
              <a:t>у=-2х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032520" y="7289640"/>
            <a:ext cx="2158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 - 36"/>
              </a:rPr>
              <a:t>у=-2х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394160" y="7327800"/>
            <a:ext cx="18795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 - 36"/>
              </a:rPr>
              <a:t>у=2х-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641680" y="7353360"/>
            <a:ext cx="20066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 - 36"/>
              </a:rPr>
              <a:t>у=2х+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244520" y="7378560"/>
            <a:ext cx="165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 - 36"/>
              </a:rPr>
              <a:t>у=-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76320" y="7404120"/>
            <a:ext cx="1473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 - 36"/>
              </a:rPr>
              <a:t>у=2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5960" y="156168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ы понял сегодня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го ты сегодня не понял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 выполнении каких заданий ты ошибся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кажи причины успехов и неудач свое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вам дало изучение понятия  линейная функ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 смысл сегодняшнего ур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839960" y="165240"/>
            <a:ext cx="6769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Из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указанных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букв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состави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сло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по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теме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«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Линейн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функц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685800" y="3809880"/>
            <a:ext cx="1595520" cy="114156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104840" y="3897360"/>
            <a:ext cx="1270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2476440" y="3822840"/>
            <a:ext cx="1596960" cy="11430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"/>
          <p:cNvSpPr/>
          <p:nvPr/>
        </p:nvSpPr>
        <p:spPr>
          <a:xfrm>
            <a:off x="4299120" y="3814920"/>
            <a:ext cx="1595160" cy="1143000"/>
          </a:xfrm>
          <a:custGeom>
            <a:avLst/>
            <a:gdLst>
              <a:gd name="textAreaLeft" fmla="*/ 0 w 1595160"/>
              <a:gd name="textAreaRight" fmla="*/ 1595520 w 15951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717480" y="5519880"/>
            <a:ext cx="1595520" cy="113976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6076800" y="3814920"/>
            <a:ext cx="1595520" cy="114300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2482920" y="5530680"/>
            <a:ext cx="1595520" cy="114300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0"/>
          <p:cNvSpPr/>
          <p:nvPr/>
        </p:nvSpPr>
        <p:spPr>
          <a:xfrm>
            <a:off x="4349880" y="5519880"/>
            <a:ext cx="1596960" cy="113976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6153120" y="5505480"/>
            <a:ext cx="1595520" cy="113976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2755800" y="3925800"/>
            <a:ext cx="17528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Ф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673520" y="3936960"/>
            <a:ext cx="16257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А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6527880" y="3949560"/>
            <a:ext cx="15494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Г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079640" y="5613480"/>
            <a:ext cx="16509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870280" y="5626080"/>
            <a:ext cx="16509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749840" y="5638680"/>
            <a:ext cx="16509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642000" y="5638680"/>
            <a:ext cx="14986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7924680" y="3814920"/>
            <a:ext cx="1595520" cy="114300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8255160" y="3936960"/>
            <a:ext cx="1625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Я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1"/>
          <p:cNvSpPr/>
          <p:nvPr/>
        </p:nvSpPr>
        <p:spPr>
          <a:xfrm>
            <a:off x="8026560" y="5491080"/>
            <a:ext cx="1595160" cy="1143000"/>
          </a:xfrm>
          <a:custGeom>
            <a:avLst/>
            <a:gdLst>
              <a:gd name="textAreaLeft" fmla="*/ 0 w 1595160"/>
              <a:gd name="textAreaRight" fmla="*/ 1595520 w 15951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8318520" y="5576760"/>
            <a:ext cx="16257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У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23:34:56Z</dcterms:created>
  <dc:creator>Пользователь</dc:creator>
  <dc:description/>
  <dc:language>en-US</dc:language>
  <cp:lastModifiedBy>Коля</cp:lastModifiedBy>
  <dcterms:modified xsi:type="dcterms:W3CDTF">2013-03-26T17:13:47Z</dcterms:modified>
  <cp:revision>6</cp:revision>
  <dc:subject/>
  <dc:title>График линейной функции</dc:title>
</cp:coreProperties>
</file>