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DB45-0CCA-46F3-A789-ED7980245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6274-EBE1-4862-96E9-B06CF530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81F9-F6CE-489E-86AA-36D63D45A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C1B6-A3BB-4A80-9821-A240D5B06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9663-D2F5-4C3B-995E-02A37AAB0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A7AE-2E2A-477D-A229-F3F1AE48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082B-4215-4E2C-BBFB-B5B07721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D951-5ABB-4BD9-A00A-74B8945D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404C-9C46-47FF-A47A-718CC403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ACF8-B3D5-4A43-84AA-2177517F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05EE-D6F6-45CA-88EF-6653AE06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E759-E3E3-434C-8B23-0E89E022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7031-A9B5-45EF-B015-EA3C8107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DD1E-9E60-4D2F-8B3C-ACF2CDB0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3BD4-E0ED-4BA7-92E1-BF1642E0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F2CF-BB04-46D0-B610-9AA45F607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61E3-A71A-4B58-8D15-A273198D3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7AC7-1BA7-42F9-88BD-98A21519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446E-3B6B-42A3-BA40-39211D0F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BA98-3BCE-4CD7-B027-DD9C5E06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C709-9697-4B63-BEA2-92C07B6E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8500-F619-4EB9-AB73-23F00F18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B7A1-1439-44A8-99A5-D0FDC39B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EA62-CA93-4F94-98CE-38C31EC7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24FB-FBEB-4BD7-91C3-1E34C7439DB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5DF6-E6DE-4DD1-8685-D27E107E08F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2916000" cy="4105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rcRect l="16377" t="0" r="-7727" b="27551"/>
          <a:stretch/>
        </p:blipFill>
        <p:spPr>
          <a:xfrm>
            <a:off x="4191120" y="1981080"/>
            <a:ext cx="4495680" cy="4343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1295280" y="914400"/>
            <a:ext cx="634392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руд    облагораживает          челове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6666"/>
                </a:solidFill>
                <a:latin typeface="Arial"/>
              </a:rPr>
              <a:t>Термины – это слова, точно обозначающие понятия той или иной наук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429000"/>
            <a:ext cx="3124080" cy="1828800"/>
          </a:xfrm>
          <a:prstGeom prst="octagon">
            <a:avLst>
              <a:gd name="adj" fmla="val 2928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3366"/>
                </a:solidFill>
                <a:latin typeface="Arial"/>
              </a:rPr>
              <a:t>Математи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3352320"/>
            <a:ext cx="457200" cy="2286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666520" y="5029200"/>
            <a:ext cx="762120" cy="763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5181480"/>
            <a:ext cx="609480" cy="2286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2438280" y="3352320"/>
            <a:ext cx="609840" cy="2286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7578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Какая профессия и специальность?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- подберите к  данной профессии профессиональные слова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0" t="2586" r="0" b="-26437"/>
          <a:stretch/>
        </p:blipFill>
        <p:spPr>
          <a:xfrm>
            <a:off x="838080" y="2286000"/>
            <a:ext cx="419112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kk-KZ" sz="3200" spc="-1" strike="noStrike">
                <a:solidFill>
                  <a:srgbClr val="006666"/>
                </a:solidFill>
                <a:latin typeface="Times New Roman"/>
              </a:rPr>
              <a:t>“</a:t>
            </a:r>
            <a:r>
              <a:rPr b="1" lang="kk-KZ" sz="3200" spc="-1" strike="noStrike">
                <a:solidFill>
                  <a:srgbClr val="006666"/>
                </a:solidFill>
                <a:latin typeface="Times New Roman"/>
              </a:rPr>
              <a:t>Малая Третьяковк</a:t>
            </a: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а»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Презентация рисунков.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Задание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- отобразить на рисунке слова, имеющие несколько значени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4964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3352320"/>
            <a:ext cx="762012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3366"/>
                </a:solidFill>
                <a:latin typeface="Times New Roman"/>
              </a:rPr>
              <a:t>Задание: правильно вписать в перфокарт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ы </a:t>
            </a:r>
            <a:r>
              <a:rPr b="1" lang="kk-KZ" sz="2400" spc="-1" strike="noStrike">
                <a:solidFill>
                  <a:srgbClr val="003366"/>
                </a:solidFill>
                <a:latin typeface="Times New Roman"/>
              </a:rPr>
              <a:t>слова в </a:t>
            </a:r>
            <a:br>
              <a:rPr sz="2400"/>
            </a:br>
            <a:r>
              <a:rPr b="1" lang="kk-KZ" sz="2400" spc="-1" strike="noStrike">
                <a:solidFill>
                  <a:srgbClr val="003366"/>
                </a:solidFill>
                <a:latin typeface="Times New Roman"/>
              </a:rPr>
              <a:t>прямом и переносном значении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kk-KZ" sz="2400" spc="-1" strike="noStrike">
                <a:solidFill>
                  <a:srgbClr val="003366"/>
                </a:solidFill>
                <a:latin typeface="Times New Roman"/>
              </a:rPr>
              <a:t>Золотая осень, стальные нервы, золотые часы, каменный дом, горькая правда, золотой характер,стальные ворота, каменное сердце, теплое утро, теплые слова, серебряный голос, серебряная ложка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990720" y="4800600"/>
          <a:ext cx="7010280" cy="1133640"/>
        </p:xfrm>
        <a:graphic>
          <a:graphicData uri="http://schemas.openxmlformats.org/drawingml/2006/table">
            <a:tbl>
              <a:tblPr/>
              <a:tblGrid>
                <a:gridCol w="3504960"/>
                <a:gridCol w="3505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ямое значение (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ервичное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ереносное значение (вторичное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Золотые часы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Золотой характе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99840" y="10666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6666"/>
                </a:solidFill>
                <a:latin typeface="Times New Roman"/>
              </a:rPr>
              <a:t>Слов в русском языке столько, сколько звезд на небе.                   </a:t>
            </a:r>
            <a:br>
              <a:rPr sz="3200"/>
            </a:br>
            <a:r>
              <a:rPr b="1" lang="kk-KZ" sz="3200" spc="-1" strike="noStrike">
                <a:solidFill>
                  <a:srgbClr val="006666"/>
                </a:solidFill>
                <a:latin typeface="Times New Roman"/>
              </a:rPr>
              <a:t>                          Л. Успенск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76240" y="7621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3366"/>
                </a:solidFill>
                <a:latin typeface="Comic Sans MS"/>
              </a:rPr>
              <a:t>Лексика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3366"/>
                </a:solidFill>
                <a:latin typeface="Comic Sans MS"/>
              </a:rPr>
              <a:t>Однозначные и многозначные слова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3366"/>
                </a:solidFill>
                <a:latin typeface="Comic Sans MS"/>
              </a:rPr>
              <a:t>Прямое и переносное значение.                  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бщеупотребительные слова. Термины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066680" y="2819160"/>
            <a:ext cx="7543800" cy="16761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901"/>
              </a:spcBef>
              <a:buClr>
                <a:srgbClr val="0033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общеупотребительные слов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2286000"/>
            <a:ext cx="91440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3366"/>
                </a:solidFill>
                <a:latin typeface="Arial"/>
              </a:rPr>
              <a:t>дом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38880" y="4038480"/>
            <a:ext cx="91440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3366"/>
                </a:solidFill>
                <a:latin typeface="Arial"/>
              </a:rPr>
              <a:t>сто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4038480"/>
            <a:ext cx="152388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3366"/>
                </a:solidFill>
                <a:latin typeface="Arial"/>
              </a:rPr>
              <a:t>дру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4114800"/>
            <a:ext cx="1905120" cy="13716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3366"/>
                </a:solidFill>
                <a:latin typeface="Arial"/>
              </a:rPr>
              <a:t>магазин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3809880"/>
            <a:ext cx="91440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3366"/>
                </a:solidFill>
                <a:latin typeface="Arial"/>
              </a:rPr>
              <a:t>хлеб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2286000"/>
            <a:ext cx="91440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1371600" y="2590920"/>
            <a:ext cx="6311880" cy="2145960"/>
            <a:chOff x="1371600" y="2590920"/>
            <a:chExt cx="6311880" cy="2145960"/>
          </a:xfrm>
        </p:grpSpPr>
        <p:sp>
          <p:nvSpPr>
            <p:cNvPr id="113" name=""/>
            <p:cNvSpPr/>
            <p:nvPr/>
          </p:nvSpPr>
          <p:spPr>
            <a:xfrm>
              <a:off x="5870880" y="2733480"/>
              <a:ext cx="1812600" cy="1143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3366"/>
                  </a:solidFill>
                  <a:latin typeface="Times New Roman"/>
                </a:rPr>
                <a:t>палитра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30880" y="3592440"/>
              <a:ext cx="2004840" cy="11426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3366"/>
                  </a:solidFill>
                  <a:latin typeface="Times New Roman"/>
                </a:rPr>
                <a:t>акварель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11240" y="3592440"/>
              <a:ext cx="1979640" cy="11444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3366"/>
                  </a:solidFill>
                  <a:latin typeface="Times New Roman"/>
                </a:rPr>
                <a:t>холст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71600" y="2733480"/>
              <a:ext cx="2081160" cy="1143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3366"/>
                  </a:solidFill>
                  <a:latin typeface="Times New Roman"/>
                </a:rPr>
                <a:t>мольберт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70880" y="2590920"/>
              <a:ext cx="2889360" cy="11412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Times New Roman"/>
                </a:rPr>
                <a:t>ХУДОЖНИК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фессиональные слов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Профессиональные слова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3366"/>
                </a:solidFill>
                <a:latin typeface="Arial"/>
              </a:rPr>
              <a:t>Задание группам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kk-KZ" sz="2000" spc="-1" strike="noStrike">
                <a:solidFill>
                  <a:srgbClr val="003366"/>
                </a:solidFill>
                <a:latin typeface="Arial"/>
              </a:rPr>
              <a:t>-  найдите и выпишите в тетрадь профессиональные слова, соответствующие названию вашей команд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kk-KZ" sz="2400" spc="-1" strike="noStrike">
                <a:solidFill>
                  <a:srgbClr val="003366"/>
                </a:solidFill>
                <a:latin typeface="Arial"/>
              </a:rPr>
              <a:t>Градусник, мел, журнал, кирпич, бетон, бинт, указка, лекарство, витамины, песок, гвоздь, краска, вата, цемент, урок, учебник, линейка, тонометр, молоток, рецеп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Фонетический разбор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2209680"/>
            <a:ext cx="2971800" cy="1447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3366"/>
                </a:solidFill>
                <a:latin typeface="Times New Roman"/>
              </a:rPr>
              <a:t>рецеп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2133720"/>
            <a:ext cx="2819520" cy="15238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3366"/>
                </a:solidFill>
                <a:latin typeface="Times New Roman"/>
              </a:rPr>
              <a:t>указк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4343400"/>
            <a:ext cx="3657600" cy="18288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3366"/>
                </a:solidFill>
                <a:latin typeface="Times New Roman"/>
              </a:rPr>
              <a:t>гвозд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63280" y="4060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kk-KZ" sz="2000" spc="-1" strike="noStrike">
                <a:solidFill>
                  <a:srgbClr val="006666"/>
                </a:solidFill>
                <a:latin typeface="Arial"/>
              </a:rPr>
              <a:t>Лингвистическое исследование” </a:t>
            </a:r>
            <a:br>
              <a:rPr sz="2000"/>
            </a:br>
            <a:r>
              <a:rPr b="1" lang="kk-KZ" sz="2000" spc="-1" strike="noStrike">
                <a:solidFill>
                  <a:srgbClr val="006666"/>
                </a:solidFill>
                <a:latin typeface="Arial"/>
              </a:rPr>
              <a:t>Задание группам </a:t>
            </a:r>
            <a:br>
              <a:rPr sz="2000"/>
            </a:br>
            <a:r>
              <a:rPr b="1" lang="kk-KZ" sz="2000" spc="-1" strike="noStrike">
                <a:solidFill>
                  <a:srgbClr val="006666"/>
                </a:solidFill>
                <a:latin typeface="Arial"/>
              </a:rPr>
              <a:t>- найти в толковом и терминологическом словарях</a:t>
            </a:r>
            <a:br>
              <a:rPr sz="2000"/>
            </a:br>
            <a:r>
              <a:rPr b="1" lang="kk-KZ" sz="2000" spc="-1" strike="noStrike">
                <a:solidFill>
                  <a:srgbClr val="006666"/>
                </a:solidFill>
                <a:latin typeface="Arial"/>
              </a:rPr>
              <a:t>определение данных слов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914400" y="2285640"/>
            <a:ext cx="12725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Общеупотребительные сло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Профессиональные сло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Термин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Терминолог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дежда</cp:lastModifiedBy>
  <dcterms:modified xsi:type="dcterms:W3CDTF">2012-04-15T19:44:07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