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D79-E73C-43A5-A166-4AC95EA7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DC7-EE0B-4A40-976E-F36811E4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E28-680C-4056-81AF-0DCE4964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D3F-0D2A-41F7-B420-9BB48582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F1CA-7608-49BE-8B01-4A0B2AE7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459D-CAFE-42D8-AEE6-A6C0210D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579C-F9B0-4499-B311-7427000E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AC2C-1258-4025-8FC4-AF95B442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D906-8F71-43AD-8C3C-DD6C20EE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CE84-C524-48B0-BFEF-FCF7E8DB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EF52-7CAC-4E27-8314-C7FC66A9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C06-210E-42A5-A846-24E2F7BC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D4BE-80EA-4EF3-BDF1-8DF0BAB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3971-8045-4F70-AE28-7C53CA5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F98E-4F70-444C-88DB-0813F53F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77CD-EC17-44D0-A865-22EBD5FC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90B3-D4B3-43B2-8D3D-E2527DA3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74D-A196-41E5-9EA9-64E401D9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FA6-DF7E-4610-9CE6-08559B1E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3D2-EDA5-4A60-B0B5-95C8A725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9E4-E82C-4F9D-A3AF-2ABC8A12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729-B5EC-44F3-BC67-CFD432E8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1B0-AB6F-425F-A502-95E61088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37B-01A8-4F2D-AA00-BCFEC5F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676C-6BB0-4781-B743-79419494984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1F59-13D0-4A77-9139-075B758A790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291600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16377" t="0" r="-7727" b="27551"/>
          <a:stretch/>
        </p:blipFill>
        <p:spPr>
          <a:xfrm>
            <a:off x="4191120" y="1981080"/>
            <a:ext cx="4495680" cy="434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295280" y="914400"/>
            <a:ext cx="6343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уд    облагораживает          челове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Термины – это слова, точно обозначающие понятия той или иной нау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429000"/>
            <a:ext cx="3124080" cy="1828800"/>
          </a:xfrm>
          <a:prstGeom prst="octagon">
            <a:avLst>
              <a:gd name="adj" fmla="val 2928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66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3352320"/>
            <a:ext cx="45720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666520" y="5029200"/>
            <a:ext cx="76212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181480"/>
            <a:ext cx="60948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438280" y="3352320"/>
            <a:ext cx="6098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78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Какая профессия и специальность?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- подберите к  данной профессии профессиональные слов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2586" r="0" b="-26437"/>
          <a:stretch/>
        </p:blipFill>
        <p:spPr>
          <a:xfrm>
            <a:off x="838080" y="2286000"/>
            <a:ext cx="41911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Малая Третьяковк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а»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Презентация рисунков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Задание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отобразить на рисунке слова, имеющие несколько значен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496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352320"/>
            <a:ext cx="762012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Задание: правильно вписать в перфокар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ы </a:t>
            </a: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слова в </a:t>
            </a:r>
            <a:br>
              <a:rPr sz="2400"/>
            </a:b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прямом и переносном значении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Золотая осень, стальные нервы, золотые часы, каменный дом, горькая правда, золотой характер,стальные ворота, каменное сердце, теплое утро, теплые слова, серебряный голос, серебряная ложк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90720" y="4800600"/>
          <a:ext cx="7010280" cy="113364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ямое значение (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вичное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еносное значение (вторичное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олотые час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олотой характ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Слов в русском языке столько, сколько звезд на небе.                   </a:t>
            </a: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                          Л. Успенск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6240" y="762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Comic Sans MS"/>
              </a:rPr>
              <a:t>Лексик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Comic Sans MS"/>
              </a:rPr>
              <a:t>Однозначные и многозначные слов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Comic Sans MS"/>
              </a:rPr>
              <a:t>Прямое и переносное значение.                 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щеупотребительные слова. Термины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066680" y="2819160"/>
            <a:ext cx="7543800" cy="1676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бщеупотребительные сло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2860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40384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сто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4038480"/>
            <a:ext cx="15238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114800"/>
            <a:ext cx="1905120" cy="1371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магаз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8098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хле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2860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371600" y="2590920"/>
            <a:ext cx="6311880" cy="2145960"/>
            <a:chOff x="1371600" y="2590920"/>
            <a:chExt cx="6311880" cy="2145960"/>
          </a:xfrm>
        </p:grpSpPr>
        <p:sp>
          <p:nvSpPr>
            <p:cNvPr id="113" name=""/>
            <p:cNvSpPr/>
            <p:nvPr/>
          </p:nvSpPr>
          <p:spPr>
            <a:xfrm>
              <a:off x="5870880" y="2733480"/>
              <a:ext cx="1812600" cy="114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палитр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30880" y="3592440"/>
              <a:ext cx="2004840" cy="114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акварель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11240" y="3592440"/>
              <a:ext cx="1979640" cy="1144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холс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1600" y="2733480"/>
              <a:ext cx="2081160" cy="114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мольбер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0880" y="2590920"/>
              <a:ext cx="2889360" cy="1141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ХУДОЖНИК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фессиональные сло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Профессиональные слов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Arial"/>
              </a:rPr>
              <a:t>Задание группам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3366"/>
                </a:solidFill>
                <a:latin typeface="Arial"/>
              </a:rPr>
              <a:t>-  найдите и выпишите в тетрадь профессиональные слова, соответствующие названию вашей коман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3366"/>
                </a:solidFill>
                <a:latin typeface="Arial"/>
              </a:rPr>
              <a:t>Градусник, мел, журнал, кирпич, бетон, бинт, указка, лекарство, витамины, песок, гвоздь, краска, вата, цемент, урок, учебник, линейка, тонометр, молоток, рецеп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Фонетический разб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209680"/>
            <a:ext cx="2971800" cy="1447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66"/>
                </a:solidFill>
                <a:latin typeface="Times New Roman"/>
              </a:rPr>
              <a:t>рецеп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133720"/>
            <a:ext cx="281952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66"/>
                </a:solidFill>
                <a:latin typeface="Times New Roman"/>
              </a:rPr>
              <a:t>указ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343400"/>
            <a:ext cx="3657600" cy="1828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66"/>
                </a:solidFill>
                <a:latin typeface="Times New Roman"/>
              </a:rPr>
              <a:t>гвозд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63280" y="4060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Лингвистическое исследование” </a:t>
            </a:r>
            <a:br>
              <a:rPr sz="2000"/>
            </a:b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Задание группам </a:t>
            </a:r>
            <a:br>
              <a:rPr sz="2000"/>
            </a:b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- найти в толковом и терминологическом словарях</a:t>
            </a:r>
            <a:br>
              <a:rPr sz="2000"/>
            </a:b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определение данных сл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2285640"/>
            <a:ext cx="12725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Общеупотребительны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Профессиональны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ерми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ерминоло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2-04-15T19:44:0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