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253-BAAC-49E7-A015-EB689AC8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FC4-28BC-4458-82D5-072BDC3A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A07-DBDC-4788-8AEE-58BE05C0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251-8A02-44BD-B3A1-18864F19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1165-2941-4491-BF98-5DA10C97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681F-0612-4FB0-8563-39FE155C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0276-565D-4EE7-BF3B-877F5F28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E031-2A44-41A9-9557-9E9A1E8D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4193-0DDC-4A7B-8B1C-99133EC5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0CE8-F4CA-4081-AD88-B55F4C49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3453-A5D5-40F4-BE17-00A2F806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C19-30D2-46C6-864B-5FBF5391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1352-F4F4-4921-86A3-9970C070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2B18-56E4-4A8E-A6EA-C0D02A8B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E1CD-000C-4769-B977-CD0C41B0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1165-F62E-4E92-9FAF-F37595DD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15FA-E9BF-4B1E-A591-0269C6E0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900-1CD0-4409-96B3-71C81CAA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313-AC8B-4FA7-9262-4C47EA32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AE0-928F-4DE6-B06F-D3B7CA9E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141-531F-4297-BB21-2C718568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26A-593F-4227-B66C-AC5E09DF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64B-2E85-4585-8781-A9F60A23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928-9CC3-4FBB-8F58-A7289146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2607-3CE7-45D0-8792-7A17E951D25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9BFD-6A4E-4798-A658-648BFEB686F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291600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16377" t="0" r="-7727" b="27551"/>
          <a:stretch/>
        </p:blipFill>
        <p:spPr>
          <a:xfrm>
            <a:off x="4191120" y="1981080"/>
            <a:ext cx="4495680" cy="4343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295280" y="914400"/>
            <a:ext cx="634392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руд    облагораживает          челове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Термины – это слова, точно обозначающие понятия той или иной нау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429000"/>
            <a:ext cx="3124080" cy="1828800"/>
          </a:xfrm>
          <a:prstGeom prst="octagon">
            <a:avLst>
              <a:gd name="adj" fmla="val 2928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3366"/>
                </a:solidFill>
                <a:latin typeface="Arial"/>
              </a:rPr>
              <a:t>Математ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3352320"/>
            <a:ext cx="45720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666520" y="5029200"/>
            <a:ext cx="762120" cy="7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181480"/>
            <a:ext cx="60948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2438280" y="3352320"/>
            <a:ext cx="60984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578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Какая профессия и специальность?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- подберите к  данной профессии профессиональные слов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2586" r="0" b="-26437"/>
          <a:stretch/>
        </p:blipFill>
        <p:spPr>
          <a:xfrm>
            <a:off x="838080" y="2286000"/>
            <a:ext cx="41911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kk-KZ" sz="3200" spc="-1" strike="noStrike">
                <a:solidFill>
                  <a:srgbClr val="006666"/>
                </a:solidFill>
                <a:latin typeface="Times New Roman"/>
              </a:rPr>
              <a:t>“</a:t>
            </a:r>
            <a:r>
              <a:rPr b="1" lang="kk-KZ" sz="3200" spc="-1" strike="noStrike">
                <a:solidFill>
                  <a:srgbClr val="006666"/>
                </a:solidFill>
                <a:latin typeface="Times New Roman"/>
              </a:rPr>
              <a:t>Малая Третьяковк</a:t>
            </a: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а»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Презентация рисунков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Задание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 отобразить на рисунке слова, имеющие несколько значен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496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352320"/>
            <a:ext cx="762012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Times New Roman"/>
              </a:rPr>
              <a:t>Задание: правильно вписать в перфокарт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ы </a:t>
            </a:r>
            <a:r>
              <a:rPr b="1" lang="kk-KZ" sz="2400" spc="-1" strike="noStrike">
                <a:solidFill>
                  <a:srgbClr val="003366"/>
                </a:solidFill>
                <a:latin typeface="Times New Roman"/>
              </a:rPr>
              <a:t>слова в </a:t>
            </a:r>
            <a:br>
              <a:rPr sz="2400"/>
            </a:br>
            <a:r>
              <a:rPr b="1" lang="kk-KZ" sz="2400" spc="-1" strike="noStrike">
                <a:solidFill>
                  <a:srgbClr val="003366"/>
                </a:solidFill>
                <a:latin typeface="Times New Roman"/>
              </a:rPr>
              <a:t>прямом и переносном значении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kk-KZ" sz="2400" spc="-1" strike="noStrike">
                <a:solidFill>
                  <a:srgbClr val="003366"/>
                </a:solidFill>
                <a:latin typeface="Times New Roman"/>
              </a:rPr>
              <a:t>Золотая осень, стальные нервы, золотые часы, каменный дом, горькая правда, золотой характер,стальные ворота, каменное сердце, теплое утро, теплые слова, серебряный голос, серебряная ложк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90720" y="4800600"/>
          <a:ext cx="7010280" cy="1133640"/>
        </p:xfrm>
        <a:graphic>
          <a:graphicData uri="http://schemas.openxmlformats.org/drawingml/2006/table">
            <a:tbl>
              <a:tblPr/>
              <a:tblGrid>
                <a:gridCol w="3504960"/>
                <a:gridCol w="3505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ямое значение (</a:t>
                      </a: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ервичное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ереносное значение (вторичное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олотые час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Золотой характе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10666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6666"/>
                </a:solidFill>
                <a:latin typeface="Times New Roman"/>
              </a:rPr>
              <a:t>Слов в русском языке столько, сколько звезд на небе.                   </a:t>
            </a:r>
            <a:br>
              <a:rPr sz="3200"/>
            </a:br>
            <a:r>
              <a:rPr b="1" lang="kk-KZ" sz="3200" spc="-1" strike="noStrike">
                <a:solidFill>
                  <a:srgbClr val="006666"/>
                </a:solidFill>
                <a:latin typeface="Times New Roman"/>
              </a:rPr>
              <a:t>                          Л. Успенск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6240" y="7621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Comic Sans MS"/>
              </a:rPr>
              <a:t>Лексик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Comic Sans MS"/>
              </a:rPr>
              <a:t>Однозначные и многозначные слов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Comic Sans MS"/>
              </a:rPr>
              <a:t>Прямое и переносное значение.                 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бщеупотребительные слова. Термины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066680" y="2819160"/>
            <a:ext cx="7543800" cy="16761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901"/>
              </a:spcBef>
              <a:buClr>
                <a:srgbClr val="0033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общеупотребительные слов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28600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до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403848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сто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4038480"/>
            <a:ext cx="152388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друг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114800"/>
            <a:ext cx="1905120" cy="13716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магази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80988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хле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228600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1371600" y="2590920"/>
            <a:ext cx="6311880" cy="2145960"/>
            <a:chOff x="1371600" y="2590920"/>
            <a:chExt cx="6311880" cy="2145960"/>
          </a:xfrm>
        </p:grpSpPr>
        <p:sp>
          <p:nvSpPr>
            <p:cNvPr id="113" name=""/>
            <p:cNvSpPr/>
            <p:nvPr/>
          </p:nvSpPr>
          <p:spPr>
            <a:xfrm>
              <a:off x="5870880" y="2733480"/>
              <a:ext cx="1812600" cy="1143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3366"/>
                  </a:solidFill>
                  <a:latin typeface="Times New Roman"/>
                </a:rPr>
                <a:t>палитра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30880" y="3592440"/>
              <a:ext cx="2004840" cy="1142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3366"/>
                  </a:solidFill>
                  <a:latin typeface="Times New Roman"/>
                </a:rPr>
                <a:t>акварель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11240" y="3592440"/>
              <a:ext cx="1979640" cy="11444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3366"/>
                  </a:solidFill>
                  <a:latin typeface="Times New Roman"/>
                </a:rPr>
                <a:t>холст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71600" y="2733480"/>
              <a:ext cx="2081160" cy="1143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3366"/>
                  </a:solidFill>
                  <a:latin typeface="Times New Roman"/>
                </a:rPr>
                <a:t>мольберт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0880" y="2590920"/>
              <a:ext cx="2889360" cy="11412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Times New Roman"/>
                </a:rPr>
                <a:t>ХУДОЖНИК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фессиональные сло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Профессиональные слов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Arial"/>
              </a:rPr>
              <a:t>Задание группам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kk-KZ" sz="2000" spc="-1" strike="noStrike">
                <a:solidFill>
                  <a:srgbClr val="003366"/>
                </a:solidFill>
                <a:latin typeface="Arial"/>
              </a:rPr>
              <a:t>-  найдите и выпишите в тетрадь профессиональные слова, соответствующие названию вашей команд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kk-KZ" sz="2400" spc="-1" strike="noStrike">
                <a:solidFill>
                  <a:srgbClr val="003366"/>
                </a:solidFill>
                <a:latin typeface="Arial"/>
              </a:rPr>
              <a:t>Градусник, мел, журнал, кирпич, бетон, бинт, указка, лекарство, витамины, песок, гвоздь, краска, вата, цемент, урок, учебник, линейка, тонометр, молоток, рецеп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Фонетический разбо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209680"/>
            <a:ext cx="2971800" cy="1447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3366"/>
                </a:solidFill>
                <a:latin typeface="Times New Roman"/>
              </a:rPr>
              <a:t>рецеп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133720"/>
            <a:ext cx="2819520" cy="1523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3366"/>
                </a:solidFill>
                <a:latin typeface="Times New Roman"/>
              </a:rPr>
              <a:t>указ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4343400"/>
            <a:ext cx="3657600" cy="1828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3366"/>
                </a:solidFill>
                <a:latin typeface="Times New Roman"/>
              </a:rPr>
              <a:t>гвозд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63280" y="4060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kk-KZ" sz="2000" spc="-1" strike="noStrike">
                <a:solidFill>
                  <a:srgbClr val="006666"/>
                </a:solidFill>
                <a:latin typeface="Arial"/>
              </a:rPr>
              <a:t>Лингвистическое исследование” </a:t>
            </a:r>
            <a:br>
              <a:rPr sz="2000"/>
            </a:br>
            <a:r>
              <a:rPr b="1" lang="kk-KZ" sz="2000" spc="-1" strike="noStrike">
                <a:solidFill>
                  <a:srgbClr val="006666"/>
                </a:solidFill>
                <a:latin typeface="Arial"/>
              </a:rPr>
              <a:t>Задание группам </a:t>
            </a:r>
            <a:br>
              <a:rPr sz="2000"/>
            </a:br>
            <a:r>
              <a:rPr b="1" lang="kk-KZ" sz="2000" spc="-1" strike="noStrike">
                <a:solidFill>
                  <a:srgbClr val="006666"/>
                </a:solidFill>
                <a:latin typeface="Arial"/>
              </a:rPr>
              <a:t>- найти в толковом и терминологическом словарях</a:t>
            </a:r>
            <a:br>
              <a:rPr sz="2000"/>
            </a:br>
            <a:r>
              <a:rPr b="1" lang="kk-KZ" sz="2000" spc="-1" strike="noStrike">
                <a:solidFill>
                  <a:srgbClr val="006666"/>
                </a:solidFill>
                <a:latin typeface="Arial"/>
              </a:rPr>
              <a:t>определение данных слов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400" y="2285640"/>
            <a:ext cx="12725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Общеупотребительные сл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Профессиональные сл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Терми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Терминолог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2-04-15T19:44:0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