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9954E-E36D-4BB8-85FA-A67970F96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C83C5-88E8-4601-B009-1D1A9F5DD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70CDB-585D-41F0-96F5-1924A1DAC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CD4FE-F13F-4083-99DA-4D6EE3C89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0DDF-E46F-4CAC-8D99-0D00B50AC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47A4-D19D-4459-9C17-8B4AAA7F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4670-A58F-4E2F-8815-24753AED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7538-AC0A-483C-A44C-2DC5E687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F6B4-5BF3-41C8-9F72-3861C770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572F-0AF4-453D-863C-DDA8E374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54D9-FBFC-403C-9F41-A6DB152B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64619-8CA7-45AB-82C9-C10FEED0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C23C-B260-4C83-84CC-291FB99F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4E7A-D8EA-4AE8-BBBC-1F704EE3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998EF-CE03-41C6-8AA0-960D2542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61C7-69F7-4AE3-92F7-E7C5A6750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5D97-BD44-43FE-A8DA-131FF925E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D2026-C8F4-404F-BFCC-54D93783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F4AFF-9EA4-427A-A0C0-D4BCC87E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56FB2-2969-4F26-A05D-88C4F6B7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C614F-F9FB-4370-BEA0-706FD4C4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79CC8-F734-4034-8C35-90C5DB0C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44B2D-79D0-4FD5-AE95-09C745AD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BF6FD-B8E7-4737-A405-E2749FBA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b9d"/>
            </a:gs>
            <a:gs pos="100000">
              <a:srgbClr val="756d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5B8B-9F0E-4E7B-B5B6-DAE2E17FE98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b9d"/>
            </a:gs>
            <a:gs pos="100000">
              <a:srgbClr val="7b724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76FF-91F4-4E8C-9ADA-1F7CD21DD3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eburgcity.narod.ru/information.html" TargetMode="External"/><Relationship Id="rId5" Type="http://schemas.openxmlformats.org/officeDocument/2006/relationships/image" Target="../media/image1.png"/><Relationship Id="rId6" Type="http://schemas.openxmlformats.org/officeDocument/2006/relationships/hyperlink" Target="http://eburgcity.narod.ru/history.html" TargetMode="External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340000" y="620640"/>
            <a:ext cx="6804000" cy="216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Екатеринбург: 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вчера, сегодня,          завтр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2987640" cy="20034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7" descr=""/>
          <p:cNvPicPr/>
          <p:nvPr/>
        </p:nvPicPr>
        <p:blipFill>
          <a:blip r:embed="rId2"/>
          <a:stretch/>
        </p:blipFill>
        <p:spPr>
          <a:xfrm>
            <a:off x="4932360" y="4005360"/>
            <a:ext cx="3887640" cy="23400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8" descr=""/>
          <p:cNvPicPr/>
          <p:nvPr/>
        </p:nvPicPr>
        <p:blipFill>
          <a:blip r:embed="rId3"/>
          <a:stretch/>
        </p:blipFill>
        <p:spPr>
          <a:xfrm>
            <a:off x="2195640" y="2017800"/>
            <a:ext cx="3097080" cy="201600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мятник С. М. Киров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ыл установлен на площади имени Кирова в 1934 году. При реконструкции площади в 1982 году установлен новый памятник С. М. Кирову, подарок московских художественных мастерск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тоит у главного корпуса УГТУ-УП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7" descr="Памятник &quot;Кирову&quot;"/>
          <p:cNvPicPr/>
          <p:nvPr/>
        </p:nvPicPr>
        <p:blipFill>
          <a:blip r:embed="rId1"/>
          <a:stretch/>
        </p:blipFill>
        <p:spPr>
          <a:xfrm>
            <a:off x="635040" y="1625760"/>
            <a:ext cx="3679920" cy="475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мятник А. С. Пушкин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амятник А. С. Пушкину, великому русскому писателю, установлен в литературном квартале города, на пересечении ул. Первомайской и Пролетарской 5 ноября 1990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7" descr="chpr2"/>
          <p:cNvPicPr/>
          <p:nvPr/>
        </p:nvPicPr>
        <p:blipFill>
          <a:blip r:embed="rId1"/>
          <a:stretch/>
        </p:blipFill>
        <p:spPr>
          <a:xfrm>
            <a:off x="539640" y="1557360"/>
            <a:ext cx="364824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мятник первому паровоз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одель первого в России паровоза русских механиков Е.А. и М.Е. Черепановых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зготовлена в честь столетия Свердловской железной дорог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1978 год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гол ул.Свердлова и Челюскинце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0" descr="Памятник Первому паровозу"/>
          <p:cNvPicPr/>
          <p:nvPr/>
        </p:nvPicPr>
        <p:blipFill>
          <a:blip r:embed="rId1"/>
          <a:stretch/>
        </p:blipFill>
        <p:spPr>
          <a:xfrm>
            <a:off x="614520" y="1625760"/>
            <a:ext cx="3720960" cy="475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Чёрный тюльпан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амятник военнослужащим, погибшим во время боевых действий в Афганистане и Чечне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асположен на Площади Советской Армии, напротив окружного дома офицеров, в 1995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вторы А.Серов и К.Грюнбер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10" descr="&quot;Чёрный тюльпан&quot;"/>
          <p:cNvPicPr/>
          <p:nvPr/>
        </p:nvPicPr>
        <p:blipFill>
          <a:blip r:embed="rId2"/>
          <a:stretch/>
        </p:blipFill>
        <p:spPr>
          <a:xfrm>
            <a:off x="457200" y="1625760"/>
            <a:ext cx="4038480" cy="475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Чечн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амятник установлен в 2002 году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н завершил композицию "Чёрного тюльпана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втор: скульптор-архитектор А. Серов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тливал С.Резеп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7" descr="&quot;Чечня&quot;"/>
          <p:cNvPicPr/>
          <p:nvPr/>
        </p:nvPicPr>
        <p:blipFill>
          <a:blip r:embed="rId2"/>
          <a:stretch/>
        </p:blipFill>
        <p:spPr>
          <a:xfrm>
            <a:off x="468360" y="1341360"/>
            <a:ext cx="402732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генда нашего го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садьба, полная та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(Усадьба Расторгуева-Харитонов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ассказывают, что там есть подземный ход, соединяет Исеть с озером в парке Харитоновского дома. В этом ходе были созданы кельи, в которых содержались пришлые монахи. Эти люди появлялись в городе, их никто не знал, откуда приходят и куда исчезают. Вели эти монахи какие-то тайные дела. Никто, кроме хозяина, не был посвящён в эти дела, и доступ в кельи был только хозяину. А потом, с чем это связано, неизвестно, всё это осталось тайной, через некоторое время хозяин приказал все эти кельи и сам подземный ход замуровать. Нет, а всё-таки интересно, найдут эти кельи или нет, ведь где-то они замурованы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из книги «Предания и легенды Урал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8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зем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й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рог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катеринбур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щё одной влиятельной семьёй в Екатеринбурге были Рязановы. Они имели два больших дома с парком, аллеи которого спускались к Исети, свою церковь, получившую название Рязановс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близи Рязановских домов есть красивый особняк из красного кирпича, похожий на теремок. Строил его для себя промышленник Железнов. Дом Железнова не обошёлся без маленького подземного сюрприза: верный старой традиции уральских толстосумов, Железнов вывел короткий, в несколько десятков метров, подземный ход из дома в сад, а другой к дворовым службам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ерте старинных построек Екатеринбурга часто встречаются маленькие подземные лабиринты, молва о которых разносит преувеличенные во много раз слух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з книги В. Слукина «Тайны уральских подземел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егенды и мифы народов Ура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фольклоре многих народов есть легенды, сказки и мифы, рассказывающие о происхождении мира и человека, о своеобразии природы той земли, где живёт наро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оды, жившие на Урале, также верили в существование духов. Это лесные и водяные духи, духи болезней. Достаточно распространёнными в народе до сих пор являются старинные предания, в которых рассказывается о происхождении племён, родов и их названий, об их взаимоотношениях с другими народ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нять, как жили люди в давние времена на Урале, о чём они мечтали, что любили и что сближает нас с нашими предками , можно узнать, прочитав книгу «Литература Урала», раздел «Мифы и легенды народов Урал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тория основания города Екатеринбур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11" descr=""/>
          <p:cNvPicPr/>
          <p:nvPr/>
        </p:nvPicPr>
        <p:blipFill>
          <a:blip r:embed="rId1"/>
          <a:stretch/>
        </p:blipFill>
        <p:spPr>
          <a:xfrm>
            <a:off x="4716360" y="1916280"/>
            <a:ext cx="3884760" cy="219060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3943080"/>
            <a:ext cx="8229600" cy="27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атеринбург, центр Свердловской области, в 1667 км к востоку от Москвы. Расположен на восточном склоне Среднего Урала, по берегам р. Исеть (притока Тобола). Площадь свыше 400 км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ород </a:t>
            </a:r>
            <a:r>
              <a:rPr b="0" lang="ru-RU" sz="1600" spc="-1" strike="noStrike" u="sng">
                <a:solidFill>
                  <a:srgbClr val="a47900"/>
                </a:solidFill>
                <a:uFillTx/>
                <a:latin typeface="Verdana"/>
                <a:hlinkClick r:id="rId4"/>
              </a:rPr>
              <a:t>ЕКАТЕРИНБУРГ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- главный город Уральского федерального округа, столица Свердловской области. Расположен вблизи границы Европы и Аз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атеринбург </a:t>
            </a:r>
            <a:r>
              <a:rPr b="0" lang="ru-RU" sz="1600" spc="-1" strike="noStrike" u="sng">
                <a:solidFill>
                  <a:srgbClr val="a47900"/>
                </a:solidFill>
                <a:uFillTx/>
                <a:latin typeface="Verdana"/>
                <a:hlinkClick r:id="rId6"/>
              </a:rPr>
              <a:t>был основан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в 1723 году В. Н. Татищевым и В. Де Гениным в связи со строительством зав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13" descr=""/>
          <p:cNvPicPr/>
          <p:nvPr/>
        </p:nvPicPr>
        <p:blipFill>
          <a:blip r:embed="rId7"/>
          <a:stretch/>
        </p:blipFill>
        <p:spPr>
          <a:xfrm>
            <a:off x="611280" y="1916280"/>
            <a:ext cx="3673440" cy="21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12" descr=""/>
          <p:cNvPicPr/>
          <p:nvPr/>
        </p:nvPicPr>
        <p:blipFill>
          <a:blip r:embed="rId1"/>
          <a:stretch/>
        </p:blipFill>
        <p:spPr>
          <a:xfrm>
            <a:off x="117360" y="549360"/>
            <a:ext cx="3811680" cy="536076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5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зван по имени императрицы Екатерины 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 1924 году город был переименован в Свердловск. Историческое название возвращено в 1991 г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4038480" cy="58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катеринбург – один из крупнейших и красивейших российских город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н расположен на границе Европы и Азии, в самом сердце Уральских го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ш город изначально возводился как столица горнозаводского края и, с первых же лет существования, имел свою символику. 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8" descr=""/>
          <p:cNvPicPr/>
          <p:nvPr/>
        </p:nvPicPr>
        <p:blipFill>
          <a:blip r:embed="rId4"/>
          <a:stretch/>
        </p:blipFill>
        <p:spPr>
          <a:xfrm>
            <a:off x="4211640" y="996840"/>
            <a:ext cx="4537080" cy="330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284360" y="115920"/>
            <a:ext cx="4475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овременный герб Екатеринбурга был официально принят в Государственной Герольдии при Президенте Российской Федерации в 1995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ерхняя часть щита похожа на крепость, которой был Екатеринбург в первые годы своего существов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олнистая лазоревая полоса в нижней части - это река Исеть, соединяющая историю и современность, Европу и Ази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едведь - европейский символ, соболь - азиатский. Более того, соболь еще при Демидовых был маркой уральского металл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Животные стоят за пределами щита, высунув языки и оскалив зубы, - такое проявление агрессивности вполне объяснимо, ведь они охраняют город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7" descr=""/>
          <p:cNvPicPr/>
          <p:nvPr/>
        </p:nvPicPr>
        <p:blipFill>
          <a:blip r:embed="rId1"/>
          <a:stretch/>
        </p:blipFill>
        <p:spPr>
          <a:xfrm>
            <a:off x="2771640" y="4581360"/>
            <a:ext cx="1944720" cy="22766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8" descr=""/>
          <p:cNvPicPr/>
          <p:nvPr/>
        </p:nvPicPr>
        <p:blipFill>
          <a:blip r:embed="rId2"/>
          <a:stretch/>
        </p:blipFill>
        <p:spPr>
          <a:xfrm>
            <a:off x="1258920" y="2276640"/>
            <a:ext cx="1900080" cy="244764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9908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атели Екатеринбур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19" descr="Памятник основателям Екатеринбурга"/>
          <p:cNvPicPr/>
          <p:nvPr/>
        </p:nvPicPr>
        <p:blipFill>
          <a:blip r:embed="rId1"/>
          <a:stretch/>
        </p:blipFill>
        <p:spPr>
          <a:xfrm>
            <a:off x="539640" y="1628640"/>
            <a:ext cx="4268880" cy="496908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нумент -памятник основателям Екатеринбурга-В. Н. Татищеву и В. И, Геннин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овлен на пересечении ул. Горького и проспекта Ленина, на левом берегу геки Исети, рядом с Историческим сквером в 1998 году. На постаменте надпись:"Славным сынам Росси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Н. Татищеву и В.И. де Геннину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катеринбург благодарный 1998 год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 памятника- скульптор Чусовит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рхитектурные памятники Екатеринбург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Седой Урал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648320" y="1773000"/>
            <a:ext cx="4038480" cy="43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амятник "Седой Урал" был открыт в мае 2005 год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 площади Обороны в Парковом микрорайоне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амятник символизирует общий вклад уральцев в победу, как воинов так и тружеников тыл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кульптор Г.Геворкя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7" descr="Памятник &quot;Седой Урал&quot;"/>
          <p:cNvPicPr/>
          <p:nvPr/>
        </p:nvPicPr>
        <p:blipFill>
          <a:blip r:embed="rId1"/>
          <a:stretch/>
        </p:blipFill>
        <p:spPr>
          <a:xfrm>
            <a:off x="395280" y="1773360"/>
            <a:ext cx="400068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амятник маршалу Г.К.Жукову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7" descr="&quot;Первая конная&quot;"/>
          <p:cNvPicPr/>
          <p:nvPr/>
        </p:nvPicPr>
        <p:blipFill>
          <a:blip r:embed="rId1"/>
          <a:stretch/>
        </p:blipFill>
        <p:spPr>
          <a:xfrm>
            <a:off x="468360" y="1698480"/>
            <a:ext cx="4075200" cy="475488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амятник четырежды Герою Советского Союза, выдающемуся военачальнику, командующему Уральским военным округом в 1948-1953 годах, установлен на проспекте Ленина 8 мая 1995 г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кульптор К.Грюнберг, архитекторы Г.Белянкин и С.Гладких, 1995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оит у штаба УрВО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мятник В. И. Ленин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амятник открыт в 1957 году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кульптор В.И.Ингал, арх. А.И.Прибульский, П.Д.Деминцев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а постаменте читаем цитату: "Всё, чего мы достигли, показывает, что мы опираемся на самую чудесную в мире силу - на силу рабочих и крестьян". Лени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10" descr="Памятник Ленину"/>
          <p:cNvPicPr/>
          <p:nvPr/>
        </p:nvPicPr>
        <p:blipFill>
          <a:blip r:embed="rId1"/>
          <a:stretch/>
        </p:blipFill>
        <p:spPr>
          <a:xfrm>
            <a:off x="468360" y="1557360"/>
            <a:ext cx="3854520" cy="482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5:49:54Z</dcterms:created>
  <dc:creator>User</dc:creator>
  <dc:description/>
  <dc:language>en-US</dc:language>
  <cp:lastModifiedBy>COMP</cp:lastModifiedBy>
  <dcterms:modified xsi:type="dcterms:W3CDTF">2011-10-05T17:07:22Z</dcterms:modified>
  <cp:revision>8</cp:revision>
  <dc:subject/>
  <dc:title>Исторические памятники города Екатеринбурга</dc:title>
</cp:coreProperties>
</file>