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73FA-7E44-4FAE-9E9B-AE98BCB0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A27D-948C-41E3-8EFC-6EA781A3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588B-D38A-4BB4-AFC8-32B2DF21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A187-8FB8-42FA-8FE7-8232BC09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71B-C669-47E1-BBC2-7EAE56F7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8D6-7472-45CD-96F9-56EE896E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BC18-9632-4E5C-809C-BC792C16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400E-9438-44B7-A608-DAE2FCBB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CDB-C85E-487F-A424-74518A87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0D41-F699-4B8B-97EF-24F491E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B442-FD83-42F1-952B-257B6D7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57AC-F69B-481E-ACB2-2C94DBF2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7322-D718-415D-BAD4-7205272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F7B-8FE8-4EB8-9992-48B3CB4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FD67-A145-4F40-88A7-31DE0D39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0A97-F98D-4340-8A6F-65EA2273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67AE-632D-4385-B5AA-D51DEC5E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27E5-5C00-4C60-B780-18D6A7F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6680-A420-47E6-AC26-876C1FA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C3C2-ED6E-4E4E-847E-A2036DB8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A19C-97EE-4F41-8054-475882E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7124-CCD9-4C10-9D32-29D35CD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CEFC-9B72-4AEF-A9B9-DDF3D7BC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24BD-20A7-4F36-8245-EA8F5D5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6B08-1C5C-4829-B9D8-876728319C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7EB3-C889-425F-94CB-6E15A966A8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eburgcity.narod.ru/information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eburgcity.narod.ru/history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8040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катеринбург: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чера, сегодня,          завт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003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887640" cy="2340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"/>
          <p:cNvPicPr/>
          <p:nvPr/>
        </p:nvPicPr>
        <p:blipFill>
          <a:blip r:embed="rId3"/>
          <a:stretch/>
        </p:blipFill>
        <p:spPr>
          <a:xfrm>
            <a:off x="2195640" y="201780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С. М. Кир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ыл установлен на площади имени Кирова в 1934 году. При реконструкции площади в 1982 году установлен новый памятник С. М. Кирову, подарок московских художественных мастер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оит у главного корпуса УГТУ-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Памятник &quot;Кирову&quot;"/>
          <p:cNvPicPr/>
          <p:nvPr/>
        </p:nvPicPr>
        <p:blipFill>
          <a:blip r:embed="rId1"/>
          <a:stretch/>
        </p:blipFill>
        <p:spPr>
          <a:xfrm>
            <a:off x="635040" y="1625760"/>
            <a:ext cx="367992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А. С. Пушк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А. С. Пушкину, великому русскому писателю, установлен в литературном квартале города, на пересечении ул. Первомайской и Пролетарской 5 ноября 199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7" descr="chpr2"/>
          <p:cNvPicPr/>
          <p:nvPr/>
        </p:nvPicPr>
        <p:blipFill>
          <a:blip r:embed="rId1"/>
          <a:stretch/>
        </p:blipFill>
        <p:spPr>
          <a:xfrm>
            <a:off x="539640" y="1557360"/>
            <a:ext cx="3648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первому парово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ь первого в России паровоза русских механиков Е.А. и М.Е. Черепановы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готовлена в честь столетия Свердловской железной дор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78 год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ол ул.Свердлова и Челюскин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Памятник Первому паровозу"/>
          <p:cNvPicPr/>
          <p:nvPr/>
        </p:nvPicPr>
        <p:blipFill>
          <a:blip r:embed="rId1"/>
          <a:stretch/>
        </p:blipFill>
        <p:spPr>
          <a:xfrm>
            <a:off x="614520" y="1625760"/>
            <a:ext cx="372096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Чёрный тюльп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военнослужащим, погибшим во время боевых действий в Афганистане и Чечн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положен на Площади Советской Армии, напротив окружного дома офицеров, в 1995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ры А.Серов и К.Грюнбе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&quot;Чёрный тюльпан&quot;"/>
          <p:cNvPicPr/>
          <p:nvPr/>
        </p:nvPicPr>
        <p:blipFill>
          <a:blip r:embed="rId2"/>
          <a:stretch/>
        </p:blipFill>
        <p:spPr>
          <a:xfrm>
            <a:off x="457200" y="1625760"/>
            <a:ext cx="403848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Чеч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установлен в 2002 год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завершил композицию "Чёрного тюльпана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р: скульптор-архитектор А. Сер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ливал С.Резеп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&quot;Чечня&quot;"/>
          <p:cNvPicPr/>
          <p:nvPr/>
        </p:nvPicPr>
        <p:blipFill>
          <a:blip r:embed="rId2"/>
          <a:stretch/>
        </p:blipFill>
        <p:spPr>
          <a:xfrm>
            <a:off x="468360" y="1341360"/>
            <a:ext cx="4027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генда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адьба, полная т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Усадьба Расторгуева-Харитон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ссказывают, что там есть подземный ход, соединяет Исеть с озером в парке Харитоновского дома. В этом ходе были созданы кельи, в которых содержались пришлые монахи. Эти люди появлялись в городе, их никто не знал, откуда приходят и куда исчезают. Вели эти монахи какие-то тайные дела. Никто, кроме хозяина, не был посвящён в эти дела, и доступ в кельи был только хозяину. А потом, с чем это связано, неизвестно, всё это осталось тайной, через некоторое время хозяин приказал все эти кельи и сам подземный ход замуровать. Нет, а всё-таки интересно, найдут эти кельи или нет, ведь где-то они замурова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из книги «Предания и легенды Ура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й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катерин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одной влиятельной семьёй в Екатеринбурге были Рязановы. Они имели два больших дома с парком, аллеи которого спускались к Исети, свою церковь, получившую название Рязан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близи Рязановских домов есть красивый особняк из красного кирпича, похожий на теремок. Строил его для себя промышленник Железнов. Дом Железнова не обошёлся без маленького подземного сюрприза: верный старой традиции уральских толстосумов, Железнов вывел короткий, в несколько десятков метров, подземный ход из дома в сад, а другой к дворовым службам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те старинных построек Екатеринбурга часто встречаются маленькие подземные лабиринты, молва о которых разносит преувеличенные во много раз слу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книги В. Слукина «Тайны уральских подземел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генды и мифы народов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льклоре многих народов есть легенды, сказки и мифы, рассказывающие о происхождении мира и человека, о своеобразии природы той земли, где живёт на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ы, жившие на Урале, также верили в существование духов. Это лесные и водяные духи, духи болезней. Достаточно распространёнными в народе до сих пор являются старинные предания, в которых рассказывается о происхождении племён, родов и их названий, об их взаимоотношениях с другими наро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ь, как жили люди в давние времена на Урале, о чём они мечтали, что любили и что сближает нас с нашими предками , можно узнать, прочитав книгу «Литература Урала», раздел «Мифы и легенды народов Ура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основания города Екатерин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84760" cy="2190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атеринбург, центр Свердловской области, в 1667 км к востоку от Москвы. Расположен на восточном склоне Среднего Урала, по берегам р. Исеть (притока Тобола). Площадь свыше 400 км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ород </a:t>
            </a:r>
            <a:r>
              <a:rPr b="0" lang="ru-RU" sz="1600" spc="-1" strike="noStrike" u="sng">
                <a:solidFill>
                  <a:srgbClr val="a47900"/>
                </a:solidFill>
                <a:uFillTx/>
                <a:latin typeface="Verdana"/>
                <a:hlinkClick r:id="rId4"/>
              </a:rPr>
              <a:t>ЕКАТЕРИНБУРГ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- главный город Уральского федерального округа, столица Свердловской области. Расположен вблизи границы Европы и А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атеринбург </a:t>
            </a:r>
            <a:r>
              <a:rPr b="0" lang="ru-RU" sz="1600" spc="-1" strike="noStrike" u="sng">
                <a:solidFill>
                  <a:srgbClr val="a47900"/>
                </a:solidFill>
                <a:uFillTx/>
                <a:latin typeface="Verdana"/>
                <a:hlinkClick r:id="rId6"/>
              </a:rPr>
              <a:t>был основа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в 1723 году В. Н. Татищевым и В. Де Гениным в связи со строительством за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3" descr=""/>
          <p:cNvPicPr/>
          <p:nvPr/>
        </p:nvPicPr>
        <p:blipFill>
          <a:blip r:embed="rId7"/>
          <a:stretch/>
        </p:blipFill>
        <p:spPr>
          <a:xfrm>
            <a:off x="611280" y="1916280"/>
            <a:ext cx="3673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2" descr=""/>
          <p:cNvPicPr/>
          <p:nvPr/>
        </p:nvPicPr>
        <p:blipFill>
          <a:blip r:embed="rId1"/>
          <a:stretch/>
        </p:blipFill>
        <p:spPr>
          <a:xfrm>
            <a:off x="117360" y="549360"/>
            <a:ext cx="3811680" cy="53607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зван по имени императрицы Екатерины 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1924 году город был переименован в Свердловск. Историческое название возвращено в 1991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катеринбург – один из крупнейших и красивейших российски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н расположен на границе Европы и Азии, в самом сердце Уральских г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 изначально возводился как столица горнозаводского края и, с первых же лет существования, имел свою символику. 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"/>
          <p:cNvPicPr/>
          <p:nvPr/>
        </p:nvPicPr>
        <p:blipFill>
          <a:blip r:embed="rId4"/>
          <a:stretch/>
        </p:blipFill>
        <p:spPr>
          <a:xfrm>
            <a:off x="4211640" y="996840"/>
            <a:ext cx="453708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284360" y="115920"/>
            <a:ext cx="4475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ременный герб Екатеринбурга был официально принят в Государственной Герольдии при Президенте Российской Федерации в 199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рхняя часть щита похожа на крепость, которой был Екатеринбург в первые годы своего суще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лнистая лазоревая полоса в нижней части - это река Исеть, соединяющая историю и современность, Европу и Аз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дведь - европейский символ, соболь - азиатский. Более того, соболь еще при Демидовых был маркой уральского метал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ивотные стоят за пределами щита, высунув языки и оскалив зубы, - такое проявление агрессивности вполне объяснимо, ведь они охраняют гор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1944720" cy="2276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1900080" cy="2447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9908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атели Екатеринбур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9" descr="Памятник основателям Екатеринбурга"/>
          <p:cNvPicPr/>
          <p:nvPr/>
        </p:nvPicPr>
        <p:blipFill>
          <a:blip r:embed="rId1"/>
          <a:stretch/>
        </p:blipFill>
        <p:spPr>
          <a:xfrm>
            <a:off x="539640" y="1628640"/>
            <a:ext cx="4268880" cy="49690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умент -памятник основателям Екатеринбурга-В. Н. Татищеву и В. И, Генн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 на пересечении ул. Горького и проспекта Ленина, на левом берегу геки Исети, рядом с Историческим сквером в 1998 году. На постаменте надпись:"Славным сынам Росс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Н. Татищеву и В.И. де Геннин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бург благодарный 1998 год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амятника- скульптор Чусов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хитектурные памятники Екатеринбург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едой Ура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мятник "Седой Урал" был открыт в мае 2005 год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площади Обороны в Парковом микрорайо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мятник символизирует общий вклад уральцев в победу, как воинов так и тружеников ты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ульптор Г.Геворкя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Памятник &quot;Седой Урал&quot;"/>
          <p:cNvPicPr/>
          <p:nvPr/>
        </p:nvPicPr>
        <p:blipFill>
          <a:blip r:embed="rId1"/>
          <a:stretch/>
        </p:blipFill>
        <p:spPr>
          <a:xfrm>
            <a:off x="395280" y="1773360"/>
            <a:ext cx="40006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мятник маршалу Г.К.Жукову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&quot;Первая конная&quot;"/>
          <p:cNvPicPr/>
          <p:nvPr/>
        </p:nvPicPr>
        <p:blipFill>
          <a:blip r:embed="rId1"/>
          <a:stretch/>
        </p:blipFill>
        <p:spPr>
          <a:xfrm>
            <a:off x="468360" y="1698480"/>
            <a:ext cx="4075200" cy="47548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четырежды Герою Советского Союза, выдающемуся военачальнику, командующему Уральским военным округом в 1948-1953 годах, установлен на проспекте Ленина 8 мая 1995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кульптор К.Грюнберг, архитекторы Г.Белянкин и С.Гладких, 199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оит у штаба УрВ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В. И. Лен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открыт в 1957 году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кульптор В.И.Ингал, арх. А.И.Прибульский, П.Д.Деминце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постаменте читаем цитату: "Всё, чего мы достигли, показывает, что мы опираемся на самую чудесную в мире силу - на силу рабочих и крестьян". Лен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" descr="Памятник Ленину"/>
          <p:cNvPicPr/>
          <p:nvPr/>
        </p:nvPicPr>
        <p:blipFill>
          <a:blip r:embed="rId1"/>
          <a:stretch/>
        </p:blipFill>
        <p:spPr>
          <a:xfrm>
            <a:off x="468360" y="1557360"/>
            <a:ext cx="38545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49:54Z</dcterms:created>
  <dc:creator>User</dc:creator>
  <dc:description/>
  <dc:language>en-US</dc:language>
  <cp:lastModifiedBy>COMP</cp:lastModifiedBy>
  <dcterms:modified xsi:type="dcterms:W3CDTF">2011-10-05T17:07:22Z</dcterms:modified>
  <cp:revision>8</cp:revision>
  <dc:subject/>
  <dc:title>Исторические памятники города Екатеринбурга</dc:title>
</cp:coreProperties>
</file>