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7C1F-5E45-4EAB-AE0E-E4A1EBC3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59DC-0E6E-46F7-8277-2303F357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326C-D4FC-4A7A-B779-F89088B4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F0BB-3B88-4ABC-B121-385FDD35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E9FC-FA41-4C7F-BAF2-79EDF1D0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5E80-DB32-4B78-AA4E-14D33020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128B-901F-4BC0-B86F-3C11C8E1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ADA1-EF88-4882-9957-EEE833EE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FA44-38CB-4BC9-88F4-E79754CA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E644-9DDB-42E1-BCF5-D769420C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0DF1-B8AE-4B4C-B499-FCCEB81D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695EC-0467-4319-87A7-0A330B5A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AF6B-17B2-46CC-ADFD-AB94385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7C40-F4AA-4E8A-B8A1-BD13E1AF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5999-1D79-4D7C-BD22-7F60C516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457F-561E-4481-BF6E-54F604D0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F1B1-320D-44D7-99F7-9302A3B1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FB03-8272-4B8B-934F-5EC86DE3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8F8F-04D9-4EE2-8310-A50D087D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4673-0D34-4681-9547-90AAC956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05CD-56BB-4C0E-97E8-B2FDBEA2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1F60-50A1-4A52-BCCE-3B240FD7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F98D-FA9D-4BE6-9026-6CB66C0B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F1F7-4036-4A4B-B776-3212A2D7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940F-425C-47B4-9B16-5E488D63EA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94AF-A3E6-472E-90AC-5B1EDCB0BF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eburgcity.narod.ru/information.html" TargetMode="External"/><Relationship Id="rId5" Type="http://schemas.openxmlformats.org/officeDocument/2006/relationships/image" Target="../media/image1.png"/><Relationship Id="rId6" Type="http://schemas.openxmlformats.org/officeDocument/2006/relationships/hyperlink" Target="http://eburgcity.narod.ru/history.html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804000" cy="216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Екатеринбург: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чера, сегодня,          завт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2003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"/>
          <p:cNvPicPr/>
          <p:nvPr/>
        </p:nvPicPr>
        <p:blipFill>
          <a:blip r:embed="rId2"/>
          <a:stretch/>
        </p:blipFill>
        <p:spPr>
          <a:xfrm>
            <a:off x="4932360" y="4005360"/>
            <a:ext cx="3887640" cy="23400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8" descr=""/>
          <p:cNvPicPr/>
          <p:nvPr/>
        </p:nvPicPr>
        <p:blipFill>
          <a:blip r:embed="rId3"/>
          <a:stretch/>
        </p:blipFill>
        <p:spPr>
          <a:xfrm>
            <a:off x="2195640" y="2017800"/>
            <a:ext cx="3097080" cy="2016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С. М. Киро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ыл установлен на площади имени Кирова в 1934 году. При реконструкции площади в 1982 году установлен новый памятник С. М. Кирову, подарок московских художественных мастер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оит у главного корпуса УГТУ-УП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Памятник &quot;Кирову&quot;"/>
          <p:cNvPicPr/>
          <p:nvPr/>
        </p:nvPicPr>
        <p:blipFill>
          <a:blip r:embed="rId1"/>
          <a:stretch/>
        </p:blipFill>
        <p:spPr>
          <a:xfrm>
            <a:off x="635040" y="1625760"/>
            <a:ext cx="3679920" cy="47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А. С. Пушки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А. С. Пушкину, великому русскому писателю, установлен в литературном квартале города, на пересечении ул. Первомайской и Пролетарской 5 ноября 199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7" descr="chpr2"/>
          <p:cNvPicPr/>
          <p:nvPr/>
        </p:nvPicPr>
        <p:blipFill>
          <a:blip r:embed="rId1"/>
          <a:stretch/>
        </p:blipFill>
        <p:spPr>
          <a:xfrm>
            <a:off x="539640" y="1557360"/>
            <a:ext cx="364824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первому паровоз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ель первого в России паровоза русских механиков Е.А. и М.Е. Черепановых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зготовлена в честь столетия Свердловской железной дор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978 год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ол ул.Свердлова и Челюскинц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0" descr="Памятник Первому паровозу"/>
          <p:cNvPicPr/>
          <p:nvPr/>
        </p:nvPicPr>
        <p:blipFill>
          <a:blip r:embed="rId1"/>
          <a:stretch/>
        </p:blipFill>
        <p:spPr>
          <a:xfrm>
            <a:off x="614520" y="1625760"/>
            <a:ext cx="3720960" cy="47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Чёрный тюльпа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военнослужащим, погибшим во время боевых действий в Афганистане и Чечн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положен на Площади Советской Армии, напротив окружного дома офицеров, в 1995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вторы А.Серов и К.Грюнбе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0" descr="&quot;Чёрный тюльпан&quot;"/>
          <p:cNvPicPr/>
          <p:nvPr/>
        </p:nvPicPr>
        <p:blipFill>
          <a:blip r:embed="rId2"/>
          <a:stretch/>
        </p:blipFill>
        <p:spPr>
          <a:xfrm>
            <a:off x="457200" y="1625760"/>
            <a:ext cx="4038480" cy="47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Чеч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установлен в 2002 год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 завершил композицию "Чёрного тюльпана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втор: скульптор-архитектор А. Серов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ливал С.Резеп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&quot;Чечня&quot;"/>
          <p:cNvPicPr/>
          <p:nvPr/>
        </p:nvPicPr>
        <p:blipFill>
          <a:blip r:embed="rId2"/>
          <a:stretch/>
        </p:blipFill>
        <p:spPr>
          <a:xfrm>
            <a:off x="468360" y="1341360"/>
            <a:ext cx="40273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генда нашего г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адьба, полная т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(Усадьба Расторгуева-Харитоно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ссказывают, что там есть подземный ход, соединяет Исеть с озером в парке Харитоновского дома. В этом ходе были созданы кельи, в которых содержались пришлые монахи. Эти люди появлялись в городе, их никто не знал, откуда приходят и куда исчезают. Вели эти монахи какие-то тайные дела. Никто, кроме хозяина, не был посвящён в эти дела, и доступ в кельи был только хозяину. А потом, с чем это связано, неизвестно, всё это осталось тайной, через некоторое время хозяин приказал все эти кельи и сам подземный ход замуровать. Нет, а всё-таки интересно, найдут эти кельи или нет, ведь где-то они замурованы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из книги «Предания и легенды Ура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зем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й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р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катерин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ё одной влиятельной семьёй в Екатеринбурге были Рязановы. Они имели два больших дома с парком, аллеи которого спускались к Исети, свою церковь, получившую название Рязан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близи Рязановских домов есть красивый особняк из красного кирпича, похожий на теремок. Строил его для себя промышленник Железнов. Дом Железнова не обошёлся без маленького подземного сюрприза: верный старой традиции уральских толстосумов, Железнов вывел короткий, в несколько десятков метров, подземный ход из дома в сад, а другой к дворовым службам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те старинных построек Екатеринбурга часто встречаются маленькие подземные лабиринты, молва о которых разносит преувеличенные во много раз слу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книги В. Слукина «Тайны уральских подземел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генды и мифы народов Ур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ольклоре многих народов есть легенды, сказки и мифы, рассказывающие о происхождении мира и человека, о своеобразии природы той земли, где живёт на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оды, жившие на Урале, также верили в существование духов. Это лесные и водяные духи, духи болезней. Достаточно распространёнными в народе до сих пор являются старинные предания, в которых рассказывается о происхождении племён, родов и их названий, об их взаимоотношениях с другими народ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нять, как жили люди в давние времена на Урале, о чём они мечтали, что любили и что сближает нас с нашими предками , можно узнать, прочитав книгу «Литература Урала», раздел «Мифы и легенды народов Ура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основания города Екатерин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1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3884760" cy="2190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394308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атеринбург, центр Свердловской области, в 1667 км к востоку от Москвы. Расположен на восточном склоне Среднего Урала, по берегам р. Исеть (притока Тобола). Площадь свыше 400 км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ород </a:t>
            </a:r>
            <a:r>
              <a:rPr b="0" lang="ru-RU" sz="1600" spc="-1" strike="noStrike" u="sng">
                <a:solidFill>
                  <a:srgbClr val="a47900"/>
                </a:solidFill>
                <a:uFillTx/>
                <a:latin typeface="Verdana"/>
                <a:hlinkClick r:id="rId4"/>
              </a:rPr>
              <a:t>ЕКАТЕРИНБУРГ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- главный город Уральского федерального округа, столица Свердловской области. Расположен вблизи границы Европы и А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атеринбург </a:t>
            </a:r>
            <a:r>
              <a:rPr b="0" lang="ru-RU" sz="1600" spc="-1" strike="noStrike" u="sng">
                <a:solidFill>
                  <a:srgbClr val="a47900"/>
                </a:solidFill>
                <a:uFillTx/>
                <a:latin typeface="Verdana"/>
                <a:hlinkClick r:id="rId6"/>
              </a:rPr>
              <a:t>был основа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в 1723 году В. Н. Татищевым и В. Де Гениным в связи со строительством за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3" descr=""/>
          <p:cNvPicPr/>
          <p:nvPr/>
        </p:nvPicPr>
        <p:blipFill>
          <a:blip r:embed="rId7"/>
          <a:stretch/>
        </p:blipFill>
        <p:spPr>
          <a:xfrm>
            <a:off x="611280" y="1916280"/>
            <a:ext cx="36734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12" descr=""/>
          <p:cNvPicPr/>
          <p:nvPr/>
        </p:nvPicPr>
        <p:blipFill>
          <a:blip r:embed="rId1"/>
          <a:stretch/>
        </p:blipFill>
        <p:spPr>
          <a:xfrm>
            <a:off x="117360" y="549360"/>
            <a:ext cx="3811680" cy="53607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зван по имени императрицы Екатерины 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1924 году город был переименован в Свердловск. Историческое название возвращено в 1991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катеринбург – один из крупнейших и красивейших российских го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н расположен на границе Европы и Азии, в самом сердце Уральских г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 город изначально возводился как столица горнозаводского края и, с первых же лет существования, имел свою символику. 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8" descr=""/>
          <p:cNvPicPr/>
          <p:nvPr/>
        </p:nvPicPr>
        <p:blipFill>
          <a:blip r:embed="rId4"/>
          <a:stretch/>
        </p:blipFill>
        <p:spPr>
          <a:xfrm>
            <a:off x="4211640" y="996840"/>
            <a:ext cx="4537080" cy="33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284360" y="115920"/>
            <a:ext cx="4475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временный герб Екатеринбурга был официально принят в Государственной Герольдии при Президенте Российской Федерации в 199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рхняя часть щита похожа на крепость, которой был Екатеринбург в первые годы своего суще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лнистая лазоревая полоса в нижней части - это река Исеть, соединяющая историю и современность, Европу и Аз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дведь - европейский символ, соболь - азиатский. Более того, соболь еще при Демидовых был маркой уральского метал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Животные стоят за пределами щита, высунув языки и оскалив зубы, - такое проявление агрессивности вполне объяснимо, ведь они охраняют гор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1944720" cy="22766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1900080" cy="2447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9908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атели Екатеринбур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9" descr="Памятник основателям Екатеринбурга"/>
          <p:cNvPicPr/>
          <p:nvPr/>
        </p:nvPicPr>
        <p:blipFill>
          <a:blip r:embed="rId1"/>
          <a:stretch/>
        </p:blipFill>
        <p:spPr>
          <a:xfrm>
            <a:off x="539640" y="1628640"/>
            <a:ext cx="4268880" cy="496908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умент -памятник основателям Екатеринбурга-В. Н. Татищеву и В. И, Генни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лен на пересечении ул. Горького и проспекта Ленина, на левом берегу геки Исети, рядом с Историческим сквером в 1998 году. На постаменте надпись:"Славным сынам Росс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Н. Татищеву и В.И. де Геннин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бург благодарный 1998 год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амятника- скульптор Чусовит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рхитектурные памятники Екатеринбург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едой Ура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амятник "Седой Урал" был открыт в мае 2005 год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площади Обороны в Парковом микрорайон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амятник символизирует общий вклад уральцев в победу, как воинов так и тружеников тыл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ульптор Г.Геворкя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7" descr="Памятник &quot;Седой Урал&quot;"/>
          <p:cNvPicPr/>
          <p:nvPr/>
        </p:nvPicPr>
        <p:blipFill>
          <a:blip r:embed="rId1"/>
          <a:stretch/>
        </p:blipFill>
        <p:spPr>
          <a:xfrm>
            <a:off x="395280" y="1773360"/>
            <a:ext cx="40006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мятник маршалу Г.К.Жукову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7" descr="&quot;Первая конная&quot;"/>
          <p:cNvPicPr/>
          <p:nvPr/>
        </p:nvPicPr>
        <p:blipFill>
          <a:blip r:embed="rId1"/>
          <a:stretch/>
        </p:blipFill>
        <p:spPr>
          <a:xfrm>
            <a:off x="468360" y="1698480"/>
            <a:ext cx="4075200" cy="47548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четырежды Герою Советского Союза, выдающемуся военачальнику, командующему Уральским военным округом в 1948-1953 годах, установлен на проспекте Ленина 8 мая 1995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кульптор К.Грюнберг, архитекторы Г.Белянкин и С.Гладких, 1995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оит у штаба УрВО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 В. И. Лени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амятник открыт в 1957 году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кульптор В.И.Ингал, арх. А.И.Прибульский, П.Д.Деминце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постаменте читаем цитату: "Всё, чего мы достигли, показывает, что мы опираемся на самую чудесную в мире силу - на силу рабочих и крестьян". Лен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0" descr="Памятник Ленину"/>
          <p:cNvPicPr/>
          <p:nvPr/>
        </p:nvPicPr>
        <p:blipFill>
          <a:blip r:embed="rId1"/>
          <a:stretch/>
        </p:blipFill>
        <p:spPr>
          <a:xfrm>
            <a:off x="468360" y="1557360"/>
            <a:ext cx="38545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49:54Z</dcterms:created>
  <dc:creator>User</dc:creator>
  <dc:description/>
  <dc:language>en-US</dc:language>
  <cp:lastModifiedBy>COMP</cp:lastModifiedBy>
  <dcterms:modified xsi:type="dcterms:W3CDTF">2011-10-05T17:07:22Z</dcterms:modified>
  <cp:revision>8</cp:revision>
  <dc:subject/>
  <dc:title>Исторические памятники города Екатеринбурга</dc:title>
</cp:coreProperties>
</file>