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16.jpeg" ContentType="image/jpeg"/>
  <Override PartName="/ppt/media/image13.gif" ContentType="image/gif"/>
  <Override PartName="/ppt/media/image29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34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32.png" ContentType="image/png"/>
  <Override PartName="/ppt/media/image33.jpeg" ContentType="image/jpeg"/>
  <Override PartName="/ppt/media/image4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7.gif" ContentType="image/gif"/>
  <Override PartName="/ppt/media/image19.png" ContentType="image/png"/>
  <Override PartName="/ppt/media/image21.png" ContentType="image/png"/>
  <Override PartName="/ppt/media/image20.gif" ContentType="image/gif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95D1-E943-4794-BD32-60D046DE2C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4742-D0CA-49C7-A175-9EFE235A2C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9C2B-F3E7-4556-9606-F35F4AD61F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548-8BA6-4859-BF88-2F54327C05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74A7-C5BA-4DF5-815D-59B83A8A5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9730-278F-4502-A4DB-5D8FDD2F93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9DF1-EEFD-4F59-99D3-E2F999E1C9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8F62-9C4A-4FDE-B51E-B7ADD880B2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17C7-EA4F-4650-9A1F-B4EB7ED5C9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445D-F02C-41C3-B897-C73628B9EE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96B0-324D-4F4E-BCE7-824628BA3D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3E11-C434-4FE5-9D34-7E6684F60E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937B-1468-4975-B1C9-DEAA5AC69B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0CAF-2319-453B-8C4C-E70A9E50A4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ABB9-C98D-4A0F-9A59-9625F96061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4776-3E51-44B3-8D4E-EF503465BE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9B92-CEDE-46F2-8BFF-7073B69225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C629-F59F-4E0E-B846-FDF4550F68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5969-1983-471B-9E26-BFFE33933E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4908-C574-419B-B58D-D9067A075B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D2A0-9FB9-46D7-B726-96F67C3E1F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14DB-EFF1-4E23-865C-17752BE4E4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8BC-7B17-430C-8EA0-A5357A52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E3B-D317-416F-84E7-55B6BEB1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4A5-5234-4CE8-BFC9-8E98B596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C7E-A7C9-4AA9-A5DC-997F6A38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DBE-D752-48B0-A685-C5FD8019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E59-FF61-42A5-8757-BB017DD8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1A6-4E4C-4149-97AB-A2CF8B81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612-229D-4D83-9F1C-25DFBEA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53B-952D-4D59-B202-83791CC5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4E4-F9F9-40AB-8D4E-112FBDE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FBD-B6D9-49CA-8434-B582119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CED-DFB5-4910-B963-D30C6025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C8F1-3D78-4DB9-9EA2-6BB251C495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52.radikal.ru/i135/0905/76/91154781e513.jpg" TargetMode="External"/><Relationship Id="rId3" Type="http://schemas.openxmlformats.org/officeDocument/2006/relationships/image" Target="../media/image29.png"/><Relationship Id="rId4" Type="http://schemas.openxmlformats.org/officeDocument/2006/relationships/hyperlink" Target="http://rh.foto.radikal.ru/0708/47/413aaaf6f425t.jpg" TargetMode="External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p-school.edusite.ru/images/shkol-ngodyi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hyperlink" Target="http://www.eduvluki.ru/data/detsad/26/171/171.jpg" TargetMode="External"/><Relationship Id="rId4" Type="http://schemas.openxmlformats.org/officeDocument/2006/relationships/hyperlink" Target="http://mdou5-juravlik.caduk.ru/images/4e" TargetMode="External"/><Relationship Id="rId5" Type="http://schemas.openxmlformats.org/officeDocument/2006/relationships/hyperlink" Target="http://mdou5-juravlik.caduk.ru/images/4e" TargetMode="External"/><Relationship Id="rId6" Type="http://schemas.openxmlformats.org/officeDocument/2006/relationships/hyperlink" Target="http://med45ved.ucoz.ru/1/33064-Clipart-Illustration-Of-A-Friendly-Female-Te.jpg" TargetMode="External"/><Relationship Id="rId7" Type="http://schemas.openxmlformats.org/officeDocument/2006/relationships/hyperlink" Target="http://top-school.edusite.ru/images/shkol-ngodyi.png" TargetMode="External"/><Relationship Id="rId8" Type="http://schemas.openxmlformats.org/officeDocument/2006/relationships/hyperlink" Target="http://top-school.edusite.ru/images/shkol-ngodyi.png" TargetMode="External"/><Relationship Id="rId9" Type="http://schemas.openxmlformats.org/officeDocument/2006/relationships/hyperlink" Target="http://znamus.ru/img/page/2008-10-25/mathematicsforchildren/54145831.jpg" TargetMode="External"/><Relationship Id="rId10" Type="http://schemas.openxmlformats.org/officeDocument/2006/relationships/hyperlink" Target="http://www.stihi.ru/pics/2011/10/25/4089.gif" TargetMode="External"/><Relationship Id="rId11" Type="http://schemas.openxmlformats.org/officeDocument/2006/relationships/hyperlink" Target="http://img01.chitalnya.ru/upload/563/4425174463540.jpg" TargetMode="External"/><Relationship Id="rId12" Type="http://schemas.openxmlformats.org/officeDocument/2006/relationships/hyperlink" Target="http://img1.liveinternet.ru/images/attach/c/4/79/777/79777039_large_Belochka.png" TargetMode="External"/><Relationship Id="rId13" Type="http://schemas.openxmlformats.org/officeDocument/2006/relationships/hyperlink" Target="http://img1.liveinternet.ru/images/attach/c/4/79/777/79777039_large_Belochka.png" TargetMode="External"/><Relationship Id="rId14" Type="http://schemas.openxmlformats.org/officeDocument/2006/relationships/hyperlink" Target="http://2.bp.blogspot.com/-NyP_D_Wv-cw/T5QY1ehGjTI/AAAAAAAAAPo/_GZ67mUKiIo/s1600/original.jpg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ed45ved.ucoz.ru/1/33064-Clipart-Illustration-Of-A-Friendly-Female-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hyperlink" Target="http://rh.foto.radikal.ru/0708/47/413aaaf6f425t.jp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gi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0" y="516528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000680" y="442908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БОУ «СОШ № 69» г. Кемер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кова Ирина Викторовна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исло и цифра 8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МАТИКА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урок – иг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l_fi" descr="http://www.eduvluki.ru/data/detsad/26/171/171.jpg"/>
          <p:cNvPicPr/>
          <p:nvPr/>
        </p:nvPicPr>
        <p:blipFill>
          <a:blip r:embed="rId2"/>
          <a:stretch/>
        </p:blipFill>
        <p:spPr>
          <a:xfrm>
            <a:off x="285840" y="3500280"/>
            <a:ext cx="4000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egiky43"/>
          <p:cNvPicPr/>
          <p:nvPr/>
        </p:nvPicPr>
        <p:blipFill>
          <a:blip r:embed="rId2"/>
          <a:stretch/>
        </p:blipFill>
        <p:spPr>
          <a:xfrm>
            <a:off x="714240" y="2000160"/>
            <a:ext cx="2517840" cy="257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cc2239e2726cebd9e7d366aff3ee63c5"/>
          <p:cNvPicPr/>
          <p:nvPr/>
        </p:nvPicPr>
        <p:blipFill>
          <a:blip r:embed="rId3"/>
          <a:stretch/>
        </p:blipFill>
        <p:spPr>
          <a:xfrm rot="1318200">
            <a:off x="396360" y="1566360"/>
            <a:ext cx="88272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c2239e2726cebd9e7d366aff3ee63c5"/>
          <p:cNvPicPr/>
          <p:nvPr/>
        </p:nvPicPr>
        <p:blipFill>
          <a:blip r:embed="rId4"/>
          <a:stretch/>
        </p:blipFill>
        <p:spPr>
          <a:xfrm rot="19159200">
            <a:off x="2168640" y="105372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trava04"/>
          <p:cNvPicPr/>
          <p:nvPr/>
        </p:nvPicPr>
        <p:blipFill>
          <a:blip r:embed="rId5"/>
          <a:stretch/>
        </p:blipFill>
        <p:spPr>
          <a:xfrm>
            <a:off x="0" y="4786200"/>
            <a:ext cx="2540160" cy="165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trava04"/>
          <p:cNvPicPr/>
          <p:nvPr/>
        </p:nvPicPr>
        <p:blipFill>
          <a:blip r:embed="rId6"/>
          <a:stretch/>
        </p:blipFill>
        <p:spPr>
          <a:xfrm>
            <a:off x="2357280" y="4500720"/>
            <a:ext cx="2540160" cy="165096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7"/>
          <a:stretch/>
        </p:blipFill>
        <p:spPr>
          <a:xfrm>
            <a:off x="3279600" y="469800"/>
            <a:ext cx="5870880" cy="9572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4143240" y="1714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т задумал ёж др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ласить на юб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ласил двух медвеж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ёх зайчат и трёх бельч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читайте, поско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лько у ежа го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c3c62efbd992ad280b2f29e267db5462"/>
          <p:cNvPicPr/>
          <p:nvPr/>
        </p:nvPicPr>
        <p:blipFill>
          <a:blip r:embed="rId8"/>
          <a:stretch/>
        </p:blipFill>
        <p:spPr>
          <a:xfrm>
            <a:off x="7072200" y="5286240"/>
            <a:ext cx="15242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tcvet147"/>
          <p:cNvPicPr/>
          <p:nvPr/>
        </p:nvPicPr>
        <p:blipFill>
          <a:blip r:embed="rId2"/>
          <a:stretch/>
        </p:blipFill>
        <p:spPr>
          <a:xfrm>
            <a:off x="1357200" y="5445000"/>
            <a:ext cx="2692440" cy="141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tcvet147"/>
          <p:cNvPicPr/>
          <p:nvPr/>
        </p:nvPicPr>
        <p:blipFill>
          <a:blip r:embed="rId3"/>
          <a:stretch/>
        </p:blipFill>
        <p:spPr>
          <a:xfrm>
            <a:off x="4071960" y="5445000"/>
            <a:ext cx="2692440" cy="141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tcvet147"/>
          <p:cNvPicPr/>
          <p:nvPr/>
        </p:nvPicPr>
        <p:blipFill>
          <a:blip r:embed="rId4"/>
          <a:stretch/>
        </p:blipFill>
        <p:spPr>
          <a:xfrm>
            <a:off x="6451560" y="5445000"/>
            <a:ext cx="2692440" cy="14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tcvet147"/>
          <p:cNvPicPr/>
          <p:nvPr/>
        </p:nvPicPr>
        <p:blipFill>
          <a:blip r:embed="rId5"/>
          <a:stretch/>
        </p:blipFill>
        <p:spPr>
          <a:xfrm>
            <a:off x="0" y="5445000"/>
            <a:ext cx="2692440" cy="1413000"/>
          </a:xfrm>
          <a:prstGeom prst="rect">
            <a:avLst/>
          </a:prstGeom>
          <a:ln w="0">
            <a:noFill/>
          </a:ln>
        </p:spPr>
      </p:pic>
      <p:sp>
        <p:nvSpPr>
          <p:cNvPr id="115" name="Содержимое 2"/>
          <p:cNvSpPr/>
          <p:nvPr/>
        </p:nvSpPr>
        <p:spPr>
          <a:xfrm>
            <a:off x="285840" y="642960"/>
            <a:ext cx="4330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мный слонёно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па –слон слону – сыни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арил четыре кни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х слонёнок проч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друзьям своим раз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нигу дал он бегемо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е морскому кашал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колько книг осталось у слон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slonarium.ru/images/2610.jpg"/>
          <p:cNvPicPr/>
          <p:nvPr/>
        </p:nvPicPr>
        <p:blipFill>
          <a:blip r:embed="rId6"/>
          <a:stretch/>
        </p:blipFill>
        <p:spPr>
          <a:xfrm>
            <a:off x="4429080" y="1143000"/>
            <a:ext cx="4410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img1.labirint.ru/books/238787/scrn_big_1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http://slavna.ucoz.ru/_ph/5/2/312145939.jpg"/>
          <p:cNvPicPr/>
          <p:nvPr/>
        </p:nvPicPr>
        <p:blipFill>
          <a:blip r:embed="rId2"/>
          <a:stretch/>
        </p:blipFill>
        <p:spPr>
          <a:xfrm>
            <a:off x="157176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j0151237"/>
          <p:cNvPicPr/>
          <p:nvPr/>
        </p:nvPicPr>
        <p:blipFill>
          <a:blip r:embed="rId2"/>
          <a:stretch/>
        </p:blipFill>
        <p:spPr>
          <a:xfrm>
            <a:off x="285840" y="428760"/>
            <a:ext cx="2071440" cy="3286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j0098129"/>
          <p:cNvPicPr/>
          <p:nvPr/>
        </p:nvPicPr>
        <p:blipFill>
          <a:blip r:embed="rId3"/>
          <a:stretch/>
        </p:blipFill>
        <p:spPr>
          <a:xfrm>
            <a:off x="3286080" y="428760"/>
            <a:ext cx="2625840" cy="407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307798"/>
          <p:cNvPicPr/>
          <p:nvPr/>
        </p:nvPicPr>
        <p:blipFill>
          <a:blip r:embed="rId4"/>
          <a:stretch/>
        </p:blipFill>
        <p:spPr>
          <a:xfrm>
            <a:off x="428760" y="4429080"/>
            <a:ext cx="3590640" cy="1971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j0239421"/>
          <p:cNvPicPr/>
          <p:nvPr/>
        </p:nvPicPr>
        <p:blipFill>
          <a:blip r:embed="rId5"/>
          <a:stretch/>
        </p:blipFill>
        <p:spPr>
          <a:xfrm>
            <a:off x="5975280" y="2801880"/>
            <a:ext cx="28828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0"/>
            <a:ext cx="9501120" cy="6875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3071880" y="29160"/>
            <a:ext cx="3241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ом Белочка просну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янулась, улыбну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 – росой умы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ящно покрути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ладоши три хлоп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овою – три кив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етыре – руки ши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ами помах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сть – всем с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, восем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нь отброс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2 из 44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7720" y="2639880"/>
            <a:ext cx="2822760" cy="3936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Картинка 3 из 656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160" y="353880"/>
            <a:ext cx="298584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1" descr=""/>
          <p:cNvPicPr/>
          <p:nvPr/>
        </p:nvPicPr>
        <p:blipFill>
          <a:blip r:embed="rId3"/>
          <a:stretch/>
        </p:blipFill>
        <p:spPr>
          <a:xfrm>
            <a:off x="6583320" y="2200320"/>
            <a:ext cx="2457360" cy="36640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0"/>
          <p:cNvSpPr/>
          <p:nvPr/>
        </p:nvSpPr>
        <p:spPr>
          <a:xfrm>
            <a:off x="103320" y="32972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4+5=</a:t>
            </a: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2493360" y="32972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1+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4725360" y="32972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8+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118440" y="43657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3+4=</a:t>
            </a: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2493360" y="437688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6+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5"/>
          <p:cNvSpPr/>
          <p:nvPr/>
        </p:nvSpPr>
        <p:spPr>
          <a:xfrm>
            <a:off x="4725360" y="437688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7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118440" y="53132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2+3=</a:t>
            </a: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3196080"/>
            <a:ext cx="79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8"/>
          <p:cNvSpPr/>
          <p:nvPr/>
        </p:nvSpPr>
        <p:spPr>
          <a:xfrm>
            <a:off x="2505960" y="53006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5+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9"/>
          <p:cNvSpPr/>
          <p:nvPr/>
        </p:nvSpPr>
        <p:spPr>
          <a:xfrm>
            <a:off x="4511880" y="53132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6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1335600" y="3297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4"/>
          <p:cNvSpPr/>
          <p:nvPr/>
        </p:nvSpPr>
        <p:spPr>
          <a:xfrm>
            <a:off x="3673800" y="4376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6"/>
          <p:cNvSpPr/>
          <p:nvPr/>
        </p:nvSpPr>
        <p:spPr>
          <a:xfrm>
            <a:off x="5991480" y="3297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7"/>
          <p:cNvSpPr/>
          <p:nvPr/>
        </p:nvSpPr>
        <p:spPr>
          <a:xfrm>
            <a:off x="5991480" y="4376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ьная выноска 29"/>
          <p:cNvSpPr/>
          <p:nvPr/>
        </p:nvSpPr>
        <p:spPr>
          <a:xfrm flipH="1">
            <a:off x="2339280" y="1341360"/>
            <a:ext cx="5111640" cy="1582920"/>
          </a:xfrm>
          <a:prstGeom prst="wedgeEllipseCallout">
            <a:avLst>
              <a:gd name="adj1" fmla="val -49027"/>
              <a:gd name="adj2" fmla="val 77453"/>
            </a:avLst>
          </a:prstGeom>
          <a:solidFill>
            <a:srgbClr val="cc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моги мне, Колобок, выбрать примеры с ответом 9 и запис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stolicadetstva.com/images/text/133e2ed9fb10dada506efe3112a7ef39.png"/>
          <p:cNvPicPr/>
          <p:nvPr/>
        </p:nvPicPr>
        <p:blipFill>
          <a:blip r:embed="rId4"/>
          <a:stretch/>
        </p:blipFill>
        <p:spPr>
          <a:xfrm>
            <a:off x="0" y="428760"/>
            <a:ext cx="29527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www.web-pups.ru/uploads/posts/1326463444_22.jpg"/>
          <p:cNvPicPr/>
          <p:nvPr/>
        </p:nvPicPr>
        <p:blipFill>
          <a:blip r:embed="rId3"/>
          <a:stretch/>
        </p:blipFill>
        <p:spPr>
          <a:xfrm>
            <a:off x="1474920" y="0"/>
            <a:ext cx="62402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22"/>
          <p:cNvSpPr txBox="1"/>
          <p:nvPr/>
        </p:nvSpPr>
        <p:spPr>
          <a:xfrm>
            <a:off x="324000" y="1989000"/>
            <a:ext cx="1655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 + 5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+ 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 + 3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24"/>
          <p:cNvSpPr txBox="1"/>
          <p:nvPr/>
        </p:nvSpPr>
        <p:spPr>
          <a:xfrm>
            <a:off x="2843280" y="2060640"/>
            <a:ext cx="136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– 4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- 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-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26"/>
          <p:cNvSpPr txBox="1"/>
          <p:nvPr/>
        </p:nvSpPr>
        <p:spPr>
          <a:xfrm>
            <a:off x="5076720" y="2060640"/>
            <a:ext cx="158436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– 5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– 7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- 6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28"/>
          <p:cNvSpPr txBox="1"/>
          <p:nvPr/>
        </p:nvSpPr>
        <p:spPr>
          <a:xfrm>
            <a:off x="7380360" y="2133720"/>
            <a:ext cx="136836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 + 5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 + 7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 +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80"/>
          <p:cNvSpPr txBox="1"/>
          <p:nvPr/>
        </p:nvSpPr>
        <p:spPr>
          <a:xfrm>
            <a:off x="324000" y="3933720"/>
            <a:ext cx="126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9  9  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9" name="WordArt 75"/>
          <p:cNvSpPr txBox="1"/>
          <p:nvPr/>
        </p:nvSpPr>
        <p:spPr>
          <a:xfrm>
            <a:off x="2916360" y="4005360"/>
            <a:ext cx="1266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5  7 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sp>
        <p:nvSpPr>
          <p:cNvPr id="170" name="WordArt 76"/>
          <p:cNvSpPr txBox="1"/>
          <p:nvPr/>
        </p:nvSpPr>
        <p:spPr>
          <a:xfrm>
            <a:off x="5148360" y="4005360"/>
            <a:ext cx="1266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4  2  3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171" name="WordArt 79"/>
          <p:cNvSpPr txBox="1"/>
          <p:nvPr/>
        </p:nvSpPr>
        <p:spPr>
          <a:xfrm>
            <a:off x="7308720" y="4005360"/>
            <a:ext cx="1266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9  9  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2" name="WordArt 103"/>
          <p:cNvSpPr txBox="1"/>
          <p:nvPr/>
        </p:nvSpPr>
        <p:spPr>
          <a:xfrm>
            <a:off x="468360" y="602136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73" name="WordArt 104"/>
          <p:cNvSpPr txBox="1"/>
          <p:nvPr/>
        </p:nvSpPr>
        <p:spPr>
          <a:xfrm>
            <a:off x="2484360" y="6021360"/>
            <a:ext cx="1609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зна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174" name="WordArt 105"/>
          <p:cNvSpPr txBox="1"/>
          <p:nvPr/>
        </p:nvSpPr>
        <p:spPr>
          <a:xfrm>
            <a:off x="5003640" y="6165720"/>
            <a:ext cx="8686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175" name="WordArt 106"/>
          <p:cNvSpPr txBox="1"/>
          <p:nvPr/>
        </p:nvSpPr>
        <p:spPr>
          <a:xfrm>
            <a:off x="6877080" y="5950080"/>
            <a:ext cx="17287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ила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s.appleinsider.ru/2012/10/1231211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Home\Мои документы\Мои рисунки\ФДС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артинка 3 из 692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81080" y="189000"/>
            <a:ext cx="6265800" cy="6524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7"/>
          <p:cNvSpPr/>
          <p:nvPr/>
        </p:nvSpPr>
        <p:spPr>
          <a:xfrm>
            <a:off x="3132000" y="18900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гожданный   дан звонок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4007880" y="4859280"/>
            <a:ext cx="45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инается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"/>
          <p:cNvSpPr/>
          <p:nvPr/>
        </p:nvSpPr>
        <p:spPr>
          <a:xfrm>
            <a:off x="428760" y="21420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е ссылки на страницы материалов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>
            <a:off x="571680" y="128592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мину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http://tsmirnova.blogspot.ru/p/blog-page_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500040" y="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0" y="428760"/>
            <a:ext cx="90010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eduvluki.ru/data/detsad/26/171/17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mdou5-juravlik.caduk.ru/images/4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med45ved.ucoz.ru/1/33064-Clipart-Illustration-Of-A-Friendly-Female-T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top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school.edusite.ru/images/shkol-ngodyi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 «Цифир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znamus.ru/img/page/2008-10-25/mathematicsforchildren/5414583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stihi.ru/pics/2011/10/25/4089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ч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img01.chitalnya.ru/upload/563/442517446354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img1.liveinternet.ru/images/attach/c/4/79/777/79777039_large_Belochk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2.bp.blogspot.com/-NyP_D_Wv-cw/T5QY1ehGjTI/AAAAAAAAAPo/_GZ67mUKiIo/s1600/origina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lonarium.ru/images/261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к сказке «Колобок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reelance.ru/img/portfolio/pics/00/12/66/120581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ocka3ke.ru/sites/default/files/styles/large_tale/public/kolobok_skazka_v_stihah_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lanetiphone.ru/upload/image/bez_zagolovka_(4)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.appleinsider.ru/2012/10/1231211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0 из 410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733320" y="-298440"/>
            <a:ext cx="10610640" cy="7543800"/>
          </a:xfrm>
          <a:prstGeom prst="rect">
            <a:avLst/>
          </a:prstGeom>
          <a:ln w="0">
            <a:noFill/>
          </a:ln>
        </p:spPr>
      </p:pic>
      <p:sp>
        <p:nvSpPr>
          <p:cNvPr id="61" name="Овальная выноска 5"/>
          <p:cNvSpPr/>
          <p:nvPr/>
        </p:nvSpPr>
        <p:spPr>
          <a:xfrm>
            <a:off x="2916360" y="0"/>
            <a:ext cx="6696000" cy="2492280"/>
          </a:xfrm>
          <a:prstGeom prst="wedgeEllipseCallout">
            <a:avLst>
              <a:gd name="adj1" fmla="val -52546"/>
              <a:gd name="adj2" fmla="val 38712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2987640" y="29628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хорошо всё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с вами будем рассу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так же считать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й ум разв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Картинка 3 из 656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7320" y="79200"/>
            <a:ext cx="5913360" cy="6669360"/>
          </a:xfrm>
          <a:prstGeom prst="rect">
            <a:avLst/>
          </a:prstGeom>
          <a:ln w="0">
            <a:noFill/>
          </a:ln>
        </p:spPr>
      </p:pic>
      <p:sp>
        <p:nvSpPr>
          <p:cNvPr id="67" name="Овальная выноска 8"/>
          <p:cNvSpPr/>
          <p:nvPr/>
        </p:nvSpPr>
        <p:spPr>
          <a:xfrm flipH="1">
            <a:off x="0" y="2349360"/>
            <a:ext cx="4788000" cy="2016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179280" y="285588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т какой я румяный и аппетит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planetiphone.ru/upload/image/bez_zagolovka_(4)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znamus.ru/img/page/2008-10-25/mathematicsforchildren/54145831.jpg"/>
          <p:cNvPicPr/>
          <p:nvPr/>
        </p:nvPicPr>
        <p:blipFill>
          <a:blip r:embed="rId1"/>
          <a:stretch/>
        </p:blipFill>
        <p:spPr>
          <a:xfrm>
            <a:off x="87480" y="0"/>
            <a:ext cx="90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stihi.ru/pics/2011/10/25/4089.gif"/>
          <p:cNvPicPr/>
          <p:nvPr/>
        </p:nvPicPr>
        <p:blipFill>
          <a:blip r:embed="rId2"/>
          <a:stretch/>
        </p:blipFill>
        <p:spPr>
          <a:xfrm>
            <a:off x="500040" y="0"/>
            <a:ext cx="82868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freelance.ru/img/portfolio/pics/00/12/66/12058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3"/>
          <p:cNvSpPr/>
          <p:nvPr/>
        </p:nvSpPr>
        <p:spPr>
          <a:xfrm>
            <a:off x="2916360" y="4724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5"/>
          <p:cNvSpPr/>
          <p:nvPr/>
        </p:nvSpPr>
        <p:spPr>
          <a:xfrm>
            <a:off x="7380360" y="4724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trava07"/>
          <p:cNvPicPr/>
          <p:nvPr/>
        </p:nvPicPr>
        <p:blipFill>
          <a:blip r:embed="rId3"/>
          <a:stretch/>
        </p:blipFill>
        <p:spPr>
          <a:xfrm>
            <a:off x="571680" y="5842080"/>
            <a:ext cx="2158920" cy="101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trava07"/>
          <p:cNvPicPr/>
          <p:nvPr/>
        </p:nvPicPr>
        <p:blipFill>
          <a:blip r:embed="rId4"/>
          <a:stretch/>
        </p:blipFill>
        <p:spPr>
          <a:xfrm>
            <a:off x="2643120" y="5842080"/>
            <a:ext cx="2158920" cy="101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trava07"/>
          <p:cNvPicPr/>
          <p:nvPr/>
        </p:nvPicPr>
        <p:blipFill>
          <a:blip r:embed="rId5"/>
          <a:stretch/>
        </p:blipFill>
        <p:spPr>
          <a:xfrm>
            <a:off x="4643280" y="5842080"/>
            <a:ext cx="2159280" cy="101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trava07"/>
          <p:cNvPicPr/>
          <p:nvPr/>
        </p:nvPicPr>
        <p:blipFill>
          <a:blip r:embed="rId6"/>
          <a:stretch/>
        </p:blipFill>
        <p:spPr>
          <a:xfrm>
            <a:off x="6643800" y="5842080"/>
            <a:ext cx="2158920" cy="101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nitky14"/>
          <p:cNvPicPr/>
          <p:nvPr/>
        </p:nvPicPr>
        <p:blipFill>
          <a:blip r:embed="rId7"/>
          <a:stretch/>
        </p:blipFill>
        <p:spPr>
          <a:xfrm>
            <a:off x="1547640" y="5445000"/>
            <a:ext cx="611280" cy="551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nitky14"/>
          <p:cNvPicPr/>
          <p:nvPr/>
        </p:nvPicPr>
        <p:blipFill>
          <a:blip r:embed="rId8"/>
          <a:stretch/>
        </p:blipFill>
        <p:spPr>
          <a:xfrm>
            <a:off x="2571840" y="5572080"/>
            <a:ext cx="610920" cy="550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nitky14"/>
          <p:cNvPicPr/>
          <p:nvPr/>
        </p:nvPicPr>
        <p:blipFill>
          <a:blip r:embed="rId9"/>
          <a:stretch/>
        </p:blipFill>
        <p:spPr>
          <a:xfrm>
            <a:off x="2071800" y="5000760"/>
            <a:ext cx="61092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3e67680d7248acdbf98353260e5b6329"/>
          <p:cNvPicPr/>
          <p:nvPr/>
        </p:nvPicPr>
        <p:blipFill>
          <a:blip r:embed="rId10"/>
          <a:stretch/>
        </p:blipFill>
        <p:spPr>
          <a:xfrm rot="18208800">
            <a:off x="8048160" y="4507920"/>
            <a:ext cx="723960" cy="67644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11"/>
          <a:stretch/>
        </p:blipFill>
        <p:spPr>
          <a:xfrm>
            <a:off x="2932200" y="530280"/>
            <a:ext cx="6218280" cy="7016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8"/>
          <p:cNvSpPr/>
          <p:nvPr/>
        </p:nvSpPr>
        <p:spPr>
          <a:xfrm>
            <a:off x="4214880" y="1714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й да белка-мастер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яжет деткам рукав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вязала три клуб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а лежат ещё п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кого ответ го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лько у неё клуб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mg1.liveinternet.ru/images/attach/c/4/79/777/79777039_large_Belochka.png"/>
          <p:cNvPicPr/>
          <p:nvPr/>
        </p:nvPicPr>
        <p:blipFill>
          <a:blip r:embed="rId12"/>
          <a:stretch/>
        </p:blipFill>
        <p:spPr>
          <a:xfrm>
            <a:off x="0" y="785880"/>
            <a:ext cx="3492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4:02:31Z</dcterms:created>
  <dc:creator>АЛЛА</dc:creator>
  <dc:description/>
  <dc:language>en-US</dc:language>
  <cp:lastModifiedBy>Мама</cp:lastModifiedBy>
  <dcterms:modified xsi:type="dcterms:W3CDTF">2013-02-24T09:50:51Z</dcterms:modified>
  <cp:revision>146</cp:revision>
  <dc:subject/>
  <dc:title>Сложение и вычитание в пределах 10. Решение задач</dc:title>
</cp:coreProperties>
</file>