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8.wmf" ContentType="image/x-wmf"/>
  <Override PartName="/ppt/media/image20.wmf" ContentType="image/x-wmf"/>
  <Override PartName="/ppt/media/image9.wmf" ContentType="image/x-wmf"/>
  <Override PartName="/ppt/media/image29.wmf" ContentType="image/x-wmf"/>
  <Override PartName="/ppt/media/image6.wmf" ContentType="image/x-wmf"/>
  <Override PartName="/ppt/media/image5.jpeg" ContentType="image/jpeg"/>
  <Override PartName="/ppt/media/image11.wmf" ContentType="image/x-wmf"/>
  <Override PartName="/ppt/media/image3.png" ContentType="image/png"/>
  <Override PartName="/ppt/media/image7.wmf" ContentType="image/x-wmf"/>
  <Override PartName="/ppt/media/image10.wmf" ContentType="image/x-wmf"/>
  <Override PartName="/ppt/media/image4.jpeg" ContentType="image/jpeg"/>
  <Override PartName="/ppt/media/image8.wmf" ContentType="image/x-wmf"/>
  <Override PartName="/ppt/media/image12.jpeg" ContentType="image/jpeg"/>
  <Override PartName="/ppt/media/image13.jpeg" ContentType="image/jpeg"/>
  <Override PartName="/ppt/media/image30.wmf" ContentType="image/x-wmf"/>
  <Override PartName="/ppt/media/image18.wmf" ContentType="image/x-wmf"/>
  <Override PartName="/ppt/media/image2.jpeg" ContentType="image/jpeg"/>
  <Override PartName="/ppt/media/image25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media/image24.wmf" ContentType="image/x-wmf"/>
  <Override PartName="/ppt/media/image26.wmf" ContentType="image/x-wmf"/>
  <Override PartName="/ppt/media/image27.wmf" ContentType="image/x-wmf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4B20-0AFA-42D6-AD51-7BEEDE510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3D81-F132-41C9-A60F-D0DEDFF86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FF0411-FF52-4FF4-A0A0-6921566FB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F3C082-FF24-4915-8D7B-D04848466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7B9376-48DA-44DC-8B29-442BD1442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91C5C0-AEF7-4403-B16B-FD7CA899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F91F84-C511-45FA-B320-47ED2079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278FA1-6098-4EF2-82F0-D9BB81A9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3C81A8-2071-4C68-A647-7D2A198B2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254E2E-0860-4FD3-BB32-73B178AD4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5F76DB-7CAD-4C8D-8791-DADEA13FF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21A04D-6090-46AB-A0EF-26F49D566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4257-D6FE-4D4A-8425-357079F38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6F897F-EDC2-4E48-A3BB-50A303C19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82D2EF-9EC1-4A22-9531-8B2AB2769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A5D95E-3F4F-4C05-9120-F171112CA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DCB098-B1F6-4053-B802-1B20B120B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681FD1-39C1-4C5A-8D68-A08A8F764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E0A65E-69C9-4CD4-A7F7-12C0F9632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797D2C-EF21-4D5E-B419-91E025562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48A568-ED8C-496D-8F0F-0267CC16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7D0B49-BD5E-4455-ABAE-2800762D3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106B68-3333-4F40-8C22-86AA1C4E1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6539-A65D-4B68-90D1-333DD1C7F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FB3B79-FC72-4468-938F-93460155A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C1FEA-6DDB-4C97-B3C5-21BFE6C2D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D115D-D646-4B66-BBC8-DEFD78DB8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E13C7-3A18-4C02-AF6F-00D1D2527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14600-EF08-4316-9FFD-9E8E86BDD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0D707-8685-497D-B1CB-A6FB6AABF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4E8B5-9B63-471C-92E6-E93B9AD67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B2DAF-3948-44A9-8128-EF6699424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B4C7-2B9A-4134-AF43-30652C197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FB646-BCD5-499B-BF9C-6CD1A8D7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7A3FF-6C69-4355-B109-72516092C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3796E-AC04-4E85-A179-5938272CA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1C11A-FBDD-48F4-841A-9D46DCF4C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6C42D-00F9-49CE-A25D-C34FCA8DB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7127A-DA16-43C3-8F82-DB1834010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08C3C-984E-42AD-8E72-371BD19FA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2C0C3-9565-4811-B400-D1A340A36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74890-AE99-48AB-8A41-E4B49EC04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A453A-A714-46FF-A374-EC6256241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DB1A-4F4C-429C-A0E1-2678CF8D7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E037C-383D-4407-8B65-FC35758D4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494A4-364C-48DF-98F1-2BB7DDE7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7C299-CDAA-4590-AE97-00328557F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282F9-FA1F-4E1B-A4B7-A2F7243F3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B1B83-BD92-4028-B477-82100F4DA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E5BF5-C7F1-4534-8045-C2837D3AD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6BAC6-83D7-416A-B3FC-1AD8654B7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496E8-43D2-4033-910A-6C634FD8B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734FE-0AD6-406A-8D43-0D4688492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B9C03-67E7-4E6D-B8F0-925186F56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5129-30DB-4862-954C-AAC309DCB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981E4-08A7-4843-97E2-EFE3E7E34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91AEB-DE40-447F-A799-86940FA02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6AB44-E375-4DCF-9170-8905A4677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3F355-DB3D-4205-AC70-910F1D344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5115F-6DFB-46A7-88D1-E96789F45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049AE-B74F-4A0E-B983-F14C3AB80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9F21C-3128-4969-8695-812BD6846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4F698-D604-4D7C-A537-C8E853571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46BFF-47B5-4206-86BF-1A554E6F1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6A1AA-4D18-450D-89EA-9A553E138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4025-5BFB-462D-BF60-114138B63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9DEE61-3996-47AB-86C9-36BB266BF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867526-6813-4674-AA22-E7C697D3C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FE9843-0EBC-4541-BF36-C91F280AB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6A172B-8491-4041-BF3A-0083D89C9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2A18BD-F262-4F32-BE6B-4952BB4D4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8BFAB-4A9E-4378-B7B6-9F98066B4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F7B60-A419-4969-9B94-77CE8514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CC7C03-6BD3-473D-B18C-831A8A6D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0DF56-EA68-474A-B369-B8C8B8B4D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2B66D-B956-4562-97D5-AC2F30963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CE31-E2A0-4B84-B597-1DD5F3D28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81A12-0A9A-4E22-97C7-05189EF55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D788A9-8EDF-46E8-AD3D-731DB2ECD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6BA72D-4CB7-4339-883B-597BECDAF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E7154B-EEFD-47A0-BB4D-004143E6F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916069-3C3E-4349-8EF6-78F6F2E81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C58985-3C4A-4742-A4F5-F693893AA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34DCD8-7155-4622-866A-607018538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CC432A-57C2-4090-A238-5F7A1940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A5580D-13EB-463B-AB18-CBD93F162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0078B1-5A42-4C64-8AD5-591B371C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F3E1-A80D-4A82-A08D-43471C4B7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1E32C3-8237-490F-A34D-8F58129D8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8AB560-EBA4-4E45-B01C-FECB914B2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D48C33-2903-4CD2-8C45-6C52592DF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1DCE57-73CB-470C-A983-94334AE8C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E3CE64-F2D9-4DE5-B212-B9D223D66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E4CF76-2DB1-4E65-A0B1-B16D251E6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6B2F17-104E-46A6-AD52-6B692ED4A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C4C0E7-C7EB-4931-AB56-2C9357DD4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572048-AE41-4848-9197-83C54E89B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3B1556-AF38-4EA9-8F12-46812CDC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33DB-4FE5-4CC9-8533-EAE0D312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9327F5-E6E2-49AA-A009-007A2A307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CEF0C6-7511-4E69-9DD7-74D4F451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D74824-7244-426C-A851-C311FCB22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7E9022-8E7B-46B6-A3F5-E284E9217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0A7138-9C2B-4FEB-8834-65C07C866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BD4087-8FCF-4BFC-913B-818F2830D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1466D9-7D14-47C4-B246-162883C91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EFDCEF-A28A-4F95-9C9F-D5E06A85E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2D34E3-566C-420C-86A0-06A9D5273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6ED549-352D-413B-BA02-43E5255D3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8C64-D90D-4ACE-9925-60747743C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5ED157-BC53-4545-8216-AADC44406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AB9A05-8A70-4713-BE17-B05AB12FF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D3EE26-6E35-4EF1-B34E-6DCA20ACB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564746-14B1-4272-97E9-D7A81248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76315E-7B39-4A45-B791-BAF8CAEF1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74C551-F8E8-4834-A622-DD135576F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AE99F1-FEA8-425B-A6FE-09542A2AC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523A39-75BE-4E02-936A-974CACA0E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7F800A-6051-4889-B578-7C6FBA7FB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323E79-9A82-4D47-940D-A99EA5ECA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8a7c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8a7c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8ea1c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ED6CB-612B-406B-B145-94B3CCC188D8}" type="slidenum">
              <a:rPr b="1" lang="en-US" sz="2600" spc="-1" strike="noStrike">
                <a:solidFill>
                  <a:srgbClr val="8ea1c0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2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43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5f5f5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5f5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d4d4d"/>
                </a:gs>
                <a:gs pos="100000">
                  <a:srgbClr val="5f5f5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d4d4d"/>
                </a:gs>
                <a:gs pos="100000">
                  <a:srgbClr val="5f5f5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27272"/>
                </a:gs>
                <a:gs pos="100000">
                  <a:srgbClr val="5f5f5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27272"/>
                </a:gs>
                <a:gs pos="100000">
                  <a:srgbClr val="5f5f5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dt" idx="2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ftr" idx="2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61C3A-AB0C-4B45-8C1E-BFC2ECAE84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8a7c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8ea1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ea1c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ea1c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8ea1c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FBD49-A40F-4CD8-BEE2-5BFB704D1904}" type="slidenum">
              <a:rPr b="1" lang="en-US" sz="2600" spc="-1" strike="noStrike">
                <a:solidFill>
                  <a:srgbClr val="8ea1c0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95" name="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b6cd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b6cd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7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8"/>
          </p:nvPr>
        </p:nvSpPr>
        <p:spPr>
          <a:xfrm>
            <a:off x="3200040" y="640080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9"/>
          </p:nvPr>
        </p:nvSpPr>
        <p:spPr>
          <a:xfrm>
            <a:off x="67053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6D924-D6A9-483E-AF85-B36A5702EE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157" name="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b6cd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b6cd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0" y="0"/>
            <a:ext cx="3057480" cy="2057400"/>
            <a:chOff x="0" y="0"/>
            <a:chExt cx="3057480" cy="2057400"/>
          </a:xfrm>
        </p:grpSpPr>
        <p:sp>
          <p:nvSpPr>
            <p:cNvPr id="179" name=""/>
            <p:cNvSpPr/>
            <p:nvPr/>
          </p:nvSpPr>
          <p:spPr>
            <a:xfrm>
              <a:off x="0" y="0"/>
              <a:ext cx="3048120" cy="20574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1440" y="2009880"/>
              <a:ext cx="3052800" cy="47520"/>
              <a:chOff x="1440" y="2009880"/>
              <a:chExt cx="3052800" cy="47520"/>
            </a:xfrm>
          </p:grpSpPr>
          <p:sp>
            <p:nvSpPr>
              <p:cNvPr id="181" name=""/>
              <p:cNvSpPr/>
              <p:nvPr/>
            </p:nvSpPr>
            <p:spPr>
              <a:xfrm>
                <a:off x="1440" y="2009880"/>
                <a:ext cx="3052800" cy="47520"/>
              </a:xfrm>
              <a:prstGeom prst="rect">
                <a:avLst/>
              </a:prstGeom>
              <a:solidFill>
                <a:srgbClr val="b6cd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9360" y="2021040"/>
                <a:ext cx="152640" cy="316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16080" y="2021040"/>
                <a:ext cx="152280" cy="316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22440" y="2021040"/>
                <a:ext cx="153720" cy="316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30240" y="2021040"/>
                <a:ext cx="152280" cy="316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236600" y="2021040"/>
                <a:ext cx="152640" cy="316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542960" y="2021040"/>
                <a:ext cx="152640" cy="316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849320" y="2021040"/>
                <a:ext cx="154080" cy="316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157480" y="2021040"/>
                <a:ext cx="152280" cy="316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463840" y="2021040"/>
                <a:ext cx="152280" cy="316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770200" y="2021040"/>
                <a:ext cx="152280" cy="316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3014640" y="0"/>
              <a:ext cx="42840" cy="2055960"/>
              <a:chOff x="3014640" y="0"/>
              <a:chExt cx="42840" cy="2055960"/>
            </a:xfrm>
          </p:grpSpPr>
          <p:sp>
            <p:nvSpPr>
              <p:cNvPr id="193" name=""/>
              <p:cNvSpPr/>
              <p:nvPr/>
            </p:nvSpPr>
            <p:spPr>
              <a:xfrm>
                <a:off x="3014640" y="0"/>
                <a:ext cx="42840" cy="2055960"/>
              </a:xfrm>
              <a:prstGeom prst="rect">
                <a:avLst/>
              </a:prstGeom>
              <a:solidFill>
                <a:srgbClr val="b6cd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016080" y="1897200"/>
                <a:ext cx="30240" cy="152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016080" y="1590840"/>
                <a:ext cx="30240" cy="152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016080" y="1284120"/>
                <a:ext cx="30240" cy="15264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016080" y="977760"/>
                <a:ext cx="30240" cy="15264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016080" y="671400"/>
                <a:ext cx="30240" cy="15264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016080" y="365040"/>
                <a:ext cx="30240" cy="15264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016080" y="58680"/>
                <a:ext cx="30240" cy="152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PlaceHolder 2"/>
          <p:cNvSpPr>
            <a:spLocks noGrp="1"/>
          </p:cNvSpPr>
          <p:nvPr>
            <p:ph type="dt" idx="10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ftr" idx="11"/>
          </p:nvPr>
        </p:nvSpPr>
        <p:spPr>
          <a:xfrm>
            <a:off x="3200400" y="640080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sldNum" idx="12"/>
          </p:nvPr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70F2F-A712-4381-9726-CA2056B241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241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5f5f5f"/>
                </a:gs>
                <a:gs pos="100000">
                  <a:srgbClr val="8ea1c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5f5f5f"/>
                </a:gs>
                <a:gs pos="100000">
                  <a:srgbClr val="8ea1c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336699"/>
                </a:gs>
                <a:gs pos="100000">
                  <a:srgbClr val="b6cdde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3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4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5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714A9-CA9A-4A7C-8AEF-1FA878030E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287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5f5f5f"/>
                </a:gs>
                <a:gs pos="100000">
                  <a:srgbClr val="8ea1c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5f5f5f"/>
                </a:gs>
                <a:gs pos="100000">
                  <a:srgbClr val="8ea1c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336699"/>
                </a:gs>
                <a:gs pos="100000">
                  <a:srgbClr val="b6cdde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7016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16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ftr" idx="17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sldNum" idx="18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FFC1C-D3BC-4DD6-B899-B5ECDDF808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332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535e66"/>
                </a:gs>
                <a:gs pos="100000">
                  <a:srgbClr val="b6cdd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535e66"/>
                </a:gs>
                <a:gs pos="100000">
                  <a:srgbClr val="b6cdd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535e66"/>
                </a:gs>
                <a:gs pos="100000">
                  <a:srgbClr val="b6cdd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535e66"/>
                </a:gs>
                <a:gs pos="100000">
                  <a:srgbClr val="b6cdd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8ea1c0"/>
                </a:gs>
                <a:gs pos="100000">
                  <a:srgbClr val="414a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b6cd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b6cd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19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0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1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45ED1-1EED-4378-9D7E-E09B5FDA82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dt" idx="22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405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535e66"/>
                </a:gs>
                <a:gs pos="100000">
                  <a:srgbClr val="b6cdd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535e66"/>
                </a:gs>
                <a:gs pos="100000">
                  <a:srgbClr val="b6cdd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535e66"/>
                </a:gs>
                <a:gs pos="100000">
                  <a:srgbClr val="b6cdd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535e66"/>
                </a:gs>
                <a:gs pos="100000">
                  <a:srgbClr val="b6cdd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535e66"/>
                </a:gs>
                <a:gs pos="50000">
                  <a:srgbClr val="b6cdde"/>
                </a:gs>
                <a:gs pos="100000">
                  <a:srgbClr val="535e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8ea1c0"/>
                </a:gs>
                <a:gs pos="100000">
                  <a:srgbClr val="414a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b6cd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b6cd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435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414a58"/>
                </a:gs>
                <a:gs pos="100000">
                  <a:srgbClr val="8ea1c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437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438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439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b6cdde"/>
                      </a:gs>
                      <a:gs pos="100000">
                        <a:srgbClr val="535e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535e66"/>
                      </a:gs>
                      <a:gs pos="100000">
                        <a:srgbClr val="b6cdd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b6cdde"/>
                      </a:gs>
                      <a:gs pos="100000">
                        <a:srgbClr val="535e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535e66"/>
                      </a:gs>
                      <a:gs pos="100000">
                        <a:srgbClr val="b6cdde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3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535e66"/>
                    </a:gs>
                    <a:gs pos="100000">
                      <a:srgbClr val="b6cdd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5e66"/>
                    </a:gs>
                    <a:gs pos="100000">
                      <a:srgbClr val="b6cdde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6cdde"/>
                    </a:gs>
                    <a:gs pos="100000">
                      <a:srgbClr val="535e6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5e66"/>
                    </a:gs>
                    <a:gs pos="100000">
                      <a:srgbClr val="b6cdde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7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448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535e66"/>
                    </a:gs>
                    <a:gs pos="100000">
                      <a:srgbClr val="b6cdde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b6cdde"/>
                    </a:gs>
                    <a:gs pos="100000">
                      <a:srgbClr val="535e6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535e66"/>
                    </a:gs>
                    <a:gs pos="50000">
                      <a:srgbClr val="b6cdde"/>
                    </a:gs>
                    <a:gs pos="100000">
                      <a:srgbClr val="535e6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535e66"/>
                    </a:gs>
                    <a:gs pos="100000">
                      <a:srgbClr val="b6cdde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535e66"/>
                    </a:gs>
                    <a:gs pos="100000">
                      <a:srgbClr val="b6cdde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5e66"/>
                    </a:gs>
                    <a:gs pos="100000">
                      <a:srgbClr val="b6cdde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54" name="PlaceHolder 3"/>
          <p:cNvSpPr>
            <a:spLocks noGrp="1"/>
          </p:cNvSpPr>
          <p:nvPr>
            <p:ph type="ftr" idx="23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sldNum" idx="24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5D6AA-65A3-48B8-9735-EDBE893459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93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5f5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5f5f5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d4d4d"/>
                </a:gs>
                <a:gs pos="100000">
                  <a:srgbClr val="5f5f5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27272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727272"/>
                </a:gs>
                <a:gs pos="100000">
                  <a:srgbClr val="5f5f5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d4d4d"/>
                </a:gs>
                <a:gs pos="100000">
                  <a:srgbClr val="5f5f5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27272"/>
                </a:gs>
                <a:gs pos="100000">
                  <a:srgbClr val="5f5f5f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PlaceHolder 1"/>
          <p:cNvSpPr>
            <a:spLocks noGrp="1"/>
          </p:cNvSpPr>
          <p:nvPr>
            <p:ph type="dt" idx="25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ftr" idx="26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D60AF-A5C9-48A4-B3E8-D1A6D4E368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a7ca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a7ca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7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image" Target="../media/image30.wmf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7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9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2286000" y="457200"/>
            <a:ext cx="4753080" cy="130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Franklin Gothic Medium"/>
              </a:rPr>
              <a:t>Роль овощей в питани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Franklin Gothic Medium"/>
              <a:ea typeface="Franklin Gothic Medium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2286000" y="5105520"/>
            <a:ext cx="50292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33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рок кулинарии в 5 класс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33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33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33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3366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3366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92" name="" descr=""/>
          <p:cNvPicPr/>
          <p:nvPr/>
        </p:nvPicPr>
        <p:blipFill>
          <a:blip r:embed="rId2"/>
          <a:stretch/>
        </p:blipFill>
        <p:spPr>
          <a:xfrm>
            <a:off x="4876920" y="2278080"/>
            <a:ext cx="3238560" cy="2506680"/>
          </a:xfrm>
          <a:prstGeom prst="rect">
            <a:avLst/>
          </a:prstGeom>
          <a:ln w="0">
            <a:noFill/>
          </a:ln>
        </p:spPr>
      </p:pic>
      <p:pic>
        <p:nvPicPr>
          <p:cNvPr id="593" name="" descr=""/>
          <p:cNvPicPr/>
          <p:nvPr/>
        </p:nvPicPr>
        <p:blipFill>
          <a:blip r:embed="rId3"/>
          <a:stretch/>
        </p:blipFill>
        <p:spPr>
          <a:xfrm>
            <a:off x="762120" y="2286000"/>
            <a:ext cx="3429000" cy="265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ук репчаты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снок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ук-поре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ук-батун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2133720" y="457200"/>
            <a:ext cx="57909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Луковичные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2"/>
          <a:stretch/>
        </p:blipFill>
        <p:spPr>
          <a:xfrm>
            <a:off x="4114800" y="2819520"/>
            <a:ext cx="3897360" cy="2233440"/>
          </a:xfrm>
          <a:prstGeom prst="rect">
            <a:avLst/>
          </a:prstGeom>
          <a:ln w="0">
            <a:noFill/>
          </a:ln>
        </p:spPr>
      </p:pic>
      <p:pic>
        <p:nvPicPr>
          <p:cNvPr id="631" name="" descr=""/>
          <p:cNvPicPr/>
          <p:nvPr/>
        </p:nvPicPr>
        <p:blipFill>
          <a:blip r:embed="rId3"/>
          <a:stretch/>
        </p:blipFill>
        <p:spPr>
          <a:xfrm>
            <a:off x="6172200" y="1219320"/>
            <a:ext cx="2503440" cy="1990440"/>
          </a:xfrm>
          <a:prstGeom prst="rect">
            <a:avLst/>
          </a:prstGeom>
          <a:ln w="0">
            <a:noFill/>
          </a:ln>
        </p:spPr>
      </p:pic>
      <p:pic>
        <p:nvPicPr>
          <p:cNvPr id="632" name="" descr=""/>
          <p:cNvPicPr/>
          <p:nvPr/>
        </p:nvPicPr>
        <p:blipFill>
          <a:blip r:embed="rId4"/>
          <a:stretch/>
        </p:blipFill>
        <p:spPr>
          <a:xfrm>
            <a:off x="4952880" y="4737240"/>
            <a:ext cx="2995560" cy="19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2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8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8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2000"/>
                            </p:stCondLst>
                            <p:childTnLst>
                              <p:par>
                                <p:cTn id="50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3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6000"/>
                            </p:stCondLst>
                            <p:childTnLst>
                              <p:par>
                                <p:cTn id="51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8000"/>
                            </p:stCondLst>
                            <p:childTnLst>
                              <p:par>
                                <p:cTn id="52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/>
          </p:nvPr>
        </p:nvSpPr>
        <p:spPr>
          <a:xfrm>
            <a:off x="4800240" y="2209320"/>
            <a:ext cx="3730680" cy="38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ни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рианд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м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ята переч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айор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страг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1295280" y="914400"/>
            <a:ext cx="58676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ряности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35" name="" descr=""/>
          <p:cNvPicPr/>
          <p:nvPr/>
        </p:nvPicPr>
        <p:blipFill>
          <a:blip r:embed="rId4"/>
          <a:stretch/>
        </p:blipFill>
        <p:spPr>
          <a:xfrm>
            <a:off x="2666880" y="4800600"/>
            <a:ext cx="1830600" cy="1725480"/>
          </a:xfrm>
          <a:prstGeom prst="rect">
            <a:avLst/>
          </a:prstGeom>
          <a:ln w="0">
            <a:noFill/>
          </a:ln>
        </p:spPr>
      </p:pic>
      <p:pic>
        <p:nvPicPr>
          <p:cNvPr id="636" name="" descr=""/>
          <p:cNvPicPr/>
          <p:nvPr/>
        </p:nvPicPr>
        <p:blipFill>
          <a:blip r:embed="rId5"/>
          <a:stretch/>
        </p:blipFill>
        <p:spPr>
          <a:xfrm>
            <a:off x="1981080" y="3505320"/>
            <a:ext cx="1677960" cy="1679400"/>
          </a:xfrm>
          <a:prstGeom prst="rect">
            <a:avLst/>
          </a:prstGeom>
          <a:ln w="0">
            <a:noFill/>
          </a:ln>
        </p:spPr>
      </p:pic>
      <p:pic>
        <p:nvPicPr>
          <p:cNvPr id="637" name="" descr=""/>
          <p:cNvPicPr/>
          <p:nvPr/>
        </p:nvPicPr>
        <p:blipFill>
          <a:blip r:embed="rId6"/>
          <a:stretch/>
        </p:blipFill>
        <p:spPr>
          <a:xfrm>
            <a:off x="762120" y="2286000"/>
            <a:ext cx="1812960" cy="18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2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8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2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8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2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8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2000"/>
                            </p:stCondLst>
                            <p:childTnLst>
                              <p:par>
                                <p:cTn id="56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2000" fill="hold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4000"/>
                            </p:stCondLst>
                            <p:childTnLst>
                              <p:par>
                                <p:cTn id="57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2000" fill="hold"/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6000"/>
                            </p:stCondLst>
                            <p:childTnLst>
                              <p:par>
                                <p:cTn id="58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2000" fill="hold"/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8000"/>
                            </p:stCondLst>
                            <p:childTnLst>
                              <p:par>
                                <p:cTn id="59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10000"/>
                            </p:stCondLst>
                            <p:childTnLst>
                              <p:par>
                                <p:cTn id="60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2000" fill="hold"/>
                                        <p:tgtEl>
                                          <p:spTgt spid="6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12000"/>
                            </p:stCondLst>
                            <p:childTnLst>
                              <p:par>
                                <p:cTn id="61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2000" fill="hold"/>
                                        <p:tgtEl>
                                          <p:spTgt spid="6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/>
          </p:nvPr>
        </p:nvSpPr>
        <p:spPr>
          <a:xfrm>
            <a:off x="5105520" y="685800"/>
            <a:ext cx="3581280" cy="544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Console"/>
              </a:rPr>
              <a:t>Корнеплод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Console"/>
              </a:rPr>
              <a:t>Клубнеплод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Console"/>
              </a:rPr>
              <a:t>Капуст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Console"/>
              </a:rPr>
              <a:t>Тыквенны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Console"/>
              </a:rPr>
              <a:t>Бобовы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Console"/>
              </a:rPr>
              <a:t>Паслёновы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Console"/>
              </a:rPr>
              <a:t>Листовы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Console"/>
              </a:rPr>
              <a:t>Луковичны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Console"/>
              </a:rPr>
              <a:t>Пряност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 txBox="1"/>
          <p:nvPr/>
        </p:nvSpPr>
        <p:spPr>
          <a:xfrm rot="5400000">
            <a:off x="-2062080" y="2976480"/>
            <a:ext cx="5867280" cy="524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Группы овощей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1447920" y="152280"/>
            <a:ext cx="3693960" cy="3468960"/>
          </a:xfrm>
          <a:prstGeom prst="rect">
            <a:avLst/>
          </a:prstGeom>
          <a:ln w="0">
            <a:noFill/>
          </a:ln>
        </p:spPr>
      </p:pic>
      <p:pic>
        <p:nvPicPr>
          <p:cNvPr id="597" name="" descr=""/>
          <p:cNvPicPr/>
          <p:nvPr/>
        </p:nvPicPr>
        <p:blipFill>
          <a:blip r:embed="rId3"/>
          <a:stretch/>
        </p:blipFill>
        <p:spPr>
          <a:xfrm>
            <a:off x="1905120" y="3657600"/>
            <a:ext cx="3124080" cy="27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6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6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6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6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0"/>
                            </p:stCondLst>
                            <p:childTnLst>
                              <p:par>
                                <p:cTn id="4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600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600" fill="hold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600" fill="hold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600" fill="hold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7000"/>
                            </p:stCondLst>
                            <p:childTnLst>
                              <p:par>
                                <p:cTn id="5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600"/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600" fill="hold"/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600" fill="hold"/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600" fill="hold"/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9000"/>
                            </p:stCondLst>
                            <p:childTnLst>
                              <p:par>
                                <p:cTn id="6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600"/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600" fill="hold"/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600" fill="hold"/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600" fill="hold"/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1000"/>
                            </p:stCondLst>
                            <p:childTnLst>
                              <p:par>
                                <p:cTn id="7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600"/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600" fill="hold"/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600" fill="hold"/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600" fill="hold"/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3000"/>
                            </p:stCondLst>
                            <p:childTnLst>
                              <p:par>
                                <p:cTn id="8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600"/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600" fill="hold"/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600" fill="hold"/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00" fill="hold"/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5000"/>
                            </p:stCondLst>
                            <p:childTnLst>
                              <p:par>
                                <p:cTn id="9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600"/>
                                        <p:tgtEl>
                                          <p:spTgt spid="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600" fill="hold"/>
                                        <p:tgtEl>
                                          <p:spTgt spid="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600" fill="hold"/>
                                        <p:tgtEl>
                                          <p:spTgt spid="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600" fill="hold"/>
                                        <p:tgtEl>
                                          <p:spTgt spid="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600"/>
                                        <p:tgtEl>
                                          <p:spTgt spid="5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600" fill="hold"/>
                                        <p:tgtEl>
                                          <p:spTgt spid="5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600" fill="hold"/>
                                        <p:tgtEl>
                                          <p:spTgt spid="5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600" fill="hold"/>
                                        <p:tgtEl>
                                          <p:spTgt spid="5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9000"/>
                            </p:stCondLst>
                            <p:childTnLst>
                              <p:par>
                                <p:cTn id="11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600"/>
                                        <p:tgtEl>
                                          <p:spTgt spid="5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600" fill="hold"/>
                                        <p:tgtEl>
                                          <p:spTgt spid="5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600" fill="hold"/>
                                        <p:tgtEl>
                                          <p:spTgt spid="5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600" fill="hold"/>
                                        <p:tgtEl>
                                          <p:spTgt spid="5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/>
          </p:nvPr>
        </p:nvSpPr>
        <p:spPr>
          <a:xfrm>
            <a:off x="4186080" y="2425320"/>
            <a:ext cx="4345200" cy="36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рюк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вё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рков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д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дь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трушка корне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ельдерей корне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астерн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533520" y="685800"/>
            <a:ext cx="74674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орнеплод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2"/>
          <a:stretch/>
        </p:blipFill>
        <p:spPr>
          <a:xfrm>
            <a:off x="304920" y="2209680"/>
            <a:ext cx="3962160" cy="1943280"/>
          </a:xfrm>
          <a:prstGeom prst="rect">
            <a:avLst/>
          </a:prstGeom>
          <a:ln w="0">
            <a:noFill/>
          </a:ln>
        </p:spPr>
      </p:pic>
      <p:pic>
        <p:nvPicPr>
          <p:cNvPr id="601" name="" descr=""/>
          <p:cNvPicPr/>
          <p:nvPr/>
        </p:nvPicPr>
        <p:blipFill>
          <a:blip r:embed="rId3"/>
          <a:stretch/>
        </p:blipFill>
        <p:spPr>
          <a:xfrm>
            <a:off x="457200" y="4952880"/>
            <a:ext cx="2209680" cy="1330560"/>
          </a:xfrm>
          <a:prstGeom prst="rect">
            <a:avLst/>
          </a:prstGeom>
          <a:ln w="0">
            <a:noFill/>
          </a:ln>
        </p:spPr>
      </p:pic>
      <p:pic>
        <p:nvPicPr>
          <p:cNvPr id="60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118404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10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1000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4000"/>
                            </p:stCondLst>
                            <p:childTnLst>
                              <p:par>
                                <p:cTn id="1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1000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0"/>
                            </p:stCondLst>
                            <p:childTnLst>
                              <p:par>
                                <p:cTn id="1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1000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6000"/>
                            </p:stCondLst>
                            <p:childTnLst>
                              <p:par>
                                <p:cTn id="1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1000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1000"/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8000"/>
                            </p:stCondLst>
                            <p:childTnLst>
                              <p:par>
                                <p:cTn id="1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1000"/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9000"/>
                            </p:stCondLst>
                            <p:childTnLst>
                              <p:par>
                                <p:cTn id="1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1000"/>
                                        <p:tgtEl>
                                          <p:spTgt spid="5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1000"/>
                                        <p:tgtEl>
                                          <p:spTgt spid="5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/>
          </p:nvPr>
        </p:nvSpPr>
        <p:spPr>
          <a:xfrm>
            <a:off x="3962160" y="2057400"/>
            <a:ext cx="4646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Картофель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Батат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Земляной миндаль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04" name="" descr=""/>
          <p:cNvPicPr/>
          <p:nvPr/>
        </p:nvPicPr>
        <p:blipFill>
          <a:blip r:embed="rId2"/>
          <a:stretch/>
        </p:blipFill>
        <p:spPr>
          <a:xfrm>
            <a:off x="457200" y="2286000"/>
            <a:ext cx="2455920" cy="2836800"/>
          </a:xfrm>
          <a:prstGeom prst="rect">
            <a:avLst/>
          </a:prstGeom>
          <a:ln w="0">
            <a:noFill/>
          </a:ln>
        </p:spPr>
      </p:pic>
      <p:sp>
        <p:nvSpPr>
          <p:cNvPr id="605" name=""/>
          <p:cNvSpPr txBox="1"/>
          <p:nvPr/>
        </p:nvSpPr>
        <p:spPr>
          <a:xfrm>
            <a:off x="1295280" y="457200"/>
            <a:ext cx="6934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лубнеплоды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3000"/>
                            </p:stCondLst>
                            <p:childTnLst>
                              <p:par>
                                <p:cTn id="21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4000"/>
                            </p:stCondLst>
                            <p:childTnLst>
                              <p:par>
                                <p:cTn id="23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/>
          </p:nvPr>
        </p:nvSpPr>
        <p:spPr>
          <a:xfrm>
            <a:off x="5105160" y="2057040"/>
            <a:ext cx="38862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елокочанна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раснокочанна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рюссельска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ольраб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авойска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1676520" y="914400"/>
            <a:ext cx="617220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8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Капуста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08" name="" descr=""/>
          <p:cNvPicPr/>
          <p:nvPr/>
        </p:nvPicPr>
        <p:blipFill>
          <a:blip r:embed="rId4"/>
          <a:stretch/>
        </p:blipFill>
        <p:spPr>
          <a:xfrm>
            <a:off x="1219320" y="1905120"/>
            <a:ext cx="3848040" cy="29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8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4000"/>
                            </p:stCondLst>
                            <p:childTnLst>
                              <p:par>
                                <p:cTn id="2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6000"/>
                            </p:stCondLst>
                            <p:childTnLst>
                              <p:par>
                                <p:cTn id="2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6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6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6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/>
          </p:nvPr>
        </p:nvSpPr>
        <p:spPr>
          <a:xfrm>
            <a:off x="1282320" y="1904760"/>
            <a:ext cx="74883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гур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ык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ба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тиссо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990720" y="609480"/>
            <a:ext cx="70102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Тыквен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2"/>
          <a:stretch/>
        </p:blipFill>
        <p:spPr>
          <a:xfrm>
            <a:off x="533520" y="4800600"/>
            <a:ext cx="2895480" cy="1809720"/>
          </a:xfrm>
          <a:prstGeom prst="rect">
            <a:avLst/>
          </a:prstGeom>
          <a:ln w="0">
            <a:noFill/>
          </a:ln>
        </p:spPr>
      </p:pic>
      <p:pic>
        <p:nvPicPr>
          <p:cNvPr id="612" name="" descr=""/>
          <p:cNvPicPr/>
          <p:nvPr/>
        </p:nvPicPr>
        <p:blipFill>
          <a:blip r:embed="rId3"/>
          <a:stretch/>
        </p:blipFill>
        <p:spPr>
          <a:xfrm>
            <a:off x="3124080" y="4876920"/>
            <a:ext cx="3733920" cy="1425600"/>
          </a:xfrm>
          <a:prstGeom prst="rect">
            <a:avLst/>
          </a:prstGeom>
          <a:ln w="0">
            <a:noFill/>
          </a:ln>
        </p:spPr>
      </p:pic>
      <p:pic>
        <p:nvPicPr>
          <p:cNvPr id="613" name="" descr=""/>
          <p:cNvPicPr/>
          <p:nvPr/>
        </p:nvPicPr>
        <p:blipFill>
          <a:blip r:embed="rId4"/>
          <a:stretch/>
        </p:blipFill>
        <p:spPr>
          <a:xfrm>
            <a:off x="6661080" y="3429000"/>
            <a:ext cx="248292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4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3000"/>
                            </p:stCondLst>
                            <p:childTnLst>
                              <p:par>
                                <p:cTn id="3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0"/>
                            </p:stCondLst>
                            <p:childTnLst>
                              <p:par>
                                <p:cTn id="3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7000"/>
                            </p:stCondLst>
                            <p:childTnLst>
                              <p:par>
                                <p:cTn id="3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 txBox="1"/>
          <p:nvPr/>
        </p:nvSpPr>
        <p:spPr>
          <a:xfrm>
            <a:off x="1676520" y="609480"/>
            <a:ext cx="5867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Бобовые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15" name="" descr=""/>
          <p:cNvPicPr/>
          <p:nvPr/>
        </p:nvPicPr>
        <p:blipFill>
          <a:blip r:embed="rId2"/>
          <a:stretch/>
        </p:blipFill>
        <p:spPr>
          <a:xfrm>
            <a:off x="304920" y="4876920"/>
            <a:ext cx="3821040" cy="1595160"/>
          </a:xfrm>
          <a:prstGeom prst="rect">
            <a:avLst/>
          </a:prstGeom>
          <a:ln w="0">
            <a:noFill/>
          </a:ln>
        </p:spPr>
      </p:pic>
      <p:pic>
        <p:nvPicPr>
          <p:cNvPr id="616" name="" descr=""/>
          <p:cNvPicPr/>
          <p:nvPr/>
        </p:nvPicPr>
        <p:blipFill>
          <a:blip r:embed="rId3"/>
          <a:stretch/>
        </p:blipFill>
        <p:spPr>
          <a:xfrm>
            <a:off x="4419720" y="4495680"/>
            <a:ext cx="3504960" cy="2097360"/>
          </a:xfrm>
          <a:prstGeom prst="rect">
            <a:avLst/>
          </a:prstGeom>
          <a:ln w="0">
            <a:noFill/>
          </a:ln>
        </p:spPr>
      </p:pic>
      <p:sp>
        <p:nvSpPr>
          <p:cNvPr id="617" name="PlaceHolder 1"/>
          <p:cNvSpPr>
            <a:spLocks noGrp="1"/>
          </p:cNvSpPr>
          <p:nvPr>
            <p:ph/>
          </p:nvPr>
        </p:nvSpPr>
        <p:spPr>
          <a:xfrm>
            <a:off x="1676160" y="1676520"/>
            <a:ext cx="7086600" cy="437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Горох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Фасоль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Бобы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Соя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Земляной орех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000"/>
                            </p:stCondLst>
                            <p:childTnLst>
                              <p:par>
                                <p:cTn id="35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3400"/>
                            </p:stCondLst>
                            <p:childTnLst>
                              <p:par>
                                <p:cTn id="36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4900"/>
                            </p:stCondLst>
                            <p:childTnLst>
                              <p:par>
                                <p:cTn id="37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6200"/>
                            </p:stCondLst>
                            <p:childTnLst>
                              <p:par>
                                <p:cTn id="38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6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6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6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6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6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7400"/>
                            </p:stCondLst>
                            <p:childTnLst>
                              <p:par>
                                <p:cTn id="38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6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6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6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6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6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4952880" cy="460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омат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аклажан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ерец сладки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1066680" y="457200"/>
            <a:ext cx="69343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аслёновы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2"/>
          <a:stretch/>
        </p:blipFill>
        <p:spPr>
          <a:xfrm>
            <a:off x="2514600" y="4419720"/>
            <a:ext cx="2666880" cy="1979640"/>
          </a:xfrm>
          <a:prstGeom prst="rect">
            <a:avLst/>
          </a:prstGeom>
          <a:ln w="0">
            <a:noFill/>
          </a:ln>
        </p:spPr>
      </p:pic>
      <p:pic>
        <p:nvPicPr>
          <p:cNvPr id="621" name="" descr=""/>
          <p:cNvPicPr/>
          <p:nvPr/>
        </p:nvPicPr>
        <p:blipFill>
          <a:blip r:embed="rId3"/>
          <a:stretch/>
        </p:blipFill>
        <p:spPr>
          <a:xfrm>
            <a:off x="5029200" y="4648320"/>
            <a:ext cx="1735200" cy="1760400"/>
          </a:xfrm>
          <a:prstGeom prst="rect">
            <a:avLst/>
          </a:prstGeom>
          <a:ln w="0">
            <a:noFill/>
          </a:ln>
        </p:spPr>
      </p:pic>
      <p:pic>
        <p:nvPicPr>
          <p:cNvPr id="622" name="" descr=""/>
          <p:cNvPicPr/>
          <p:nvPr/>
        </p:nvPicPr>
        <p:blipFill>
          <a:blip r:embed="rId4"/>
          <a:stretch/>
        </p:blipFill>
        <p:spPr>
          <a:xfrm>
            <a:off x="6477120" y="4648320"/>
            <a:ext cx="1638360" cy="1649160"/>
          </a:xfrm>
          <a:prstGeom prst="rect">
            <a:avLst/>
          </a:prstGeom>
          <a:ln w="0">
            <a:noFill/>
          </a:ln>
        </p:spPr>
      </p:pic>
      <p:pic>
        <p:nvPicPr>
          <p:cNvPr id="623" name="" descr=""/>
          <p:cNvPicPr/>
          <p:nvPr/>
        </p:nvPicPr>
        <p:blipFill>
          <a:blip r:embed="rId5"/>
          <a:stretch/>
        </p:blipFill>
        <p:spPr>
          <a:xfrm>
            <a:off x="1371600" y="5105520"/>
            <a:ext cx="1523880" cy="114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1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2000"/>
                            </p:stCondLst>
                            <p:childTnLst>
                              <p:par>
                                <p:cTn id="43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4000"/>
                            </p:stCondLst>
                            <p:childTnLst>
                              <p:par>
                                <p:cTn id="43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6000"/>
                            </p:stCondLst>
                            <p:childTnLst>
                              <p:par>
                                <p:cTn id="44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/>
          </p:nvPr>
        </p:nvSpPr>
        <p:spPr>
          <a:xfrm>
            <a:off x="2743200" y="837720"/>
            <a:ext cx="5943600" cy="528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ала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атук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ресс-сала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 txBox="1"/>
          <p:nvPr/>
        </p:nvSpPr>
        <p:spPr>
          <a:xfrm rot="5400000">
            <a:off x="-1071360" y="2823840"/>
            <a:ext cx="5715000" cy="981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Листовые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26" name="" descr=""/>
          <p:cNvPicPr/>
          <p:nvPr/>
        </p:nvPicPr>
        <p:blipFill>
          <a:blip r:embed="rId2"/>
          <a:stretch/>
        </p:blipFill>
        <p:spPr>
          <a:xfrm>
            <a:off x="3276720" y="4343400"/>
            <a:ext cx="1307880" cy="1765440"/>
          </a:xfrm>
          <a:prstGeom prst="rect">
            <a:avLst/>
          </a:prstGeom>
          <a:ln w="0">
            <a:noFill/>
          </a:ln>
        </p:spPr>
      </p:pic>
      <p:pic>
        <p:nvPicPr>
          <p:cNvPr id="627" name="" descr=""/>
          <p:cNvPicPr/>
          <p:nvPr/>
        </p:nvPicPr>
        <p:blipFill>
          <a:blip r:embed="rId3"/>
          <a:stretch/>
        </p:blipFill>
        <p:spPr>
          <a:xfrm>
            <a:off x="4495680" y="4876920"/>
            <a:ext cx="3668760" cy="13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9" dur="2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62" dur="2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65" dur="2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2000"/>
                            </p:stCondLst>
                            <p:childTnLst>
                              <p:par>
                                <p:cTn id="46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2000"/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2000"/>
                            </p:stCondLst>
                            <p:childTnLst>
                              <p:par>
                                <p:cTn id="47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2000"/>
                            </p:stCondLst>
                            <p:childTnLst>
                              <p:par>
                                <p:cTn id="48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ветлана</cp:lastModifiedBy>
  <dcterms:modified xsi:type="dcterms:W3CDTF">2007-05-14T01:25:11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