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0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2.jpeg" ContentType="image/jpeg"/>
  <Override PartName="/ppt/media/image13.jpeg" ContentType="image/jpeg"/>
  <Override PartName="/ppt/media/image3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816-AD6D-4B6A-9E2E-1F5AD30E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78E-AA21-4BA4-A04E-BABF9C39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EE4C9-D5A6-4330-AB02-6854FD38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547E5-4A99-4231-9CCC-22D15DE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B6BFC-614F-4EFF-9A53-DD55E14A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DDD26-1826-49C9-BB55-992C2A9F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A689A-829B-4484-9AEE-918636D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EF013-5D9C-4807-B162-959BFFC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1BA31-D09B-4127-9FBA-EF510D0D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4BFB2-628E-4667-A353-DDB06D74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8C282-93A6-490C-AB72-140E51AE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4808B-BB28-498B-89E8-5CF95420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16C-FB63-48F0-B550-7D52640A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0392B-BB00-4D02-9858-96B57B87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19B1B-DD99-4834-A1E5-360B7184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CC156-3BCF-478B-8086-CCA03676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25E70-CBC6-4B53-98EB-036D44DA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E5598-5D11-4129-820A-3DBCF347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09EDB-F7D5-4DF9-B4FF-26E71A13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E9EB1-49FF-451E-9D96-60F9AF34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87286-51F3-40ED-B050-04F5B1D8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08722-AED9-4AD9-BADA-E60A3149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C6C15-49A4-4C34-93DC-8E855160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D1E-4C68-4BE3-8C29-282AD440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8D3E2-00B7-480E-AD77-B787544D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7E22-CAD8-40C0-8716-F7A9F664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CE01-7993-4A1E-80CD-FEEAEF7D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E09A-6D10-42FD-9266-9B5BA777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9070-D00F-45A0-89FA-35547D1E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6942-FA04-452F-B798-6975B4A4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8150-486A-4A91-A722-FDAFC214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B7C4-CBA9-46FF-A4C9-B05D9637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A57-FF14-479C-AC69-73F8F3CF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A991-BC99-4CE9-8023-3241F036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4E0-5B9E-4F9B-8E9E-60FD856D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5B50-FD95-426F-9979-5BA8097C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105F-46FD-4EBA-B559-2F5CBD1D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0ACE-A7FA-4171-9059-BF8A5CAE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7752F-BBCB-41D7-9DC4-3C6C5572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7902-484C-42A5-AF29-A9170E54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7EA95-73F8-4472-BF69-0C2592C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32C0-4497-442F-A565-027F48D8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7F57-5A11-4860-AAB9-90250F98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15E-2CB9-4D03-93C9-BEDECBF2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2104-7ACE-4AD5-979D-DF4E23CB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2370-AD98-4573-BD25-2051405D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9A03-3B69-45F5-BA9F-E392DEFA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6AEC-D759-47F8-898C-758EF178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8099-CE8C-40E9-B1CC-FFC82B95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8932-62DF-48F8-92F3-93B2636B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086E-0259-4712-BE29-4EBC9D25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886A3-33AE-49F6-9C3F-F17D9AB9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9D7FB-F17A-4329-BC47-3CA785CB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4F19-679E-4D2E-AC89-A535D9C8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9F8-92E7-44E9-957E-AE40AE0C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0B46-1D61-4C1C-B53B-62E5E419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2CCD-DEF0-426E-A856-2414ACF8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F8D7B-7716-4357-AF48-5713E3A1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BD538-E6A9-4118-A928-3E13EAF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88EB-66CE-4F5F-8944-2DFEA9AF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4BD1F-536F-4EF3-B43D-210CBE4A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3C21-5547-4D8D-B572-C48CAB3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59EE-D056-42C5-A416-B05F5F59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1AA4B-DDB6-4C63-A6EC-63A6CCF7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3C2E2-1697-47E9-B2E8-6C98CC58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A0B-1409-404B-9E5A-045B9BD9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C63D8-CEEC-4CDD-8561-B0D00455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F2F18-A241-453A-A9A7-02C0064D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52F22-FDC9-4BA7-83E8-91F7EFC2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86F85-D366-4CB6-803D-658DBC94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8EFA7-C852-47DF-9A5F-B2E68009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104B3-3A79-4897-9B39-944DD038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33342-4F8E-4A25-AAF9-686C2F46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CE7A-922C-4340-B7FF-7738A216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E9C6E-3AE6-4F7B-B6D3-D128D313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2BAD-5601-4065-B690-FA763EC5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A46-5517-4E77-91F1-0FFF0F6A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8C74-BFA6-4E3C-BA28-90D42330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6024C-67EC-4B18-9807-0EF4C4C0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65A2E-0DE7-422A-BAEA-66C70A95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D891E-8BA7-424E-A796-B9169FAC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18EEE-11D2-4424-977C-A5056D69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9B2EB-7099-4347-9534-0C7C22E4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FF94B-FBEE-4836-855E-C58F3042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688EB-2413-4CDF-9239-DC4E30E1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FBD28-48CF-465D-8FD0-C16BD991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4ABD5-99B1-4846-A20F-3C2FE026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E50-1BDD-4133-A8A3-0828188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C77EF-C303-49E8-B726-7B003901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604B5-2A1B-4F80-A405-6CF95473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94ED5-B6AD-4820-84DE-344CBB03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E9C0B-B76C-4741-A64C-1053C7E3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137B8-E3F9-43FD-89FF-FEAC9B8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5663-0E85-4235-9455-56A2470C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5095-8ABD-4005-89FC-E70270B8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F3FA9-040E-4444-B0FF-6A6424E1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3FC2-B961-4336-8FDB-6C8322D9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AC5C6-C0C3-4FFF-9450-559B3001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10B-4F79-49BA-A9EF-58FEEE2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AAA00-5959-457F-86FD-F2A19A2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A7C9A-F56D-4C25-905A-417C86F6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7B94C-845D-48DA-A394-E1671A38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2C3FB-850F-496A-B74E-78020A81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88395-127C-4782-9F85-CB27E6E8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C0EB9-8CE5-46C8-9F23-7989ADE3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1F068-6C18-4A05-B9CE-E146A673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376E9-5455-41F7-A014-9D6A15DD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052F0-FF5F-4110-8419-81D658AE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58533-76C3-4C38-8903-7F201DAD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6A3-748D-4894-A1A0-2AF79D35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5130-26E6-4608-A7AF-D6F9842E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078A7-15DB-47BD-8F99-B5A8C9E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CC5C9-46EC-435D-8EA8-9AAAFD79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F3B01-47B3-4950-83AA-E65F198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672D0-4B71-4450-8B94-7E30EFE4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74FD2-970F-487D-B6E3-54AB856E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EAC11-D7EF-49BB-B400-CDF7A9E4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D6D79-BD5A-46BA-95F2-151F2558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33ED6-D72C-4ECB-8301-F480C442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1E61F-117E-42E1-A8CB-77600CEB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a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a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8ea1c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0C9-5ED1-47EC-BF92-10FAAC687524}" type="slidenum">
              <a:rPr b="1" lang="en-US" sz="2600" spc="-1" strike="noStrike">
                <a:solidFill>
                  <a:srgbClr val="8ea1c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f5f5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19C3-5AFA-4D64-BF6A-D77A31B8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a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8ea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ea1c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ea1c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8ea1c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D9BA-9EA0-4A07-9C3C-B2612D65D2E1}" type="slidenum">
              <a:rPr b="1" lang="en-US" sz="2600" spc="-1" strike="noStrike">
                <a:solidFill>
                  <a:srgbClr val="8ea1c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95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663F-667F-4F82-8279-4EA0F9068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57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179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181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6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193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6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B669-5F6A-45C4-B2F9-8C4909312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24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FDF1-6558-48B5-BA8F-271DC79AB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28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2E99-15CB-4AFD-96F7-09C5F559A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2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8ea1c0"/>
                </a:gs>
                <a:gs pos="100000">
                  <a:srgbClr val="41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8499-826D-490A-889A-DB5B3A825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2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40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8ea1c0"/>
                </a:gs>
                <a:gs pos="100000">
                  <a:srgbClr val="41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43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414a58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35e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35e66"/>
                      </a:gs>
                      <a:gs pos="100000">
                        <a:srgbClr val="b6cdd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35e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35e66"/>
                      </a:gs>
                      <a:gs pos="100000">
                        <a:srgbClr val="b6cdd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35e66"/>
                    </a:gs>
                    <a:gs pos="5000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E1A3-7D01-4216-970E-7F8EFE098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B23D-1968-4D84-B655-6AF58315D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7c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a7c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0" y="457200"/>
            <a:ext cx="475308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anklin Gothic Medium"/>
              </a:rPr>
              <a:t>Роль овощей в питан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0" y="5105520"/>
            <a:ext cx="5029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кулинарии в 5 кла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876920" y="2278080"/>
            <a:ext cx="3238560" cy="2506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3429000" cy="26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к репчаты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сно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к-пор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к-бату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133720" y="45720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уковичны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4114800" y="2819520"/>
            <a:ext cx="3897360" cy="22334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6172200" y="1219320"/>
            <a:ext cx="2503440" cy="199044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4952880" y="4737240"/>
            <a:ext cx="29955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6000"/>
                            </p:stCondLst>
                            <p:childTnLst>
                              <p:par>
                                <p:cTn id="5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000"/>
                            </p:stCondLst>
                            <p:childTnLst>
                              <p:par>
                                <p:cTn id="5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4800240" y="2209320"/>
            <a:ext cx="373068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ята пер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йо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стра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295280" y="914400"/>
            <a:ext cx="5867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яност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2666880" y="4800600"/>
            <a:ext cx="1830600" cy="172548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1981080" y="3505320"/>
            <a:ext cx="1677960" cy="16794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762120" y="2286000"/>
            <a:ext cx="18129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8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000"/>
                            </p:stCondLst>
                            <p:childTnLst>
                              <p:par>
                                <p:cTn id="6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105520" y="685800"/>
            <a:ext cx="3581280" cy="54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Корнеплод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Клубнеплод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Капу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Тыквен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Бобов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Паслёнов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Листов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Лукович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Пря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 rot="5400000">
            <a:off x="-2062080" y="2976480"/>
            <a:ext cx="58672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Группы овоще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3693960" cy="34689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05120" y="3657600"/>
            <a:ext cx="31240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6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6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6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6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6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6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186080" y="2425320"/>
            <a:ext cx="434520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ю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ё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трушка корн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ьдерей корн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3520" y="685800"/>
            <a:ext cx="7467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рнепл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962160" cy="19432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2209680" cy="133056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11840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962160" y="2057400"/>
            <a:ext cx="464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Картофел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Батат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емляной миндал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455920" cy="2836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1295280" y="45720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убнеплод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5105160" y="2057040"/>
            <a:ext cx="3886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окочанн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аснокочанн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юссельск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ьраб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войск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676520" y="914400"/>
            <a:ext cx="61722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пус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4"/>
          <a:stretch/>
        </p:blipFill>
        <p:spPr>
          <a:xfrm>
            <a:off x="1219320" y="1905120"/>
            <a:ext cx="38480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1282320" y="1904760"/>
            <a:ext cx="748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у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ба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тисс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990720" y="60948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ыкв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895480" cy="18097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3124080" y="4876920"/>
            <a:ext cx="3733920" cy="1425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6661080" y="3429000"/>
            <a:ext cx="24829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4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1676520" y="60948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бов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3821040" cy="15951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4419720" y="4495680"/>
            <a:ext cx="3504960" cy="209736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1676160" y="1676520"/>
            <a:ext cx="70866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Горох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Фасол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Боб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Со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емляной оре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400"/>
                            </p:stCondLst>
                            <p:childTnLst>
                              <p:par>
                                <p:cTn id="3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900"/>
                            </p:stCondLst>
                            <p:childTnLst>
                              <p:par>
                                <p:cTn id="3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200"/>
                            </p:stCondLst>
                            <p:childTnLst>
                              <p:par>
                                <p:cTn id="3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40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495288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ма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клажан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ц сладк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66680" y="4572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слёнов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5029200" y="4648320"/>
            <a:ext cx="1735200" cy="17604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477120" y="4648320"/>
            <a:ext cx="1638360" cy="16491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1371600" y="5105520"/>
            <a:ext cx="15238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2743200" y="837720"/>
            <a:ext cx="59436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ла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ту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есс-сала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 rot="5400000">
            <a:off x="-1071360" y="2823840"/>
            <a:ext cx="5715000" cy="98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Листов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1307880" cy="17654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4495680" y="4876920"/>
            <a:ext cx="36687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07-05-14T01:25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