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0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2.jpeg" ContentType="image/jpeg"/>
  <Override PartName="/ppt/media/image13.jpeg" ContentType="image/jpeg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523-93DB-487A-A60F-A3D73C93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DBE-50E1-4B2C-85E4-5F585821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A97C2-FE22-458F-8CDD-3A3BD158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C52A3-4F79-4043-867F-6F4E326A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B4845-0AF9-47CF-97C8-B1D34E9E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56B17-D9A8-47D5-A42A-542BBE59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2B60F-A337-4C91-8250-6FA95549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7B99F-B468-40B4-A1EC-5CDF096B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2323B-566D-45F3-A183-EB351177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8BBB5-2C27-441C-AC83-4D1033B6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B995-54ED-4CC4-BB5A-CA077C7B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537BA-0E7F-4834-A4CE-73F4C65F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ED3-E281-45CB-BA4E-0EF51025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94A27-2E02-4573-9FB5-34CF29D2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71E50-B1D8-4770-850B-3964C730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9CA78-D1B0-4DDA-9E05-3E199557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63BF4-DFB4-421A-91BD-65DFB7DB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9339F-053A-4863-B64B-F711F770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B0241-5978-47BC-AACC-D3716AB8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F0864-E024-4CE0-821F-4B3B5D59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66D1F-5BFF-4285-B515-9D46980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4948A-6BC2-4CCA-B39A-2F683056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FECE7-E0AA-4458-9F49-D83E68C2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6CF-21E1-4297-A2FC-1EF91095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BA5C5-565C-473D-913E-F5EE4DA6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B041-84EE-4255-BC11-4CA497C0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F4C3-AB9B-442C-AFD3-CA07D9A3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C26B-7919-48DB-BB71-F5312C65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C58-53BB-4E72-A859-0D3D5B0D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FF5E-8E27-47FF-A37D-74E01908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9FA-D92B-4303-B645-8ADE1222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F4D9-35B4-4F85-B0EE-79A3196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AB5-5AD1-4038-BAC8-7673CB93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CBD1-5C19-446E-8035-2731B161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3CC1-6FAB-4792-9360-8BE90436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8366-8D82-488E-93F3-C3ACAE1C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2615-85C9-44F8-B1DF-A38DDA6B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4736-9EAA-4AF0-AB06-9D34A9F4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F428-A6EC-47EA-A6FE-D9EA28A9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F6D3-2E7C-40BF-AA69-83AD6B28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1943-4222-4F1F-B27D-09F37AFB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A70B-B541-48BD-9EAA-28EC9D75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3746-3B5E-4C6E-98B1-F0B0D73C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E3E-3997-485B-ACCF-D4EA0BC0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AD5E-A2AD-4E44-8CA3-0A524B08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1B49-E6A6-40A5-BD71-067D3EB2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D158E-EBCA-4334-A844-880D6EFE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60DF-7814-42A8-A24B-061B740C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E7F63-886E-4661-8BD5-9D982C62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3631-5ABE-4176-86E6-EC3F1FAB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F73A-3949-4E68-87D9-96882AFA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A76E-10B6-4EDA-9132-651EAF24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536FD-E9CC-46E3-BE90-7708E97B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3BBF8-2DE2-4E19-8852-8F9526D4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CA0-7B1F-4BC1-8760-BAEDFA74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26C9-8B4A-4369-B692-B532A641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6AA3A-ACA2-4418-BA9E-99AE3458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13CD-DB35-4F5D-89C2-C15FD82A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3422-A9CF-44E5-B813-1318C0B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26F42-3CEF-4713-95CB-982BBDBC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640C-7821-416B-81EF-52A0797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69BC6-B70E-4F2D-A488-5358C394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803BB-153C-409C-80E9-1144F5E9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3F1A-A76F-4EC9-BD9B-88840B9D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D2C3A-7E15-40E0-A897-A95BBFDB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32D-58AA-4F3C-867C-4B8E2FE9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EB08-33BA-4C8E-8855-E00D36FC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668A-83E4-402F-97A5-D4852130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2F127-529F-46F6-B0D9-F9AABBB8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36117-0BEB-4C55-A700-85CABA53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33A9D-C046-4FEE-992C-FDF03BF8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0D51-1F57-45F9-AFC8-D79A580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DE28C-057F-432D-BEF9-80D3A258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C6A6-553A-46BE-83D9-4BC1304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0DF15-A275-4BBE-9086-4E8AFE08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43AA-ECD4-445A-9EEB-068DF65E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D03-C324-418A-8B3C-7C88BC55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929C-D25A-4158-A8E5-3885468F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3CC14-1F07-4C40-ADA1-82E1FCEC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B6132-3988-4617-83B9-E18933DA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77314-2CDD-4A8B-80A1-86199258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2A14F-4FA6-4FDA-97CE-DC2CA7E8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6A9C-81F6-4E15-98CC-C654B8D8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601E-F586-41A9-A38A-C00DD545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59318-55EC-47BA-981D-B5435C2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9E99A-1B82-448A-8D15-E29324F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5269E-A6D5-45DD-B1CA-FDDAE412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3F6-2FD6-41C1-B718-2D4BABEA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4E9A9-A4F2-4D6E-AA9D-FD8E872C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2DA6-0744-4E60-91E5-003E5F93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AD10B-24B4-453D-B1F6-C5137F02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85879-D342-42B8-8AE3-5CFEBBA9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F3B3F-17D1-4154-8819-E133A1F9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96861-9AD2-4C4E-9711-EBAB3D6D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461F6-6815-457A-B478-4FE40AF1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2FC4D-8B11-4E9F-A4F6-9C392FEB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7781B-02E3-4AE2-98AC-8812A580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048E7-D5D8-467F-BF63-ADDF605D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387-538A-4B04-A9F8-B1B7018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B935A-3DC6-466C-A7D2-8905EC27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1F88B-B137-4B79-99D8-36B21892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B57AC-A94D-4FCF-85E3-B0C6B395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7A269-AE7C-4DBE-AE9A-35F67BF4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0C10-9BA6-4BC4-941D-6289F3F2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8A789-EF34-4B2B-81D6-70084E2C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736DA-A8A7-41D9-9A2F-B329BCE7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5D086-6871-4C4B-BA59-5D18FC7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82336-1243-4A51-8E7A-3AF4FD86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D1543-9115-4631-B570-BCB1DAA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B88-DE7E-42C1-8EEF-60E7B397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F29C3-0482-4284-B71C-D903821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C0359-AA1B-487F-9A3C-58E0343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2FE42-5733-4B7A-8110-97E73A1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CED9F-45CD-4B3D-A7F6-EAB67B4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1BC37-0D61-4D93-BAF4-CE71DDE5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EDCB5-62FB-4963-80C7-87C6C3FE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0717D-0C69-405E-BE2D-765E799A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0A39E-F3C7-49C5-8D1E-782D069F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40AF4-9F73-4565-8B57-F4EE773C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BDAA6-A3AF-41B7-8C26-68F457C9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a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a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8ea1c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BB27-DD00-47BB-B5E0-7F54EA3E2F19}" type="slidenum">
              <a:rPr b="1" lang="en-US" sz="2600" spc="-1" strike="noStrike">
                <a:solidFill>
                  <a:srgbClr val="8ea1c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f5f5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6145-A245-4496-8C33-379F1B3E1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a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8ea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ea1c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ea1c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8ea1c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794B-7E36-46F2-903C-BEDAE9573146}" type="slidenum">
              <a:rPr b="1" lang="en-US" sz="2600" spc="-1" strike="noStrike">
                <a:solidFill>
                  <a:srgbClr val="8ea1c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95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204-5C1A-4873-841A-5390E38B6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57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179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181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6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193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6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B85F-393D-400F-BA01-D3717CAC9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24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C128-C627-4C50-A734-4605B5852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28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F28-6FD0-4D75-8767-E4510F8BD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2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ABC7-F84D-4532-B993-A3E400652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40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43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14a58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35e66"/>
                    </a:gs>
                    <a:gs pos="5000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8291-A349-42ED-A992-8D9F34006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7326-601F-471E-ADFE-E2F55B1B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7c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a7c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0" y="457200"/>
            <a:ext cx="475308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anklin Gothic Medium"/>
              </a:rPr>
              <a:t>Роль овощей в питан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0" y="5105520"/>
            <a:ext cx="5029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кулинарии в 5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876920" y="2278080"/>
            <a:ext cx="3238560" cy="2506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3429000" cy="26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 репчаты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сно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-пор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-бату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133720" y="45720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уковичны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4114800" y="281952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6172200" y="1219320"/>
            <a:ext cx="2503440" cy="19904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4952880" y="4737240"/>
            <a:ext cx="29955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4800240" y="2209320"/>
            <a:ext cx="373068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ята пер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йо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тра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295280" y="914400"/>
            <a:ext cx="5867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яност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2666880" y="4800600"/>
            <a:ext cx="1830600" cy="17254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1981080" y="3505320"/>
            <a:ext cx="1677960" cy="16794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762120" y="2286000"/>
            <a:ext cx="18129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8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8000"/>
                            </p:stCondLst>
                            <p:childTnLst>
                              <p:par>
                                <p:cTn id="5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105520" y="685800"/>
            <a:ext cx="358128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Корнепло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Клубнепло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Капу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Тыквен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Бобов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Паслёнов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Листов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Лукович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Пря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 rot="5400000">
            <a:off x="-2062080" y="2976480"/>
            <a:ext cx="58672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руппы овоще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3693960" cy="34689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05120" y="3657600"/>
            <a:ext cx="31240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6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6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6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6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6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186080" y="2425320"/>
            <a:ext cx="434520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ю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ё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трушка корн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ьдерей корн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3520" y="685800"/>
            <a:ext cx="7467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рнепл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962160" cy="19432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2209680" cy="133056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11840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962160" y="2057400"/>
            <a:ext cx="464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Картофе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Батат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емляной минда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455920" cy="2836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1295280" y="45720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убнеплод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5105160" y="2057040"/>
            <a:ext cx="3886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окочан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аснокочан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юссельск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ьраб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войск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676520" y="914400"/>
            <a:ext cx="6172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пус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4"/>
          <a:stretch/>
        </p:blipFill>
        <p:spPr>
          <a:xfrm>
            <a:off x="1219320" y="1905120"/>
            <a:ext cx="38480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1282320" y="1904760"/>
            <a:ext cx="748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у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ба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тисс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90720" y="60948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ыкв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895480" cy="18097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3733920" cy="1425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6661080" y="3429000"/>
            <a:ext cx="24829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4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1676520" y="60948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бов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3821040" cy="15951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4419720" y="4495680"/>
            <a:ext cx="3504960" cy="209736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1676160" y="1676520"/>
            <a:ext cx="70866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Горох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Фасо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Боб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Со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емляной оре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400"/>
                            </p:stCondLst>
                            <p:childTnLst>
                              <p:par>
                                <p:cTn id="3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90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200"/>
                            </p:stCondLst>
                            <p:childTnLst>
                              <p:par>
                                <p:cTn id="3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4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495288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ма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клажан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ц сладк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66680" y="4572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слёнов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5029200" y="4648320"/>
            <a:ext cx="1735200" cy="17604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477120" y="4648320"/>
            <a:ext cx="1638360" cy="16491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1371600" y="5105520"/>
            <a:ext cx="15238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2743200" y="837720"/>
            <a:ext cx="59436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ла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ту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есс-сала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 rot="5400000">
            <a:off x="-1071360" y="2823840"/>
            <a:ext cx="5715000" cy="98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Листов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1307880" cy="17654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4495680" y="4876920"/>
            <a:ext cx="3668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07-05-14T01:25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