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4.gif" ContentType="image/gif"/>
  <Override PartName="/ppt/media/image9.gif" ContentType="image/gif"/>
  <Override PartName="/ppt/media/image2.gif" ContentType="image/gif"/>
  <Override PartName="/ppt/media/image3.gif" ContentType="image/gif"/>
  <Override PartName="/ppt/media/image11.png" ContentType="image/png"/>
  <Override PartName="/ppt/media/image6.wmf" ContentType="image/x-wmf"/>
  <Override PartName="/ppt/media/image7.png" ContentType="image/png"/>
  <Override PartName="/ppt/media/image1.jpeg" ContentType="image/jpeg"/>
  <Override PartName="/ppt/media/image4.gif" ContentType="image/gif"/>
  <Override PartName="/ppt/media/image8.png" ContentType="image/png"/>
  <Override PartName="/ppt/media/image5.jpeg" ContentType="image/jpeg"/>
  <Override PartName="/ppt/media/image13.png" ContentType="image/png"/>
  <Override PartName="/ppt/media/image10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445F-664E-4CB8-9D79-A3F0237CCC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ы презентации сопровождаются комментариями. Комментарии содержат элементы конспекта урока со стихами, загадками. Затронуты темы ПДД и патриотического воспитания (Флаг и герб Росс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Какие ещё символы государства вы знаете? (гимн, герб)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Слайд 11,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колько слогов в слове флаг? Из чего состоит этот слог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Что вы знаете о флаге Росси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Слайд 1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Прочитайте, что записано на экране? 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а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с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и имеет три цвета: белый, синий, красный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Почему думаете, что предложение? Что знаем о предложен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Сколько слов в предложении? Как записываем первое слово? И т.д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Списать предложение переведя печатный текст в письменн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Посмотрите на слова записанные ранее. Какие слова могут быть лишними? (светофор-буква не в начале слова; Фома-им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Для чего нам нужен светофор? (Для безопасного перехода улицы.) Какие цвета есть у светофора? Что каждый из них обознача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оставьте предложение, чтобы в нём было оба лишних слова. (Фома стоит у светофора.)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Запись предложения под диктовк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Работа в пропис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Расскажите, как расположена письменная заглавная буква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на рабочей строке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Пропишите в прописи 3 раза, подчеркните лучшую, пропишите до конца строк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Что записано на 2 строке? (слоги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Зачем уметь писать заглавную букву Ф? (имена, клички животных, первое слово в предложении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Приведите примеры (Франция-страна; Фёкла, Федора, Федя, Фома - имена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Подберите слова, чтобы они начинались на только что записанные слоги.(несколько слов записываем в маленькую тетрадь, делим на слоги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Подойдёт ли слово фабрика? (Да, если предложение будет начинаться с этого слова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Что такое фабрика? (Большое предприятие по изготовлению чего-либо, по выпуску чего-ли: швейная фабрика, обувная фабрика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Подойдёт ли слово футбол? (Да, если предложение будет начинаться с этого слова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Составьте такое предложение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Послушайте стихотворение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казала тётя: - Фи, футбол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казала мама: - Фу, футбол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естра сказала: - Ну, футбол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А я ответил: - Во, футбол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Кто попробует повторить фразу мальчика, подумайте, как он её произнёс (жест рукой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этом тексте слово футбол с какой буквы пишется? (с маленькой т.к. нет начала предложения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Работа в рабочей тетрад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Ну а сейчас несколько загадок, отгадки запишем в тетрадь с новой строки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. Весь день стоят на улице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охожим улыбаютс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х служба начинается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огда уже смеркается. (фонари)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Слайд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Почему улыбаются? (горят, светятся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Фонари – это много, а один? С какой буквы будем записывать? (с маленькой) и т.д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нём молчит, ночью кричит. (филин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лайд 3 со зву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то такой филин? (хищная птиц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д буквой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ф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ставить зелёные или синие точки в зависимости от мягкости – твёрдости.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ассмотрите слова. Какое слово лишнее? (облако-неодушевлённо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кое имя спряталось? (Фома-пишем с большой букв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назвали чудищем? Какой цвет называют изумрудным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светофор?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лайд 6, Слайд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мину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Помогите составить слова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Слайд: 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филин, флажо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апишем их в тетрадь. Будем «филин» писать? (нет, уже записан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смотрите! Посмотрит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от какой флажок у Мит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то флажок подарил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итя сам смастерил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О чём стихотворение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Можно ли про символику государства сказать «фла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ж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к»?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Слайд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CA72-D516-4AF4-95DB-FD3FD1A49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0BE3-A3B7-453F-B9D5-EF16A4B7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5EAA-8163-4CB5-8B5B-37B588A3D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43C4-23A3-4159-AFB4-DCE907790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AB6B-2081-4D66-9260-FA9D848B1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C360-1733-4957-9590-4C942144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D855-1516-4106-8E85-4A889197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18EF-B72A-455A-BC56-BE1F5225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3981-5AA3-40A8-ABD6-237C1496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B850-6B3A-4082-80FE-53CBB8F9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9284-A72A-47D3-9A28-533A5C83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0565-0A6D-48DC-BD51-59D6C3AC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6354-5F8E-4243-872A-4829927F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1B33-A985-46A0-B96B-5EA7A6D5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8EBC-8F6D-490B-A886-B5A02096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C725-7D6A-42AC-8CF3-2925146EB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14AD-1595-4868-B2DE-FD0A61FD7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9DCC-89A8-4089-887E-FB513945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C9A4-4044-42B4-A7C4-F782A012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A5D4-8851-468F-A5ED-33D487EC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1042-AF82-48E3-8EC5-8980F741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996F-8273-4FF7-91DF-CE832C17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8AB4-B047-4204-891E-C64DD0BB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7DCE-59B1-4532-BB9A-5CADA62F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1D3E-CEDF-4130-ABB8-1739222564E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D290-FCEA-4C60-9A83-6F14B6BD66C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2990880" cy="4321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076720" y="476280"/>
            <a:ext cx="36720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бучение грамо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письмо) 1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е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Прописная буква  Ф.»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пись 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 «Русской азбук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.В. Горецкого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ва  «Просвещение»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818480" y="4437000"/>
            <a:ext cx="907920" cy="1297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004000" y="5373720"/>
            <a:ext cx="26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: Е.В. Новик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95280" y="1125360"/>
            <a:ext cx="84409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ffffff"/>
                </a:solidFill>
                <a:latin typeface="Arial"/>
              </a:rPr>
              <a:t>ФЛАГ </a:t>
            </a:r>
            <a:endParaRPr b="0" lang="en-US" sz="1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ffffff"/>
                </a:solidFill>
                <a:latin typeface="Arial"/>
              </a:rPr>
              <a:t>ФЛАЖОК </a:t>
            </a:r>
            <a:endParaRPr b="0" lang="en-US" sz="1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651640" y="2349360"/>
            <a:ext cx="3744720" cy="14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ФЛАГ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5040360" cy="336060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067280" y="4137120"/>
            <a:ext cx="4825800" cy="26049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948120" y="692280"/>
            <a:ext cx="4373640" cy="5256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81800" y="4149720"/>
            <a:ext cx="3108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ГЕРБ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59440" y="1914840"/>
            <a:ext cx="8588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лаг России имеет три цвет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белый, синий, красны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26920" y="1341360"/>
            <a:ext cx="7417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 ЗА  УРО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867280" y="3805200"/>
            <a:ext cx="2162160" cy="20779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ИСТОЧНИК: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опись 4  к «Русской азбуке» В.В. Горецкого,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Москва,  «Просвещение», 200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нтерн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496280" y="3789360"/>
            <a:ext cx="1055520" cy="2232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14440" y="3933720"/>
            <a:ext cx="1020600" cy="2159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771640" y="620640"/>
            <a:ext cx="3687840" cy="5400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708280"/>
            <a:ext cx="421164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500" spc="-1" strike="noStrike">
                <a:solidFill>
                  <a:srgbClr val="ffffff"/>
                </a:solidFill>
                <a:latin typeface="Arial"/>
              </a:rPr>
              <a:t>ФИЛИН</a:t>
            </a:r>
            <a:endParaRPr b="0" lang="en-US" sz="85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284720" y="476280"/>
          <a:ext cx="4295880" cy="53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476280"/>
                    <a:ext cx="429588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866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60360" y="981000"/>
            <a:ext cx="2940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</a:rPr>
              <a:t>илин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89080" y="2276640"/>
            <a:ext cx="344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</a:rPr>
              <a:t>блако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90880" y="3573360"/>
            <a:ext cx="4216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</a:rPr>
              <a:t>едведь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17800" y="4797360"/>
            <a:ext cx="4780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Arial"/>
              </a:rPr>
              <a:t>нтилопа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50920" y="981000"/>
            <a:ext cx="122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Ф  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25800" y="4797360"/>
            <a:ext cx="986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80720" y="3573360"/>
            <a:ext cx="1112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3080" y="2349360"/>
            <a:ext cx="1049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04000" y="3573360"/>
            <a:ext cx="2068560" cy="217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66 0.04254 L -0.12969 0.18936 E">
                                      <p:cBhvr>
                                        <p:cTn id="3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712 -0.03098 L 0.13594 -0.1778 E">
                                      <p:cBhvr>
                                        <p:cTn id="38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21965E-006 L 0.26875 -0.35607 E">
                                      <p:cBhvr>
                                        <p:cTn id="40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42160" y="907200"/>
            <a:ext cx="8221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Запылал у чудищ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Изумрудный глаз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Значит, можно улицу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Перейти сейчас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82000" y="5094360"/>
            <a:ext cx="35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светофор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7850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Светофор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– это специальное устройство для подачи световых сигналов, регулирующих движение на дорогах.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14" descr="raznoe150"/>
          <p:cNvPicPr/>
          <p:nvPr/>
        </p:nvPicPr>
        <p:blipFill>
          <a:blip r:embed="rId1"/>
          <a:stretch/>
        </p:blipFill>
        <p:spPr>
          <a:xfrm>
            <a:off x="7921800" y="189000"/>
            <a:ext cx="969840" cy="1944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7416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Его язык совсем простой-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Ты должен знать об этом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Слова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«</a:t>
            </a:r>
            <a:r>
              <a:rPr b="1" lang="en-US" sz="4800" spc="-1" strike="noStrike">
                <a:solidFill>
                  <a:srgbClr val="009900"/>
                </a:solidFill>
                <a:latin typeface="Garamond"/>
              </a:rPr>
              <a:t>ИДИ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»,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«</a:t>
            </a:r>
            <a:r>
              <a:rPr b="1" lang="en-US" sz="4800" spc="-1" strike="noStrike">
                <a:solidFill>
                  <a:srgbClr val="ffff66"/>
                </a:solidFill>
                <a:latin typeface="Garamond"/>
              </a:rPr>
              <a:t>ВНИМАНИЕ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»,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«</a:t>
            </a:r>
            <a:r>
              <a:rPr b="1" lang="en-US" sz="4800" spc="-1" strike="noStrike">
                <a:solidFill>
                  <a:srgbClr val="ff0066"/>
                </a:solidFill>
                <a:latin typeface="Garamond"/>
              </a:rPr>
              <a:t>СТОЙ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».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Он говорит нам цветом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72240" y="1268280"/>
            <a:ext cx="1571760" cy="4753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-128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42160" y="765000"/>
            <a:ext cx="8332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Детям знать положено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Правила дорожные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Ты, дружок, доверься им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Будешь цел и невредим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487692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акие правила вы будет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облюдать на дорог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404280"/>
            <a:ext cx="3960720" cy="67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0" spc="-1" strike="noStrike">
                <a:solidFill>
                  <a:srgbClr val="ffffff"/>
                </a:solidFill>
                <a:latin typeface="Arial"/>
              </a:rPr>
              <a:t>ФИ</a:t>
            </a:r>
            <a:endParaRPr b="0" lang="en-US" sz="1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0" spc="-1" strike="noStrike">
                <a:solidFill>
                  <a:srgbClr val="ffffff"/>
                </a:solidFill>
                <a:latin typeface="Arial"/>
              </a:rPr>
              <a:t>ЛИН</a:t>
            </a:r>
            <a:endParaRPr b="0" lang="en-US" sz="1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10240" y="2637000"/>
            <a:ext cx="44337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ffffff"/>
                </a:solidFill>
                <a:latin typeface="Arial"/>
              </a:rPr>
              <a:t>ФЛА</a:t>
            </a:r>
            <a:endParaRPr b="0" lang="en-US" sz="1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16360" y="620640"/>
            <a:ext cx="42436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ffffff"/>
                </a:solidFill>
                <a:latin typeface="Arial"/>
              </a:rPr>
              <a:t>ЖОК</a:t>
            </a:r>
            <a:endParaRPr b="0" lang="en-US" sz="1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36 0.03727 L -0.47188 0.07917 E">
                                      <p:cBhvr>
                                        <p:cTn id="85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476 0.16319 L -0.05868 0.37315 E">
                                      <p:cBhvr>
                                        <p:cTn id="88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08:45:09Z</dcterms:created>
  <dc:creator>***</dc:creator>
  <dc:description/>
  <dc:language>en-US</dc:language>
  <cp:lastModifiedBy>Лена</cp:lastModifiedBy>
  <dcterms:modified xsi:type="dcterms:W3CDTF">2010-03-27T18:17:24Z</dcterms:modified>
  <cp:revision>85</cp:revision>
  <dc:subject/>
  <dc:title>Слайд 1</dc:title>
</cp:coreProperties>
</file>