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5.jpeg" ContentType="image/jpeg"/>
  <Override PartName="/ppt/media/image13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A2E5-4E1A-418F-96A9-A93BC43EA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ы презентации сопровождаются комментариями. Комментарии содержат элементы конспекта урока со стихами, загадками. Затронуты темы ПДД и патриотического воспитания (Флаг и герб Росс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Какие ещё символы государства вы знаете? (гимн, герб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1,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олько слогов в слове флаг? Из чего состоит этот сло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Что вы знаете о флаге Росс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рочитайте, что записано на экране?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и имеет три цвета: белый, синий, красный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чему думаете, что предложение? Что знаем о предлож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Сколько слов в предложении? Как записываем первое слово? И т.д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писать предложение переведя печатный текст в письм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смотрите на слова записанные ранее. Какие слова могут быть лишними? (светофор-буква не в начале слова; Фома-им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Для чего нам нужен светофор? (Для безопасного перехода улицы.) Какие цвета есть у светофора? Что каждый из них обознач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ьте предложение, чтобы в нём было оба лишних слова. (Фома стоит у светофора.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Запись предложения под диктов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пропис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Расскажите, как расположена письменная заглавная букв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рабочей строк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опишите в прописи 3 раза, подчеркните лучшую, пропишите до конца стро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записано на 2 строке? (слоги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Зачем уметь писать заглавную букву Ф? (имена, клички животных, первое слово в предложени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иведите примеры (Франция-страна; Фёкла, Федора, Федя, Фома - имен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берите слова, чтобы они начинались на только что записанные слоги.(несколько слов записываем в маленькую тетрадь, делим на слог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абрика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такое фабрика? (Большое предприятие по изготовлению чего-либо, по выпуску чего-ли: швейная фабрика, обувная фабри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утбол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Составьте такое предложе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слушайте стихотворени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тётя: - Фи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мама: - Фу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естра сказала: - Ну, футбол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я ответил: - Во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Кто попробует повторить фразу мальчика, подумайте, как он её произнёс (жест рукой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этом тексте слово футбол с какой буквы пишется? (с маленькой т.к. нет начала предложени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рабочей тетрад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Ну а сейчас несколько загадок, отгадки запишем в тетрадь с новой стро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 Весь день стоят на улиц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хожим улыб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х служба начинается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уже смеркается. (фонари)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чему улыбаются? (горят, светятс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Фонари – это много, а один? С какой буквы будем записывать? (с маленькой) 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нём молчит, ночью кричит. (филин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3 со зву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то такой филин? (хищная пт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 букв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авить зелёные или синие точки в зависимости от мягкости – твёрдости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ссмотрите слова. Какое слово лишнее? (облако-неодушевлён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е имя спряталось? (Фома-пишем с большой бук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вали чудищем? Какой цвет называют изумруд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светофор?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6, 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Помогите составить слова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: 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филин, флаж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пишем их в тетрадь. Будем «филин» писать? (нет, уже записа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мотрите! Посмот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какой флажок у Ми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то флажок подар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тя сам смастери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О чём стихотвор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Можно ли про символику государства сказать «ф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к»?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259-6353-4ED0-8629-A259F0B5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C39-CE05-4663-827C-B8ABE4B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4FC-9C5A-4897-B60B-95E8D1B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348-70F4-431E-BC50-A8F54BE2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58C4-2EA3-4738-9B9B-DECC540E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A8B-2BC1-4455-8C28-949B0410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01B7-B790-4A3C-9081-3022239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9257-64E4-489A-815B-CB79F563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462-D9CC-44D6-BC00-160FB2D2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2E7-3983-495D-9023-3317D69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CCE0-1817-4C88-ADB9-75F4E19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4DE-AEF9-4CE6-B9F0-4F993C17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A427-8DCF-409E-A0F8-F1923F4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25B-C735-442A-B4D8-EA83AD4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08A-DDC1-47D6-AF4E-1A7B0BB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B38-4AB8-47E9-BD5C-C61A1819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2B0-5981-4B59-B56F-4213B73F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8FF-7673-4D06-839A-C163E18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854-7ACF-459A-8D5E-8076E97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163-52A3-4CC2-958A-8D004843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A5E-9044-4129-A811-202455C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05B-266B-490A-8D51-EABE20AB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A71-77BA-4EAF-A66A-CECDABE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A51-7AF1-4D56-A8F1-01AD749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4954-87F3-47DD-8946-7912955F0A5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BE6B-5324-49D7-B731-86A72FA375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99088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76720" y="476280"/>
            <a:ext cx="36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учение грам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исьмо) 1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рописная буква  Ф.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ись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«Русской азбу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В. Горецк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 «Просвещение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18480" y="4437000"/>
            <a:ext cx="90792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4000" y="53737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: Е.В. Нови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125360"/>
            <a:ext cx="8440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Г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ЖОК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51640" y="2349360"/>
            <a:ext cx="374472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ЛАГ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40360" cy="3360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4137120"/>
            <a:ext cx="482580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48120" y="692280"/>
            <a:ext cx="4373640" cy="525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1800" y="4149720"/>
            <a:ext cx="310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ГЕРБ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59440" y="1914840"/>
            <a:ext cx="858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лаг России имеет три цве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й, синий, красн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1341360"/>
            <a:ext cx="741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 ЗА 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3805200"/>
            <a:ext cx="2162160" cy="2077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ИСТОЧНИК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пись 4  к «Русской азбуке» В.В. Горецкого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осква,  «Просвещение», 20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рн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96280" y="3789360"/>
            <a:ext cx="10555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440" y="3933720"/>
            <a:ext cx="1020600" cy="215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3687840" cy="54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500" spc="-1" strike="noStrike">
                <a:solidFill>
                  <a:srgbClr val="ffffff"/>
                </a:solidFill>
                <a:latin typeface="Arial"/>
              </a:rPr>
              <a:t>ФИЛИН</a:t>
            </a:r>
            <a:endParaRPr b="0" lang="en-US" sz="85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4720" y="476280"/>
          <a:ext cx="429588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76280"/>
                    <a:ext cx="42958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6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60360" y="981000"/>
            <a:ext cx="294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илин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080" y="2276640"/>
            <a:ext cx="344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блак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0880" y="3573360"/>
            <a:ext cx="421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едвед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7800" y="4797360"/>
            <a:ext cx="478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нтилоп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981000"/>
            <a:ext cx="122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5800" y="479736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0720" y="3573360"/>
            <a:ext cx="111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3080" y="2349360"/>
            <a:ext cx="104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3573360"/>
            <a:ext cx="2068560" cy="217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0.04254 L -0.12969 0.18936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-0.03098 L 0.13594 -0.1778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1965E-006 L 0.26875 -0.35607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42160" y="907200"/>
            <a:ext cx="822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апылал у чудищ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Изумрудный гла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начит, можно улиц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ерейти сейчас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2000" y="50943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785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ветофор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– это специальное устройство для подачи световых сигналов, регулирующих движение на дорогах.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4" descr="raznoe150"/>
          <p:cNvPicPr/>
          <p:nvPr/>
        </p:nvPicPr>
        <p:blipFill>
          <a:blip r:embed="rId1"/>
          <a:stretch/>
        </p:blipFill>
        <p:spPr>
          <a:xfrm>
            <a:off x="7921800" y="189000"/>
            <a:ext cx="969840" cy="194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41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Его язык совсем простой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Ты должен знать об это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Слова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009900"/>
                </a:solidFill>
                <a:latin typeface="Garamond"/>
              </a:rPr>
              <a:t>ИДИ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ВНИМАНИЕ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СТОЙ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Он говорит нам цветом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72240" y="1268280"/>
            <a:ext cx="1571760" cy="475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42160" y="765000"/>
            <a:ext cx="833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етям знать положе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равила дорожны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ы, дружок, доверься им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8769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правила вы буде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блюдать на доро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04280"/>
            <a:ext cx="3960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ФИ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ЛИН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0240" y="2637000"/>
            <a:ext cx="4433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ФЛ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620640"/>
            <a:ext cx="4243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ЖОК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6 0.03727 L -0.47188 0.07917 E">
                                      <p:cBhvr>
                                        <p:cTn id="8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76 0.16319 L -0.05868 0.37315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8:45:09Z</dcterms:created>
  <dc:creator>***</dc:creator>
  <dc:description/>
  <dc:language>en-US</dc:language>
  <cp:lastModifiedBy>Лена</cp:lastModifiedBy>
  <dcterms:modified xsi:type="dcterms:W3CDTF">2010-03-27T18:17:24Z</dcterms:modified>
  <cp:revision>85</cp:revision>
  <dc:subject/>
  <dc:title>Слайд 1</dc:title>
</cp:coreProperties>
</file>