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2.xlsx" ContentType="application/vnd.openxmlformats-officedocument.spreadsheetml.sheet"/>
  <Override PartName="/ppt/embeddings/oleObject3.docx" ContentType="application/vnd.openxmlformats-officedocument.wordprocessingml.documen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1.xlsx" ContentType="application/vnd.openxmlformats-officedocument.spreadsheetml.sheet"/>
  <Override PartName="/ppt/media/image13.wmf" ContentType="image/x-wmf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8.png" ContentType="image/png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ADC9-D934-4A42-9926-39045B847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F7DC-4B97-434D-8B60-2369B891A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5B5B-CA0A-4BF9-8738-5C7CCD75A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A142-421B-45B5-A914-2493C54AF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0D49-AC13-4103-9DF3-634DEA21B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AD80-B3AA-40BA-A524-84998458F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FF68-66FE-41DD-BD2D-4981765C0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1A5E-3E78-4842-8DC8-00A5946B0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2371-6813-4C56-BC3B-B6E010A62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672D-AC14-4D4B-ACF3-DB729012E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2395-182C-4190-8B79-F0ED2895B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3B47-BE1F-49B1-A59D-ABB31332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AED7B-4C48-479E-9356-D807FA6CCD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0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2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5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ff"/>
                </a:solidFill>
                <a:latin typeface="Arial"/>
              </a:rPr>
              <a:t>Использование инновационных технологий на разных этапах образовательного процесса в начальной школ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7652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5110d"/>
                </a:solidFill>
                <a:latin typeface="Arial"/>
              </a:rPr>
              <a:t>Из опыта работы учите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5110d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15110d"/>
                </a:solidFill>
                <a:latin typeface="Arial"/>
              </a:rPr>
              <a:t>МОУ СОШ № 57 г. Краснода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5110d"/>
                </a:solidFill>
                <a:latin typeface="Arial"/>
              </a:rPr>
              <a:t>Сташ Маргариты Пшимафов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600"/>
                            </p:stCondLst>
                            <p:childTnLst>
                              <p:par>
                                <p:cTn id="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100"/>
                            </p:stCondLst>
                            <p:childTnLst>
                              <p:par>
                                <p:cTn id="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971640" y="1341360"/>
          <a:ext cx="7921440" cy="5272200"/>
        </p:xfrm>
        <a:graphic>
          <a:graphicData uri="http://schemas.openxmlformats.org/drawingml/2006/table">
            <a:tbl>
              <a:tblPr/>
              <a:tblGrid>
                <a:gridCol w="216000"/>
                <a:gridCol w="7705440"/>
              </a:tblGrid>
              <a:tr h="5277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момент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 внимание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 общий план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туализация: письменная, устна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ановка проблем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Открытие» нового знания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 подводящий диалог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 побуждающий диалог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 гипотез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ичное закрепление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 проговаривание алгоритма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 комментирование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 Работа в парах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остоятельная работа с самопроверкой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енировочные упражнения и задания на повторени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 урока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Структура урока по математ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971640" y="836640"/>
          <a:ext cx="7777080" cy="5764320"/>
        </p:xfrm>
        <a:graphic>
          <a:graphicData uri="http://schemas.openxmlformats.org/drawingml/2006/table">
            <a:tbl>
              <a:tblPr/>
              <a:tblGrid>
                <a:gridCol w="441360"/>
                <a:gridCol w="3844800"/>
                <a:gridCol w="34909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спользование обучающих программ на СД (компакт-дисках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ормы рабо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3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бота в кабинете информат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ллективная работа по новой теме с использованием проектора. Применение презентаци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дивидуальные занятия в игровой форм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вторение изученного материала. Повторени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3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бота с компьютером дом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иск материалов для рефератов по истории, литературному чтению, окружающему мир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мпьютерное репетиторств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полнение индивидуальных заданий учителя на дискетах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6136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пьютерные техн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0" y="333360"/>
            <a:ext cx="3135240" cy="1736640"/>
            <a:chOff x="0" y="333360"/>
            <a:chExt cx="3135240" cy="1736640"/>
          </a:xfrm>
        </p:grpSpPr>
        <p:sp>
          <p:nvSpPr>
            <p:cNvPr id="88" name=""/>
            <p:cNvSpPr/>
            <p:nvPr/>
          </p:nvSpPr>
          <p:spPr>
            <a:xfrm>
              <a:off x="0" y="333360"/>
              <a:ext cx="3135240" cy="17366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                      </a:t>
              </a:r>
              <a:r>
                <a:rPr b="1" lang="ru-RU" sz="4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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 txBox="1"/>
            <p:nvPr/>
          </p:nvSpPr>
          <p:spPr>
            <a:xfrm>
              <a:off x="335880" y="424440"/>
              <a:ext cx="2472840" cy="275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Спряжение глаголов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90" name=""/>
            <p:cNvSpPr txBox="1"/>
            <p:nvPr/>
          </p:nvSpPr>
          <p:spPr>
            <a:xfrm>
              <a:off x="111960" y="973080"/>
              <a:ext cx="2911320" cy="5482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ff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Королевство Грамматики</a:t>
              </a:r>
              <a:endPara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843280" y="476280"/>
            <a:ext cx="2808360" cy="1873080"/>
            <a:chOff x="2843280" y="476280"/>
            <a:chExt cx="2808360" cy="1873080"/>
          </a:xfrm>
        </p:grpSpPr>
        <p:sp>
          <p:nvSpPr>
            <p:cNvPr id="92" name=""/>
            <p:cNvSpPr/>
            <p:nvPr/>
          </p:nvSpPr>
          <p:spPr>
            <a:xfrm>
              <a:off x="2843280" y="476280"/>
              <a:ext cx="2808360" cy="1873080"/>
            </a:xfrm>
            <a:prstGeom prst="rect">
              <a:avLst/>
            </a:prstGeom>
            <a:gradFill rotWithShape="0">
              <a:gsLst>
                <a:gs pos="0">
                  <a:srgbClr val="99ff33"/>
                </a:gs>
                <a:gs pos="100000">
                  <a:srgbClr val="ccffff"/>
                </a:gs>
              </a:gsLst>
              <a:lin ang="5400000"/>
            </a:gra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Ить</a:t>
              </a:r>
              <a:r>
                <a:rPr b="1" lang="ru-RU" sz="4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ru-RU" sz="2000" spc="-1" strike="noStrike">
                  <a:solidFill>
                    <a:srgbClr val="ff0000"/>
                  </a:solidFill>
                  <a:latin typeface="Times New Roman"/>
                </a:rPr>
                <a:t>и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            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терпеть       вертеть обидеть  зависеть    ненавидет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видеть   смотреть         гнат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слышать   дышать    держат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2936880" y="673200"/>
              <a:ext cx="2310840" cy="27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ff00"/>
                  </a:solidFill>
                  <a:latin typeface="Arial"/>
                </a:rPr>
                <a:t>Царство 2 спряжения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24360" y="0"/>
            <a:ext cx="2737080" cy="2162160"/>
            <a:chOff x="5724360" y="0"/>
            <a:chExt cx="2737080" cy="2162160"/>
          </a:xfrm>
        </p:grpSpPr>
        <p:sp>
          <p:nvSpPr>
            <p:cNvPr id="95" name=""/>
            <p:cNvSpPr/>
            <p:nvPr/>
          </p:nvSpPr>
          <p:spPr>
            <a:xfrm>
              <a:off x="5724360" y="0"/>
              <a:ext cx="2737080" cy="21621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                 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БРИТЬ   СТЕЛИТ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 txBox="1"/>
            <p:nvPr/>
          </p:nvSpPr>
          <p:spPr>
            <a:xfrm>
              <a:off x="5919840" y="113760"/>
              <a:ext cx="2454120" cy="320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3300"/>
                    </a:solidFill>
                    <a:miter/>
                  </a:ln>
                  <a:solidFill>
                    <a:srgbClr val="008000"/>
                  </a:solidFill>
                  <a:latin typeface="Arial"/>
                </a:rPr>
                <a:t>Царство 1 спряжения</a:t>
              </a:r>
              <a:endParaRPr b="0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8000"/>
                </a:solidFill>
                <a:latin typeface="Arial"/>
                <a:ea typeface="Arial"/>
              </a:endParaRPr>
            </a:p>
          </p:txBody>
        </p:sp>
        <p:sp>
          <p:nvSpPr>
            <p:cNvPr id="97" name=""/>
            <p:cNvSpPr txBox="1"/>
            <p:nvPr/>
          </p:nvSpPr>
          <p:spPr>
            <a:xfrm>
              <a:off x="6212880" y="455040"/>
              <a:ext cx="1563840" cy="77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863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Impact"/>
                </a:rPr>
                <a:t>ВСЕ ОСТАЛЬНЫЕ</a:t>
              </a:r>
              <a:endPara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6084720" y="2133720"/>
            <a:ext cx="2737080" cy="2374920"/>
            <a:chOff x="6084720" y="2133720"/>
            <a:chExt cx="2737080" cy="2374920"/>
          </a:xfrm>
        </p:grpSpPr>
        <p:sp>
          <p:nvSpPr>
            <p:cNvPr id="99" name=""/>
            <p:cNvSpPr/>
            <p:nvPr/>
          </p:nvSpPr>
          <p:spPr>
            <a:xfrm>
              <a:off x="6084720" y="2133720"/>
              <a:ext cx="2737080" cy="2374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00"/>
                </a:gs>
              </a:gsLst>
              <a:lin ang="13500000"/>
            </a:gra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1спр.               2 спр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ем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ит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ешь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 иш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ете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 ит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ет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ит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ут, ют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ат, ят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 txBox="1"/>
            <p:nvPr/>
          </p:nvSpPr>
          <p:spPr>
            <a:xfrm>
              <a:off x="6449400" y="2258640"/>
              <a:ext cx="188172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00"/>
                  </a:solidFill>
                  <a:latin typeface="Impact"/>
                </a:rPr>
                <a:t>Личные окончания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50920" y="2781360"/>
            <a:ext cx="2560680" cy="1828800"/>
            <a:chOff x="250920" y="2781360"/>
            <a:chExt cx="2560680" cy="1828800"/>
          </a:xfrm>
        </p:grpSpPr>
        <p:sp>
          <p:nvSpPr>
            <p:cNvPr id="102" name=""/>
            <p:cNvSpPr/>
            <p:nvPr/>
          </p:nvSpPr>
          <p:spPr>
            <a:xfrm>
              <a:off x="250920" y="2781360"/>
              <a:ext cx="2560680" cy="182880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800080"/>
                  </a:solidFill>
                  <a:latin typeface="Times New Roman"/>
                </a:rPr>
                <a:t>Видешь, бреет, мочем, знаишь, терпет, жалеем, купет, держит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 txBox="1"/>
            <p:nvPr/>
          </p:nvSpPr>
          <p:spPr>
            <a:xfrm>
              <a:off x="342360" y="2964240"/>
              <a:ext cx="2286360" cy="274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80"/>
                  </a:solidFill>
                  <a:latin typeface="Arial"/>
                </a:rPr>
                <a:t>Исправь ошибку: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2771640" y="3429000"/>
            <a:ext cx="2743200" cy="1828800"/>
            <a:chOff x="2771640" y="3429000"/>
            <a:chExt cx="2743200" cy="1828800"/>
          </a:xfrm>
        </p:grpSpPr>
        <p:sp>
          <p:nvSpPr>
            <p:cNvPr id="105" name=""/>
            <p:cNvSpPr/>
            <p:nvPr/>
          </p:nvSpPr>
          <p:spPr>
            <a:xfrm>
              <a:off x="2771640" y="3429000"/>
              <a:ext cx="2743200" cy="1828800"/>
            </a:xfrm>
            <a:prstGeom prst="rect">
              <a:avLst/>
            </a:prstGeom>
            <a:solidFill>
              <a:srgbClr val="ffcc99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1спр.           2 спр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i="1" lang="ru-RU" sz="2000" spc="-1" strike="noStrike">
                  <a:solidFill>
                    <a:srgbClr val="800000"/>
                  </a:solidFill>
                  <a:latin typeface="Times New Roman"/>
                </a:rPr>
                <a:t>играть       крыт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800000"/>
                  </a:solidFill>
                  <a:latin typeface="Times New Roman"/>
                </a:rPr>
                <a:t>      </a:t>
              </a:r>
              <a:r>
                <a:rPr b="1" i="1" lang="ru-RU" sz="2000" spc="-1" strike="noStrike">
                  <a:solidFill>
                    <a:srgbClr val="800000"/>
                  </a:solidFill>
                  <a:latin typeface="Times New Roman"/>
                </a:rPr>
                <a:t>видеть    гладить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800000"/>
                  </a:solidFill>
                  <a:latin typeface="Times New Roman"/>
                </a:rPr>
                <a:t>      </a:t>
              </a:r>
              <a:r>
                <a:rPr b="1" i="1" lang="ru-RU" sz="2000" spc="-1" strike="noStrike">
                  <a:solidFill>
                    <a:srgbClr val="800000"/>
                  </a:solidFill>
                  <a:latin typeface="Times New Roman"/>
                </a:rPr>
                <a:t>бранить    брит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800000"/>
                  </a:solidFill>
                  <a:latin typeface="Times New Roman"/>
                </a:rPr>
                <a:t>       </a:t>
              </a:r>
              <a:r>
                <a:rPr b="1" i="1" lang="ru-RU" sz="2000" spc="-1" strike="noStrike">
                  <a:solidFill>
                    <a:srgbClr val="800000"/>
                  </a:solidFill>
                  <a:latin typeface="Times New Roman"/>
                </a:rPr>
                <a:t>петь        любит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 txBox="1"/>
            <p:nvPr/>
          </p:nvSpPr>
          <p:spPr>
            <a:xfrm rot="5400000">
              <a:off x="2253960" y="4128840"/>
              <a:ext cx="1590480" cy="37332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9360">
                    <a:solidFill>
                      <a:srgbClr val="800000"/>
                    </a:solidFill>
                    <a:miter/>
                  </a:ln>
                  <a:solidFill>
                    <a:srgbClr val="80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Arial"/>
                </a:rPr>
                <a:t>Найди место</a:t>
              </a:r>
              <a:endParaRPr b="1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3492360" y="4699080"/>
            <a:ext cx="2808360" cy="2158920"/>
            <a:chOff x="3492360" y="4699080"/>
            <a:chExt cx="2808360" cy="2158920"/>
          </a:xfrm>
        </p:grpSpPr>
        <p:sp>
          <p:nvSpPr>
            <p:cNvPr id="108" name=""/>
            <p:cNvSpPr/>
            <p:nvPr/>
          </p:nvSpPr>
          <p:spPr>
            <a:xfrm>
              <a:off x="3492360" y="4699080"/>
              <a:ext cx="2808360" cy="21589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           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                                 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плава…м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                 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вес…ш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                 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вид…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                 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нос…т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                 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гон…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 txBox="1"/>
            <p:nvPr/>
          </p:nvSpPr>
          <p:spPr>
            <a:xfrm>
              <a:off x="4093920" y="4801680"/>
              <a:ext cx="1817640" cy="279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Вставь букву:</a:t>
              </a:r>
              <a:endPara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93400" y="5212800"/>
              <a:ext cx="601560" cy="616680"/>
            </a:xfrm>
            <a:prstGeom prst="wedgeEllipseCallout">
              <a:avLst>
                <a:gd name="adj1" fmla="val -46064"/>
                <a:gd name="adj2" fmla="val 5543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ru-RU" sz="2000" spc="-1" strike="noStrike">
                  <a:solidFill>
                    <a:srgbClr val="ff0000"/>
                  </a:solidFill>
                  <a:latin typeface="Times New Roman"/>
                </a:rPr>
                <a:t>и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690720" y="5932800"/>
              <a:ext cx="603720" cy="618840"/>
            </a:xfrm>
            <a:prstGeom prst="wedgeEllipseCallout">
              <a:avLst>
                <a:gd name="adj1" fmla="val 50921"/>
                <a:gd name="adj2" fmla="val 5968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ru-RU" sz="2000" spc="-1" strike="noStrike">
                  <a:solidFill>
                    <a:srgbClr val="ff0000"/>
                  </a:solidFill>
                  <a:latin typeface="Times New Roman"/>
                </a:rPr>
                <a:t>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6262560" y="4794120"/>
            <a:ext cx="2881440" cy="2063880"/>
            <a:chOff x="6262560" y="4794120"/>
            <a:chExt cx="2881440" cy="2063880"/>
          </a:xfrm>
        </p:grpSpPr>
        <p:sp>
          <p:nvSpPr>
            <p:cNvPr id="113" name=""/>
            <p:cNvSpPr/>
            <p:nvPr/>
          </p:nvSpPr>
          <p:spPr>
            <a:xfrm>
              <a:off x="6262560" y="4794120"/>
              <a:ext cx="2881440" cy="206388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99ff33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1спр.           2 спр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 txBox="1"/>
            <p:nvPr/>
          </p:nvSpPr>
          <p:spPr>
            <a:xfrm>
              <a:off x="6454440" y="4990680"/>
              <a:ext cx="2497320" cy="5896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808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Подбери глаголы:</a:t>
              </a:r>
              <a:endParaRPr b="1" lang="en-US" sz="1800" spc="1" strike="noStrike">
                <a:ln w="9360">
                  <a:solidFill>
                    <a:srgbClr val="808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332000" y="61657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3" action="ppaction://hlinksldjump"/>
              </a:rPr>
              <a:t>наза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500"/>
                            </p:stCondLst>
                            <p:childTnLst>
                              <p:par>
                                <p:cTn id="2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500"/>
                            </p:stCondLst>
                            <p:childTnLst>
                              <p:par>
                                <p:cTn id="2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2916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ектная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яте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268360" y="333360"/>
            <a:ext cx="5761080" cy="6191280"/>
            <a:chOff x="2268360" y="333360"/>
            <a:chExt cx="5761080" cy="6191280"/>
          </a:xfrm>
        </p:grpSpPr>
        <p:sp>
          <p:nvSpPr>
            <p:cNvPr id="118" name=""/>
            <p:cNvSpPr/>
            <p:nvPr/>
          </p:nvSpPr>
          <p:spPr>
            <a:xfrm>
              <a:off x="6137640" y="333360"/>
              <a:ext cx="1891440" cy="141732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70280" y="2720160"/>
              <a:ext cx="2235600" cy="1715400"/>
            </a:xfrm>
            <a:prstGeom prst="wedgeEllipseCallout">
              <a:avLst>
                <a:gd name="adj1" fmla="val 36699"/>
                <a:gd name="adj2" fmla="val -35870"/>
              </a:avLst>
            </a:prstGeom>
            <a:solidFill>
              <a:srgbClr val="66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68360" y="4212360"/>
              <a:ext cx="3697200" cy="2163240"/>
            </a:xfrm>
            <a:prstGeom prst="wedgeEllipseCallout">
              <a:avLst>
                <a:gd name="adj1" fmla="val -12013"/>
                <a:gd name="adj2" fmla="val -44828"/>
              </a:avLst>
            </a:prstGeom>
            <a:solidFill>
              <a:srgbClr val="66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 txBox="1"/>
            <p:nvPr/>
          </p:nvSpPr>
          <p:spPr>
            <a:xfrm>
              <a:off x="6309720" y="855360"/>
              <a:ext cx="1633680" cy="3729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157721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1" strike="noStrike">
                  <a:ln w="9360">
                    <a:solidFill>
                      <a:srgbClr val="800000"/>
                    </a:solidFill>
                    <a:miter/>
                  </a:ln>
                  <a:solidFill>
                    <a:srgbClr val="00ff00"/>
                  </a:solidFill>
                  <a:latin typeface="Arial"/>
                </a:rPr>
                <a:t>Творческая </a:t>
              </a:r>
              <a:endParaRPr b="1" lang="en-US" sz="16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00ff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1" strike="noStrike">
                  <a:ln w="9360">
                    <a:solidFill>
                      <a:srgbClr val="800000"/>
                    </a:solidFill>
                    <a:miter/>
                  </a:ln>
                  <a:solidFill>
                    <a:srgbClr val="00ff00"/>
                  </a:solidFill>
                  <a:latin typeface="Arial"/>
                </a:rPr>
                <a:t>лаборатория</a:t>
              </a:r>
              <a:endParaRPr b="1" lang="en-US" sz="16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00ff00"/>
                </a:solidFill>
                <a:latin typeface="Arial"/>
                <a:ea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472200" y="1079280"/>
              <a:ext cx="1719720" cy="1790280"/>
            </a:xfrm>
            <a:prstGeom prst="smileyFace">
              <a:avLst>
                <a:gd name="adj" fmla="val 9282"/>
              </a:avLst>
            </a:prstGeom>
            <a:solidFill>
              <a:srgbClr val="66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902040" y="1974240"/>
              <a:ext cx="1719720" cy="223560"/>
            </a:xfrm>
            <a:prstGeom prst="lightningBol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 txBox="1"/>
            <p:nvPr/>
          </p:nvSpPr>
          <p:spPr>
            <a:xfrm>
              <a:off x="3042000" y="3018600"/>
              <a:ext cx="1805760" cy="1139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urveUp">
                <a:avLst>
                  <a:gd name="adj" fmla="val 403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12600">
                    <a:solidFill>
                      <a:srgbClr val="0000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40186" dir="1096358" blurRad="0" rotWithShape="0">
                      <a:srgbClr val="808080"/>
                    </a:outerShdw>
                  </a:effectLst>
                  <a:latin typeface="Arial"/>
                </a:rPr>
                <a:t>Поэтапное</a:t>
              </a:r>
              <a:endParaRPr b="0" lang="en-US" sz="20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12600">
                    <a:solidFill>
                      <a:srgbClr val="0000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40186" dir="1096358" blurRad="0" rotWithShape="0">
                      <a:srgbClr val="808080"/>
                    </a:outerShdw>
                  </a:effectLst>
                  <a:latin typeface="Arial"/>
                </a:rPr>
                <a:t>планирование</a:t>
              </a:r>
              <a:endParaRPr b="0" lang="en-US" sz="20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12600">
                    <a:solidFill>
                      <a:srgbClr val="0000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40186" dir="1096358" blurRad="0" rotWithShape="0">
                      <a:srgbClr val="808080"/>
                    </a:outerShdw>
                  </a:effectLst>
                  <a:latin typeface="Arial"/>
                </a:rPr>
                <a:t>творческой</a:t>
              </a:r>
              <a:endParaRPr b="0" lang="en-US" sz="20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12600">
                    <a:solidFill>
                      <a:srgbClr val="0000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40186" dir="1096358" blurRad="0" rotWithShape="0">
                      <a:srgbClr val="808080"/>
                    </a:outerShdw>
                  </a:effectLst>
                  <a:latin typeface="Arial"/>
                </a:rPr>
                <a:t>деятельности</a:t>
              </a:r>
              <a:endParaRPr b="0" lang="en-US" sz="20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25" name=""/>
            <p:cNvSpPr txBox="1"/>
            <p:nvPr/>
          </p:nvSpPr>
          <p:spPr>
            <a:xfrm>
              <a:off x="2354040" y="4361400"/>
              <a:ext cx="3267360" cy="1790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urveUp">
                <a:avLst>
                  <a:gd name="adj" fmla="val 403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12600">
                    <a:solidFill>
                      <a:srgbClr val="0000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40186" dir="1096358" blurRad="0" rotWithShape="0">
                      <a:srgbClr val="808080"/>
                    </a:outerShdw>
                  </a:effectLst>
                  <a:latin typeface="Arial"/>
                </a:rPr>
                <a:t>Предварительная</a:t>
              </a:r>
              <a:endParaRPr b="1" lang="en-US" sz="20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12600">
                    <a:solidFill>
                      <a:srgbClr val="0000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40186" dir="1096358" blurRad="0" rotWithShape="0">
                      <a:srgbClr val="808080"/>
                    </a:outerShdw>
                  </a:effectLst>
                  <a:latin typeface="Arial"/>
                </a:rPr>
                <a:t> </a:t>
              </a:r>
              <a:r>
                <a:rPr b="1" lang="en-US" sz="2000" spc="1" strike="noStrike">
                  <a:ln w="12600">
                    <a:solidFill>
                      <a:srgbClr val="0000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40186" dir="1096358" blurRad="0" rotWithShape="0">
                      <a:srgbClr val="808080"/>
                    </a:outerShdw>
                  </a:effectLst>
                  <a:latin typeface="Arial"/>
                </a:rPr>
                <a:t>исследовательская </a:t>
              </a:r>
              <a:endParaRPr b="1" lang="en-US" sz="20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12600">
                    <a:solidFill>
                      <a:srgbClr val="0000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40186" dir="1096358" blurRad="0" rotWithShape="0">
                      <a:srgbClr val="808080"/>
                    </a:outerShdw>
                  </a:effectLst>
                  <a:latin typeface="Arial"/>
                </a:rPr>
                <a:t>работа</a:t>
              </a:r>
              <a:endParaRPr b="1" lang="en-US" sz="20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557880" y="556920"/>
              <a:ext cx="1461600" cy="1044000"/>
            </a:xfrm>
            <a:prstGeom prst="flowChartMagneticDisk">
              <a:avLst/>
            </a:prstGeom>
            <a:solidFill>
              <a:srgbClr val="ffff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 txBox="1"/>
            <p:nvPr/>
          </p:nvSpPr>
          <p:spPr>
            <a:xfrm>
              <a:off x="3643920" y="780840"/>
              <a:ext cx="1289520" cy="596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urveUp">
                <a:avLst>
                  <a:gd name="adj" fmla="val 403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12600">
                    <a:solidFill>
                      <a:srgbClr val="0000ff"/>
                    </a:solidFill>
                    <a:miter/>
                  </a:ln>
                  <a:solidFill>
                    <a:srgbClr val="00ffff"/>
                  </a:solidFill>
                  <a:effectLst>
                    <a:outerShdw dist="40186" dir="1096358" blurRad="0" rotWithShape="0">
                      <a:srgbClr val="808080"/>
                    </a:outerShdw>
                  </a:effectLst>
                  <a:latin typeface="Arial"/>
                </a:rPr>
                <a:t>Презентация</a:t>
              </a:r>
              <a:endParaRPr b="0" lang="en-US" sz="2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ffff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3041640" y="1526760"/>
              <a:ext cx="515880" cy="372960"/>
            </a:xfrm>
            <a:prstGeom prst="line">
              <a:avLst/>
            </a:prstGeom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3128040" y="1526760"/>
              <a:ext cx="429840" cy="522000"/>
            </a:xfrm>
            <a:prstGeom prst="line">
              <a:avLst/>
            </a:prstGeom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019840" y="1452240"/>
              <a:ext cx="429840" cy="596520"/>
            </a:xfrm>
            <a:prstGeom prst="line">
              <a:avLst/>
            </a:prstGeom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019840" y="1377360"/>
              <a:ext cx="429840" cy="447480"/>
            </a:xfrm>
            <a:prstGeom prst="line">
              <a:avLst/>
            </a:prstGeom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3213720" y="1526760"/>
              <a:ext cx="343800" cy="74592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933800" y="1228320"/>
              <a:ext cx="1074600" cy="1864800"/>
            </a:xfrm>
            <a:custGeom>
              <a:avLst/>
              <a:gdLst/>
              <a:ahLst/>
              <a:rect l="l" t="t" r="r" b="b"/>
              <a:pathLst>
                <a:path w="1800" h="3600">
                  <a:moveTo>
                    <a:pt x="432" y="3600"/>
                  </a:moveTo>
                  <a:cubicBezTo>
                    <a:pt x="1116" y="3036"/>
                    <a:pt x="1800" y="2472"/>
                    <a:pt x="1728" y="1872"/>
                  </a:cubicBezTo>
                  <a:cubicBezTo>
                    <a:pt x="1656" y="1272"/>
                    <a:pt x="288" y="312"/>
                    <a:pt x="0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019840" y="1004400"/>
              <a:ext cx="343800" cy="522000"/>
            </a:xfrm>
            <a:custGeom>
              <a:avLst/>
              <a:gdLst/>
              <a:ahLst/>
              <a:rect l="l" t="t" r="r" b="b"/>
              <a:pathLst>
                <a:path w="576" h="1008">
                  <a:moveTo>
                    <a:pt x="576" y="1008"/>
                  </a:moveTo>
                  <a:cubicBezTo>
                    <a:pt x="336" y="588"/>
                    <a:pt x="96" y="168"/>
                    <a:pt x="0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042000" y="2496600"/>
              <a:ext cx="2321640" cy="745920"/>
            </a:xfrm>
            <a:custGeom>
              <a:avLst/>
              <a:gdLst>
                <a:gd name="textAreaLeft" fmla="*/ 178920 w 2321640"/>
                <a:gd name="textAreaRight" fmla="*/ 2500920 w 2321640"/>
                <a:gd name="textAreaTop" fmla="*/ 241200 h 745920"/>
                <a:gd name="textAreaBottom" fmla="*/ 504720 h 745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66" y="3493"/>
                  </a:moveTo>
                  <a:cubicBezTo>
                    <a:pt x="8033" y="-8881"/>
                    <a:pt x="15233" y="15867"/>
                    <a:pt x="21600" y="3493"/>
                  </a:cubicBezTo>
                  <a:lnTo>
                    <a:pt x="19934" y="18107"/>
                  </a:lnTo>
                  <a:cubicBezTo>
                    <a:pt x="13567" y="30481"/>
                    <a:pt x="6367" y="5733"/>
                    <a:pt x="0" y="18107"/>
                  </a:cubicBez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847760" y="2123640"/>
              <a:ext cx="1977480" cy="671040"/>
            </a:xfrm>
            <a:custGeom>
              <a:avLst/>
              <a:gdLst>
                <a:gd name="textAreaLeft" fmla="*/ 395280 w 1977480"/>
                <a:gd name="textAreaRight" fmla="*/ 2373120 w 1977480"/>
                <a:gd name="textAreaTop" fmla="*/ 209520 h 671040"/>
                <a:gd name="textAreaBottom" fmla="*/ 461520 h 67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4320" y="3375"/>
                  </a:moveTo>
                  <a:cubicBezTo>
                    <a:pt x="9360" y="-8581"/>
                    <a:pt x="16560" y="15331"/>
                    <a:pt x="21600" y="3375"/>
                  </a:cubicBezTo>
                  <a:lnTo>
                    <a:pt x="17280" y="18225"/>
                  </a:lnTo>
                  <a:cubicBezTo>
                    <a:pt x="12240" y="30181"/>
                    <a:pt x="5040" y="6269"/>
                    <a:pt x="0" y="18225"/>
                  </a:cubicBez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 flipV="1">
              <a:off x="5191920" y="482400"/>
              <a:ext cx="1031760" cy="14904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5449680" y="1004400"/>
              <a:ext cx="601920" cy="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5707800" y="1377360"/>
              <a:ext cx="429840" cy="14904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6309720" y="1675800"/>
              <a:ext cx="257760" cy="29808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6739200" y="1825200"/>
              <a:ext cx="343800" cy="89496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599600" y="1750680"/>
              <a:ext cx="171720" cy="59652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05880" y="3466080"/>
              <a:ext cx="1289520" cy="671040"/>
            </a:xfrm>
            <a:custGeom>
              <a:avLst/>
              <a:gdLst/>
              <a:ahLst/>
              <a:rect l="l" t="t" r="r" b="b"/>
              <a:pathLst>
                <a:path w="2160" h="1296">
                  <a:moveTo>
                    <a:pt x="0" y="0"/>
                  </a:moveTo>
                  <a:cubicBezTo>
                    <a:pt x="468" y="504"/>
                    <a:pt x="936" y="1008"/>
                    <a:pt x="1296" y="1152"/>
                  </a:cubicBezTo>
                  <a:cubicBezTo>
                    <a:pt x="1656" y="1296"/>
                    <a:pt x="2016" y="936"/>
                    <a:pt x="2160" y="864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395760" y="2944080"/>
              <a:ext cx="1633680" cy="1790280"/>
            </a:xfrm>
            <a:prstGeom prst="rect">
              <a:avLst/>
            </a:prstGeom>
            <a:solidFill>
              <a:srgbClr val="ffcc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 txBox="1"/>
            <p:nvPr/>
          </p:nvSpPr>
          <p:spPr>
            <a:xfrm>
              <a:off x="6481800" y="3093120"/>
              <a:ext cx="1461600" cy="1417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1" strike="noStrike">
                  <a:ln w="9360">
                    <a:solidFill>
                      <a:srgbClr val="ff00ff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фантазируй</a:t>
              </a:r>
              <a:endParaRPr b="1" i="1" lang="en-US" sz="20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1" strike="noStrike">
                  <a:ln w="9360">
                    <a:solidFill>
                      <a:srgbClr val="ff00ff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планируй</a:t>
              </a:r>
              <a:endParaRPr b="1" i="1" lang="en-US" sz="20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1" strike="noStrike">
                  <a:ln w="9360">
                    <a:solidFill>
                      <a:srgbClr val="ff00ff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твори</a:t>
              </a:r>
              <a:endParaRPr b="1" i="1" lang="en-US" sz="20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05880" y="5853240"/>
              <a:ext cx="1203840" cy="372960"/>
            </a:xfrm>
            <a:prstGeom prst="ellipse">
              <a:avLst/>
            </a:prstGeom>
            <a:solidFill>
              <a:srgbClr val="66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268360" y="6077160"/>
              <a:ext cx="1117800" cy="447480"/>
            </a:xfrm>
            <a:prstGeom prst="ellipse">
              <a:avLst/>
            </a:prstGeom>
            <a:solidFill>
              <a:srgbClr val="66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ртфель уче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1943280" y="4762440"/>
          <a:ext cx="876240" cy="20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4762440"/>
                    <a:ext cx="876240" cy="20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1981080" y="4572000"/>
          <a:ext cx="5562720" cy="5716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4572000"/>
                    <a:ext cx="556272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4000680" y="2895480"/>
          <a:ext cx="5143320" cy="8575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00680" y="2895480"/>
                    <a:ext cx="514332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987480" y="2771640"/>
            <a:ext cx="340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спользование учащимис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ополнительны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сточников знан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809520" y="1752480"/>
            <a:ext cx="76212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800600" y="1828800"/>
            <a:ext cx="0" cy="251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029200" y="1752480"/>
            <a:ext cx="76212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95280" y="6858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Непосредственные наблюдения за ученик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4114800" y="2895480"/>
          <a:ext cx="4705200" cy="582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2895480"/>
                    <a:ext cx="4705200" cy="582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1295280" y="45720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Изучение психологическ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комфортности учащих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95280" y="1905120"/>
            <a:ext cx="42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15110d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15110d"/>
                </a:solidFill>
                <a:latin typeface="Arial Black"/>
              </a:rPr>
              <a:t>Анкеты для родител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2590920"/>
            <a:ext cx="44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15110d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15110d"/>
                </a:solidFill>
                <a:latin typeface="Arial Black"/>
              </a:rPr>
              <a:t>Сочинения ученик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19320" y="3200400"/>
            <a:ext cx="487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15110d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15110d"/>
                </a:solidFill>
                <a:latin typeface="Arial Black"/>
              </a:rPr>
              <a:t>Социометрические методи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19320" y="4038480"/>
            <a:ext cx="487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15110d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15110d"/>
                </a:solidFill>
                <a:latin typeface="Arial Black"/>
              </a:rPr>
              <a:t>Подмечание и фиксация особых детал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Способы изучения результативности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04760" y="1676520"/>
            <a:ext cx="3567240" cy="1920600"/>
          </a:xfrm>
          <a:prstGeom prst="ellipse">
            <a:avLst/>
          </a:prstGeom>
          <a:solidFill>
            <a:srgbClr val="00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447920" y="2438280"/>
            <a:ext cx="281916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Сбор материалов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124080" y="3048120"/>
            <a:ext cx="3657600" cy="19191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191120" y="3809880"/>
            <a:ext cx="19810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Мониторинг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495680"/>
            <a:ext cx="3657600" cy="21034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172200" y="5410080"/>
            <a:ext cx="204804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Диагностика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952880" y="1905120"/>
            <a:ext cx="762120" cy="914400"/>
          </a:xfrm>
          <a:custGeom>
            <a:avLst/>
            <a:gdLst>
              <a:gd name="textAreaLeft" fmla="*/ 101880 w 762120"/>
              <a:gd name="textAreaRight" fmla="*/ 660240 w 762120"/>
              <a:gd name="textAreaTop" fmla="*/ 159840 h 914400"/>
              <a:gd name="textAreaBottom" fmla="*/ 6631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238880" y="3505320"/>
            <a:ext cx="731880" cy="914400"/>
          </a:xfrm>
          <a:custGeom>
            <a:avLst/>
            <a:gdLst>
              <a:gd name="textAreaLeft" fmla="*/ 97920 w 731880"/>
              <a:gd name="textAreaRight" fmla="*/ 633960 w 731880"/>
              <a:gd name="textAreaTop" fmla="*/ 159840 h 914400"/>
              <a:gd name="textAreaBottom" fmla="*/ 6631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676520" y="533520"/>
            <a:ext cx="6553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Способы изуч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общего развития школьни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2514600"/>
            <a:ext cx="2666880" cy="792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143000" y="2666880"/>
            <a:ext cx="228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Изучение развития</a:t>
            </a:r>
            <a:endParaRPr b="1" lang="en-US" sz="1600" spc="1" strike="noStrike">
              <a:ln w="9360">
                <a:solidFill>
                  <a:srgbClr val="0000ff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16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наблюдательности</a:t>
            </a:r>
            <a:endParaRPr b="1" lang="en-US" sz="1600" spc="1" strike="noStrike">
              <a:ln w="9360">
                <a:solidFill>
                  <a:srgbClr val="0000ff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325520" y="3886200"/>
            <a:ext cx="3246480" cy="914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47720" y="4114800"/>
            <a:ext cx="29242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Изучение развития </a:t>
            </a:r>
            <a:endParaRPr b="1" lang="en-US" sz="1600" spc="1" strike="noStrike">
              <a:ln w="9360">
                <a:solidFill>
                  <a:srgbClr val="008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мыслительной деятельности</a:t>
            </a:r>
            <a:endParaRPr b="1" lang="en-US" sz="1600" spc="1" strike="noStrike">
              <a:ln w="9360">
                <a:solidFill>
                  <a:srgbClr val="008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257800" y="2895480"/>
            <a:ext cx="3002040" cy="74628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715000" y="3048120"/>
            <a:ext cx="2352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Изучение развития</a:t>
            </a:r>
            <a:endParaRPr b="1" lang="en-US" sz="1600" spc="1" strike="noStrike">
              <a:ln w="9360">
                <a:solidFill>
                  <a:srgbClr val="8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 </a:t>
            </a:r>
            <a:r>
              <a:rPr b="1" lang="en-US" sz="16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практических действий</a:t>
            </a:r>
            <a:endParaRPr b="1" lang="en-US" sz="1600" spc="1" strike="noStrike">
              <a:ln w="9360">
                <a:solidFill>
                  <a:srgbClr val="8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343400" y="5181480"/>
            <a:ext cx="4054320" cy="838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0" y="5410080"/>
            <a:ext cx="3448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33cccc"/>
                </a:solidFill>
                <a:latin typeface="Arial"/>
              </a:rPr>
              <a:t>Изучение развития </a:t>
            </a:r>
            <a:endParaRPr b="1" lang="en-US" sz="1600" spc="1" strike="noStrike">
              <a:ln w="9360">
                <a:solidFill>
                  <a:srgbClr val="008080"/>
                </a:solidFill>
                <a:miter/>
              </a:ln>
              <a:solidFill>
                <a:srgbClr val="33ccc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33cccc"/>
                </a:solidFill>
                <a:latin typeface="Arial"/>
              </a:rPr>
              <a:t>эмоционально - волевых качеств </a:t>
            </a:r>
            <a:endParaRPr b="1" lang="en-US" sz="1600" spc="1" strike="noStrike">
              <a:ln w="9360">
                <a:solidFill>
                  <a:srgbClr val="008080"/>
                </a:solidFill>
                <a:miter/>
              </a:ln>
              <a:solidFill>
                <a:srgbClr val="33cccc"/>
              </a:solidFill>
              <a:latin typeface="Arial"/>
              <a:ea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3123720" y="1676520"/>
            <a:ext cx="76212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76920" y="1676520"/>
            <a:ext cx="45720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3962160" y="1752480"/>
            <a:ext cx="228600" cy="198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0" y="1676520"/>
            <a:ext cx="762120" cy="32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"/>
          <p:cNvGraphicFramePr/>
          <p:nvPr/>
        </p:nvGraphicFramePr>
        <p:xfrm>
          <a:off x="0" y="0"/>
          <a:ext cx="867744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774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26560" y="456840"/>
            <a:ext cx="793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Высокоэффективная система обучения</a:t>
            </a:r>
            <a:br>
              <a:rPr sz="3200"/>
            </a:b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ерестраивает педагогическое сознание учителя в направлении отхода от авторитаризма и приятие личностно ориентированной, гуманной педагог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656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оптимально продви-гает детей в общем психическом развитии, обеспечивает овладе-ние нужными знаниями, умениями и навыками, прививает нрав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твенное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-воспитанность, необходимую для успешной адаптации в культурной и социальной сре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580"/>
                            </p:stCondLst>
                            <p:childTnLst>
                              <p:par>
                                <p:cTn id="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0" y="0"/>
          <a:ext cx="954072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540720" cy="685800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0" y="0"/>
          <a:ext cx="831708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3170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удности и положительные стороны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развивающей 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18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требность в методической, научно - исследовательской литературе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единение науки и практ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язательное сохранение дидактических принципов  и типических свойств програм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едрение инновационных технологий в учебный процес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качественная помощь родителей в подготовке домашних зад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ти учатся самостоятельно добывать зн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, не теряя своей руководящей роли, участник коллективного процесса позн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монстрируется успешное овладение знаниями, умениями и навыками всех учащихся: и сильных, и слаб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одика обладает гибкостью, позволяющей разноуровневое обуч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системе имеется интегрированный кур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42920" y="1125360"/>
            <a:ext cx="720720" cy="216000"/>
          </a:xfrm>
          <a:prstGeom prst="rect">
            <a:avLst/>
          </a:prstGeom>
          <a:gradFill rotWithShape="0">
            <a:gsLst>
              <a:gs pos="0">
                <a:srgbClr val="ccffff">
                  <a:alpha val="84313"/>
                </a:srgbClr>
              </a:gs>
              <a:gs pos="100000">
                <a:srgbClr val="5e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956720" y="765000"/>
            <a:ext cx="576000" cy="648000"/>
          </a:xfrm>
          <a:prstGeom prst="plus">
            <a:avLst>
              <a:gd name="adj" fmla="val 38602"/>
            </a:avLst>
          </a:prstGeom>
          <a:gradFill rotWithShape="0">
            <a:gsLst>
              <a:gs pos="0">
                <a:srgbClr val="ccffff"/>
              </a:gs>
              <a:gs pos="100000">
                <a:srgbClr val="5e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440"/>
                            </p:stCondLst>
                            <p:childTnLst>
                              <p:par>
                                <p:cTn id="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480"/>
                            </p:stCondLst>
                            <p:childTnLst>
                              <p:par>
                                <p:cTn id="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7400"/>
                            </p:stCondLst>
                            <p:childTnLst>
                              <p:par>
                                <p:cTn id="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9360"/>
                            </p:stCondLst>
                            <p:childTnLst>
                              <p:par>
                                <p:cTn id="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1640"/>
                            </p:stCondLst>
                            <p:childTnLst>
                              <p:par>
                                <p:cTn id="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3240"/>
                            </p:stCondLst>
                            <p:childTnLst>
                              <p:par>
                                <p:cTn id="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6239"/>
                            </p:stCondLst>
                            <p:childTnLst>
                              <p:par>
                                <p:cTn id="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9800"/>
                            </p:stCondLst>
                            <p:childTnLst>
                              <p:par>
                                <p:cTn id="1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2240"/>
                            </p:stCondLst>
                            <p:childTnLst>
                              <p:par>
                                <p:cTn id="1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Технологическая схема реализации</a:t>
            </a:r>
            <a:br>
              <a:rPr sz="2400"/>
            </a:b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развивающей системы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900000" y="1125360"/>
          <a:ext cx="7920000" cy="4730760"/>
        </p:xfrm>
        <a:graphic>
          <a:graphicData uri="http://schemas.openxmlformats.org/drawingml/2006/table">
            <a:tbl>
              <a:tblPr/>
              <a:tblGrid>
                <a:gridCol w="525600"/>
                <a:gridCol w="1977840"/>
                <a:gridCol w="1579680"/>
                <a:gridCol w="383688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Инновационные технологии и методик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Этапы ур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Ожидаемый результа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Технология проблемного обу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ановка учебной задач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щиеся умеют «разрабатывать проблему»: анализировать, слушать мнение товарища, сообразовывать свои ответы с высказанными ранее, доказыват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Технология блочно-модульного обу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крепление пройденного матери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ный охват всех учащихся работой, вера всех, даже самых слабых, в свои сил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хнология разноуровнего обу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всех этапах ур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звитие интересов и социальных способностей ребенка, возникновение положительных эмоций, формирование положительной учебной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мотив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Технологическая схема реализации</a:t>
            </a:r>
            <a:br>
              <a:rPr sz="2400"/>
            </a:b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развивающей системы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900000" y="1341360"/>
          <a:ext cx="7704360" cy="4807080"/>
        </p:xfrm>
        <a:graphic>
          <a:graphicData uri="http://schemas.openxmlformats.org/drawingml/2006/table">
            <a:tbl>
              <a:tblPr/>
              <a:tblGrid>
                <a:gridCol w="216000"/>
                <a:gridCol w="2516040"/>
                <a:gridCol w="1541520"/>
                <a:gridCol w="34308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Инновационные технологии и методик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Этапы у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Ожидаемый результ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55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а в сотрудничестве (групповые формы)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ичное закрепление материала, проверка изученного материала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ие слушать и слышать, выражать свое мнение, доказывать 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следовательская раб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ение новых зна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вык последовательного решения проблемы путем применения знаний, умений, поиска необходимой учебной информ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Компьютерные технологи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презент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всех этапах ур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ладение компьютером для решения учебных задач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971640" y="333360"/>
          <a:ext cx="7848360" cy="6229440"/>
        </p:xfrm>
        <a:graphic>
          <a:graphicData uri="http://schemas.openxmlformats.org/drawingml/2006/table">
            <a:tbl>
              <a:tblPr/>
              <a:tblGrid>
                <a:gridCol w="287280"/>
                <a:gridCol w="2278080"/>
                <a:gridCol w="2057400"/>
                <a:gridCol w="322560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№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Инновационные технологии и методик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Этапы ур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Ожидаемый результа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0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хнология проектного обу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ия уро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ичие у учащихся творческого подхода к работе, уверенности в собственной значимости при выполнении общего коллективного дела, ответственности перед ожидаемыми результатам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хнология «Портфель ученик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ечение всего учебного процес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окая учебная мотивация учащихся, постоянная активность в учебной и внеурочной деятельности, самоорганизация в образовательном процессе, формирование навыка самообразования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доровье- сберегающие технолог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зминутки, различные этапы урока, изучение результативности обученности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доровые, социально-адаптированные дети, сохранение зрения, осанки; высокая школьная мотивация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973080" y="479520"/>
          <a:ext cx="7880400" cy="203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3080" y="479520"/>
                    <a:ext cx="7880400" cy="20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 txBox="1"/>
          <p:nvPr/>
        </p:nvSpPr>
        <p:spPr>
          <a:xfrm>
            <a:off x="2987640" y="1628640"/>
            <a:ext cx="2666880" cy="139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епосредственное 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аблюдение 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 учениками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81280" y="2666880"/>
            <a:ext cx="2121120" cy="21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61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зучение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езультативности 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бученности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447920" y="4267080"/>
            <a:ext cx="1914480" cy="173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Изучение 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усвоения знаний, 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умений и навыков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371600" y="3048120"/>
            <a:ext cx="1736640" cy="11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истема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ценивания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809880" y="5105520"/>
            <a:ext cx="11890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920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зучение </a:t>
            </a:r>
            <a:endParaRPr b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азвития </a:t>
            </a:r>
            <a:endParaRPr b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чащихся</a:t>
            </a:r>
            <a:endParaRPr b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9220320" y="-1066680"/>
          <a:ext cx="2590560" cy="1238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20320" y="-1066680"/>
                    <a:ext cx="2590560" cy="12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 txBox="1"/>
          <p:nvPr/>
        </p:nvSpPr>
        <p:spPr>
          <a:xfrm>
            <a:off x="6172200" y="1828800"/>
            <a:ext cx="2013120" cy="182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пределение </a:t>
            </a:r>
            <a:endParaRPr b="1" lang="en-US" sz="1800" spc="1" strike="noStrike">
              <a:ln w="9360">
                <a:solidFill>
                  <a:srgbClr val="00808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тношения </a:t>
            </a:r>
            <a:endParaRPr b="1" lang="en-US" sz="1800" spc="1" strike="noStrike">
              <a:ln w="9360">
                <a:solidFill>
                  <a:srgbClr val="00808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одителей </a:t>
            </a:r>
            <a:endParaRPr b="1" lang="en-US" sz="1800" spc="1" strike="noStrike">
              <a:ln w="9360">
                <a:solidFill>
                  <a:srgbClr val="00808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 системе</a:t>
            </a:r>
            <a:endParaRPr b="1" lang="en-US" sz="1800" spc="1" strike="noStrike">
              <a:ln w="9360">
                <a:solidFill>
                  <a:srgbClr val="00808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715000" y="3733920"/>
            <a:ext cx="2286000" cy="192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зучение 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сихологической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омфортности 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чащихся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45720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5715000" y="32004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562720" y="411480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0" y="4648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3352680" y="44197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3276720" y="350496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7772400" y="-1523880"/>
          <a:ext cx="9105840" cy="908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2400" y="-1523880"/>
                    <a:ext cx="9105840" cy="908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1476360" y="189000"/>
          <a:ext cx="5394240" cy="3019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76360" y="189000"/>
                    <a:ext cx="539424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684360" y="3581280"/>
          <a:ext cx="3182760" cy="29340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4360" y="3581280"/>
                    <a:ext cx="3182760" cy="293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4038480" y="3581280"/>
          <a:ext cx="3486240" cy="293400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38480" y="3581280"/>
                    <a:ext cx="3486240" cy="293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Структура  урока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  русского язы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6920" y="1341360"/>
            <a:ext cx="7701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Ход рабо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момен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ятиминутка чистопис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одиктант,взаимодиктант,или словарный диктант (5-6 слов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тивация;от интера учащихся к новой теме урока.Введение в т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ктуализация темы,создание прблемной ситу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крытие новых зн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ичное закрепл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остоятельная рабо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тог уро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машнее  зад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8T19:29:46Z</dcterms:created>
  <dc:creator>Кесебежева</dc:creator>
  <dc:description/>
  <dc:language>en-US</dc:language>
  <cp:lastModifiedBy>Celeron</cp:lastModifiedBy>
  <dcterms:modified xsi:type="dcterms:W3CDTF">2009-04-23T17:04:39Z</dcterms:modified>
  <cp:revision>24</cp:revision>
  <dc:subject/>
  <dc:title>Изучение результативности обучения в начальных классах</dc:title>
</cp:coreProperties>
</file>