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xlsx" ContentType="application/vnd.openxmlformats-officedocument.spreadsheetml.sheet"/>
  <Override PartName="/ppt/media/image13.wmf" ContentType="image/x-wmf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9C7-B500-4831-A988-45BE0D2B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B82-B062-43E0-A3F8-67D8CAD0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49B-0CC8-479B-BEBA-18BCE822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FBF-DE78-4002-897F-4C9A8769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F41-1F29-4CA9-97A1-3F7966B3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D55-9827-4929-BF7D-4A342E7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E7B-00C0-4BF4-89DA-AC767B5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FC2-B794-4931-80D5-3D596800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0CE-17E9-4A0C-ABF1-AB0AEF3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7DB-7CF8-47FD-9729-B6FE524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1A3-4893-410D-82A7-3E1DEBC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354-5618-4F55-A93B-20D0907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21AB-FF2B-4A70-B4A1-CE5DBBAB4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Использование инновационных технологий на разных этапах образовательного процесса в начальной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Из опыта работы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МОУ СОШ № 57 г. Краснод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Сташ Маргариты Пшимаф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1341360"/>
          <a:ext cx="7921440" cy="5272200"/>
        </p:xfrm>
        <a:graphic>
          <a:graphicData uri="http://schemas.openxmlformats.org/drawingml/2006/table">
            <a:tbl>
              <a:tblPr/>
              <a:tblGrid>
                <a:gridCol w="216000"/>
                <a:gridCol w="7705440"/>
              </a:tblGrid>
              <a:tr h="52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момен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вним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общий пл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: письменная, уст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ткрытие» нового зна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одводящий диало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обуждающий диало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гипотез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закрепл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роговаривание алгорит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коммент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бота в пар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 с самопровер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ровочные упражнения и задания на повтор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 урок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труктура урока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71640" y="836640"/>
          <a:ext cx="7777080" cy="5764320"/>
        </p:xfrm>
        <a:graphic>
          <a:graphicData uri="http://schemas.openxmlformats.org/drawingml/2006/table">
            <a:tbl>
              <a:tblPr/>
              <a:tblGrid>
                <a:gridCol w="441360"/>
                <a:gridCol w="3844800"/>
                <a:gridCol w="3490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ование обучающих программ на СД (компакт-диск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в кабинете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ная работа по новой теме с использованием проектора. Применение презента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ые занятия в игров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ение изученного материала. Повто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с компьютером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иск материалов для рефератов по истории, литературному чтению, окружающему ми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ьютерное репетитор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е индивидуальных заданий учителя на диске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613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333360"/>
            <a:ext cx="3135240" cy="1736640"/>
            <a:chOff x="0" y="333360"/>
            <a:chExt cx="3135240" cy="1736640"/>
          </a:xfrm>
        </p:grpSpPr>
        <p:sp>
          <p:nvSpPr>
            <p:cNvPr id="88" name=""/>
            <p:cNvSpPr/>
            <p:nvPr/>
          </p:nvSpPr>
          <p:spPr>
            <a:xfrm>
              <a:off x="0" y="333360"/>
              <a:ext cx="3135240" cy="1736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ru-RU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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35880" y="424440"/>
              <a:ext cx="2472840" cy="27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пряжение глаголо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11960" y="973080"/>
              <a:ext cx="2911320" cy="548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олевство Грамматики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43280" y="476280"/>
            <a:ext cx="2808360" cy="1873080"/>
            <a:chOff x="2843280" y="476280"/>
            <a:chExt cx="2808360" cy="1873080"/>
          </a:xfrm>
        </p:grpSpPr>
        <p:sp>
          <p:nvSpPr>
            <p:cNvPr id="92" name=""/>
            <p:cNvSpPr/>
            <p:nvPr/>
          </p:nvSpPr>
          <p:spPr>
            <a:xfrm>
              <a:off x="2843280" y="476280"/>
              <a:ext cx="2808360" cy="187308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ccffff"/>
                </a:gs>
              </a:gsLst>
              <a:lin ang="54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ть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ерпеть       вертеть обидеть  зависеть    ненавид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идеть   смотреть         гна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лышать   дышать    держа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936880" y="673200"/>
              <a:ext cx="2310840" cy="27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Царство 2 спряжен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24360" y="0"/>
            <a:ext cx="2737080" cy="2162160"/>
            <a:chOff x="5724360" y="0"/>
            <a:chExt cx="2737080" cy="2162160"/>
          </a:xfrm>
        </p:grpSpPr>
        <p:sp>
          <p:nvSpPr>
            <p:cNvPr id="95" name=""/>
            <p:cNvSpPr/>
            <p:nvPr/>
          </p:nvSpPr>
          <p:spPr>
            <a:xfrm>
              <a:off x="5724360" y="0"/>
              <a:ext cx="2737080" cy="21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БРИТЬ   СТЕЛ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919840" y="113760"/>
              <a:ext cx="2454120" cy="32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Царство 1 спряжения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212880" y="455040"/>
              <a:ext cx="1563840" cy="77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8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ВСЕ ОСТАЛЬНЫЕ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84720" y="2133720"/>
            <a:ext cx="2737080" cy="2374920"/>
            <a:chOff x="6084720" y="2133720"/>
            <a:chExt cx="2737080" cy="2374920"/>
          </a:xfrm>
        </p:grpSpPr>
        <p:sp>
          <p:nvSpPr>
            <p:cNvPr id="99" name=""/>
            <p:cNvSpPr/>
            <p:nvPr/>
          </p:nvSpPr>
          <p:spPr>
            <a:xfrm>
              <a:off x="6084720" y="2133720"/>
              <a:ext cx="2737080" cy="237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00"/>
                </a:gs>
              </a:gsLst>
              <a:lin ang="135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м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шь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иш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те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ит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т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ут, ют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т, я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6449400" y="2258640"/>
              <a:ext cx="1881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Личные окончани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0920" y="2781360"/>
            <a:ext cx="2560680" cy="1828800"/>
            <a:chOff x="250920" y="2781360"/>
            <a:chExt cx="2560680" cy="1828800"/>
          </a:xfrm>
        </p:grpSpPr>
        <p:sp>
          <p:nvSpPr>
            <p:cNvPr id="102" name=""/>
            <p:cNvSpPr/>
            <p:nvPr/>
          </p:nvSpPr>
          <p:spPr>
            <a:xfrm>
              <a:off x="250920" y="2781360"/>
              <a:ext cx="2560680" cy="1828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80"/>
                  </a:solidFill>
                  <a:latin typeface="Times New Roman"/>
                </a:rPr>
                <a:t>Видешь, бреет, мочем, знаишь, терпет, жалеем, купет, держи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42360" y="2964240"/>
              <a:ext cx="2286360" cy="27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Исправь ошибку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71640" y="3429000"/>
            <a:ext cx="2743200" cy="1828800"/>
            <a:chOff x="2771640" y="3429000"/>
            <a:chExt cx="2743200" cy="1828800"/>
          </a:xfrm>
        </p:grpSpPr>
        <p:sp>
          <p:nvSpPr>
            <p:cNvPr id="105" name=""/>
            <p:cNvSpPr/>
            <p:nvPr/>
          </p:nvSpPr>
          <p:spPr>
            <a:xfrm>
              <a:off x="2771640" y="3429000"/>
              <a:ext cx="2743200" cy="18288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играть       кры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видеть    гладит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бранить    бр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петь        люб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5400000">
              <a:off x="2253960" y="4128840"/>
              <a:ext cx="1590480" cy="3733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"/>
                </a:rPr>
                <a:t>Найди место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492360" y="4699080"/>
            <a:ext cx="2808360" cy="2158920"/>
            <a:chOff x="3492360" y="4699080"/>
            <a:chExt cx="2808360" cy="2158920"/>
          </a:xfrm>
        </p:grpSpPr>
        <p:sp>
          <p:nvSpPr>
            <p:cNvPr id="108" name=""/>
            <p:cNvSpPr/>
            <p:nvPr/>
          </p:nvSpPr>
          <p:spPr>
            <a:xfrm>
              <a:off x="3492360" y="4699080"/>
              <a:ext cx="2808360" cy="2158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лава…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вес…ш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вид…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с…т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гон…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4093920" y="4801680"/>
              <a:ext cx="1817640" cy="27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Вставь букву: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3400" y="5212800"/>
              <a:ext cx="601560" cy="616680"/>
            </a:xfrm>
            <a:prstGeom prst="wedgeEllipseCallout">
              <a:avLst>
                <a:gd name="adj1" fmla="val -46064"/>
                <a:gd name="adj2" fmla="val 55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0720" y="5932800"/>
              <a:ext cx="603720" cy="618840"/>
            </a:xfrm>
            <a:prstGeom prst="wedgeEllipseCallout">
              <a:avLst>
                <a:gd name="adj1" fmla="val 50921"/>
                <a:gd name="adj2" fmla="val 59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62560" y="4794120"/>
            <a:ext cx="2881440" cy="2063880"/>
            <a:chOff x="6262560" y="4794120"/>
            <a:chExt cx="2881440" cy="2063880"/>
          </a:xfrm>
        </p:grpSpPr>
        <p:sp>
          <p:nvSpPr>
            <p:cNvPr id="113" name=""/>
            <p:cNvSpPr/>
            <p:nvPr/>
          </p:nvSpPr>
          <p:spPr>
            <a:xfrm>
              <a:off x="6262560" y="4794120"/>
              <a:ext cx="2881440" cy="2063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454440" y="4990680"/>
              <a:ext cx="249732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8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дбери глаголы:</a:t>
              </a:r>
              <a:endParaRPr b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6165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91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68360" y="333360"/>
            <a:ext cx="5761080" cy="6191280"/>
            <a:chOff x="2268360" y="333360"/>
            <a:chExt cx="5761080" cy="6191280"/>
          </a:xfrm>
        </p:grpSpPr>
        <p:sp>
          <p:nvSpPr>
            <p:cNvPr id="118" name=""/>
            <p:cNvSpPr/>
            <p:nvPr/>
          </p:nvSpPr>
          <p:spPr>
            <a:xfrm>
              <a:off x="6137640" y="333360"/>
              <a:ext cx="1891440" cy="1417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0280" y="2720160"/>
              <a:ext cx="2235600" cy="1715400"/>
            </a:xfrm>
            <a:prstGeom prst="wedgeEllipseCallout">
              <a:avLst>
                <a:gd name="adj1" fmla="val 36699"/>
                <a:gd name="adj2" fmla="val -35870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8360" y="4212360"/>
              <a:ext cx="3697200" cy="2163240"/>
            </a:xfrm>
            <a:prstGeom prst="wedgeEllipseCallout">
              <a:avLst>
                <a:gd name="adj1" fmla="val -12013"/>
                <a:gd name="adj2" fmla="val -44828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309720" y="855360"/>
              <a:ext cx="1633680" cy="372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772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Творческая </a:t>
              </a:r>
              <a:endPara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лаборатория</a:t>
              </a:r>
              <a:endPara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2200" y="1079280"/>
              <a:ext cx="1719720" cy="1790280"/>
            </a:xfrm>
            <a:prstGeom prst="smileyFace">
              <a:avLst>
                <a:gd name="adj" fmla="val 9282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02040" y="1974240"/>
              <a:ext cx="1719720" cy="223560"/>
            </a:xfrm>
            <a:prstGeom prst="lightningBol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042000" y="3018600"/>
              <a:ext cx="1805760" cy="11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оэтапное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ланирование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творческой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деятельности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354040" y="4361400"/>
              <a:ext cx="3267360" cy="179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редварительная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 </a:t>
              </a: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исследовательская 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работа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57880" y="556920"/>
              <a:ext cx="1461600" cy="1044000"/>
            </a:xfrm>
            <a:prstGeom prst="flowChartMagneticDisk">
              <a:avLst/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643920" y="780840"/>
              <a:ext cx="1289520" cy="59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резентация</a:t>
              </a:r>
              <a:endPara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041640" y="1526760"/>
              <a:ext cx="515880" cy="37296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28040" y="1526760"/>
              <a:ext cx="429840" cy="5220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19840" y="1452240"/>
              <a:ext cx="429840" cy="5965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19840" y="1377360"/>
              <a:ext cx="429840" cy="4474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213720" y="1526760"/>
              <a:ext cx="343800" cy="7459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3800" y="1228320"/>
              <a:ext cx="1074600" cy="1864800"/>
            </a:xfrm>
            <a:custGeom>
              <a:avLst/>
              <a:gdLst/>
              <a:ahLst/>
              <a:rect l="l" t="t" r="r" b="b"/>
              <a:pathLst>
                <a:path w="1800" h="3600">
                  <a:moveTo>
                    <a:pt x="432" y="3600"/>
                  </a:moveTo>
                  <a:cubicBezTo>
                    <a:pt x="1116" y="3036"/>
                    <a:pt x="1800" y="2472"/>
                    <a:pt x="1728" y="1872"/>
                  </a:cubicBezTo>
                  <a:cubicBezTo>
                    <a:pt x="1656" y="1272"/>
                    <a:pt x="288" y="312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840" y="1004400"/>
              <a:ext cx="343800" cy="52200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576" y="1008"/>
                  </a:moveTo>
                  <a:cubicBezTo>
                    <a:pt x="336" y="588"/>
                    <a:pt x="96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2000" y="2496600"/>
              <a:ext cx="2321640" cy="745920"/>
            </a:xfrm>
            <a:custGeom>
              <a:avLst/>
              <a:gdLst>
                <a:gd name="textAreaLeft" fmla="*/ 178920 w 2321640"/>
                <a:gd name="textAreaRight" fmla="*/ 2500920 w 2321640"/>
                <a:gd name="textAreaTop" fmla="*/ 241200 h 745920"/>
                <a:gd name="textAreaBottom" fmla="*/ 50472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6" y="3493"/>
                  </a:moveTo>
                  <a:cubicBezTo>
                    <a:pt x="8033" y="-8881"/>
                    <a:pt x="15233" y="15867"/>
                    <a:pt x="21600" y="3493"/>
                  </a:cubicBezTo>
                  <a:lnTo>
                    <a:pt x="19934" y="18107"/>
                  </a:lnTo>
                  <a:cubicBezTo>
                    <a:pt x="13567" y="30481"/>
                    <a:pt x="6367" y="5733"/>
                    <a:pt x="0" y="18107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7760" y="2123640"/>
              <a:ext cx="1977480" cy="671040"/>
            </a:xfrm>
            <a:custGeom>
              <a:avLst/>
              <a:gdLst>
                <a:gd name="textAreaLeft" fmla="*/ 395280 w 1977480"/>
                <a:gd name="textAreaRight" fmla="*/ 2373120 w 1977480"/>
                <a:gd name="textAreaTop" fmla="*/ 209520 h 671040"/>
                <a:gd name="textAreaBottom" fmla="*/ 461520 h 67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3375"/>
                  </a:moveTo>
                  <a:cubicBezTo>
                    <a:pt x="9360" y="-8581"/>
                    <a:pt x="16560" y="15331"/>
                    <a:pt x="21600" y="3375"/>
                  </a:cubicBezTo>
                  <a:lnTo>
                    <a:pt x="17280" y="18225"/>
                  </a:lnTo>
                  <a:cubicBezTo>
                    <a:pt x="12240" y="30181"/>
                    <a:pt x="5040" y="6269"/>
                    <a:pt x="0" y="1822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191920" y="482400"/>
              <a:ext cx="1031760" cy="1490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49680" y="1004400"/>
              <a:ext cx="60192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707800" y="1377360"/>
              <a:ext cx="429840" cy="1490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9720" y="1675800"/>
              <a:ext cx="257760" cy="2980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739200" y="1825200"/>
              <a:ext cx="343800" cy="894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9600" y="1750680"/>
              <a:ext cx="171720" cy="5965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880" y="3466080"/>
              <a:ext cx="1289520" cy="671040"/>
            </a:xfrm>
            <a:custGeom>
              <a:avLst/>
              <a:gdLst/>
              <a:ahLst/>
              <a:rect l="l" t="t" r="r" b="b"/>
              <a:pathLst>
                <a:path w="2160" h="1296">
                  <a:moveTo>
                    <a:pt x="0" y="0"/>
                  </a:moveTo>
                  <a:cubicBezTo>
                    <a:pt x="468" y="504"/>
                    <a:pt x="936" y="1008"/>
                    <a:pt x="1296" y="1152"/>
                  </a:cubicBezTo>
                  <a:cubicBezTo>
                    <a:pt x="1656" y="1296"/>
                    <a:pt x="2016" y="936"/>
                    <a:pt x="2160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5760" y="2944080"/>
              <a:ext cx="1633680" cy="179028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481800" y="3093120"/>
              <a:ext cx="1461600" cy="14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фантазируй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ланируй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вори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880" y="5853240"/>
              <a:ext cx="1203840" cy="37296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68360" y="6077160"/>
              <a:ext cx="1117800" cy="44748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943280" y="4762440"/>
          <a:ext cx="876240" cy="20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762440"/>
                    <a:ext cx="8762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981080" y="4572000"/>
          <a:ext cx="5562720" cy="57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572000"/>
                    <a:ext cx="5562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00680" y="2895480"/>
          <a:ext cx="5143320" cy="857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00680" y="2895480"/>
                    <a:ext cx="51433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87480" y="2771640"/>
            <a:ext cx="340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учащими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чников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09520" y="17524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8288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75248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685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средственные наблюдения за уче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114800" y="2895480"/>
          <a:ext cx="470520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895480"/>
                    <a:ext cx="47052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зучение психолог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омфортности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9051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Анкеты для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9092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Сочинения уче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320040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Социометрические метод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0384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Подмечание и фиксация особых дета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пособы изучения результа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4760" y="1676520"/>
            <a:ext cx="3567240" cy="19206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47920" y="2438280"/>
            <a:ext cx="2819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бор материал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048120"/>
            <a:ext cx="3657600" cy="1919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91120" y="3809880"/>
            <a:ext cx="19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ониторинг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495680"/>
            <a:ext cx="3657600" cy="2103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72200" y="5410080"/>
            <a:ext cx="20480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иагности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905120"/>
            <a:ext cx="762120" cy="914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505320"/>
            <a:ext cx="731880" cy="914400"/>
          </a:xfrm>
          <a:custGeom>
            <a:avLst/>
            <a:gdLst>
              <a:gd name="textAreaLeft" fmla="*/ 97920 w 731880"/>
              <a:gd name="textAreaRight" fmla="*/ 633960 w 731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76520" y="53352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пособы из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бщего развития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14600"/>
            <a:ext cx="266688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26668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Изучение развития</a:t>
            </a:r>
            <a:endParaRPr b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аблюдательности</a:t>
            </a:r>
            <a:endParaRPr b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25520" y="3886200"/>
            <a:ext cx="3246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47720" y="4114800"/>
            <a:ext cx="2924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зучение развития 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ыслительной деятельности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895480"/>
            <a:ext cx="3002040" cy="74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5000" y="3048120"/>
            <a:ext cx="2352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Изучение развития</a:t>
            </a:r>
            <a:endParaRPr b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актических действий</a:t>
            </a:r>
            <a:endParaRPr b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5181480"/>
            <a:ext cx="405432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0" y="5410080"/>
            <a:ext cx="344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Изучение развития 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эмоционально - волевых качеств 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23720" y="1676520"/>
            <a:ext cx="7621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1676520"/>
            <a:ext cx="457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962160" y="1752480"/>
            <a:ext cx="22860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676520"/>
            <a:ext cx="76212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86774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7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793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Высокоэффективная система обучения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страивает педагогическое сознание учителя в направлении отхода от авторитаризма и приятие личностно ориентированной, гуманной педагог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птимально продви-гает детей в общем психическом развитии, обеспечивает овладе-ние нужными знаниями, умениями и навыками, прививает нра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венно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воспитанность, необходимую для успешной адаптации в культурной и социаль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9540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4072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8317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317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ности и положительные сторо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вивающ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8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ь в методической, научно - исследовательской литератур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е науки и пр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ое сохранение дидактических принципов  и типических свойств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дрение инновационных технологий в учеб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ачественная помощь родителей в подготовке домашних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учатся самостоятельно добывать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, не теряя своей руководящей роли, участник коллективного процесса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ется успешное овладение знаниями, умениями и навыками всех учащихся: и сильных, и слаб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обладает гибкостью, позволяющей разноуровнево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стеме имеется интегрированный ку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1125360"/>
            <a:ext cx="720720" cy="216000"/>
          </a:xfrm>
          <a:prstGeom prst="rect">
            <a:avLst/>
          </a:prstGeom>
          <a:gradFill rotWithShape="0">
            <a:gsLst>
              <a:gs pos="0">
                <a:srgbClr val="ccffff">
                  <a:alpha val="84313"/>
                </a:srgbClr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56720" y="765000"/>
            <a:ext cx="576000" cy="648000"/>
          </a:xfrm>
          <a:prstGeom prst="plus">
            <a:avLst>
              <a:gd name="adj" fmla="val 38602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44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48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4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36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2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239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8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24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хнологическая схема реализации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вивающей системы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00000" y="1125360"/>
          <a:ext cx="7920000" cy="4730760"/>
        </p:xfrm>
        <a:graphic>
          <a:graphicData uri="http://schemas.openxmlformats.org/drawingml/2006/table">
            <a:tbl>
              <a:tblPr/>
              <a:tblGrid>
                <a:gridCol w="525600"/>
                <a:gridCol w="1977840"/>
                <a:gridCol w="1579680"/>
                <a:gridCol w="383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бной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умеют «разрабатывать проблему»: анализировать, слушать мнение товарища, сообразовывать свои ответы с высказанными ранее, доказыва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Технология блочно-модуль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пройден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ый охват всех учащихся работой, вера всех, даже самых слабых, в свои сил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разноуровне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сех этапах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итие интересов и социальных способностей ребенка, возникновение положительных эмоций, формирование положительной учебн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ти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хнологическая схема реализации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вивающей системы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0000" y="1341360"/>
          <a:ext cx="7704360" cy="4807080"/>
        </p:xfrm>
        <a:graphic>
          <a:graphicData uri="http://schemas.openxmlformats.org/drawingml/2006/table">
            <a:tbl>
              <a:tblPr/>
              <a:tblGrid>
                <a:gridCol w="216000"/>
                <a:gridCol w="2516040"/>
                <a:gridCol w="1541520"/>
                <a:gridCol w="3430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сотрудничестве (групповые формы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закрепление материала, проверка изученного материа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слушать и слышать, выражать свое мнение, доказывать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 последовательного решения проблемы путем применения знаний, умений, поиска необходимой учеб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Компьютерные технолог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сех этапах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компьютером для решения учебных зада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71640" y="333360"/>
          <a:ext cx="7848360" cy="6229440"/>
        </p:xfrm>
        <a:graphic>
          <a:graphicData uri="http://schemas.openxmlformats.org/drawingml/2006/table">
            <a:tbl>
              <a:tblPr/>
              <a:tblGrid>
                <a:gridCol w="287280"/>
                <a:gridCol w="2278080"/>
                <a:gridCol w="2057400"/>
                <a:gridCol w="3225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роект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я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ащихся творческого подхода к работе, уверенности в собственной значимости при выполнении общего коллективного дела, ответственности перед ожидаемыми результат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«Портфель учен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всего учебного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учебная мотивация учащихся, постоянная активность в учебной и внеурочной деятельности, самоорганизация в образовательном процессе, формирование навыка самообразов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- сберегающ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минутки, различные этапы урока, изучение результативности обучен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ые, социально-адаптированные дети, сохранение зрения, осанки; высокая школьная мотивац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73080" y="479520"/>
          <a:ext cx="7880400" cy="203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79520"/>
                    <a:ext cx="78804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2987640" y="1628640"/>
            <a:ext cx="266688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посредственно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ученикам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666880"/>
            <a:ext cx="212112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зультативност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ученност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920" y="4267080"/>
            <a:ext cx="191448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Изучени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своения знаний,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мений и навыков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" y="3048120"/>
            <a:ext cx="173664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ивани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9880" y="5105520"/>
            <a:ext cx="1189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вит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щихс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20320" y="-1066680"/>
          <a:ext cx="2590560" cy="1238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20320" y="-1066680"/>
                    <a:ext cx="25905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 txBox="1"/>
          <p:nvPr/>
        </p:nvSpPr>
        <p:spPr>
          <a:xfrm>
            <a:off x="6172200" y="1828800"/>
            <a:ext cx="201312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ределение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ношения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дителей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системе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5000" y="3733920"/>
            <a:ext cx="2286000" cy="19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сихологической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фортности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щихс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572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00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1148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352680" y="441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276720" y="35049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72400" y="-1523880"/>
          <a:ext cx="9105840" cy="908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-1523880"/>
                    <a:ext cx="9105840" cy="90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476360" y="189000"/>
          <a:ext cx="5394240" cy="301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89000"/>
                    <a:ext cx="53942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84360" y="3581280"/>
          <a:ext cx="3182760" cy="2934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581280"/>
                    <a:ext cx="318276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038480" y="3581280"/>
          <a:ext cx="3486240" cy="2934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581280"/>
                    <a:ext cx="348624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уктура  уро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0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иминутка чисто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ктант,взаимодиктант,или словарный диктант (5-6 сл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ивация;от интера учащихся к новой теме урока.Введение в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ация темы,создание прблем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нов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ичное закре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9:29:46Z</dcterms:created>
  <dc:creator>Кесебежева</dc:creator>
  <dc:description/>
  <dc:language>en-US</dc:language>
  <cp:lastModifiedBy>Celeron</cp:lastModifiedBy>
  <dcterms:modified xsi:type="dcterms:W3CDTF">2009-04-23T17:04:39Z</dcterms:modified>
  <cp:revision>24</cp:revision>
  <dc:subject/>
  <dc:title>Изучение результативности обучения в начальных классах</dc:title>
</cp:coreProperties>
</file>