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64A-45BA-41B2-99BF-17B6AF36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3CD-8AA7-4E9B-B672-20D433B4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0B3-CD46-4B74-95B3-79045085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246-4000-4F9D-8E19-D26F8DE3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4326-4529-434C-9B2C-F0577EDD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A5B2-F3F6-407C-A8E8-0F7FC8B2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C851-84CA-46AC-B0B6-B06FD16D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174A-B923-4C74-B303-2DB62F40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67EB-9690-47B1-ABCC-3658B79C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A966-485E-4829-980B-7F61A5DD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C77F-6864-43DC-B485-F4EEF712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983-93CF-4D01-905A-822B712B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AB69-190A-4F4A-9FC2-BC17B48C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7439-549A-4A38-9B2A-CC83359A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4CC8-FB8B-443A-8741-BA296D79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4F8A-410E-4577-8E4E-B75F6ED6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85C3-2FDA-459D-A3B0-82D5D390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05F-EA6D-46B6-A9D6-5C7B57CC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A45-903D-4742-84BE-AAFD15ED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5C2D-D6F6-4989-BA26-73271C27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AAB-8151-443F-90AF-8C6F6B00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8193-44CD-434D-881A-EDACA0C5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4CB-1683-4FA4-A61C-BC527B8A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46F-FE4A-4C65-9B7A-6B8AC772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F532-65EC-4C74-BE1E-8AEC27A4A26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94DC-8FA2-4D4A-9600-E6D1FDC1FB6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755640" y="2205000"/>
            <a:ext cx="76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Тема: Материальная ответственность сторон трудового договор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2421000"/>
            <a:ext cx="748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611280" y="1413000"/>
            <a:ext cx="813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атериальная ответ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 самостоятельны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ид юридической ответственности 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а обязанность возмещения виновной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ороной трудового договора начисленного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щерба другой сторон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Organization Chart 7"/>
          <p:cNvGrpSpPr/>
          <p:nvPr/>
        </p:nvGrpSpPr>
        <p:grpSpPr>
          <a:xfrm>
            <a:off x="611280" y="765000"/>
            <a:ext cx="8151120" cy="5830920"/>
            <a:chOff x="611280" y="765000"/>
            <a:chExt cx="8151120" cy="5830920"/>
          </a:xfrm>
        </p:grpSpPr>
        <p:cxnSp>
          <p:nvCxnSpPr>
            <p:cNvPr id="171" name="_s1028"/>
            <p:cNvCxnSpPr/>
            <p:nvPr/>
          </p:nvCxnSpPr>
          <p:spPr>
            <a:xfrm flipH="1" flipV="1" rot="5400000">
              <a:off x="3531240" y="4468320"/>
              <a:ext cx="2228400" cy="3600"/>
            </a:xfrm>
            <a:prstGeom prst="bentConnector3">
              <a:avLst>
                <a:gd name="adj1" fmla="val 5121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172" name="_s1029"/>
            <p:cNvCxnSpPr>
              <a:endCxn id="173" idx="1"/>
            </p:cNvCxnSpPr>
            <p:nvPr/>
          </p:nvCxnSpPr>
          <p:spPr>
            <a:xfrm>
              <a:off x="2195280" y="5372640"/>
              <a:ext cx="3384360" cy="219240"/>
            </a:xfrm>
            <a:prstGeom prst="bentConnector3">
              <a:avLst>
                <a:gd name="adj1" fmla="val 3372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174" name="_s1030"/>
            <p:cNvCxnSpPr/>
            <p:nvPr/>
          </p:nvCxnSpPr>
          <p:spPr>
            <a:xfrm flipV="1" rot="16200000">
              <a:off x="4976640" y="1150920"/>
              <a:ext cx="2204640" cy="2870640"/>
            </a:xfrm>
            <a:prstGeom prst="bentConnector3">
              <a:avLst>
                <a:gd name="adj1" fmla="val 5177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175" name="_s1031"/>
            <p:cNvCxnSpPr/>
            <p:nvPr/>
          </p:nvCxnSpPr>
          <p:spPr>
            <a:xfrm flipH="1" flipV="1" rot="5400000">
              <a:off x="2096640" y="1149840"/>
              <a:ext cx="2204640" cy="2873520"/>
            </a:xfrm>
            <a:prstGeom prst="bentConnector3">
              <a:avLst>
                <a:gd name="adj1" fmla="val 5177"/>
              </a:avLst>
            </a:prstGeom>
            <a:ln w="28440">
              <a:solidFill>
                <a:srgbClr val="006699"/>
              </a:solidFill>
              <a:miter/>
            </a:ln>
          </p:spPr>
        </p:cxnSp>
        <p:sp>
          <p:nvSpPr>
            <p:cNvPr id="176" name="_s1032"/>
            <p:cNvSpPr/>
            <p:nvPr/>
          </p:nvSpPr>
          <p:spPr>
            <a:xfrm>
              <a:off x="2124360" y="765000"/>
              <a:ext cx="5039640" cy="12945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Условия наступления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материальной ответственности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7" name="_s1033"/>
            <p:cNvSpPr/>
            <p:nvPr/>
          </p:nvSpPr>
          <p:spPr>
            <a:xfrm>
              <a:off x="611280" y="2415960"/>
              <a:ext cx="2519280" cy="17337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Наличие ущерба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8" name="_s1034"/>
            <p:cNvSpPr/>
            <p:nvPr/>
          </p:nvSpPr>
          <p:spPr>
            <a:xfrm>
              <a:off x="6228720" y="2489400"/>
              <a:ext cx="2533680" cy="17337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Противоправное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поведение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(действие,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бездействие)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9" name="_s1035"/>
            <p:cNvSpPr/>
            <p:nvPr/>
          </p:nvSpPr>
          <p:spPr>
            <a:xfrm>
              <a:off x="611280" y="4579560"/>
              <a:ext cx="2952360" cy="20163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6699"/>
                  </a:solidFill>
                  <a:latin typeface="Verdana"/>
                </a:rPr>
                <a:t>Вина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6699"/>
                  </a:solidFill>
                  <a:latin typeface="Verdana"/>
                </a:rPr>
                <a:t>причинителя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6699"/>
                  </a:solidFill>
                  <a:latin typeface="Verdana"/>
                </a:rPr>
                <a:t>вреда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3" name="_s1036"/>
            <p:cNvSpPr/>
            <p:nvPr/>
          </p:nvSpPr>
          <p:spPr>
            <a:xfrm>
              <a:off x="5579280" y="4579560"/>
              <a:ext cx="3183120" cy="20163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Причинная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Связь между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противоправным,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виновным поведением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 </a:t>
              </a: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и наличием ущерба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5"/>
          <p:cNvSpPr/>
          <p:nvPr/>
        </p:nvSpPr>
        <p:spPr>
          <a:xfrm>
            <a:off x="826920" y="765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иды материальной ответствен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5004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риальная ответственность работодател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риальная ответственность работни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ен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ивидуаль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лективная (бригадная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611280" y="692280"/>
            <a:ext cx="813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Основания привлечения сторон трудового договора к материальной ответствен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979640" y="2060640"/>
            <a:ext cx="5616720" cy="79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работодател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826920" y="3284640"/>
            <a:ext cx="7417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законное лишение работника возможности трудитс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щерб, причиненный имуществу работни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ержка выплаты заработной плат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ральный вред, причиненный работни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д, причиненный жизни и здоровью работни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684360" y="692280"/>
            <a:ext cx="8064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Основания привлечения сторон трудового договора к материальной ответствен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908000" y="1989000"/>
            <a:ext cx="5257800" cy="7905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ombstone"/>
              </a:rPr>
              <a:t>Для работни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042920" y="3429000"/>
            <a:ext cx="7345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чинение ущерба имуществу работни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ушение обязательств по ученическому договор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щерб, причиненный разглашением коммерческой (служебной) тайн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611280" y="692280"/>
            <a:ext cx="82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042920" y="62064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рядок возмещения ущерба, причиненного работодателю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79280" y="2133720"/>
            <a:ext cx="2376720" cy="24494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бровольный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заявлению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письменном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язательств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700360" y="1844640"/>
            <a:ext cx="2808360" cy="1440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тем удержа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заработной  платы п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поряжению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одател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2700360" y="3573360"/>
            <a:ext cx="2808360" cy="13683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позднее 1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яца со дн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овле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мера ущерб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2700360" y="5157720"/>
            <a:ext cx="2808360" cy="13669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сумм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ыскания не превышае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ег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работка за 1 месяц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5796000" y="1844640"/>
            <a:ext cx="3024000" cy="1079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удебном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ядк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5796000" y="3068640"/>
            <a:ext cx="3024000" cy="11523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ечении 1года со дня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наруже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чиненного вред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5796000" y="4365720"/>
            <a:ext cx="3024000" cy="10080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ник добровольно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естить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щерб не согласе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5796000" y="5589720"/>
            <a:ext cx="3024000" cy="9144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мма ущерба превышае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ий заработок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995640" y="3284640"/>
            <a:ext cx="0" cy="288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3924360" y="4941720"/>
            <a:ext cx="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Line 16"/>
          <p:cNvSpPr/>
          <p:nvPr/>
        </p:nvSpPr>
        <p:spPr>
          <a:xfrm>
            <a:off x="7236000" y="2924280"/>
            <a:ext cx="0" cy="144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Line 17"/>
          <p:cNvSpPr/>
          <p:nvPr/>
        </p:nvSpPr>
        <p:spPr>
          <a:xfrm>
            <a:off x="7236000" y="4221000"/>
            <a:ext cx="0" cy="144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18"/>
          <p:cNvSpPr/>
          <p:nvPr/>
        </p:nvSpPr>
        <p:spPr>
          <a:xfrm>
            <a:off x="7236000" y="5373720"/>
            <a:ext cx="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8:31:01Z</dcterms:created>
  <dc:creator>Kate</dc:creator>
  <dc:description/>
  <dc:language>en-US</dc:language>
  <cp:lastModifiedBy>ZooM</cp:lastModifiedBy>
  <dcterms:modified xsi:type="dcterms:W3CDTF">2013-12-12T15:21:09Z</dcterms:modified>
  <cp:revision>5</cp:revision>
  <dc:subject/>
  <dc:title>Слайд 1</dc:title>
</cp:coreProperties>
</file>