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C3E-304E-43F1-8F53-13EC028C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265-5E16-424F-8667-7E724083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039-EEA0-4678-A083-152B0F91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E91-8B81-45CB-AECE-4B60D508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2B37-48DD-44F8-B86F-50A4C3BE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A281-4C2C-4269-A970-01701077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A2E2-ADE2-4C64-B0CE-1DF03B04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3B97-ACA6-4FF8-89E9-3B893ED6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8E75-B845-4E6C-9AA1-893D4595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C621-BE3D-4783-A578-5C4E8093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1CF8-2DB5-4DF6-8CF3-4C630111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42F-5AC1-4308-87BF-852970B1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E3AC-902B-4B3E-A710-E89F6867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1447-E593-4DCE-A782-5FE54956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89BE-6868-4FD2-B45B-99B8DCC6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9AC0-58E3-4995-B2E9-FCDEDD08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677D-B12F-40BD-83CF-F38753C7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07B1-E9C6-482B-AAF0-C5290AC7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1E3-E949-40B5-84FB-7C42CF26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C59-2054-4850-BB50-84DAE269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E84-F413-4D4E-A1F6-45A7BEA2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C1C-4861-435E-8989-8E5FBBC3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F918-E752-4573-9F12-281DA9CE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849-037D-401E-903B-0D303393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1DD0-CBDB-4C24-8A8B-9917688FB2E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56ED-0F02-44D9-91A9-FD9B216604F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755640" y="2205000"/>
            <a:ext cx="76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Тема: Материальная ответственность сторон трудового договор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2421000"/>
            <a:ext cx="748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611280" y="1413000"/>
            <a:ext cx="813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атериальная ответ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 самостоятельны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ид юридической ответственности 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а обязанность возмещения виновной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ороной трудового договора начисленного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щерба другой стороне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Organization Chart 7"/>
          <p:cNvGrpSpPr/>
          <p:nvPr/>
        </p:nvGrpSpPr>
        <p:grpSpPr>
          <a:xfrm>
            <a:off x="611280" y="765000"/>
            <a:ext cx="8151120" cy="5830920"/>
            <a:chOff x="611280" y="765000"/>
            <a:chExt cx="8151120" cy="5830920"/>
          </a:xfrm>
        </p:grpSpPr>
        <p:cxnSp>
          <p:nvCxnSpPr>
            <p:cNvPr id="171" name="_s1028"/>
            <p:cNvCxnSpPr/>
            <p:nvPr/>
          </p:nvCxnSpPr>
          <p:spPr>
            <a:xfrm flipH="1" flipV="1" rot="5400000">
              <a:off x="3531240" y="4468320"/>
              <a:ext cx="2228400" cy="3600"/>
            </a:xfrm>
            <a:prstGeom prst="bentConnector3">
              <a:avLst>
                <a:gd name="adj1" fmla="val 5121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172" name="_s1029"/>
            <p:cNvCxnSpPr>
              <a:endCxn id="173" idx="1"/>
            </p:cNvCxnSpPr>
            <p:nvPr/>
          </p:nvCxnSpPr>
          <p:spPr>
            <a:xfrm>
              <a:off x="2195280" y="5372640"/>
              <a:ext cx="3384360" cy="219240"/>
            </a:xfrm>
            <a:prstGeom prst="bentConnector3">
              <a:avLst>
                <a:gd name="adj1" fmla="val 3372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174" name="_s1030"/>
            <p:cNvCxnSpPr/>
            <p:nvPr/>
          </p:nvCxnSpPr>
          <p:spPr>
            <a:xfrm flipV="1" rot="16200000">
              <a:off x="4976640" y="1150920"/>
              <a:ext cx="2204640" cy="2870640"/>
            </a:xfrm>
            <a:prstGeom prst="bentConnector3">
              <a:avLst>
                <a:gd name="adj1" fmla="val 5177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175" name="_s1031"/>
            <p:cNvCxnSpPr/>
            <p:nvPr/>
          </p:nvCxnSpPr>
          <p:spPr>
            <a:xfrm flipH="1" flipV="1" rot="5400000">
              <a:off x="2096640" y="1149840"/>
              <a:ext cx="2204640" cy="2873520"/>
            </a:xfrm>
            <a:prstGeom prst="bentConnector3">
              <a:avLst>
                <a:gd name="adj1" fmla="val 5177"/>
              </a:avLst>
            </a:prstGeom>
            <a:ln w="28440">
              <a:solidFill>
                <a:srgbClr val="006699"/>
              </a:solidFill>
              <a:miter/>
            </a:ln>
          </p:spPr>
        </p:cxnSp>
        <p:sp>
          <p:nvSpPr>
            <p:cNvPr id="176" name="_s1032"/>
            <p:cNvSpPr/>
            <p:nvPr/>
          </p:nvSpPr>
          <p:spPr>
            <a:xfrm>
              <a:off x="2124360" y="765000"/>
              <a:ext cx="5039640" cy="12945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Условия наступления 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материальной ответственности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7" name="_s1033"/>
            <p:cNvSpPr/>
            <p:nvPr/>
          </p:nvSpPr>
          <p:spPr>
            <a:xfrm>
              <a:off x="611280" y="2415960"/>
              <a:ext cx="2519280" cy="17337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Наличие ущерба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8" name="_s1034"/>
            <p:cNvSpPr/>
            <p:nvPr/>
          </p:nvSpPr>
          <p:spPr>
            <a:xfrm>
              <a:off x="6228720" y="2489400"/>
              <a:ext cx="2533680" cy="17337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Противоправное 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поведение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(действие,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бездействие)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9" name="_s1035"/>
            <p:cNvSpPr/>
            <p:nvPr/>
          </p:nvSpPr>
          <p:spPr>
            <a:xfrm>
              <a:off x="611280" y="4579560"/>
              <a:ext cx="2952360" cy="20163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6699"/>
                  </a:solidFill>
                  <a:latin typeface="Verdana"/>
                </a:rPr>
                <a:t>Вина 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6699"/>
                  </a:solidFill>
                  <a:latin typeface="Verdana"/>
                </a:rPr>
                <a:t>причинителя 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6699"/>
                  </a:solidFill>
                  <a:latin typeface="Verdana"/>
                </a:rPr>
                <a:t>вреда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3" name="_s1036"/>
            <p:cNvSpPr/>
            <p:nvPr/>
          </p:nvSpPr>
          <p:spPr>
            <a:xfrm>
              <a:off x="5579280" y="4579560"/>
              <a:ext cx="3183120" cy="20163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Причинная 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Связь между 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противоправным, 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виновным поведением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 </a:t>
              </a: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и наличием ущерба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5"/>
          <p:cNvSpPr/>
          <p:nvPr/>
        </p:nvSpPr>
        <p:spPr>
          <a:xfrm>
            <a:off x="826920" y="765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иды материальной ответствен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5004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териальная ответственность работодател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териальная ответственность работни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аниченн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н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ивидуальн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лективная (бригадная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611280" y="692280"/>
            <a:ext cx="813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Основания привлечения сторон трудового договора к материальной ответствен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979640" y="2060640"/>
            <a:ext cx="5616720" cy="79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работодател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826920" y="3284640"/>
            <a:ext cx="7417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законное лишение работника возможности трудитс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щерб, причиненный имуществу работни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ержка выплаты заработной плат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ральный вред, причиненный работни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д, причиненный жизни и здоровью работни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684360" y="692280"/>
            <a:ext cx="8064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Основания привлечения сторон трудового договора к материальной ответствен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908000" y="1989000"/>
            <a:ext cx="5257800" cy="7905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ombstone"/>
              </a:rPr>
              <a:t>Для работни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042920" y="3429000"/>
            <a:ext cx="7345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чинение ущерба имуществу работни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ушение обязательств по ученическому договор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щерб, причиненный разглашением коммерческой (служебной) тайн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611280" y="692280"/>
            <a:ext cx="82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042920" y="62064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рядок возмещения ущерба, причиненного работодателю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79280" y="2133720"/>
            <a:ext cx="2376720" cy="24494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бровольный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заявлению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письменном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язательств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700360" y="1844640"/>
            <a:ext cx="2808360" cy="1440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тем удержа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заработной  платы п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поряжению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одател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2700360" y="3573360"/>
            <a:ext cx="2808360" cy="13683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позднее 1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яца со дн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овле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мера ущерб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2700360" y="5157720"/>
            <a:ext cx="2808360" cy="13669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сумм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ыскания не превышае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ег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работка за 1 месяц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5796000" y="1844640"/>
            <a:ext cx="3024000" cy="1079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удебном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ядк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5796000" y="3068640"/>
            <a:ext cx="3024000" cy="11523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ечении 1года со дня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наруже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чиненного вред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5796000" y="4365720"/>
            <a:ext cx="3024000" cy="10080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ник добровольно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естить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щерб не согласе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5796000" y="5589720"/>
            <a:ext cx="3024000" cy="9144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мма ущерба превышае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ий заработок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995640" y="3284640"/>
            <a:ext cx="0" cy="288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3924360" y="4941720"/>
            <a:ext cx="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Line 16"/>
          <p:cNvSpPr/>
          <p:nvPr/>
        </p:nvSpPr>
        <p:spPr>
          <a:xfrm>
            <a:off x="7236000" y="2924280"/>
            <a:ext cx="0" cy="144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Line 17"/>
          <p:cNvSpPr/>
          <p:nvPr/>
        </p:nvSpPr>
        <p:spPr>
          <a:xfrm>
            <a:off x="7236000" y="4221000"/>
            <a:ext cx="0" cy="144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18"/>
          <p:cNvSpPr/>
          <p:nvPr/>
        </p:nvSpPr>
        <p:spPr>
          <a:xfrm>
            <a:off x="7236000" y="5373720"/>
            <a:ext cx="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8:31:01Z</dcterms:created>
  <dc:creator>Kate</dc:creator>
  <dc:description/>
  <dc:language>en-US</dc:language>
  <cp:lastModifiedBy>ZooM</cp:lastModifiedBy>
  <dcterms:modified xsi:type="dcterms:W3CDTF">2013-12-12T15:21:09Z</dcterms:modified>
  <cp:revision>5</cp:revision>
  <dc:subject/>
  <dc:title>Слайд 1</dc:title>
</cp:coreProperties>
</file>