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E99C-FA00-4021-A7CC-C6468A09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B767-9BDC-4CF4-9070-32521189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B08F-4EC4-4D1F-9D4A-B85E756C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494D-70AD-4B10-B7DC-A39BB39B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CF22-1236-493E-A3E0-E0E6EC1C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2C64-C88F-4432-AB01-9C421866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CDAB-24BE-4E43-BD84-658169DB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91B3-D4E6-4E94-9BBE-8C5ECC3D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7733-0B3E-4CEF-8710-B3C69E23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EF11-176D-4B60-9F9B-83FEFF9B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C8D0-AFCF-4293-9531-AB4554A0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2D17-F78B-4210-A161-E1BB82DB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58C1-DBE1-4DC6-A3C2-B04949B8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2AA7-2DCF-4EA9-BD06-7EE1836F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9DF7-6348-4E18-9E67-542135EE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0749-6338-452E-95A1-DA7023D19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876E-EE58-4121-A2E3-1225BE83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252B-24A6-4544-9E36-1C1309C2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9C6C-9832-475D-ACFA-7212B2B7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388C-B53B-4FCC-B216-615605DC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41CD-C571-4C33-A560-CE477E1D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1383-741E-409B-BD55-A3723A9F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B490-5B3A-4FEC-B470-B0CA9820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C580-FE06-4E9B-843F-A7E2E173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002F-0C37-4663-87A1-A2F0AF956BE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4DF3-EF37-4F82-8207-A7913551ABC1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755640" y="2205000"/>
            <a:ext cx="76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Тема: Материальная ответственность сторон трудового договор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971640" y="2421000"/>
            <a:ext cx="7488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611280" y="1413000"/>
            <a:ext cx="8137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Материальная ответственност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-  самостоятельны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ид юридической ответственности 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а обязанность возмещения виновной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тороной трудового договора начисленного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щерба другой стороне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Organization Chart 7"/>
          <p:cNvGrpSpPr/>
          <p:nvPr/>
        </p:nvGrpSpPr>
        <p:grpSpPr>
          <a:xfrm>
            <a:off x="611280" y="765000"/>
            <a:ext cx="8151120" cy="5830920"/>
            <a:chOff x="611280" y="765000"/>
            <a:chExt cx="8151120" cy="5830920"/>
          </a:xfrm>
        </p:grpSpPr>
        <p:cxnSp>
          <p:nvCxnSpPr>
            <p:cNvPr id="171" name="_s1028"/>
            <p:cNvCxnSpPr/>
            <p:nvPr/>
          </p:nvCxnSpPr>
          <p:spPr>
            <a:xfrm flipH="1" flipV="1" rot="5400000">
              <a:off x="3531240" y="4468320"/>
              <a:ext cx="2228400" cy="3600"/>
            </a:xfrm>
            <a:prstGeom prst="bentConnector3">
              <a:avLst>
                <a:gd name="adj1" fmla="val 5121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172" name="_s1029"/>
            <p:cNvCxnSpPr>
              <a:endCxn id="173" idx="1"/>
            </p:cNvCxnSpPr>
            <p:nvPr/>
          </p:nvCxnSpPr>
          <p:spPr>
            <a:xfrm>
              <a:off x="2195280" y="5372640"/>
              <a:ext cx="3384360" cy="219240"/>
            </a:xfrm>
            <a:prstGeom prst="bentConnector3">
              <a:avLst>
                <a:gd name="adj1" fmla="val 3372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174" name="_s1030"/>
            <p:cNvCxnSpPr/>
            <p:nvPr/>
          </p:nvCxnSpPr>
          <p:spPr>
            <a:xfrm flipV="1" rot="16200000">
              <a:off x="4976640" y="1150920"/>
              <a:ext cx="2204640" cy="2870640"/>
            </a:xfrm>
            <a:prstGeom prst="bentConnector3">
              <a:avLst>
                <a:gd name="adj1" fmla="val 5177"/>
              </a:avLst>
            </a:prstGeom>
            <a:ln w="28440">
              <a:solidFill>
                <a:srgbClr val="006699"/>
              </a:solidFill>
              <a:miter/>
            </a:ln>
          </p:spPr>
        </p:cxnSp>
        <p:cxnSp>
          <p:nvCxnSpPr>
            <p:cNvPr id="175" name="_s1031"/>
            <p:cNvCxnSpPr/>
            <p:nvPr/>
          </p:nvCxnSpPr>
          <p:spPr>
            <a:xfrm flipH="1" flipV="1" rot="5400000">
              <a:off x="2096640" y="1149840"/>
              <a:ext cx="2204640" cy="2873520"/>
            </a:xfrm>
            <a:prstGeom prst="bentConnector3">
              <a:avLst>
                <a:gd name="adj1" fmla="val 5177"/>
              </a:avLst>
            </a:prstGeom>
            <a:ln w="28440">
              <a:solidFill>
                <a:srgbClr val="006699"/>
              </a:solidFill>
              <a:miter/>
            </a:ln>
          </p:spPr>
        </p:cxnSp>
        <p:sp>
          <p:nvSpPr>
            <p:cNvPr id="176" name="_s1032"/>
            <p:cNvSpPr/>
            <p:nvPr/>
          </p:nvSpPr>
          <p:spPr>
            <a:xfrm>
              <a:off x="2124360" y="765000"/>
              <a:ext cx="5039640" cy="12945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Условия наступления 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материальной ответственности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7" name="_s1033"/>
            <p:cNvSpPr/>
            <p:nvPr/>
          </p:nvSpPr>
          <p:spPr>
            <a:xfrm>
              <a:off x="611280" y="2415960"/>
              <a:ext cx="2519280" cy="17337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Наличие ущерба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8" name="_s1034"/>
            <p:cNvSpPr/>
            <p:nvPr/>
          </p:nvSpPr>
          <p:spPr>
            <a:xfrm>
              <a:off x="6228720" y="2489400"/>
              <a:ext cx="2533680" cy="17337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Противоправное 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поведение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(действие,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бездействие)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9" name="_s1035"/>
            <p:cNvSpPr/>
            <p:nvPr/>
          </p:nvSpPr>
          <p:spPr>
            <a:xfrm>
              <a:off x="611280" y="4579560"/>
              <a:ext cx="2952360" cy="20163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6699"/>
                  </a:solidFill>
                  <a:latin typeface="Verdana"/>
                </a:rPr>
                <a:t>Вина 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6699"/>
                  </a:solidFill>
                  <a:latin typeface="Verdana"/>
                </a:rPr>
                <a:t>причинителя 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6699"/>
                  </a:solidFill>
                  <a:latin typeface="Verdana"/>
                </a:rPr>
                <a:t>вреда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73" name="_s1036"/>
            <p:cNvSpPr/>
            <p:nvPr/>
          </p:nvSpPr>
          <p:spPr>
            <a:xfrm>
              <a:off x="5579280" y="4579560"/>
              <a:ext cx="3183120" cy="201636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Причинная 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Связь между 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противоправным, 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виновным поведением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 </a:t>
              </a:r>
              <a:r>
                <a:rPr b="0" lang="en-US" sz="2100" spc="-1" strike="noStrike">
                  <a:solidFill>
                    <a:srgbClr val="006699"/>
                  </a:solidFill>
                  <a:latin typeface="Verdana"/>
                </a:rPr>
                <a:t>и наличием ущерба</a:t>
              </a:r>
              <a:endParaRPr b="0" lang="en-US" sz="21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5"/>
          <p:cNvSpPr/>
          <p:nvPr/>
        </p:nvSpPr>
        <p:spPr>
          <a:xfrm>
            <a:off x="826920" y="765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иды материальной ответственност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50040"/>
            <a:ext cx="82440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териальная ответственность работодател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териальная ответственность работни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граниченна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на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ивидуальна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лективная (бригадная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611280" y="692280"/>
            <a:ext cx="8137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Основания привлечения сторон трудового договора к материальной ответствен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979640" y="2060640"/>
            <a:ext cx="5616720" cy="792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работодател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826920" y="3284640"/>
            <a:ext cx="7417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законное лишение работника возможности трудитс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щерб, причиненный имуществу работни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ержка выплаты заработной плат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ральный вред, причиненный работник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д, причиненный жизни и здоровью работни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684360" y="692280"/>
            <a:ext cx="8064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Основания привлечения сторон трудового договора к материальной ответственности</a:t>
            </a:r>
            <a:endParaRPr b="0" lang="en-US" sz="3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908000" y="1989000"/>
            <a:ext cx="5257800" cy="7905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ombstone"/>
              </a:rPr>
              <a:t>Для работни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042920" y="3429000"/>
            <a:ext cx="73454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чинение ущерба имуществу работни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рушение обязательств по ученическому договор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щерб, причиненный разглашением коммерческой (служебной) тайн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611280" y="692280"/>
            <a:ext cx="82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042920" y="62064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рядок возмещения ущерба, причиненного работодателю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179280" y="2133720"/>
            <a:ext cx="2376720" cy="24494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бровольный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заявлению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 письменном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язательству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2700360" y="1844640"/>
            <a:ext cx="2808360" cy="144000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утем удержани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заработной  платы п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поряжению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одател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2700360" y="3573360"/>
            <a:ext cx="2808360" cy="13683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позднее 1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сяца со дн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ановлени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мера ущерб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2700360" y="5157720"/>
            <a:ext cx="2808360" cy="136692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сумма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зыскания не превышает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нег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работка за 1 месяц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5796000" y="1844640"/>
            <a:ext cx="3024000" cy="10796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удебном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рядк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5796000" y="3068640"/>
            <a:ext cx="3024000" cy="11523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ечении 1года со дня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наружени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чиненного вред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5796000" y="4365720"/>
            <a:ext cx="3024000" cy="10080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ник добровольно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местить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щерб не согласен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5796000" y="5589720"/>
            <a:ext cx="3024000" cy="9144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мма ущерба превышает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ний заработок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3995640" y="3284640"/>
            <a:ext cx="0" cy="2887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3924360" y="4941720"/>
            <a:ext cx="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Line 16"/>
          <p:cNvSpPr/>
          <p:nvPr/>
        </p:nvSpPr>
        <p:spPr>
          <a:xfrm>
            <a:off x="7236000" y="2924280"/>
            <a:ext cx="0" cy="1443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Line 17"/>
          <p:cNvSpPr/>
          <p:nvPr/>
        </p:nvSpPr>
        <p:spPr>
          <a:xfrm>
            <a:off x="7236000" y="4221000"/>
            <a:ext cx="0" cy="1447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Line 18"/>
          <p:cNvSpPr/>
          <p:nvPr/>
        </p:nvSpPr>
        <p:spPr>
          <a:xfrm>
            <a:off x="7236000" y="5373720"/>
            <a:ext cx="0" cy="21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8:31:01Z</dcterms:created>
  <dc:creator>Kate</dc:creator>
  <dc:description/>
  <dc:language>en-US</dc:language>
  <cp:lastModifiedBy>ZooM</cp:lastModifiedBy>
  <dcterms:modified xsi:type="dcterms:W3CDTF">2013-12-12T15:21:09Z</dcterms:modified>
  <cp:revision>5</cp:revision>
  <dc:subject/>
  <dc:title>Слайд 1</dc:title>
</cp:coreProperties>
</file>