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C31-E612-4EE5-A5C1-3E865778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C99-031E-4562-A316-8DA1836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71A-4451-43A0-B0B2-C533F3F3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F2E-42B5-456E-9D7E-4BD964C5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42E1-22D1-4843-800D-66153DB2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5E8-988E-4BDC-BFD2-722D714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D488-60B7-4069-8D0B-C7DD74C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483F-B6A6-4BA9-AF93-0AC2A1C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901-163D-45D3-9BBF-89EB102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5AF8-9D29-430A-B6E8-C7DC7B8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F10B-BE53-401A-8720-55EF873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BE7-2DE4-4DF0-A39F-D541D16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D67-C65A-4A18-B477-6302797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534-B050-4233-A3B9-922CC9A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33DD-0A2C-40AA-B990-A0FADD5D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00B-7BAE-4C68-B7EC-8096652D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D49-BA52-431B-B7B3-D2AF989A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B4B-6F67-4BC2-BBB5-5408B43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D83-F965-485D-BD7E-BFC8A35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F34-F5D4-47DF-A3B8-11229E5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C34-D2D7-4CC8-91A0-9D5DD44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85E-0BBF-4619-9B86-4DAE87E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E8C-4277-41D4-BCAB-ADE5027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264-E21A-463D-A3F4-56566C2E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5876-74D3-4833-B8D9-6C088D24D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3C9-9BCF-41E2-9F23-46E5DE30D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myjulia.ru/data/cache/2009/07/17/152778_2266-0x600.jpg" TargetMode="External"/><Relationship Id="rId3" Type="http://schemas.openxmlformats.org/officeDocument/2006/relationships/hyperlink" Target="http://files.botevcheta.webnode.com/200000016-45175461c2/1stationery15-med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0520" y="1420920"/>
            <a:ext cx="8076960" cy="177300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дзаголовок 2"/>
          <p:cNvGrpSpPr/>
          <p:nvPr/>
        </p:nvGrpSpPr>
        <p:grpSpPr>
          <a:xfrm>
            <a:off x="3846600" y="3565440"/>
            <a:ext cx="5089320" cy="1658880"/>
            <a:chOff x="3846600" y="3565440"/>
            <a:chExt cx="5089320" cy="1658880"/>
          </a:xfrm>
        </p:grpSpPr>
        <p:pic>
          <p:nvPicPr>
            <p:cNvPr id="8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3846600" y="3565440"/>
              <a:ext cx="50893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995640" y="3716280"/>
              <a:ext cx="47865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17375e"/>
                  </a:solidFill>
                  <a:latin typeface="Calibri"/>
                </a:rPr>
                <a:t>Артамонова Л.В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7375e"/>
                  </a:solidFill>
                  <a:latin typeface="Calibri"/>
                </a:rPr>
                <a:t>МКОУ «Москаленский лице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827840" cy="90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3920" y="1428840"/>
            <a:ext cx="74725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yjulia.ru/data/cache/2009/07/17/152778_2266-0x600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iles.botevcheta.webnode.com/200000016-45175461c2/1stationery15-med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mathknowledge.com/images/custom/LOGO.GIF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ccboe.net/Teachers/Durham_Sharon/images/918F9422010B4BB0B160956D6B9D4E34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lake.k12.fl.us/cms/cwp/view.asp?A=3&amp;Q=427619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533school.ru/nach.htm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4"/>
          <a:srcRect l="0" t="0" r="0" b="-92"/>
          <a:stretch/>
        </p:blipFill>
        <p:spPr>
          <a:xfrm>
            <a:off x="285840" y="1428840"/>
            <a:ext cx="973080" cy="512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5"/>
          <a:srcRect l="0" t="0" r="-177" b="-300"/>
          <a:stretch/>
        </p:blipFill>
        <p:spPr>
          <a:xfrm>
            <a:off x="500040" y="221472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6"/>
          <a:stretch/>
        </p:blipFill>
        <p:spPr>
          <a:xfrm>
            <a:off x="285840" y="3000240"/>
            <a:ext cx="976320" cy="54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"/>
          <p:cNvPicPr/>
          <p:nvPr/>
        </p:nvPicPr>
        <p:blipFill>
          <a:blip r:embed="rId7"/>
          <a:srcRect l="0" t="0" r="40" b="-189"/>
          <a:stretch/>
        </p:blipFill>
        <p:spPr>
          <a:xfrm>
            <a:off x="428760" y="3786120"/>
            <a:ext cx="78552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"/>
          <p:cNvPicPr/>
          <p:nvPr/>
        </p:nvPicPr>
        <p:blipFill>
          <a:blip r:embed="rId8"/>
          <a:stretch/>
        </p:blipFill>
        <p:spPr>
          <a:xfrm>
            <a:off x="357120" y="4429080"/>
            <a:ext cx="870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54288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4645080" y="1773360"/>
            <a:ext cx="1438200" cy="1006200"/>
          </a:xfrm>
          <a:prstGeom prst="rect">
            <a:avLst/>
          </a:prstGeom>
          <a:ln w="0">
            <a:noFill/>
          </a:ln>
        </p:spPr>
      </p:pic>
      <p:sp>
        <p:nvSpPr>
          <p:cNvPr id="90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66816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0"/>
          <p:cNvSpPr/>
          <p:nvPr/>
        </p:nvSpPr>
        <p:spPr>
          <a:xfrm>
            <a:off x="2733840" y="3429000"/>
            <a:ext cx="1439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1"/>
          <p:cNvSpPr/>
          <p:nvPr/>
        </p:nvSpPr>
        <p:spPr>
          <a:xfrm>
            <a:off x="463392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2200320" y="161460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,86       4,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2200320" y="3213000"/>
            <a:ext cx="2798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09      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200320" y="479736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,607      5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6" descr=""/>
          <p:cNvPicPr/>
          <p:nvPr/>
        </p:nvPicPr>
        <p:blipFill>
          <a:blip r:embed="rId2"/>
          <a:stretch/>
        </p:blipFill>
        <p:spPr>
          <a:xfrm>
            <a:off x="3340080" y="1768320"/>
            <a:ext cx="372960" cy="730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2" descr=""/>
          <p:cNvPicPr/>
          <p:nvPr/>
        </p:nvPicPr>
        <p:blipFill>
          <a:blip r:embed="rId3"/>
          <a:stretch/>
        </p:blipFill>
        <p:spPr>
          <a:xfrm>
            <a:off x="3700440" y="3352680"/>
            <a:ext cx="3286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3" descr=""/>
          <p:cNvPicPr/>
          <p:nvPr/>
        </p:nvPicPr>
        <p:blipFill>
          <a:blip r:embed="rId4"/>
          <a:stretch/>
        </p:blipFill>
        <p:spPr>
          <a:xfrm>
            <a:off x="3541680" y="4937040"/>
            <a:ext cx="3286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3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1,93 + 5,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,46 – 0,5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араллелограмм 11"/>
          <p:cNvSpPr/>
          <p:nvPr/>
        </p:nvSpPr>
        <p:spPr>
          <a:xfrm>
            <a:off x="1727280" y="4170240"/>
            <a:ext cx="4321080" cy="936720"/>
          </a:xfrm>
          <a:prstGeom prst="parallelogram">
            <a:avLst>
              <a:gd name="adj" fmla="val 24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0,83 + 7,5- (3,3+ 1,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8"/>
          <p:cNvSpPr/>
          <p:nvPr/>
        </p:nvSpPr>
        <p:spPr>
          <a:xfrm>
            <a:off x="2987640" y="1584360"/>
            <a:ext cx="230508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7,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2735280" y="2978280"/>
            <a:ext cx="2305080" cy="934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8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2340000" y="4170240"/>
            <a:ext cx="309564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11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,15 ● 0,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,82 : 3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араллелограмм 11"/>
          <p:cNvSpPr/>
          <p:nvPr/>
        </p:nvSpPr>
        <p:spPr>
          <a:xfrm>
            <a:off x="1727280" y="4170240"/>
            <a:ext cx="45734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6,5 – 1,26):0,4+3,6 ●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емиугольник 2"/>
          <p:cNvSpPr/>
          <p:nvPr/>
        </p:nvSpPr>
        <p:spPr>
          <a:xfrm>
            <a:off x="755640" y="1484280"/>
            <a:ext cx="107964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емиугольник 12"/>
          <p:cNvSpPr/>
          <p:nvPr/>
        </p:nvSpPr>
        <p:spPr>
          <a:xfrm>
            <a:off x="6465960" y="2978280"/>
            <a:ext cx="1201680" cy="900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0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емиугольник 13"/>
          <p:cNvSpPr/>
          <p:nvPr/>
        </p:nvSpPr>
        <p:spPr>
          <a:xfrm>
            <a:off x="6985080" y="1484280"/>
            <a:ext cx="107928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,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емиугольник 16"/>
          <p:cNvSpPr/>
          <p:nvPr/>
        </p:nvSpPr>
        <p:spPr>
          <a:xfrm>
            <a:off x="7591320" y="403056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емиугольник 17"/>
          <p:cNvSpPr/>
          <p:nvPr/>
        </p:nvSpPr>
        <p:spPr>
          <a:xfrm>
            <a:off x="539640" y="3179880"/>
            <a:ext cx="1079640" cy="8636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1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емиугольник 18"/>
          <p:cNvSpPr/>
          <p:nvPr/>
        </p:nvSpPr>
        <p:spPr>
          <a:xfrm>
            <a:off x="4191120" y="525924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L 0.16146 0.02105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01665E-006 L -0.2599 0.18871 E">
                                      <p:cBhvr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9371E-006 L 0.09462 0.17831 E">
                                      <p:cBhvr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2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,3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4"/>
          <p:cNvSpPr/>
          <p:nvPr/>
        </p:nvSpPr>
        <p:spPr>
          <a:xfrm>
            <a:off x="338940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5"/>
          <p:cNvSpPr/>
          <p:nvPr/>
        </p:nvSpPr>
        <p:spPr>
          <a:xfrm>
            <a:off x="6012000" y="1708200"/>
            <a:ext cx="244764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34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альтернативный процесс 8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альтернативный процесс 9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9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23,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альтернативный процесс 4"/>
          <p:cNvSpPr/>
          <p:nvPr/>
        </p:nvSpPr>
        <p:spPr>
          <a:xfrm>
            <a:off x="3492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5"/>
          <p:cNvSpPr/>
          <p:nvPr/>
        </p:nvSpPr>
        <p:spPr>
          <a:xfrm>
            <a:off x="6156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,23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альтернативный процесс 7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8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428840"/>
            <a:ext cx="4114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864 : 2,4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 – 18,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4,96 : 1,2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,8 + 5,8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3 * 26,6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Объект 2"/>
          <p:cNvSpPr/>
          <p:nvPr/>
        </p:nvSpPr>
        <p:spPr>
          <a:xfrm>
            <a:off x="4724280" y="1552680"/>
            <a:ext cx="41148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5904 :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0 – 19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0,1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8,8 + 7,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4 * 56,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с.Павловск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лтайский край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звание сайта: http://pedsovet.su/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User</cp:lastModifiedBy>
  <dcterms:modified xsi:type="dcterms:W3CDTF">2012-10-07T12:45:0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20000000000010250300207f7000400038000</vt:lpwstr>
  </property>
</Properties>
</file>