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821B-DDF1-4D77-8E55-7CE3CD2F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962-1AF5-4336-BA5C-87C052AC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B8A-E7CF-4E2D-A485-9DBDAE02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994-D845-4B9B-849D-0DDE12D6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E2222-6B24-4FA3-AEC7-DF389BA2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11B05-340E-40BD-BA25-4EE669A3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04425-A1BA-46E9-A10A-21431420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CE0AB-EA9C-4DBC-A1F1-404CB62C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8EE71-A45D-47C2-944C-0C0200C7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291E5-4408-4A40-82E9-74E19541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12D66-8454-4381-B8FB-94DB8FF5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278-569B-409B-B508-D3A55128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E30D6-ACD1-4A71-AE1F-B0DCAE9E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FEEAD-D400-48A2-8E5A-887A35AC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5C65B-C1A0-4699-B7C9-A36AD14D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405C8-DD5F-49A9-9D24-CCD1E4ED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B0D4D-DE42-4B27-B4D0-F123B682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F982-C436-4BFF-962F-9C97976A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B38-D31D-44E4-B55D-3C0F4EA0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EC4-2758-48D5-9BF6-566E2B7A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71A-CFD3-4151-A541-875CCCD6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A80-1D26-41AC-A2D6-2B2364E7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556-84F3-4EFD-8016-A3053E47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0D1-3C1E-4244-B9AC-0441856E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7AE8-335C-4E00-99DD-DD55588BDD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6E8F-8D28-41C1-9335-DAAF2503FF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71280" y="320760"/>
            <a:ext cx="727236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арльз Дарв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положения теор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схо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745160" y="3364200"/>
            <a:ext cx="43988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трова Полина                                                     Смирнова Олеся                                                    Сурков Макс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1 “А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19" descr=""/>
          <p:cNvPicPr/>
          <p:nvPr/>
        </p:nvPicPr>
        <p:blipFill>
          <a:blip r:embed="rId1"/>
          <a:stretch/>
        </p:blipFill>
        <p:spPr>
          <a:xfrm>
            <a:off x="395280" y="2538360"/>
            <a:ext cx="48531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чем ошибочность предположений Ламар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дея внутреннего стремления к самосовершенствова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 наследования приобретенных призна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рицание реальности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101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чем заслуга эволюционного учения Ламар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2843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слуга Ламарка заключается в том, что он пытался отобразить этапы эволюционного проце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356000" y="61128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волюция лошад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3851280" y="1125360"/>
            <a:ext cx="48355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едпосылки возникновения учения Дарви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3492360" y="3357720"/>
            <a:ext cx="180036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рв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395280" y="1484280"/>
            <a:ext cx="2158920" cy="1657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Лайе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сториз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геолог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3203640" y="1484280"/>
            <a:ext cx="2376360" cy="1657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 Кон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иопоэ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300720" y="1484280"/>
            <a:ext cx="2089080" cy="158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ж. Гешел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ипотетик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дедуктивный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то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468360" y="3213000"/>
            <a:ext cx="2158920" cy="1586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. Юэл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ипертроф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эконовск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т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6227640" y="5013360"/>
            <a:ext cx="2376720" cy="165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Кетл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личествен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акономер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о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пуляр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395280" y="4941720"/>
            <a:ext cx="2232000" cy="1727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.Мальту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нкурен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услови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пуляцион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авл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3203640" y="5013360"/>
            <a:ext cx="2376360" cy="165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ж. Себрай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на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езультат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тбора с гибель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ивотны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6300720" y="3284640"/>
            <a:ext cx="2160720" cy="158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Сми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учай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эконом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тношен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2340000" y="2781360"/>
            <a:ext cx="1368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5076720" y="2852640"/>
            <a:ext cx="151128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15"/>
          <p:cNvSpPr/>
          <p:nvPr/>
        </p:nvSpPr>
        <p:spPr>
          <a:xfrm flipV="1">
            <a:off x="2484360" y="450864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16"/>
          <p:cNvSpPr/>
          <p:nvPr/>
        </p:nvSpPr>
        <p:spPr>
          <a:xfrm flipH="1" flipV="1">
            <a:off x="5219280" y="4436640"/>
            <a:ext cx="1368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2627280" y="4076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18"/>
          <p:cNvSpPr/>
          <p:nvPr/>
        </p:nvSpPr>
        <p:spPr>
          <a:xfrm flipH="1">
            <a:off x="5292720" y="40766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4356000" y="3141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4427640" y="4797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новные положения эволюционного учения Дарви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 Многообразие видов животных и растений – это результат исторического развития органического ми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13" descr=""/>
          <p:cNvPicPr/>
          <p:nvPr/>
        </p:nvPicPr>
        <p:blipFill>
          <a:blip r:embed="rId1"/>
          <a:stretch/>
        </p:blipFill>
        <p:spPr>
          <a:xfrm>
            <a:off x="4067280" y="1916280"/>
            <a:ext cx="2174760" cy="1981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30480" cy="198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"/>
          <p:cNvPicPr/>
          <p:nvPr/>
        </p:nvPicPr>
        <p:blipFill>
          <a:blip r:embed="rId3"/>
          <a:stretch/>
        </p:blipFill>
        <p:spPr>
          <a:xfrm>
            <a:off x="4067280" y="414972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"/>
          <p:cNvPicPr/>
          <p:nvPr/>
        </p:nvPicPr>
        <p:blipFill>
          <a:blip r:embed="rId4"/>
          <a:stretch/>
        </p:blipFill>
        <p:spPr>
          <a:xfrm>
            <a:off x="6516720" y="4149720"/>
            <a:ext cx="215892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40384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Главные движущие силы эволюции – борьба за существование и естественный отбор. Материал для отбора дает изменчивость. Стабильность вида обеспечивается наследственност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5292720" y="4797360"/>
            <a:ext cx="35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ль естественного отбора при формировании приспособл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1"/>
          <a:stretch/>
        </p:blipFill>
        <p:spPr>
          <a:xfrm>
            <a:off x="4648320" y="260280"/>
            <a:ext cx="44956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280" y="-360"/>
            <a:ext cx="788508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Эволюция органического мира преимущественно шла по пути усложнения организации живых сущест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55640" y="528660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вергентная эволюция: развитие приспособлений для парения в воздух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 позвоноч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139160" cy="40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341964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Приспособленность к условиям окружающей среды – результат действия естественного отб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4470480" cy="3524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>
            <a:off x="2935440" y="5299560"/>
            <a:ext cx="6458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кровительственная окраска-мимикр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Могут наследоваться как благоприятные, так и неблагоприятные изменения. Н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дельц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еблагоприятных изменений, как правило, уничтожаются в борьбе за существова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1"/>
          <a:stretch/>
        </p:blipFill>
        <p:spPr>
          <a:xfrm>
            <a:off x="3959280" y="981000"/>
            <a:ext cx="5184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Многообразие современных пород домашних животных и сортов 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 растений является результатом действия искусственного отб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11" descr=""/>
          <p:cNvPicPr/>
          <p:nvPr/>
        </p:nvPicPr>
        <p:blipFill>
          <a:blip r:embed="rId1"/>
          <a:stretch/>
        </p:blipFill>
        <p:spPr>
          <a:xfrm>
            <a:off x="468360" y="4076640"/>
            <a:ext cx="3456000" cy="278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2"/>
          <a:stretch/>
        </p:blipFill>
        <p:spPr>
          <a:xfrm>
            <a:off x="4716360" y="4049640"/>
            <a:ext cx="3816360" cy="2808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3"/>
          <a:stretch/>
        </p:blipFill>
        <p:spPr>
          <a:xfrm>
            <a:off x="4788000" y="333360"/>
            <a:ext cx="367164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Эволюция человека связана с историчес-ким развитием человекообразных обезья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15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64388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знакомиться с основными положениями теории происхождения ви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чи урок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формировать у школьников представление о предпосылках возникновения дарвин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знакомить с основными положениями тео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оставить ученикам право самостоятельно оценивать состоятельность теории Дарв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щность теории Дарв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826920" y="836640"/>
            <a:ext cx="2737080" cy="503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внешней сре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5292720" y="836640"/>
            <a:ext cx="2879640" cy="503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м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1557360"/>
            <a:ext cx="187164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днород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1979640" y="1557360"/>
            <a:ext cx="201600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граниченност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еоднород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сурс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4140360" y="1557360"/>
            <a:ext cx="158400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ледствен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867280" y="1557360"/>
            <a:ext cx="144000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ч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7451640" y="1557360"/>
            <a:ext cx="169236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нсив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н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324000" y="2781360"/>
            <a:ext cx="849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1403280" y="134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2771640" y="134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5292720" y="134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659640" y="134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8028000" y="134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4500720" y="2781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1763640" y="3141720"/>
            <a:ext cx="54723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ьба за существов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1763640" y="3789360"/>
            <a:ext cx="547236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ественный отб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250920" y="4581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4500720" y="3645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4500720" y="4292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22"/>
          <p:cNvSpPr/>
          <p:nvPr/>
        </p:nvSpPr>
        <p:spPr>
          <a:xfrm>
            <a:off x="0" y="5013360"/>
            <a:ext cx="2232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пособлен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м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сред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2340000" y="5013360"/>
            <a:ext cx="230328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образ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ческ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4716360" y="5013360"/>
            <a:ext cx="2232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волю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25"/>
          <p:cNvSpPr/>
          <p:nvPr/>
        </p:nvSpPr>
        <p:spPr>
          <a:xfrm>
            <a:off x="7020000" y="5013360"/>
            <a:ext cx="2124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уществов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азвит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м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26"/>
          <p:cNvSpPr/>
          <p:nvPr/>
        </p:nvSpPr>
        <p:spPr>
          <a:xfrm>
            <a:off x="250920" y="458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27"/>
          <p:cNvSpPr/>
          <p:nvPr/>
        </p:nvSpPr>
        <p:spPr>
          <a:xfrm>
            <a:off x="8964720" y="458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28"/>
          <p:cNvSpPr/>
          <p:nvPr/>
        </p:nvSpPr>
        <p:spPr>
          <a:xfrm>
            <a:off x="3276720" y="458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29"/>
          <p:cNvSpPr/>
          <p:nvPr/>
        </p:nvSpPr>
        <p:spPr>
          <a:xfrm>
            <a:off x="5867280" y="458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1"/>
          <p:cNvSpPr/>
          <p:nvPr/>
        </p:nvSpPr>
        <p:spPr>
          <a:xfrm>
            <a:off x="4500720" y="5350680"/>
            <a:ext cx="4348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ст численности инфузорий при неограниченном размнож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468360" y="5285160"/>
            <a:ext cx="34574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ривая выживаемости потомства дальневосточной горбуш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-153720" y="305640"/>
            <a:ext cx="4748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ойства внешней сре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4570560" y="332640"/>
            <a:ext cx="4070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ойства организмо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15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4464000" cy="424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"/>
          <p:cNvPicPr/>
          <p:nvPr/>
        </p:nvPicPr>
        <p:blipFill>
          <a:blip r:embed="rId2"/>
          <a:stretch/>
        </p:blipFill>
        <p:spPr>
          <a:xfrm>
            <a:off x="0" y="1197000"/>
            <a:ext cx="406728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ханизм образования новых   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вид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ходный ви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ледственная изменчив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рьба за существов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тественный отб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способленность – результат отбо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ование новых видов. Многообраз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дов.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правление эволюции по Дарвин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755640" y="2276640"/>
            <a:ext cx="316872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оморф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755640" y="350028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иоадапт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755640" y="4653000"/>
            <a:ext cx="31687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генер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4932360" y="2997360"/>
            <a:ext cx="338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ческ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3924360" y="2708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392436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14"/>
          <p:cNvSpPr/>
          <p:nvPr/>
        </p:nvSpPr>
        <p:spPr>
          <a:xfrm>
            <a:off x="4284720" y="2708280"/>
            <a:ext cx="0" cy="23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3924360" y="4005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16"/>
          <p:cNvSpPr/>
          <p:nvPr/>
        </p:nvSpPr>
        <p:spPr>
          <a:xfrm>
            <a:off x="4284720" y="400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учител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щность дарвиновской концепции эволюции сводится к ряду логичных, проверяемых в эксперименте и подтверждаемых огромном количеством фактических положений. А был ли Дарвин первым и единственны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вет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5148360" cy="73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58 году молодой английский ученый Альфред Уоллес прислал Дарвину рукопись своей стать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тенденции разновидностей к неограниченному отклонению от первоначального тип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Эта статья содержала изложение идеи происхождения видов путем естественного отб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5580000" y="981000"/>
            <a:ext cx="325440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учител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чем различие взглядов Дарвина и Ламарка на эволюцию органического мир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tretch/>
        </p:blipFill>
        <p:spPr>
          <a:xfrm>
            <a:off x="6084720" y="3429000"/>
            <a:ext cx="2692440" cy="321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"/>
          <p:cNvPicPr/>
          <p:nvPr/>
        </p:nvPicPr>
        <p:blipFill>
          <a:blip r:embed="rId2"/>
          <a:stretch/>
        </p:blipFill>
        <p:spPr>
          <a:xfrm>
            <a:off x="6084720" y="189000"/>
            <a:ext cx="2683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начение эволюционной теор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ы закономерности превращения одной органической формы в другу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яснены причины целесообразности органических фор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крыт закон естественного отб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а сущность искусственного отб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ены движущие силы эволю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урок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годня учение Дарвина признается многими учеными. Согласными ли вы с ним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4859280" y="1197000"/>
            <a:ext cx="3672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дведение итогов уро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положения теории эволюции вызывают у вас чувство бездоказательности, несогласия, сомне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сами оцениваете причину такого своего отношения к данной теор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Ход уро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седа о механизмах эволюционных преобразований в соответствии с теорией Ламар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ение предпосылок возникновения учения Дарв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положения тео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ханизм эволюционных преобразова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ение теории Дарв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ведение итог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 на до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 на вопро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чем значение законов Менделя для понимания механизма эволю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готовить сообщение на тему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рвин и кругосветное путешествие на корабл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игл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”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полнить таблицу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95280" y="1844640"/>
            <a:ext cx="8353440" cy="4464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50920" y="1844640"/>
            <a:ext cx="3673440" cy="4464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знаки сравн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зультат эволю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Единица эволю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Факторы эволю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Движущие факто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мысл естественного от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Формы естественного от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924360" y="1844640"/>
            <a:ext cx="2376360" cy="4464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ория Дарв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6300720" y="1844640"/>
            <a:ext cx="2448000" cy="4464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времен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нтети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волюцио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о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спомните основные положения теории Ламар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42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ятие биологический вид- чистая условность. Есть только непрерывные ф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цесс исторических изменений осуществляется от простого к сложному в соответствии с принципом град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31" descr=""/>
          <p:cNvPicPr/>
          <p:nvPr/>
        </p:nvPicPr>
        <p:blipFill>
          <a:blip r:embed="rId1"/>
          <a:stretch/>
        </p:blipFill>
        <p:spPr>
          <a:xfrm>
            <a:off x="539640" y="4365720"/>
            <a:ext cx="2737080" cy="223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3" descr=""/>
          <p:cNvPicPr/>
          <p:nvPr/>
        </p:nvPicPr>
        <p:blipFill>
          <a:blip r:embed="rId2"/>
          <a:stretch/>
        </p:blipFill>
        <p:spPr>
          <a:xfrm>
            <a:off x="4211640" y="4365720"/>
            <a:ext cx="3240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чина градации – стремление к самосовершенствова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ды изменяются под прямым влиянием условий среды, приспосабливаясь к ним путем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жне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воих орга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опрос  в связи с четвертым положением теори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читал Ламарк, длинная шея жирафа возникла из-за того, что они поколение за поколением тянули шею вверх, пытаясь достать листья с деревьев, таким образом упражняя шею, которая становилась все длиннее и длиннее. Считаете ли вы этот пример убедительным и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208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4321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менения признаков, которые наследуются в течение жизни, не наследую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тому же, вытянуть шею собственными силами невозможно, для этого нужно приложить силы со сторо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tretch/>
        </p:blipFill>
        <p:spPr>
          <a:xfrm>
            <a:off x="4140360" y="907920"/>
            <a:ext cx="500364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670200" y="2924280"/>
            <a:ext cx="5473800" cy="3933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новные положения теории Ламарка. Продолже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Новые признаки всегда приспособительны и полезны, т.к. они возникают под влиянием внешних усло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-74160"/>
            <a:ext cx="435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Изменения могут возникнуть в течение жизни одного поколения и передаваться по наследств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427640" y="-1080"/>
            <a:ext cx="41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 Весьма вероятно происхождение человека от обезьяноподобных пред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3311640" y="2565360"/>
            <a:ext cx="5832360" cy="429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15T20:28:50Z</dcterms:modified>
  <cp:revision>11</cp:revision>
  <dc:subject/>
  <dc:title>Слайд 1</dc:title>
</cp:coreProperties>
</file>