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999-4B44-45ED-9B38-1A14871C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450-14C0-4265-BC4B-AB442FB5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79B-F404-4C84-97AC-4553C861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1B7-DC81-4D5A-8315-359A58E4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4532-3E78-4216-AABA-D9E42245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8A754-CE47-4BEC-AB08-CCC3A2D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ADC36-917F-4398-B6FA-4D547E61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A129-9E6C-4427-8BD8-15256B3D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821E0-150E-4120-A9D4-FE97F572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259BF-0B91-48EF-8E15-BE5FA53E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E9FE-E6A2-430D-9898-46330C5E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D7E-4EC5-4D97-B809-0CDCD06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857B5-BEDB-4C57-A9FD-6EDAB12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F6C61-00B7-492E-A8C8-CEE9D03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C768F-21BD-47FE-A29F-DB0F1C9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41A40-4404-4C08-B2C0-A6F724A8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67BB9-CD49-4D67-B27F-B309D8C9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C62-84D6-4015-85ED-1777CF6C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F9C-F126-41B0-9323-6251C316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4F6-1ADA-4208-80F9-14F06B92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08E-9A2B-4807-BFD9-290492C9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5BE-E1C9-42C8-9658-526F6449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644-C42A-48B4-8581-9490A12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720-3110-4686-B7DB-5F289D27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E473-0913-42F4-9BC0-2697714C9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237-5836-41C2-A180-3CEF96CED2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71280" y="320760"/>
            <a:ext cx="727236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рльз Дарв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сх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745160" y="3364200"/>
            <a:ext cx="4398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етрова Полина                                                     Смирнова Олеся                                                    Сурков Макси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1 “А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1"/>
          <a:stretch/>
        </p:blipFill>
        <p:spPr>
          <a:xfrm>
            <a:off x="395280" y="2538360"/>
            <a:ext cx="48531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ошибочность предположений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дея внутреннего стремления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он наследования приобретенных призна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рицание реальности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101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чем заслуга эволюционного учения Ламарк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28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слуга Ламарка заключается в том, что он пытался отобразить этапы эволюционного проце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356000" y="611280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волюция лоша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48355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посылки возникновения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492360" y="3357720"/>
            <a:ext cx="180036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рв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95280" y="1484280"/>
            <a:ext cx="215892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Лай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ториз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геолог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203640" y="1484280"/>
            <a:ext cx="237636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 К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иопоэ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300720" y="1484280"/>
            <a:ext cx="208908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Геш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отетик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дедуктивный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68360" y="3213000"/>
            <a:ext cx="2158920" cy="1586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. Юэл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ипертроф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эконов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227640" y="5013360"/>
            <a:ext cx="237672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Кет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ичествен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р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95280" y="4941720"/>
            <a:ext cx="2232000" cy="172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Мальту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нкурен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услов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пуляцион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в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3203640" y="5013360"/>
            <a:ext cx="237636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. Себр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а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езульта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бора с гибел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ивот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300720" y="3284640"/>
            <a:ext cx="216072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Сми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учай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эконом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тнош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340000" y="278136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5076720" y="2852640"/>
            <a:ext cx="1511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 flipV="1">
            <a:off x="2484360" y="450864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219280" y="4436640"/>
            <a:ext cx="1368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2627280" y="407664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8"/>
          <p:cNvSpPr/>
          <p:nvPr/>
        </p:nvSpPr>
        <p:spPr>
          <a:xfrm flipH="1">
            <a:off x="5292720" y="407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356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4427640" y="4797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эволюционного учения Дарв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 Многообразие видов животных и растений – это результат исторического развития органического ми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2174760" cy="1981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3048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"/>
          <p:cNvPicPr/>
          <p:nvPr/>
        </p:nvPicPr>
        <p:blipFill>
          <a:blip r:embed="rId3"/>
          <a:stretch/>
        </p:blipFill>
        <p:spPr>
          <a:xfrm>
            <a:off x="4067280" y="414972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"/>
          <p:cNvPicPr/>
          <p:nvPr/>
        </p:nvPicPr>
        <p:blipFill>
          <a:blip r:embed="rId4"/>
          <a:stretch/>
        </p:blipFill>
        <p:spPr>
          <a:xfrm>
            <a:off x="6516720" y="4149720"/>
            <a:ext cx="21589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Главные движущие силы эволюции – борьба за существование и естественный отбор. Материал для отбора дает изменчивость. Стабильность вида обеспечивается наследствен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292720" y="479736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ль естественного отбора при формировании приспособл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1"/>
          <a:stretch/>
        </p:blipFill>
        <p:spPr>
          <a:xfrm>
            <a:off x="4648320" y="2602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78850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Эволюция органического мира преимущественно шла по пути усложнения организации живых суще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55640" y="52866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вергентная эволюция: развитие приспособлений для парения в воздух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 позвоноч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13916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341964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Приспособленность к условиям окружающей среды – результат действия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470480" cy="352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2935440" y="5299560"/>
            <a:ext cx="6458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кровительственная окраска-мимик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Могут наследоваться как благоприятные, так и неблагоприятные изменения. Н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ельц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благоприятных изменений, как правило, уничтожаются в борьбе за существова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3959280" y="981000"/>
            <a:ext cx="5184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Многообразие современных пород домашних животных и сортов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 растений является результатом действия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3456000" cy="278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2"/>
          <a:stretch/>
        </p:blipFill>
        <p:spPr>
          <a:xfrm>
            <a:off x="4716360" y="404964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36716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Эволюция человека связана с историчес-ким развитием человекообразных обезь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5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6438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ся с основными положениями теории происхождения ви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ировать у школьников представление о предпосылках возникновения дарвин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знакомить с основными положениями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оставить ученикам право самостоятельно оценивать состоятельность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теории Дар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826920" y="836640"/>
            <a:ext cx="273708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внешн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5292720" y="836640"/>
            <a:ext cx="2879640" cy="503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1557360"/>
            <a:ext cx="187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979640" y="1557360"/>
            <a:ext cx="2016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еоднород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140360" y="1557360"/>
            <a:ext cx="1584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ледствен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5867280" y="1557360"/>
            <a:ext cx="144000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ч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7451640" y="1557360"/>
            <a:ext cx="169236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24000" y="2781360"/>
            <a:ext cx="84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140328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2771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529272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65964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802800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4500720" y="27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1763640" y="3141720"/>
            <a:ext cx="5472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763640" y="3789360"/>
            <a:ext cx="547236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 от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50920" y="458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50072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4500720" y="4292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пособл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сре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340000" y="5013360"/>
            <a:ext cx="230328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образ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4716360" y="5013360"/>
            <a:ext cx="2232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7020000" y="5013360"/>
            <a:ext cx="2124000" cy="1224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ществ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азвит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26"/>
          <p:cNvSpPr/>
          <p:nvPr/>
        </p:nvSpPr>
        <p:spPr>
          <a:xfrm>
            <a:off x="2509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8964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327672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5867280" y="4581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1"/>
          <p:cNvSpPr/>
          <p:nvPr/>
        </p:nvSpPr>
        <p:spPr>
          <a:xfrm>
            <a:off x="4500720" y="5350680"/>
            <a:ext cx="4348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ост численности инфузорий при неограниченном размнож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468360" y="5285160"/>
            <a:ext cx="3457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ивая выживаемости потомства дальневосточной горб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-153720" y="305640"/>
            <a:ext cx="4748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внешней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4570560" y="332640"/>
            <a:ext cx="40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ойства организм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15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464000" cy="424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2"/>
          <a:stretch/>
        </p:blipFill>
        <p:spPr>
          <a:xfrm>
            <a:off x="0" y="1197000"/>
            <a:ext cx="40672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ханизм образования новых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вид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ходный ви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ледственная изменч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рьба за существо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тественный отб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пособленность – результат отб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разование новых видов. Многообраз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ов.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правление эволюции по Дарвин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55640" y="227664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оморф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55640" y="3500280"/>
            <a:ext cx="316872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иоадапт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755640" y="4653000"/>
            <a:ext cx="3168720" cy="938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генера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932360" y="2997360"/>
            <a:ext cx="338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че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924360" y="2708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3924360" y="5084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4284720" y="2708280"/>
            <a:ext cx="0" cy="23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3924360" y="4005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6"/>
          <p:cNvSpPr/>
          <p:nvPr/>
        </p:nvSpPr>
        <p:spPr>
          <a:xfrm>
            <a:off x="4284720" y="4005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щность дарвиновской концепции эволюции сводится к ряду логичных, проверяемых в эксперименте и подтверждаемых огромном количеством фактических положений. А был ли Дарвин первым и единственны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5148360" cy="73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58 году молодой английский ученый Альфред Уоллес прислал Дарвину рукопись своей стать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тенденции разновидностей к неограниченному отклонению от первоначального тип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а статья содержала изложение идеи происхождения видов путем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580000" y="981000"/>
            <a:ext cx="325440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чител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чем различие взглядов Дарвина и Ламарка на эволюцию органического мир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692440" cy="321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68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начение эволюционной теор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ы закономерности превращения одной органической формы в друг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ены причины целесообразности органических фор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рыт закон есте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а сущность искусственного отб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ы движущие силы эволю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урок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годня учение Дарвина признается многими учеными. Согласными ли вы с ним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ведение итогов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положения теории эволюции вызывают у вас чувство бездоказательности, несогласия, сомн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сами оцениваете причину такого своего отношения к данной теор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од уро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а о механизмах эволюционных преобразований в соответствии с теорией Ламар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предпосылок возникновения учения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положения те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ханизм эволюционных преобразов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теории Дарв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ведение итог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ние на д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 на вопро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м значение законов Менделя для понимания механизма эволюц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готовить сообщение на тему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рвин и кругосветное путешествие на корабл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г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олнить таблицу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95280" y="1844640"/>
            <a:ext cx="8353440" cy="44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50920" y="1844640"/>
            <a:ext cx="367344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знаки сравн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зультат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Единица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акторы эволю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Движущие факто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мысл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Формы естественного от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924360" y="1844640"/>
            <a:ext cx="237636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 Дарв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300720" y="1844640"/>
            <a:ext cx="2448000" cy="4464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рем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нтети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волюцио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помните основные положения теории Ламар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ятие биологический вид- чистая условность. Есть только непрерывные ф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исторических изменений осуществляется от простого к сложному в соответствии с принципом град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1" descr=""/>
          <p:cNvPicPr/>
          <p:nvPr/>
        </p:nvPicPr>
        <p:blipFill>
          <a:blip r:embed="rId1"/>
          <a:stretch/>
        </p:blipFill>
        <p:spPr>
          <a:xfrm>
            <a:off x="539640" y="4365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чина градации – стремление к самосовершенствова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ды изменяются под прямым влиянием условий среды, приспосабливаясь к ним путем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жне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воих орга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прос  в связи с четвертым положением теори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читал Ламарк, длинная шея жирафа возникла из-за того, что они поколение за поколением тянули шею вверх, пытаясь достать листья с деревьев, таким образом упражняя шею, которая становилась все длиннее и длиннее. Считаете ли вы этот пример убедительным и поче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20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321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менения признаков, которые наследуются в течение жизни, не наследую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тому же, вытянуть шею собственными силами невозможно, для этого нужно приложить силы со сторо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50036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670200" y="2924280"/>
            <a:ext cx="5473800" cy="3933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сновные положения теории Ламарка. Продолже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Новые признаки всегда приспособительны и полезны, т.к. они возникают под влиянием внешних усло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-74160"/>
            <a:ext cx="43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Изменения могут возникнуть в течение жизни одного поколения и передаваться по наслед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427640" y="-1080"/>
            <a:ext cx="41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 Весьма вероятно происхождение человека от обезьяноподобных пред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311640" y="2565360"/>
            <a:ext cx="5832360" cy="429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15T20:28:50Z</dcterms:modified>
  <cp:revision>11</cp:revision>
  <dc:subject/>
  <dc:title>Слайд 1</dc:title>
</cp:coreProperties>
</file>