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839-29B0-408C-BEA2-E718FF16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81E-2BCC-4B1A-89F3-95C3CC3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8C9-5B2D-4A5B-84C9-6C6E39E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EB6-66D2-4495-AE71-5849DD1D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DE077-6067-47B0-90A5-09C7E937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D976-BA62-4CD3-85F8-305D0A8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1759-2EBC-42C0-B2EE-F90045C6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AE4C0-9D6A-4AAD-85ED-3B999F2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D841-75C4-4370-8FB5-53904F3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FD3B-F5E9-4C55-B573-FB4A101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2D30F-FFD8-4C75-B48E-EC808DDA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EEF-E56C-4CAA-894C-9DE9206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7EA05-6937-49F3-BCC7-B1B0285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AC9E-1D15-4D7D-A7BC-3BCB0E8C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53F21-77AA-458C-B143-792CA0F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1F2F4-1AC2-48A9-8370-A8290FE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CDE97-795C-4AEA-935B-FC6AB899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348-C90A-429C-92EE-9A096B9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977-CDF6-4B62-A655-FAB39D9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311-91DD-4069-9E4F-E54EED4E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B2C-90F9-4FB0-AC7F-FBE18F82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111-7699-4F21-96D5-52CAB31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8B8-3991-4754-90A3-7A0E311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F9E-AD8C-4054-8109-0294776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75E6-CFDC-415A-9FD2-7FE860749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4D5-ADA9-4A32-B70E-01AA2962B1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280" y="320760"/>
            <a:ext cx="72723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рльз Дарв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745160" y="3364200"/>
            <a:ext cx="439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ова Полина                                                     Смирнова Олеся                                                    Сурков Макс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 “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1"/>
          <a:stretch/>
        </p:blipFill>
        <p:spPr>
          <a:xfrm>
            <a:off x="395280" y="2538360"/>
            <a:ext cx="48531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ошибочность предположений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ея внутреннего стремления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наследования приобретенных призна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ние реальности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01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заслуга эволюционного учения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28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луга Ламарка заключается в том, что он пытался отобразить этапы эволюцион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356000" y="6112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волюция лоша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8355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посылки возникновения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492360" y="3357720"/>
            <a:ext cx="18003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р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95280" y="1484280"/>
            <a:ext cx="215892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Лай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риз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геолог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203640" y="1484280"/>
            <a:ext cx="237636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 К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иопоэ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300720" y="1484280"/>
            <a:ext cx="208908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Геш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отетик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дедуктивный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68360" y="3213000"/>
            <a:ext cx="2158920" cy="1586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. Юэл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ертроф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эконов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227640" y="5013360"/>
            <a:ext cx="237672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Кет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ичестве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р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95280" y="4941720"/>
            <a:ext cx="2232000" cy="172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Мальту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ен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услов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цио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3203640" y="5013360"/>
            <a:ext cx="237636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Себр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бора с гибел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ивот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300720" y="3284640"/>
            <a:ext cx="216072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См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учай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эконом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нош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340000" y="278136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076720" y="2852640"/>
            <a:ext cx="1511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484360" y="450864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219280" y="443664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2627280" y="4076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5292720" y="407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356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4427640" y="4797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эволюционного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Многообразие видов животных и растений – это результат исторического развития органического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217476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3"/>
          <a:stretch/>
        </p:blipFill>
        <p:spPr>
          <a:xfrm>
            <a:off x="406728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158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лавные движущие силы эволюции – борьба за существование и естественный отбор. Материал для отбора дает изменчивость. Стабильность вида обеспечивается наследствен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292720" y="479736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ль естественного отбора при формировании приспособл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4648320" y="2602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78850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Эволюция органического мира преимущественно шла по пути усложнения организации живых суще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55640" y="52866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ргентная эволюция: развитие приспособлений для парения в воздух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 позвон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3916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341964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Приспособленность к условиям окружающей среды – результат действия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470480" cy="352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2935440" y="5299560"/>
            <a:ext cx="6458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ровительственная окраска-мимик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Могут наследоваться как благоприятные, так и неблагоприятные изменения. Н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ельц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благоприятных изменений, как правило, уничтожаются в борьбе за существов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3959280" y="98100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Многообразие современных пород домашних животных и сортов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растений является результатом действия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345600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4716360" y="4049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36716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Эволюция человека связана с историчес-ким развитием человекообразных обез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438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ся с основными положениями теории происхождения 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 школьников представление о предпосылках возникновения дарви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 с основными положениями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ставить ученикам право самостоятельно оценивать состоятельность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теории Дар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826920" y="836640"/>
            <a:ext cx="273708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внешн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5292720" y="83664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1557360"/>
            <a:ext cx="18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979640" y="1557360"/>
            <a:ext cx="2016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однород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140360" y="1557360"/>
            <a:ext cx="1584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867280" y="1557360"/>
            <a:ext cx="1440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7451640" y="1557360"/>
            <a:ext cx="169236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24000" y="2781360"/>
            <a:ext cx="84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40328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771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529272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659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802800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450072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763640" y="3141720"/>
            <a:ext cx="547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763640" y="3789360"/>
            <a:ext cx="547236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 от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50920" y="458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50072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4500720" y="4292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пособ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ре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340000" y="5013360"/>
            <a:ext cx="230328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образ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471636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020000" y="5013360"/>
            <a:ext cx="212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зви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2509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8964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3276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586728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500720" y="5350680"/>
            <a:ext cx="4348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ст численности инфузорий при неограниченном размно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468360" y="5285160"/>
            <a:ext cx="345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ивая выживаемости потомства дальневосточной горб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-153720" y="305640"/>
            <a:ext cx="4748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внешн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570560" y="332640"/>
            <a:ext cx="40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организм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2"/>
          <a:stretch/>
        </p:blipFill>
        <p:spPr>
          <a:xfrm>
            <a:off x="0" y="1197000"/>
            <a:ext cx="40672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ханизм образования новых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вид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ходный ви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ледственная изменч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за существ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ественный отб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пособленность – результат отб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новых видов. Многообраз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правление эволюции по Дарвин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55640" y="227664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оморф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55640" y="350028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иоадап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55640" y="4653000"/>
            <a:ext cx="31687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932360" y="2997360"/>
            <a:ext cx="338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че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92436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392436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4284720" y="270828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392436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4284720" y="400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дарвиновской концепции эволюции сводится к ряду логичных, проверяемых в эксперименте и подтверждаемых огромном количеством фактических положений. А был ли Дарвин первым и единстве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5148360" cy="73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58 году молодой английский ученый Альфред Уоллес прислал Дарвину рукопись своей стать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тенденции разновидностей к неограниченному отклонению от первоначального тип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а статья содержала изложение идеи происхождения видов путем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2544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м различие взглядов Дарвина и Ламарка на эволюцию органического ми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692440" cy="321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68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чение эволюционной теор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ы закономерности превращения одной органической формы в друг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ены причины целесообразности органических фор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 закон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а сущность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ы движущие силы эволю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учение Дарвина признается многими учеными. Согласными ли вы с ни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ведение итогов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оложения теории эволюции вызывают у вас чувство бездоказательности, несогласия, сомн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сами оцениваете причину такого своего отношения к данной теор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о механизмах эволюционных преобразований в соответствии с теорией Ламар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предпосылок возникновения учения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ханизм эволюционных преобразо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едение ит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на д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на вопро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значение законов Менделя для понимания механизма эволю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ть сообщение на тему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рвин и кругосветное путешествие на кораб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г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олнить таблицу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95280" y="1844640"/>
            <a:ext cx="8353440" cy="44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50920" y="1844640"/>
            <a:ext cx="367344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знаки сравн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зультат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Единица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акторы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вижущие факто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мысл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ормы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24360" y="1844640"/>
            <a:ext cx="237636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 Дар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300720" y="1844640"/>
            <a:ext cx="244800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нтет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волюцио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помните основные положения теории Ламар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ятие биологический вид- чистая условность. Есть только непрерывные 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исторических изменений осуществляется от простого к сложному в соответствии с принципом град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а градации – стремление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ы изменяются под прямым влиянием условий среды, приспосабливаясь к ним путем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вои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прос  в связи с четвертым положением теор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читал Ламарк, длинная шея жирафа возникла из-за того, что они поколение за поколением тянули шею вверх, пытаясь достать листья с деревьев, таким образом упражняя шею, которая становилась все длиннее и длиннее. Считаете ли вы этот пример убедительным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20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321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менения признаков, которые наследуются в течение жизни, не наследу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тому же, вытянуть шею собственными силами невозможно, для этого нужно приложить силы со 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50036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670200" y="2924280"/>
            <a:ext cx="5473800" cy="3933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теории Ламарка. Продолж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Новые признаки всегда приспособительны и полезны, т.к. они возникают под влиянием внешних усло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74160"/>
            <a:ext cx="43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Изменения могут возникнуть в течение жизни одного поколения и передаваться по наслед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427640" y="-108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Весьма вероятно происхождение человека от обезьяноподобных пред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311640" y="2565360"/>
            <a:ext cx="58323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15T20:28:50Z</dcterms:modified>
  <cp:revision>11</cp:revision>
  <dc:subject/>
  <dc:title>Слайд 1</dc:title>
</cp:coreProperties>
</file>