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5F2-6746-45C8-BCE3-97FC1A50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A35-4CB3-4B25-8089-41682944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8FA-EDF6-4168-B500-CA3DA8E1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6B8-0B9E-449B-9AB1-3E345299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C9E-F785-4FCB-8C39-73D1A1CD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3F9-E889-4AE8-A5C6-493CBD8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FCD1-EE52-43C0-BB4D-02F9444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9803-65F4-44D6-A280-2939BA64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E25B-421C-48D2-B765-E2F948AF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B1CE-4FFB-45F0-949C-D7621A5E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DC12-4FC1-430A-9F18-3C2E268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685-B08C-4A1B-97AA-9F46D4F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7412-9873-4114-9393-52ADD6BA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C713-582B-4108-AAB3-4247461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4C7C-ABB5-478A-BCA9-040216DE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758-8434-4900-A58B-B82EAE98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209C-C277-4A30-B986-C6ED9F97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A55-DB9F-4DBD-B8EA-A6110E1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B7A-7F9B-45C0-9B62-486D531B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7BE-0F0C-4047-9F32-F9DDFBF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08A-4009-4964-90C3-6A7100D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92B-E9C0-4866-BF59-D48AA7E8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1E4-7911-44D3-BB90-FF51B15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AAA-F822-4662-8B99-5771879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F60-83EB-4EC7-AC32-64C423C948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F6A7-6379-404F-BEFA-20A3602C5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j15504_1170539761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96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541800" y="-1539720"/>
            <a:ext cx="6193080" cy="3581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 u="sng">
                <a:solidFill>
                  <a:srgbClr val="ff3300"/>
                </a:solidFill>
                <a:uFillTx/>
                <a:latin typeface="Script MT Bold"/>
              </a:rPr>
              <a:t>Человеческая душа.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0920" y="2781360"/>
            <a:ext cx="614664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omic Sans MS"/>
              </a:rPr>
              <a:t>Душа - внутренний, психический мир человека, его сознани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1004062967280165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02e33c915d83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В процессе духовного потребления средствами  достижения цели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выступают, с одной стороны, материальные возможности, с другой -соответствующие знания и навыки. Чтобы прочитать книгу, нужно иметь возможность получить  ее в библиотеке или купить. Чтобы слушать музыку, надо либо попасть в концертный зал, либо владеть записями и техническими устройствами, позволяющими воспроизводить звучание. Но, с другой стороны, подняться до вершин духовной культуры нельзя без знаний о литературе  и искусстве, о писателях и художниках, о выразительных средствах и способах их использования, без навыков смотреть и видеть, слушать и слышать, читать и понимать. Уровень образования и общей культуры личности непосредственно влияет на потребление духовных ценнос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Научные исследования позволили сделать выводы: чем выше культура человека, тем больше средств из семейного бюджета он стремится выделить  на удовлетворение духовных потребностей (покупку книг, компакт-дисков, подписка на журналы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ee4c864c65c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ccff"/>
                </a:solidFill>
                <a:latin typeface="Comic Sans MS"/>
              </a:rPr>
              <a:t>Выполнили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ccff"/>
                </a:solidFill>
                <a:latin typeface="Comic Sans MS"/>
              </a:rPr>
              <a:t>Григорьева Еле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ccff"/>
                </a:solidFill>
                <a:latin typeface="Comic Sans MS"/>
              </a:rPr>
              <a:t>Рубцова Мар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0a0ae93573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716000" y="475920"/>
            <a:ext cx="4427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ушу увидеть и потрогать руками не удастся. Но именно душой человек думает, чувствует, переживает, любит, ненавидит, боится, волнуется, радуется, мечтает о будущем, вспоминает прошлое, видит сны, общается. Характер, мысли, жизненная энергия – это все относится к невидимой сфере ( к душе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Тело человека занято совершенно другими делами – оно ходит, сидит, двигает руками и ногами, ест, переваривает пищу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уша вечна, она остается жить. В душе сохраняется вся информация о прошлом, настоящем и будущем челове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an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189440" y="259920"/>
            <a:ext cx="75582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Script MT Bold"/>
              </a:rPr>
              <a:t>В чем загадка русской душ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1628640"/>
            <a:ext cx="4562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Россия страна по праву является духовным центром всего мира. На всей планете есть всего 12 святых мест – 5 из 12 святынь находятся на территории России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Недаром в мире существует понятие «загадочная русская душа». Вся загадка заключается в следующем: русские люди живут не умом, а душой, не разумом, а чувствами. Гулять так гулять, любить так любить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Такая жизнь не всегда приносит материальные блага, но зато по части эмоций она насыщена до предел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А что главное в нашей жизни? Что остается у человека в старости?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Только воспоминания, чувства… И чем сильнее эти эмоции, тем счастливее считается прожитая жизнь. Самое обидное, когда под старость и вспомнить-то неч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photo1469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47625_1169130455[1]"/>
          <p:cNvPicPr/>
          <p:nvPr/>
        </p:nvPicPr>
        <p:blipFill>
          <a:blip r:embed="rId2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492000" y="1988640"/>
            <a:ext cx="56516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У всех бывали странные ощущения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при новых знакомствах. К примеру, впервые в жизни видя человека, вы неожиданно чувствовали к нему хорошее расположение, как будто вы знакомы уже сто л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И наоборот, некоторые личности одним своим видом внушали вам ничем не объяснимое раздражение, беспокойство и даже опасе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Объясняется это следующим образом. Просто вы действительно встречаете своих старых знакомых из прошлых жизней в другом обличии, но души их остались преж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Поэтому, встречая человека с незнакомой внешностью, вы тем не менее тут же чувствуете его душу. И чувствуете именно так, как раньше. Бывшие друзья испытывают симпатию, враги – неприязн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Если же встречаются две души, которые в прошлом страстно любили друг друга, то у них в душе моментально просыпаются старые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чувства, Это и есть любовь с первого взгляда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916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ткуда берется любовь с первого взгля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jphoto476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98560" y="2052720"/>
            <a:ext cx="71978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Духовный мир человека ученые нередко характеризуют как нерасторжимое единство разума, чувств, воли. Мир личности индивидуален и неповторим. Вспомним строки поэта Е. Виногуров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Мир- это лес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в котором нет и дву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одинаковых листоч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Разнообразие- принцип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лежащий в основе жиз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Духовный мир каждого может быть правильно понят лишь с учетом особенности, к которой индивид принадлежит, лишь в тесной связи с духовной жизнью общества.Внутренний мир человека проявляется и видоизменяется в процессе духовной-теоретической и духовно-практической деятельности, зависит от нравственных устоев индивида и общества, мировозрения менталите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Духовный мир человека и деятель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j29582_116826977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9026_1163955223th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987280" y="1341360"/>
            <a:ext cx="615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Материальное и духовное производства отличаются тем, что первое основано на физическом труде, а второе – на умственном. Если задуматься, то придем к выводу, что все, что делает человек в материальном производстве, предварительно проходит через его сознание. Не бывает труда без сомнения его целей и средств. Как говориться, все нужно «Делать с головой». А духовное производство, наряду с умственным трудом, требует подчас и немалых физических усил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Итак, можно сказать, что духовное производство- это производство новых ценностей, чаще всего в форме научных трудов и литературных сочинений, произведений скульптуры и архитектуры, музыки и живописи, кинофильмов телевизионных передач, которые несут созданные их авторами идеи и взгляды, образы и чувства, оценки и представ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771640" y="-800280"/>
            <a:ext cx="763128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Духовное производст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5598698_5565738_dolls93[1]"/>
          <p:cNvPicPr/>
          <p:nvPr/>
        </p:nvPicPr>
        <p:blipFill>
          <a:blip r:embed="rId1"/>
          <a:stretch/>
        </p:blipFill>
        <p:spPr>
          <a:xfrm>
            <a:off x="3203640" y="1268280"/>
            <a:ext cx="2592360" cy="41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21010111_11884356_918679531[1]"/>
          <p:cNvPicPr/>
          <p:nvPr/>
        </p:nvPicPr>
        <p:blipFill>
          <a:blip r:embed="rId2"/>
          <a:stretch/>
        </p:blipFill>
        <p:spPr>
          <a:xfrm>
            <a:off x="6654960" y="2273400"/>
            <a:ext cx="2489040" cy="458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6236619_397121_203834_2348740[1]"/>
          <p:cNvPicPr/>
          <p:nvPr/>
        </p:nvPicPr>
        <p:blipFill>
          <a:blip r:embed="rId3"/>
          <a:stretch/>
        </p:blipFill>
        <p:spPr>
          <a:xfrm>
            <a:off x="0" y="1268280"/>
            <a:ext cx="1979640" cy="2881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luli0ih5oe"/>
          <p:cNvPicPr/>
          <p:nvPr/>
        </p:nvPicPr>
        <p:blipFill>
          <a:blip r:embed="rId4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Духовное потреблени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2" descr="5598698_5565738_dolls93[1]"/>
          <p:cNvPicPr/>
          <p:nvPr/>
        </p:nvPicPr>
        <p:blipFill>
          <a:blip r:embed="rId5"/>
          <a:stretch/>
        </p:blipFill>
        <p:spPr>
          <a:xfrm>
            <a:off x="1403280" y="2565360"/>
            <a:ext cx="1513080" cy="297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6236619_397121_203834_2348740[1]"/>
          <p:cNvPicPr/>
          <p:nvPr/>
        </p:nvPicPr>
        <p:blipFill>
          <a:blip r:embed="rId6"/>
          <a:stretch/>
        </p:blipFill>
        <p:spPr>
          <a:xfrm>
            <a:off x="179280" y="4410000"/>
            <a:ext cx="12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j7878_1162630424[1]"/>
          <p:cNvPicPr/>
          <p:nvPr/>
        </p:nvPicPr>
        <p:blipFill>
          <a:blip r:embed="rId7"/>
          <a:stretch/>
        </p:blipFill>
        <p:spPr>
          <a:xfrm>
            <a:off x="1619280" y="5950080"/>
            <a:ext cx="1270080" cy="1269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6842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Важнейшая духовная потребность человека - в познании. Об этом говорили философы разных эпох. Аристотель писал:»Все люди от природы стремятся к знанию». А француз</a:t>
            </a:r>
            <a:r>
              <a:rPr b="1" i="1" lang="en-US" sz="2000" spc="-1" strike="noStrike">
                <a:solidFill>
                  <a:srgbClr val="000066"/>
                </a:solidFill>
                <a:latin typeface="Comic Sans MS"/>
              </a:rPr>
              <a:t>c</a:t>
            </a: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кий мыслитель</a:t>
            </a:r>
            <a:r>
              <a:rPr b="1" i="1" lang="en-US" sz="2000" spc="-1" strike="noStrike">
                <a:solidFill>
                  <a:srgbClr val="000066"/>
                </a:solidFill>
                <a:latin typeface="Comic Sans MS"/>
              </a:rPr>
              <a:t> XVI </a:t>
            </a: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в. М.Монтень утверждал: «Нет стремления более естественного, чем стремление к знанию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Другая важнейшая духовная потребность – эстетическая. Стремление усваивать мир  по законам красоты, видеть гармонию в природе, в людях, глубоко чувствовать музыку, живопись, поэзию, совершенствовать человеческие отношения – все это грани единой эстетической потреб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Еще одна духовная потребность человека – в общении. Любовь к человеку, дружба, товарищество – подлинно человеческая потребность. Моральная и психологическая поддержка, внимание друг к  другу, сочувствие, сопереживание, обмен идеями, совместное творчество – таковы некоторые проявления потребности в общ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1150130674_10[1]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j5578_1153604495[1]"/>
          <p:cNvPicPr/>
          <p:nvPr/>
        </p:nvPicPr>
        <p:blipFill>
          <a:blip r:embed="rId2"/>
          <a:stretch/>
        </p:blipFill>
        <p:spPr>
          <a:xfrm>
            <a:off x="0" y="-271440"/>
            <a:ext cx="9144000" cy="7129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7696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Духовные потребности порождают виды деятельности, направленные на их удовлетворение. Происходит как бы движение навстречу друг другу: деятельность писателя встречается с деятельностью читателя, деятельность актера- с деятельностью зрителя, деятельность учителя – с деятельностью ученика. Духовная жизнь  общества не мыслима без соединения духовного производства  и духовного потребления. Производство духовных благ , влияет на духовные потребности, расширяет и изменяет их. А потребление духовных ценностей также  воздействует на духовные потребности, расширяя и обогащая и углубляя 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j29822_11618667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1hh9l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r[1]"/>
          <p:cNvPicPr/>
          <p:nvPr/>
        </p:nvPicPr>
        <p:blipFill>
          <a:blip r:embed="rId3"/>
          <a:stretch/>
        </p:blipFill>
        <p:spPr>
          <a:xfrm>
            <a:off x="7451640" y="558972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j11194_1135972384th[1]"/>
          <p:cNvPicPr/>
          <p:nvPr/>
        </p:nvPicPr>
        <p:blipFill>
          <a:blip r:embed="rId4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Духовные ценности, выступающие предметом</a:t>
            </a: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отребления, в процессе удовлетворения духовных потребностей не исчезают, а обогащают духовный мир человека. Вторая особенность состоит  в том, что процесс духовного потребления является процессом  духовного производства. Восприятие духовных ценностей носит творческий характер. Каждый по своему осмысливает содержание литературного произведения; восприятие музыкального произведения рождает собственные образы и чувства. Любой человек  переживает  духовные ценности через призму собственного опыта, но всегда это творческая работа души и ума челове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0:16:12Z</dcterms:created>
  <dc:creator>Dom</dc:creator>
  <dc:description/>
  <dc:language>en-US</dc:language>
  <cp:lastModifiedBy>Коля</cp:lastModifiedBy>
  <dcterms:modified xsi:type="dcterms:W3CDTF">2013-03-24T10:43:43Z</dcterms:modified>
  <cp:revision>6</cp:revision>
  <dc:subject/>
  <dc:title>Человеческая душа.</dc:title>
</cp:coreProperties>
</file>