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90C-CB87-44D0-BAD8-998FBF50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6CA-FBB5-44C1-B66E-B42984FB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1DBAEB-5B02-4996-B389-8A4926FE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3D09CA-9A02-4AA0-85C5-522DA82F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DCD76-DD1E-485B-BFF7-ECF14A15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6CED1C-77B2-4B1A-AF4F-29C4CBCF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BA92A3-9574-406E-9726-B795C31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EB5C2-C21B-40BE-93BA-3276EAC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48CEF6-81DB-433C-8B30-CB226ABE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D09AE4-8110-4053-B778-922D61B3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9B3BE2-8B34-4427-BBC3-1927F696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D34-F680-4464-83BA-DBCAF725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CA3-02FD-4B84-B58E-EAF8D3F5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9E37A-B41F-4FBF-957F-562BE8E9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B814B-330D-4882-8BD0-12399FBF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A686F-4FCF-4DB8-9FE3-55E65FCA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2FE60-73AD-422D-8873-7E29ECD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AE722-4F1A-473E-982F-C5E1084A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BBEDA-D2E2-4B30-83F2-9EF08E8A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876D1-AC93-4CD3-B714-D3753EA3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D2C-BCA4-4FAF-A5FB-EC29FC6B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62486-8063-4B0B-A2FA-0C90377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BF61A-B9EE-480E-B0FC-67C340F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64AC5-9395-4851-B688-AB5399A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43976-59A5-4B04-A9B7-77852FD1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11D56-0877-4AF9-8A4B-A47CECCC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4986-092F-4C95-8C82-91147916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42BF-1987-410C-9CBD-F77A9522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7B35-8173-4DDE-8434-49882CA4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B19AC-1E9A-4C42-9A97-C4B35D2A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7EAC-1D38-4F7C-A63D-D240661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972-BFCC-4C69-B994-35CE26B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9415-E488-473B-BE68-C974054B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EA3F-AD9C-4FB2-B601-72215E1E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764C-237C-4BE3-B2A5-DF5B2E4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3547-97C0-4990-A1CC-7FB2178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428F-A5B8-41E0-ADDE-1FDE816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BF00-F2DF-49E5-A8F9-D479649F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74B93-116D-44BE-B1DD-BCF82E5D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2BC24-C214-4C6B-A0F9-E9C07158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201D8-59E8-486C-91EE-CB150F8E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0FDAC-0A41-4A1A-A0AC-563ED72F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5F9-315D-455E-8EB6-B738D1C6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1C315-A759-4F54-B0EB-E1E314FB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7DC6F-5A82-414F-B980-26131E2A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27E3F-D538-40CD-AE57-D3A8255E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F21BE-FEC6-4E25-82EF-C7169974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D2B33-0E70-415E-9634-7D2D2713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201AF-F891-4265-A528-6DBEDCB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E84FF-57B6-49F4-A4F2-378C72B6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C3282-3762-4BF1-98D0-87DA3EF0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8ACBA-8E0C-4143-A449-AB86E79D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C1CD-7AD8-4783-A92E-7649F459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737-3E9B-4B00-A9AD-B23EAD99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CA2C-ED67-4E1F-B416-C3DA4DA4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17A4-57D1-43D8-B94C-49A46C9D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580B-80C1-4B77-AB82-F8546162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EAD6-C52D-43E1-A86A-59CFBD94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F3953-A89B-42AD-AC25-DA946FE5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2A1A-CC72-48AF-92FE-6056FFE6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A1D6-E38E-4B71-A0A7-ACA28AB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FFA96-3F7D-4899-BC8F-4D924C13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96991-10E2-4E57-B41B-A86D4DC2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E1F3-CD42-4031-85F9-46DAE7E0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C96-06D5-4B46-B1BC-DA287398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FDAB-5D85-43B1-93E1-412B69C3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9C96-BD6A-44F3-983C-9CD8E701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5B750-DC54-4489-B0A6-00486365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D794B-CA7B-4B3E-8D08-50DD0A7B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62906-BDC4-4ED3-A14C-A14BB365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6CF5E-C225-4855-9B6F-EAB4EB15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C0FD-DC2E-4DFC-AC5D-9190F59D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6809-E94E-4890-A985-25C875F6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68B78-D650-45F7-B5A5-15EE988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6CDC0-5B2B-4D34-B42D-89AE091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591-8FB3-4E2C-9108-44D6984D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2B8FA-EF0D-48B1-A6EC-F0257B31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39EF-5FC2-4A70-BAE2-E49A8C51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86559-5009-4B78-821A-DF331F39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A0FE9-0AAC-47A7-A37A-E448ED7D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09677-4F19-47D7-A99A-8275C4D2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3B45C-EC02-405C-9438-03C0E9CD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DDFDB-E47C-4E1C-8A06-FB724731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DE82E-202F-4083-B999-3C9F3B9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2868-A7F1-45AB-B39F-D9D7BA8F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7846B-0137-4D6E-A07D-8BCFE063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EB1-D2BB-4179-B99B-7C479B3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2B17-C31E-4AEE-8D5A-E5169728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E7F9-4144-420A-A3FF-4A8902F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F6F8-938B-4BAD-9819-3C2079B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E161F-F665-4F07-8BB2-1FEBD005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1738F-C17F-4F24-8076-85EAF518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FB1971-F5CF-4C2B-9FB2-2143C303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C9CF3-D7C1-409A-B54F-A3052D62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0E2B14-1896-4ED8-B0E9-A0DB1824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E6E7C-6565-4382-B9AE-C033B773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5D5E90-E0D1-4C0C-B04D-53791D22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788-4B53-4DCF-B21C-F8D6084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21704-1D8C-4E31-9B84-73D33109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BE4732-6122-40AF-AE0C-146FA2C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B2A9C-5EFA-48C3-991A-F5AEB56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AD4B2-B677-4D2B-9047-613EB63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BB73B8-410C-46E1-8493-0BD61EF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9FAD15-EE45-47DF-9683-D319AF1E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C1CC4A-633E-4CB2-9255-973234A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63718-96CD-4DE0-A419-BF1F845C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0A2F3-082D-4698-B1E5-17DB1D47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9A923-D208-4861-A321-0B3E0914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657E-7801-4A2E-94D0-49F1DEE75A5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7DB3-077B-48E0-A2F6-0DFAB1C7567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402A-8CE8-440B-9FB1-E4A640676F8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2657-9F23-4575-9EFB-DB6A54205CD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E9F-D1D5-47D8-AAF7-4301059D2C0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948A-857D-457B-B866-F5E16595DA2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5E96-3FD9-41A4-8300-03D86CF802D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E95B-7E86-4AB4-82AD-F19B01379CB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5455-7AB7-49ED-9795-6BA9265C2D4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978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 её отражение в повести Воробьёва  «Убиты под Москвой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553600" cy="1311120"/>
          </a:xfrm>
          <a:prstGeom prst="rect">
            <a:avLst/>
          </a:prstGeom>
          <a:ln w="0">
            <a:noFill/>
          </a:ln>
        </p:spPr>
      </p:pic>
      <p:pic>
        <p:nvPicPr>
          <p:cNvPr id="413" name="Содержимое 3" descr="картинка.jpg"/>
          <p:cNvPicPr/>
          <p:nvPr/>
        </p:nvPicPr>
        <p:blipFill>
          <a:blip r:embed="rId2"/>
          <a:stretch/>
        </p:blipFill>
        <p:spPr>
          <a:xfrm>
            <a:off x="1143000" y="1646280"/>
            <a:ext cx="671508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3" descr="картинка6.jpg"/>
          <p:cNvPicPr/>
          <p:nvPr/>
        </p:nvPicPr>
        <p:blipFill>
          <a:blip r:embed="rId2"/>
          <a:stretch/>
        </p:blipFill>
        <p:spPr>
          <a:xfrm>
            <a:off x="785880" y="1785960"/>
            <a:ext cx="7143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858520" cy="1481040"/>
          </a:xfrm>
          <a:prstGeom prst="rect">
            <a:avLst/>
          </a:prstGeom>
          <a:ln w="0">
            <a:noFill/>
          </a:ln>
        </p:spPr>
      </p:pic>
      <p:pic>
        <p:nvPicPr>
          <p:cNvPr id="397" name="Содержимое 3" descr="Карта битвы под Москвой.jpg"/>
          <p:cNvPicPr/>
          <p:nvPr/>
        </p:nvPicPr>
        <p:blipFill>
          <a:blip r:embed="rId2"/>
          <a:stretch/>
        </p:blipFill>
        <p:spPr>
          <a:xfrm>
            <a:off x="1928880" y="1428840"/>
            <a:ext cx="5500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498160" cy="117612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3" descr="картинка8.jpg"/>
          <p:cNvPicPr/>
          <p:nvPr/>
        </p:nvPicPr>
        <p:blipFill>
          <a:blip r:embed="rId2"/>
          <a:stretch/>
        </p:blipFill>
        <p:spPr>
          <a:xfrm>
            <a:off x="2500200" y="1500120"/>
            <a:ext cx="4000680" cy="5143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6680" cy="148104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3" descr="картинка10.jpg"/>
          <p:cNvPicPr/>
          <p:nvPr/>
        </p:nvPicPr>
        <p:blipFill>
          <a:blip r:embed="rId2"/>
          <a:stretch/>
        </p:blipFill>
        <p:spPr>
          <a:xfrm>
            <a:off x="2357280" y="1428840"/>
            <a:ext cx="4429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74040" cy="1414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user\Рабочий стол\Воробьёв\Битва под Москвой\663.jpg"/>
          <p:cNvPicPr/>
          <p:nvPr/>
        </p:nvPicPr>
        <p:blipFill>
          <a:blip r:embed="rId2"/>
          <a:stretch/>
        </p:blipFill>
        <p:spPr>
          <a:xfrm>
            <a:off x="1143000" y="1428840"/>
            <a:ext cx="7072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6680" cy="148104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3" descr="картинка4.jpg"/>
          <p:cNvPicPr/>
          <p:nvPr/>
        </p:nvPicPr>
        <p:blipFill>
          <a:blip r:embed="rId2"/>
          <a:stretch/>
        </p:blipFill>
        <p:spPr>
          <a:xfrm>
            <a:off x="1523880" y="1665360"/>
            <a:ext cx="6096240" cy="4486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07" name="Содержимое 3" descr="картинка3.jpg"/>
          <p:cNvPicPr/>
          <p:nvPr/>
        </p:nvPicPr>
        <p:blipFill>
          <a:blip r:embed="rId1"/>
          <a:stretch/>
        </p:blipFill>
        <p:spPr>
          <a:xfrm>
            <a:off x="1522440" y="1646280"/>
            <a:ext cx="609912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09" name="Содержимое 3" descr="картинка 2.jpg"/>
          <p:cNvPicPr/>
          <p:nvPr/>
        </p:nvPicPr>
        <p:blipFill>
          <a:blip r:embed="rId1"/>
          <a:stretch/>
        </p:blipFill>
        <p:spPr>
          <a:xfrm>
            <a:off x="1071720" y="1785960"/>
            <a:ext cx="6929280" cy="450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11" name="Содержимое 3" descr="картинка5.jpg"/>
          <p:cNvPicPr/>
          <p:nvPr/>
        </p:nvPicPr>
        <p:blipFill>
          <a:blip r:embed="rId1"/>
          <a:stretch/>
        </p:blipFill>
        <p:spPr>
          <a:xfrm>
            <a:off x="1071720" y="1646280"/>
            <a:ext cx="700056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10-09T05:21:52Z</dcterms:modified>
  <cp:revision>16</cp:revision>
  <dc:subject/>
  <dc:title>Реальная картина боевых действий 1941 года под Москвой</dc:title>
</cp:coreProperties>
</file>