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AC6-3D95-4441-9031-A799D186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8D9-D387-4592-ADB9-33525F7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9E561D-14D1-47B8-B5F5-107DA04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98B3B5-86E8-402F-B3B1-0A5C9A47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2DFD4-19B9-4104-911C-37E9DA9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492A2-8EC7-41B3-8CF8-0B3D1309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23D73-7ABD-413A-A994-311DE97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EF68D-9B21-4D4F-8280-3BFE312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B5540E-6B2D-4E86-88C5-48DD59A7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17C33-6EAC-4D52-9C99-5081C660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4AA4AA-CBCB-4B82-8E0B-A3826B6C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DA6-2F3E-4FA9-9A6F-5EE2FFDB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503-37B7-4936-97DC-36EE6C22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88DB5-210B-4B37-8002-4DD09484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50478-4138-43EB-8BD3-AB3E50E0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ECFD9-647F-4DAD-8049-74591EB9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FA2D4-D01E-4A56-B285-A44A322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7CBE-56A7-43A9-9187-0B781B06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E4CC1-7001-4CBD-B4EF-D1C0AB57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96E7-CE13-40CC-9D16-2C788A07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663-DE15-48DF-A3C6-806D002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F0DC1-5B3D-419D-B33D-359376F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AF536-7900-4CA8-A6C8-501425C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52BED-F200-4CAA-9D6A-91AA6F7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0956C-D9E0-4CC8-B1A9-E2365DAE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E05E0-7461-4F45-8094-45DC96BC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8F39-4406-4A22-A889-656EB308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FD2E-9D77-4B2B-9F38-B4F3932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BAAE-BBC6-4F52-8118-787197BD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EC36-BC9D-486F-A1D7-9E80B17A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3FBD-9592-483E-A18C-91CAAB7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27E-C0A9-45B1-BB45-976A1D8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4E1A-3657-4E2E-9AD7-0B3F7B7A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06B5-11CD-4458-B350-72D6CE28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6C07-1587-4C65-A4C3-0B24E72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EFE1-5971-4ED1-966A-3BDD745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FA00-2658-45B6-BAB9-752EFBB7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CBD7-625B-4A40-9F50-4D9EA343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5083-0BF4-4EA7-9BD4-90EB1EFF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698FC-64A9-4F24-A927-485431A2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AA5C0-4525-4F99-9B68-BE2B75F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45080-11D8-47D1-BA00-9579B883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1CB-C4E3-440B-9A63-B9DB32C7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45198-DCFC-43E1-B24A-C63E7371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94299-F2A0-4BA0-A47A-5721072E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4FF80-2238-48F3-A0B8-6109D58C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22788-6312-4C07-8732-C7AFD31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866CC-55FF-4FA1-AB1A-2CA594E6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B99F8-6949-4D1F-AEAB-3E3786E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F8C68-6ACC-49BB-8AE4-42FF4C05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06B50-2BB1-4EC0-860E-49A383BA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9FB30-5CE3-434A-9746-E6B76E9E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9CD0-6980-408E-9C9C-5A59435A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18F-E0D8-4EA2-88C5-A8E57E1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F9AA-D99F-4734-A41F-11DA7205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A4AC3-227F-48BE-9460-060F7E23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6CF3E-DF23-411C-992D-D3945C6A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49A5-E5D6-4FFF-ADE1-5D34E4C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2516-F5CB-46E1-8064-A5A432E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9A2B0-9BB4-40CD-B66B-82A0BDA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5346-6914-465A-B40F-FADE9216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9722-A95B-4315-A189-F249140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C08AF-D80A-4D56-A56A-B62A41EE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56BF-22B4-4CAE-A345-1E9DB94E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DF6-135C-4D4E-B4C5-97E885F2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836D-CF34-498D-9136-0A1EE334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5FAA-5DFD-439C-ABED-9E560AB4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FD6F-7E24-4283-B672-9FEBD2D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B00A-CC01-4E8D-860E-A6BB72BE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7699-8819-4EB4-BE4F-B75933E5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C0AF0-58F7-42D0-BF1C-7E0055D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000F-6B5C-4798-AFFC-53F78D36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F6CEE-5EDB-4711-A58A-B54EADB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1B67-03E9-4AAE-BF22-09AC658B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71D03-3083-4F5A-B278-DFA1EEF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F75-6A69-4474-970E-05AA58AC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DBC5E-2E57-47A0-9BEF-F1CE352A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8C154-3B01-4AEE-B1B8-0156F8BB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5F9E8-A4C2-4090-AB8A-301D87C9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979A0-CEB0-4F35-8481-B7368219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1A6A-22BE-402C-84D9-23537101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EE088-1CA8-4AB7-AED6-FE4ADE93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033B-CD35-4A28-91F4-012C96E6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4EF9-B47D-4F21-B218-A64BFD6D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DBDB2-8F02-44D3-9924-E10E749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475DE-0F68-403C-BF48-83348D7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796-C756-4B35-903A-3A20DE2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A45B6-57F2-4EB8-9CBE-4AFEE78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8C65E-90B2-4D85-8215-3BD13C8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6550-E052-4B26-A2D0-0A4D97F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A05F9-19BF-4BEB-A448-1FDF698A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3F68-30A6-494F-BF3B-AC2A2FBE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1A546-63FF-431E-B7B3-549B8BF0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95BA24-5041-4E9C-9027-23C126E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7D5465-C0A2-4A57-9184-5C750D3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490BB-2229-415D-8796-AF6A530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AC9244-07F5-4B87-B922-B52B9E00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B94-8F72-4FE0-BF36-8B3D7E3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BF1BA-C1FD-4A3A-88B0-FB410A70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E70059-C282-435C-832D-545CD43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CF1FF-1018-4F71-B603-6A1B8B8A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2891E-4397-43CE-A679-6044F9D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2A7527-E763-40A6-8D64-D4E6C99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86C1F-CD91-4C40-A288-993FF1EE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DA6C0-1B40-4377-8E19-ABF40FA8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25BB3C-4335-46A5-B79F-8F350526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E473CF-1A82-4EEE-8C8F-7A978C9B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DE8DE-FF55-4DB1-814F-C81F674B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BFA6-5DD2-4CF6-9EBC-A5442D39AFB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49E-0789-4454-9795-06E6314502B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5993-CA56-426B-891E-F20D4614411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3EC-73AD-4AD6-A779-C493799C974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3E8-5B42-40A3-ADB3-83C6190B975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BF64-ECA0-4EFB-A5E6-5F3EAC586F6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AB3-A91B-4735-946D-F0471291049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17D-3B70-4092-9642-332EC4C67C3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BC21-2A41-4B23-A008-1364DEC6504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978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 её отражение в повести Воробьёва  «Убиты под Москвой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553600" cy="1311120"/>
          </a:xfrm>
          <a:prstGeom prst="rect">
            <a:avLst/>
          </a:prstGeom>
          <a:ln w="0">
            <a:noFill/>
          </a:ln>
        </p:spPr>
      </p:pic>
      <p:pic>
        <p:nvPicPr>
          <p:cNvPr id="413" name="Содержимое 3" descr="картинка.jpg"/>
          <p:cNvPicPr/>
          <p:nvPr/>
        </p:nvPicPr>
        <p:blipFill>
          <a:blip r:embed="rId2"/>
          <a:stretch/>
        </p:blipFill>
        <p:spPr>
          <a:xfrm>
            <a:off x="1143000" y="1646280"/>
            <a:ext cx="671508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картинка6.jpg"/>
          <p:cNvPicPr/>
          <p:nvPr/>
        </p:nvPicPr>
        <p:blipFill>
          <a:blip r:embed="rId2"/>
          <a:stretch/>
        </p:blipFill>
        <p:spPr>
          <a:xfrm>
            <a:off x="785880" y="1785960"/>
            <a:ext cx="714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858520" cy="1481040"/>
          </a:xfrm>
          <a:prstGeom prst="rect">
            <a:avLst/>
          </a:prstGeom>
          <a:ln w="0">
            <a:noFill/>
          </a:ln>
        </p:spPr>
      </p:pic>
      <p:pic>
        <p:nvPicPr>
          <p:cNvPr id="397" name="Содержимое 3" descr="Карта битвы под Москвой.jpg"/>
          <p:cNvPicPr/>
          <p:nvPr/>
        </p:nvPicPr>
        <p:blipFill>
          <a:blip r:embed="rId2"/>
          <a:stretch/>
        </p:blipFill>
        <p:spPr>
          <a:xfrm>
            <a:off x="1928880" y="1428840"/>
            <a:ext cx="5500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498160" cy="117612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картинка8.jpg"/>
          <p:cNvPicPr/>
          <p:nvPr/>
        </p:nvPicPr>
        <p:blipFill>
          <a:blip r:embed="rId2"/>
          <a:stretch/>
        </p:blipFill>
        <p:spPr>
          <a:xfrm>
            <a:off x="2500200" y="1500120"/>
            <a:ext cx="4000680" cy="5143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6680" cy="148104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3" descr="картинка10.jpg"/>
          <p:cNvPicPr/>
          <p:nvPr/>
        </p:nvPicPr>
        <p:blipFill>
          <a:blip r:embed="rId2"/>
          <a:stretch/>
        </p:blipFill>
        <p:spPr>
          <a:xfrm>
            <a:off x="2357280" y="1428840"/>
            <a:ext cx="4429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74040" cy="1414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user\Рабочий стол\Воробьёв\Битва под Москвой\663.jpg"/>
          <p:cNvPicPr/>
          <p:nvPr/>
        </p:nvPicPr>
        <p:blipFill>
          <a:blip r:embed="rId2"/>
          <a:stretch/>
        </p:blipFill>
        <p:spPr>
          <a:xfrm>
            <a:off x="1143000" y="1428840"/>
            <a:ext cx="7072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6680" cy="148104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картинка4.jpg"/>
          <p:cNvPicPr/>
          <p:nvPr/>
        </p:nvPicPr>
        <p:blipFill>
          <a:blip r:embed="rId2"/>
          <a:stretch/>
        </p:blipFill>
        <p:spPr>
          <a:xfrm>
            <a:off x="1523880" y="1665360"/>
            <a:ext cx="6096240" cy="4486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7" name="Содержимое 3" descr="картинка3.jpg"/>
          <p:cNvPicPr/>
          <p:nvPr/>
        </p:nvPicPr>
        <p:blipFill>
          <a:blip r:embed="rId1"/>
          <a:stretch/>
        </p:blipFill>
        <p:spPr>
          <a:xfrm>
            <a:off x="1522440" y="1646280"/>
            <a:ext cx="609912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9" name="Содержимое 3" descr="картинка 2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50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11" name="Содержимое 3" descr="картинка5.jpg"/>
          <p:cNvPicPr/>
          <p:nvPr/>
        </p:nvPicPr>
        <p:blipFill>
          <a:blip r:embed="rId1"/>
          <a:stretch/>
        </p:blipFill>
        <p:spPr>
          <a:xfrm>
            <a:off x="1071720" y="1646280"/>
            <a:ext cx="700056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10-09T05:21:52Z</dcterms:modified>
  <cp:revision>16</cp:revision>
  <dc:subject/>
  <dc:title>Реальная картина боевых действий 1941 года под Москвой</dc:title>
</cp:coreProperties>
</file>