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470B0-138D-4317-A9A7-FF9E4DA09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32F12-7F87-4FA5-9863-247EE4168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704F8-59C1-4D79-B3B1-8AFB14D29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8EEDB-D896-422C-8C59-D5256016D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D53EF-779D-47A2-9E70-6E3B7450F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ED3B2-0E50-4CEB-B995-BF3CC1322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F4830-AF08-4FF3-A18A-6543AE634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35D09-B725-4F23-8A76-7EB30B775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BA135-5749-49FE-842D-D6DB1D07E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54A9F-2211-4438-A485-3E3E627B8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57095-FADA-4930-AD8C-0B5C0AD52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3D6A3-F314-4783-8C4B-CF43B03E8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87192-EA8A-4013-8807-E391C3F4C27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394920" y="1700280"/>
            <a:ext cx="820908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ля расчета ВВП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ожет быть использовано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тр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метода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по расходам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(метод конечного использования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по доходам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(распределительный метод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по добавленной стоимост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(производственный метод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24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истема Национальных Счетов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ВВП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(Gross Domestic Product)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ВНП  (Gross National Product)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Соотношение показателей в системе СН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358560" y="1052640"/>
            <a:ext cx="878508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показатели совокупного продукта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аловой внутренний продукт (ВВП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аловой национальный продукт (ВНП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чистый национальный продукт (ЧНП)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(Net National Product – NNP)</a:t>
            </a:r>
            <a:r>
              <a:rPr b="1" lang="ru-RU" sz="12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показатели совокупного дохода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ациональный доход (НД)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личный доход (ЛД)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асполагаемый личный доход (РЛД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468360" y="3500280"/>
            <a:ext cx="8424720" cy="576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ЧНП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(Net National Product – NNP)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=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ВНП – 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5"/>
          <p:cNvSpPr/>
          <p:nvPr/>
        </p:nvSpPr>
        <p:spPr>
          <a:xfrm>
            <a:off x="250920" y="2708280"/>
            <a:ext cx="8642160" cy="40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6"/>
          <p:cNvSpPr/>
          <p:nvPr/>
        </p:nvSpPr>
        <p:spPr>
          <a:xfrm rot="732000">
            <a:off x="900000" y="3789000"/>
            <a:ext cx="187164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16"/>
          <p:cNvSpPr/>
          <p:nvPr/>
        </p:nvSpPr>
        <p:spPr>
          <a:xfrm>
            <a:off x="395280" y="5153040"/>
            <a:ext cx="806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19"/>
          <p:cNvSpPr/>
          <p:nvPr/>
        </p:nvSpPr>
        <p:spPr>
          <a:xfrm>
            <a:off x="179280" y="4226040"/>
            <a:ext cx="8713800" cy="2288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ЧНП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по расходам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 = потребительские расходы (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) + чистые инвестиционные    расходы (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I net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) + государственные закупки (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) + чистый экспорт (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ЧНП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по доходам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 = заработная плата + арендная плата + процентные платежи + доходы собственников + прибыль корпораций + косвенные налог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Соотношение показателей в системе СН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358560" y="1052640"/>
            <a:ext cx="878508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показатели совокупного продукт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аловой внутренний продукт (ВВП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аловой национальный продукт (ВНП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чистый национальный продукт (ЧНП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показатели совокупного дохода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национальный доход (НД)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(National Income - NI)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личный доход (ЛД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асполагаемый личный доход (РЛД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4"/>
          <p:cNvSpPr/>
          <p:nvPr/>
        </p:nvSpPr>
        <p:spPr>
          <a:xfrm>
            <a:off x="468360" y="3500280"/>
            <a:ext cx="8424720" cy="1152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а)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</a:rPr>
              <a:t>НД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 = ЧНП – косвенные налог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б)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</a:rPr>
              <a:t> НД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= заработная плата + арендная плата + процентные платежи +  доходы собственников + прибыль корпораций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5"/>
          <p:cNvSpPr/>
          <p:nvPr/>
        </p:nvSpPr>
        <p:spPr>
          <a:xfrm>
            <a:off x="250920" y="2708280"/>
            <a:ext cx="8642160" cy="40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6"/>
          <p:cNvSpPr/>
          <p:nvPr/>
        </p:nvSpPr>
        <p:spPr>
          <a:xfrm rot="732000">
            <a:off x="900000" y="3789000"/>
            <a:ext cx="187164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7"/>
          <p:cNvSpPr/>
          <p:nvPr/>
        </p:nvSpPr>
        <p:spPr>
          <a:xfrm>
            <a:off x="395280" y="5153040"/>
            <a:ext cx="806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8"/>
          <p:cNvSpPr/>
          <p:nvPr/>
        </p:nvSpPr>
        <p:spPr>
          <a:xfrm>
            <a:off x="250920" y="5160600"/>
            <a:ext cx="8713800" cy="11912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Национальный доход (National Income - NI) - это совокупный доход, заработанный собственниками экономических ресурсов, т.е. сумма факторных доходов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Соотношение показателей в системе СН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358920" y="1052640"/>
            <a:ext cx="853416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показатели совокупного продукта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аловой внутренний продукт (ВВП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аловой национальный продукт (ВНП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чистый национальный продукт (ЧНП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показатели совокупного дохода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ациональный доход (НД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личный доход (ЛД)  (Personal Income - PI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асполагаемый личный доход (РЛД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4"/>
          <p:cNvSpPr/>
          <p:nvPr/>
        </p:nvSpPr>
        <p:spPr>
          <a:xfrm>
            <a:off x="468360" y="3284640"/>
            <a:ext cx="8424720" cy="1152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</a:rPr>
              <a:t>ЛД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 = НД – взносы на социальное страхование – налог на прибыль корпораций – нераспределенная прибыль корпораций + трансферты + проценты по государственным облигациям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5"/>
          <p:cNvSpPr/>
          <p:nvPr/>
        </p:nvSpPr>
        <p:spPr>
          <a:xfrm>
            <a:off x="250920" y="2708280"/>
            <a:ext cx="8642160" cy="40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6"/>
          <p:cNvSpPr/>
          <p:nvPr/>
        </p:nvSpPr>
        <p:spPr>
          <a:xfrm rot="732000">
            <a:off x="900000" y="3789000"/>
            <a:ext cx="187164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7"/>
          <p:cNvSpPr/>
          <p:nvPr/>
        </p:nvSpPr>
        <p:spPr>
          <a:xfrm>
            <a:off x="395280" y="5157720"/>
            <a:ext cx="806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8"/>
          <p:cNvSpPr/>
          <p:nvPr/>
        </p:nvSpPr>
        <p:spPr>
          <a:xfrm>
            <a:off x="324000" y="4957560"/>
            <a:ext cx="8569080" cy="11912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ЛД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= НД – взносы на социальное страхование – прибыль корпораций + дивиденды + трансферты + проценты по государственным облигация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Соотношение показателей в системе СН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358920" y="1052640"/>
            <a:ext cx="853416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показатели совокупного продукта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аловой внутренний продукт (ВВП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аловой национальный продукт (ВНП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чистый национальный продукт (ЧНП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показатели совокупного дохода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ациональный доход (НД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личный доход (ЛД)  (Personal Income - PI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 u="sng">
                <a:solidFill>
                  <a:srgbClr val="ff0000"/>
                </a:solidFill>
                <a:uFillTx/>
                <a:latin typeface="Times New Roman"/>
              </a:rPr>
              <a:t>располагаемый личный доход (РЛД)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 (Disposal Personal Income – DPI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4"/>
          <p:cNvSpPr/>
          <p:nvPr/>
        </p:nvSpPr>
        <p:spPr>
          <a:xfrm>
            <a:off x="468360" y="3284640"/>
            <a:ext cx="84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РЛД = ЛД – индивидуальные налог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5"/>
          <p:cNvSpPr/>
          <p:nvPr/>
        </p:nvSpPr>
        <p:spPr>
          <a:xfrm>
            <a:off x="250920" y="2708280"/>
            <a:ext cx="8642160" cy="40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6"/>
          <p:cNvSpPr/>
          <p:nvPr/>
        </p:nvSpPr>
        <p:spPr>
          <a:xfrm rot="732000">
            <a:off x="900000" y="3789000"/>
            <a:ext cx="187164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7"/>
          <p:cNvSpPr/>
          <p:nvPr/>
        </p:nvSpPr>
        <p:spPr>
          <a:xfrm>
            <a:off x="395280" y="4830840"/>
            <a:ext cx="8064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8"/>
          <p:cNvSpPr/>
          <p:nvPr/>
        </p:nvSpPr>
        <p:spPr>
          <a:xfrm>
            <a:off x="468360" y="3937320"/>
            <a:ext cx="8424720" cy="459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РЛД = С + 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9"/>
          <p:cNvSpPr/>
          <p:nvPr/>
        </p:nvSpPr>
        <p:spPr>
          <a:xfrm>
            <a:off x="539640" y="4435920"/>
            <a:ext cx="83520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Доходы бюджет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индивидуальные налоги + налог на прибыль корпораций + косвенные налоги на бизнес + взносы на социальное страхование + прибыль государственных предприятий + доходы от приватизаци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Расходы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бюджет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государственные закупки товаров и услуг + трансферты + проценты по государственным облигациям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Сальдо бюджета = доходы бюджета – расходы бюджет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виды сбережений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358920" y="1052280"/>
            <a:ext cx="853416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04920" indent="-30492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личные сбережения (personal  savings)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ли сбережения домохозяйств, которые могут быть подсчитаны как разница между располагаемым личным доходом и расходами на личное потребление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0" algn="ct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S personal =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РЛД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  сбережения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бизнеса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 (savings of business),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включающие амортизацию и нераспределенную прибыль корпораций, которые служат внутренними источниками финансирования и основой для расширения производства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  частные сбережения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 (private savings),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т.е. сбережения частного сектора, состоящие из суммы сбережений домохозяйств  и сбережений фирм, т.е. суммы личных сбережений и сбережений бизнеса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0" algn="ct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S private = S personal + S busines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  государственные сбережения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 (government savings),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которые имеют место в случае излишка (положительного сальдо) государственного бюджета, когда доходы бюджета превышают расходы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0" algn="ct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S government = доходы бюджета – расходы бюджет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&gt;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4"/>
          <p:cNvSpPr/>
          <p:nvPr/>
        </p:nvSpPr>
        <p:spPr>
          <a:xfrm>
            <a:off x="250920" y="2708280"/>
            <a:ext cx="8642160" cy="40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5"/>
          <p:cNvSpPr/>
          <p:nvPr/>
        </p:nvSpPr>
        <p:spPr>
          <a:xfrm rot="732000">
            <a:off x="900000" y="3789000"/>
            <a:ext cx="187164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6"/>
          <p:cNvSpPr/>
          <p:nvPr/>
        </p:nvSpPr>
        <p:spPr>
          <a:xfrm>
            <a:off x="395280" y="4830840"/>
            <a:ext cx="8064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виды сбережений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324000" y="836640"/>
            <a:ext cx="853416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0492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5. </a:t>
            </a: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национальные сбережения (national savings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сумма частных сбережений и государственных сбережений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0" algn="ct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S national  = S private + S governmen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-30492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сбережения иностранного сектора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  (foreign sector savings)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имеют место в случае дефицита (отрицательного сальдо) торгового баланса  данной страны, когда импорт превышает экспорт, т.е. чистый экспорт отрицателен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0" algn="ct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S foreign = Im - Ex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&gt;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Сумма сбережений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 всех секторов (частного, государственного и иностранного) равна величине совокупных инвестици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0" algn="ct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I = S private + S government + S foreign = S + (T – G) + (Im – 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Примечания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. Иногда в задачах по СНС требуется определить величину изъятий и инъекций. Следует иметь в виду, что  </a:t>
            </a:r>
            <a:r>
              <a:rPr b="0" i="1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к изъятиям относятся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: частные сбережения, включающие личные сбережения и сбережения бизнеса; все виды налогов, в том числе взносы на социальное страхование; импорт; </a:t>
            </a:r>
            <a:r>
              <a:rPr b="0" i="1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к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  </a:t>
            </a:r>
            <a:r>
              <a:rPr b="0" i="1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инъекциям относятся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: чистые инвестиционные расходы, государственные закупки товаров и услуг, дивиденды, трансферты, проценты по государственным облигациям, экспорт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250920" y="2708280"/>
            <a:ext cx="8642160" cy="40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5"/>
          <p:cNvSpPr/>
          <p:nvPr/>
        </p:nvSpPr>
        <p:spPr>
          <a:xfrm rot="732000">
            <a:off x="900000" y="3789000"/>
            <a:ext cx="187164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6"/>
          <p:cNvSpPr/>
          <p:nvPr/>
        </p:nvSpPr>
        <p:spPr>
          <a:xfrm>
            <a:off x="395280" y="4830840"/>
            <a:ext cx="8064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едостатки системы показателей СН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324000" y="836640"/>
            <a:ext cx="853416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04920" indent="-304920">
              <a:lnSpc>
                <a:spcPct val="135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они </a:t>
            </a: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усредненные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(если у одного человека два автомобиля, а у другого ни одного, то в среднем каждый имеет по одному автомобилю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-304920">
              <a:lnSpc>
                <a:spcPct val="135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они </a:t>
            </a: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не учитывают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 многие </a:t>
            </a: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качественные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характеристики уровня благосостояни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(две страны, имеющие одинаковую величину НД на душу населения, могут иметь разные: уровень образования, продолжительность жизни, уровень заболеваемости и смертности, уровень преступности и др.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-304920">
              <a:lnSpc>
                <a:spcPct val="135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они игнорируют </a:t>
            </a: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разную покупательную способность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 доллар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в разных странах (на 1 доллар в США и, например, в Индии можно купить разное количество товаров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-304920">
              <a:lnSpc>
                <a:spcPct val="135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они не учитывают </a:t>
            </a: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негативных последствий экономического рост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(степень загрязнения окружающей среды, зашумленности, загазованности и т.п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4"/>
          <p:cNvSpPr/>
          <p:nvPr/>
        </p:nvSpPr>
        <p:spPr>
          <a:xfrm>
            <a:off x="250920" y="2708280"/>
            <a:ext cx="8642160" cy="40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5"/>
          <p:cNvSpPr/>
          <p:nvPr/>
        </p:nvSpPr>
        <p:spPr>
          <a:xfrm rot="732000">
            <a:off x="900000" y="3789000"/>
            <a:ext cx="187164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6"/>
          <p:cNvSpPr/>
          <p:nvPr/>
        </p:nvSpPr>
        <p:spPr>
          <a:xfrm>
            <a:off x="395280" y="4830840"/>
            <a:ext cx="8064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Рисунок 3" descr="http://www.shoppingood.ru/img/plakat/socreksssr/p16.JPG"/>
          <p:cNvPicPr/>
          <p:nvPr/>
        </p:nvPicPr>
        <p:blipFill>
          <a:blip r:embed="rId1"/>
          <a:stretch/>
        </p:blipFill>
        <p:spPr>
          <a:xfrm>
            <a:off x="785880" y="571680"/>
            <a:ext cx="6572160" cy="414324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sp>
        <p:nvSpPr>
          <p:cNvPr id="141" name="TextBox 4"/>
          <p:cNvSpPr/>
          <p:nvPr/>
        </p:nvSpPr>
        <p:spPr>
          <a:xfrm>
            <a:off x="3648240" y="5214960"/>
            <a:ext cx="79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Система Национальных Счетов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32000" y="765000"/>
            <a:ext cx="640080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етод измерения ВВП по расхода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4"/>
          <p:cNvSpPr/>
          <p:nvPr/>
        </p:nvSpPr>
        <p:spPr>
          <a:xfrm>
            <a:off x="900000" y="2852640"/>
            <a:ext cx="64008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Rectangle 5"/>
          <p:cNvSpPr/>
          <p:nvPr/>
        </p:nvSpPr>
        <p:spPr>
          <a:xfrm>
            <a:off x="468360" y="2205000"/>
            <a:ext cx="835164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ff0000"/>
                </a:solidFill>
                <a:uFillTx/>
                <a:latin typeface="Times New Roman"/>
              </a:rPr>
              <a:t>Потребительские расходы (consumption </a:t>
            </a:r>
            <a:r>
              <a:rPr b="1" i="1" lang="en-US" sz="1600" spc="-1" strike="noStrike" u="sng">
                <a:solidFill>
                  <a:srgbClr val="ff0000"/>
                </a:solidFill>
                <a:uFillTx/>
                <a:latin typeface="Times New Roman"/>
              </a:rPr>
              <a:t>spending</a:t>
            </a:r>
            <a:r>
              <a:rPr b="1" i="1" lang="ru-RU" sz="1600" spc="-1" strike="noStrike" u="sng">
                <a:solidFill>
                  <a:srgbClr val="ff0000"/>
                </a:solidFill>
                <a:uFillTx/>
                <a:latin typeface="Times New Roman"/>
              </a:rPr>
              <a:t> – С)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 – составляют от 2/3 до 3/4  совокупных расходов, являются основным компонентом совокупных расходов  и  включают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расходы на текущее потребление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, т.е. на покупку товаров краткосрочного пользован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(товары, служащие менее одного года, но следует однако заметить, что вся одежда, независимо от срока ее действительного использования – 1 день или 5 лет – относится к текущему потреблению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i="1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расходы на товары длительного пользования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, т.е. товары, служащие более одного год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(мебель, бытовая техника, автомобили, яхты, личные самолеты и др., при этом исключение составляют расходы на покупку жилья, которые считаются не потребительскими, а инвестиционными расходами домохозяйств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i="1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расходы на услуги.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ff0000"/>
                </a:solidFill>
                <a:uFillTx/>
                <a:latin typeface="Times New Roman"/>
              </a:rPr>
              <a:t>Потребительские расходы (consumption </a:t>
            </a:r>
            <a:r>
              <a:rPr b="1" i="1" lang="en-US" sz="1600" spc="-1" strike="noStrike" u="sng">
                <a:solidFill>
                  <a:srgbClr val="ff0000"/>
                </a:solidFill>
                <a:uFillTx/>
                <a:latin typeface="Times New Roman"/>
              </a:rPr>
              <a:t>spending</a:t>
            </a:r>
            <a:r>
              <a:rPr b="1" i="1" lang="ru-RU" sz="1600" spc="-1" strike="noStrike" u="sng">
                <a:solidFill>
                  <a:srgbClr val="ff0000"/>
                </a:solidFill>
                <a:uFillTx/>
                <a:latin typeface="Times New Roman"/>
              </a:rPr>
              <a:t> – С)</a:t>
            </a:r>
            <a:r>
              <a:rPr b="1" i="1" lang="ru-RU" sz="1600" spc="-1" strike="noStrike">
                <a:solidFill>
                  <a:srgbClr val="ff0000"/>
                </a:solidFill>
                <a:latin typeface="Times New Roman"/>
              </a:rPr>
              <a:t> = расходы домохозяйств на текущее потребление + расходы на товары длительного пользования (за исключением расходов домохозяйств на покупку жилья) + расходы на услуг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324000" y="1268280"/>
          <a:ext cx="8640720" cy="648000"/>
        </p:xfrm>
        <a:graphic>
          <a:graphicData uri="http://schemas.openxmlformats.org/drawingml/2006/table">
            <a:tbl>
              <a:tblPr/>
              <a:tblGrid>
                <a:gridCol w="8640720"/>
              </a:tblGrid>
              <a:tr h="66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ВП</a:t>
                      </a: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</a:t>
                      </a: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DP</a:t>
                      </a: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i="1" lang="en-US" sz="1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расходам  </a:t>
                      </a: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 </a:t>
                      </a: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потребительские расходы (С)</a:t>
                      </a: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+ валовые инвестиционные расходы(I</a:t>
                      </a:r>
                      <a:r>
                        <a:rPr b="1" i="1" lang="en-US" sz="1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gross</a:t>
                      </a: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  +  государственные закупки (G) + чистый экспорт (X</a:t>
                      </a:r>
                      <a:r>
                        <a:rPr b="1" i="1" lang="en-US" sz="1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Система Национальных Счетов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32000" y="765000"/>
            <a:ext cx="640080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етод измерения ВВП по расхода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11"/>
          <p:cNvSpPr/>
          <p:nvPr/>
        </p:nvSpPr>
        <p:spPr>
          <a:xfrm>
            <a:off x="900000" y="2852640"/>
            <a:ext cx="64008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12"/>
          <p:cNvSpPr/>
          <p:nvPr/>
        </p:nvSpPr>
        <p:spPr>
          <a:xfrm>
            <a:off x="468360" y="2205000"/>
            <a:ext cx="83516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ЧИСТЫЕ ИНВЕСТИЦИИ = чистые инвестиции в основной капитал + чистые инвестиции в жилищное строительство + инвестиции в запасы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ff0000"/>
                </a:solidFill>
                <a:uFillTx/>
                <a:latin typeface="Times New Roman"/>
              </a:rPr>
              <a:t>ВАЛОВЫЕ ИНВЕСТИЦИИ </a:t>
            </a:r>
            <a:r>
              <a:rPr b="1" i="1" lang="en-US" sz="1600" spc="-1" strike="noStrike" u="sng">
                <a:solidFill>
                  <a:srgbClr val="ff0000"/>
                </a:solidFill>
                <a:uFillTx/>
                <a:latin typeface="Times New Roman"/>
              </a:rPr>
              <a:t>(I gross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= чистые инвестиции + амортизация (стоимость потребленного капитала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В инвестиционные расходы в системе национальных счетов включаются только частные инвестиции (private investment), т.е. инвестиции частных фирм (частного сектора), и не включаются государственные инвестиции, которые являются частью государственных закупок товаров и услуг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17"/>
          <p:cNvSpPr/>
          <p:nvPr/>
        </p:nvSpPr>
        <p:spPr>
          <a:xfrm>
            <a:off x="468360" y="5084640"/>
            <a:ext cx="828036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3333cc"/>
                </a:solidFill>
                <a:uFillTx/>
                <a:latin typeface="Times New Roman"/>
              </a:rPr>
              <a:t>Чистый экспорт (net export — Хп)-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 разница между доходами от экспорта (export —Ex) и расходами страны по импорту (import — Im) и соответствует сальдо торгового баланс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324000" y="1268280"/>
          <a:ext cx="8640720" cy="792360"/>
        </p:xfrm>
        <a:graphic>
          <a:graphicData uri="http://schemas.openxmlformats.org/drawingml/2006/table">
            <a:tbl>
              <a:tblPr/>
              <a:tblGrid>
                <a:gridCol w="8640720"/>
              </a:tblGrid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ВП</a:t>
                      </a:r>
                      <a:r>
                        <a:rPr b="1" i="1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</a:t>
                      </a:r>
                      <a:r>
                        <a:rPr b="1" i="1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DP</a:t>
                      </a:r>
                      <a:r>
                        <a:rPr b="1" i="1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r>
                        <a:rPr b="1" i="1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i="1" lang="en-US" sz="17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расходам  </a:t>
                      </a:r>
                      <a:r>
                        <a:rPr b="1" i="1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 потребительские расходы (С) + </a:t>
                      </a:r>
                      <a:r>
                        <a:rPr b="1" i="1" lang="en-US" sz="17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валовые инвестиционные расходы(I</a:t>
                      </a:r>
                      <a:r>
                        <a:rPr b="1" i="1" lang="en-US" sz="1700" spc="-1" strike="noStrike" baseline="-30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gross</a:t>
                      </a:r>
                      <a:r>
                        <a:rPr b="1" i="1" lang="en-US" sz="17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r>
                        <a:rPr b="1" i="1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+  государственные закупки (G) + </a:t>
                      </a:r>
                      <a:r>
                        <a:rPr b="1" i="1" lang="en-US" sz="1700" spc="-1" strike="noStrike" u="sng">
                          <a:solidFill>
                            <a:srgbClr val="3333cc"/>
                          </a:solidFill>
                          <a:uFillTx/>
                          <a:latin typeface="Times New Roman"/>
                          <a:ea typeface="Times New Roman"/>
                        </a:rPr>
                        <a:t>чистый экспорт (X</a:t>
                      </a:r>
                      <a:r>
                        <a:rPr b="1" i="1" lang="en-US" sz="1700" spc="-1" strike="noStrike" u="sng" baseline="-30000">
                          <a:solidFill>
                            <a:srgbClr val="3333cc"/>
                          </a:solidFill>
                          <a:uFillTx/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1" i="1" lang="en-US" sz="1700" spc="-1" strike="noStrike" u="sng">
                          <a:solidFill>
                            <a:srgbClr val="3333cc"/>
                          </a:solidFill>
                          <a:uFillTx/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Система Национальных Счетов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32000" y="765000"/>
            <a:ext cx="640080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етод измерения ВВП по расхода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4"/>
          <p:cNvSpPr/>
          <p:nvPr/>
        </p:nvSpPr>
        <p:spPr>
          <a:xfrm>
            <a:off x="900000" y="2852640"/>
            <a:ext cx="64008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2340000" y="1268280"/>
          <a:ext cx="4608360" cy="432000"/>
        </p:xfrm>
        <a:graphic>
          <a:graphicData uri="http://schemas.openxmlformats.org/drawingml/2006/table">
            <a:tbl>
              <a:tblPr/>
              <a:tblGrid>
                <a:gridCol w="4608360"/>
              </a:tblGrid>
              <a:tr h="453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ВП </a:t>
                      </a:r>
                      <a:r>
                        <a:rPr b="1" i="1" lang="en-US" sz="2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расходам  </a:t>
                      </a: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 С + I</a:t>
                      </a:r>
                      <a:r>
                        <a:rPr b="1" i="1" lang="en-US" sz="2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gross</a:t>
                      </a: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+ </a:t>
                      </a:r>
                      <a:r>
                        <a:rPr b="1" i="1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G</a:t>
                      </a: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+ X</a:t>
                      </a:r>
                      <a:r>
                        <a:rPr b="1" i="1" lang="en-US" sz="2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8" name="Rectangle 14"/>
          <p:cNvSpPr/>
          <p:nvPr/>
        </p:nvSpPr>
        <p:spPr>
          <a:xfrm>
            <a:off x="179280" y="2033280"/>
            <a:ext cx="8785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ff0000"/>
                </a:solidFill>
                <a:uFillTx/>
                <a:latin typeface="Times New Roman"/>
              </a:rPr>
              <a:t>Государственные закупки товаров и услуг (government spending — G)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государственное потребление</a:t>
            </a: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расходы на содержание государственных учреждений и организаций, обеспечивающих регулирование экономики, безопасность и правопорядок, политическое управление, социальную и производственную инфраструктуру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оплат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услуг (жалование) работников государственного сектор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государственные инвестиции,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т.е. инвестиционные расходы государственных предприятий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Следует различать понятия "государственные закупки товаров и услуг" (government spending) и "государственные расходы" (government spendings). Последнее понятие включает также трансфертные платежи и выплаты процентов по государственным облигациям, которые, как уже отмечалось, не учитываются в ВВП, поскольку не являются ни товаром, ни услугой и предоставляются не в обмен на товары и услуг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Система Национальных Счетов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79280" y="836640"/>
            <a:ext cx="878544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етод измерения ВВП по дохода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этом случае ВВП рассматривается как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сумма доходов собственников экономических ресурсов (домохозяйств),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т.е. как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сумма факторных доходов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4"/>
          <p:cNvSpPr/>
          <p:nvPr/>
        </p:nvSpPr>
        <p:spPr>
          <a:xfrm>
            <a:off x="900000" y="2852640"/>
            <a:ext cx="64008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8"/>
          <p:cNvSpPr/>
          <p:nvPr/>
        </p:nvSpPr>
        <p:spPr>
          <a:xfrm>
            <a:off x="250920" y="2708280"/>
            <a:ext cx="8642160" cy="40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ff0000"/>
                </a:solidFill>
                <a:uFillTx/>
                <a:latin typeface="Times New Roman"/>
              </a:rPr>
              <a:t>Заработная плата и жалование служащих (wages </a:t>
            </a:r>
            <a:r>
              <a:rPr b="1" i="1" lang="en-US" sz="1600" spc="-1" strike="noStrike" u="sng">
                <a:solidFill>
                  <a:srgbClr val="ff0000"/>
                </a:solidFill>
                <a:uFillTx/>
                <a:latin typeface="Times New Roman"/>
              </a:rPr>
              <a:t>and salaries</a:t>
            </a:r>
            <a:r>
              <a:rPr b="1" i="1" lang="ru-RU" sz="1600" spc="-1" strike="noStrike" u="sng">
                <a:solidFill>
                  <a:srgbClr val="ff0000"/>
                </a:solidFill>
                <a:uFillTx/>
                <a:latin typeface="Times New Roman"/>
              </a:rPr>
              <a:t>)</a:t>
            </a:r>
            <a:r>
              <a:rPr b="1" i="1" lang="ru-RU" sz="1600" spc="-1" strike="noStrike">
                <a:solidFill>
                  <a:srgbClr val="ff0000"/>
                </a:solidFill>
                <a:latin typeface="Times New Roman"/>
              </a:rPr>
              <a:t> частных фирм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, представляющая собой доход от фактора «труд», т.е. оплату услуг труда и все формы вознаграждения за труд:  основную заработную плату,  премии, все виды материального поощрения, оплату сверхурочных работ и т.п. (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жалование государственных служащих не включается в этот показатель, так как оно выплачивается из средств государственного бюджета  (доходов бюджета) и является частью государственных закупок, а не факторным доходом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3333cc"/>
                </a:solidFill>
                <a:uFillTx/>
                <a:latin typeface="Times New Roman"/>
              </a:rPr>
              <a:t>Арендная плата или рента (rental payments)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доход от фактора «земля» и включающая в себя платежи, полученные владельцами недвижимости (земельных участков, жилых и нежилых помещений): 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при этом, если домовладелец не сдает в аренду принадлежащие ему помещения, то в системе национальных счетов при подсчете по доходам в ВНП учитываются доходы, которые мог бы получать этот домовладелец, если бы он предоставлял эти помещения в аренду;  подобные вмененные доходы носят название </a:t>
            </a:r>
            <a:r>
              <a:rPr b="0" i="1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«условно начисленной арендной платы»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 и включаются в общую сумму рентных платежей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9"/>
          <p:cNvSpPr/>
          <p:nvPr/>
        </p:nvSpPr>
        <p:spPr>
          <a:xfrm>
            <a:off x="468360" y="3213000"/>
            <a:ext cx="87850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179280" y="1700280"/>
          <a:ext cx="8713800" cy="914400"/>
        </p:xfrm>
        <a:graphic>
          <a:graphicData uri="http://schemas.openxmlformats.org/drawingml/2006/table">
            <a:tbl>
              <a:tblPr/>
              <a:tblGrid>
                <a:gridCol w="8713800"/>
              </a:tblGrid>
              <a:tr h="965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ВП </a:t>
                      </a:r>
                      <a:r>
                        <a:rPr b="1" i="1" lang="ru-RU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доходам </a:t>
                      </a: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 </a:t>
                      </a:r>
                      <a:r>
                        <a:rPr b="1" i="1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заработная плата</a:t>
                      </a: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+ </a:t>
                      </a:r>
                      <a:r>
                        <a:rPr b="1" i="1" lang="ru-RU" sz="18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арендная плата (включая условно-начисленную арендную плату)</a:t>
                      </a: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+ процентные платежи + доходы собственников + прибыль корпораций + косвенные налоги + амортизац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Система Национальных Счетов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79280" y="836640"/>
            <a:ext cx="878544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етод измерения ВВП по дохода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этом случае ВВП рассматривается как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сумма доходов собственников экономических ресурсов (домохозяйств),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т.е. как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сумма факторных доходов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Rectangle 4"/>
          <p:cNvSpPr/>
          <p:nvPr/>
        </p:nvSpPr>
        <p:spPr>
          <a:xfrm>
            <a:off x="900000" y="2852640"/>
            <a:ext cx="64008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5"/>
          <p:cNvSpPr/>
          <p:nvPr/>
        </p:nvSpPr>
        <p:spPr>
          <a:xfrm>
            <a:off x="250920" y="2708280"/>
            <a:ext cx="8642160" cy="40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6"/>
          <p:cNvSpPr/>
          <p:nvPr/>
        </p:nvSpPr>
        <p:spPr>
          <a:xfrm>
            <a:off x="468360" y="3213000"/>
            <a:ext cx="87850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179280" y="1700280"/>
          <a:ext cx="8713800" cy="914400"/>
        </p:xfrm>
        <a:graphic>
          <a:graphicData uri="http://schemas.openxmlformats.org/drawingml/2006/table">
            <a:tbl>
              <a:tblPr/>
              <a:tblGrid>
                <a:gridCol w="8713800"/>
              </a:tblGrid>
              <a:tr h="965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ВП </a:t>
                      </a:r>
                      <a:r>
                        <a:rPr b="1" i="1" lang="ru-RU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доходам </a:t>
                      </a: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 заработная плата + арендная плата (включая условно-начисленную арендную плату) + </a:t>
                      </a:r>
                      <a:r>
                        <a:rPr b="1" i="1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процентные платежи</a:t>
                      </a: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+ доходы собственников + прибыль корпораций + косвенные налоги + амортизац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1" name="Rectangle 13"/>
          <p:cNvSpPr/>
          <p:nvPr/>
        </p:nvSpPr>
        <p:spPr>
          <a:xfrm>
            <a:off x="395280" y="2997360"/>
            <a:ext cx="8424720" cy="21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Times New Roman"/>
              </a:rPr>
              <a:t>Процентные платежи </a:t>
            </a:r>
            <a:r>
              <a:rPr b="1" i="1" lang="ru-RU" sz="1600" spc="-1" strike="noStrike" u="sng">
                <a:solidFill>
                  <a:srgbClr val="ff0000"/>
                </a:solidFill>
                <a:uFillTx/>
                <a:latin typeface="Times New Roman"/>
              </a:rPr>
              <a:t>(percent payments)</a:t>
            </a:r>
            <a:r>
              <a:rPr b="1" i="1" lang="ru-RU" sz="16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являющиеся доходом от капитала, платой за пользование капиталом, используемым в процессе производства (поэтому в сумму процентных платежей включаются проценты, выплаченные по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облигациям частных фирм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, но 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не включаются проценты, выплаченные по государственным облигациям (так называемое «обслуживание государственного долга»), поскольку государственные облигации выпускаются не с производственными целями, а с целью финансирования дефицита государственного бюджета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Система Национальных Счетов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79280" y="836640"/>
            <a:ext cx="878544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етод измерения ВВП по дохода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этом случае ВВП рассматривается как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сумма доходов собственников экономических ресурсов (домохозяйств),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т.е. как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сумма факторных доходов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4"/>
          <p:cNvSpPr/>
          <p:nvPr/>
        </p:nvSpPr>
        <p:spPr>
          <a:xfrm>
            <a:off x="900000" y="2852640"/>
            <a:ext cx="64008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ectangle 5"/>
          <p:cNvSpPr/>
          <p:nvPr/>
        </p:nvSpPr>
        <p:spPr>
          <a:xfrm>
            <a:off x="250920" y="2708280"/>
            <a:ext cx="8642160" cy="40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6"/>
          <p:cNvSpPr/>
          <p:nvPr/>
        </p:nvSpPr>
        <p:spPr>
          <a:xfrm>
            <a:off x="468360" y="3213000"/>
            <a:ext cx="87850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179280" y="1844640"/>
          <a:ext cx="8713800" cy="914400"/>
        </p:xfrm>
        <a:graphic>
          <a:graphicData uri="http://schemas.openxmlformats.org/drawingml/2006/table">
            <a:tbl>
              <a:tblPr/>
              <a:tblGrid>
                <a:gridCol w="8713800"/>
              </a:tblGrid>
              <a:tr h="965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ВП </a:t>
                      </a:r>
                      <a:r>
                        <a:rPr b="1" i="1" lang="ru-RU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доходам </a:t>
                      </a: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 заработная плата + арендная плата (включая условно-начисленную арендную плату) + процентные платежи + </a:t>
                      </a:r>
                      <a:r>
                        <a:rPr b="1" i="1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доходы собственников + прибыль корпораций</a:t>
                      </a: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+ косвенные налоги + амортизац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8" name="Rectangle 13"/>
          <p:cNvSpPr/>
          <p:nvPr/>
        </p:nvSpPr>
        <p:spPr>
          <a:xfrm>
            <a:off x="324000" y="2924280"/>
            <a:ext cx="842472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ff0000"/>
                </a:solidFill>
                <a:uFillTx/>
                <a:latin typeface="Times New Roman"/>
              </a:rPr>
              <a:t>Прибыль</a:t>
            </a:r>
            <a:r>
              <a:rPr b="0" i="1" lang="ru-RU" sz="16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 т.е. доход от фактора «предпринимательские способности». В СНС прибыль делится на две части в соответствии с организационно-правовой формой предприятий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прибыль некорпоративного сектора экономики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, включающего единоличные (индивидуальные) фирмы и партнерств (этот вид прибыли носит название </a:t>
            </a:r>
            <a:r>
              <a:rPr b="1" i="1" lang="ru-RU" sz="1600" spc="-1" strike="noStrike">
                <a:solidFill>
                  <a:srgbClr val="ff0000"/>
                </a:solidFill>
                <a:latin typeface="Times New Roman"/>
              </a:rPr>
              <a:t>«доходы собственников»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1600" spc="-1" strike="noStrike">
                <a:solidFill>
                  <a:srgbClr val="ff0000"/>
                </a:solidFill>
                <a:latin typeface="Times New Roman"/>
              </a:rPr>
              <a:t>(proprietors’ incom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прибыль корпоративного сектора экономики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, основанного на акционерной форме собственности (акционерном капитале) (этот вид прибыли называется </a:t>
            </a:r>
            <a:r>
              <a:rPr b="1" i="1" lang="ru-RU" sz="1600" spc="-1" strike="noStrike">
                <a:solidFill>
                  <a:srgbClr val="ff0000"/>
                </a:solidFill>
                <a:latin typeface="Times New Roman"/>
              </a:rPr>
              <a:t>«прибыль корпораций».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 Прибыль корпораций делится на три части: 1) </a:t>
            </a:r>
            <a:r>
              <a:rPr b="0" i="1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налог на прибыль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 корпораций (выплачиваемый государству); 2) </a:t>
            </a:r>
            <a:r>
              <a:rPr b="0" i="1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дивиденды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 (распределяемая часть прибыли), которые корпорация выплачивает  акционерам; 3) </a:t>
            </a:r>
            <a:r>
              <a:rPr b="0" i="1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нераспределенная прибыль корпораций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, остающаяся после расчетов фирмы с государством и владельцами акций и служащая одним из внутренних источников финансирования чистых инвестиций, что является для корпорации основой для расширения производства, а для экономики в целом – экономического рост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Система Национальных Счетов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79280" y="836640"/>
            <a:ext cx="878544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етод измерения ВВП по дохода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этом случае ВВП рассматривается как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сумма доходов собственников экономических ресурсов (домохозяйств),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т.е. как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сумма факторных доходов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4"/>
          <p:cNvSpPr/>
          <p:nvPr/>
        </p:nvSpPr>
        <p:spPr>
          <a:xfrm>
            <a:off x="900000" y="2852640"/>
            <a:ext cx="64008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5"/>
          <p:cNvSpPr/>
          <p:nvPr/>
        </p:nvSpPr>
        <p:spPr>
          <a:xfrm>
            <a:off x="250920" y="2708280"/>
            <a:ext cx="8642160" cy="40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6"/>
          <p:cNvSpPr/>
          <p:nvPr/>
        </p:nvSpPr>
        <p:spPr>
          <a:xfrm rot="732000">
            <a:off x="900000" y="3789000"/>
            <a:ext cx="187164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79280" y="1844640"/>
          <a:ext cx="8713800" cy="914400"/>
        </p:xfrm>
        <a:graphic>
          <a:graphicData uri="http://schemas.openxmlformats.org/drawingml/2006/table">
            <a:tbl>
              <a:tblPr/>
              <a:tblGrid>
                <a:gridCol w="8713800"/>
              </a:tblGrid>
              <a:tr h="965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ВП </a:t>
                      </a:r>
                      <a:r>
                        <a:rPr b="1" i="1" lang="ru-RU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доходам </a:t>
                      </a: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 заработная плата + арендная плата (включая условно-начисленную арендную плату) + процентные платежи + доходы собственников + прибыль корпораций + </a:t>
                      </a:r>
                      <a:r>
                        <a:rPr b="1" i="1" lang="ru-RU" sz="1800" spc="-1" strike="noStrike">
                          <a:solidFill>
                            <a:srgbClr val="9900cc"/>
                          </a:solidFill>
                          <a:latin typeface="Times New Roman"/>
                          <a:ea typeface="Times New Roman"/>
                        </a:rPr>
                        <a:t>косвенные налоги</a:t>
                      </a: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+ </a:t>
                      </a:r>
                      <a:r>
                        <a:rPr b="1" i="1" lang="ru-RU" sz="1800" spc="-1" strike="noStrike">
                          <a:solidFill>
                            <a:srgbClr val="993300"/>
                          </a:solidFill>
                          <a:latin typeface="Times New Roman"/>
                          <a:ea typeface="Times New Roman"/>
                        </a:rPr>
                        <a:t>амортизац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AutoShape 14"/>
          <p:cNvSpPr/>
          <p:nvPr/>
        </p:nvSpPr>
        <p:spPr>
          <a:xfrm rot="10800000">
            <a:off x="323640" y="3141720"/>
            <a:ext cx="3313080" cy="1800000"/>
          </a:xfrm>
          <a:prstGeom prst="wedgeRoundRectCallout">
            <a:avLst>
              <a:gd name="adj1" fmla="val -50004"/>
              <a:gd name="adj2" fmla="val 75305"/>
              <a:gd name="adj3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AutoShape 15"/>
          <p:cNvSpPr/>
          <p:nvPr/>
        </p:nvSpPr>
        <p:spPr>
          <a:xfrm rot="10800000">
            <a:off x="5435280" y="3933720"/>
            <a:ext cx="3311640" cy="1511280"/>
          </a:xfrm>
          <a:prstGeom prst="wedgeRoundRectCallout">
            <a:avLst>
              <a:gd name="adj1" fmla="val 64953"/>
              <a:gd name="adj2" fmla="val 132875"/>
              <a:gd name="adj3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18"/>
          <p:cNvSpPr/>
          <p:nvPr/>
        </p:nvSpPr>
        <p:spPr>
          <a:xfrm>
            <a:off x="395280" y="3212640"/>
            <a:ext cx="3235320" cy="15267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Косвенные налоги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 –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это часть цены товар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(не явл. факторными доходами - акцизы, пошлины, НДС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19"/>
          <p:cNvSpPr/>
          <p:nvPr/>
        </p:nvSpPr>
        <p:spPr>
          <a:xfrm>
            <a:off x="5580000" y="4076280"/>
            <a:ext cx="2886120" cy="119124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Амортизация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, поскольку она также включается в цену любого товара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(не явл. факторным доходом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Соотношение показателей в системе СН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358560" y="1052640"/>
            <a:ext cx="878508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показатели совокупного продукт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валовой внутренний продукт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(ВВП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валовой национальный продукт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(ВНП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чистый национальный продукт (ЧНП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показатели совокупного дохода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ациональный доход (НД)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личный доход (ЛД)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асполагаемый личный доход (РЛД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4"/>
          <p:cNvSpPr/>
          <p:nvPr/>
        </p:nvSpPr>
        <p:spPr>
          <a:xfrm>
            <a:off x="468360" y="3500280"/>
            <a:ext cx="8424720" cy="576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ВНП = ВВП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i="1" lang="ru-RU" sz="2400" spc="-1" strike="noStrike">
                <a:solidFill>
                  <a:srgbClr val="008080"/>
                </a:solidFill>
                <a:latin typeface="Times New Roman"/>
              </a:rPr>
              <a:t>ЧФД</a:t>
            </a:r>
            <a:r>
              <a:rPr b="1" i="1" lang="ru-RU" sz="24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ВВП = ВНП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i="1" lang="ru-RU" sz="2400" spc="-1" strike="noStrike">
                <a:solidFill>
                  <a:srgbClr val="008080"/>
                </a:solidFill>
                <a:latin typeface="Times New Roman"/>
              </a:rPr>
              <a:t>ЧФ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5"/>
          <p:cNvSpPr/>
          <p:nvPr/>
        </p:nvSpPr>
        <p:spPr>
          <a:xfrm>
            <a:off x="250920" y="2708280"/>
            <a:ext cx="8642160" cy="40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7"/>
          <p:cNvSpPr/>
          <p:nvPr/>
        </p:nvSpPr>
        <p:spPr>
          <a:xfrm>
            <a:off x="395280" y="5153040"/>
            <a:ext cx="806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8"/>
          <p:cNvSpPr/>
          <p:nvPr/>
        </p:nvSpPr>
        <p:spPr>
          <a:xfrm>
            <a:off x="4284720" y="3645000"/>
            <a:ext cx="720720" cy="215640"/>
          </a:xfrm>
          <a:prstGeom prst="rightArrow">
            <a:avLst>
              <a:gd name="adj1" fmla="val 50000"/>
              <a:gd name="adj2" fmla="val 8355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9"/>
          <p:cNvSpPr/>
          <p:nvPr/>
        </p:nvSpPr>
        <p:spPr>
          <a:xfrm>
            <a:off x="179280" y="4561560"/>
            <a:ext cx="87138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8080"/>
                </a:solidFill>
                <a:uFillTx/>
                <a:latin typeface="Times New Roman"/>
              </a:rPr>
              <a:t>чистые факторные доходы</a:t>
            </a:r>
            <a:r>
              <a:rPr b="0" lang="ru-RU" sz="2000" spc="-1" strike="noStrike">
                <a:solidFill>
                  <a:srgbClr val="00808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8080"/>
                </a:solidFill>
                <a:latin typeface="Times New Roman"/>
              </a:rPr>
              <a:t>(ЧФД)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представляют собой разницу между доходами, полученными гражданами (резидентами) данной страны на принадлежащие им факторы производства в других странах и доходами, полученными иностранцами (нерезидентами) на принадлежащие им факторы производства в данной стране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Елена Ермилова</cp:lastModifiedBy>
  <dcterms:modified xsi:type="dcterms:W3CDTF">2012-10-02T07:47:39Z</dcterms:modified>
  <cp:revision>93</cp:revision>
  <dc:subject/>
  <dc:title>PowerPoint Presentation</dc:title>
</cp:coreProperties>
</file>