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A56-16DA-4875-80F4-452BE3E2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E76-BBE8-45D5-91A1-C57E841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86D-D310-480F-9315-719089E2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CC4-0E19-45EB-8FCA-9D86D52D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350-D75C-4003-ABE6-F91283BB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1F0-84A1-4E2A-8354-9AABCED7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164-F3D3-4815-AEAB-2E6BC558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CF4-1E5B-422D-8C70-B162E085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6B7-1ED1-4688-BCE4-633CBE7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792-6597-4D20-BC92-C08B3A6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1E9-95C5-47F3-B50F-A84591A4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4B2-DFBA-45E0-81F9-14CFDA0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8E3-4E46-4162-85F0-FC4CB54151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расчета ВВ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быть использовано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етод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метод конечного использовани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распределитель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добавленной сто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производственный мет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ВП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Gross Domestic Product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НП  (Gross National Product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чистый национальный продукт (ЧНП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Net National Product – NNP)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Н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Net National Product – NNP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НП –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179280" y="4226040"/>
            <a:ext cx="87138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потребительские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е инвестиционные    расходы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ne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государственные закупки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 + чистый экспорт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НП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= заработная плата + арендная плата + процентные платежи + доходы собственников + прибыль корпораций + косвен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циональный доход (НД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(National Income - NI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68360" y="3500280"/>
            <a:ext cx="8424720" cy="115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ЧНП – косвенные нал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НД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= заработная плата + арендная плата + процентные платежи +  доходы собственников + прибыль корпорац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5160600"/>
            <a:ext cx="8713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циональный доход (National Income - NI) - это совокупный доход, заработанный собственниками экономических ресурсов, т.е. сумма факторных доход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3284640"/>
            <a:ext cx="842472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налог на прибыль корпораций – нераспределенная прибыль корпораций + трансферты + проценты по государственным облигаци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5280" y="515772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24000" y="4957560"/>
            <a:ext cx="85690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Д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НД – взносы на социальное страхование – прибыль корпораций + дивиденды + трансферты + проценты по государственным облигац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58920" y="1052640"/>
            <a:ext cx="8534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 (ВВ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ловой национальный продукт (ВНП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й доход (НД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ый доход (ЛД)  (Personal Income - P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располагаемый личный доход (РЛД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(Disposal Personal Income – DP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3284640"/>
            <a:ext cx="84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ЛД – индивидуальные на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3937320"/>
            <a:ext cx="84247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ЛД = С +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39640" y="4435920"/>
            <a:ext cx="835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 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индивидуальные налоги + налог на прибыль корпораций + косвенные налоги на бизнес + взносы на социальное страхование + прибыль государственных предприятий + доходы от приват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государственные закупки товаров и услуг + трансферты + проценты по государственным облигация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альдо бюджета = доходы бюджета – расходы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58920" y="105228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личные сбережения (personal  savings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сбережения домохозяйств, которые могут быть подсчитаны как разница между располагаемым личным доходом и расходами на личное потребл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ersonal =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ЛД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изнес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savings of busines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ключающие амортизацию и нераспределенную прибыль корпораций, которые служат внутренними источниками финансирования и основой для расширения производ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част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private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.е. сбережения частного сектора, состоящие из суммы сбережений домохозяйств  и сбережений фирм, т.е. суммы личных сбережений и сбережений бизне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private = S personal + S busin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государственные сбере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(government savings)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торые имеют место в случае излишка (положительного сальдо) государственного бюджета, когда доходы бюджета превышают расхо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S government = доходы бюджета – 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сбереже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5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ые сбережения (national saving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умма частных сбережений и государственных сбережен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national  = S private + S govern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бережения иностранного сектора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(foreign sector savings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меют место в случае дефицита (отрицательного сальдо) торгового баланса  данной страны, когда импорт превышает экспорт, т.е. чистый экспорт отрицателе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foreign = Im - 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мма сбережений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всех секторов (частного, государственного и иностранного) равна величине совокупных инвести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 = S private + S government + S foreign = S + (T – G) + (Im – 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ч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Иногда в задачах по СНС требуется определить величину изъятий и инъекций. Следует иметь в виду, что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 изъят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астные сбережения, включающие личные сбережения и сбережения бизнеса; все виды налогов, в том числе взносы на социальное страхование; импорт;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нъекциям относят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чистые инвестиционные расходы, государственные закупки товаров и услуг, дивиденды, трансферты, проценты по государственным облигациям, экспор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системы показателей С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24000" y="836640"/>
            <a:ext cx="85341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среднен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если у одного человека два автомобиля, а у другого ни одного, то в среднем каждый имеет по одному автомобилю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 учитываю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мног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ые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стики уровня благо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ве страны, имеющие одинаковую величину НД на душу населения, могут иметь разные: уровень образования, продолжительность жизни, уровень заболеваемости и смертности, уровень преступности и др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игнориру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азную покупательную способ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долла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разных странах (на 1 доллар в США и, например, в Индии можно купить разное количество товаров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ни не учитывают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гативных последствий экономического рос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тепень загрязнения окружающей среды, зашумленности, загазованности и т.п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95280" y="48308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3" descr="http://www.shoppingood.ru/img/plakat/socreksssr/p16.JPG"/>
          <p:cNvPicPr/>
          <p:nvPr/>
        </p:nvPicPr>
        <p:blipFill>
          <a:blip r:embed="rId1"/>
          <a:stretch/>
        </p:blipFill>
        <p:spPr>
          <a:xfrm>
            <a:off x="785880" y="571680"/>
            <a:ext cx="6572160" cy="4143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41" name="TextBox 4"/>
          <p:cNvSpPr/>
          <p:nvPr/>
        </p:nvSpPr>
        <p:spPr>
          <a:xfrm>
            <a:off x="3648240" y="52149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68360" y="2205000"/>
            <a:ext cx="8351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– составляют от 2/3 до 3/4  совокупных расходов, являются основным компонентом совокупных расходов  и  включаю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екущее потреблени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на покупку товаров краткосрочного поль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товары, служащие менее одного года, но следует однако заметить, что вся одежда, независимо от срока ее действительного использования – 1 день или 5 лет – относится к текущему потреблению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товары длительного пользовани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т.е. товары, служащие более одн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мебель, бытовая техника, автомобили, яхты, личные самолеты и др., при этом исключение составляют расходы на покупку жилья, которые считаются не потребительскими, а инвестиционными расходами домохозяйств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на услуги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отребительские расходы (consumption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spending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 – С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= расходы домохозяйств на текущее потребление + расходы на товары длительного пользования (за исключением расходов домохозяйств на покупку жилья) + расходы на услу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268280"/>
          <a:ext cx="8640720" cy="6480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требительские расходы (С)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валовые инвестиционные расходы(I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 +  государственные закупки (G) + чистый экспорт (X</a:t>
                      </a:r>
                      <a:r>
                        <a:rPr b="1" i="1" lang="en-US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68360" y="2205000"/>
            <a:ext cx="83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ЧИСТЫЕ ИНВЕСТИЦИИ = чистые инвестиции в основной капитал + чистые инвестиции в жилищное строительство + инвестиции в запас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АЛОВЫЕ ИНВЕСТИЦИИ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(I gros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 чистые инвестиции + амортизация (стоимость потребленного капитала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 инвестиционные расходы в системе национальных счетов включаются только частные инвестиции (private investment), т.е. инвестиции частных фирм (частного сектора), и не включаются государственные инвестиции, которые являются частью государственных закупок товаров и услу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68360" y="5084640"/>
            <a:ext cx="8280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Чистый экспорт (net export — Хп)-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разница между доходами от экспорта (export —Ex) и расходами страны по импорту (import — Im) и соответствует сальдо торгового балан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268280"/>
          <a:ext cx="8640720" cy="79236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</a:t>
                      </a:r>
                      <a:r>
                        <a:rPr b="1" i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потребительские расходы (С) + 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ловые инвестиционные расходы(I</a:t>
                      </a:r>
                      <a:r>
                        <a:rPr b="1" i="1" lang="en-US" sz="17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 государственные закупки (G) + 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чистый экспорт (X</a:t>
                      </a:r>
                      <a:r>
                        <a:rPr b="1" i="1" lang="en-US" sz="1700" spc="-1" strike="noStrike" u="sng" baseline="-30000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i="1" lang="en-US" sz="1700" spc="-1" strike="noStrike" u="sng">
                          <a:solidFill>
                            <a:srgbClr val="3333cc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тод измерения ВВП 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40000" y="1268280"/>
          <a:ext cx="4608360" cy="4320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расходам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 + 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ross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+ 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4"/>
          <p:cNvSpPr/>
          <p:nvPr/>
        </p:nvSpPr>
        <p:spPr>
          <a:xfrm>
            <a:off x="179280" y="203328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Государственные закупки товаров и услуг (government spending — G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ое потребление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сходы на содержание государственных учреждений и организаций, обеспечивающих регулирование экономики, безопасность и правопорядок, политическое управление, социальную и производственную инфраструктур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ла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услуг (жалование) работников государственного сект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осударственные инвестиции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.е. инвестиционные расходы государственных предприят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ледует различать понятия "государственные закупки товаров и услуг" (government spending) и "государственные расходы" (government spendings). Последнее понятие включает также трансфертные платежи и выплаты процентов по государственным облигациям, которые, как уже отмечалось, не учитываются в ВВП, поскольку не являются ни товаром, ни услугой и предоставляются не в обмен на товары и услуг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Заработная плата и жалование служащих (wages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and salaries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ая собой доход от фактора «труд», т.е. оплату услуг труда и все формы вознаграждения за труд:  основную заработную плату,  премии, все виды материального поощрения, оплату сверхурочных работ и т.п.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жалование государственных служащих не включается в этот показатель, так как оно выплачивается из средств государственного бюджета  (доходов бюджета) и является частью государственных закупок, а не факторным доходом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Арендная плата или рента (rental payments)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ход от фактора «земля» и включающая в себя платежи, полученные владельцами недвижимости (земельных участков, жилых и нежилых помещений):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 этом, если домовладелец не сдает в аренду принадлежащие ему помещения, то в системе национальных счетов при подсчете по доходам в ВНП учитываются доходы, которые мог бы получать этот домовладелец, если бы он предоставлял эти помещения в аренду;  подобные вмененные доходы носят название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«условно начисленной арендной платы»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и включаются в общую сумму рентных платеж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арендная плата (включая условно-начисленную арендную плату)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процентные платежи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170028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центные платеж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доходы собственников + прибыль корпораций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13"/>
          <p:cNvSpPr/>
          <p:nvPr/>
        </p:nvSpPr>
        <p:spPr>
          <a:xfrm>
            <a:off x="395280" y="2997360"/>
            <a:ext cx="842472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Процентные платежи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(percent payments)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ющиеся доходом от капитала, платой за пользование капиталом, используемым в процессе производства (поэтому в сумму процентных платежей включаются проценты, выплаченные п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лигациям частных фир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 включаются проценты, выплаченные по государственным облигациям (так называемое «обслуживание государственного долга»), поскольку государственные облигации выпускаются не с производственными целями, а с целью финансирования дефицита государственного бюджет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68360" y="3213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ходы собственников + прибыль корпораций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косвенные налоги + 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3"/>
          <p:cNvSpPr/>
          <p:nvPr/>
        </p:nvSpPr>
        <p:spPr>
          <a:xfrm>
            <a:off x="324000" y="2924280"/>
            <a:ext cx="84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Прибыль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.е. доход от фактора «предпринимательские способности». В СНС прибыль делится на две части в соответствии с организационно-правовой формой предприя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не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включающего единоличные (индивидуальные) фирмы и партнерств (этот вид прибыли носит название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доходы собственников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(proprietors’ inco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ибыль корпоративного сектора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нованного на акционерной форме собственности (акционерном капитале) (этот вид прибыли называется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«прибыль корпораций»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Прибыль корпораций делится на три части: 1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 на прибыл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орпораций (выплачиваемый государству); 2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виденды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распределяемая часть прибыли), которые корпорация выплачивает  акционерам; 3)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распределенная прибыль корпорац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, остающаяся после расчетов фирмы с государством и владельцами акций и служащая одним из внутренних источников финансирования чистых инвестиций, что является для корпорации основой для расширения производства, а для экономики в целом – экономического рос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стема Национальных Сче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 измерения ВВП по доход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 ВВП рассматривается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доходов собственников экономических ресурсов (домохозяйств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е. как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мма факторных доход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900000" y="2852640"/>
            <a:ext cx="6400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 rot="732000">
            <a:off x="900000" y="3789000"/>
            <a:ext cx="18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1844640"/>
          <a:ext cx="8713800" cy="91440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96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П </a:t>
                      </a:r>
                      <a:r>
                        <a:rPr b="1" i="1" lang="ru-RU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оходам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заработная плата + арендная плата (включая условно-начисленную арендную плату) + процентные платежи + доходы собственников + прибыль корпораций + </a:t>
                      </a:r>
                      <a:r>
                        <a:rPr b="1" i="1" lang="ru-RU" sz="18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косвенные налоги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аморт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AutoShape 14"/>
          <p:cNvSpPr/>
          <p:nvPr/>
        </p:nvSpPr>
        <p:spPr>
          <a:xfrm rot="10800000">
            <a:off x="323640" y="3141720"/>
            <a:ext cx="3313080" cy="1800000"/>
          </a:xfrm>
          <a:prstGeom prst="wedgeRoundRectCallout">
            <a:avLst>
              <a:gd name="adj1" fmla="val -50004"/>
              <a:gd name="adj2" fmla="val 7530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5"/>
          <p:cNvSpPr/>
          <p:nvPr/>
        </p:nvSpPr>
        <p:spPr>
          <a:xfrm rot="10800000">
            <a:off x="5435280" y="3933720"/>
            <a:ext cx="3311640" cy="1511280"/>
          </a:xfrm>
          <a:prstGeom prst="wedgeRoundRectCallout">
            <a:avLst>
              <a:gd name="adj1" fmla="val 64953"/>
              <a:gd name="adj2" fmla="val 13287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95280" y="3212640"/>
            <a:ext cx="3235320" cy="1526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свенные налог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часть цены това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и доходами - акцизы, пошлины, НД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5580000" y="4076280"/>
            <a:ext cx="288612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Амортизац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поскольку она также включается в цену любого товар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не явл. факторным доход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отношение показателей в системе СН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560" y="105264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проду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внутренни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В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аловой национальный продукт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ВНП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истый национальный продукт (ЧН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казатели совокупного дохо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(Н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ый доход (ЛД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агаемый личный доход (РЛ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8360" y="3500280"/>
            <a:ext cx="842472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П = ВВ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ВП = ВНП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8080"/>
                </a:solidFill>
                <a:latin typeface="Times New Roman"/>
              </a:rPr>
              <a:t>ЧФ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0920" y="2708280"/>
            <a:ext cx="86421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5280" y="51530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4284720" y="3645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79280" y="456156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8080"/>
                </a:solidFill>
                <a:uFillTx/>
                <a:latin typeface="Times New Roman"/>
              </a:rPr>
              <a:t>чистые факторные доходы</a:t>
            </a:r>
            <a:r>
              <a:rPr b="0" lang="ru-RU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8080"/>
                </a:solidFill>
                <a:latin typeface="Times New Roman"/>
              </a:rPr>
              <a:t>(ЧФД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ставляют собой разницу между доходами, полученными гражданами (резидентами) данной страны на принадлежащие им факторы производства в других странах и доходами, полученными иностранцами (нерезидентами) на принадлежащие им факторы производства в данной стра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Ермилова</cp:lastModifiedBy>
  <dcterms:modified xsi:type="dcterms:W3CDTF">2012-10-02T07:47:39Z</dcterms:modified>
  <cp:revision>93</cp:revision>
  <dc:subject/>
  <dc:title>PowerPoint Presentation</dc:title>
</cp:coreProperties>
</file>