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5DC-7540-4BA7-9032-6BE2CBF3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D10-F96F-4F83-B228-B6C096A2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A9B-9EB2-49C0-8C0F-2D36956C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0F1-6427-472F-BDAF-45C05B46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8FF-77B8-402B-A5ED-0E30A59F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15B-1832-4619-8C1C-4F971D7E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ED6-50DE-4F97-A619-1F2F3ABC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D9F-78D7-49B7-A153-C24F4157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0A5-8058-4EAF-BAE5-3DAD0548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AE4-5E09-4B8E-A4E9-C0323CAB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C4A-9387-454E-8624-DBAA9585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055-D13B-47B6-AC24-5B744241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16A7-2EA7-48F2-8003-3EC61111D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: «Проблема смысла жизни в представление подрост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Смысл жизни – достижение вла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8288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Возвыситься при дворе трудно, но еще труднее стать достойным возвышения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Ж. Лабрюй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Смысл жизни – жизнь ради близких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1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уществовать ради самого себя значит быть ниче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Б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кинн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Смысл жизни – работа, творче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7524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Жизнь — не бремя, а крылья творчества и радость; а если кто превращает ее в бремя, то в этом он сам винова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. В. Вереса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Смысл жизни – самосовершенствовани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Жизнь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- это бесконечное совершенствование. Считать себя совершенным - значит убить себя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Геббель Ф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352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Смысл жизни - не звезда и не химический элемент: его невозможно открыть в готовом виде – его создаём мы сами, и другого судьи, считать его достаточно или недостаточно обоснованным, помимо нашего субъективного чувства, невозмож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елихов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Смысл жизни должен быть найден, но не должен бы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ранкл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ысл жизни, смысл бытия —философская и духовная проблема, имеющая отношение к определению конечной цели существования, предназначения человечества, человека как биологического вида, одно из основных мировоззренческих понятий, имеющее огромное значение для становления духовно-нравственного облика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ысл жизни - это важный ориентир, определяющий поведение и направляющий судьбу человека.  Суть данного понятия заключается в отношении личности к себе и к обществу, к пониманию своего места в обществе и к осмыслению социального значения своей деятельности. То или иное понимание смысла жизни определяет всю линию поведения человека и является тем нравственным стержнем, на котором «крепятся» его моральные установки. Под  «смыслом жизни»  принято понимать осознание людьми основного содержания всей деятельности (прошлое, настоящее, будущее), которое определяет их место и значение в жизни обще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 о смысле жизни можно назвать одним из основных «человеческих» вопросов, который задает себе, наверное, каждый челов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ысл жизни – то, ради чего живёт человек, его моральные и материальные ценности. Смысл жизни каждого человека совершенно уникален. Для его поиска требуется долго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Смысл жизни – сохранение красоты и здоровь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В сердце того, кто страстно стремится к красоте, она сияет ярче, чем в глазах созерцающего е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Д. Х. Джерб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Память как смысл жизн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828800"/>
            <a:ext cx="8382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Если ты хочешь перемены в будущем –стань этой переменой в настояще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Ганди Махатма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Потребление  удовольствия как смысл жизн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Жизнь, как пьеса в театре: важно не то, сколько она длится, а насколько хорошо сыгран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Луций Анней Сенека (Младши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Приобретение вещей и их потребление не может придать нашей жизни смысл... Накопление материальных вещей не может заполнить пустоту жизни тех, у кого нет уверенности и цел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упец-миллионер Савва Мороз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4T10:56:55Z</dcterms:modified>
  <cp:revision>7</cp:revision>
  <dc:subject/>
  <dc:title>Тема: «Проблема смысла жизни в представление подростков»</dc:title>
</cp:coreProperties>
</file>