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E454-0689-477E-BEBA-398309330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429B-04FF-4EE4-93BB-C329E83C6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D7CF-C674-400D-A1D2-07443E234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38FB-5888-444B-9A3F-9C92ED880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B8F6-F1DC-402A-8522-C916B2D96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51B0-8BF3-48F2-A809-EB8248258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BDA0-32E4-4855-B013-74D59D5C1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E337-F5DA-472B-B2AE-0F07960F0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242D-60A4-455B-B29E-72E2B69F2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8440-A6D5-42BB-B4C8-AD259F15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DC1A-8E05-4438-85F8-884BF8C9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0813-DCDB-4512-BBD8-036536A8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45FAA-2A17-4CF3-87DD-866F7475D5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ема: «Проблема смысла жизни в представление подростков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4.Смысл жизни – достижение власт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18288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«Возвыситься при дворе трудно, но еще труднее стать достойным возвышения»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Ж. Лабрюйе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5.Смысл жизни – жизнь ради близких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33160" y="198108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Существовать ради самого себя значит быть ничем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Б.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Скинне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6.Смысл жизни – работа, творчество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80880" y="175248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«Жизнь — не бремя, а крылья творчества и радость; а если кто превращает ее в бремя, то в этом он сам виноват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В. В. Вересае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7. Смысл жизни – самосовершенствование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Жизнь</a:t>
            </a: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 - это бесконечное совершенствование. Считать себя совершенным - значит убить себя»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Геббель Ф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533520" y="4568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«Смысл жизни - не звезда и не химический элемент: его невозможно открыть в готовом виде – его создаём мы сами, и другого судьи, считать его достаточно или недостаточно обоснованным, помимо нашего субъективного чувства, невозможно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Мелихов 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«Смысл жизни должен быть найден, но не должен быть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Франкл 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3808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мысл жизни, смысл бытия —философская и духовная проблема, имеющая отношение к определению конечной цели существования, предназначения человечества, человека как биологического вида, одно из основных мировоззренческих понятий, имеющее огромное значение для становления духовно-нравственного облика лич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4572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мысл жизни - это важный ориентир, определяющий поведение и направляющий судьбу человека.  Суть данного понятия заключается в отношении личности к себе и к обществу, к пониманию своего места в обществе и к осмыслению социального значения своей деятельности. То или иное понимание смысла жизни определяет всю линию поведения человека и является тем нравственным стержнем, на котором «крепятся» его моральные установки. Под  «смыслом жизни»  принято понимать осознание людьми основного содержания всей деятельности (прошлое, настоящее, будущее), которое определяет их место и значение в жизни обществ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5331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прос о смысле жизни можно назвать одним из основных «человеческих» вопросов, который задает себе, наверное, каждый челове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мысл жизни – то, ради чего живёт человек, его моральные и материальные ценности. Смысл жизни каждого человека совершенно уникален. Для его поиска требуется долгое врем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1.Смысл жизни – сохранение красоты и здоровья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«В сердце того, кто страстно стремится к красоте, она сияет ярче, чем в глазах созерцающего ее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Д. Х. Джерба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2.Память как смысл жизн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80880" y="1828800"/>
            <a:ext cx="838224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«Если ты хочешь перемены в будущем –стань этой переменой в настоящем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Ганди Махатма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3.Потребление  удовольствия как смысл жизн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28600" y="18288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«Жизнь, как пьеса в театре: важно не то, сколько она длится, а насколько хорошо сыграна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Луций Анней Сенека (Младший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04920" y="1066680"/>
            <a:ext cx="86104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«Приобретение вещей и их потребление не может придать нашей жизни смысл... Накопление материальных вещей не может заполнить пустоту жизни тех, у кого нет уверенности и цели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Купец-миллионер Савва Мороз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3-24T10:56:55Z</dcterms:modified>
  <cp:revision>7</cp:revision>
  <dc:subject/>
  <dc:title>Тема: «Проблема смысла жизни в представление подростков»</dc:title>
</cp:coreProperties>
</file>