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9702-0AB6-4F2E-A21B-5EDFD4F2B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5C35-74C6-4527-95D8-DB606823F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5A10-DEEA-4F12-9ED8-9810C3795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1868-9D3A-4588-BF48-D46EE2BAE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13A63-568E-40C7-884D-4D1F209CA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BE9B3-E70F-4E0D-8EB2-6F3C922A3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EEFD7-D7CE-4830-AF14-13D8D1340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8E277-EEEF-495A-8806-42E17F798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5BE10-A0A5-4693-A39B-F10D8996B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AE799-1EBD-46E3-B183-ACDBAB68B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81E05-02A1-4186-B321-5BCEAB01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C29B-AD77-4784-95BC-06C045C2C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561A9-2F0F-4400-AD6F-B0B93D5F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48F8E-4165-4C0A-B43C-9B910863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CDB26-8DBF-4313-B908-B10424692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58A24-6E54-4214-A1AF-3DB78BB90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C7452-FBCB-4A70-ABD3-E78F4F22C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D66C-D744-4C4A-8823-349A60030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27F4-4926-419B-B871-5CD37133E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F912-EDEE-42FB-BB24-7765CE022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E763-D4B4-4E52-B42C-4AFC82120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5D07-F325-4CCF-9DC6-0018D6EE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0E51-F67A-45D0-A191-21338D6B6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5DE6-6602-44C8-85B5-7F029326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1D22E-0842-47C0-AB41-6EA6AA2F2B2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7E07F-6613-4F21-B880-869C3010724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211280" y="4941360"/>
            <a:ext cx="4535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Презентация  выполнен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к  уроку  русского  язы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Чемезовой  Л.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187280" y="620640"/>
            <a:ext cx="698508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cc0000"/>
                </a:solidFill>
                <a:latin typeface="Times New Roman"/>
              </a:rPr>
              <a:t>Слово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cc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cc0000"/>
                </a:solidFill>
                <a:latin typeface="Times New Roman"/>
              </a:rPr>
              <a:t>и  его  части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cc0000"/>
              </a:solidFill>
              <a:latin typeface="Times New Roman"/>
              <a:ea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659640" y="2924280"/>
            <a:ext cx="1814400" cy="135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ласс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50920" y="2708280"/>
            <a:ext cx="396072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298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ПРИСТАВК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– значимая часть слова, находится перед корнем, служит для образования новых сл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2133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Verdana"/>
              </a:rPr>
              <a:t>Собери слово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6588000" y="5373720"/>
            <a:ext cx="649440" cy="2458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867280" y="4365720"/>
            <a:ext cx="865440" cy="2476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6588000" y="2997360"/>
            <a:ext cx="720720" cy="2458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5724360" y="1916280"/>
            <a:ext cx="648000" cy="2473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 txBox="1"/>
          <p:nvPr/>
        </p:nvSpPr>
        <p:spPr>
          <a:xfrm>
            <a:off x="5724360" y="2205000"/>
            <a:ext cx="1057320" cy="37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лете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588000" y="3284640"/>
            <a:ext cx="1224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бежа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940360" y="4653000"/>
            <a:ext cx="1368360" cy="37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сказа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659640" y="5661000"/>
            <a:ext cx="1057320" cy="37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хоте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419640" y="2565360"/>
            <a:ext cx="574560" cy="37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з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547640" y="5229360"/>
            <a:ext cx="576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в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276720" y="4149720"/>
            <a:ext cx="792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ра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187280" y="3429000"/>
            <a:ext cx="792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р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187280" y="3429000"/>
            <a:ext cx="792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р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419640" y="2565360"/>
            <a:ext cx="574560" cy="37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з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419640" y="2565360"/>
            <a:ext cx="574560" cy="37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з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547640" y="5229360"/>
            <a:ext cx="576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в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47640" y="5229360"/>
            <a:ext cx="576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в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42368E-006 L 0.17344 -0.11124 E">
                                      <p:cBhvr>
                                        <p:cTn id="211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3.14524E-006 L 0.39774 -0.17831 E">
                                      <p:cBhvr>
                                        <p:cTn id="215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2.15541E-006 L 0.40955 -0.38275 E">
                                      <p:cBhvr>
                                        <p:cTn id="219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42368E-006 L 0.25209 0.06707 E">
                                      <p:cBhvr>
                                        <p:cTn id="223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3.14524E-006 L 0.48438 3.14524E-006 E">
                                      <p:cBhvr>
                                        <p:cTn id="227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2.15541E-006 L 0.48837 -0.19404 E">
                                      <p:cBhvr>
                                        <p:cTn id="231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22942E-006 L 0.18507 0.04186 E">
                                      <p:cBhvr>
                                        <p:cTn id="235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302 0.00532 L 0.39375 -0.02614 E">
                                      <p:cBhvr>
                                        <p:cTn id="239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42368E-006 L 0.2757 0.45513 E">
                                      <p:cBhvr>
                                        <p:cTn id="243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843280" y="475920"/>
            <a:ext cx="33494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Verdana"/>
              </a:rPr>
              <a:t>ПРИСТАВК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800100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за-          пере-          с-           вз-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ы-         про-            в-           вс-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-          чрез-          из-          ис-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д-        при-           пред-       во-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т-          рас-            у-   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 други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пример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метает,  сходил,  перелёт,  подоконник,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бег,  сделать,  предпоследн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611280" y="4797360"/>
            <a:ext cx="504720" cy="1206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2484360" y="4797360"/>
            <a:ext cx="360360" cy="856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4211640" y="4797360"/>
            <a:ext cx="792000" cy="1177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5"/>
          <a:stretch/>
        </p:blipFill>
        <p:spPr>
          <a:xfrm>
            <a:off x="5940360" y="4797360"/>
            <a:ext cx="647640" cy="824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6"/>
          <a:stretch/>
        </p:blipFill>
        <p:spPr>
          <a:xfrm>
            <a:off x="539640" y="5734080"/>
            <a:ext cx="438120" cy="1047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7"/>
          <a:stretch/>
        </p:blipFill>
        <p:spPr>
          <a:xfrm>
            <a:off x="1835280" y="5734080"/>
            <a:ext cx="295200" cy="698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8"/>
          <a:stretch/>
        </p:blipFill>
        <p:spPr>
          <a:xfrm>
            <a:off x="3635280" y="5734080"/>
            <a:ext cx="863640" cy="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560" y="836280"/>
            <a:ext cx="406872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f0000"/>
                </a:solidFill>
                <a:latin typeface="Verdana"/>
              </a:rPr>
              <a:t>Проверь  себя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Verdana"/>
              </a:rPr>
              <a:t>Какое  слово  задумано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66"/>
                </a:solidFill>
                <a:latin typeface="Verdana"/>
              </a:rPr>
              <a:t>Приставка</a:t>
            </a:r>
            <a:r>
              <a:rPr b="1" i="1" lang="en-US" sz="3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Verdana"/>
              </a:rPr>
              <a:t>– как  в  слове</a:t>
            </a:r>
            <a:r>
              <a:rPr b="1" i="1" lang="en-US" sz="30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n-US" sz="3000" spc="-1" strike="noStrike">
                <a:solidFill>
                  <a:srgbClr val="006600"/>
                </a:solidFill>
                <a:latin typeface="Verdana"/>
              </a:rPr>
              <a:t>подвеск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66"/>
                </a:solidFill>
                <a:latin typeface="Verdana"/>
              </a:rPr>
              <a:t>Корень</a:t>
            </a:r>
            <a:r>
              <a:rPr b="1" i="1" lang="en-US" sz="3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Verdana"/>
              </a:rPr>
              <a:t>– как  в  слове</a:t>
            </a:r>
            <a:r>
              <a:rPr b="1" i="1" lang="en-US" sz="30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n-US" sz="3000" spc="-1" strike="noStrike">
                <a:solidFill>
                  <a:srgbClr val="006600"/>
                </a:solidFill>
                <a:latin typeface="Verdana"/>
              </a:rPr>
              <a:t>кормушк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66"/>
                </a:solidFill>
                <a:latin typeface="Verdana"/>
              </a:rPr>
              <a:t>Суффикс</a:t>
            </a:r>
            <a:r>
              <a:rPr b="1" i="1" lang="en-US" sz="3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Verdana"/>
              </a:rPr>
              <a:t>– как  в  слове</a:t>
            </a:r>
            <a:r>
              <a:rPr b="1" i="1" lang="en-US" sz="30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n-US" sz="3000" spc="-1" strike="noStrike">
                <a:solidFill>
                  <a:srgbClr val="006600"/>
                </a:solidFill>
                <a:latin typeface="Verdana"/>
              </a:rPr>
              <a:t>нотк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66"/>
                </a:solidFill>
                <a:latin typeface="Verdana"/>
              </a:rPr>
              <a:t>Окончание</a:t>
            </a:r>
            <a:r>
              <a:rPr b="1" i="1" lang="en-US" sz="3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i="1" lang="en-US" sz="3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n-US" sz="3000" spc="-1" strike="noStrike">
                <a:solidFill>
                  <a:srgbClr val="006600"/>
                </a:solidFill>
                <a:latin typeface="Verdana"/>
              </a:rPr>
              <a:t>а</a:t>
            </a:r>
            <a:r>
              <a:rPr b="1" i="1" lang="en-US" sz="30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2268360" y="5084640"/>
            <a:ext cx="1511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кор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116000" y="5084640"/>
            <a:ext cx="93672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995640" y="5084640"/>
            <a:ext cx="360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0" y="5084640"/>
            <a:ext cx="360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1116000" y="4797360"/>
            <a:ext cx="1008000" cy="241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2268360" y="4724280"/>
            <a:ext cx="1582920" cy="3207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3924360" y="4724280"/>
            <a:ext cx="360360" cy="3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8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8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8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8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8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8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8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0"/>
            <a:ext cx="8001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Verdana"/>
              </a:rPr>
              <a:t>Окончание –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изменяемая  часть  слова,  служит  для  связи  слов в предложени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508720" y="3500280"/>
            <a:ext cx="187164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зи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7451640" y="3500280"/>
            <a:ext cx="50328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411280" y="2060640"/>
            <a:ext cx="19051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Я  любл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187280" y="3141720"/>
            <a:ext cx="30974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Сочинение  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79280" y="5373720"/>
            <a:ext cx="4176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Новый год наступа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50920" y="4149720"/>
            <a:ext cx="4033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роказы матушки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7451640" y="3500280"/>
            <a:ext cx="50328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у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7451640" y="3500280"/>
            <a:ext cx="50328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7451640" y="3500280"/>
            <a:ext cx="50328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ы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7451640" y="3213000"/>
            <a:ext cx="936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й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380360" y="3213000"/>
            <a:ext cx="1152360" cy="1079640"/>
          </a:xfrm>
          <a:prstGeom prst="rect">
            <a:avLst/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5435640" y="2852640"/>
            <a:ext cx="187308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03423E-006 L -0.67309 0.39339 E">
                                      <p:cBhvr>
                                        <p:cTn id="329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7.88159E-006 L -0.5434 0.39848 E">
                                      <p:cBhvr>
                                        <p:cTn id="340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7.88159E-006 L -0.41736 0.39848 E">
                                      <p:cBhvr>
                                        <p:cTn id="351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8.51064E-007 L -0.28351 0.38807 E">
                                      <p:cBhvr>
                                        <p:cTn id="362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40687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f0000"/>
                </a:solidFill>
                <a:latin typeface="Verdana"/>
              </a:rPr>
              <a:t>Проверь  себя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00100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Verdana"/>
              </a:rPr>
              <a:t>Определи,  какая  часть  в  слове  изменяется,  выдели  её  специальным  значком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Мороз,   морозы,  морозу,  о  морозе,  морозо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Лыжи,  лыжа,  лыжами,  о лыжах, лыже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Ёлка,  ёлкой,  ёлки,  ёлку,  ёлке,  ёлка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601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нег,   снега,  снегом,  о  снеге,  снегу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268360" y="4797360"/>
            <a:ext cx="44658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ЦЫ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19640" y="2565360"/>
            <a:ext cx="287280" cy="358920"/>
          </a:xfrm>
          <a:prstGeom prst="rect">
            <a:avLst/>
          </a:prstGeom>
          <a:noFill/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59280" y="2565360"/>
            <a:ext cx="287280" cy="358920"/>
          </a:xfrm>
          <a:prstGeom prst="rect">
            <a:avLst/>
          </a:prstGeom>
          <a:noFill/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88000" y="2565360"/>
            <a:ext cx="287640" cy="358920"/>
          </a:xfrm>
          <a:prstGeom prst="rect">
            <a:avLst/>
          </a:prstGeom>
          <a:noFill/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956720" y="2565360"/>
            <a:ext cx="360360" cy="358920"/>
          </a:xfrm>
          <a:prstGeom prst="rect">
            <a:avLst/>
          </a:prstGeom>
          <a:noFill/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195640" y="2565360"/>
            <a:ext cx="288720" cy="358920"/>
          </a:xfrm>
          <a:prstGeom prst="rect">
            <a:avLst/>
          </a:prstGeom>
          <a:noFill/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908000" y="2997360"/>
            <a:ext cx="287640" cy="358560"/>
          </a:xfrm>
          <a:prstGeom prst="rect">
            <a:avLst/>
          </a:prstGeom>
          <a:noFill/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987640" y="2997360"/>
            <a:ext cx="287280" cy="358560"/>
          </a:xfrm>
          <a:prstGeom prst="rect">
            <a:avLst/>
          </a:prstGeom>
          <a:noFill/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427640" y="2997360"/>
            <a:ext cx="287280" cy="358560"/>
          </a:xfrm>
          <a:prstGeom prst="rect">
            <a:avLst/>
          </a:prstGeom>
          <a:noFill/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2997360"/>
            <a:ext cx="360360" cy="360360"/>
          </a:xfrm>
          <a:prstGeom prst="rect">
            <a:avLst/>
          </a:prstGeom>
          <a:noFill/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948360" y="2997360"/>
            <a:ext cx="360360" cy="358560"/>
          </a:xfrm>
          <a:prstGeom prst="rect">
            <a:avLst/>
          </a:prstGeom>
          <a:noFill/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763640" y="3429000"/>
            <a:ext cx="287280" cy="358920"/>
          </a:xfrm>
          <a:prstGeom prst="rect">
            <a:avLst/>
          </a:prstGeom>
          <a:noFill/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771640" y="3429000"/>
            <a:ext cx="360360" cy="358920"/>
          </a:xfrm>
          <a:prstGeom prst="rect">
            <a:avLst/>
          </a:prstGeom>
          <a:noFill/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851280" y="3429000"/>
            <a:ext cx="287280" cy="358920"/>
          </a:xfrm>
          <a:prstGeom prst="rect">
            <a:avLst/>
          </a:prstGeom>
          <a:noFill/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859280" y="3500280"/>
            <a:ext cx="287280" cy="358920"/>
          </a:xfrm>
          <a:prstGeom prst="rect">
            <a:avLst/>
          </a:prstGeom>
          <a:noFill/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796000" y="3429000"/>
            <a:ext cx="287280" cy="358920"/>
          </a:xfrm>
          <a:prstGeom prst="rect">
            <a:avLst/>
          </a:prstGeom>
          <a:noFill/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04000" y="3429000"/>
            <a:ext cx="576360" cy="358920"/>
          </a:xfrm>
          <a:prstGeom prst="rect">
            <a:avLst/>
          </a:prstGeom>
          <a:noFill/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908000" y="3860640"/>
            <a:ext cx="287640" cy="358920"/>
          </a:xfrm>
          <a:prstGeom prst="rect">
            <a:avLst/>
          </a:prstGeom>
          <a:noFill/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916360" y="3860640"/>
            <a:ext cx="287280" cy="358920"/>
          </a:xfrm>
          <a:prstGeom prst="rect">
            <a:avLst/>
          </a:prstGeom>
          <a:noFill/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067280" y="3860640"/>
            <a:ext cx="433440" cy="358920"/>
          </a:xfrm>
          <a:prstGeom prst="rect">
            <a:avLst/>
          </a:prstGeom>
          <a:noFill/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24360" y="3860640"/>
            <a:ext cx="287640" cy="358920"/>
          </a:xfrm>
          <a:prstGeom prst="rect">
            <a:avLst/>
          </a:prstGeom>
          <a:noFill/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77080" y="3933720"/>
            <a:ext cx="287280" cy="358920"/>
          </a:xfrm>
          <a:prstGeom prst="rect">
            <a:avLst/>
          </a:prstGeom>
          <a:noFill/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58920" y="6173280"/>
            <a:ext cx="2592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66"/>
                </a:solidFill>
                <a:latin typeface="Verdana"/>
              </a:rPr>
              <a:t>семья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258920" y="1700280"/>
            <a:ext cx="6480000" cy="43844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476280"/>
            <a:ext cx="7920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413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66"/>
                </a:solidFill>
                <a:latin typeface="Verdana"/>
              </a:rPr>
              <a:t>      </a:t>
            </a:r>
            <a:r>
              <a:rPr b="1" i="1" lang="en-US" sz="5400" spc="-1" strike="noStrike">
                <a:solidFill>
                  <a:srgbClr val="ff0066"/>
                </a:solidFill>
                <a:latin typeface="Verdana"/>
              </a:rPr>
              <a:t>родственники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2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22" dur="3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56908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66"/>
                </a:solidFill>
                <a:latin typeface="Verdana"/>
              </a:rPr>
              <a:t>Слова - родственники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116000" y="2133720"/>
            <a:ext cx="1655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дед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332000" y="4724280"/>
            <a:ext cx="1655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пр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364000" y="3284640"/>
            <a:ext cx="1656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дед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3429000"/>
            <a:ext cx="1655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пр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356000" y="2133720"/>
            <a:ext cx="1656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дед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084720" y="2133720"/>
            <a:ext cx="208764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ушк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195640" y="3429000"/>
            <a:ext cx="1655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дед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164360" y="3284640"/>
            <a:ext cx="1655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уля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059280" y="4724280"/>
            <a:ext cx="1655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дед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788000" y="4724280"/>
            <a:ext cx="223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ушк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5660640"/>
            <a:ext cx="8569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Родственные  слова  имеют  общую  ча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" dur="1000" autoRev="1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30" dur="1000" autoRev="1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1" dur="1000" autoRev="1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1000" autoRev="1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35" dur="1000" autoRev="1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6" dur="1000" autoRev="1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1000" autoRev="1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40" dur="1000" autoRev="1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1" dur="1000" autoRev="1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1000" autoRev="1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45" dur="1000" autoRev="1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6" dur="1000" autoRev="1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8000"/>
                            </p:stCondLst>
                            <p:childTnLst>
                              <p:par>
                                <p:cTn id="4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" dur="1000" autoRev="1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50" dur="1000" autoRev="1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1" dur="1000" autoRev="1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7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7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8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9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cc"/>
                </a:solidFill>
                <a:latin typeface="Verdana"/>
              </a:rPr>
              <a:t>Общая часть родственных  слов -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400" spc="-1" strike="noStrike">
                <a:solidFill>
                  <a:srgbClr val="ff0066"/>
                </a:solidFill>
                <a:latin typeface="Verdana"/>
              </a:rPr>
              <a:t>КОРЕНЬ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0010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0066"/>
                </a:solidFill>
                <a:uFillTx/>
                <a:latin typeface="Verdana"/>
              </a:rPr>
              <a:t>Корень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– главная  значимая  часть  слова.  В  ней  заключено общее  значение  родственных  слов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Родственные  слова  иначе  называютс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0066"/>
                </a:solidFill>
                <a:uFillTx/>
                <a:latin typeface="Verdana"/>
              </a:rPr>
              <a:t>ОДНОКОРЕННЫМ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Например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50920" y="5516640"/>
            <a:ext cx="864072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Times New Roman"/>
              </a:rPr>
              <a:t>игра  игрушка  игровой  поиграть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Times New Roman"/>
              <a:ea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50920" y="5229360"/>
            <a:ext cx="865080" cy="3999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692360" y="5229360"/>
            <a:ext cx="865080" cy="399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4211640" y="5229360"/>
            <a:ext cx="865080" cy="3999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7236000" y="5229360"/>
            <a:ext cx="8650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766908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f0066"/>
                </a:solidFill>
                <a:latin typeface="Verdana"/>
              </a:rPr>
              <a:t>Проверь  себя:</a:t>
            </a:r>
            <a:br>
              <a:rPr sz="3800"/>
            </a:br>
            <a:r>
              <a:rPr b="1" i="1" lang="en-US" sz="2400" spc="-1" strike="noStrike">
                <a:solidFill>
                  <a:srgbClr val="ff0066"/>
                </a:solidFill>
                <a:latin typeface="Verdana"/>
              </a:rPr>
              <a:t>(упр. 7 на стр. 82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55640" y="2276640"/>
            <a:ext cx="2160720" cy="374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Дожд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дождлив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дождев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дожди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924360" y="2349360"/>
            <a:ext cx="158436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Лет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летн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300720" y="2205000"/>
            <a:ext cx="2160720" cy="374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Корми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кор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кормуш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кормов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258920" y="2349360"/>
            <a:ext cx="1009440" cy="3906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755640" y="3357720"/>
            <a:ext cx="1009800" cy="3902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900000" y="4365720"/>
            <a:ext cx="1009800" cy="3906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1116000" y="5300640"/>
            <a:ext cx="1009800" cy="390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4211640" y="2349360"/>
            <a:ext cx="865080" cy="3906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7"/>
          <a:stretch/>
        </p:blipFill>
        <p:spPr>
          <a:xfrm>
            <a:off x="3851280" y="3284640"/>
            <a:ext cx="865080" cy="3906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8"/>
          <a:stretch/>
        </p:blipFill>
        <p:spPr>
          <a:xfrm>
            <a:off x="6443640" y="2276640"/>
            <a:ext cx="1152720" cy="3902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9"/>
          <a:stretch/>
        </p:blipFill>
        <p:spPr>
          <a:xfrm>
            <a:off x="6804000" y="3284640"/>
            <a:ext cx="1152720" cy="3906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0"/>
          <a:stretch/>
        </p:blipFill>
        <p:spPr>
          <a:xfrm>
            <a:off x="6227640" y="4221000"/>
            <a:ext cx="1152720" cy="3906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1"/>
          <a:stretch/>
        </p:blipFill>
        <p:spPr>
          <a:xfrm>
            <a:off x="6227640" y="5229360"/>
            <a:ext cx="1152720" cy="39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f0066"/>
                </a:solidFill>
                <a:latin typeface="Verdana"/>
              </a:rPr>
              <a:t>Самостоятельная  работа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0010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Завязал, мёрзнет,  повязка, замёрз,  вымерзнет, увязался,  привязал, мёрзлый,  связала,  примёрз,  связка,  вяжет,  замерзать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971640" y="3573360"/>
            <a:ext cx="7080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За</a:t>
            </a: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вяз</a:t>
            </a: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ал, по</a:t>
            </a: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вяз</a:t>
            </a: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ка, у</a:t>
            </a: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вяз</a:t>
            </a: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ался, привязал, с</a:t>
            </a: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вяз</a:t>
            </a: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ала, с</a:t>
            </a: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вяз</a:t>
            </a: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ка, </a:t>
            </a: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вяж</a:t>
            </a: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Мёрз</a:t>
            </a: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нет, за</a:t>
            </a: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мёрз</a:t>
            </a: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, вы</a:t>
            </a: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мерз</a:t>
            </a: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нет, </a:t>
            </a: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мёрз</a:t>
            </a: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лый, при</a:t>
            </a: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мёрз</a:t>
            </a: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, за</a:t>
            </a: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мерз</a:t>
            </a: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ать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55640" y="3716280"/>
            <a:ext cx="7416720" cy="237672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82886E-006 L 0.004 -0.3617 E">
                                      <p:cBhvr>
                                        <p:cTn id="173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0066"/>
                </a:solidFill>
                <a:latin typeface="Verdana"/>
              </a:rPr>
              <a:t>Самостоятельная работа</a:t>
            </a:r>
            <a:br>
              <a:rPr sz="2000"/>
            </a:br>
            <a:br>
              <a:rPr sz="34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Образуй  однокоренные  слова,  используя  части  реч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914400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Verdana"/>
              </a:rPr>
              <a:t>            </a:t>
            </a:r>
            <a:r>
              <a:rPr b="0" lang="ru-RU" sz="2000" spc="-1" strike="noStrike">
                <a:solidFill>
                  <a:srgbClr val="3333cc"/>
                </a:solidFill>
                <a:latin typeface="Verdana"/>
              </a:rPr>
              <a:t>Существительное         Прилагательное           Глаго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Что?)                   (Какой? Какая?)        (что делать?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Verdana"/>
              </a:rPr>
              <a:t>игр</a:t>
            </a: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             игра                       игровой                    игра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Verdana"/>
              </a:rPr>
              <a:t>дом </a:t>
            </a: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           домик                    домовой                    домовнича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Verdana"/>
              </a:rPr>
              <a:t>шум</a:t>
            </a: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           шумок                     шумный                    шуме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Verdana"/>
              </a:rPr>
              <a:t>ласк </a:t>
            </a: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          ласка                     ласковая                   ласка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Verdana"/>
              </a:rPr>
              <a:t>добр</a:t>
            </a: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          доброта                  добрый                     добре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Verdana"/>
              </a:rPr>
              <a:t>весел</a:t>
            </a: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         веселье                  веселый                   веселиться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Verdana"/>
              </a:rPr>
              <a:t>мил</a:t>
            </a: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           милость                   милая                      миловатьс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Verdana"/>
              </a:rPr>
              <a:t>тоск</a:t>
            </a: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           </a:t>
            </a: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тоска                     тоскливый                  тоскова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403280" y="2781360"/>
            <a:ext cx="7416720" cy="33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0"/>
            <a:ext cx="8001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СУФФИКС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– значимая  часть слова,  находится  после  корня,  служит  для  образования  новых  сл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6280" y="1844280"/>
            <a:ext cx="33577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cc"/>
                </a:solidFill>
                <a:latin typeface="Verdana"/>
              </a:rPr>
              <a:t>Собери  слова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547640" y="2492280"/>
            <a:ext cx="9144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До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427640" y="4797360"/>
            <a:ext cx="5760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и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547640" y="4149720"/>
            <a:ext cx="97164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Гриб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211640" y="2997360"/>
            <a:ext cx="4665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547640" y="3357720"/>
            <a:ext cx="9144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Су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435640" y="3860640"/>
            <a:ext cx="91440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чи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547640" y="4941720"/>
            <a:ext cx="9144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Тиг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940360" y="2565360"/>
            <a:ext cx="9144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ён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547640" y="2276640"/>
            <a:ext cx="1008360" cy="2156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1547640" y="3141720"/>
            <a:ext cx="936720" cy="1998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1547640" y="3933720"/>
            <a:ext cx="1009800" cy="216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1547640" y="4724280"/>
            <a:ext cx="100980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-0.05226 L -0.20469 -0.31452 E">
                                      <p:cBhvr>
                                        <p:cTn id="186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562 2.48844E-006 L -0.3177 -0.0525 E">
                                      <p:cBhvr>
                                        <p:cTn id="190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333 0.01596 L -0.18298 0.19426 E">
                                      <p:cBhvr>
                                        <p:cTn id="194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58 0.01041 L -0.37291 0.34621 E">
                                      <p:cBhvr>
                                        <p:cTn id="198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42920" y="549000"/>
            <a:ext cx="31338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Verdana"/>
              </a:rPr>
              <a:t>СУФФИКС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80010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cc"/>
                </a:solidFill>
                <a:latin typeface="Verdana"/>
              </a:rPr>
              <a:t>-ёк-               -ечк-              -онок-       -н-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cc"/>
                </a:solidFill>
                <a:latin typeface="Verdana"/>
              </a:rPr>
              <a:t>-ик-               -очк-              -ёнок-       -ст-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cc"/>
                </a:solidFill>
                <a:latin typeface="Verdana"/>
              </a:rPr>
              <a:t>-чик-             -еньк-             -ушк-        -а-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cc"/>
                </a:solidFill>
                <a:latin typeface="Verdana"/>
              </a:rPr>
              <a:t>-ок-               -оньк-             -ишк-       -щик-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cc"/>
                </a:solidFill>
                <a:latin typeface="Verdana"/>
              </a:rPr>
              <a:t>-к-                 - ичк-             -ышк-       -ник-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Verdana"/>
              </a:rPr>
              <a:t>-л-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1" lang="ru-RU" sz="2400" spc="-1" strike="noStrike">
                <a:solidFill>
                  <a:srgbClr val="3333cc"/>
                </a:solidFill>
                <a:latin typeface="Verdana"/>
              </a:rPr>
              <a:t>-ов-                 -ть-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и  други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Например: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рыбка,  уголёк, Ванечка, доченька,  котёнок,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бабушка, солнышко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3780000" y="4797360"/>
            <a:ext cx="502920" cy="1954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5219640" y="4797360"/>
            <a:ext cx="590760" cy="2286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6948360" y="4724280"/>
            <a:ext cx="590760" cy="2286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1187280" y="5445000"/>
            <a:ext cx="590760" cy="2286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6"/>
          <a:stretch/>
        </p:blipFill>
        <p:spPr>
          <a:xfrm>
            <a:off x="2987640" y="5445000"/>
            <a:ext cx="590760" cy="2286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7"/>
          <a:stretch/>
        </p:blipFill>
        <p:spPr>
          <a:xfrm>
            <a:off x="1187280" y="4797360"/>
            <a:ext cx="228600" cy="2001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8"/>
          <a:stretch/>
        </p:blipFill>
        <p:spPr>
          <a:xfrm>
            <a:off x="2627280" y="4653000"/>
            <a:ext cx="289080" cy="2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2T14:09:00Z</dcterms:created>
  <dc:creator>Людмила</dc:creator>
  <dc:description/>
  <dc:language>en-US</dc:language>
  <cp:lastModifiedBy>Людмила</cp:lastModifiedBy>
  <dcterms:modified xsi:type="dcterms:W3CDTF">2010-12-10T10:35:08Z</dcterms:modified>
  <cp:revision>8</cp:revision>
  <dc:subject/>
  <dc:title>Слайд 1</dc:title>
</cp:coreProperties>
</file>