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E79-E9E7-44C5-A877-D2CADEA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89C-5405-4685-AFC4-C54A73A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DB0-5C86-4D0B-95A8-26B64AAD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69C-7557-4B92-8EBC-B52ACBC3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27FD-BB76-4B3E-9E3B-E998C0E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19C4-1906-4B54-B66E-6F8762B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C51-E3E6-468B-A54D-B19359D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895D-4BAB-48BC-84C9-EE010ABE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9CFE-6578-4921-93E8-D940E61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63F7-7397-4CFF-A8C3-41CCBFF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CC1-D542-436C-8759-391A448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CC7-B2FF-496E-A52E-7D49582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23A9-87DC-4815-9304-7A673EB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7437-C546-4C7E-B0CC-026EC1F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32DA-FA59-4E48-B3FD-09A019F9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406-6167-4C90-9385-F88A390D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4182-D2E2-4730-9BE1-47BB27AD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A50-8C21-4F22-B3E2-B3CD0E5B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A6B-79BC-4720-926B-79F7F7A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7AB-3D51-4BD9-92A8-CB76B57B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DE0-A317-48FF-9DD8-54C87CD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697-7B0F-41A7-947F-319D4B9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940-C310-4FF1-8675-A77059CA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FA2-DAB2-411C-8A0C-A8D40D1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007-971B-47A8-A401-24450B58CB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1D6-B96C-4D23-A4E2-D3097EE401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535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зентация  выполн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 уроку  русского 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мезовой  Л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620640"/>
            <a:ext cx="69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  его  част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59640" y="2924280"/>
            <a:ext cx="18144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960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298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ПРИСТАВ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часть слова, находится перед корнем, служит для образования новых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2133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слово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88000" y="5373720"/>
            <a:ext cx="649440" cy="245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86544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588000" y="2997360"/>
            <a:ext cx="720720" cy="24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648000" cy="247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724360" y="2205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88000" y="328464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еж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40360" y="4653000"/>
            <a:ext cx="13683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каз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59640" y="5661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о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76720" y="414972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17344 -0.11124 E">
                                      <p:cBhvr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39774 -0.17831 E">
                                      <p:cBhvr>
                                        <p:cTn id="21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0955 -0.38275 E">
                                      <p:cBhvr>
                                        <p:cTn id="21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5209 0.06707 E">
                                      <p:cBhvr>
                                        <p:cTn id="22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48438 3.14524E-006 E">
                                      <p:cBhvr>
                                        <p:cTn id="2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8837 -0.19404 E">
                                      <p:cBhvr>
                                        <p:cTn id="23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942E-006 L 0.18507 0.04186 E">
                                      <p:cBhvr>
                                        <p:cTn id="2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0532 L 0.39375 -0.02614 E">
                                      <p:cBhvr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757 0.45513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43280" y="475920"/>
            <a:ext cx="3349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ПРИСТА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-          пере-          с-           вз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-         про-            в-           вс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-          чрез-          из-          ис-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-        при-           пред-       во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-          рас-            у-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метает,  сходил,  перелёт,  подоконник,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бег,  сделать,  предпослед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504720" cy="12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484360" y="4797360"/>
            <a:ext cx="360360" cy="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792000" cy="11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647640" cy="82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39640" y="5734080"/>
            <a:ext cx="438120" cy="1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835280" y="5734080"/>
            <a:ext cx="295200" cy="69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3635280" y="5734080"/>
            <a:ext cx="86364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836280"/>
            <a:ext cx="4068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Какое  слово  задуман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Приставк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подве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Корень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кормуш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Суффикс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нот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Окончани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5084640"/>
            <a:ext cx="151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16000" y="5084640"/>
            <a:ext cx="936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64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6000" y="4797360"/>
            <a:ext cx="1008000" cy="24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4724280"/>
            <a:ext cx="1582920" cy="32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360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Окончание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зменяемая  часть  слова,  служит  для  связи  слов в предложе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08720" y="350028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2060640"/>
            <a:ext cx="190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  люб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7280" y="3141720"/>
            <a:ext cx="309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чинение  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537372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овый год наступ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4149720"/>
            <a:ext cx="403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казы матушк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451640" y="321300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3213000"/>
            <a:ext cx="1152360" cy="1079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1873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3423E-006 L -0.67309 0.39339 E">
                                      <p:cBhvr>
                                        <p:cTn id="32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88159E-006 L -0.5434 0.39848 E">
                                      <p:cBhvr>
                                        <p:cTn id="34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88159E-006 L -0.41736 0.39848 E">
                                      <p:cBhvr>
                                        <p:cTn id="35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51064E-007 L -0.28351 0.38807 E">
                                      <p:cBhvr>
                                        <p:cTn id="3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068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01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Определи,  какая  часть  в  слове  изменяется,  выдели  её  специальным  значк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роз,   морозы,  морозу,  о  морозе,  мороз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ыжи,  лыжа,  лыжами,  о лыжах, лыж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Ёлка,  ёлкой,  ёлки,  ёлку,  ёлке,  ёл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ег,   снега,  снегом,  о  снеге,  снег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68360" y="4797360"/>
            <a:ext cx="446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256536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56536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2565360"/>
            <a:ext cx="28872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2997360"/>
            <a:ext cx="28764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2997360"/>
            <a:ext cx="360360" cy="3603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2997360"/>
            <a:ext cx="36036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42900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50028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3429000"/>
            <a:ext cx="576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6360" y="386064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3860640"/>
            <a:ext cx="4334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393372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8920" y="6173280"/>
            <a:ext cx="259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480000" cy="4384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лова - 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16000" y="213372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4724280"/>
            <a:ext cx="165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64000" y="328464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42900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6000" y="213372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84720" y="2133720"/>
            <a:ext cx="208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3429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64360" y="328464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59280" y="472428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8000" y="472428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566064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Родственные  слова  имеют  общую  ч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Verdana"/>
              </a:rPr>
              <a:t>Общая часть родственных  слов -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66"/>
                </a:solidFill>
                <a:latin typeface="Verdana"/>
              </a:rPr>
              <a:t>КОРЕ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Корень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главная  значимая  часть  слова.  В  ней  заключено общее  значение  родственных  сл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одственные  слова  иначе  называю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ОДНОКОРЕННЫ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5516640"/>
            <a:ext cx="8640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игра  игрушка  игровой  поиграть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9236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236000" y="5229360"/>
            <a:ext cx="8650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6690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Проверь  себя:</a:t>
            </a:r>
            <a:br>
              <a:rPr sz="3800"/>
            </a:b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(упр. 7 на стр. 8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227664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е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2349360"/>
            <a:ext cx="158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300720" y="220500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100944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009800" cy="39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116000" y="530064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11640" y="234936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851280" y="328464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152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804000" y="328464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6227640" y="422100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227640" y="5229360"/>
            <a:ext cx="11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Самостоятельная  рабо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вязал, мёрзнет,  повязка, замёрз,  вымерзнет, увязался,  привязал, мёрзлый,  связала,  примёрз,  связка,  вяжет,  замерза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3573360"/>
            <a:ext cx="708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, по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у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ся, привязал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а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ж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вы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лый, при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ть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716280"/>
            <a:ext cx="7416720" cy="237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2886E-006 L 0.004 -0.3617 E">
                                      <p:cBhvr>
                                        <p:cTn id="17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66"/>
                </a:solidFill>
                <a:latin typeface="Verdana"/>
              </a:rPr>
              <a:t>Самостоятельная работа</a:t>
            </a:r>
            <a:br>
              <a:rPr sz="20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уй  однокоренные  слова,  используя  части  ре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Существительное         Прилагательное           Глаго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Что?)                   (Какой? Какая?)        (что делать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иг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  игра                       игровой                    игр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м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домик                    домовой                    домовнич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шум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шумок                     шумный                    шум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ласк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ласка                     ласковая                   ласк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б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доброта                  добрый                     добр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весе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веселье                  веселый                   веселитьс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ми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милость                   милая                      мило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тоск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оска                     тоскливый                  тосков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741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СУФФИ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 часть слова,  находится  после  корня,  служит  для  образования  новых 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3357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 сл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249228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7640" y="4797360"/>
            <a:ext cx="57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47640" y="4149720"/>
            <a:ext cx="971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640" y="2997360"/>
            <a:ext cx="466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47640" y="3357720"/>
            <a:ext cx="914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у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435640" y="3860640"/>
            <a:ext cx="914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47640" y="494172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2565360"/>
            <a:ext cx="914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ё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1008360" cy="21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936720" cy="19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10098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547640" y="4724280"/>
            <a:ext cx="10098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226 L -0.20469 -0.31452 E">
                                      <p:cBhvr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2 2.48844E-006 L -0.3177 -0.0525 E">
                                      <p:cBhvr>
                                        <p:cTn id="19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01596 L -0.18298 0.19426 E">
                                      <p:cBhvr>
                                        <p:cTn id="19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0.01041 L -0.37291 0.34621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313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СУФФИК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ёк-               -ечк-              -онок-       -н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ик-               -очк-              -ёнок-       -ст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чик-             -еньк-             -ушк-        -а-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ок-               -оньк-             -ишк-       -щ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к-                 - ичк-             -ышк-       -н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л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ов-                 -ть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и  друг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ыбка,  уголёк, Ванечка, доченька,  котёнок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абушка, солныш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502920" cy="1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18728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2890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09:00Z</dcterms:created>
  <dc:creator>Людмила</dc:creator>
  <dc:description/>
  <dc:language>en-US</dc:language>
  <cp:lastModifiedBy>Людмила</cp:lastModifiedBy>
  <dcterms:modified xsi:type="dcterms:W3CDTF">2010-12-10T10:35:08Z</dcterms:modified>
  <cp:revision>8</cp:revision>
  <dc:subject/>
  <dc:title>Слайд 1</dc:title>
</cp:coreProperties>
</file>