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028-0D49-427B-BC55-DBC8D7A7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2CB-7CF9-444C-A0A5-6EE9D019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483-740C-4AAA-9ABD-F6F29FBD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D0B-69E4-4CFE-BD1E-5E2E85C1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48CB-7ECD-4C41-B8DC-A3C54AAD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6035-E6CE-47FA-B475-A2215F32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7EF0-ACD5-4097-93BD-631BA164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1761-07C1-4821-9D5C-A06BFB3F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953F-603D-4DE6-902D-82A177A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ADF8-313A-420B-A887-17899C23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862-DBE8-4034-86E0-89D9061F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12C-AA8C-43A2-82A1-C97E1F05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6AFF-0AAB-4E6B-B14B-127C4FA4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4F1B-4C17-411B-A637-3A59926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8AB9-BCAA-4499-A679-C629F57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2C44-2269-45C7-BE0B-D7850B90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2F05-50CB-40C3-8302-30AB84F5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867-3746-4EC0-A403-656152FB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00B-7220-460F-A7DF-6D8203CE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32D-CD7C-44ED-BEE7-828EEC1E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941-9404-4C99-8B32-E33BD6B4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175-0CFC-4891-9F42-9F25B94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E5B-3F87-4E3E-9594-59645E0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776-C78A-4CF6-B665-B50ACE1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B501-FEC8-4B3B-AD1C-83303D3C76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8CC4-0BC6-41F4-B073-0936709E0F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211280" y="4941360"/>
            <a:ext cx="4535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езентация  выполне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 уроку  русского  язы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Чемезовой  Л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87280" y="620640"/>
            <a:ext cx="69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и  его  част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59640" y="2924280"/>
            <a:ext cx="1814400" cy="13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960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298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ПРИСТАВ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значимая часть слова, находится перед корнем, служит для образования новых с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2133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Собери слово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588000" y="5373720"/>
            <a:ext cx="649440" cy="245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867280" y="4365720"/>
            <a:ext cx="86544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588000" y="2997360"/>
            <a:ext cx="720720" cy="245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724360" y="1916280"/>
            <a:ext cx="648000" cy="247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5724360" y="2205000"/>
            <a:ext cx="10573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ет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588000" y="3284640"/>
            <a:ext cx="12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еж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40360" y="4653000"/>
            <a:ext cx="13683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каз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659640" y="5661000"/>
            <a:ext cx="10573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от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19640" y="2565360"/>
            <a:ext cx="5745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47640" y="5229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76720" y="4149720"/>
            <a:ext cx="79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87280" y="342900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7280" y="342900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419640" y="2565360"/>
            <a:ext cx="5745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19640" y="2565360"/>
            <a:ext cx="5745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47640" y="5229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47640" y="5229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2368E-006 L 0.17344 -0.11124 E">
                                      <p:cBhvr>
                                        <p:cTn id="21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14524E-006 L 0.39774 -0.17831 E">
                                      <p:cBhvr>
                                        <p:cTn id="21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5541E-006 L 0.40955 -0.38275 E">
                                      <p:cBhvr>
                                        <p:cTn id="219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2368E-006 L 0.25209 0.06707 E">
                                      <p:cBhvr>
                                        <p:cTn id="22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14524E-006 L 0.48438 3.14524E-006 E">
                                      <p:cBhvr>
                                        <p:cTn id="22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5541E-006 L 0.48837 -0.19404 E">
                                      <p:cBhvr>
                                        <p:cTn id="23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942E-006 L 0.18507 0.04186 E">
                                      <p:cBhvr>
                                        <p:cTn id="23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00532 L 0.39375 -0.02614 E">
                                      <p:cBhvr>
                                        <p:cTn id="23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2368E-006 L 0.2757 0.45513 E">
                                      <p:cBhvr>
                                        <p:cTn id="24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43280" y="475920"/>
            <a:ext cx="3349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Verdana"/>
              </a:rPr>
              <a:t>ПРИСТАВ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-          пере-          с-           вз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-         про-            в-           вс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-          чрез-          из-          ис-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-        при-           пред-       во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-          рас-            у-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метает,  сходил,  перелёт,  подоконник,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бег,  сделать,  предпослед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504720" cy="12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484360" y="4797360"/>
            <a:ext cx="360360" cy="8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792000" cy="11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647640" cy="82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39640" y="5734080"/>
            <a:ext cx="438120" cy="1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1835280" y="5734080"/>
            <a:ext cx="295200" cy="69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3635280" y="5734080"/>
            <a:ext cx="863640" cy="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560" y="836280"/>
            <a:ext cx="40687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Verdana"/>
              </a:rPr>
              <a:t>Проверь  себ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Какое  слово  задумано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Приставка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– как  в  слов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подве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Корень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– как  в  слов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кормуш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Суффикс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– как  в  слов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нот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Окончани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а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68360" y="5084640"/>
            <a:ext cx="151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16000" y="5084640"/>
            <a:ext cx="936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95640" y="5084640"/>
            <a:ext cx="3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0" y="5084640"/>
            <a:ext cx="3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16000" y="4797360"/>
            <a:ext cx="1008000" cy="24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268360" y="4724280"/>
            <a:ext cx="1582920" cy="32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924360" y="4724280"/>
            <a:ext cx="36036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Verdana"/>
              </a:rPr>
              <a:t>Окончание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зменяемая  часть  слова,  служит  для  связи  слов в предложен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508720" y="3500280"/>
            <a:ext cx="187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и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411280" y="2060640"/>
            <a:ext cx="1905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  любл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7280" y="3141720"/>
            <a:ext cx="3097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чинение  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9280" y="5373720"/>
            <a:ext cx="41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овый год наступ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4149720"/>
            <a:ext cx="4033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казы матушки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451640" y="3213000"/>
            <a:ext cx="9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3213000"/>
            <a:ext cx="1152360" cy="10796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435640" y="2852640"/>
            <a:ext cx="18730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3423E-006 L -0.67309 0.39339 E">
                                      <p:cBhvr>
                                        <p:cTn id="32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88159E-006 L -0.5434 0.39848 E">
                                      <p:cBhvr>
                                        <p:cTn id="34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88159E-006 L -0.41736 0.39848 E">
                                      <p:cBhvr>
                                        <p:cTn id="351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51064E-007 L -0.28351 0.38807 E">
                                      <p:cBhvr>
                                        <p:cTn id="36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4068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Verdana"/>
              </a:rPr>
              <a:t>Проверь  себ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01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Определи,  какая  часть  в  слове  изменяется,  выдели  её  специальным  значко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ороз,   морозы,  морозу,  о  морозе,  мороз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ыжи,  лыжа,  лыжами,  о лыжах, лыж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Ёлка,  ёлкой,  ёлки,  ёлку,  ёлке,  ёлк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нег,   снега,  снегом,  о  снеге,  снег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68360" y="4797360"/>
            <a:ext cx="4465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256536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59280" y="256536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2565360"/>
            <a:ext cx="2876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2565360"/>
            <a:ext cx="36036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2565360"/>
            <a:ext cx="28872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2997360"/>
            <a:ext cx="28764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2997360"/>
            <a:ext cx="28728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7640" y="2997360"/>
            <a:ext cx="28728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2997360"/>
            <a:ext cx="360360" cy="3603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2997360"/>
            <a:ext cx="36036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342900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3429000"/>
            <a:ext cx="36036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42900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50028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0" y="342900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4000" y="3429000"/>
            <a:ext cx="57636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860640"/>
            <a:ext cx="2876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6360" y="386064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67280" y="3860640"/>
            <a:ext cx="4334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24360" y="3860640"/>
            <a:ext cx="2876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393372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8920" y="6173280"/>
            <a:ext cx="259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480000" cy="4384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47628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      </a:t>
            </a: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родственник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Слова - родственник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16000" y="213372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32000" y="4724280"/>
            <a:ext cx="165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64000" y="328464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42900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56000" y="213372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84720" y="2133720"/>
            <a:ext cx="2087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95640" y="342900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164360" y="328464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л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59280" y="472428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88000" y="472428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566064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Родственные  слова  имеют  общую  ч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" dur="10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5" dur="10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" dur="10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0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0" dur="10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1" dur="10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Verdana"/>
              </a:rPr>
              <a:t>Общая часть родственных  слов -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ff0066"/>
                </a:solidFill>
                <a:latin typeface="Verdana"/>
              </a:rPr>
              <a:t>КОРЕН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Verdana"/>
              </a:rPr>
              <a:t>Корень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– главная  значимая  часть  слова.  В  ней  заключено общее  значение  родственных  сл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одственные  слова  иначе  называют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Verdana"/>
              </a:rPr>
              <a:t>ОДНОКОРЕННЫ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5516640"/>
            <a:ext cx="8640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игра  игрушка  игровой  поиграть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865080" cy="399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92360" y="5229360"/>
            <a:ext cx="865080" cy="39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211640" y="5229360"/>
            <a:ext cx="865080" cy="399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7236000" y="5229360"/>
            <a:ext cx="8650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6690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66"/>
                </a:solidFill>
                <a:latin typeface="Verdana"/>
              </a:rPr>
              <a:t>Проверь  себя:</a:t>
            </a:r>
            <a:br>
              <a:rPr sz="3800"/>
            </a:b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(упр. 7 на стр. 8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2276640"/>
            <a:ext cx="2160720" cy="37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ли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е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24360" y="2349360"/>
            <a:ext cx="1584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300720" y="2205000"/>
            <a:ext cx="2160720" cy="37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о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1009440" cy="39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1009800" cy="39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1009800" cy="39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116000" y="5300640"/>
            <a:ext cx="1009800" cy="39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211640" y="2349360"/>
            <a:ext cx="86508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851280" y="3284640"/>
            <a:ext cx="86508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443640" y="2276640"/>
            <a:ext cx="1152720" cy="39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804000" y="3284640"/>
            <a:ext cx="115272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6227640" y="4221000"/>
            <a:ext cx="1152720" cy="390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6227640" y="5229360"/>
            <a:ext cx="11527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66"/>
                </a:solidFill>
                <a:latin typeface="Verdana"/>
              </a:rPr>
              <a:t>Самостоятельная  рабо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Завязал, мёрзнет,  повязка, замёрз,  вымерзнет, увязался,  привязал, мёрзлый,  связала,  примёрз,  связка,  вяжет,  замерза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3573360"/>
            <a:ext cx="708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За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л, по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ка, у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лся, привязал, с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ла, с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ка,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ж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нет, за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, вы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е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нет,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лый, при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, за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е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ть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3716280"/>
            <a:ext cx="7416720" cy="2376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2886E-006 L 0.004 -0.3617 E">
                                      <p:cBhvr>
                                        <p:cTn id="17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66"/>
                </a:solidFill>
                <a:latin typeface="Verdana"/>
              </a:rPr>
              <a:t>Самостоятельная работа</a:t>
            </a:r>
            <a:br>
              <a:rPr sz="2000"/>
            </a:br>
            <a:br>
              <a:rPr sz="3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уй  однокоренные  слова,  используя  части  ре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Существительное         Прилагательное           Глаго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Что?)                   (Какой? Какая?)        (что делать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игр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  игра                       игровой                    игр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дом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домик                    домовой                    домовнич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шум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шумок                     шумный                    шуме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ласк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ласка                     ласковая                   ласк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добр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доброта                  добрый                     добре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весел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веселье                  веселый                   веселитьс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мил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милость                   милая                      миловать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тоск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         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тоска                     тоскливый                  тосков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7416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СУФФИ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значимая  часть слова,  находится  после  корня,  служит  для  образования  новых  с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3357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Собери  слов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47640" y="2492280"/>
            <a:ext cx="914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27640" y="4797360"/>
            <a:ext cx="57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47640" y="4149720"/>
            <a:ext cx="971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ри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11640" y="2997360"/>
            <a:ext cx="466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47640" y="3357720"/>
            <a:ext cx="9144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у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435640" y="3860640"/>
            <a:ext cx="9144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ч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47640" y="4941720"/>
            <a:ext cx="914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40360" y="2565360"/>
            <a:ext cx="914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ё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1008360" cy="215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547640" y="3141720"/>
            <a:ext cx="936720" cy="199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547640" y="3933720"/>
            <a:ext cx="10098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547640" y="4724280"/>
            <a:ext cx="10098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5226 L -0.20469 -0.31452 E">
                                      <p:cBhvr>
                                        <p:cTn id="18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62 2.48844E-006 L -0.3177 -0.0525 E">
                                      <p:cBhvr>
                                        <p:cTn id="19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01596 L -0.18298 0.19426 E">
                                      <p:cBhvr>
                                        <p:cTn id="19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 0.01041 L -0.37291 0.34621 E">
                                      <p:cBhvr>
                                        <p:cTn id="19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42920" y="549000"/>
            <a:ext cx="313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Verdana"/>
              </a:rPr>
              <a:t>СУФФИК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ёк-               -ечк-              -онок-       -н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ик-               -очк-              -ёнок-       -ст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чик-             -еньк-             -ушк-        -а-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ок-               -оньк-             -ишк-       -щик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к-                 - ичк-             -ышк-       -ник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-л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-ов-                 -ть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и  друг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ыбка,  уголёк, Ванечка, доченька,  котёнок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абушка, солнышк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780000" y="4797360"/>
            <a:ext cx="502920" cy="1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479736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948360" y="472428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187280" y="544500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544500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228600" cy="200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2627280" y="4653000"/>
            <a:ext cx="2890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4:09:00Z</dcterms:created>
  <dc:creator>Людмила</dc:creator>
  <dc:description/>
  <dc:language>en-US</dc:language>
  <cp:lastModifiedBy>Людмила</cp:lastModifiedBy>
  <dcterms:modified xsi:type="dcterms:W3CDTF">2010-12-10T10:35:08Z</dcterms:modified>
  <cp:revision>8</cp:revision>
  <dc:subject/>
  <dc:title>Слайд 1</dc:title>
</cp:coreProperties>
</file>