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F0B-FEBD-4D6B-885A-730F6683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80C-F69A-478A-8179-560D01AF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84E-3F58-4614-B925-7C6BB146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341-B909-4C8C-A772-6FE4037F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E8F-33EB-415D-8FE1-CF4C2C43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D24E-D3D2-4BB5-8C2C-E4D6663F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70FA-8311-454A-B0AC-D813C59C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55BE-8683-449D-B2CD-91C4F25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4F3F-3568-4085-84CC-17A7830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36F-1BB1-46D7-92DF-38412B00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6B90-2A4C-463D-B1B3-0EF2B43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D32-4AF5-448D-BBF0-BA3FCCA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3C0C-4D6C-46DC-99DB-2B4F603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661B-CAF7-4B6C-A6B1-02B5DEE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0D4-43AB-45EB-A1D1-A575206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F56A-58D0-4E61-A886-756400C3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F9A7-ADD4-426C-8A1E-2DF19945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CE3E-8A85-44CB-A347-1C79077A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4680-37A6-438A-B14D-421F24FC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DE17-07D2-48B3-8F49-44E7103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7FBFC-A7A8-4E04-9565-2F6299B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EC77-6BDA-49E5-B916-FD489589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240-DAFB-40E4-8B5E-31AB9E9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E536-EF6F-4201-B23A-DCCCEF42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772D-CC76-4712-9159-52D7210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245E-D0CF-47BD-A18A-447E86EF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A238E-2B0D-4609-BAB5-33D4EA4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1D15-E990-4D54-91AA-0E2B7C4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8988B-7920-4BB7-9B14-7A7D426B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195F-E384-4A41-B322-AB827091B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0A48-A7A4-4BAB-95E5-586449FD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5008-9290-4F22-B810-646DD8C7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4B319-E209-4298-B625-1AA0E0D5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077-03A4-4BC3-B643-A82EE29A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F192-704D-4DFD-8A97-5ADE1004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F201-A285-4F76-9278-1E4E086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CF6F-015E-4DA7-BB89-6A437806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2BDD-DED7-4B12-8A03-C548DED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7C6E-1CD2-4B30-818C-3D04FD6F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36015-2C01-4F7D-ABF3-583F2CF9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3D2D-3836-404B-9753-EB2E530A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0B8E-7E90-4B96-99AA-3B5CA7A6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C289-47C9-4636-B6F3-6601E6EF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EF51-767C-4071-B35C-F62B93E9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A10-928C-45CC-A4ED-69902856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FAFF-E917-407B-9C30-264722D2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7FF4-9BAA-4ADA-AA55-680DAEB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B135F-92EB-4E7D-A00C-122153CD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E71A7-22C2-4F50-B6F8-A2859F93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D22A2-5AE5-46AC-AECE-225A9AC4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ED7A0-7175-4242-85C9-D08BA4B2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EBA13-DF8F-4AA3-B811-07CACF2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AD72-A802-466B-ACE9-CAEE36F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C938-DE5A-412A-BAED-D9FAE429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4DFDF-0409-4CE3-95C5-61D1874F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D08-10A4-4E20-813B-311134B3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60F0-69CA-40BE-B169-66EBFC8D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B2E-325A-4E68-8CC4-F7295C6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4BC-6C4C-42C2-9F24-116C7E68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A20-DDB9-41E2-83CE-235A5619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683A-7342-4E80-AD8B-BB2B152F7845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448-DA0D-4082-840F-C3253F0F9624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EE55-3459-4FD2-89A0-587EB82270AB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9C5C-F977-4DBA-9045-F3A23B5533C7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4ba8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aae9a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aae9aa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bd3f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50D-9635-4771-B6B1-AC7289D2639A}" type="slidenum">
              <a:rPr b="0" lang="ru-RU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2142720"/>
            <a:ext cx="7772400" cy="2714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Формы  работы  на  уроках  математики </a:t>
            </a:r>
            <a:br>
              <a:rPr sz="4100"/>
            </a:br>
            <a:r>
              <a:rPr b="1" lang="ru-RU" sz="4100" spc="-1" strike="noStrike">
                <a:solidFill>
                  <a:srgbClr val="84ba88"/>
                </a:solidFill>
                <a:latin typeface="Verdana"/>
              </a:rPr>
              <a:t>в  коррекционных  классах</a:t>
            </a:r>
            <a:endParaRPr b="1" lang="en-US" sz="41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54291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Учитель  математики  ГБОУ  СОШ № 2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d7e76"/>
                </a:solidFill>
                <a:latin typeface="Verdana"/>
              </a:rPr>
              <a:t>Бадаева Екатерина Викто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мотивацию учения школьников; обеспе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ить включение детей в совместную деятельность по определению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целей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объяснить учащимся цели урока одновременно с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общением темы занятия; сообщить цели в виде проблемн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если правильно найдете корни уравнений и заполнит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аблицу ответов, то сможете прочитать тему уро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5–х=17           У               29+х=45          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–37=18           Е               90–у=62          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31+у=16+44    Ж               80–х=19+21    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40–3=с+13       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Это же задание возможно дать на устном счете, где над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будет расположить корни уравнений по возрастанию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ставить слово (изменив соответствие букв в  заданиях)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714760" y="4214880"/>
          <a:ext cx="4143240" cy="68112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выяснить тему урока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3+18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      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120:4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 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0" lang="ru-RU" sz="1600" spc="-1" strike="noStrike">
                <a:solidFill>
                  <a:srgbClr val="0046d2"/>
                </a:solidFill>
                <a:latin typeface="Verdana"/>
              </a:rPr>
              <a:t>·9=630            500-30=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исать названия неизвестных компоне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сумма, частное, множитель, разность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Одно из этих слов лишнее в логической цепочке. Подумайте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что это за слово и каким его нужно заменить.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(множитель – произведение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Произведение – это результат какого действия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егодня на уроке и будем   говорить об  УМНОЖЕН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зучения нового материа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восприятие, осмысление и первич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поминание нового материа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изучении новых геометрических фигур очень хорошо исполь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овать следующий вид работ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 доске выходит ребенок и встает спиной к ней. На доск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итель делает рисунок, например, параллелограмм, отметив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что противоположные стороны равны и параллельн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ащиеся должны, не называя эту фигуру, объяснить стояще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 доски отличительные свойства фигуры так, чтобы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 смог назвать эту фигуру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осле этого второй ученик пытается отгадать, что же з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гура теперь на доске, если дети пытаются описать отли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льные свойства ромба по рисунку, а такую фигуру еще н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изучал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ая соединительная линия 6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ая соединительная линия 14"/>
          <p:cNvSpPr/>
          <p:nvPr/>
        </p:nvSpPr>
        <p:spPr>
          <a:xfrm flipV="1">
            <a:off x="5143680" y="2928960"/>
            <a:ext cx="144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H="1" flipV="1">
            <a:off x="5857920" y="43578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ая соединительная линия 20"/>
          <p:cNvSpPr/>
          <p:nvPr/>
        </p:nvSpPr>
        <p:spPr>
          <a:xfrm flipH="1" flipV="1">
            <a:off x="5785920" y="4214520"/>
            <a:ext cx="142920" cy="14292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ffff00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закрепление учащимися знаний и способов                  действий,  которые им необходимы для самостоятельной работ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оздать условия для выявления школьниками индивидуальны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закрепления изучаемого материа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важно следить за оформлением решений и  точ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овать алгоритму выполнения заданий (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наглядность!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ченики должны комментировать каждое действие, использу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авила. Позже дети пробуют самостоятельно выполни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налогичные зад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отработку формул сокращенного умножения мож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ить следующим образо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       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=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       (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)²=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r>
              <a:rPr b="0" lang="en-US" sz="1600" spc="-1" strike="noStrike">
                <a:solidFill>
                  <a:srgbClr val="00863d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46d2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+</a:t>
            </a:r>
            <a:r>
              <a:rPr b="0" lang="en-US" sz="1600" spc="-1" strike="noStrike">
                <a:solidFill>
                  <a:srgbClr val="c00000"/>
                </a:solidFill>
                <a:latin typeface="Verdana"/>
              </a:rPr>
              <a:t>b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сположить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едующие выражения  в столбик с соответствующ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ормулой и применить ее:   (у-3)²       а²+2а+1       х²-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9+6с+с²     36-х²         (5+</a:t>
            </a:r>
            <a:r>
              <a:rPr b="0" lang="en-US" sz="16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)² 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 закреплении хорошо использовать вычислительную цепочк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ние с формулировкой «Найди ошибку!»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c5c1bb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030a0"/>
                </a:solidFill>
                <a:latin typeface="Verdana"/>
              </a:rPr>
              <a:t>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физкультминутки  или отдых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отдых учащихся в зависимости от вид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томления; настроить детей на дальнейшую работ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Физкультминутка не должна надоедать, не слишком возбужда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тей. Если на уроке происходит частая смена вид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еятельности и материал не перегружен уровнем сложност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физкультминутку можно не проводит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этом этапе можно провести устную размин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етух, стоя на одной ноге, весит 3 кг. Сколько он весит, сто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 двух ногах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колько концов у 3,5 палок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д рекой летели голубь, щука, две синицы, стриж и пять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углей. Сколько птиц летело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одной семье 2 отца и два сына. Сколько челове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семье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усвоение учащимися знаний и способов    деятельности на уровне их применения в разнообразных ситуация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развивать у детей умение самостоятельно применять знания в раз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ичных ситуациях с учетом своего личного опы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пример, предлагается упростить выражения и соединить т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тветы которых одинаков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2а+3-а+7                             4(а-1)-4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7а-4-7а                                 15+а-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5а-(3+2а)                              5а-3(2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10а-2(3-а)                             (6а-2)–(3а+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се ли выражения можно разбить по парам? Почему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Как нужно изменить условие последнего примера левог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толбика, чтобы соединение стало возможным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10а-2(3+а)  или   6а-2(3-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7" name="Прямая со стрелкой 6"/>
          <p:cNvCxnSpPr/>
          <p:nvPr/>
        </p:nvCxnSpPr>
        <p:spPr>
          <a:xfrm flipV="1">
            <a:off x="3285720" y="2999880"/>
            <a:ext cx="1786680" cy="286560"/>
          </a:xfrm>
          <a:prstGeom prst="straightConnector1">
            <a:avLst/>
          </a:prstGeom>
          <a:ln w="9360">
            <a:solidFill>
              <a:srgbClr val="0037a4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Прямая со стрелкой 8"/>
          <p:cNvCxnSpPr/>
          <p:nvPr/>
        </p:nvCxnSpPr>
        <p:spPr>
          <a:xfrm>
            <a:off x="3285720" y="3000240"/>
            <a:ext cx="1715400" cy="2865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9" name="Прямая со стрелкой 10"/>
          <p:cNvCxnSpPr/>
          <p:nvPr/>
        </p:nvCxnSpPr>
        <p:spPr>
          <a:xfrm>
            <a:off x="3428640" y="3571920"/>
            <a:ext cx="171540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4ba88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      </a:t>
            </a:r>
            <a:endParaRPr b="1" lang="en-US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375439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именения знан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ино можно использовать и на закреплении материала, и на этап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именения знани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 пустом окошке последней карточки можно записать «нужное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лово или понятие и рассказать исторические сведения( лучш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ученики расскажут сами, получив накануне индивидуально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).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полнительные сведения познавательного характера способствую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активности учащихся, т.к. способствует пониманию межпредметн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вязей, расширяет кругозор, способствует общему развитию.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1643040" y="2071800"/>
            <a:ext cx="1500120" cy="500040"/>
          </a:xfrm>
          <a:prstGeom prst="rect">
            <a:avLst/>
          </a:prstGeom>
          <a:solidFill>
            <a:srgbClr val="ffff00"/>
          </a:solidFill>
          <a:ln w="42480">
            <a:solidFill>
              <a:srgbClr val="3754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4"/>
          <p:cNvSpPr/>
          <p:nvPr/>
        </p:nvSpPr>
        <p:spPr>
          <a:xfrm>
            <a:off x="5072040" y="2857680"/>
            <a:ext cx="1714680" cy="500040"/>
          </a:xfrm>
          <a:prstGeom prst="rect">
            <a:avLst/>
          </a:prstGeom>
          <a:solidFill>
            <a:srgbClr val="bfbfb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2214720" y="2857680"/>
            <a:ext cx="1571400" cy="500040"/>
          </a:xfrm>
          <a:prstGeom prst="rect">
            <a:avLst/>
          </a:prstGeom>
          <a:solidFill>
            <a:srgbClr val="de9898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Прямоугольник 16"/>
          <p:cNvSpPr/>
          <p:nvPr/>
        </p:nvSpPr>
        <p:spPr>
          <a:xfrm>
            <a:off x="3786120" y="1928880"/>
            <a:ext cx="1643040" cy="500040"/>
          </a:xfrm>
          <a:prstGeom prst="rect">
            <a:avLst/>
          </a:prstGeom>
          <a:solidFill>
            <a:srgbClr val="00b050"/>
          </a:solidFill>
          <a:ln w="42480">
            <a:solidFill>
              <a:srgbClr val="527e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Прямоугольник 17"/>
          <p:cNvSpPr/>
          <p:nvPr/>
        </p:nvSpPr>
        <p:spPr>
          <a:xfrm>
            <a:off x="2428920" y="3714840"/>
            <a:ext cx="1643040" cy="500040"/>
          </a:xfrm>
          <a:prstGeom prst="rect">
            <a:avLst/>
          </a:prstGeom>
          <a:solidFill>
            <a:srgbClr val="47cccf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Прямоугольник 18"/>
          <p:cNvSpPr/>
          <p:nvPr/>
        </p:nvSpPr>
        <p:spPr>
          <a:xfrm>
            <a:off x="5286240" y="3643200"/>
            <a:ext cx="1714680" cy="500040"/>
          </a:xfrm>
          <a:prstGeom prst="rect">
            <a:avLst/>
          </a:prstGeom>
          <a:solidFill>
            <a:srgbClr val="ffc00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оугольник 19"/>
          <p:cNvSpPr/>
          <p:nvPr/>
        </p:nvSpPr>
        <p:spPr>
          <a:xfrm>
            <a:off x="6143760" y="2071800"/>
            <a:ext cx="1571400" cy="500040"/>
          </a:xfrm>
          <a:prstGeom prst="rect">
            <a:avLst/>
          </a:prstGeom>
          <a:solidFill>
            <a:srgbClr val="00b0f0"/>
          </a:solidFill>
          <a:ln w="424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21"/>
          <p:cNvSpPr/>
          <p:nvPr/>
        </p:nvSpPr>
        <p:spPr>
          <a:xfrm>
            <a:off x="2391480" y="2071800"/>
            <a:ext cx="180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Прямая соединительная линия 24"/>
          <p:cNvSpPr/>
          <p:nvPr/>
        </p:nvSpPr>
        <p:spPr>
          <a:xfrm flipH="1" flipV="1">
            <a:off x="2391840" y="20714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28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33"/>
          <p:cNvSpPr/>
          <p:nvPr/>
        </p:nvSpPr>
        <p:spPr>
          <a:xfrm>
            <a:off x="4606920" y="1928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Прямая соединительная линия 43"/>
          <p:cNvSpPr/>
          <p:nvPr/>
        </p:nvSpPr>
        <p:spPr>
          <a:xfrm>
            <a:off x="2428920" y="2286000"/>
            <a:ext cx="7128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Прямая соединительная линия 45"/>
          <p:cNvSpPr/>
          <p:nvPr/>
        </p:nvSpPr>
        <p:spPr>
          <a:xfrm flipH="1">
            <a:off x="4608000" y="2428920"/>
            <a:ext cx="1800" cy="1440"/>
          </a:xfrm>
          <a:prstGeom prst="line">
            <a:avLst/>
          </a:prstGeom>
          <a:ln w="9360">
            <a:solidFill>
              <a:srgbClr val="66a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Прямая соединительная линия 50"/>
          <p:cNvSpPr/>
          <p:nvPr/>
        </p:nvSpPr>
        <p:spPr>
          <a:xfrm>
            <a:off x="6928560" y="207180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Прямая соединительная линия 52"/>
          <p:cNvSpPr/>
          <p:nvPr/>
        </p:nvSpPr>
        <p:spPr>
          <a:xfrm>
            <a:off x="2998800" y="28576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ая соединительная линия 54"/>
          <p:cNvSpPr/>
          <p:nvPr/>
        </p:nvSpPr>
        <p:spPr>
          <a:xfrm>
            <a:off x="5928480" y="28576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56"/>
          <p:cNvSpPr/>
          <p:nvPr/>
        </p:nvSpPr>
        <p:spPr>
          <a:xfrm>
            <a:off x="3249720" y="37162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Прямая соединительная линия 58"/>
          <p:cNvSpPr/>
          <p:nvPr/>
        </p:nvSpPr>
        <p:spPr>
          <a:xfrm>
            <a:off x="6143760" y="364500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67"/>
          <p:cNvSpPr/>
          <p:nvPr/>
        </p:nvSpPr>
        <p:spPr>
          <a:xfrm>
            <a:off x="1785960" y="2143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Box 68"/>
          <p:cNvSpPr/>
          <p:nvPr/>
        </p:nvSpPr>
        <p:spPr>
          <a:xfrm>
            <a:off x="2286000" y="20718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ба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ить 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70"/>
          <p:cNvSpPr/>
          <p:nvPr/>
        </p:nvSpPr>
        <p:spPr>
          <a:xfrm>
            <a:off x="6215040" y="207180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8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Box 69"/>
          <p:cNvSpPr/>
          <p:nvPr/>
        </p:nvSpPr>
        <p:spPr>
          <a:xfrm>
            <a:off x="3643200" y="1857240"/>
            <a:ext cx="18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ножить      н                  на (-2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Box 74"/>
          <p:cNvSpPr/>
          <p:nvPr/>
        </p:nvSpPr>
        <p:spPr>
          <a:xfrm>
            <a:off x="5000760" y="2857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7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Box 79"/>
          <p:cNvSpPr/>
          <p:nvPr/>
        </p:nvSpPr>
        <p:spPr>
          <a:xfrm>
            <a:off x="2071800" y="27860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     выче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-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Box 82"/>
          <p:cNvSpPr/>
          <p:nvPr/>
        </p:nvSpPr>
        <p:spPr>
          <a:xfrm>
            <a:off x="2214720" y="36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25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extBox 83"/>
          <p:cNvSpPr/>
          <p:nvPr/>
        </p:nvSpPr>
        <p:spPr>
          <a:xfrm>
            <a:off x="3143160" y="3714840"/>
            <a:ext cx="10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Разделить на (-5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Box 85"/>
          <p:cNvSpPr/>
          <p:nvPr/>
        </p:nvSpPr>
        <p:spPr>
          <a:xfrm>
            <a:off x="5500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-5     ВИ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обобщения и систематизации знаний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обеспечить формирование у учащихся не тольк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ычислительных навыков, но и понимания полученных знани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еспечить понимание внутрипредметных и межпредметны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вяз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апример, геометрическая задача следующего содержани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Чему может быть равен периметр равнобедренного треуго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ика, если две его стороны равны 4см и 3см» решаетс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 помощью уравнения. Необходимо тщательно пропис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этап составления и решения уравн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акже задача поискового характера, важно, чтобы дети увидел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ами два способа реш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едующие задания предполагают понимание понятий и определений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1) из предложенных терминов выбрать два, которые наиболе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точно определяют понятие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УРАВНЕН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СУММА    РАВЕНСТВО     ПРОИЗВЕДЕНИЕ  НЕИЗВЕСТНОЕ   КОР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2) заполнить пропуски в предложени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Уравнение вида  _ х +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_ +_ =0 называется квадратным, где а __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х -___________ , 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a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b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,</a:t>
            </a:r>
            <a:r>
              <a:rPr b="0" lang="en-US" sz="1400" spc="-1" strike="noStrike">
                <a:solidFill>
                  <a:srgbClr val="00206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-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______________ уравнение называется приведенным, если 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« Квадратное уравнение станет линейным, если _______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информации о домашнем задан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беспечить понимание учащимися содержания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способов выполнения домашнего зад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Если уж задавать - то с максимальной пользой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Домашнее задание может быт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разноуровнев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индивидуаль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домашнее задание с инструкци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творческо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5439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юбое домашнее задание нужно обсудить. Если возникли вопросы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о найти в «копилке»( ведем в конце тетради) образц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ыполнения аналогичных зада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одведения итог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оценить работу всего класса и отдельных учащихс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язательно отметить и </a:t>
            </a:r>
            <a:r>
              <a:rPr b="0" lang="ru-RU" sz="1600" spc="-1" strike="noStrike">
                <a:solidFill>
                  <a:srgbClr val="9d3232"/>
                </a:solidFill>
                <a:latin typeface="Verdana"/>
              </a:rPr>
              <a:t>похвалить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тех детей, которы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проявили активность на уроке, даже если что-то не получи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лось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рефлексии( конец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Задачи этапа- способствовать осознанию детьми своего эмоциональ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ного состояния, своей деятельности, взаимодействия с учителе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и одноклассни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 конце урока выразить свои впечат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об общей работе и своей личной, ответив на вопрос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1. Как я оцениваю свою работу на урок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 полную силу, своей работой удовлетворе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Работал вполсил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работа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2. Нравится ли такой вид работ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 оч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                    </a:t>
            </a:r>
            <a:r>
              <a:rPr b="0" lang="ru-RU" sz="1400" spc="-1" strike="noStrike">
                <a:solidFill>
                  <a:srgbClr val="375439"/>
                </a:solidFill>
                <a:latin typeface="Verdana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предложить детям составить предложение, в котором вс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слова начинаются с одной букв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Вот ветер все воет, вьюжит.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Предложение можно составить по теме урок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                             </a:t>
            </a: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Дружно делим дроб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Возможно и такое задание: составить как можно больше слов  из сл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                                            </a:t>
            </a:r>
            <a:r>
              <a:rPr b="0" lang="ru-RU" sz="1400" spc="-1" strike="noStrike">
                <a:solidFill>
                  <a:srgbClr val="1c4426"/>
                </a:solidFill>
                <a:latin typeface="Verdana"/>
              </a:rPr>
              <a:t>ТРАНСПОРТИР ( на врем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Verdana"/>
              </a:rPr>
              <a:t>Такая работа обязательно вызовет положительные эмоции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Verdana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   </a:t>
            </a: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49968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атематика – один из предметов, который вызывает значительные затруднения у большинства учащихс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обучении детей с интеллектуальными нарушениями нельзя ожидать, что навыки, умения, представления об окружающем удастся сформирова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 детей в полном объем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зависимости от индивидуальных особенностей,  ребенок может достигать определенного уровня успешно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 том или ином виде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03280" y="529920"/>
            <a:ext cx="8183520" cy="5041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ррекционные классы созданы для обучения и воспитания детей, у которых при потенциально сохранных возможностях интеллектуального развития наблюдае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лабость памяти, вним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ость темпа и подвиж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снижена работоспособ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недостаточна познавательная деятель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1919"/>
                </a:solidFill>
                <a:latin typeface="Verdana"/>
              </a:rPr>
              <a:t>плохо развита эмоционально-личностная сф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213840"/>
            <a:ext cx="8183520" cy="1428840"/>
          </a:xfrm>
          <a:prstGeom prst="rect">
            <a:avLst/>
          </a:prstGeom>
          <a:gradFill rotWithShape="0">
            <a:gsLst>
              <a:gs pos="0">
                <a:srgbClr val="759475"/>
              </a:gs>
              <a:gs pos="100000">
                <a:srgbClr val="ace5ac"/>
              </a:gs>
            </a:gsLst>
            <a:lin ang="16200000"/>
          </a:gra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ррекционная работа с детьми должна вестись по следующим направлениям:</a:t>
            </a:r>
            <a:endParaRPr b="1" lang="en-US" sz="32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171432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индивидуального подхода к дет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едотвращение наступления утомл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ование методов, с помощью которых можно максимально активизировать познавательную деятельность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явление особого педагогического такта. Важно подмечать и поощрять успехи детей, помогать каждому ребенку, развивать в нем веру в собственные силы и возмож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еспечивать обогащение детей предметными знан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спользование развивающих игр, упражнений с конкретными примерами и т. д.) при изучении математи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214200"/>
            <a:ext cx="8183520" cy="928800"/>
          </a:xfrm>
          <a:prstGeom prst="rect">
            <a:avLst/>
          </a:prstGeom>
          <a:solidFill>
            <a:srgbClr val="a3cad4"/>
          </a:solidFill>
          <a:ln w="9360">
            <a:solidFill>
              <a:srgbClr val="a9d3a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деляют 13 этапов уро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в коррекционных классах:</a:t>
            </a:r>
            <a:endParaRPr b="1" lang="en-US" sz="24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42600" y="157176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рганизационный этап(начало урока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оверки домашнего задан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устного сче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актуализации субъективного опыта учащихс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зучения нового материал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закрепления, тренировки и отработки уме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физкультминутк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рименения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обобщения и систематизации знани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контроля и самоконтрол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информации о домашнем задан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подведения итогов заняти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Этап рефлексии(конец урока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мбинируя эти этапы в соответствии с логикой занятия и используя различные педагогические техники, можно получить разнообразные варианты уроков математики в коррекционных классах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buClr>
                <a:srgbClr val="72a376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Организационный этап (начало урок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- обеспечить комфортную внешнюю обстановку для                              работы, обеспечить положительный эмоциональный настр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«Вход в урок» может быть разнообразным в зависимости от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раста и подготовки учащихся. Когда класс слабый, трудн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настраивается, то начинать урок лучше всегда определенны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ом, а если класс слажен, то начало урока можно разн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образи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проверки домашнего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- установить правильность, полноту и осознанность выполнения домашнего задания всеми детьми; выявить пробелы в знаниях и способах деятельности учащихся; определить причины возникновения затруднений; устранить(по возможности) обнаруженные пробелы; обеспечить рефлексию учащихся по поводу своих способов решений и своих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озможно предложить учащимся выбрать из нескольких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вариантов ответов правильный(в зависимости от изучаем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темы); показательный ответ; устный опрос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Важно использовать наглядность и образцы решени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                  </a:t>
            </a:r>
            <a:r>
              <a:rPr b="0" lang="ru-RU" sz="1600" spc="-1" strike="noStrike">
                <a:solidFill>
                  <a:srgbClr val="7030a0"/>
                </a:solidFill>
                <a:latin typeface="Verdana"/>
              </a:rPr>
              <a:t>( как и на любом другом этапе урока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5000400"/>
            <a:ext cx="8183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,  домашним заданием было решить уравнения или найти нули функ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х²-48=0          х²+4=-5х      4х²+1=0      у=3х²+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рточки с условиями и возможные варианты решения            ( правильное и с типичными ошибками) прикреплены к магнитной доске и учащиеся должны найти правильное решение заданий, сверив с решениями в тетрадя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этом этапе важно обсудить не только правильное решение, но и указать , что неверно в других реш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как домашнее задание в классах коррекции не может быть очень объемным, то такой способ проверки домашнего задания очень удобен и не занимает много време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же обязательно нужно дать время детям на исправление ошибок в тетрад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8760" y="0"/>
            <a:ext cx="8286480" cy="685800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дачи этапа – совершенствование навыков устных вычислений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закрепление математических понятий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Если хорошо проведен устный счет, то учащиеся активны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ru-RU" sz="1600" spc="-1" strike="noStrike">
                <a:solidFill>
                  <a:srgbClr val="002060"/>
                </a:solidFill>
                <a:latin typeface="Verdana"/>
              </a:rPr>
              <a:t>готовы к восприятию нового материала.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устный счет проводится в такой форме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йти сумму чисел 5 и (-3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ить число 8 в 2 ра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какому числу надо прибавить (-20), чтобы получилось число (-25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у равна разность чисел (-3) и 7 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зусловно, отрабатываются вычислительные навыки, но активность учащихся скорее будет снижаться, если использовать только такие виды работы. Учащиеся коррекционных классов плохо и с большим трудом усваивают задания на слух, следует учитывать это, а также не перегружать задания уровнем слож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уделить особое внимание приемам, активизирующим деятельность учащихся, обязательно проговаривая каждое правильное решение. Например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) даны числа  (-3) и 0,2. Какие действия можно выполнить с этими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ами? Выполнить возможные действ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) между числами расставить знаки математических действий так, чтобы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венства были верными:  3    4 = -1              0,5    (-1)= -0,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¾   ¼ = ½              10      (-18)= 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тать примеры, в которых находили сумму, разность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) произведение корней какого из уравнений равно -4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+4=0                             2х²+х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²-3х-4=0                        х²-4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) соотнести условие примера с одним из предложенных ответ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²∙а­                        а             а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¹²:а                        а­           а­¹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9588"/>
            </a:gs>
            <a:gs pos="100000">
              <a:srgbClr val="f3f4e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84ba88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428760"/>
            <a:ext cx="8286480" cy="6000480"/>
          </a:xfrm>
          <a:prstGeom prst="rect">
            <a:avLst/>
          </a:prstGeom>
          <a:solidFill>
            <a:srgbClr val="a3cad4"/>
          </a:solidFill>
          <a:ln w="9360">
            <a:solidFill>
              <a:srgbClr val="52b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                             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Этап устного сче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5) Возможно использовать графический диктан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сли пример решен верно, то ставим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,если нет, то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6 ∙0,3=0,3                             4)1,5∙100=15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12:0,2=60                                5) 5х²+х²=5х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-3-(-5)=2                                 6)число 5 составляет 20% от 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люч к ответам: _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^^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_ _ _ ( или ставить + или -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6) Устный счет возможно выполнить и 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мощью цепочки действий, а правильны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вет выбрать из предложенны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24,8-5х              -5х-1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5х-23                -5-5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7) Задачи устного счета могут нос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лекательный характер.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Винни-Пух и Пятачок собрали 30 шишек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ставило треть всех шишек под елкой.Сколько всего шишек было под елкой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Verdana"/>
              </a:rPr>
              <a:t>Можно использовать математические диктанты, перфокарту и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c216d"/>
                </a:solidFill>
                <a:latin typeface="Verdana"/>
              </a:rPr>
              <a:t>Главное – постоянное обсуждение происходящих действий, включение детей в диало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9" name="Схема 7" descr=""/>
          <p:cNvPicPr/>
          <p:nvPr/>
        </p:nvPicPr>
        <p:blipFill>
          <a:blip r:embed="rId1"/>
          <a:stretch/>
        </p:blipFill>
        <p:spPr>
          <a:xfrm>
            <a:off x="4853160" y="2262240"/>
            <a:ext cx="3584520" cy="246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9:06:42Z</dcterms:created>
  <dc:creator>Self</dc:creator>
  <dc:description/>
  <dc:language>en-US</dc:language>
  <cp:lastModifiedBy>Плотникова З.Л.</cp:lastModifiedBy>
  <dcterms:modified xsi:type="dcterms:W3CDTF">2012-02-17T09:34:54Z</dcterms:modified>
  <cp:revision>147</cp:revision>
  <dc:subject/>
  <dc:title>Слайд 1</dc:title>
</cp:coreProperties>
</file>