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827-C3C8-4C42-A9AC-F7A86000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037-439E-4B8D-A151-B43FE1C3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84B-0659-45C0-89C3-00E901B4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A87-4FF6-4CF9-9F5C-4600E037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98AD-C8E3-4E2F-B866-7196F284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1886-3035-4D12-9B6C-C47B6BD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F10-0849-42BF-B500-1FB1D053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CC2-9A60-4D53-A370-39747A20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B3AF-A082-400A-872A-17858A65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E844-9963-4B23-84F9-01EE2195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4A89-0DCE-4726-8526-CB508AF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0B0-5124-4555-9958-E2475E3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F29-A5FF-4A8F-A975-B9E077A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3C70-BAB1-456B-9BC4-64FBF97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4988-5C4C-47B1-B636-256E09DC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3AC4-A67E-4E3C-B76F-2BB7FE7C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58B0-8F2A-49FF-8D57-1A2F12AF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C5F6-FC34-425F-AB11-72CF42E6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36A8-223F-42C5-81D7-DAC8A34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A0E9-6142-4A18-ADA9-2161261D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062C-BCBD-492C-9473-9ABAF897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58AA-A5D1-48F6-9C19-E9AAFFF3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8F5-E08F-494A-89E0-62B45CD8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4D78-7A13-43EF-B5B4-71E784D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DEBD-C4DB-4B6C-B49C-444A6E4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B402-531A-4469-802F-AF7B08E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3E33-F3BE-45A9-BD5A-16C6773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92FF-83CA-40C0-9FEB-DA6171C7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9EDA-5988-4F9A-B2A4-006070E2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B0E9-3182-4930-9DEE-B6209E68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4AB98-8820-4FB4-A330-B68A8692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8DBE-3AE9-4B93-9A5F-FBC077E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408A-E79A-4907-AEFF-95987478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7AA-DC5E-4693-9849-7A343513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D0B3-D14B-4988-AE8B-2D18EED5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7FCF-282A-4B90-A51E-41DC012D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661F3-411C-46B0-9066-14F76114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1AFA-AD6F-4D43-B8C3-94F13E2D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6669-3B6C-447D-8389-77F672D0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E14B-4AC8-4765-99A7-840F790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391D-DD37-46EA-B920-91D6A27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AD56-C2D9-4742-AEA4-845C49F8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E122-D078-46A2-8CD6-62168A92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3E48-B495-4A4F-941D-845B2EA5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10E-1D46-4756-9984-2534809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FFDE-D5E8-4099-A3FC-BD5C8AAB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7D243-5688-42CD-9C45-B64F250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E145B-8E85-4310-BEC6-1DC14EF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C9A6-BB8F-46F1-A56C-13299FA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132D-4665-46AF-A0CB-4A525A5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CBEBC-FF42-4292-9AE4-09E5C78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2265-E630-431D-AFC8-6162ADE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7FE8-4087-4A18-9DF5-A7283E8C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9B8A-B039-4C41-BB21-5176C0E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CFD7-2AF1-4C7D-9F4C-0A4FCF52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4E6-1FFA-4F17-8418-B96F10D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D203-89BA-48BF-9C81-2A6EE1D7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5AB-2BE4-489B-A7CF-34214E4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D48-2A47-472D-9ED1-1CF8295D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839-A3E2-4681-9D5F-7F898F7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D2F7-D78C-4891-A064-DD98FC364955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EFB9-0B27-4982-96EA-04EC5BADC2D3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6855-3C0F-4528-B4B3-6C05362FD86B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242D-3F38-4816-8BAD-BD3477C15EA2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949-0267-4284-A555-1DD711BCF2CD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2142720"/>
            <a:ext cx="7772400" cy="2714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84ba88"/>
                </a:solidFill>
                <a:latin typeface="Verdana"/>
              </a:rPr>
              <a:t>Формы  работы  на  уроках  математики </a:t>
            </a:r>
            <a:br>
              <a:rPr sz="4100"/>
            </a:br>
            <a:r>
              <a:rPr b="1" lang="ru-RU" sz="4100" spc="-1" strike="noStrike">
                <a:solidFill>
                  <a:srgbClr val="84ba88"/>
                </a:solidFill>
                <a:latin typeface="Verdana"/>
              </a:rPr>
              <a:t>в  коррекционных  классах</a:t>
            </a:r>
            <a:endParaRPr b="1" lang="en-US" sz="41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54291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Учитель  математики  ГБОУ  СОШ № 2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Бадаева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мотивацию учения школьников; обеспе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чить включение детей в совместную деятельность по определению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целей ур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объяснить учащимся цели урока одновременно с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общением темы занятия; сообщить цели в виде проблем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если правильно найдете корни уравнений и заполни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аблицу ответов, то сможете прочитать тему ур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35–х=17           У               29+х=45          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–37=18           Е               90–у=62         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31+у=16+44    Ж               80–х=19+21    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40–3=с+13       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Это же задание возможно дать на устном счете, где над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будет расположить корни уравнений по возрастанию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ставить слово (изменив соответствие букв в  заданиях)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14760" y="4214880"/>
          <a:ext cx="4143240" cy="68112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выяснить тему урока следующим образо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3+18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       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120:4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·9=630            500-30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исать названия неизвестных компоне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(сумма, частное, множитель, раз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Одно из этих слов лишнее в логической цепочке. Подумайте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что это за слово и каким его нужно заменить. Почему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(множитель – произведение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Произведение – это результат какого действи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егодня на уроке и будем   говорить об  УМНОЖЕ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изучения нового матери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восприятие, осмысление и первич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поминание нового материал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 изучении новых геометрических фигур очень хорошо исполь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овать следующий вид работ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К доске выходит ребенок и встает спиной к ней. На до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итель делает рисунок, например, параллелограмм, отметив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что противоположные стороны равны и параллельн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ащиеся должны, не называя эту фигуру, объяснить стояще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 доски отличительные свойства фигуры так, чтоб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еник смог назвать эту фигуру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осле этого второй ученик пытается отгадать, что же з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игура теперь на доске, если дети пытаются описать отлич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ельные свойства ромба по рисунку, а такую фигуру еще н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изуча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ая соединительная линия 6"/>
          <p:cNvSpPr/>
          <p:nvPr/>
        </p:nvSpPr>
        <p:spPr>
          <a:xfrm flipV="1">
            <a:off x="5143680" y="2928960"/>
            <a:ext cx="144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V="1">
            <a:off x="5143680" y="2928960"/>
            <a:ext cx="144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H="1" flipV="1">
            <a:off x="5857920" y="4357800"/>
            <a:ext cx="7128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ая соединительная линия 20"/>
          <p:cNvSpPr/>
          <p:nvPr/>
        </p:nvSpPr>
        <p:spPr>
          <a:xfrm flipH="1" flipV="1">
            <a:off x="5785920" y="4214520"/>
            <a:ext cx="142920" cy="14292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ffff00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закрепления, тренировки и отработки ум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закрепление учащимися знаний и способов                  действий,  которые им необходимы для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здать условия для выявления школьниками индивидуальны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пособов закрепления изучаемого материа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этом этапе важно следить за оформлением решений и  точ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едовать алгоритму выполнения заданий (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наглядность!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еники должны комментировать каждое действие, использу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авила. Позже дети пробуют самостоятельно выполн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аналогичные зад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отработку формул сокращенного умножения мож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ыполнить следующим образо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²= 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       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=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       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²=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Расположить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едующие выражения  в столбик с соответствующ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ормулой и применить ее:   (у-3)²       а²+2а+1       х²-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9+6с+с²     36-х²         (5+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)² 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 закреплении хорошо использовать вычислительную цепочк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ние с формулировкой «Найди ошибку!»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c5c1bb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Verdana"/>
              </a:rPr>
              <a:t>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физкультминутки  или отды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отдых учащихся в зависимости от вид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томления; настроить детей на дальнейшую работ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изкультминутка не должна надоедать, не слишком возбужд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етей. Если на уроке происходит частая смена вид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еятельности и материал не перегружен уровнем сложнос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о физкультминутку можно не проводит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этом этапе можно провести устную размин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етух, стоя на одной ноге, весит 3 кг. Сколько он весит, сто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двух ногах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колько концов у 3,5 палок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д рекой летели голубь, щука, две синицы, стриж и пя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глей. Сколько птиц летел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одной семье 2 отца и два сына. Сколько челов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семье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именен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- обеспечить усвоение учащимися знаний и способов    деятельности на уровне их применения в разнообразных ситуация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развивать у детей умение самостоятельно применять знания в раз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ичных ситуациях с учетом своего личного опы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предлагается упростить выражения и соединить т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тветы которых одинаков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2а+3-а+7                             4(а-1)-4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7а-4-7а                                 15+а-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5а-(3+2а)                              5а-3(2-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0а-2(3-а)                             (6а-2)–(3а+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се ли выражения можно разбить по парам? Почему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Как нужно изменить условие последнего примера лев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толбика, чтобы соединение стало возможны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10а-2(3+а)  или   6а-2(3-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6"/>
          <p:cNvCxnSpPr/>
          <p:nvPr/>
        </p:nvCxnSpPr>
        <p:spPr>
          <a:xfrm flipV="1">
            <a:off x="3285720" y="2999880"/>
            <a:ext cx="1786680" cy="286560"/>
          </a:xfrm>
          <a:prstGeom prst="straightConnector1">
            <a:avLst/>
          </a:prstGeom>
          <a:ln w="9360">
            <a:solidFill>
              <a:srgbClr val="0037a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8" name="Прямая со стрелкой 8"/>
          <p:cNvCxnSpPr/>
          <p:nvPr/>
        </p:nvCxnSpPr>
        <p:spPr>
          <a:xfrm>
            <a:off x="3285720" y="3000240"/>
            <a:ext cx="1715400" cy="286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9" name="Прямая со стрелкой 10"/>
          <p:cNvCxnSpPr/>
          <p:nvPr/>
        </p:nvCxnSpPr>
        <p:spPr>
          <a:xfrm>
            <a:off x="3428640" y="3571920"/>
            <a:ext cx="171540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ba88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375439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именен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ино можно использовать и на закреплении материала, и на этап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менения знан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пустом окошке последней карточки можно записать «нужно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ово или понятие и рассказать исторические сведения( лучш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если ученики расскажут сами, получив накануне индивидуаль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ашнее задание).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полнительные сведения познавательного характера способствую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активности учащихся, т.к. способствует пониманию межпредмет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вязей, расширяет кругозор, способствует общему развитию.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1643040" y="2071800"/>
            <a:ext cx="1500120" cy="500040"/>
          </a:xfrm>
          <a:prstGeom prst="rect">
            <a:avLst/>
          </a:prstGeom>
          <a:solidFill>
            <a:srgbClr val="ffff00"/>
          </a:solidFill>
          <a:ln w="42480">
            <a:solidFill>
              <a:srgbClr val="375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4"/>
          <p:cNvSpPr/>
          <p:nvPr/>
        </p:nvSpPr>
        <p:spPr>
          <a:xfrm>
            <a:off x="5072040" y="2857680"/>
            <a:ext cx="1714680" cy="500040"/>
          </a:xfrm>
          <a:prstGeom prst="rect">
            <a:avLst/>
          </a:prstGeom>
          <a:solidFill>
            <a:srgbClr val="bfbfbf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2214720" y="2857680"/>
            <a:ext cx="1571400" cy="500040"/>
          </a:xfrm>
          <a:prstGeom prst="rect">
            <a:avLst/>
          </a:prstGeom>
          <a:solidFill>
            <a:srgbClr val="de9898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3786120" y="1928880"/>
            <a:ext cx="1643040" cy="500040"/>
          </a:xfrm>
          <a:prstGeom prst="rect">
            <a:avLst/>
          </a:prstGeom>
          <a:solidFill>
            <a:srgbClr val="00b050"/>
          </a:solidFill>
          <a:ln w="42480">
            <a:solidFill>
              <a:srgbClr val="527e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Прямоугольник 17"/>
          <p:cNvSpPr/>
          <p:nvPr/>
        </p:nvSpPr>
        <p:spPr>
          <a:xfrm>
            <a:off x="2428920" y="3714840"/>
            <a:ext cx="1643040" cy="500040"/>
          </a:xfrm>
          <a:prstGeom prst="rect">
            <a:avLst/>
          </a:prstGeom>
          <a:solidFill>
            <a:srgbClr val="47cccf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Прямоугольник 18"/>
          <p:cNvSpPr/>
          <p:nvPr/>
        </p:nvSpPr>
        <p:spPr>
          <a:xfrm>
            <a:off x="5286240" y="3643200"/>
            <a:ext cx="1714680" cy="500040"/>
          </a:xfrm>
          <a:prstGeom prst="rect">
            <a:avLst/>
          </a:prstGeom>
          <a:solidFill>
            <a:srgbClr val="ffc000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оугольник 19"/>
          <p:cNvSpPr/>
          <p:nvPr/>
        </p:nvSpPr>
        <p:spPr>
          <a:xfrm>
            <a:off x="6143760" y="2071800"/>
            <a:ext cx="1571400" cy="500040"/>
          </a:xfrm>
          <a:prstGeom prst="rect">
            <a:avLst/>
          </a:prstGeom>
          <a:solidFill>
            <a:srgbClr val="00b0f0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21"/>
          <p:cNvSpPr/>
          <p:nvPr/>
        </p:nvSpPr>
        <p:spPr>
          <a:xfrm>
            <a:off x="2391480" y="2071800"/>
            <a:ext cx="1800" cy="5000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ая соединительная линия 24"/>
          <p:cNvSpPr/>
          <p:nvPr/>
        </p:nvSpPr>
        <p:spPr>
          <a:xfrm flipH="1" flipV="1">
            <a:off x="2391840" y="20714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28"/>
          <p:cNvSpPr/>
          <p:nvPr/>
        </p:nvSpPr>
        <p:spPr>
          <a:xfrm>
            <a:off x="4606920" y="1928880"/>
            <a:ext cx="1440" cy="5000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33"/>
          <p:cNvSpPr/>
          <p:nvPr/>
        </p:nvSpPr>
        <p:spPr>
          <a:xfrm>
            <a:off x="4606920" y="19288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ая соединительная линия 43"/>
          <p:cNvSpPr/>
          <p:nvPr/>
        </p:nvSpPr>
        <p:spPr>
          <a:xfrm>
            <a:off x="2428920" y="2286000"/>
            <a:ext cx="7128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ая соединительная линия 45"/>
          <p:cNvSpPr/>
          <p:nvPr/>
        </p:nvSpPr>
        <p:spPr>
          <a:xfrm flipH="1">
            <a:off x="4608000" y="2428920"/>
            <a:ext cx="180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ая соединительная линия 50"/>
          <p:cNvSpPr/>
          <p:nvPr/>
        </p:nvSpPr>
        <p:spPr>
          <a:xfrm>
            <a:off x="6928560" y="20718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ая соединительная линия 52"/>
          <p:cNvSpPr/>
          <p:nvPr/>
        </p:nvSpPr>
        <p:spPr>
          <a:xfrm>
            <a:off x="2998800" y="28576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ая соединительная линия 54"/>
          <p:cNvSpPr/>
          <p:nvPr/>
        </p:nvSpPr>
        <p:spPr>
          <a:xfrm>
            <a:off x="5928480" y="28576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56"/>
          <p:cNvSpPr/>
          <p:nvPr/>
        </p:nvSpPr>
        <p:spPr>
          <a:xfrm>
            <a:off x="3249720" y="37162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Прямая соединительная линия 58"/>
          <p:cNvSpPr/>
          <p:nvPr/>
        </p:nvSpPr>
        <p:spPr>
          <a:xfrm>
            <a:off x="6143760" y="364500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67"/>
          <p:cNvSpPr/>
          <p:nvPr/>
        </p:nvSpPr>
        <p:spPr>
          <a:xfrm>
            <a:off x="1785960" y="2143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Box 68"/>
          <p:cNvSpPr/>
          <p:nvPr/>
        </p:nvSpPr>
        <p:spPr>
          <a:xfrm>
            <a:off x="2286000" y="20718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ба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ть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70"/>
          <p:cNvSpPr/>
          <p:nvPr/>
        </p:nvSpPr>
        <p:spPr>
          <a:xfrm>
            <a:off x="6215040" y="20718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8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Box 69"/>
          <p:cNvSpPr/>
          <p:nvPr/>
        </p:nvSpPr>
        <p:spPr>
          <a:xfrm>
            <a:off x="3643200" y="1857240"/>
            <a:ext cx="18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ножить      н                  на (-2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Box 74"/>
          <p:cNvSpPr/>
          <p:nvPr/>
        </p:nvSpPr>
        <p:spPr>
          <a:xfrm>
            <a:off x="5000760" y="2857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7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Box 79"/>
          <p:cNvSpPr/>
          <p:nvPr/>
        </p:nvSpPr>
        <p:spPr>
          <a:xfrm>
            <a:off x="2071800" y="27860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     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-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Box 82"/>
          <p:cNvSpPr/>
          <p:nvPr/>
        </p:nvSpPr>
        <p:spPr>
          <a:xfrm>
            <a:off x="2214720" y="3643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25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83"/>
          <p:cNvSpPr/>
          <p:nvPr/>
        </p:nvSpPr>
        <p:spPr>
          <a:xfrm>
            <a:off x="3143160" y="3714840"/>
            <a:ext cx="10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Разделить на (-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5"/>
          <p:cNvSpPr/>
          <p:nvPr/>
        </p:nvSpPr>
        <p:spPr>
          <a:xfrm>
            <a:off x="5500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-5     ВИ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обобщения и систематизации знаний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Задачи этапа- обеспечить формирование у учащихся не тольк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ычислительных навыков, но и понимания полученных знани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обеспечить понимание внутрипредметных и межпредмет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вяз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апример, геометрическая задача следующего содержани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Чему может быть равен периметр равнобедренного треуголь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ика, если две его стороны равны 4см и 3см» решаетс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 помощью уравнения. Необходимо тщательно пропис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этап составления и решения уравн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Также задача поискового характера, важно, чтобы дети увидел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ами два способа реш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ледующие задания предполагают понимание понятий и определени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1) из предложенных терминов выбрать два, которые наибол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точно определяют понятие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УРАВН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СУММА    РАВЕНСТВО     ПРОИЗВЕДЕНИЕ  НЕИЗВЕСТНОЕ   КОР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2) заполнить пропуски в предложени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Уравнение вида  _ х +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_ +_ =0 называется квадратным, где а __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х -___________ , 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a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,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,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- ___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 ______________ уравнение называется приведенным, если 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 Квадратное уравнение станет линейным, если ___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информации о домашнем зад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понимание учащимися содержания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пособов выполнения домашнего зад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9d3232"/>
                </a:solidFill>
                <a:latin typeface="Verdana"/>
              </a:rPr>
              <a:t>Если уж задавать - то с максимальной пользой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ашнее задание может бы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разноуровнев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индивидуаль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домашнее задание с инструкци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творческо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юбое домашнее задание нужно обсудить. Если возникли вопросы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о найти в «копилке»( ведем в конце тетради) образц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ыполнения аналогичных зада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одведения итог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ценить работу всего класса и отдельных учащих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язательно отметить и </a:t>
            </a:r>
            <a:r>
              <a:rPr b="0" lang="ru-RU" sz="1600" spc="-1" strike="noStrike">
                <a:solidFill>
                  <a:srgbClr val="9d3232"/>
                </a:solidFill>
                <a:latin typeface="Verdana"/>
              </a:rPr>
              <a:t>похвалить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тех детей, котор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оявили активность на уроке, даже если что-то не получ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ось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рефлексии( конец уро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Задачи этапа- способствовать осознанию детьми своего эмоциональ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ого состояния, своей деятельности, взаимодействия с учителе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и одноклассни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озможно предложить учащимся в конце урока выразить свои впечат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об общей работе и своей личной, ответив на вопрос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1. Как я оцениваю свою работу на урок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Работал в полную силу, своей работой удовлетворе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Работал вполси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 работа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2. Нравится ли такой вид работ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 оч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Можно предложить детям составить предложение, в котором вс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лова начинаются с одной букв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Вот ветер все воет, вьюжит.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Предложение можно составить по теме урок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Дружно делим дроб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озможно и такое задание: составить как можно больше слов  из сл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1c4426"/>
                </a:solidFill>
                <a:latin typeface="Verdana"/>
              </a:rPr>
              <a:t>ТРАНСПОРТИР ( на врем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Verdana"/>
              </a:rPr>
              <a:t>Такая работа обязательно вызовет положительные эмоции!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800" spc="-1" strike="noStrike">
                <a:solidFill>
                  <a:srgbClr val="002060"/>
                </a:solidFill>
                <a:latin typeface="Verdana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49968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атематика – один из предметов, который вызывает значительные затруднения у большинства учащих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обучении детей с интеллектуальными нарушениями нельзя ожидать, что навыки, умения, представления об окружающем удастся сформирова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 детей в полном объем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зависимости от индивидуальных особенностей,  ребенок может достигать определенного уровня успеш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том или ином виде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3280" y="52992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рекционные классы созданы для обучения и воспитания детей, у которых при потенциально сохранных возможностях интеллектуального развития наблюдае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слабость памяти, вним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недостаточность темпа и подвиж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снижена работоспособ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недостаточна познавательн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плохо развита эмоционально-личностная сф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213840"/>
            <a:ext cx="8183520" cy="1428840"/>
          </a:xfrm>
          <a:prstGeom prst="rect">
            <a:avLst/>
          </a:prstGeom>
          <a:gradFill rotWithShape="0">
            <a:gsLst>
              <a:gs pos="0">
                <a:srgbClr val="759475"/>
              </a:gs>
              <a:gs pos="100000">
                <a:srgbClr val="ace5ac"/>
              </a:gs>
            </a:gsLst>
            <a:lin ang="16200000"/>
          </a:gradFill>
          <a:ln w="9360">
            <a:solidFill>
              <a:srgbClr val="a9d3a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ррекционная работа с детьми должна вестись по следующим направлениям:</a:t>
            </a:r>
            <a:endParaRPr b="1" lang="en-US" sz="32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ение индивидуального подхода к дет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отвращение наступления утом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ование методов, с помощью которых можно максимально активизировать познавательную деятельность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явление особого педагогического такта. Важно подмечать и поощрять успехи детей, помогать каждому ребенку, развивать в нем веру в собственные силы и возмож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еспечивать обогащение детей предметными знан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спользование развивающих игр, упражнений с конкретными примерами и т. д.) при изучении математ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14200"/>
            <a:ext cx="8183520" cy="928800"/>
          </a:xfrm>
          <a:prstGeom prst="rect">
            <a:avLst/>
          </a:prstGeom>
          <a:solidFill>
            <a:srgbClr val="a3cad4"/>
          </a:solidFill>
          <a:ln w="9360">
            <a:solidFill>
              <a:srgbClr val="a9d3a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деляют 13 этапов уро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в коррекционных классах:</a:t>
            </a:r>
            <a:endParaRPr b="1" lang="en-US" sz="24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42600" y="157176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рганизационный этап(начало урока)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роверки домашнего задан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устного счет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изучения нового материа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закрепления, тренировки и отработки уме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физкультминут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рименения зна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обобщения и систематизации зна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контроля и самоконтрол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информации о домашнем задан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одведения итогов занят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рефлексии(конец урока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омбинируя эти этапы в соответствии с логикой занятия и используя различные педагогические техники, можно получить разнообразные варианты уроков математики в коррекционных классах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Организационный этап (начало уро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- обеспечить комфортную внешнюю обстановку для                              работы, обеспечить положительный эмоциональный настр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«Вход в урок» может быть разнообразным в зависимости от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раста и подготовки учащихся. Когда класс слабый, труд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страивается, то начинать урок лучше всегда определен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разом, а если класс слажен, то начало урока можно раз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рази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оверки домашнего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установить правильность, полноту и осознанность выполнения домашнего задания всеми детьми; выявить пробелы в знаниях и способах деятельности учащихся; определить причины возникновения затруднений; устранить(по возможности) обнаруженные пробелы; обеспечить рефлексию учащихся по поводу своих способов решений и своих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предложить учащимся выбрать из нескольких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ариантов ответов правильный(в зависимости от изучаем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емы); показательный ответ; устный опрос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Важно использовать наглядность и образцы решения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( как и на любом другом этапе урок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5000400"/>
            <a:ext cx="81835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 домашним заданием было решить уравнения или найти нули функ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х²-48=0          х²+4=-5х      4х²+1=0      у=3х²+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очки с условиями и возможные варианты решения            ( правильное и с типичными ошибками) прикреплены к магнитной доске и учащиеся должны найти правильное решение заданий, сверив с решениями в тетрадя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этом этапе важно обсудить не только правильное решение, но и указать , что неверно в других реше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как домашнее задание в классах коррекции не может быть очень объемным, то такой способ проверки домашнего задания очень удобен и не занимает много време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же обязательно нужно дать время детям на исправление ошибок в тетрад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устного с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– совершенствование навыков устных вычисл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крепление математических понятий.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Если хорошо проведен устный счет, то учащиеся активны и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готовы к восприятию нового материала.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устный счет проводится в такой форм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сумму чисел 5 и (-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ить число 8 в 2 ра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какому числу надо прибавить (-20), чтобы получилось число (-2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у равна разность чисел (-3) и 7 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зусловно, отрабатываются вычислительные навыки, но активность учащихся скорее будет снижаться, если использовать только такие виды работы. Учащиеся коррекционных классов плохо и с большим трудом усваивают задания на слух, следует учитывать это, а также не перегружать задания уровнем слож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уделить особое внимание приемам, активизирующим деятельность учащихся, обязательно проговаривая каждое правильное решение. Например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даны числа  (-3) и 0,2. Какие действия можно выполнить с этими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ами? Выполнить возможные действ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между числами расставить знаки математических действий так, чтобы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венства были верными:  3    4 = -1              0,5    (-1)= -0,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¾   ¼ = ½              10      (-18)= 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тать примеры, в которых находили сумму, разность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произведение корней какого из уравнений равно -4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+4=0                             2х²+х-4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²-3х-4=0                        х²-4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соотнести условие примера с одним из предложенных ответ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²∙а­                        а             а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¹²:а                        а­           а­¹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устного с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5) Возможно использовать графический дикт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пример решен верно, то ставим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,если нет, то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^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6 ∙0,3=0,3                             4)1,5∙100=15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12:0,2=60                                5) 5х²+х²=5х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-3-(-5)=2                                 6)число 5 составляет 20% от 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люч к ответам: _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^^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_ _ _ ( или ставить + или -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) Устный счет возможно выполнить и 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мощью цепочки действий, а правильны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вет выбрать из предложенны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24,8-5х              -5х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5х-23                -5-5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7) Задачи устного счета могут нос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лекательный характер.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Винни-Пух и Пятачок собрали 30 шишек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составило треть всех шишек под елкой.Сколько всего шишек было под елкой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Можно использовать математические диктанты, перфокарту и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c216d"/>
                </a:solidFill>
                <a:latin typeface="Verdana"/>
              </a:rPr>
              <a:t>Главное – постоянное обсуждение происходящих действий, включение детей в диало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9" name="Схема 7" descr=""/>
          <p:cNvPicPr/>
          <p:nvPr/>
        </p:nvPicPr>
        <p:blipFill>
          <a:blip r:embed="rId1"/>
          <a:stretch/>
        </p:blipFill>
        <p:spPr>
          <a:xfrm>
            <a:off x="4853160" y="2262240"/>
            <a:ext cx="3584520" cy="246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9:06:42Z</dcterms:created>
  <dc:creator>Self</dc:creator>
  <dc:description/>
  <dc:language>en-US</dc:language>
  <cp:lastModifiedBy>Плотникова З.Л.</cp:lastModifiedBy>
  <dcterms:modified xsi:type="dcterms:W3CDTF">2012-02-17T09:34:54Z</dcterms:modified>
  <cp:revision>147</cp:revision>
  <dc:subject/>
  <dc:title>Слайд 1</dc:title>
</cp:coreProperties>
</file>