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0E2-991C-4AF3-ACC5-AF60B11C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D38-72A7-40FF-94E4-A41EFAB0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E38-0E00-4D73-8C40-BE4A3333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17A-B8F7-4490-BA42-98BD8878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0ED7-2F56-47D0-BC61-36843880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4B0E-AC87-4937-BFE1-F137F727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3444-04B7-4C72-9548-8B1254B7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814D-CCE1-4B8C-996F-585F5F6A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3AD5-3065-4C52-A807-BB6F587A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ADCC-8A30-4438-8F22-452DC352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7644-7403-480F-AAE8-5E34CB72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300-888F-445F-860A-CE89D338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ED9D-D06A-42A4-A50E-ADF4B86F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0CA4-F1EC-436C-BA65-BDBDFADF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2679-5B83-4165-86A5-EC0A6403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C834-DDD3-40DB-B987-03B8E6C0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C4B6-0B66-40DA-AC61-5C430D1C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3E353-1E42-481B-854A-49362498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7AEFA-CE03-41CA-BCCD-96D22A4A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B3460-F120-4776-BE2F-69C2C4BF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37449-80F9-46F1-BB39-9263ED31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038DC-5E19-44A4-88B2-8E0E23D4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26D-ED7A-4E9E-9995-4B2484BA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169CB-0F33-4CD3-BAA4-EE907E03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8EF8A-A650-4942-875C-902952B7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3215C-DDF8-4995-B8F4-4123F65A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E17E4-7F1A-452D-AD4F-68A597E8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20838-E939-4072-9297-E14C5497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FDDF3-66A0-40A0-8F34-85297D8C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18C90-49FA-4D4E-BE4D-52B33168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5C15A-003E-47A6-9B6F-B828E931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BF951-5921-4182-9CBB-10F7E35D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B2BAC-D83B-4137-B405-E0213561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292-08EF-4736-88DF-08976EF8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714E4-EEBB-480D-A6AF-DCA67F91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3D6F4-5346-480F-A916-38C7DF0E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66CE8-7A3B-442E-AEE8-50B72BB1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846E7-D5EC-4DF1-AA08-56122F12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AC5ED-46BE-4871-A380-A7B82EF0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C43E7-AC57-454E-A6B7-ECB3EFA1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44B32-9564-4E6F-80E9-B9190F3A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468E9-1680-431E-A53E-46BCBAFE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8E006-2AB8-4F91-9DBC-0F96CDAE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75CAE-9966-427A-9AC1-EEC80AE1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AB3-F857-4B76-9868-EAD6B02A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65473-B15A-46A0-A548-A1F67447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C869C-1993-4156-8DF5-F89FA5A2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22225-4DE7-4C27-BE73-7083CC47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4B7E5-010B-4D3D-A1AE-F493D32C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64AE4-1217-43B8-94B3-1C3790F2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43B14-D2A6-41AB-943D-1CFD837E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0CD02-6DC5-45E0-9CCE-6566E912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F99DE-B684-4C77-848D-05896F82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7FCEC-5718-44C7-A85D-5725A3D2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22336-5BA5-46C8-AE6F-2E0BEAE7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C38-5392-43F1-B089-DFD13337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30A12-4725-4AEB-AA80-DCC5B034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4B1-BC41-44AE-9F25-EE17AB3B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D11-35BC-4F4F-B6D9-397DE3AA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CFE-A5FD-4B29-97A1-C23E9B4B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aae9a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aae9aa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bd3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9AD6-87DE-4C93-B621-F64A04C6BE41}" type="slidenum"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aae9a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aae9aa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bd3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B98F-D846-43DB-885B-8378DC1AA09D}" type="slidenum"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aae9a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aae9aa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bd3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A438-8A75-435D-A22A-77749CB828F6}" type="slidenum"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aae9a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aae9aa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bd3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9146-7B94-4179-8324-F02410BEF0C1}" type="slidenum"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aae9a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aae9aa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bd3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4179-F5D1-4644-A0B7-AC02FA156B51}" type="slidenum"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2142720"/>
            <a:ext cx="7772400" cy="2714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r>
              <a:rPr b="1" lang="ru-RU" sz="4100" spc="-1" strike="noStrike">
                <a:solidFill>
                  <a:srgbClr val="84ba88"/>
                </a:solidFill>
                <a:latin typeface="Verdana"/>
              </a:rPr>
              <a:t>Формы  работы  на  уроках  математики </a:t>
            </a:r>
            <a:br>
              <a:rPr sz="4100"/>
            </a:br>
            <a:r>
              <a:rPr b="1" lang="ru-RU" sz="4100" spc="-1" strike="noStrike">
                <a:solidFill>
                  <a:srgbClr val="84ba88"/>
                </a:solidFill>
                <a:latin typeface="Verdana"/>
              </a:rPr>
              <a:t>в  коррекционных  классах</a:t>
            </a:r>
            <a:endParaRPr b="1" lang="en-US" sz="41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542916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d7e7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d7e76"/>
                </a:solidFill>
                <a:latin typeface="Verdana"/>
              </a:rPr>
              <a:t>Учитель  математики  ГБОУ  СОШ № 2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d7e76"/>
                </a:solidFill>
                <a:latin typeface="Verdana"/>
              </a:rPr>
              <a:t>Бадаева Екатерина Виктор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актуализации субъективного опыта учащих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обеспечить мотивацию учения школьников; обеспе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чить включение детей в совместную деятельность по определению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целей уро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озможно объяснить учащимся цели урока одновременно с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ообщением темы занятия; сообщить цели в виде проблемног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пример, если правильно найдете корни уравнений и заполнит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таблицу ответов, то сможете прочитать тему уро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35–х=17           У               29+х=45          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–37=18           Е               90–у=62          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31+у=16+44    Ж               80–х=19+21    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40–3=с+13       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Это же задание возможно дать на устном счете, где над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будет расположить корни уравнений по возрастанию 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оставить слово (изменив соответствие букв в  заданиях)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714760" y="4214880"/>
          <a:ext cx="4143240" cy="68112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актуализации субъективного опыта учащих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озможно выяснить тему урока следующим образо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46d2"/>
                </a:solidFill>
                <a:latin typeface="Verdana"/>
              </a:rPr>
              <a:t>3+18=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?        </a:t>
            </a:r>
            <a:r>
              <a:rPr b="0" lang="ru-RU" sz="1600" spc="-1" strike="noStrike">
                <a:solidFill>
                  <a:srgbClr val="0046d2"/>
                </a:solidFill>
                <a:latin typeface="Verdana"/>
              </a:rPr>
              <a:t>120:4=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? </a:t>
            </a:r>
            <a:r>
              <a:rPr b="0" lang="ru-RU" sz="1600" spc="-1" strike="noStrike">
                <a:solidFill>
                  <a:srgbClr val="0046d2"/>
                </a:solidFill>
                <a:latin typeface="Verdana"/>
              </a:rPr>
              <a:t>          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?</a:t>
            </a:r>
            <a:r>
              <a:rPr b="0" lang="ru-RU" sz="1600" spc="-1" strike="noStrike">
                <a:solidFill>
                  <a:srgbClr val="0046d2"/>
                </a:solidFill>
                <a:latin typeface="Verdana"/>
              </a:rPr>
              <a:t>·9=630            500-30=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писать названия неизвестных компонент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(сумма, частное, множитель, разность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Одно из этих слов лишнее в логической цепочке. Подумайте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что это за слово и каким его нужно заменить. Почему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(множитель – произведение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Произведение – это результат какого действия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егодня на уроке и будем   говорить об  УМНОЖЕН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изучения нового материа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обеспечить восприятие, осмысление и первич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поминание нового материал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ри изучении новых геометрических фигур очень хорошо исполь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овать следующий вид работ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К доске выходит ребенок и встает спиной к ней. На доск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читель делает рисунок, например, параллелограмм, отметив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что противоположные стороны равны и параллельн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чащиеся должны, не называя эту фигуру, объяснить стоящем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 доски отличительные свойства фигуры так, чтоб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ченик смог назвать эту фигуру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осле этого второй ученик пытается отгадать, что же з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фигура теперь на доске, если дети пытаются описать отличи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тельные свойства ромба по рисунку, а такую фигуру еще н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изучал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Прямая соединительная линия 6"/>
          <p:cNvSpPr/>
          <p:nvPr/>
        </p:nvSpPr>
        <p:spPr>
          <a:xfrm flipV="1">
            <a:off x="5143680" y="2928960"/>
            <a:ext cx="1440" cy="14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Прямая соединительная линия 14"/>
          <p:cNvSpPr/>
          <p:nvPr/>
        </p:nvSpPr>
        <p:spPr>
          <a:xfrm flipV="1">
            <a:off x="5143680" y="2928960"/>
            <a:ext cx="1440" cy="14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 flipH="1" flipV="1">
            <a:off x="5857920" y="4357800"/>
            <a:ext cx="71280" cy="14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Прямая соединительная линия 20"/>
          <p:cNvSpPr/>
          <p:nvPr/>
        </p:nvSpPr>
        <p:spPr>
          <a:xfrm flipH="1" flipV="1">
            <a:off x="5785920" y="4214520"/>
            <a:ext cx="142920" cy="14292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9360">
            <a:solidFill>
              <a:srgbClr val="ffff00"/>
            </a:solidFill>
            <a:miter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закрепления, тренировки и отработки ум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обеспечить закрепление учащимися знаний и способов                  действий,  которые им необходимы для самостоятельной работ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оздать условия для выявления школьниками индивидуальных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пособов закрепления изучаемого материа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 этом этапе важно следить за оформлением решений и  точн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ледовать алгоритму выполнения заданий (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наглядность!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ченики должны комментировать каждое действие, использу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равила. Позже дети пробуют самостоятельно выполни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аналогичные зад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пример, отработку формул сокращенного умножения можн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ыполнить следующим образо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863d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)²= 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²</a:t>
            </a:r>
            <a:r>
              <a:rPr b="0" lang="en-US" sz="1600" spc="-1" strike="noStrike">
                <a:solidFill>
                  <a:srgbClr val="00863d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²       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²-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²=(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)(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)       (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863d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)²=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²</a:t>
            </a:r>
            <a:r>
              <a:rPr b="0" lang="en-US" sz="1600" spc="-1" strike="noStrike">
                <a:solidFill>
                  <a:srgbClr val="00863d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Расположить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ледующие выражения  в столбик с соответствующ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формулой и применить ее:   (у-3)²       а²+2а+1       х²-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9+6с+с²     36-х²         (5+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b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)² 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ри закреплении хорошо использовать вычислительную цепочк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ние с формулировкой «Найди ошибку!»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c5c1bb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030a0"/>
                </a:solidFill>
                <a:latin typeface="Verdana"/>
              </a:rPr>
              <a:t>               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физкультминутки  или отдых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обеспечить отдых учащихся в зависимости от вид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томления; настроить детей на дальнейшую работ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Физкультминутка не должна надоедать, не слишком возбужда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детей. Если на уроке происходит частая смена вид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деятельности и материал не перегружен уровнем сложности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то физкультминутку можно не проводить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 этом этапе можно провести устную разминк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етух, стоя на одной ноге, весит 3 кг. Сколько он весит, сто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 двух ногах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колько концов у 3,5 палок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д рекой летели голубь, щука, две синицы, стриж и пя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глей. Сколько птиц летел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 одной семье 2 отца и два сына. Сколько челове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 семье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применения зн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 - обеспечить усвоение учащимися знаний и способов    деятельности на уровне их применения в разнообразных ситуациях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развивать у детей умение самостоятельно применять знания в раз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личных ситуациях с учетом своего личного опыт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пример, предлагается упростить выражения и соединить те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ответы которых одинаков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2а+3-а+7                             4(а-1)-4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7а-4-7а                                 15+а-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5а-(3+2а)                              5а-3(2-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10а-2(3-а)                             (6а-2)–(3а+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се ли выражения можно разбить по парам? Почему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Как нужно изменить условие последнего примера левог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толбика, чтобы соединение стало возможным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     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10а-2(3+а)  или   6а-2(3-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7" name="Прямая со стрелкой 6"/>
          <p:cNvCxnSpPr/>
          <p:nvPr/>
        </p:nvCxnSpPr>
        <p:spPr>
          <a:xfrm flipV="1">
            <a:off x="3285720" y="2999880"/>
            <a:ext cx="1786680" cy="286560"/>
          </a:xfrm>
          <a:prstGeom prst="straightConnector1">
            <a:avLst/>
          </a:prstGeom>
          <a:ln w="9360">
            <a:solidFill>
              <a:srgbClr val="0037a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8" name="Прямая со стрелкой 8"/>
          <p:cNvCxnSpPr/>
          <p:nvPr/>
        </p:nvCxnSpPr>
        <p:spPr>
          <a:xfrm>
            <a:off x="3285720" y="3000240"/>
            <a:ext cx="1715400" cy="28656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9" name="Прямая со стрелкой 10"/>
          <p:cNvCxnSpPr/>
          <p:nvPr/>
        </p:nvCxnSpPr>
        <p:spPr>
          <a:xfrm>
            <a:off x="3428640" y="3571920"/>
            <a:ext cx="1715400" cy="286560"/>
          </a:xfrm>
          <a:prstGeom prst="straightConnector1">
            <a:avLst/>
          </a:prstGeom>
          <a:ln w="93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ba88"/>
                </a:solidFill>
                <a:latin typeface="Verdana"/>
              </a:rPr>
              <a:t>                                                                                                                                                                                                 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9360">
            <a:solidFill>
              <a:srgbClr val="375439"/>
            </a:solidFill>
            <a:miter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применения зн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Домино можно использовать и на закреплении материала, и на этап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рименения знани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 пустом окошке последней карточки можно записать «нужное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лово или понятие и рассказать исторические сведения( лучше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если ученики расскажут сами, получив накануне индивидуаль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домашнее задание).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Дополнительные сведения познавательного характера способствую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активности учащихся, т.к. способствует пониманию межпредметны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вязей, расширяет кругозор, способствует общему развитию.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Прямоугольник 9"/>
          <p:cNvSpPr/>
          <p:nvPr/>
        </p:nvSpPr>
        <p:spPr>
          <a:xfrm>
            <a:off x="1643040" y="2071800"/>
            <a:ext cx="1500120" cy="500040"/>
          </a:xfrm>
          <a:prstGeom prst="rect">
            <a:avLst/>
          </a:prstGeom>
          <a:solidFill>
            <a:srgbClr val="ffff00"/>
          </a:solidFill>
          <a:ln w="42480">
            <a:solidFill>
              <a:srgbClr val="375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Прямоугольник 14"/>
          <p:cNvSpPr/>
          <p:nvPr/>
        </p:nvSpPr>
        <p:spPr>
          <a:xfrm>
            <a:off x="5072040" y="2857680"/>
            <a:ext cx="1714680" cy="500040"/>
          </a:xfrm>
          <a:prstGeom prst="rect">
            <a:avLst/>
          </a:prstGeom>
          <a:solidFill>
            <a:srgbClr val="bfbfbf"/>
          </a:solidFill>
          <a:ln w="424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Прямоугольник 15"/>
          <p:cNvSpPr/>
          <p:nvPr/>
        </p:nvSpPr>
        <p:spPr>
          <a:xfrm>
            <a:off x="2214720" y="2857680"/>
            <a:ext cx="1571400" cy="500040"/>
          </a:xfrm>
          <a:prstGeom prst="rect">
            <a:avLst/>
          </a:prstGeom>
          <a:solidFill>
            <a:srgbClr val="de9898"/>
          </a:solidFill>
          <a:ln w="424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Прямоугольник 16"/>
          <p:cNvSpPr/>
          <p:nvPr/>
        </p:nvSpPr>
        <p:spPr>
          <a:xfrm>
            <a:off x="3786120" y="1928880"/>
            <a:ext cx="1643040" cy="500040"/>
          </a:xfrm>
          <a:prstGeom prst="rect">
            <a:avLst/>
          </a:prstGeom>
          <a:solidFill>
            <a:srgbClr val="00b050"/>
          </a:solidFill>
          <a:ln w="42480">
            <a:solidFill>
              <a:srgbClr val="527e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Прямоугольник 17"/>
          <p:cNvSpPr/>
          <p:nvPr/>
        </p:nvSpPr>
        <p:spPr>
          <a:xfrm>
            <a:off x="2428920" y="3714840"/>
            <a:ext cx="1643040" cy="500040"/>
          </a:xfrm>
          <a:prstGeom prst="rect">
            <a:avLst/>
          </a:prstGeom>
          <a:solidFill>
            <a:srgbClr val="47cccf"/>
          </a:solidFill>
          <a:ln w="424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Прямоугольник 18"/>
          <p:cNvSpPr/>
          <p:nvPr/>
        </p:nvSpPr>
        <p:spPr>
          <a:xfrm>
            <a:off x="5286240" y="3643200"/>
            <a:ext cx="1714680" cy="500040"/>
          </a:xfrm>
          <a:prstGeom prst="rect">
            <a:avLst/>
          </a:prstGeom>
          <a:solidFill>
            <a:srgbClr val="ffc000"/>
          </a:solidFill>
          <a:ln w="424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Прямоугольник 19"/>
          <p:cNvSpPr/>
          <p:nvPr/>
        </p:nvSpPr>
        <p:spPr>
          <a:xfrm>
            <a:off x="6143760" y="2071800"/>
            <a:ext cx="1571400" cy="500040"/>
          </a:xfrm>
          <a:prstGeom prst="rect">
            <a:avLst/>
          </a:prstGeom>
          <a:solidFill>
            <a:srgbClr val="00b0f0"/>
          </a:solidFill>
          <a:ln w="424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Прямая соединительная линия 21"/>
          <p:cNvSpPr/>
          <p:nvPr/>
        </p:nvSpPr>
        <p:spPr>
          <a:xfrm>
            <a:off x="2391480" y="2071800"/>
            <a:ext cx="1800" cy="5000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Прямая соединительная линия 24"/>
          <p:cNvSpPr/>
          <p:nvPr/>
        </p:nvSpPr>
        <p:spPr>
          <a:xfrm flipH="1" flipV="1">
            <a:off x="2391840" y="207144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Прямая соединительная линия 28"/>
          <p:cNvSpPr/>
          <p:nvPr/>
        </p:nvSpPr>
        <p:spPr>
          <a:xfrm>
            <a:off x="4606920" y="1928880"/>
            <a:ext cx="1440" cy="5000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Прямая соединительная линия 33"/>
          <p:cNvSpPr/>
          <p:nvPr/>
        </p:nvSpPr>
        <p:spPr>
          <a:xfrm>
            <a:off x="4606920" y="19288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Прямая соединительная линия 43"/>
          <p:cNvSpPr/>
          <p:nvPr/>
        </p:nvSpPr>
        <p:spPr>
          <a:xfrm>
            <a:off x="2428920" y="2286000"/>
            <a:ext cx="71280" cy="14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Прямая соединительная линия 45"/>
          <p:cNvSpPr/>
          <p:nvPr/>
        </p:nvSpPr>
        <p:spPr>
          <a:xfrm flipH="1">
            <a:off x="4608000" y="2428920"/>
            <a:ext cx="1800" cy="14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Прямая соединительная линия 50"/>
          <p:cNvSpPr/>
          <p:nvPr/>
        </p:nvSpPr>
        <p:spPr>
          <a:xfrm>
            <a:off x="6928560" y="207180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Прямая соединительная линия 52"/>
          <p:cNvSpPr/>
          <p:nvPr/>
        </p:nvSpPr>
        <p:spPr>
          <a:xfrm>
            <a:off x="2998800" y="28576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Прямая соединительная линия 54"/>
          <p:cNvSpPr/>
          <p:nvPr/>
        </p:nvSpPr>
        <p:spPr>
          <a:xfrm>
            <a:off x="5928480" y="285768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Прямая соединительная линия 56"/>
          <p:cNvSpPr/>
          <p:nvPr/>
        </p:nvSpPr>
        <p:spPr>
          <a:xfrm>
            <a:off x="3249720" y="37162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Прямая соединительная линия 58"/>
          <p:cNvSpPr/>
          <p:nvPr/>
        </p:nvSpPr>
        <p:spPr>
          <a:xfrm>
            <a:off x="6143760" y="364500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Box 67"/>
          <p:cNvSpPr/>
          <p:nvPr/>
        </p:nvSpPr>
        <p:spPr>
          <a:xfrm>
            <a:off x="1785960" y="2143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Box 68"/>
          <p:cNvSpPr/>
          <p:nvPr/>
        </p:nvSpPr>
        <p:spPr>
          <a:xfrm>
            <a:off x="2286000" y="207180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ба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ить 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Box 70"/>
          <p:cNvSpPr/>
          <p:nvPr/>
        </p:nvSpPr>
        <p:spPr>
          <a:xfrm>
            <a:off x="6215040" y="207180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8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че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Box 69"/>
          <p:cNvSpPr/>
          <p:nvPr/>
        </p:nvSpPr>
        <p:spPr>
          <a:xfrm>
            <a:off x="3643200" y="1857240"/>
            <a:ext cx="185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множить      н                  на (-2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Box 74"/>
          <p:cNvSpPr/>
          <p:nvPr/>
        </p:nvSpPr>
        <p:spPr>
          <a:xfrm>
            <a:off x="5000760" y="28576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7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че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Box 79"/>
          <p:cNvSpPr/>
          <p:nvPr/>
        </p:nvSpPr>
        <p:spPr>
          <a:xfrm>
            <a:off x="2071800" y="278604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2      выче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-3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Box 82"/>
          <p:cNvSpPr/>
          <p:nvPr/>
        </p:nvSpPr>
        <p:spPr>
          <a:xfrm>
            <a:off x="2214720" y="364320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25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Box 83"/>
          <p:cNvSpPr/>
          <p:nvPr/>
        </p:nvSpPr>
        <p:spPr>
          <a:xfrm>
            <a:off x="3143160" y="3714840"/>
            <a:ext cx="107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Разделить на (-5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Box 85"/>
          <p:cNvSpPr/>
          <p:nvPr/>
        </p:nvSpPr>
        <p:spPr>
          <a:xfrm>
            <a:off x="5500800" y="3571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-5     ВИ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обобщения и систематизации знаний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Задачи этапа- обеспечить формирование у учащихся не тольк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вычислительных навыков, но и понимания полученных знаний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обеспечить понимание внутрипредметных и межпредметны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связе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Например, геометрическая задача следующего содержания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«Чему может быть равен периметр равнобедренного треуголь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ника, если две его стороны равны 4см и 3см» решаетс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с помощью уравнения. Необходимо тщательно прописа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этап составления и решения уравн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Также задача поискового характера, важно, чтобы дети увидел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сами два способа реш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Следующие задания предполагают понимание понятий и определений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1) из предложенных терминов выбрать два, которые наиболе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точно определяют понятие  </a:t>
            </a: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УРАВНЕ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00b050"/>
                </a:solidFill>
                <a:latin typeface="Verdana"/>
              </a:rPr>
              <a:t>СУММА    РАВЕНСТВО     ПРОИЗВЕДЕНИЕ  НЕИЗВЕСТНОЕ   КОРЕН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2) заполнить пропуски в предложениях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«Уравнение вида  _ х +</a:t>
            </a: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b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_ +_ =0 называется квадратным, где а __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х -___________ , </a:t>
            </a: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a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,</a:t>
            </a: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b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,</a:t>
            </a: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c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- _______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« ______________ уравнение называется приведенным, если ____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« Квадратное уравнение станет линейным, если _______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2060"/>
                </a:solidFill>
                <a:latin typeface="Verdana"/>
              </a:rPr>
              <a:t>        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2060"/>
                </a:solidFill>
                <a:latin typeface="Verdana"/>
              </a:rPr>
              <a:t>           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информации о домашнем задан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обеспечить понимание учащимися содержания 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пособов выполнения домашнего зад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9d3232"/>
                </a:solidFill>
                <a:latin typeface="Verdana"/>
              </a:rPr>
              <a:t>Если уж задавать - то с максимальной пользой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Домашнее задание может бы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разноуровневы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индивидуальны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домашнее задание с инструкци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творческо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Любое домашнее задание нужно обсудить. Если возникли вопросы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то найти в «копилке»( ведем в конце тетради) образц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ыполнения аналогичных зада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подведения итог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оценить работу всего класса и отдельных учащихс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Обязательно отметить и </a:t>
            </a:r>
            <a:r>
              <a:rPr b="0" lang="ru-RU" sz="1600" spc="-1" strike="noStrike">
                <a:solidFill>
                  <a:srgbClr val="9d3232"/>
                </a:solidFill>
                <a:latin typeface="Verdana"/>
              </a:rPr>
              <a:t>похвалить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тех детей, которы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роявили активность на уроке, даже если что-то не получи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лось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рефлексии( конец урок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Задачи этапа- способствовать осознанию детьми своего эмоциональ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ного состояния, своей деятельности, взаимодействия с учителем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и одноклассника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Возможно предложить учащимся в конце урока выразить свои впечат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об общей работе и своей личной, ответив на вопрос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1. Как я оцениваю свою работу на уроке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Работал в полную силу, своей работой удовлетворе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Работал вполсил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Не работа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2. Нравится ли такой вид работы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Не очен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Можно предложить детям составить предложение, в котором вс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слова начинаются с одной буквы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Вот ветер все воет, вьюжит.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Предложение можно составить по теме урок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Дружно делим дроб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Возможно и такое задание: составить как можно больше слов  из сло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                                 </a:t>
            </a:r>
            <a:r>
              <a:rPr b="0" lang="ru-RU" sz="1400" spc="-1" strike="noStrike">
                <a:solidFill>
                  <a:srgbClr val="1c4426"/>
                </a:solidFill>
                <a:latin typeface="Verdana"/>
              </a:rPr>
              <a:t>ТРАНСПОРТИР ( на время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7030a0"/>
                </a:solidFill>
                <a:latin typeface="Verdana"/>
              </a:rPr>
              <a:t>Такая работа обязательно вызовет положительные эмоции!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</a:t>
            </a:r>
            <a:r>
              <a:rPr b="0" lang="ru-RU" sz="800" spc="-1" strike="noStrike">
                <a:solidFill>
                  <a:srgbClr val="002060"/>
                </a:solidFill>
                <a:latin typeface="Verdana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499680"/>
            <a:ext cx="8183520" cy="5041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Математика – один из предметов, который вызывает значительные затруднения у большинства учащихс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 обучении детей с интеллектуальными нарушениями нельзя ожидать, что навыки, умения, представления об окружающем удастся сформирова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у детей в полном объем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 зависимости от индивидуальных особенностей,  ребенок может достигать определенного уровня успешнос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 том или ином виде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03280" y="529920"/>
            <a:ext cx="8183520" cy="5041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ррекционные классы созданы для обучения и воспитания детей, у которых при потенциально сохранных возможностях интеллектуального развития наблюдае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1919"/>
                </a:solidFill>
                <a:latin typeface="Verdana"/>
              </a:rPr>
              <a:t>слабость памяти, вним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1919"/>
                </a:solidFill>
                <a:latin typeface="Verdana"/>
              </a:rPr>
              <a:t>недостаточность темпа и подвижности психических процесс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1919"/>
                </a:solidFill>
                <a:latin typeface="Verdana"/>
              </a:rPr>
              <a:t>снижена работоспособ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1919"/>
                </a:solidFill>
                <a:latin typeface="Verdana"/>
              </a:rPr>
              <a:t>недостаточна познавательная деятель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1919"/>
                </a:solidFill>
                <a:latin typeface="Verdana"/>
              </a:rPr>
              <a:t>плохо развита эмоционально-личностная сфе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213840"/>
            <a:ext cx="8183520" cy="1428840"/>
          </a:xfrm>
          <a:prstGeom prst="rect">
            <a:avLst/>
          </a:prstGeom>
          <a:gradFill rotWithShape="0">
            <a:gsLst>
              <a:gs pos="0">
                <a:srgbClr val="759475"/>
              </a:gs>
              <a:gs pos="100000">
                <a:srgbClr val="ace5ac"/>
              </a:gs>
            </a:gsLst>
            <a:lin ang="16200000"/>
          </a:gradFill>
          <a:ln w="9360">
            <a:solidFill>
              <a:srgbClr val="a9d3a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ррекционная работа с детьми должна вестись по следующим направлениям:</a:t>
            </a:r>
            <a:endParaRPr b="1" lang="en-US" sz="32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3280" y="1714320"/>
            <a:ext cx="8183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уществление индивидуального подхода к детя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едотвращение наступления утомл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пользование методов, с помощью которых можно максимально активизировать познавательную деятельность дет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явление особого педагогического такта. Важно подмечать и поощрять успехи детей, помогать каждому ребенку, развивать в нем веру в собственные силы и возмож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еспечивать обогащение детей предметными знан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спользование развивающих игр, упражнений с конкретными примерами и т. д.) при изучении математи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214200"/>
            <a:ext cx="8183520" cy="928800"/>
          </a:xfrm>
          <a:prstGeom prst="rect">
            <a:avLst/>
          </a:prstGeom>
          <a:solidFill>
            <a:srgbClr val="a3cad4"/>
          </a:solidFill>
          <a:ln w="9360">
            <a:solidFill>
              <a:srgbClr val="a9d3a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деляют 13 этапов уро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в коррекционных классах:</a:t>
            </a:r>
            <a:endParaRPr b="1" lang="en-US" sz="24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42600" y="1571760"/>
            <a:ext cx="8286840" cy="5000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рганизационный этап(начало урока)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проверки домашнего задани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устного счет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актуализации субъективного опыта учащихс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изучения нового материал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закрепления, тренировки и отработки умени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физкультминутк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применения знани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обобщения и систематизации знани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контроля и самоконтрол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информации о домашнем задани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подведения итогов заняти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рефлексии(конец урока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Комбинируя эти этапы в соответствии с логикой занятия и используя различные педагогические техники, можно получить разнообразные варианты уроков математики в коррекционных классах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9360">
            <a:solidFill>
              <a:srgbClr val="52b3c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Организационный этап (начало урок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 - обеспечить комфортную внешнюю обстановку для                              работы, обеспечить положительный эмоциональный настро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«Вход в урок» может быть разнообразным в зависимости от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озраста и подготовки учащихся. Когда класс слабый, трудн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страивается, то начинать урок лучше всегда определенны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образом, а если класс слажен, то начало урока можно разно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образи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проверки домашнего зад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установить правильность, полноту и осознанность выполнения домашнего задания всеми детьми; выявить пробелы в знаниях и способах деятельности учащихся; определить причины возникновения затруднений; устранить(по возможности) обнаруженные пробелы; обеспечить рефлексию учащихся по поводу своих способов решений и своих затрудн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озможно предложить учащимся выбрать из нескольких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ариантов ответов правильный(в зависимости от изучаем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темы); показательный ответ; устный опрос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7030a0"/>
                </a:solidFill>
                <a:latin typeface="Verdana"/>
              </a:rPr>
              <a:t>Важно использовать наглядность и образцы решения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7030a0"/>
                </a:solidFill>
                <a:latin typeface="Verdana"/>
              </a:rPr>
              <a:t>( как и на любом другом этапе урок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5000400"/>
            <a:ext cx="81835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пример,  домашним заданием было решить уравнения или найти нули функ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х²-48=0          х²+4=-5х      4х²+1=0      у=3х²+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рточки с условиями и возможные варианты решения            ( правильное и с типичными ошибками) прикреплены к магнитной доске и учащиеся должны найти правильное решение заданий, сверив с решениями в тетрадя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этом этапе важно обсудить не только правильное решение, но и указать , что неверно в других решен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к как домашнее задание в классах коррекции не может быть очень объемным, то такой способ проверки домашнего задания очень удобен и не занимает много времен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к же обязательно нужно дать время детям на исправление ошибок в тетрад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8760" y="0"/>
            <a:ext cx="8286480" cy="6858000"/>
          </a:xfrm>
          <a:prstGeom prst="rect">
            <a:avLst/>
          </a:prstGeom>
          <a:solidFill>
            <a:srgbClr val="a3cad4"/>
          </a:solidFill>
          <a:ln w="9360">
            <a:solidFill>
              <a:srgbClr val="52b3c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устного сч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 – совершенствование навыков устных вычислений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крепление математических понятий.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Если хорошо проведен устный счет, то учащиеся активны и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готовы к восприятию нового материала.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ще всего устный счет проводится в такой форме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йти сумму чисел 5 и (-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величить число 8 в 2 ра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 какому числу надо прибавить (-20), чтобы получилось число (-25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му равна разность чисел (-3) и 7  и т.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езусловно, отрабатываются вычислительные навыки, но активность учащихся скорее будет снижаться, если использовать только такие виды работы. Учащиеся коррекционных классов плохо и с большим трудом усваивают задания на слух, следует учитывать это, а также не перегружать задания уровнем сложност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уделить особое внимание приемам, активизирующим деятельность учащихся, обязательно проговаривая каждое правильное решение. Например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) даны числа  (-3) и 0,2. Какие действия можно выполнить с этими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ами? Выполнить возможные действ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) между числами расставить знаки математических действий так, чтобы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венства были верными:  3    4 = -1              0,5    (-1)= -0,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¾   ¼ = ½              10      (-18)= 2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тать примеры, в которых находили сумму, разность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) произведение корней какого из уравнений равно -4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+4=0                             2х²+х-4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²-3х-4=0                        х²-4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) соотнести условие примера с одним из предложенных ответ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²∙а­                        а             а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¹²:а                        а­           а­¹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9360">
            <a:solidFill>
              <a:srgbClr val="52b3c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устного сч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5) Возможно использовать графический диктан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 пример решен верно, то ставим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,если нет, то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^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6 ∙0,3=0,3                             4)1,5∙100=15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12:0,2=60                                5) 5х²+х²=5х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-3-(-5)=2                                 6)число 5 составляет 20% от 2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люч к ответам: _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^^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_ _ _ ( или ставить + или -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6) Устный счет возможно выполнить и 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мощью цепочки действий, а правильны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вет выбрать из предложенных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24,8-5х              -5х-1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5х-23                -5-5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7) Задачи устного счета могут носи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влекательный характер.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Винни-Пух и Пятачок собрали 30 шишек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то составило треть всех шишек под елкой.Сколько всего шишек было под елкой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Можно использовать математические диктанты, перфокарту и т.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c216d"/>
                </a:solidFill>
                <a:latin typeface="Verdana"/>
              </a:rPr>
              <a:t>Главное – постоянное обсуждение происходящих действий, включение детей в диалог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39" name="Схема 7" descr=""/>
          <p:cNvPicPr/>
          <p:nvPr/>
        </p:nvPicPr>
        <p:blipFill>
          <a:blip r:embed="rId1"/>
          <a:stretch/>
        </p:blipFill>
        <p:spPr>
          <a:xfrm>
            <a:off x="4853160" y="2262240"/>
            <a:ext cx="3584520" cy="246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19:06:42Z</dcterms:created>
  <dc:creator>Self</dc:creator>
  <dc:description/>
  <dc:language>en-US</dc:language>
  <cp:lastModifiedBy>Плотникова З.Л.</cp:lastModifiedBy>
  <dcterms:modified xsi:type="dcterms:W3CDTF">2012-02-17T09:34:54Z</dcterms:modified>
  <cp:revision>147</cp:revision>
  <dc:subject/>
  <dc:title>Слайд 1</dc:title>
</cp:coreProperties>
</file>