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1999-2F8F-4DCA-B451-9E8F4A1FA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DE78-17C4-4BDE-8CCB-071D558AC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2E26-598A-462C-AD7E-7B772201F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B7D9-B9C9-42D1-BB3D-D22DC2B5E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B710E-F822-408A-AFB6-28CCBC63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316B3-23FC-461D-9F23-5AE1AD17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C97E7-8CC5-49A8-BBBC-9EF838C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4CB9D-8127-45E4-A0EE-62AB260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83F1A-D7E0-463B-9F1A-C15E7A78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6F6C-E014-4CB5-B2F2-153DEAE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7EA97-E473-4461-84C6-7319FA6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3AE8-0758-41DA-8C9F-B5D39D558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4136C-166C-4EAE-8FF0-D88D8BC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9A139-2F80-4FF0-9A00-D344016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55030-3B57-4D9A-9C28-D9FDE03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E6243-201A-47CA-ABD0-50249D38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B5521-805F-4098-92EB-67E3222E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D8C1-3BE4-4967-989A-D24708EBC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9AF6-F067-4160-AE20-A56B136E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45F9-6A61-4307-8EC5-FAF6AAD82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8D8D-D854-4440-9353-DD8017483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CF0D-1EC2-4401-B84B-B85A4EF0B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EEAE-27E5-4194-902D-C61266B91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EC0E-6755-40DD-AC7B-26D160944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EB0-C64E-4A71-B85E-1FEE933D74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AD5C-983F-404E-B461-C3DA3820BA04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1C91-0907-467C-8DA8-3D1BC9ADDC1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2131920"/>
            <a:ext cx="7240320" cy="4176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1.Падение Избранной рад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2.Расправа царя с приближенны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3.Опричники и опричнин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4.Поход на Новгород и борьба с Крымом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5.Итоги опричнин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Расправа царя с приближенным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795240"/>
            <a:ext cx="4566960" cy="6089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Бояре, спасаясь от цар-ского гнева бежали за границу.Андрей Курб-ский,бежавший в Лит ву,призвал Грозного прекратить казни.В ответном послании царь заявил о готов-ности защищать неог-раниченную царскую власть и вскоре при-ступил к ликвидации самостоятельности боя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40560" y="577548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ый на престоле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емецкая гравюра.1725 г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1" name="Picture 7" descr="Рисунок5"/>
          <p:cNvPicPr/>
          <p:nvPr/>
        </p:nvPicPr>
        <p:blipFill>
          <a:blip r:embed="rId1"/>
          <a:stretch/>
        </p:blipFill>
        <p:spPr>
          <a:xfrm>
            <a:off x="324000" y="1125360"/>
            <a:ext cx="3868560" cy="447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Рисунок6"/>
          <p:cNvPicPr/>
          <p:nvPr/>
        </p:nvPicPr>
        <p:blipFill>
          <a:blip r:embed="rId1"/>
          <a:stretch/>
        </p:blipFill>
        <p:spPr>
          <a:xfrm>
            <a:off x="3414600" y="692280"/>
            <a:ext cx="5045040" cy="3254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3933360"/>
            <a:ext cx="8763120" cy="2847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1564 г.царь неожиданно уехал в Александрову сло-боду.В н.1565 г.он направил в Москву 2 послания.В первом он обвинил бояр и духовенство в «изменах» и объявлял об оставлении престола.Во втором-выс-тавлял себя защитником «черных» людей от боярс-кого произвола. Условием возвращения Иван требо-вал предоставления ему права казнить «изменни-ков» по своему усмотрени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6880" y="1700280"/>
            <a:ext cx="208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Скворц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оездка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ого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богомолье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3962160"/>
            <a:ext cx="8763120" cy="28191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тране был учрежден новый порядок управления-опричнина.Территория государства делилась на оп-ричнину,управляемую Грозным и земщину,ей веда-ли бояре.Столицей опричнины стала Александрова слобода.Здесь же стояло опричное войско,получив-шее неограниченные права.Многие боярские семьи были переселены из одной части страны в другу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73280" y="191628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лександров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лобод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9" name="Picture 11" descr="Рисунок7"/>
          <p:cNvPicPr/>
          <p:nvPr/>
        </p:nvPicPr>
        <p:blipFill>
          <a:blip r:embed="rId1"/>
          <a:stretch/>
        </p:blipFill>
        <p:spPr>
          <a:xfrm>
            <a:off x="3780000" y="836640"/>
            <a:ext cx="4528800" cy="3076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Рисунок8"/>
          <p:cNvPicPr/>
          <p:nvPr/>
        </p:nvPicPr>
        <p:blipFill>
          <a:blip r:embed="rId1"/>
          <a:stretch/>
        </p:blipFill>
        <p:spPr>
          <a:xfrm>
            <a:off x="3635280" y="836640"/>
            <a:ext cx="4819680" cy="3289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4149360"/>
            <a:ext cx="8763120" cy="2631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Террор вызвал недовольство в стране.В 1566 г. в от-вет на челобитную об отмене опричнины,все ее ав-торы были казнены.Митрополит Афанасий в знак протеста сложил с себя сан.Новый митрополит-Фи-липп,также осудил царя и был казн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69 г.Грозный расправился со своим двоюродным братом В.А.Старицким-последнее удельное княжес-тво на Руси было ликвидирова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30880" y="166068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Невре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онч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трополит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Филипп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Рисунок9"/>
          <p:cNvPicPr/>
          <p:nvPr/>
        </p:nvPicPr>
        <p:blipFill>
          <a:blip r:embed="rId1"/>
          <a:stretch/>
        </p:blipFill>
        <p:spPr>
          <a:xfrm>
            <a:off x="3635280" y="692280"/>
            <a:ext cx="4900680" cy="32367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оход на Новгород и борьба с Крымом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3860640"/>
            <a:ext cx="8991360" cy="2921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1569 г. Грозный направился в Новгород и устроил там 6-недельную расправу,а возвратившись в Москву сварил 300челове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71 г. Опричники пропустили войско крымского хана к Москве и Девлет-гирей сжег столицу.В 1572 г.очеред ной набег крымчаков был остановлен объединенным  земско-опричным войском.Вскоре Иван Грозный объ-явил об отмене опрични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97440" y="166068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Иван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сторожево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нице Русского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ств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5.Итоги опричнин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907560"/>
            <a:ext cx="4419720" cy="5761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период опричнины грозный добился резкого усиления своей власти.Однако это было достигнуто огромной ценой. Страна была разоре-на опричниками,-Ли-вонской войной,на-бегами тата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Несмотря на официа-льную отмену опри- чнины,массовые ка-зни продолжалис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82880" y="584676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Черт-опричник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16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1" name="Picture 7" descr="Рисунок1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4651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дом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§25 пункт 1-3</a:t>
            </a:r>
            <a:endParaRPr b="1" lang="en-US" sz="9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.Казань была завоевана в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6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49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2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8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. Астрахань была взята в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2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6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8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83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.Завоевание Казанского ханства относится к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. Как назывался пункт для размещения воинских отрядов, укрепленный деревянной изгородью в виде вертикальных заостренных столбов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ба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трог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настырь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емль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F825-7F22-4055-A4AB-0D2ACF9FAE06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3" name="WordArt 6" descr="Дуб"/>
          <p:cNvPicPr/>
          <p:nvPr/>
        </p:nvPicPr>
        <p:blipFill>
          <a:blip r:embed="rId1"/>
          <a:stretch/>
        </p:blipFill>
        <p:spPr>
          <a:xfrm>
            <a:off x="1805040" y="2614680"/>
            <a:ext cx="7358040" cy="393228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8" descr=""/>
          <p:cNvPicPr/>
          <p:nvPr/>
        </p:nvPicPr>
        <p:blipFill>
          <a:blip r:embed="rId2"/>
          <a:stretch/>
        </p:blipFill>
        <p:spPr>
          <a:xfrm>
            <a:off x="2120760" y="444600"/>
            <a:ext cx="6194520" cy="1622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7305120" y="18435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Урок </a:t>
            </a:r>
            <a:r>
              <a:rPr b="0" lang="ru-RU" sz="2400" spc="-1" strike="noStrike">
                <a:solidFill>
                  <a:srgbClr val="336699"/>
                </a:solidFill>
                <a:latin typeface="Times New Roman"/>
              </a:rPr>
              <a:t>29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адение Избранной рад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4149360"/>
            <a:ext cx="8763120" cy="2631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Желание царя выйти к берегам Балтики вызывало не-довольство даже в Избранной раде.Иван в 1559 г. за-ключил перемирие,но впоследствии припомнил это своим соратникам.Он стал искать причины пораже-ний в «измене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 не простил Раде и того, что во время его болезни в 1553 г.Рада хотела передать престол Владимиру Андреевичу Старицком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28680" y="1736640"/>
            <a:ext cx="323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ильвестр и молодой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ван Грозный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17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9" name="Picture 3" descr="Рисунок2"/>
          <p:cNvPicPr/>
          <p:nvPr/>
        </p:nvPicPr>
        <p:blipFill>
          <a:blip r:embed="rId1"/>
          <a:stretch/>
        </p:blipFill>
        <p:spPr>
          <a:xfrm>
            <a:off x="3860640" y="836640"/>
            <a:ext cx="4527720" cy="3200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адение Избранной рад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2920" y="796680"/>
            <a:ext cx="4348440" cy="6016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выздоровления царь стал подозритель-ным и жестоким.Он хо-тел немедленных резу-льтатов реформ, члены рады выступали за их постепенное проведе-ние.Отношения обостри лись и из-за неудачных советов Адашева в хо-де Ливонской вой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60 г. скончалась жена царя-Анастасия.По Мос-кве пополз слух,что ее «уморили» Сильвестр и Адаше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7800" y="544500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ый кается на Лобном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есте после смерти жен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настасии.Миниатюра 16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3" name="Picture 7" descr="Рисунок3"/>
          <p:cNvPicPr/>
          <p:nvPr/>
        </p:nvPicPr>
        <p:blipFill>
          <a:blip r:embed="rId1"/>
          <a:stretch/>
        </p:blipFill>
        <p:spPr>
          <a:xfrm>
            <a:off x="684360" y="907920"/>
            <a:ext cx="3205080" cy="45291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Рисунок4"/>
          <p:cNvPicPr/>
          <p:nvPr/>
        </p:nvPicPr>
        <p:blipFill>
          <a:blip r:embed="rId1"/>
          <a:stretch/>
        </p:blipFill>
        <p:spPr>
          <a:xfrm>
            <a:off x="3857760" y="692280"/>
            <a:ext cx="4459320" cy="3551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Расправа царя с приближенным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20" y="4076640"/>
            <a:ext cx="8991360" cy="2705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Земский собор отправил Адашева в тюрьму,где он вскоре умер,а Сильвестр был сослан на Соловки,где вскоре погиб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563 г.умер митрополит Макарий, сдерживав-ший царя.Новый митрополит-Афанасий встал на сторону бояр,но это только развязало ца-рю ру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74160" y="1665360"/>
            <a:ext cx="19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Васнец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астенок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учитель</cp:lastModifiedBy>
  <cp:lastPrinted>1997-01-19T19:09:28Z</cp:lastPrinted>
  <dcterms:modified xsi:type="dcterms:W3CDTF">2012-04-18T07:40:22Z</dcterms:modified>
  <cp:revision>76</cp:revision>
  <dc:subject/>
  <dc:title>Заголовок слайда отсутствует</dc:title>
</cp:coreProperties>
</file>