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64A45-4515-49C0-A70E-75A060F072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8CAD8-1D98-4E20-AE48-DCFAAF9B49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51A66-C538-426A-82B8-5D7C8764E0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288D9-A4CB-46CB-8E10-CD9C0E1B10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67819-8AC1-43BE-9263-000DE635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A934F-6151-406B-8553-DA09A7EC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53294-2D45-4568-963A-67BC8793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4A22F-317A-4A7D-A864-53131F3A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68D32-492F-4C39-AECF-90C10D2A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5F8C9-FA43-4A32-A7F0-C0E03480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7B726-3B13-4F55-B7A2-B6E32D18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FCB70-5F49-4F9D-B8DD-3BE8EA38DF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F4158-87B8-40F0-9237-79BA2196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650AD-3BBC-42FE-949A-1E814129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8BD0B-15CB-453F-817D-E1E4AA38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16C93-5AFC-45EB-A903-A83B1594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FB7EE-A193-4CC8-B75C-DF143731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63902-F479-428B-B463-EBB78BAFE2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5F3ED-6E13-4263-ACF1-3DEE6E26A9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A2341-4B85-46AA-9688-638755DD07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F629F-CAAD-4944-A266-749C62BFAC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BD4BB-4407-4451-9F4F-D5C3FCF5A2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61680-153D-447C-95F5-A09A7915DA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8C24F-66B9-48FF-B12E-441512BBE8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3240" y="463680"/>
            <a:ext cx="399960" cy="6400800"/>
          </a:xfrm>
          <a:custGeom>
            <a:avLst/>
            <a:gdLst>
              <a:gd name="textAreaLeft" fmla="*/ 0 w 399960"/>
              <a:gd name="textAreaRight" fmla="*/ 400320 w 399960"/>
              <a:gd name="textAreaTop" fmla="*/ 0 h 6400800"/>
              <a:gd name="textAreaBottom" fmla="*/ 6401160 h 6400800"/>
            </a:gdLst>
            <a:ahLst/>
            <a:rect l="textAreaLeft" t="textAreaTop" r="textAreaRight" b="textAreaBottom"/>
            <a:pathLst>
              <a:path fill="none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" name="Arc 3"/>
          <p:cNvSpPr/>
          <p:nvPr/>
        </p:nvSpPr>
        <p:spPr>
          <a:xfrm>
            <a:off x="1333440" y="463680"/>
            <a:ext cx="399960" cy="6400800"/>
          </a:xfrm>
          <a:custGeom>
            <a:avLst/>
            <a:gdLst>
              <a:gd name="textAreaLeft" fmla="*/ 0 w 399960"/>
              <a:gd name="textAreaRight" fmla="*/ 400320 w 399960"/>
              <a:gd name="textAreaTop" fmla="*/ 0 h 6400800"/>
              <a:gd name="textAreaBottom" fmla="*/ 6401160 h 6400800"/>
            </a:gdLst>
            <a:ahLst/>
            <a:rect l="textAreaLeft" t="textAreaTop" r="textAreaRight" b="textAreaBottom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B780-EBE2-4B7A-9EE1-CB8E272C7E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" name="AutoShape 10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8" name="AutoShape 11">
            <a:hlinkClick r:id="" action="ppaction://hlinkshowjump?jump=previousslide"/>
          </p:cNvPr>
          <p:cNvSpPr/>
          <p:nvPr/>
        </p:nvSpPr>
        <p:spPr>
          <a:xfrm flipH="1" rot="16200000">
            <a:off x="4824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492960" y="147600"/>
            <a:ext cx="188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Times New Roman"/>
              </a:rPr>
              <a:t>Меню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" name="Oval 13"/>
          <p:cNvSpPr/>
          <p:nvPr/>
        </p:nvSpPr>
        <p:spPr>
          <a:xfrm>
            <a:off x="8518680" y="125280"/>
            <a:ext cx="539640" cy="53820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" name="Oval 14"/>
          <p:cNvSpPr/>
          <p:nvPr/>
        </p:nvSpPr>
        <p:spPr>
          <a:xfrm>
            <a:off x="8470800" y="58680"/>
            <a:ext cx="541440" cy="534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" name="Arc 15"/>
          <p:cNvSpPr/>
          <p:nvPr/>
        </p:nvSpPr>
        <p:spPr>
          <a:xfrm>
            <a:off x="8729640" y="63360"/>
            <a:ext cx="284040" cy="533520"/>
          </a:xfrm>
          <a:custGeom>
            <a:avLst/>
            <a:gdLst>
              <a:gd name="textAreaLeft" fmla="*/ 0 w 284040"/>
              <a:gd name="textAreaRight" fmla="*/ 284400 w 284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fill="none" w="22730" h="43200">
                <a:moveTo>
                  <a:pt x="1129" y="0"/>
                </a:moveTo>
                <a:cubicBezTo>
                  <a:pt x="13059" y="0"/>
                  <a:pt x="22730" y="9670"/>
                  <a:pt x="22730" y="21600"/>
                </a:cubicBezTo>
                <a:cubicBezTo>
                  <a:pt x="22730" y="33529"/>
                  <a:pt x="13059" y="43200"/>
                  <a:pt x="1130" y="43200"/>
                </a:cubicBezTo>
                <a:cubicBezTo>
                  <a:pt x="753" y="43200"/>
                  <a:pt x="376" y="43190"/>
                  <a:pt x="-1" y="43170"/>
                </a:cubicBezTo>
              </a:path>
              <a:path stroke="0" w="22730" h="43200">
                <a:moveTo>
                  <a:pt x="1129" y="0"/>
                </a:moveTo>
                <a:cubicBezTo>
                  <a:pt x="13059" y="0"/>
                  <a:pt x="22730" y="9670"/>
                  <a:pt x="22730" y="21600"/>
                </a:cubicBezTo>
                <a:cubicBezTo>
                  <a:pt x="22730" y="33529"/>
                  <a:pt x="13059" y="43200"/>
                  <a:pt x="1130" y="43200"/>
                </a:cubicBezTo>
                <a:cubicBezTo>
                  <a:pt x="753" y="43200"/>
                  <a:pt x="376" y="43190"/>
                  <a:pt x="-1" y="43170"/>
                </a:cubicBezTo>
                <a:lnTo>
                  <a:pt x="1130" y="21600"/>
                </a:lnTo>
                <a:close/>
              </a:path>
            </a:pathLst>
          </a:custGeom>
          <a:solidFill>
            <a:srgbClr val="090a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3" name="Arc 16"/>
          <p:cNvSpPr/>
          <p:nvPr/>
        </p:nvSpPr>
        <p:spPr>
          <a:xfrm>
            <a:off x="8472600" y="63360"/>
            <a:ext cx="284040" cy="533520"/>
          </a:xfrm>
          <a:custGeom>
            <a:avLst/>
            <a:gdLst>
              <a:gd name="textAreaLeft" fmla="*/ 0 w 284040"/>
              <a:gd name="textAreaRight" fmla="*/ 284400 w 284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fill="none" w="22730" h="43200">
                <a:moveTo>
                  <a:pt x="22730" y="43170"/>
                </a:moveTo>
                <a:cubicBezTo>
                  <a:pt x="22353" y="43190"/>
                  <a:pt x="21976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2730" h="43200">
                <a:moveTo>
                  <a:pt x="22730" y="43170"/>
                </a:moveTo>
                <a:cubicBezTo>
                  <a:pt x="22353" y="43190"/>
                  <a:pt x="21976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" name="Oval 17">
            <a:hlinkClick r:id="" action="ppaction://hlinkshowjump?jump=firstslide"/>
          </p:cNvPr>
          <p:cNvSpPr/>
          <p:nvPr/>
        </p:nvSpPr>
        <p:spPr>
          <a:xfrm>
            <a:off x="8555040" y="142920"/>
            <a:ext cx="378000" cy="372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rc 2"/>
          <p:cNvSpPr/>
          <p:nvPr/>
        </p:nvSpPr>
        <p:spPr>
          <a:xfrm>
            <a:off x="3240" y="463680"/>
            <a:ext cx="399960" cy="6400800"/>
          </a:xfrm>
          <a:custGeom>
            <a:avLst/>
            <a:gdLst>
              <a:gd name="textAreaLeft" fmla="*/ 0 w 399960"/>
              <a:gd name="textAreaRight" fmla="*/ 400320 w 399960"/>
              <a:gd name="textAreaTop" fmla="*/ 0 h 6400800"/>
              <a:gd name="textAreaBottom" fmla="*/ 6401160 h 6400800"/>
            </a:gdLst>
            <a:ahLst/>
            <a:rect l="textAreaLeft" t="textAreaTop" r="textAreaRight" b="textAreaBottom"/>
            <a:pathLst>
              <a:path fill="none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2" name="Arc 3"/>
          <p:cNvSpPr/>
          <p:nvPr/>
        </p:nvSpPr>
        <p:spPr>
          <a:xfrm>
            <a:off x="1333440" y="463680"/>
            <a:ext cx="399960" cy="6400800"/>
          </a:xfrm>
          <a:custGeom>
            <a:avLst/>
            <a:gdLst>
              <a:gd name="textAreaLeft" fmla="*/ 0 w 399960"/>
              <a:gd name="textAreaRight" fmla="*/ 400320 w 399960"/>
              <a:gd name="textAreaTop" fmla="*/ 0 h 6400800"/>
              <a:gd name="textAreaBottom" fmla="*/ 6401160 h 6400800"/>
            </a:gdLst>
            <a:ahLst/>
            <a:rect l="textAreaLeft" t="textAreaTop" r="textAreaRight" b="textAreaBottom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4" name="AutoShape 10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1905120" y="21337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8685-1157-4220-AB3C-E9E5740FE104}" type="datetime">
              <a:rPr b="1" lang="ru-RU" sz="3200" spc="-1" strike="noStrike">
                <a:solidFill>
                  <a:srgbClr val="336699"/>
                </a:solidFill>
                <a:latin typeface="Arial"/>
              </a:rPr>
              <a:t>29.07.26</a:t>
            </a:fld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4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04DB-790F-4C77-8CBD-6237C7931DCE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4360" y="533520"/>
            <a:ext cx="7240680" cy="98568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План урока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520" y="2131920"/>
            <a:ext cx="7240320" cy="4176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6699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Arial"/>
              </a:rPr>
              <a:t>1.Падение Избранной рады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Arial"/>
              </a:rPr>
              <a:t>2.Расправа царя с приближенными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Arial"/>
              </a:rPr>
              <a:t>3.Опричники и опричнина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Arial"/>
              </a:rPr>
              <a:t>4.Поход на Новгород и борьба с Крымом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Arial"/>
              </a:rPr>
              <a:t>5.Итоги опричнины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Times New Roman"/>
              </a:rPr>
              <a:t>2.Расправа царя с приближенными.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00720" y="795240"/>
            <a:ext cx="4566960" cy="6089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Бояре, спасаясь от цар-ского гнева бежали за границу.Андрей Курб-ский,бежавший в Лит ву,призвал Грозного прекратить казни.В ответном послании царь заявил о готов-ности защищать неог-раниченную царскую власть и вскоре при-ступил к ликвидации самостоятельности бояр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40560" y="5775480"/>
            <a:ext cx="379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И.Грозный на престоле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Немецкая гравюра.1725 г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21" name="Picture 7" descr="Рисунок5"/>
          <p:cNvPicPr/>
          <p:nvPr/>
        </p:nvPicPr>
        <p:blipFill>
          <a:blip r:embed="rId1"/>
          <a:stretch/>
        </p:blipFill>
        <p:spPr>
          <a:xfrm>
            <a:off x="324000" y="1125360"/>
            <a:ext cx="3868560" cy="44784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Рисунок6"/>
          <p:cNvPicPr/>
          <p:nvPr/>
        </p:nvPicPr>
        <p:blipFill>
          <a:blip r:embed="rId1"/>
          <a:stretch/>
        </p:blipFill>
        <p:spPr>
          <a:xfrm>
            <a:off x="3414600" y="692280"/>
            <a:ext cx="5045040" cy="32544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0a11"/>
                </a:solidFill>
                <a:latin typeface="Times New Roman"/>
              </a:rPr>
              <a:t>3.Опричники и опричнина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3933360"/>
            <a:ext cx="8763120" cy="28479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к.1564 г.царь неожиданно уехал в Александрову сло-боду.В н.1565 г.он направил в Москву 2 послания.В первом он обвинил бояр и духовенство в «изменах» и объявлял об оставлении престола.Во втором-выс-тавлял себя защитником «черных» людей от боярс-кого произвола. Условием возвращения Иван требо-вал предоставления ему права казнить «изменни-ков» по своему усмотрению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86880" y="1700280"/>
            <a:ext cx="208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Н.Скворцов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Поездка 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И.Грозного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на богомолье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0a11"/>
                </a:solidFill>
                <a:latin typeface="Times New Roman"/>
              </a:rPr>
              <a:t>3.Опричники и опричнина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3962160"/>
            <a:ext cx="8763120" cy="28191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стране был учрежден новый порядок управления-опричнина.Территория государства делилась на оп-ричнину,управляемую Грозным и земщину,ей веда-ли бояре.Столицей опричнины стала Александрова слобода.Здесь же стояло опричное войско,получив-шее неограниченные права.Многие боярские семьи были переселены из одной части страны в другую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773280" y="1916280"/>
            <a:ext cx="213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Александрова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слобода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29" name="Picture 11" descr="Рисунок7"/>
          <p:cNvPicPr/>
          <p:nvPr/>
        </p:nvPicPr>
        <p:blipFill>
          <a:blip r:embed="rId1"/>
          <a:stretch/>
        </p:blipFill>
        <p:spPr>
          <a:xfrm>
            <a:off x="3780000" y="836640"/>
            <a:ext cx="4528800" cy="30765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Рисунок8"/>
          <p:cNvPicPr/>
          <p:nvPr/>
        </p:nvPicPr>
        <p:blipFill>
          <a:blip r:embed="rId1"/>
          <a:stretch/>
        </p:blipFill>
        <p:spPr>
          <a:xfrm>
            <a:off x="3635280" y="836640"/>
            <a:ext cx="4819680" cy="32893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0a11"/>
                </a:solidFill>
                <a:latin typeface="Times New Roman"/>
              </a:rPr>
              <a:t>3.Опричники и опричнина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4149360"/>
            <a:ext cx="8763120" cy="26319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Террор вызвал недовольство в стране.В 1566 г. в от-вет на челобитную об отмене опричнины,все ее ав-торы были казнены.Митрополит Афанасий в знак протеста сложил с себя сан.Новый митрополит-Фи-липп,также осудил царя и был казнен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1569 г.Грозный расправился со своим двоюродным братом В.А.Старицким-последнее удельное княжес-тво на Руси было ликвидировано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830880" y="1660680"/>
            <a:ext cx="200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Н.Неврев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Кончина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митрополита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Филиппа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Рисунок9"/>
          <p:cNvPicPr/>
          <p:nvPr/>
        </p:nvPicPr>
        <p:blipFill>
          <a:blip r:embed="rId1"/>
          <a:stretch/>
        </p:blipFill>
        <p:spPr>
          <a:xfrm>
            <a:off x="3635280" y="692280"/>
            <a:ext cx="4900680" cy="32367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Times New Roman"/>
              </a:rPr>
              <a:t>4.Поход на Новгород и борьба с Крымом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320" y="3860640"/>
            <a:ext cx="8991360" cy="29210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к.1569 г. Грозный направился в Новгород и устроил там 6-недельную расправу,а возвратившись в Москву сварил 300человек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1571 г. Опричники пропустили войско крымского хана к Москве и Девлет-гирей сжег столицу.В 1572 г.очеред ной набег крымчаков был остановлен объединенным  земско-опричным войском.Вскоре Иван Грозный объ-явил об отмене опричнины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97440" y="1660680"/>
            <a:ext cx="260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А.Иванов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На сторожевой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границе Русского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государства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0a11"/>
                </a:solidFill>
                <a:latin typeface="Times New Roman"/>
              </a:rPr>
              <a:t>5.Итоги опричнины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1640" y="907560"/>
            <a:ext cx="4419720" cy="57610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В период опричнины грозный добился резкого усиления своей власти.Однако это было достигнуто огромной ценой. Страна была разоре-на опричниками,-Ли-вонской войной,на-бегами татар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Несмотря на официа-льную отмену опри- чнины,массовые ка-зни продолжались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082880" y="5846760"/>
            <a:ext cx="254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Черт-опричник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Миниатюра 16 в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41" name="Picture 7" descr="Рисунок1"/>
          <p:cNvPicPr/>
          <p:nvPr/>
        </p:nvPicPr>
        <p:blipFill>
          <a:blip r:embed="rId1"/>
          <a:stretch/>
        </p:blipFill>
        <p:spPr>
          <a:xfrm>
            <a:off x="539640" y="1052640"/>
            <a:ext cx="3456000" cy="46512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4360" y="151920"/>
            <a:ext cx="7240680" cy="986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Задание на дом.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74360" y="1599840"/>
            <a:ext cx="7240680" cy="4724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rial"/>
              </a:rPr>
              <a:t>§25 пункт 1-3</a:t>
            </a:r>
            <a:endParaRPr b="1" lang="en-US" sz="9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.Казань была завоевана в 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556 г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549 г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552 г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558 г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2. Астрахань была взята в 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552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556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558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583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3.Завоевание Казанского ханства относится к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XV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еку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XVI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веку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XVII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веку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XVIII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веку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4. Как назывался пункт для размещения воинских отрядов, укрепленный деревянной изгородью в виде вертикальных заостренных столбов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зба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трог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онастырь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ремль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1905120" y="21337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8821-98D1-4361-A094-3E78BD62743C}" type="datetime">
              <a:rPr b="1" lang="ru-RU" sz="3200" spc="-1" strike="noStrike">
                <a:solidFill>
                  <a:srgbClr val="336699"/>
                </a:solidFill>
                <a:latin typeface="Arial"/>
              </a:rPr>
              <a:t>29.07.26</a:t>
            </a:fld>
            <a:endParaRPr b="1" lang="en-US" sz="3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03" name="WordArt 6" descr="Дуб"/>
          <p:cNvPicPr/>
          <p:nvPr/>
        </p:nvPicPr>
        <p:blipFill>
          <a:blip r:embed="rId1"/>
          <a:stretch/>
        </p:blipFill>
        <p:spPr>
          <a:xfrm>
            <a:off x="1805040" y="2614680"/>
            <a:ext cx="7358040" cy="3932280"/>
          </a:xfrm>
          <a:prstGeom prst="rect">
            <a:avLst/>
          </a:prstGeom>
          <a:ln w="0">
            <a:noFill/>
          </a:ln>
        </p:spPr>
      </p:pic>
      <p:pic>
        <p:nvPicPr>
          <p:cNvPr id="104" name="WordArt 8" descr=""/>
          <p:cNvPicPr/>
          <p:nvPr/>
        </p:nvPicPr>
        <p:blipFill>
          <a:blip r:embed="rId2"/>
          <a:stretch/>
        </p:blipFill>
        <p:spPr>
          <a:xfrm>
            <a:off x="2120760" y="444600"/>
            <a:ext cx="6194520" cy="1622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9"/>
          <p:cNvSpPr/>
          <p:nvPr/>
        </p:nvSpPr>
        <p:spPr>
          <a:xfrm>
            <a:off x="7305120" y="184356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Урок </a:t>
            </a:r>
            <a:r>
              <a:rPr b="0" lang="ru-RU" sz="2400" spc="-1" strike="noStrike">
                <a:solidFill>
                  <a:srgbClr val="336699"/>
                </a:solidFill>
                <a:latin typeface="Times New Roman"/>
              </a:rPr>
              <a:t>29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0a11"/>
                </a:solidFill>
                <a:latin typeface="Times New Roman"/>
              </a:rPr>
              <a:t>1.Падение Избранной рады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4149360"/>
            <a:ext cx="8763120" cy="26319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Желание царя выйти к берегам Балтики вызывало не-довольство даже в Избранной раде.Иван в 1559 г. за-ключил перемирие,но впоследствии припомнил это своим соратникам.Он стал искать причины пораже-ний в «измене»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Иван не простил Раде и того, что во время его болезни в 1553 г.Рада хотела передать престол Владимиру Андреевичу Старицкому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328680" y="1736640"/>
            <a:ext cx="323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Сильвестр и молодой 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Иван Грозный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Миниатюра 17 в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09" name="Picture 3" descr="Рисунок2"/>
          <p:cNvPicPr/>
          <p:nvPr/>
        </p:nvPicPr>
        <p:blipFill>
          <a:blip r:embed="rId1"/>
          <a:stretch/>
        </p:blipFill>
        <p:spPr>
          <a:xfrm>
            <a:off x="3860640" y="836640"/>
            <a:ext cx="4527720" cy="32004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0a11"/>
                </a:solidFill>
                <a:latin typeface="Times New Roman"/>
              </a:rPr>
              <a:t>1.Падение Избранной рады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2920" y="796680"/>
            <a:ext cx="4348440" cy="60166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После выздоровления царь стал подозритель-ным и жестоким.Он хо-тел немедленных резу-льтатов реформ, члены рады выступали за их постепенное проведе-ние.Отношения обостри лись и из-за неудачных советов Адашева в хо-де Ливонской войны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1560 г. скончалась жена царя-Анастасия.По Мос-кве пополз слух,что ее «уморили» Сильвестр и Адашев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27800" y="5445000"/>
            <a:ext cx="425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И.Грозный кается на Лобном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месте после смерти жен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Анастасии.Миниатюра 16 в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13" name="Picture 7" descr="Рисунок3"/>
          <p:cNvPicPr/>
          <p:nvPr/>
        </p:nvPicPr>
        <p:blipFill>
          <a:blip r:embed="rId1"/>
          <a:stretch/>
        </p:blipFill>
        <p:spPr>
          <a:xfrm>
            <a:off x="684360" y="907920"/>
            <a:ext cx="3205080" cy="45291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Рисунок4"/>
          <p:cNvPicPr/>
          <p:nvPr/>
        </p:nvPicPr>
        <p:blipFill>
          <a:blip r:embed="rId1"/>
          <a:stretch/>
        </p:blipFill>
        <p:spPr>
          <a:xfrm>
            <a:off x="3857760" y="692280"/>
            <a:ext cx="4459320" cy="35510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Times New Roman"/>
              </a:rPr>
              <a:t>2.Расправа царя с приближенными.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320" y="4076640"/>
            <a:ext cx="8991360" cy="27050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Земский собор отправил Адашева в тюрьму,где он вскоре умер,а Сильвестр был сослан на Соловки,где вскоре погиб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В 1563 г.умер митрополит Макарий, сдерживав-ший царя.Новый митрополит-Афанасий встал на сторону бояр,но это только развязало ца-рю руки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74160" y="1665360"/>
            <a:ext cx="19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А.Васнецов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Московский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застенок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2T15:12:29Z</dcterms:created>
  <dc:creator>Чернов Алексей</dc:creator>
  <dc:description/>
  <dc:language>en-US</dc:language>
  <cp:lastModifiedBy>учитель</cp:lastModifiedBy>
  <cp:lastPrinted>1997-01-19T19:09:28Z</cp:lastPrinted>
  <dcterms:modified xsi:type="dcterms:W3CDTF">2012-04-18T07:40:22Z</dcterms:modified>
  <cp:revision>76</cp:revision>
  <dc:subject/>
  <dc:title>Заголовок слайда отсутствует</dc:title>
</cp:coreProperties>
</file>