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9F4A-F5D5-4936-9C8F-D701BE2C5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A791-BF10-4F14-B1DB-09EEBCE25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E3D0-BEB4-489D-A6E0-EC45B6E61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D3E4-AB51-404E-A27B-EA2CB1024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BA524-FFC6-4596-8DD9-E0274B31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DA309-CDCA-4958-86EE-8F988C57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684C2-5C25-4CFE-86D4-02756545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8B71E-7328-4224-A5C5-C52ABC38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66CBA-8C51-4AAD-9E43-53742E60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A8D85-092D-4865-AFB0-C3865243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F7BB7-273E-464B-A179-E9AB277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F6AB-1929-46D4-AC33-4FFD8ACD5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66A96-E1E6-4EEC-8DB6-E120A14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9D85A-D36D-4386-A8A9-9E7AFD5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1A8F5-6B5B-4984-8D1F-3A59D4B9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BBC91-54B6-492B-93E0-DB8750DF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B57A7-DD5C-496E-BD55-36657F0A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086E-7B01-4107-8297-33F55AEBE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27B97-10DF-4536-B636-E75A2F271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0F17-8C10-4DDD-95E1-67268CCB0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90EC-81CC-4E3E-8F5A-F78B7156A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F54BA-672D-4D8B-81E4-1D0D705E6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F8900-20E4-4B68-94A5-E9B2DD6D5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2835-127A-4276-9D68-8F7748B4B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1E7E-2ECA-4C8A-BA9C-266484BCB8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>
              <a:gd name="textAreaLeft" fmla="*/ 0 w 284040"/>
              <a:gd name="textAreaRight" fmla="*/ 284400 w 284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>
              <a:gd name="textAreaLeft" fmla="*/ 0 w 399960"/>
              <a:gd name="textAreaRight" fmla="*/ 400320 w 39996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8074-6988-4D3B-9F9A-8B5AB4AD521C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8.07.26</a:t>
            </a:fld>
            <a:endParaRPr b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B7AA-0080-4302-898A-FB0A416FBDF4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2131920"/>
            <a:ext cx="7240320" cy="4176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1.Падение Избранной рады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2.Расправа царя с приближенным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3.Опричники и опричнина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4.Поход на Новгород и борьба с Крымом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Arial"/>
              </a:rPr>
              <a:t>5.Итоги опричнины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Расправа царя с приближенным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795240"/>
            <a:ext cx="4566960" cy="60897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Бояре, спасаясь от цар-ского гнева бежали за границу.Андрей Курб-ский,бежавший в Лит ву,призвал Грозного прекратить казни.В ответном послании царь заявил о готов-ности защищать неог-раниченную царскую власть и вскоре при-ступил к ликвидации самостоятельности бояр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40560" y="5775480"/>
            <a:ext cx="37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.Грозный на престоле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емецкая гравюра.1725 г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1" name="Picture 7" descr="Рисунок5"/>
          <p:cNvPicPr/>
          <p:nvPr/>
        </p:nvPicPr>
        <p:blipFill>
          <a:blip r:embed="rId1"/>
          <a:stretch/>
        </p:blipFill>
        <p:spPr>
          <a:xfrm>
            <a:off x="324000" y="1125360"/>
            <a:ext cx="3868560" cy="4478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Рисунок6"/>
          <p:cNvPicPr/>
          <p:nvPr/>
        </p:nvPicPr>
        <p:blipFill>
          <a:blip r:embed="rId1"/>
          <a:stretch/>
        </p:blipFill>
        <p:spPr>
          <a:xfrm>
            <a:off x="3414600" y="692280"/>
            <a:ext cx="5045040" cy="3254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3.Опричники и опричнин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3933360"/>
            <a:ext cx="8763120" cy="2847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к.1564 г.царь неожиданно уехал в Александрову сло-боду.В н.1565 г.он направил в Москву 2 послания.В первом он обвинил бояр и духовенство в «изменах» и объявлял об оставлении престола.Во втором-выс-тавлял себя защитником «черных» людей от боярс-кого произвола. Условием возвращения Иван требо-вал предоставления ему права казнить «изменни-ков» по своему усмотрени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86880" y="1700280"/>
            <a:ext cx="208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.Скворцо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оездка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.Грозного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а богомолье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3.Опричники и опричнин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3962160"/>
            <a:ext cx="8763120" cy="28191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стране был учрежден новый порядок управления-опричнина.Территория государства делилась на оп-ричнину,управляемую Грозным и земщину,ей веда-ли бояре.Столицей опричнины стала Александрова слобода.Здесь же стояло опричное войско,получив-шее неограниченные права.Многие боярские семьи были переселены из одной части страны в другую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73280" y="1916280"/>
            <a:ext cx="21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лександров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лобода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29" name="Picture 11" descr="Рисунок7"/>
          <p:cNvPicPr/>
          <p:nvPr/>
        </p:nvPicPr>
        <p:blipFill>
          <a:blip r:embed="rId1"/>
          <a:stretch/>
        </p:blipFill>
        <p:spPr>
          <a:xfrm>
            <a:off x="3780000" y="836640"/>
            <a:ext cx="4528800" cy="3076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Рисунок8"/>
          <p:cNvPicPr/>
          <p:nvPr/>
        </p:nvPicPr>
        <p:blipFill>
          <a:blip r:embed="rId1"/>
          <a:stretch/>
        </p:blipFill>
        <p:spPr>
          <a:xfrm>
            <a:off x="3635280" y="836640"/>
            <a:ext cx="4819680" cy="3289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3.Опричники и опричнина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4149360"/>
            <a:ext cx="8763120" cy="2631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Террор вызвал недовольство в стране.В 1566 г. в от-вет на челобитную об отмене опричнины,все ее ав-торы были казнены.Митрополит Афанасий в знак протеста сложил с себя сан.Новый митрополит-Фи-липп,также осудил царя и был казнен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69 г.Грозный расправился со своим двоюродным братом В.А.Старицким-последнее удельное княжес-тво на Руси было ликвидирован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30880" y="1660680"/>
            <a:ext cx="200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.Невре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ончин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трополит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Филиппа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Рисунок9"/>
          <p:cNvPicPr/>
          <p:nvPr/>
        </p:nvPicPr>
        <p:blipFill>
          <a:blip r:embed="rId1"/>
          <a:stretch/>
        </p:blipFill>
        <p:spPr>
          <a:xfrm>
            <a:off x="3635280" y="692280"/>
            <a:ext cx="4900680" cy="32367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4.Поход на Новгород и борьба с Крымом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3860640"/>
            <a:ext cx="8991360" cy="29210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к.1569 г. Грозный направился в Новгород и устроил там 6-недельную расправу,а возвратившись в Москву сварил 300челове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71 г. Опричники пропустили войско крымского хана к Москве и Девлет-гирей сжег столицу.В 1572 г.очеред ной набег крымчаков был остановлен объединенным  земско-опричным войском.Вскоре Иван Грозный объ-явил об отмене опрични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97440" y="166068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Ивано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а сторожево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ранице Русского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осударства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5.Итоги опричнины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1640" y="907560"/>
            <a:ext cx="4419720" cy="5761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период опричнины грозный добился резкого усиления своей власти.Однако это было достигнуто огромной ценой. Страна была разоре-на опричниками,-Ли-вонской войной,на-бегами татар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Несмотря на официа-льную отмену опри- чнины,массовые ка-зни продолжались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082880" y="5846760"/>
            <a:ext cx="25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Черт-опричник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ниатюра 16 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41" name="Picture 7" descr="Рисунок1"/>
          <p:cNvPicPr/>
          <p:nvPr/>
        </p:nvPicPr>
        <p:blipFill>
          <a:blip r:embed="rId1"/>
          <a:stretch/>
        </p:blipFill>
        <p:spPr>
          <a:xfrm>
            <a:off x="539640" y="1052640"/>
            <a:ext cx="3456000" cy="46512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дом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§25 пункт 1-3</a:t>
            </a:r>
            <a:endParaRPr b="1" lang="en-US" sz="9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.Казань была завоевана в 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6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49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2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8 г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. Астрахань была взята в 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2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6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58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583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3.Завоевание Казанского ханства относится к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веку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4. Как назывался пункт для размещения воинских отрядов, укрепленный деревянной изгородью в виде вертикальных заостренных столбов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зба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трог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настырь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емль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AF69-2409-42AB-AF14-A20441147C24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8.07.26</a:t>
            </a:fld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3" name="WordArt 6" descr="Дуб"/>
          <p:cNvPicPr/>
          <p:nvPr/>
        </p:nvPicPr>
        <p:blipFill>
          <a:blip r:embed="rId1"/>
          <a:stretch/>
        </p:blipFill>
        <p:spPr>
          <a:xfrm>
            <a:off x="1805040" y="2614680"/>
            <a:ext cx="7358040" cy="393228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8" descr=""/>
          <p:cNvPicPr/>
          <p:nvPr/>
        </p:nvPicPr>
        <p:blipFill>
          <a:blip r:embed="rId2"/>
          <a:stretch/>
        </p:blipFill>
        <p:spPr>
          <a:xfrm>
            <a:off x="2120760" y="444600"/>
            <a:ext cx="6194520" cy="1622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7305120" y="18435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Урок </a:t>
            </a:r>
            <a:r>
              <a:rPr b="0" lang="ru-RU" sz="2400" spc="-1" strike="noStrike">
                <a:solidFill>
                  <a:srgbClr val="336699"/>
                </a:solidFill>
                <a:latin typeface="Times New Roman"/>
              </a:rPr>
              <a:t>29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адение Избранной рады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4149360"/>
            <a:ext cx="8763120" cy="26319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Желание царя выйти к берегам Балтики вызывало не-довольство даже в Избранной раде.Иван в 1559 г. за-ключил перемирие,но впоследствии припомнил это своим соратникам.Он стал искать причины пораже-ний в «измене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ван не простил Раде и того, что во время его болезни в 1553 г.Рада хотела передать престол Владимиру Андреевичу Старицком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28680" y="1736640"/>
            <a:ext cx="323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ильвестр и молодой 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ван Грозный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ниатюра 17 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9" name="Picture 3" descr="Рисунок2"/>
          <p:cNvPicPr/>
          <p:nvPr/>
        </p:nvPicPr>
        <p:blipFill>
          <a:blip r:embed="rId1"/>
          <a:stretch/>
        </p:blipFill>
        <p:spPr>
          <a:xfrm>
            <a:off x="3860640" y="836640"/>
            <a:ext cx="4527720" cy="3200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адение Избранной рады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2920" y="796680"/>
            <a:ext cx="4348440" cy="60166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выздоровления царь стал подозритель-ным и жестоким.Он хо-тел немедленных резу-льтатов реформ, члены рады выступали за их постепенное проведе-ние.Отношения обостри лись и из-за неудачных советов Адашева в хо-де Ливонской войн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60 г. скончалась жена царя-Анастасия.По Мос-кве пополз слух,что ее «уморили» Сильвестр и Адаше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7800" y="5445000"/>
            <a:ext cx="425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И.Грозный кается на Лобном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есте после смерти жен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настасии.Миниатюра 16 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13" name="Picture 7" descr="Рисунок3"/>
          <p:cNvPicPr/>
          <p:nvPr/>
        </p:nvPicPr>
        <p:blipFill>
          <a:blip r:embed="rId1"/>
          <a:stretch/>
        </p:blipFill>
        <p:spPr>
          <a:xfrm>
            <a:off x="684360" y="907920"/>
            <a:ext cx="3205080" cy="45291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Рисунок4"/>
          <p:cNvPicPr/>
          <p:nvPr/>
        </p:nvPicPr>
        <p:blipFill>
          <a:blip r:embed="rId1"/>
          <a:stretch/>
        </p:blipFill>
        <p:spPr>
          <a:xfrm>
            <a:off x="3857760" y="692280"/>
            <a:ext cx="4459320" cy="3551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Расправа царя с приближенными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320" y="4076640"/>
            <a:ext cx="8991360" cy="27050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Земский собор отправил Адашева в тюрьму,где он вскоре умер,а Сильвестр был сослан на Соловки,где вскоре погиб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1563 г.умер митрополит Макарий, сдерживав-ший царя.Новый митрополит-Афанасий встал на сторону бояр,но это только развязало ца-рю руки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74160" y="1665360"/>
            <a:ext cx="19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Васнецов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осковский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застенок.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учитель</cp:lastModifiedBy>
  <cp:lastPrinted>1997-01-19T19:09:28Z</cp:lastPrinted>
  <dcterms:modified xsi:type="dcterms:W3CDTF">2012-04-18T07:40:22Z</dcterms:modified>
  <cp:revision>76</cp:revision>
  <dc:subject/>
  <dc:title>Заголовок слайда отсутствует</dc:title>
</cp:coreProperties>
</file>