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5B5-82E0-494C-AE8A-9ABC92C1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4EA-35F5-41FF-B11E-29F37D66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383-EFAC-4993-8FA0-842FE328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2AD-D5F3-47A6-A48F-DBE0D004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BAF6-CA26-4941-AE30-AD75BD68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0DFE-D62A-4579-AAC0-AFB5C42B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4779-048C-4BA8-ABE5-50A9B681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BC16-DB0F-4EEB-9609-CD5C13F8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49F6-3821-4169-81BF-E9AE7A8B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7250-454E-4C63-9C72-A399C39C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10D1-5415-40D4-B365-6C6A8738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405-2838-4D4A-A527-A0C3626F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0524-EC47-4E64-B2A3-4B4511E4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8990-588C-4A97-83D0-D4A4B03B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19F7-3E4F-42D3-AF93-03D3336E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270B-B826-41C7-B024-5607FDDC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9334-EFE9-417F-9E6F-5EF7DE26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68C-D44E-4B62-8077-74DAFC5E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660-4A81-4BC6-B9BC-E37BE1F5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268-7369-48DE-9CF2-C45C3DCD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DDD-7DD4-46CD-BE35-279635EA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CBB-FB34-4431-AB02-FB876C55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2EC-5789-4BC5-810C-AEFEB824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E51-D653-4132-828B-AD78E053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1984-F364-4948-9833-8D5F95F0CC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3B6B-F036-4BCA-A8F7-2511127D88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ема: Функция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y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=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x</a:t>
            </a:r>
            <a:r>
              <a:rPr b="0" lang="ru-RU" sz="3800" spc="-1" strike="noStrike" baseline="30000">
                <a:solidFill>
                  <a:srgbClr val="330033"/>
                </a:solidFill>
                <a:latin typeface="Times New Roman"/>
              </a:rPr>
              <a:t>2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x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,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её свойства и график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ести алгоритм построения графика  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мотреть свойства данн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ировать умение строить график данной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есь анализ бесконечных вращ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круг переменных величин и их  функций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.Эй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39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азовите коэффициент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вадратичной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у = 7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– 3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2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у = 8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 у = 0,5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+ 1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г) у=0,4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+1\7-3\10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1" i="1" lang="en-US" sz="2000" spc="-1" strike="noStrike" baseline="30000">
                <a:solidFill>
                  <a:srgbClr val="a50021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Запишите уравнение прямой, которая является осью симметрии парабол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 у=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1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у=7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1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  у=-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2 ;                                                          г)  у=6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9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Найти координаты вершины парабо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 у=-4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8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1;         б) у= 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1;             в)   у=-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6340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строить графики функции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= -х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2х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 У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+ 4х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У =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4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ТОГ УРОК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09720" y="1600200"/>
          <a:ext cx="418176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9720" y="1600200"/>
                    <a:ext cx="41817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58920" y="765000"/>
          <a:ext cx="7129440" cy="583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765000"/>
                    <a:ext cx="712944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6080"/>
            <a:ext cx="7772400" cy="79380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амостоятельная работ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координатной плоскости с помощью шаблонов построить график данных фун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1.                                    В.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1                            1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(x+3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2                     2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y =1/2(x-3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3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По данным графикам нужно назвать функции:</a:t>
            </a:r>
            <a:br>
              <a:rPr sz="2900"/>
            </a:b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38163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716360" y="1773360"/>
          <a:ext cx="403884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773360"/>
                    <a:ext cx="40388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98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19280" y="620640"/>
          <a:ext cx="6356160" cy="568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620640"/>
                    <a:ext cx="635616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211640" y="83664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760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47640" y="836640"/>
          <a:ext cx="5616720" cy="525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836640"/>
                    <a:ext cx="5616720" cy="52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357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Заменить звёздочки числами таким образом, чтобы равенства стали вер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2а * +в 2  = (а - *)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*2 =(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*)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2 +6x + *2 = (x + *)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9 –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* +*2 = (3 - *)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ыделить полный квадрат из трёхчл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2 – 8x +1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2 + 6x + 1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1341360"/>
                <a:ext cx="6095880" cy="404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280" y="-2187720"/>
                <a:ext cx="7129440" cy="109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76364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6480" y="277920"/>
            <a:ext cx="7419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остроить график функции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=-3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+6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+2</a:t>
            </a:r>
            <a:br>
              <a:rPr sz="2500"/>
            </a:b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3640" y="2104920"/>
            <a:ext cx="6120000" cy="475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130788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6x+2=-3(x2 -2*x*1+1-1)+2=-3(x-1)2+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26800" y="395280"/>
            <a:ext cx="74120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ши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раболы служ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ка (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осью параболы является прям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 е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\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рабол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ит прямая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\2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абсцисса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ершины парабол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яется 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\2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рдина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ршин параболы запоминать не нужно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= 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23880" y="1413000"/>
                <a:ext cx="6096240" cy="40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ывод!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троя график можно ответить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Куда направлены ветви параб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Найти уравнение оси параб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Найти координаты вершины параб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 у =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- 3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;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0:41:11Z</dcterms:created>
  <dc:creator>ученик</dc:creator>
  <dc:description/>
  <dc:language>en-US</dc:language>
  <cp:lastModifiedBy>Admin</cp:lastModifiedBy>
  <dcterms:modified xsi:type="dcterms:W3CDTF">2010-12-28T19:08:51Z</dcterms:modified>
  <cp:revision>9</cp:revision>
  <dc:subject/>
  <dc:title>Тема: Функция y=ax2+bx+c, её свойства и график</dc:title>
</cp:coreProperties>
</file>