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B15-119D-4E26-8C54-691F57B0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83C5-D510-4C52-946E-A13A35AF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EF37-4E04-46CA-A74D-6BCB934A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2143-5C5B-478C-AAE3-09667B3F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108F-7842-47C1-837A-3BD64F70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02C6-0E78-4CDB-8411-BDC6D670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C2F2-57AB-4B0F-B994-BCDF0CBA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061E-EB32-494A-B2B8-B443A88E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7609-7C30-4057-B59B-0C46FED2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F692-143B-4415-96C6-012765CB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2189-55C7-4C9F-B2A2-1E337028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2FC5-6A90-41C1-BF50-B3D988CD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E408-E735-4B9E-92F5-92E87987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B51A-CD34-4993-B535-C5BA52D5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1E95-990F-49C7-B011-7F3347C9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4D0D-76F8-434B-9F0E-9C04ECCF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8B28-47A9-43EE-9D27-1E5E629C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5A7-55CB-4914-941B-96AD37CB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384-D74D-4251-8FA4-5072A926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A02-5A62-46A7-B9F6-7C8D4B76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E966-054D-4D35-ACF9-BE9E4F8A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B57-CE7B-4965-892B-6CAB3B48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A6EF-DEA0-49E5-BF5F-03930205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EB0-8DCC-4079-A1C2-EED4F5FE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D204-051F-4CF6-A78C-720AA93E993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73E2-C9B1-44CD-BBDD-282C3F38A22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ffb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ема: Функция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y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=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x</a:t>
            </a:r>
            <a:r>
              <a:rPr b="0" lang="ru-RU" sz="3800" spc="-1" strike="noStrike" baseline="30000">
                <a:solidFill>
                  <a:srgbClr val="330033"/>
                </a:solidFill>
                <a:latin typeface="Times New Roman"/>
              </a:rPr>
              <a:t>2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+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x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+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,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её свойства и график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вести алгоритм построения графика  функци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смотреть свойства данной фун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ормировать умение строить график данной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есь анализ бесконечных вращаетс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круг переменных величин и их  функций»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.Эйл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39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Назовите коэффициент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вадратичной фун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у = 7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– 3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- 2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у = 8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- 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 у = 0,5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+ 1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г) у=0,4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+1\7-3\10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1" i="1" lang="en-US" sz="2000" spc="-1" strike="noStrike" baseline="30000">
                <a:solidFill>
                  <a:srgbClr val="a50021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Запишите уравнение прямой, которая является осью симметрии параболы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 у=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1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у=7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1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  у=-5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2 ;                                                          г)  у=6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9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Найти координаты вершины парабо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 у=-4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8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1;         б) у= -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1;             в)   у=-3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+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63400"/>
          </a:xfrm>
          <a:prstGeom prst="rect">
            <a:avLst/>
          </a:prstGeom>
          <a:solidFill>
            <a:srgbClr val="ffffb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остроить графики функции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= -х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2х -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 У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+ 4х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У = х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4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ТОГ УРОК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09720" y="1600200"/>
          <a:ext cx="418176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9720" y="1600200"/>
                    <a:ext cx="418176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1508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58920" y="765000"/>
          <a:ext cx="7129440" cy="583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765000"/>
                    <a:ext cx="7129440" cy="58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06080"/>
            <a:ext cx="7772400" cy="793800"/>
          </a:xfrm>
          <a:prstGeom prst="rect">
            <a:avLst/>
          </a:prstGeom>
          <a:solidFill>
            <a:srgbClr val="ffffb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амостоятельная работ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координатной плоскости с помощью шаблонов построить график данных функц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 1.                                    В.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y =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1                            1) y =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y =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(x+3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2                     2) y =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y =1/2(x-3)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3) y =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ffffb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330033"/>
                </a:solidFill>
                <a:latin typeface="Times New Roman"/>
              </a:rPr>
              <a:t>По данным графикам нужно назвать функции:</a:t>
            </a:r>
            <a:br>
              <a:rPr sz="2900"/>
            </a:b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844640"/>
            <a:ext cx="38163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716360" y="1773360"/>
          <a:ext cx="403884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773360"/>
                    <a:ext cx="40388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698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619280" y="620640"/>
          <a:ext cx="6356160" cy="568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620640"/>
                    <a:ext cx="6356160" cy="56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211640" y="83664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760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47640" y="836640"/>
          <a:ext cx="5616720" cy="525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836640"/>
                    <a:ext cx="5616720" cy="52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1357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Заменить звёздочки числами таким образом, чтобы равенства стали вер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2а * +в 2  = (а - *)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– 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*2 =(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*)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2 +6x + *2 = (x + *)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9 –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* +*2 = (3 - *)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ыделить полный квадрат из трёхчл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2 – 8x +1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2 + 6x + 10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1341360"/>
                <a:ext cx="6095880" cy="404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11280" y="-2187720"/>
                <a:ext cx="7129440" cy="109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76364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6480" y="277920"/>
            <a:ext cx="7419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Пример 1</a:t>
            </a: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остроить график функции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=-3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+6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+2</a:t>
            </a:r>
            <a:br>
              <a:rPr sz="2500"/>
            </a:b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63640" y="2104920"/>
            <a:ext cx="6120000" cy="4753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68360" y="130788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6x+2=-3(x2 -2*x*1+1-1)+2=-3(x-1)2+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26800" y="395280"/>
            <a:ext cx="741204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ши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раболы служи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ка (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осью параболы является пряма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 е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\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рабол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ит прямая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\2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абсцисса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ершины парабол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яется по форму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\2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ордина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ршин параболы запоминать не нужно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 = 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523880" y="1413000"/>
                <a:ext cx="6096240" cy="40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Вывод!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строя график можно ответить на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Куда направлены ветви параб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Найти уравнение оси параб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Найти координаты вершины параб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 у =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1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- 3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;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0:41:11Z</dcterms:created>
  <dc:creator>ученик</dc:creator>
  <dc:description/>
  <dc:language>en-US</dc:language>
  <cp:lastModifiedBy>Admin</cp:lastModifiedBy>
  <dcterms:modified xsi:type="dcterms:W3CDTF">2010-12-28T19:08:51Z</dcterms:modified>
  <cp:revision>9</cp:revision>
  <dc:subject/>
  <dc:title>Тема: Функция y=ax2+bx+c, её свойства и график</dc:title>
</cp:coreProperties>
</file>