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996-FC08-4EAC-9BAF-8FE402BA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946-05FB-4BA9-81D9-97344E33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231-B8FF-468F-9778-69C44D09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4E5-0E16-41DF-9933-004F486F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8D81-6576-4903-A830-A4DCC2E1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E303-1E46-4A49-AF47-1F68E517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687C-2F92-4290-B2CC-3CB3205B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711E-F4CA-4300-859F-7E3991E2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100F-3A7C-4560-8845-9FC1FF33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AD02-4A48-457C-B1EA-31E04508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329F-7E22-4A13-8AE1-25F0774C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D48-84D3-4D9A-B353-74326148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8188-A115-4BA4-8DB6-2774BE99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675D-5BE4-426C-9136-4DB7506D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47F8-359D-47F6-B7A5-83C355DA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7839-E486-42B5-A0B3-C696FF70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A08A-ACAF-4500-92B5-F46E631E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23C-8F64-4AD7-8F74-A49A81D7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7E0-9AA8-4D47-93ED-711BA569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496-C019-4164-9885-4DA2FAF5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F123-7379-4638-90B3-4C7F0D4E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B76-157A-44BC-BA63-957AC1F8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6BB-B8CB-46FA-9215-278A5CC0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636-6F7B-4431-ABF1-94D75BED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3B0F-E31F-425A-BC04-696A6F2538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E903-16F0-4D80-BED6-60419B4013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ема: Функция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y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=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x</a:t>
            </a:r>
            <a:r>
              <a:rPr b="0" lang="ru-RU" sz="3800" spc="-1" strike="noStrike" baseline="30000">
                <a:solidFill>
                  <a:srgbClr val="330033"/>
                </a:solidFill>
                <a:latin typeface="Times New Roman"/>
              </a:rPr>
              <a:t>2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+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x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+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,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её свойства и график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вести алгоритм построения графика  функци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мотреть свойства данной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рмировать умение строить график данной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есь анализ бесконечных вращ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круг переменных величин и их  функций»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.Эйл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39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азовите коэффициент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вадратичной фун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у = 7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– 3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- 2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у = 8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- 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 у = 0,5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+ 1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г) у=0,4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+1\7-3\10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1" i="1" lang="en-US" sz="2000" spc="-1" strike="noStrike" baseline="30000">
                <a:solidFill>
                  <a:srgbClr val="a50021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Запишите уравнение прямой, которая является осью симметрии параболы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 у=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1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у=7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1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  у=-5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2 ;                                                          г)  у=6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9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Найти координаты вершины парабо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 у=-4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8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1;         б) у= 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1;             в)   у=-3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6340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остроить графики функции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= -х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2х 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 У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+ 4х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У =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4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ТОГ УРОК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09720" y="1600200"/>
          <a:ext cx="418176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9720" y="1600200"/>
                    <a:ext cx="41817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508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58920" y="765000"/>
          <a:ext cx="7129440" cy="583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765000"/>
                    <a:ext cx="7129440" cy="58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6080"/>
            <a:ext cx="7772400" cy="79380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амостоятельная работ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координатной плоскости с помощью шаблонов построить график данных функ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1.                                    В.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y 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1                            1) y 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y 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(x+3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2                     2) y 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y =1/2(x-3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3) y 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По данным графикам нужно назвать функции:</a:t>
            </a:r>
            <a:br>
              <a:rPr sz="2900"/>
            </a:b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38163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716360" y="1773360"/>
          <a:ext cx="403884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773360"/>
                    <a:ext cx="40388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98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19280" y="620640"/>
          <a:ext cx="6356160" cy="568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620640"/>
                    <a:ext cx="635616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211640" y="83664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760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47640" y="836640"/>
          <a:ext cx="5616720" cy="525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836640"/>
                    <a:ext cx="5616720" cy="52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1357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Заменить звёздочки числами таким образом, чтобы равенства стали вер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2а * +в 2  = (а - *)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–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*2 =(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*)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2 +6x + *2 = (x + *)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9 –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* +*2 = (3 - *)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ыделить полный квадрат из трёхчл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2 – 8x +1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2 + 6x + 10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1341360"/>
                <a:ext cx="6095880" cy="404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11280" y="-2187720"/>
                <a:ext cx="7129440" cy="109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76364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6480" y="277920"/>
            <a:ext cx="7419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Пример 1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остроить график функции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=-3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+6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+2</a:t>
            </a:r>
            <a:br>
              <a:rPr sz="2500"/>
            </a:b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63640" y="2104920"/>
            <a:ext cx="6120000" cy="475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68360" y="130788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6x+2=-3(x2 -2*x*1+1-1)+2=-3(x-1)2+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26800" y="395280"/>
            <a:ext cx="74120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ши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раболы служ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ка (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осью параболы является пряма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 е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\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рабол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ит прямая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\2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абсцисса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ершины парабол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яется по форму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\2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ордина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ршин параболы запоминать не нужно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 = 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23880" y="1413000"/>
                <a:ext cx="6096240" cy="40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ывод!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строя график можно ответить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Куда направлены ветви параб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Найти уравнение оси параб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Найти координаты вершины параб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 у =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- 3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;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0:41:11Z</dcterms:created>
  <dc:creator>ученик</dc:creator>
  <dc:description/>
  <dc:language>en-US</dc:language>
  <cp:lastModifiedBy>Admin</cp:lastModifiedBy>
  <dcterms:modified xsi:type="dcterms:W3CDTF">2010-12-28T19:08:51Z</dcterms:modified>
  <cp:revision>9</cp:revision>
  <dc:subject/>
  <dc:title>Тема: Функция y=ax2+bx+c, её свойства и график</dc:title>
</cp:coreProperties>
</file>