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33D-8260-4FDE-90F5-E482F41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B3A-6CC8-4E29-8E9E-3DB7124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EA9-44DB-489C-95FF-7FA91DD8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D19-BB24-49AD-804C-4718C9B3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9332-D7B2-4DF8-8425-23FDC9C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B86A-00E8-4FAD-960A-232AC34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6CC-787E-432C-8B81-C4F8498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329C-E6F6-4246-A318-1B6D5D64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BA5D-C8C9-4824-B4D8-040F7B9F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3EB0-5EAC-4D0E-8893-CAFA44C2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EB2E-EB65-47EC-8965-7068136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642-1E4C-4EE8-9145-1F208A5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9D86-A380-4425-B8CA-418F805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D0B6-2CC3-474B-BE57-712EB1C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684E-2955-4795-9283-D45E3F33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DB5-0D0C-4B08-B4DC-1419A5DA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C537-DFAB-4B23-82B1-B7467F50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BC5-EFFE-457D-B55B-5A39060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BBD-920E-4774-8D1F-672ED233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0A8-60EA-49C6-A80A-83179EA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749-F704-41D2-BD56-56AA8378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A65-DEA9-4927-A510-126A97DF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379-8A99-4AB8-A004-7614AAF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3B4-58FE-44B3-811F-5D3C593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E395-BA3F-4341-8560-F86A04C9C2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828-D217-4CF8-8C4B-F9FA084FC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llege.ru/astronomy/course/content/models/screensh/hayashy.jp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8;&#1077;&#1088;&#1084;&#1086;&#1103;&#1076;&#1077;&#1088;&#1085;&#1072;&#1103;_&#1088;&#1077;&#1072;&#1082;&#1094;&#1080;&#1103;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608720" cy="3948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основные характеристики звезд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95280" y="458136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11 «Г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енко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692360" y="1916280"/>
            <a:ext cx="9649080" cy="720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 звезды – едва ли не самая важная ее характеристика. Масса определяет весь жизненный путь звез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у можно оценить для звезд, входящих в двойные звездные системы, если известны большая полуось орбиты а и период обращения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 этом случае массы определяются из третьего закона Кеплера, который может быть записан в следующем виде: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есь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 и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 – массы компонент системы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– гравитационная постоянная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ссы звез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2232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12240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звезд главной последовательности установлено, что чем больше масса, тем выше светимость звезды. Эта зависимость нелинейна: например, с увеличением массы вдвое светимость возрастает более чем в 10 раз. Сравнения масс и светимостей для большинства звезд выявили следующую зависимость: светимость приблизительно пропорциональна четвертой степени ма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21621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Источники энергии Солнца и звез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точник энерг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а - термоядерные реакции. Ядерные реакции с протонами для космоса - вещь обычная, так как водород - самый распространенный элемент во всей Вселенной. Таким образом, протоны не представляют дефицита, а роль ускорителей в космосе играют, в частности, недра звезд. Температура там столь велика, что часть протонов приобретает вполне достаточные для начала ядерных реакций скорости. Такие реакции, где для «активирования» протонов используется температура, называются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рмоядерны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796000" cy="4926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по современным данным, существует уже около 5 млрд лет, так что ему ещё жить и жи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спектров, цвета, температуры, светимости и масс звезд позволили классифицировать их по спектральным классом и светимостью звезд, а так же связь между их массой и свет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ayashy.jpg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college.ru/astronomy/course/content/chapter6/section2/paragraph2/theory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924360" cy="5276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Диаграмма «спектр – светимость»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4356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амом начале XX в. датский астроном Герцшпрунг и несколько позже американский астрофизик Рессел установили существование зависимости между видом спектра (т.е. температурой) и светимостью звезд. Эта зависимость иллюстрируется графиком, по одной оси которого откладывается спектральный класс, а по другой — абсолютная звездная величина. Такой график называется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иаграммой спектр — светимость или диаграммой Герцшпрунга — Рессе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ерхней части диаграммы находятся звезды, обладающие наибольшей светимостью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иган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верхгиган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Звезды в нижней половине диаграммы обладают низкой светимостью и называются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рликами.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иболее богатую звездами диагональ, идущую слева вниз направо, называют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лавной последовательностью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доль нее расположены звезды, начиная от самых горячих (в верхней части) до наиболее холодных (в нижне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видно в целом звезды распределяются на диаграмме Герцшпрунга — Рессела весьма неравномерно, что соответствует существованию определенной зависимости между светимостями и температурами всех звезд. Наиболее четко это выражено для звезд главной последователь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824200"/>
            <a:ext cx="5219640" cy="403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лавная последовательно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лавная последова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— область на диаграмм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ерцшпрунга — Рессе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содержащая звёзды, источником энергии которых является  термоядерная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акция синтеза гелия из водорода. К звездам главной последовательности относится наше Солнце. Плотности звезд главной последовательности сравнимы с солнечной плот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530360"/>
            <a:ext cx="6948360" cy="532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сные гига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7760" y="4221000"/>
            <a:ext cx="55562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этой группе в основном относятся звезды с радиусами, в десятки раз превышающими солнечный ради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верхгига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ерхгига́н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одни из самых массивных звёзд. Массы сверхгигантов варьируются от 10 до 70 масс Солнца, светимости — от 30 000 вплоть до сотен тысяч солнечных.Радиусы могут сильно отличаться — от 30 до 500, а иногда и превышают 1000 солнеч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2125800"/>
            <a:ext cx="6588000" cy="473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Белые карл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 группа звезд в основном белого цвета, лишённые собственных источников термоядерной энергии. Белые карлики представляют собой компактные звёзды с массами, сравнимыми с массой Солнца, но с радиусами  меньшими солнечной. По численности белые карлики составляют, по разным оценкам, 3—10 % звёздного населения нашей Галак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5596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пектральная классификация звез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8:13:12Z</dcterms:created>
  <dc:creator>Наталюшко)</dc:creator>
  <dc:description/>
  <dc:language>en-US</dc:language>
  <cp:lastModifiedBy>Наталюшко)</cp:lastModifiedBy>
  <dcterms:modified xsi:type="dcterms:W3CDTF">2011-04-19T11:48:13Z</dcterms:modified>
  <cp:revision>4</cp:revision>
  <dc:subject/>
  <dc:title>основные характеристики звезд</dc:title>
</cp:coreProperties>
</file>