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7F64-2A60-4FA2-98B7-2E11A3D21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741E-A48E-4BB8-8294-2EE103D92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F527-6EC2-47DD-BE81-EB57CECCE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F9A2-36E7-4684-8D8C-742CB53A2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6A46D-D530-4C50-A205-B2C2BC039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5C37F-110F-41AA-81E1-2E352ED18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76D1C-F17C-4D91-A5EB-8BB16CEA8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5F7D5-5ED7-4D0C-B35E-801191E09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AA9C2-5395-4404-9B3E-890BCDE46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88C79-3C77-4FEF-8B76-850CB185D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7F12E-32F5-4180-890F-FDD3F641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68A3-B75C-4330-8EE6-343441F90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30500-5B98-4879-947F-7DE2584D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C87CA-47E4-4F9A-B54E-9E624641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111E3-06B4-4830-9937-6970C4446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F7815-E31E-4CC0-B440-24C8075C7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6A186-42D6-45D1-9564-584925D53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D4EF-6815-4738-A240-E3F536BFF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BF7E-8469-49B0-B334-1CD40E338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6D16-44C0-4762-9FA7-F56B0416D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D166-B9E9-4C09-A3EB-D7F7CBD75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F3A6-AB45-4ACB-81D8-C4941867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383F-2294-47E1-88AD-DD0E02C3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DC16-2B38-4560-8766-26392BFD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9D86E-07B6-4B2A-B338-5CC8ECFF7C2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6624F-3014-4A87-8BFC-E6D02306760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college.ru/astronomy/course/content/models/screensh/hayashy.jpg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ru.wikipedia.org/wiki/&#1058;&#1077;&#1088;&#1084;&#1086;&#1103;&#1076;&#1077;&#1088;&#1085;&#1072;&#1103;_&#1088;&#1077;&#1072;&#1082;&#1094;&#1080;&#1103;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79280" y="2565360"/>
            <a:ext cx="4608720" cy="39481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13600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основные характеристики звезд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195280" y="4581360"/>
            <a:ext cx="655308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боту выполнил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ченица 11 «Г» клас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абенко Наталь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-1692360" y="1916280"/>
            <a:ext cx="9649080" cy="72007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4000" y="1557000"/>
            <a:ext cx="7848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асса звезды – едва ли не самая важная ее характеристика. Масса определяет весь жизненный путь звез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ассу можно оценить для звезд, входящих в двойные звездные системы, если известны большая полуось орбиты а и период обращения 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В этом случае массы определяются из третьего закона Кеплера, который может быть записан в следующем виде: 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десь 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 и 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 – массы компонент системы, 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– гравитационная постоянная 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Массы звезд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700360" y="4508640"/>
            <a:ext cx="2232000" cy="86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38720" cy="40482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50920" y="122400"/>
            <a:ext cx="8569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звезд главной последовательности установлено, что чем больше масса, тем выше светимость звезды. Эта зависимость нелинейна: например, с увеличением массы вдвое светимость возрастает более чем в 10 раз. Сравнения масс и светимостей для большинства звезд выявили следующую зависимость: светимость приблизительно пропорциональна четвертой степени масс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492360" y="4724280"/>
            <a:ext cx="2162160" cy="13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Источники энергии Солнца и звезд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сточник энергии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лнца - термоядерные реакции. Ядерные реакции с протонами для космоса - вещь обычная, так как водород - самый распространенный элемент во всей Вселенной. Таким образом, протоны не представляют дефицита, а роль ускорителей в космосе играют, в частности, недра звезд. Температура там столь велика, что часть протонов приобретает вполне достаточные для начала ядерных реакций скорости. Такие реакции, где для «активирования» протонов используется температура, называются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термоядерным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547640" y="260280"/>
            <a:ext cx="5796000" cy="49262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лнце, по современным данным, существует уже около 5 млрд лет, так что ему ещё жить и жить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ределение спектров, цвета, температуры, светимости и масс звезд позволили классифицировать их по спектральным классом и светимостью звезд, а так же связь между их массой и светимость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ayashy.jpg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http://college.ru/astronomy/course/content/chapter6/section2/paragraph2/theory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076720" y="1197000"/>
            <a:ext cx="3924360" cy="52768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Диаграмма «спектр – светимость»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360" y="1052640"/>
            <a:ext cx="543564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самом начале XX в. датский астроном Герцшпрунг и несколько позже американский астрофизик Рессел установили существование зависимости между видом спектра (т.е. температурой) и светимостью звезд. Эта зависимость иллюстрируется графиком, по одной оси которого откладывается спектральный класс, а по другой — абсолютная звездная величина. Такой график называется 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диаграммой спектр — светимость или диаграммой Герцшпрунга — Рессела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верхней части диаграммы находятся звезды, обладающие наибольшей светимостью (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гиганты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и 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сверхгиганты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) Звезды в нижней половине диаграммы обладают низкой светимостью и называются 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карликами. 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иболее богатую звездами диагональ, идущую слева вниз направо, называют 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главной последовательностью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Вдоль нее расположены звезды, начиная от самых горячих (в верхней части) до наиболее холодных (в нижней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ак видно в целом звезды распределяются на диаграмме Герцшпрунга — Рессела весьма неравномерно, что соответствует существованию определенной зависимости между светимостями и температурами всех звезд. Наиболее четко это выражено для звезд главной последовательности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2824200"/>
            <a:ext cx="5219640" cy="40338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Главная последовательность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лавная последовательность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— область на диаграмме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Герцшпрунга — Рессел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содержащая звёзды, источником энергии которых является  термоядерная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реакция синтеза гелия из водорода. К звездам главной последовательности относится наше Солнце. Плотности звезд главной последовательности сравнимы с солнечной плотностью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195640" y="1530360"/>
            <a:ext cx="6948360" cy="53276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714840" cy="37148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Красные гиганты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587760" y="4221000"/>
            <a:ext cx="555624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 этой группе в основном относятся звезды с радиусами, в десятки раз превышающими солнечный радиу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429000" y="0"/>
            <a:ext cx="5715000" cy="38098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Сверхгиганты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верхгига́нты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— одни из самых массивных звёзд. Массы сверхгигантов варьируются от 10 до 70 масс Солнца, светимости — от 30 000 вплоть до сотен тысяч солнечных.Радиусы могут сильно отличаться — от 30 до 500, а иногда и превышают 1000 солнечных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556000" y="2125800"/>
            <a:ext cx="6588000" cy="47322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Белые карлик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Эта группа звезд в основном белого цвета, лишённые собственных источников термоядерной энергии. Белые карлики представляют собой компактные звёзды с массами, сравнимыми с массой Солнца, но с радиусами  меньшими солнечной. По численности белые карлики составляют, по разным оценкам, 3—10 % звёздного населения нашей Галакти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7559640" cy="56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Спектральная классификация звезд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56144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08:13:12Z</dcterms:created>
  <dc:creator>Наталюшко)</dc:creator>
  <dc:description/>
  <dc:language>en-US</dc:language>
  <cp:lastModifiedBy>Наталюшко)</cp:lastModifiedBy>
  <dcterms:modified xsi:type="dcterms:W3CDTF">2011-04-19T11:48:13Z</dcterms:modified>
  <cp:revision>4</cp:revision>
  <dc:subject/>
  <dc:title>основные характеристики звезд</dc:title>
</cp:coreProperties>
</file>