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FD43-C67F-4274-BBE8-39ABC5A6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BB55-8013-4240-83B9-AE84117B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CCA4-D4E3-4BE8-B62E-87535FDB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ACE9-E871-40A1-9B8C-24CCC032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0C1F-5336-4773-B712-9BAF496D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79F5-10EB-4E07-9BA1-14184C92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695F-40FC-4276-8D3B-870B9F8F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39F3-AEF2-404B-BC8A-C240570F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CA4F-40AA-45EA-96C5-B6DE05A3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2E5E-30DF-4D23-8FB8-D9DD9E92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218B-3CAB-4619-81C2-5E3E8B52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F192-A0F3-4559-8C35-6814368E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FFDA-651E-4572-A8E6-0C1A6A47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954C-01C6-4292-AF83-C150B81F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BF9E-DE2B-47C5-AA05-572449DA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802E-F45E-4894-997D-E4B2F504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FE66-7D0B-406B-9975-BBE3D135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161-1571-4B33-8EFB-C7772845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1C48-E2F0-451B-8C3D-F1634FA3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A318-C787-4B4D-99E0-D83AD4D1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A7D4-BA9D-45D4-A085-19BB1BC6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9FE1-BB01-4912-BBDC-BA7012A2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F8AD-CB16-430C-941F-51B1B35A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068A-601D-455E-AF96-B53FADC0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33B2-463F-4EF2-896B-F0FA89CDC3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D406-1326-4A02-A610-F319B3445F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ollege.ru/astronomy/course/content/models/screensh/hayashy.jpg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ru.wikipedia.org/wiki/&#1058;&#1077;&#1088;&#1084;&#1086;&#1103;&#1076;&#1077;&#1088;&#1085;&#1072;&#1103;_&#1088;&#1077;&#1072;&#1082;&#1094;&#1080;&#1103;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4608720" cy="39481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1360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основные характеристики звезд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195280" y="4581360"/>
            <a:ext cx="65530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боту выполнил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ница 11 «Г» кл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абенко Натал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1692360" y="1916280"/>
            <a:ext cx="9649080" cy="7200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000" y="155700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сса звезды – едва ли не самая важная ее характеристика. Масса определяет весь жизненный путь звез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ссу можно оценить для звезд, входящих в двойные звездные системы, если известны большая полуось орбиты а и период обращения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В этом случае массы определяются из третьего закона Кеплера, который может быть записан в следующем виде: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десь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 и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 – массы компонент системы,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– гравитационная постоянная 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ассы звезд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700360" y="4508640"/>
            <a:ext cx="223200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38720" cy="4048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0920" y="122400"/>
            <a:ext cx="8569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звезд главной последовательности установлено, что чем больше масса, тем выше светимость звезды. Эта зависимость нелинейна: например, с увеличением массы вдвое светимость возрастает более чем в 10 раз. Сравнения масс и светимостей для большинства звезд выявили следующую зависимость: светимость приблизительно пропорциональна четвертой степени мас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492360" y="4724280"/>
            <a:ext cx="2162160" cy="13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Источники энергии Солнца и звезд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точник энерги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лнца - термоядерные реакции. Ядерные реакции с протонами для космоса - вещь обычная, так как водород - самый распространенный элемент во всей Вселенной. Таким образом, протоны не представляют дефицита, а роль ускорителей в космосе играют, в частности, недра звезд. Температура там столь велика, что часть протонов приобретает вполне достаточные для начала ядерных реакций скорости. Такие реакции, где для «активирования» протонов используется температура, называются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термоядерным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5796000" cy="49262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нце, по современным данным, существует уже около 5 млрд лет, так что ему ещё жить и жит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ение спектров, цвета, температуры, светимости и масс звезд позволили классифицировать их по спектральным классом и светимостью звезд, а так же связь между их массой и светим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ayashy.jpg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ttp://college.ru/astronomy/course/content/chapter6/section2/paragraph2/theory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76720" y="1197000"/>
            <a:ext cx="3924360" cy="52768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Диаграмма «спектр – светимость»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543564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самом начале XX в. датский астроном Герцшпрунг и несколько позже американский астрофизик Рессел установили существование зависимости между видом спектра (т.е. температурой) и светимостью звезд. Эта зависимость иллюстрируется графиком, по одной оси которого откладывается спектральный класс, а по другой — абсолютная звездная величина. Такой график называется 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иаграммой спектр — светимость или диаграммой Герцшпрунга — Рессел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верхней части диаграммы находятся звезды, обладающие наибольшей светимостью (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гигант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и 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сверхгигант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) Звезды в нижней половине диаграммы обладают низкой светимостью и называются 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карликами.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иболее богатую звездами диагональ, идущую слева вниз направо, называют 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главной последовательностью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Вдоль нее расположены звезды, начиная от самых горячих (в верхней части) до наиболее холодных (в нижней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 видно в целом звезды распределяются на диаграмме Герцшпрунга — Рессела весьма неравномерно, что соответствует существованию определенной зависимости между светимостями и температурами всех звезд. Наиболее четко это выражено для звезд главной последовательност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2824200"/>
            <a:ext cx="5219640" cy="4033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Главная последовательность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лавная последовательност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— область на диаграмм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Герцшпрунга — Рессе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содержащая звёзды, источником энергии которых является  термоядерная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еакция синтеза гелия из водорода. К звездам главной последовательности относится наше Солнце. Плотности звезд главной последовательности сравнимы с солнечной плотность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95640" y="1530360"/>
            <a:ext cx="6948360" cy="5327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14840" cy="37148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расные гигант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87760" y="4221000"/>
            <a:ext cx="55562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этой группе в основном относятся звезды с радиусами, в десятки раз превышающими солнечный радиу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Сверхгигант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ерхгига́нт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— одни из самых массивных звёзд. Массы сверхгигантов варьируются от 10 до 70 масс Солнца, светимости — от 30 000 вплоть до сотен тысяч солнечных.Радиусы могут сильно отличаться — от 30 до 500, а иногда и превышают 1000 солнечны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56000" y="2125800"/>
            <a:ext cx="6588000" cy="4732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Белые карлик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а группа звезд в основном белого цвета, лишённые собственных источников термоядерной энергии. Белые карлики представляют собой компактные звёзды с массами, сравнимыми с массой Солнца, но с радиусами  меньшими солнечной. По численности белые карлики составляют, по разным оценкам, 3—10 % звёздного населения нашей Галакт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55964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пектральная классификация звезд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56144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08:13:12Z</dcterms:created>
  <dc:creator>Наталюшко)</dc:creator>
  <dc:description/>
  <dc:language>en-US</dc:language>
  <cp:lastModifiedBy>Наталюшко)</cp:lastModifiedBy>
  <dcterms:modified xsi:type="dcterms:W3CDTF">2011-04-19T11:48:13Z</dcterms:modified>
  <cp:revision>4</cp:revision>
  <dc:subject/>
  <dc:title>основные характеристики звезд</dc:title>
</cp:coreProperties>
</file>