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41387-7472-44B2-8EEA-800634080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C9608-D8CC-4D7B-B610-3062D632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5C72D-5C72-4829-BEF9-682952B21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04E64-752F-4F38-8CEC-F5704F824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11DC8-FCA8-41B2-943B-E36BCAB10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5E41E-C950-4CC3-A1A9-A0F97FCA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9631-9612-4119-AF3E-14D31647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F6BC-B092-44FE-8AC2-87C4C976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7605-0C1C-46D7-91EC-2DC30728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BAD9-6014-4155-A4D1-26B99DE7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E5A2-BC71-4B5D-893A-C33DF477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D9312-D314-4DEF-B8D3-6B83628F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685D6-08DB-42AC-B40C-3FB0DA0D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4E3FA-E132-4BA9-A190-EA822D2A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3013-E5CE-4C61-9CA7-B50E5FC8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F502-E7BF-4BA2-BEEC-C911502F3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2680-006C-4928-842A-589E79D97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BEADE-D0ED-40EB-BCDC-D2E32B3A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D5E69-00B1-4781-8C02-25BDFB9C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E2F55-CFEC-41C1-8283-CDE495DD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8FFEC-D8A2-4EAC-8D55-644DCD28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DC127-A68C-4A3C-B893-5F7ED70E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80C2E-C9EB-4CA2-960F-F45F7F4C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2C28C-28B6-4C3F-BEBB-8C19D8F6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781A-3CE8-4205-B7E8-090ECA15BC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47FD-C891-4677-AC90-F00D7FCF44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slenitsa has a dual ancest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"/>
          <p:cNvSpPr/>
          <p:nvPr/>
        </p:nvSpPr>
        <p:spPr>
          <a:xfrm>
            <a:off x="4932360" y="1628640"/>
            <a:ext cx="3889440" cy="38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On the pagan side, Maslenitsa is a sun festiv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On the Christian side, Maslenitsa is the last week before the L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3168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8fd35"/>
                </a:solidFill>
                <a:latin typeface="Franklin Gothic Heavy"/>
              </a:rPr>
              <a:t>Saturday-Sister-in-law’s Gathering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"/>
          <p:cNvSpPr/>
          <p:nvPr/>
        </p:nvSpPr>
        <p:spPr>
          <a:xfrm>
            <a:off x="4932360" y="3213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419640" y="2852640"/>
            <a:ext cx="2808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d35"/>
                </a:solidFill>
                <a:latin typeface="Arial"/>
              </a:rPr>
              <a:t>Sunday-Forgiveness Day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"/>
          <p:cNvSpPr/>
          <p:nvPr/>
        </p:nvSpPr>
        <p:spPr>
          <a:xfrm>
            <a:off x="755640" y="2349360"/>
            <a:ext cx="784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orgiveness of each 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eparing for L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urning Maslenitsa do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11280" y="4437000"/>
            <a:ext cx="2952720" cy="2214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012000" y="2349360"/>
            <a:ext cx="270504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he symbol of Maslenitsa is bliny (pancakes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341360"/>
            <a:ext cx="26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59280" y="3068640"/>
            <a:ext cx="27684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076720" y="3429000"/>
            <a:ext cx="3294000" cy="2803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300720" y="6206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059280" y="836640"/>
            <a:ext cx="2104920" cy="2171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971640" y="4076640"/>
            <a:ext cx="240984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324000" y="692280"/>
            <a:ext cx="1923840" cy="23810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11280" y="3213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amov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35280" y="321300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fool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(kisel)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77080" y="270828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cheesecake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27640" y="6308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agel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623736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oney cak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8fd35"/>
                </a:solidFill>
                <a:latin typeface="Garamond"/>
              </a:rPr>
              <a:t>Maslenitsa day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141300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aslenitsa lives seven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411280" y="2708280"/>
            <a:ext cx="396108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8fd35"/>
                </a:solidFill>
                <a:latin typeface="Franklin Gothic Heavy"/>
              </a:rPr>
              <a:t>Monday-meet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203640" y="2205000"/>
            <a:ext cx="3025800" cy="40356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50920" y="306864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8fd35"/>
                </a:solidFill>
                <a:latin typeface="Franklin Gothic Heavy"/>
              </a:rPr>
              <a:t>Tuesday-gam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132000" y="2421000"/>
            <a:ext cx="295272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8fd35"/>
                </a:solidFill>
                <a:latin typeface="Franklin Gothic Heavy"/>
              </a:rPr>
              <a:t>Wednesday-feast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1654200" cy="1214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627280" y="2708280"/>
            <a:ext cx="1584360" cy="12002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356000" y="2708280"/>
            <a:ext cx="1805040" cy="1236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6877080" y="2781360"/>
            <a:ext cx="1584360" cy="1189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187280" y="4508640"/>
            <a:ext cx="1298880" cy="1341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3276720" y="4508640"/>
            <a:ext cx="1365120" cy="1249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5940360" y="4508640"/>
            <a:ext cx="129240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8fd35"/>
                </a:solidFill>
                <a:latin typeface="Franklin Gothic Heavy"/>
              </a:rPr>
              <a:t>Thursday-Revel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2852640"/>
            <a:ext cx="46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419640" y="2421000"/>
            <a:ext cx="20905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8fd35"/>
                </a:solidFill>
                <a:latin typeface="Franklin Gothic Heavy"/>
              </a:rPr>
              <a:t>Friday-Mother-in-law’s Ev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771640" y="2565360"/>
            <a:ext cx="3745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9T15:55:53Z</dcterms:created>
  <dc:creator>Худолей</dc:creator>
  <dc:description/>
  <dc:language>en-US</dc:language>
  <cp:lastModifiedBy>Татьяна</cp:lastModifiedBy>
  <dcterms:modified xsi:type="dcterms:W3CDTF">2011-04-14T15:54:01Z</dcterms:modified>
  <cp:revision>12</cp:revision>
  <dc:subject/>
  <dc:title>Слайд 1</dc:title>
</cp:coreProperties>
</file>