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B3FD-D058-43E9-AE45-87E14151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BE21-0976-474A-90C9-62927A8E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56FA-E21B-4F12-A400-1423AAA8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D1D0-B2AC-4ED1-8CDD-4B730AFA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6C0C-4616-48A4-9334-513B43B5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B526-DFFF-408E-8195-1C6056EC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CDA8-D5F1-489B-B61B-0EF4B375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6D9B-0DCE-469F-AD78-7C21B54E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D0F7-6839-44D3-A1AE-B83F4694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9149-1B58-4224-9849-567870FF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9CF8-2852-4182-8C2C-0553CC23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9552-5341-4718-A617-B8C7CFC3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60FA-8C04-4C70-8724-C55B6DB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365B-182D-4121-9F06-EB26141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18A8-F3E7-411E-A5A5-0D62F779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3D05-A131-41A2-8584-1E3998CE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C853-CD21-4BB7-B8F0-4860B55E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C9CA-67AB-491D-B0E8-0A36C6D0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598B-58CC-4C5E-B885-573DD7A8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D6A5-D184-46F9-9522-4DB615E4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B631-7BB2-4CCF-8937-5A45812E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9399-7343-4D5C-8317-A5C20194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338D-1A4C-44F0-B783-DFDC5626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6D8D-2F6F-4341-85CF-C0EFE86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B73D-F4FF-44C0-B313-C69216B089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972-59D8-4F19-994E-6521DE7CEF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lenitsa has a dual ances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1628640"/>
            <a:ext cx="388944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 the pagan side, Maslenitsa is a sun festi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 the Christian side, Maslenitsa is the last week before the L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8fd35"/>
                </a:solidFill>
                <a:latin typeface="Franklin Gothic Heavy"/>
              </a:rPr>
              <a:t>Saturday-Sister-in-law’s Gather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21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2808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d35"/>
                </a:solidFill>
                <a:latin typeface="Arial"/>
              </a:rPr>
              <a:t>Sunday-Forgiveness Da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34936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giveness of each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paring for 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urning Maslenitsa do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1280" y="4437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7050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symbol of Maslenitsa is bliny (pancake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34136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27684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294000" cy="2803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00720" y="62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059280" y="836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240984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24000" y="692280"/>
            <a:ext cx="1923840" cy="2381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321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mov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3213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foo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kisel)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7080" y="27082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cheesecak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27640" y="63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g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62373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ney cak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Garamond"/>
              </a:rPr>
              <a:t>Maslenitsa day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slenitsa lives seven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Monday-mee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3025800" cy="4035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3068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Tuesday-ga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2952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Wednesday-feas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1654200" cy="121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158436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356000" y="2708280"/>
            <a:ext cx="1805040" cy="123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877080" y="278136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08640"/>
            <a:ext cx="129888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76720" y="4508640"/>
            <a:ext cx="1365120" cy="124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5940360" y="4508640"/>
            <a:ext cx="12924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Thursday-Revel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85264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2090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8fd35"/>
                </a:solidFill>
                <a:latin typeface="Franklin Gothic Heavy"/>
              </a:rPr>
              <a:t>Friday-Mother-in-law’s E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5:55:53Z</dcterms:created>
  <dc:creator>Худолей</dc:creator>
  <dc:description/>
  <dc:language>en-US</dc:language>
  <cp:lastModifiedBy>Татьяна</cp:lastModifiedBy>
  <dcterms:modified xsi:type="dcterms:W3CDTF">2011-04-14T15:54:01Z</dcterms:modified>
  <cp:revision>12</cp:revision>
  <dc:subject/>
  <dc:title>Слайд 1</dc:title>
</cp:coreProperties>
</file>