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E2FB1-C355-4F63-8085-7043064B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17739-B8BA-48CA-95C2-EEBC9904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F5A59-A203-4D43-80CF-84A15408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45F11-D330-4795-BE71-74A04AE7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33C0-9E8F-4F55-9BB9-79CDDD27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B620-B45D-4F30-AA08-721FB82D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EC9C-134A-49B8-91A9-AC8B5F1F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A9CF-1CE4-45D8-A27D-782A89C3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B8C5-9337-48C2-8D06-06861F0F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5A1E-EF6C-4779-90DC-625C136A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BC8D-670F-4247-AB46-AA63581E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307AC-3E0A-4802-A93A-8B3C82CB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012E-77B8-4CB2-8203-8BCEE699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1E69-2C82-4BC0-8943-08D095CD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487E-C0B5-4CEF-A5B1-2B740D07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CC24-605E-4E0B-8ACD-023FD9F5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F99F-0606-4B81-A405-B95EEE95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6211A-76CF-49FE-9840-264E4D9A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92A5E-029B-4D67-A06C-7FC4C443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BF319-D6A2-440B-8F4F-CD9EE93A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272A4-2D5A-44F0-8ECE-7E623A30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02E28-32C0-47ED-BE59-C6BC5C64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AF11B-2D60-41C7-A52B-390D380F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934F8-1FD1-49AF-8753-2DF551E2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6123-9C0F-4EDC-B201-F439A3EEE2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03CF-2F3C-4839-B395-B14FAE5DA6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slenitsa has a dual ancest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1628640"/>
            <a:ext cx="388944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On the pagan side, Maslenitsa is a sun festiv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On the Christian side, Maslenitsa is the last week before the L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168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8fd35"/>
                </a:solidFill>
                <a:latin typeface="Franklin Gothic Heavy"/>
              </a:rPr>
              <a:t>Saturday-Sister-in-law’s Gatheri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/>
          <p:nvPr/>
        </p:nvSpPr>
        <p:spPr>
          <a:xfrm>
            <a:off x="4932360" y="3213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19640" y="2852640"/>
            <a:ext cx="2808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d35"/>
                </a:solidFill>
                <a:latin typeface="Arial"/>
              </a:rPr>
              <a:t>Sunday-Forgiveness Day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2349360"/>
            <a:ext cx="784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rgiveness of each 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paring for L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urning Maslenitsa do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11280" y="443700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012000" y="2349360"/>
            <a:ext cx="27050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symbol of Maslenitsa is bliny (pancakes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34136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59280" y="3068640"/>
            <a:ext cx="27684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76720" y="3429000"/>
            <a:ext cx="3294000" cy="2803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300720" y="620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059280" y="836640"/>
            <a:ext cx="2104920" cy="2171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971640" y="4076640"/>
            <a:ext cx="240984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24000" y="692280"/>
            <a:ext cx="1923840" cy="2381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11280" y="3213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amov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5280" y="3213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fool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kisel)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77080" y="270828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cheesecake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27640" y="630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ge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623736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oney cak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d35"/>
                </a:solidFill>
                <a:latin typeface="Garamond"/>
              </a:rPr>
              <a:t>Maslenitsa day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413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aslenitsa lives seven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396108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d35"/>
                </a:solidFill>
                <a:latin typeface="Franklin Gothic Heavy"/>
              </a:rPr>
              <a:t>Monday-mee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03640" y="2205000"/>
            <a:ext cx="3025800" cy="4035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0920" y="3068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d35"/>
                </a:solidFill>
                <a:latin typeface="Franklin Gothic Heavy"/>
              </a:rPr>
              <a:t>Tuesday-ga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132000" y="2421000"/>
            <a:ext cx="295272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d35"/>
                </a:solidFill>
                <a:latin typeface="Franklin Gothic Heavy"/>
              </a:rPr>
              <a:t>Wednesday-feas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1654200" cy="1214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627280" y="2708280"/>
            <a:ext cx="1584360" cy="1200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356000" y="2708280"/>
            <a:ext cx="1805040" cy="1236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877080" y="278136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87280" y="4508640"/>
            <a:ext cx="1298880" cy="1341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3276720" y="4508640"/>
            <a:ext cx="1365120" cy="124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5940360" y="4508640"/>
            <a:ext cx="129240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d35"/>
                </a:solidFill>
                <a:latin typeface="Franklin Gothic Heavy"/>
              </a:rPr>
              <a:t>Thursday-Revel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285264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19640" y="2421000"/>
            <a:ext cx="20905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8fd35"/>
                </a:solidFill>
                <a:latin typeface="Franklin Gothic Heavy"/>
              </a:rPr>
              <a:t>Friday-Mother-in-law’s Ev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9T15:55:53Z</dcterms:created>
  <dc:creator>Худолей</dc:creator>
  <dc:description/>
  <dc:language>en-US</dc:language>
  <cp:lastModifiedBy>Татьяна</cp:lastModifiedBy>
  <dcterms:modified xsi:type="dcterms:W3CDTF">2011-04-14T15:54:01Z</dcterms:modified>
  <cp:revision>12</cp:revision>
  <dc:subject/>
  <dc:title>Слайд 1</dc:title>
</cp:coreProperties>
</file>