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329-1DB8-4612-BE14-E9A025DFC4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710E-F5D8-4F66-9C2E-BEBFFA7CA3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1EC-F422-481E-9B6D-BB69B38C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5EF-E394-44DD-AD7A-1BBACC9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05B-2B75-4194-8605-B0264386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1AD-A359-4F8C-8B3A-626574D6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F78-5CDB-4CAD-9273-ACBF33B4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956-60D8-47F6-94B5-2318D57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46A-6490-4C34-AF52-B839BDD6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8D5-317E-4455-A37A-D710EBD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ACF-61AF-4496-91E0-D7EA755C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B89-5496-4D2F-A190-3E43275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A11-7FA3-4E8B-A211-E3B4EC6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F7E-3250-462D-A384-285832D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E97-9AF4-4B1E-A93C-41859659C7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97880" y="283356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овите наиболее важные поняти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ажающие суть те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ZooM</cp:lastModifiedBy>
  <dcterms:modified xsi:type="dcterms:W3CDTF">2013-12-10T14:19:01Z</dcterms:modified>
  <cp:revision>9</cp:revision>
  <dc:subject/>
  <dc:title>ПОПС-формула</dc:title>
</cp:coreProperties>
</file>