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ED7-BF36-4824-95B0-AD622EDAF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7090-DFBE-4674-9B58-DE0AFB31E7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54B-C513-41C6-88AC-696B05E3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B5E-59BC-4284-B77F-107957CB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9D2-6814-48BA-B2D1-6DCF61AD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A4C-672A-463A-841B-437F1127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AD7B-C0B3-4542-ADDC-589162D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69A-6DDA-41D0-8F05-5B3AA5F0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6CE-6DF1-468C-BB3D-B23187F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4E1-8E4F-4AFC-9953-8AE3801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951-599D-4FCB-A326-192129CE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545-0E76-4689-991F-65540C5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E6AE-4E8C-427F-A1A6-C5D6DF6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D64-8CDD-4A73-B6B7-46A5CF92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5CBA-5B63-4F5B-98A3-BC51E30723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4000" spc="-1" strike="noStrike">
                <a:solidFill>
                  <a:srgbClr val="808000"/>
                </a:solidFill>
                <a:latin typeface="Times New Roman"/>
              </a:rPr>
              <a:t>Тема урока</a:t>
            </a:r>
            <a:br>
              <a:rPr sz="8000"/>
            </a:b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«Закон и власть»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Сильна Россия чуде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е устала их пле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есь выбирают овцы 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бе волков себя паст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Никакая власть не должна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евышать законы» (лат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Что объединяет содержание этих цита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Как это объяснит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 какой позицией Вы согласны?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ущность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м отношении находятся власть и зако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отношение имеет закон к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чём состоит смысл принципа разделения власт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вы фун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законода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полнительно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удеб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вей власт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огласны ли ВЫ с тем, что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«закон, что дышло: куда повернёшь, туда и вышл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97880" y="283356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овите наиболее важные понятия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ражающие суть тем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Основные понятия темы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сть, разделение властей, законодательная власть, исполнительная власть, судебная власть, закон, конституция,  кодекс, подзаконный акт, правовой обычай, судебный прецедент, прокуратура, Конституционный суд, арбитражный суд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ды общей юрисдикции,  уголовный процесс, гражданский процесс, судебный иск, принципы правосуд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ОПС-формула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я (я ду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снование (потому чт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(аргумен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ствие (выво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рефлексия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Закон суров, но это закон» 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гласны ли Вы с этой поговоркой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Могут л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власть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закон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жить в мире и согласии в нашем государств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Есть ли такое, что мешает представителям власти соблюдать законы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огда я буду совершеннолетним гражданином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работу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05:17Z</dcterms:created>
  <dc:creator>Елена Владимировна</dc:creator>
  <dc:description/>
  <dc:language>en-US</dc:language>
  <cp:lastModifiedBy>ZooM</cp:lastModifiedBy>
  <dcterms:modified xsi:type="dcterms:W3CDTF">2013-12-10T14:19:01Z</dcterms:modified>
  <cp:revision>9</cp:revision>
  <dc:subject/>
  <dc:title>ПОПС-формула</dc:title>
</cp:coreProperties>
</file>