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4CEE-E2A8-4B7C-B3D3-6DD4ADFBAE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EB4-5095-432F-B124-9C257D9D14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642-C621-485D-A541-091C18B0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97F-F187-475A-BC62-BDAD63B6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71A-4D03-4B96-9416-D90D871D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D8C-4260-4804-9BA0-E2EE61FC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B7E-C9CB-46A6-AF98-323980E8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373-0733-4106-91AC-FD386A8B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227-A384-4BE5-8E85-B272B45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5C8-7526-4AAA-B0AB-CC7EE98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F5A-EC0B-46F6-B946-6757AA9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0D4-BDCE-4F30-B1C4-77DA7F2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C1F-4424-4585-8FDA-D94F555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49E-F735-4BEF-B895-15E0EF6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0D1-238B-4FFC-BA3D-897DDFF90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97880" y="283356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овите наиболее важные поняти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ажающие суть те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ZooM</cp:lastModifiedBy>
  <dcterms:modified xsi:type="dcterms:W3CDTF">2013-12-10T14:19:01Z</dcterms:modified>
  <cp:revision>9</cp:revision>
  <dc:subject/>
  <dc:title>ПОПС-формула</dc:title>
</cp:coreProperties>
</file>