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380F-97E4-4EF4-A78E-6659401B5E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2433-A035-46E4-8AA7-80161E17E0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6341-9132-4BC6-AA93-727E69FCFC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0029-68E2-47AC-AB89-E155FA35DF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2E3B-4F04-463E-86FA-FFF459651D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0FF9-3C0E-4B37-8F33-767014B8D4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9299-6503-40CE-8DC1-ACD65CD30D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38C6-EDE5-406C-A327-D5A71B8E5C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AF53-256C-4C61-ABEA-86F9B92305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164C-4BE4-4DD1-8E6C-D5E8ED0B61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489C-CD42-4415-92BD-EE743C660C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DE1-5D90-40D3-9F1D-6AD882CD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0BD-3AAD-4194-B37E-49683F30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654F6-FB9B-449C-836F-4E1677C9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99B82-DA81-4E6E-9955-CF9A635F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67C43-37D2-46B0-AD3F-D205EFC4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F69A1-84D5-4A68-9116-A6F2ECDB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4FB25-88FB-4E75-BD37-D9BE8CB4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B872B-9D72-40C9-9421-43085D33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74A04-CB80-4666-B0D3-587A642C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D6681-2E99-4D01-9884-15CF0B00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EAA32-03A9-4BE0-937A-7CA51058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2AC-E589-4E3D-9C28-A464198E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84F-4452-401F-9055-A60A0469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600E-25A8-4237-A5DF-01120749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5ABC-8C49-46D2-96FB-E6D1706A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54BC-C5CE-4F19-AC68-82072E65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D86B-D277-4F29-BB67-070E130C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023F-31A4-4853-B43C-98C7C04D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F792-921E-4748-B0E3-BA5A45FC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51DE-7716-4838-8654-B2F86323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7FBB-1FA9-4A29-A58E-C6608A4C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97B7-B64A-4525-8F07-A36CB2CB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6A61-9A39-4406-A597-0F4F59B3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7CFB-20F1-4A09-B3B8-A5E8BECC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2356-2FF2-465A-9747-061AEF31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1B5D-4C38-4591-9CD3-35EE0B11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3693C-15FC-4887-98D4-3F58C3F5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704C8-E515-4F73-8AE6-565CA473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47809-15D6-4578-ABD2-F66D138E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99D0A-0D86-4D66-B510-DF3240FF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AC734-08DE-49BF-9DD6-06AD0264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ECA6-4252-4074-97D4-026122F7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5468C-2578-4DBB-875F-8DBB48A9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0FF38-0914-4645-964E-D5A0AC8E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6AD43-02D4-4EC3-995A-E8B56136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43E85-9DE9-4A7F-83A7-F343B95F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B7998-4726-489E-9BD7-0BDA4300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BB024-51D7-4EE4-BFB2-21382918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8876A-3F3F-47F0-BE50-5770F7E7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C9BBE-4425-473E-ABC8-07AE8C1E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4E11E-9F10-4891-9C07-96CF0AFA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92CFB-BC57-4B5B-9F14-8B37F241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156-C294-4C2F-A82D-F718A97C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43F61-D2FE-4063-858D-EFDA8D22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A5F17-5BDC-48E1-8BB0-6D163AA2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50445-F909-44E6-9D00-BE99952C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9A8DD-A446-4176-900E-DBD9BD93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3D48F-77A3-4BBA-87BB-28B3692C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8A93D-8520-43E1-ACB7-4C661CC2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9B2C6-B9D1-41C1-B20B-4A1F12F7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CB395-2C13-47C3-A831-847EC98E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7D7C5-80A3-4901-AC69-F19A9E67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021BF-5212-47AD-BD56-5AACB315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A763-1937-495E-ADFC-F8F53D70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879CA-7640-47C7-A2C2-5B476254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B4182-E387-44CC-A484-0A4B4903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77CF6-3A91-4673-B2DB-C5A4DEAE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D0873-3F12-4AC1-B399-36A6F411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1C519-A2B1-40FA-B6C3-9697E233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A99E9-DA83-4074-A02F-E928BB11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44A7F-A1A0-4442-8961-926B16EE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44E6C-EA51-48C2-B368-DAE06FD7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ECC5E-D8C4-475A-8CCC-9F7B1C47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37A90-B5CD-485E-A5B4-A09DC236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CFC-CB66-40DC-ACD4-33B26DA2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03C5C-E132-4242-9013-5831EC31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0CEFB-964E-482C-94F3-2444DE34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9F762-C7A2-4846-BC5B-E2A276EE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25565-4F70-4B2C-AA67-54C83CBE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6FD37-C798-40A9-95DA-518F572D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27E41-EF7C-435A-A15C-4E24C5BA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F7A2F-D9AA-49EB-B68C-7D95C7CB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B69C8-A9E4-4AE2-B30D-0A35BBC3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CD579-CB25-4A86-A90E-CE4434BC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13FBE-968A-4E80-A1C4-4B7E05F4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11F-9D8D-408F-B5FB-F7390153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30B73-B509-45FC-BB05-2BB9EA23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23515-0563-4DAA-A1A1-B8D95E51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A731C-6AA7-4618-BAD5-F25528D4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D25CD-E9D2-4A34-9A73-712B8E12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ACBD4-1AE7-41C1-A31C-CB03A346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738BF-AB6E-46A7-8525-E0BFCBA9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B10DD-378A-41A9-A209-F0B23842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3A679-E90B-49BD-9564-0A80437B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CB36E-53FF-41EC-B4B1-F47FADFF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F4B70-3A20-4E7F-8700-5E5C5135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0A10-401C-45F4-B6C9-D2DB3D53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CE1F6-CF7E-4B87-A5DD-716F9927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9324D-F427-4D9E-97CD-C4624269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B4C67-6168-45DD-9972-66EDA2F3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3EEEA-4371-4E32-93B6-C86FDB38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FF953-96AE-4D6F-81FC-A4F50188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1B380-1D8C-4D18-98A6-F22A9107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446F6-02C5-4500-A745-D51BFF56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DF52A-E114-4197-8A2E-C715E81F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12B0A-40B4-4BE0-B5E7-EB9479ED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D90BF-7873-4D38-99EF-B4B5AF6C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2B26-89E0-4AA9-942B-82D2D7BB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41955-80B4-440C-BD3D-AFF898BC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CC386-40E8-4E62-ABEA-78903D0A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A0C03-0B19-4D5A-8EAF-E471EB0F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3F64A-CE7A-4075-8C99-74AACB66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B16A0-9924-4348-ADF4-CB03C5D5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AAF4D-31A7-4BD6-84DD-342719C9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92459-EEBB-4EBB-A09E-6ADD09C2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5670C-E88D-41C5-AC53-68084032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C4B21-2588-46C9-9864-EB92D027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025CF-2B5F-4B89-9D6A-475439E3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9EAE-D143-4790-8FA7-2AB3ACD13DEC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E837-8F19-4760-88AB-643B1E9646AA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70BD-2FE3-4AAE-8191-1FB33BF3086D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1EC3-F009-4812-AFAD-F4833B90445B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82EA-51FD-43C4-B277-D033153FB122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683F-ADFB-40C2-8DCE-340900EC84B1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B62D-376F-42EB-80D4-1F5B3A36016E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E460-D2B4-4366-A3B6-59461C9D3EA1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6ED5-2519-41E2-A00F-1C5E6579FE3D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85680" y="2004840"/>
            <a:ext cx="8759880" cy="44323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56760"/>
            <a:ext cx="84582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асносельск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ковского муниципального района  Волгоградской област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pic>
        <p:nvPicPr>
          <p:cNvPr id="425" name="Содержимое 2" descr=""/>
          <p:cNvPicPr/>
          <p:nvPr/>
        </p:nvPicPr>
        <p:blipFill>
          <a:blip r:embed="rId2"/>
          <a:stretch/>
        </p:blipFill>
        <p:spPr>
          <a:xfrm>
            <a:off x="298440" y="1122480"/>
            <a:ext cx="86994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детей соблюдать правила пожарной безопасности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ть действиям при возникновении пожа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знания правильного поведения при пожаре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ать навыки осторожного обращения с огнём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785080" cy="6742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Users\Алена\Desktop\fire_safety_for_children_8.jpg"/>
          <p:cNvPicPr/>
          <p:nvPr/>
        </p:nvPicPr>
        <p:blipFill>
          <a:blip r:embed="rId2"/>
          <a:stretch/>
        </p:blipFill>
        <p:spPr>
          <a:xfrm>
            <a:off x="1571760" y="142920"/>
            <a:ext cx="56433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-79200" y="706320"/>
            <a:ext cx="8772480" cy="6413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C:\Users\Алена\Desktop\fire_safety_for_children_3.jpg"/>
          <p:cNvPicPr/>
          <p:nvPr/>
        </p:nvPicPr>
        <p:blipFill>
          <a:blip r:embed="rId2"/>
          <a:stretch/>
        </p:blipFill>
        <p:spPr>
          <a:xfrm>
            <a:off x="1785960" y="0"/>
            <a:ext cx="5429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6407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C:\Users\Алена\Desktop\fire_safety_for_children_5.jpg"/>
          <p:cNvPicPr/>
          <p:nvPr/>
        </p:nvPicPr>
        <p:blipFill>
          <a:blip r:embed="rId2"/>
          <a:stretch/>
        </p:blipFill>
        <p:spPr>
          <a:xfrm>
            <a:off x="1928880" y="142920"/>
            <a:ext cx="53578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6407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Users\Алена\Desktop\v02_11_1200_17062009.jpg"/>
          <p:cNvPicPr/>
          <p:nvPr/>
        </p:nvPicPr>
        <p:blipFill>
          <a:blip r:embed="rId2"/>
          <a:stretch/>
        </p:blipFill>
        <p:spPr>
          <a:xfrm>
            <a:off x="2071800" y="142920"/>
            <a:ext cx="51433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6407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Users\Алена\Desktop\v02_02_1200_17062009.jpg"/>
          <p:cNvPicPr/>
          <p:nvPr/>
        </p:nvPicPr>
        <p:blipFill>
          <a:blip r:embed="rId2"/>
          <a:stretch/>
        </p:blipFill>
        <p:spPr>
          <a:xfrm>
            <a:off x="2071800" y="142920"/>
            <a:ext cx="52149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644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C:\Users\Алена\Desktop\v02_07_1200_17062009.jpg"/>
          <p:cNvPicPr/>
          <p:nvPr/>
        </p:nvPicPr>
        <p:blipFill>
          <a:blip r:embed="rId2"/>
          <a:stretch/>
        </p:blipFill>
        <p:spPr>
          <a:xfrm>
            <a:off x="1785960" y="142920"/>
            <a:ext cx="54291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640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Users\Алена\Desktop\v02_05_1200_17062009.jpg"/>
          <p:cNvPicPr/>
          <p:nvPr/>
        </p:nvPicPr>
        <p:blipFill>
          <a:blip r:embed="rId2"/>
          <a:stretch/>
        </p:blipFill>
        <p:spPr>
          <a:xfrm>
            <a:off x="1857240" y="214200"/>
            <a:ext cx="5500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7:03:26Z</dcterms:created>
  <dc:creator>Алена</dc:creator>
  <dc:description/>
  <dc:language>en-US</dc:language>
  <cp:lastModifiedBy>Алена</cp:lastModifiedBy>
  <dcterms:modified xsi:type="dcterms:W3CDTF">2010-08-22T12:49:15Z</dcterms:modified>
  <cp:revision>18</cp:revision>
  <dc:subject/>
  <dc:title>Отчего может возникнуть пожар.</dc:title>
</cp:coreProperties>
</file>