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8F4-DD88-44B9-B786-737B9AE2ED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5029-01FC-49E8-8B0F-A3F77B2406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1F6A-26C9-479B-A157-2F74A9314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C2E3-B1CB-4EEF-A1DA-FF2AC088DF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E13-2618-4044-A238-F395CD0E72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DDA-7A87-4B29-A15E-5596DE7F01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516D-CD5D-4EDD-9AB4-D11994EB67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2C8D-509D-4BCE-A106-9E1916FEED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8152-84D8-4E67-81FB-5A307E8C42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1033-5475-49B0-9809-917FEB11F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CDC-7A98-4C65-84EB-F938AFDA52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76D-DDDA-462B-855D-FFBEA1E6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3CF-DEF2-41D9-9E77-ACE397F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58D6-EE70-4353-AE7B-0262D65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13375-DEEF-4C9F-8E02-3B14F80F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AFDFF-5BCC-4B1C-A35E-136FA683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6FA4E-7AB9-4CF7-8A67-DE83E7A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1A86-6ED6-446E-9E61-373EEE3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E54AE-06A9-420C-B976-B43A086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22DBF-230A-40B1-A5CF-260D3258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9B01-A084-4A8F-BC1E-A1D8510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341C8-BE75-4159-A372-90B0E309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499-72EC-4012-8031-7454A89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F97-A449-4AC4-9983-EDF5C7EE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7F21-FD45-4947-A0CD-91B625B5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C2D3-60F4-43DF-B833-CB1C0D7A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5D0C-EC9D-470B-A1A4-B9821981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6F3-6336-452F-A641-3062567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02A7-94F1-40E6-BF97-55C398C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43C-E3B4-40DE-866B-612E6EEE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D0F-2776-4498-9E49-124E99E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CB2-CE06-4803-9800-236AA1D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6356-7369-4762-891F-CFD358C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A889-E6E4-41DC-9140-F23DA77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68A1-8F22-47D3-9B1E-13F9A2D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1EBD-E0FD-4D6C-9F44-017372EC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CAD7-3ADA-419E-A276-B096C54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E30B-A72F-41C1-AFD8-BDE413BB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582B-36C6-49F8-8CD3-0177C79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26F2-ADC8-4E0B-95D4-8C199E5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0931-6E98-4667-B36A-2816C41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9134-1E43-4DCF-8811-0047D9E3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8AC-F65C-41AA-A09B-8D086360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5121-0960-4BF9-AE9B-6F2D222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258B-98A3-46AA-81D2-875CD94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E6F7-0318-4646-BA16-D4711D4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B103-BA29-418F-A95F-7EB25F2D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08B6-3C71-44AF-B33E-6D81715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15D3-F867-42D6-9EF9-9D140F1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86B9-225E-44BF-91CC-B30AD53B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E595-011F-41AB-98F6-F2995CE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1949-3383-4861-96F9-7655CBD9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093D-0F9C-4F86-9A46-A8218BA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00C-3728-4BB4-9859-0274DAD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E5AD-A939-4847-81F8-7F9D6B7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A0C2-7D3F-498E-9018-90BE7C1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0938-9282-4B52-8561-8C81F6F4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1B92-9C5A-49AE-8DA4-5F27822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2AB40-E76B-4584-B1D8-D5F2A803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BF11-AD98-4F31-923C-5123AD6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56A1-C62F-4467-92B5-B5A211C5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22D4-F601-4803-8EFD-C1D02461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48A6-AC7D-4797-8ABB-83D54CE1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AB64-697E-4528-A7F7-32034569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53D-8425-494C-A3BF-7EBB65E7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B7F3-F0EE-4191-8865-A33C5B18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6C6C-3D7A-430C-B14C-185D2B64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3451E-3940-4A39-A46B-CDEFA22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C821-F204-4940-B05A-8C47380F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D24C-FE56-4F57-9566-731C1A40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15148-4AAD-40CF-863A-85381D47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8586-BBB1-4D1C-9E5C-A175D94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30BF-93DF-4396-8BFD-C9E5522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455E-6582-4068-976C-CDB0B7A0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58B6-1612-4200-A07F-A09FD431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663-CA1B-44FA-82EC-BF3C624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D0E4-3288-44F2-9385-44F68033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8FF8-A4F6-4ECD-8998-6252496C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EF561-89DE-49A5-A4FB-980F12DA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A15D-7580-416B-828D-0D7B6307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94EE0-F49D-4289-B582-C88D94AC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87C8-6B61-47DB-B084-7EC019B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35C2-F3A9-45CC-B765-3A767DA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C66A-322C-48F1-B987-CD84CAC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2FD4-C746-45F1-9580-B6A25E4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FED6-0632-4DE1-BEB4-A7A6E01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AB2-137E-408C-A373-E75BFA5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C2AB-2B23-4E11-A754-7E6C88B2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E83DB-C520-4F12-BCBA-0BA55940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0B55-5747-412A-8D1B-1F3C515A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D94C-CD0C-482E-89F8-0214858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993A-846B-4E90-AEA6-E97DC5DC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BCDA-B834-4AE6-8EC4-02B899CD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F4DA-44A0-4342-85A1-A1F84EB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9347C-25F9-4156-8BF7-EEBDFB20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3911-4ACA-4F60-872D-AF40331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1A0C0-3079-4BA6-A8A1-816D26C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6EB-1FAB-402E-A2E1-623D15A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EB77A-30B4-47FA-882E-5FBEA9B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39B3-9FBA-44E8-BADF-038A445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6CF56-FE94-4FDF-AEA9-97BB70D4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918E3-9FAC-4FB7-919B-42485C17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67EF-5FA3-439F-B0DA-F3680E9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AF6B0-82B9-483B-BB37-74583F88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8AFA-4109-464F-A673-35D5EB1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0EB6D-C5FA-4653-86D5-7BF52B72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402F5-18E1-4579-8C97-8D327A08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0ADF5-9088-4782-8722-5EC9D7A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C7E-E634-45FE-A6EB-D36A384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22833-7725-450F-9671-0A15DD25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E247-969E-4F6B-B22F-AA2CE04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906A-AFCA-43A4-82BE-FABC891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9566C-2D22-48D2-B196-2E13E8B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F6B2-3184-4E98-9575-7970381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5033-7607-4D73-BD3E-4BEFE71D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D140C-BAB3-4567-A642-13309D32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923E-9B47-4FBE-AF15-49F9309B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C549A-3977-4959-B5F3-B359F88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9A5C7-96DA-4ADA-9FEB-E7109002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0973-DF30-413D-A908-8CB5D1DFFBDB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05AE-FA25-4C8C-8A5F-0E4598B0A57D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0AA-9171-4EC9-8913-D7AD7F03F589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A54-414F-4518-85E3-95B1E1C92B98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A617-2976-4A0E-A2D4-9AA713AFC20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CD5-4B71-4892-B0B9-99C54E3D1C3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F5C9-307D-4214-99E2-7D1C6386BA53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B89A-547A-444A-A348-67A42D98E340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44FF-CA15-4CFE-B657-24865FBAAA5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85680" y="2004840"/>
            <a:ext cx="8759880" cy="44323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56760"/>
            <a:ext cx="84582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носельск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ковского муниципального района  Волгоградской област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2" descr=""/>
          <p:cNvPicPr/>
          <p:nvPr/>
        </p:nvPicPr>
        <p:blipFill>
          <a:blip r:embed="rId2"/>
          <a:stretch/>
        </p:blipFill>
        <p:spPr>
          <a:xfrm>
            <a:off x="298440" y="1122480"/>
            <a:ext cx="86994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соблюдать правила пожарной безопасности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ть действиям при возникновении пож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правильного поведения при пожар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навыки осторожного обращения с огнём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6742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Алена\Desktop\fire_safety_for_children_8.jpg"/>
          <p:cNvPicPr/>
          <p:nvPr/>
        </p:nvPicPr>
        <p:blipFill>
          <a:blip r:embed="rId2"/>
          <a:stretch/>
        </p:blipFill>
        <p:spPr>
          <a:xfrm>
            <a:off x="1571760" y="142920"/>
            <a:ext cx="5643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-79200" y="706320"/>
            <a:ext cx="8772480" cy="6413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Алена\Desktop\fire_safety_for_children_3.jpg"/>
          <p:cNvPicPr/>
          <p:nvPr/>
        </p:nvPicPr>
        <p:blipFill>
          <a:blip r:embed="rId2"/>
          <a:stretch/>
        </p:blipFill>
        <p:spPr>
          <a:xfrm>
            <a:off x="1785960" y="0"/>
            <a:ext cx="5429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C:\Users\Алена\Desktop\fire_safety_for_children_5.jpg"/>
          <p:cNvPicPr/>
          <p:nvPr/>
        </p:nvPicPr>
        <p:blipFill>
          <a:blip r:embed="rId2"/>
          <a:stretch/>
        </p:blipFill>
        <p:spPr>
          <a:xfrm>
            <a:off x="1928880" y="142920"/>
            <a:ext cx="53578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Алена\Desktop\v02_11_1200_17062009.jpg"/>
          <p:cNvPicPr/>
          <p:nvPr/>
        </p:nvPicPr>
        <p:blipFill>
          <a:blip r:embed="rId2"/>
          <a:stretch/>
        </p:blipFill>
        <p:spPr>
          <a:xfrm>
            <a:off x="2071800" y="142920"/>
            <a:ext cx="51433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Алена\Desktop\v02_02_1200_17062009.jpg"/>
          <p:cNvPicPr/>
          <p:nvPr/>
        </p:nvPicPr>
        <p:blipFill>
          <a:blip r:embed="rId2"/>
          <a:stretch/>
        </p:blipFill>
        <p:spPr>
          <a:xfrm>
            <a:off x="2071800" y="142920"/>
            <a:ext cx="5214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4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Users\Алена\Desktop\v02_07_1200_17062009.jpg"/>
          <p:cNvPicPr/>
          <p:nvPr/>
        </p:nvPicPr>
        <p:blipFill>
          <a:blip r:embed="rId2"/>
          <a:stretch/>
        </p:blipFill>
        <p:spPr>
          <a:xfrm>
            <a:off x="1785960" y="142920"/>
            <a:ext cx="5429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Алена\Desktop\v02_05_1200_17062009.jpg"/>
          <p:cNvPicPr/>
          <p:nvPr/>
        </p:nvPicPr>
        <p:blipFill>
          <a:blip r:embed="rId2"/>
          <a:stretch/>
        </p:blipFill>
        <p:spPr>
          <a:xfrm>
            <a:off x="1857240" y="214200"/>
            <a:ext cx="5500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03:26Z</dcterms:created>
  <dc:creator>Алена</dc:creator>
  <dc:description/>
  <dc:language>en-US</dc:language>
  <cp:lastModifiedBy>Алена</cp:lastModifiedBy>
  <dcterms:modified xsi:type="dcterms:W3CDTF">2010-08-22T12:49:15Z</dcterms:modified>
  <cp:revision>18</cp:revision>
  <dc:subject/>
  <dc:title>Отчего может возникнуть пожар.</dc:title>
</cp:coreProperties>
</file>