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BA00-38B2-433C-9A0E-1AD74E1BA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ECB3-6A41-41A0-AD99-556C742FFB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7C2-CDE4-491F-8A41-69309730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4CF-D111-4008-8E5B-BC59345F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31B-CD40-4EA6-A6B7-88B7C966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BD4-5846-41E4-8A9A-DD247911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696-DAF6-4500-B0B6-4E87D033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912-F75E-43C5-A42A-0E6AB3BE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DD9-FD73-4242-B4D5-21F5670D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138-3292-4DD9-874F-97168D3E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732-0F40-4636-A2C8-45FCC0C0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C69-204A-4194-8DA0-2A6A9D0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30E-E5B9-45B8-AB84-03EAD9DD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698-37B8-434D-A9D1-117EB702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9CC1-872C-44E0-9BE0-2EF98A663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rotectacow.typepad.com/.a/6a00d8345191c169e20111689a293d970c-320wi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rishna-ural.ru/gita/f_11271734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escue-world.org/images3/india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reentravel.by/thumb/1000x0xM/files/catalog/extra/ru/249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keralatourism.org/images/destination/2132066230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rosstour.by/content/images/slony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mobile-arsenal.com.ua/image/July2009/india_map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g0.liveinternet.ru/images/attach/c/0/46/544/46544689_shiva.gi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ermes-press.com/krishna4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ww.bvml.org/SBBTM/rama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пагода ШведагонЗолотой Даг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327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циального воспитан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государствах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ревнего Востока: </a:t>
            </a:r>
            <a:br>
              <a:rPr sz="44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184560" y="3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1845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чальный этап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ъект – сем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яд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зачатие, рожд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ечение име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вынос из до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е кормл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стриж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Картинка 10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13360" y="990720"/>
            <a:ext cx="3473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 учени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600" y="83772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ъект – гу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«духовный отец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анияма – посвящ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ченики (взрослую жиз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оки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хманы – с 8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шатрии – с 11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йшьи – с 12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о – 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артинка 38 из 5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219320"/>
            <a:ext cx="3247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сказы в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и пись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ое образ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зия, литерату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матика, философ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а, астроном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Картинка 77 из 5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114300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редства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 семейны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е прав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общеж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а за обу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арки, помощь уче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Картинка 36 из 5929"/>
          <p:cNvPicPr/>
          <p:nvPr/>
        </p:nvPicPr>
        <p:blipFill>
          <a:blip r:embed="rId1"/>
          <a:stretch/>
        </p:blipFill>
        <p:spPr>
          <a:xfrm>
            <a:off x="5638680" y="1523880"/>
            <a:ext cx="336708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тхатха Гаутам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дда = просветл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19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23-544 гг. 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шель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овершенств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рв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ветитель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istina.ucoz.ua/pic/budda.jpg"/>
          <p:cNvPicPr/>
          <p:nvPr/>
        </p:nvPicPr>
        <p:blipFill>
          <a:blip r:embed="rId1"/>
          <a:stretch/>
        </p:blipFill>
        <p:spPr>
          <a:xfrm>
            <a:off x="5486400" y="1523880"/>
            <a:ext cx="3429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ддизм о помощи и взаимопомо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520" y="342900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ртвенная любовь, имеющая одно чистое побуждение – облегчить страдания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статуя Будды Таиланд"/>
          <p:cNvPicPr/>
          <p:nvPr/>
        </p:nvPicPr>
        <p:blipFill>
          <a:blip r:embed="rId1"/>
          <a:stretch/>
        </p:blipFill>
        <p:spPr>
          <a:xfrm>
            <a:off x="5354640" y="1828800"/>
            <a:ext cx="3560760" cy="3809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476280" y="1447920"/>
            <a:ext cx="478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ополагающий принцип служение ближн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даяние и возда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авая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-то свобод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всяких услов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я с друг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е счасть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гая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ти его брем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аздо больше, чем д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милосерди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теприим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Картинка 11 из 64000"/>
          <p:cNvPicPr/>
          <p:nvPr/>
        </p:nvPicPr>
        <p:blipFill>
          <a:blip r:embed="rId1"/>
          <a:stretch/>
        </p:blipFill>
        <p:spPr>
          <a:xfrm>
            <a:off x="5105520" y="685800"/>
            <a:ext cx="357012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дии достижения нирв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едваритель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средоточен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кончательного усво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рван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шее блаженство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Картинка 18 из 64000"/>
          <p:cNvPicPr/>
          <p:nvPr/>
        </p:nvPicPr>
        <p:blipFill>
          <a:blip r:embed="rId1"/>
          <a:stretch/>
        </p:blipFill>
        <p:spPr>
          <a:xfrm>
            <a:off x="5591160" y="1600200"/>
            <a:ext cx="3324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спитание в буддийских монастыр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2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древних тракт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илософии, математи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е, астроно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енство (бессослов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www.vyshivai.ru/images/resize/34902.jpg"/>
          <p:cNvPicPr/>
          <p:nvPr/>
        </p:nvPicPr>
        <p:blipFill>
          <a:blip r:embed="rId1"/>
          <a:stretch/>
        </p:blipFill>
        <p:spPr>
          <a:xfrm>
            <a:off x="6705720" y="914400"/>
            <a:ext cx="2292120" cy="269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Картинка 64 из 64000"/>
          <p:cNvPicPr/>
          <p:nvPr/>
        </p:nvPicPr>
        <p:blipFill>
          <a:blip r:embed="rId2"/>
          <a:stretch/>
        </p:blipFill>
        <p:spPr>
          <a:xfrm>
            <a:off x="6095880" y="3505320"/>
            <a:ext cx="22100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52280" y="1523880"/>
            <a:ext cx="601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ай-лама XIV (род. 6 июля 1935) — духовный лидер буддистов Тибета, Монголии, Бурят-Монголии, Тывы, Калмыкии,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декабря 1989 года Далай-лама получил Нобелевскую премию от имени всех, кто подвергается гонениям, всех, кто борется за свободу и трудится во имя мира во всём мире, а также от имени тибетского на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Его Святейшество Далай-лама 14 (Тензин Гьяцо)"/>
          <p:cNvPicPr/>
          <p:nvPr/>
        </p:nvPicPr>
        <p:blipFill>
          <a:blip r:embed="rId1"/>
          <a:stretch/>
        </p:blipFill>
        <p:spPr>
          <a:xfrm>
            <a:off x="6356520" y="1371600"/>
            <a:ext cx="2573280" cy="3657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мощь и взаимопомощь в буддизме в настояще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Картинка 267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е (миф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енные (археологические памятни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исьмен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ы художественно-религиозного характера («Бхагавата-пурана», «Махабхарата», «Рамаяна»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ые книги («Бхагавадгита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е документы (законы Ману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3063960"/>
          <a:ext cx="6096240" cy="731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61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о-географ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geopoesia.ru/gp/map/admin/india-map-admin.jpg"/>
          <p:cNvPicPr/>
          <p:nvPr/>
        </p:nvPicPr>
        <p:blipFill>
          <a:blip r:embed="rId1"/>
          <a:stretch/>
        </p:blipFill>
        <p:spPr>
          <a:xfrm>
            <a:off x="1843200" y="1143000"/>
            <a:ext cx="52434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дел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товод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олов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мес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Картинка 1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743200"/>
            <a:ext cx="3276720" cy="218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Картинка 66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4800600"/>
            <a:ext cx="4038480" cy="186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Картинка 44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762120"/>
            <a:ext cx="3097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единого государства д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 до н. 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3063960"/>
          <a:ext cx="6096240" cy="731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61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" descr="Картинка 51 из 64000"/>
          <p:cNvPicPr/>
          <p:nvPr/>
        </p:nvPicPr>
        <p:blipFill>
          <a:blip r:embed="rId1"/>
          <a:stretch/>
        </p:blipFill>
        <p:spPr>
          <a:xfrm>
            <a:off x="228600" y="28954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Картинка 98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3880" y="1905120"/>
            <a:ext cx="411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уховны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образие религиозных куль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у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хма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д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Картинка 101 из 64000"/>
          <p:cNvPicPr/>
          <p:nvPr/>
        </p:nvPicPr>
        <p:blipFill>
          <a:blip r:embed="rId1"/>
          <a:stretch/>
        </p:blipFill>
        <p:spPr>
          <a:xfrm>
            <a:off x="304920" y="3352680"/>
            <a:ext cx="2590560" cy="3364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Картинка 96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1905120"/>
            <a:ext cx="2600280" cy="340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241 из 64000"/>
          <p:cNvPicPr/>
          <p:nvPr/>
        </p:nvPicPr>
        <p:blipFill>
          <a:blip r:embed="rId4"/>
          <a:stretch/>
        </p:blipFill>
        <p:spPr>
          <a:xfrm>
            <a:off x="5943600" y="3700440"/>
            <a:ext cx="30481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циальная 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с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хманы (жрецы) – праведность, чистота помы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шатрии (воины) – мужество и смел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йшьи (крестьяне, ремесленники. Торговцы) – трудолюбие, терп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удры (слуги) – трудолюбие, покорность, безропотность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ал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высшие ка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ственное развитие; духовность (способность к самопознанию); физическое совершенство; любовь к природе, прекрасному, самообладание и сдержа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тог воспит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органичное сочетание индивидуального и общественного нач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фические иде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шна                  Рама             Арджу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хагавата-пурана»      «Махабхарата»    «Бхагаватг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Картинка 2 из 44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514600"/>
            <a:ext cx="2628720" cy="38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Картинка 15 из 6226"/>
          <p:cNvPicPr/>
          <p:nvPr/>
        </p:nvPicPr>
        <p:blipFill>
          <a:blip r:embed="rId3"/>
          <a:stretch/>
        </p:blipFill>
        <p:spPr>
          <a:xfrm>
            <a:off x="3505320" y="25146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www.bvml.org/SBBTM/ram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80000" y="2514600"/>
            <a:ext cx="2511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 Николаевич Грибан</cp:lastModifiedBy>
  <dcterms:modified xsi:type="dcterms:W3CDTF">2011-01-17T12:52:1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f000000000001024140</vt:lpwstr>
  </property>
  <property fmtid="{D5CDD505-2E9C-101B-9397-08002B2CF9AE}" pid="3" name="Version">
    <vt:r8>1</vt:r8>
  </property>
</Properties>
</file>