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6F23-76B6-4BB3-8C29-6584F1E303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16DD-4BCE-4A1C-8C23-1893E09117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A1A5-64DB-4216-9420-0BA035F1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212D-F890-4C84-B822-1109DD37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2498-4779-4360-A43C-53305FA66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9F1D-C1E3-4166-9728-C2703F2D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939D-6558-409F-86BE-414D01C8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C596-90B4-42BB-AD10-3215E220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911C-007C-47C8-89F9-D8E75273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D1AE-97C9-456B-9113-CB3CF56D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61BF-9D9C-44F9-B3EE-14E23C21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CC2B-70F1-410E-9BD6-EAFC2D2A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6AD4-00DF-4421-8673-44C8FB70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AC04-8E0B-4765-8BF5-7DA7119B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30AF-A6FD-4DFC-AAED-6B4E33668C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rotectacow.typepad.com/.a/6a00d8345191c169e20111689a293d970c-320wi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rishna-ural.ru/gita/f_11271734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rescue-world.org/images3/india04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reentravel.by/thumb/1000x0xM/files/catalog/extra/ru/249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keralatourism.org/images/destination/2132066230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crosstour.by/content/images/slony.jpg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mobile-arsenal.com.ua/image/July2009/india_map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g0.liveinternet.ru/images/attach/c/0/46/544/46544689_shiva.gi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ermes-press.com/krishna4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http://www.bvml.org/SBBTM/rama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пагода ШведагонЗолотой Даг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3276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c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циального воспитания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государствах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ревнего Востока: </a:t>
            </a:r>
            <a:br>
              <a:rPr sz="44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184560" y="36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184560" y="264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чальный этап воспи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бъект – семь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яд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зачатие, рожд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ечение имен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вынос из дом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ое кормле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ая стриж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сутстви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буч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Картинка 109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13360" y="990720"/>
            <a:ext cx="3473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тап учени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28600" y="837720"/>
            <a:ext cx="86868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бъект – гур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«духовный отец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анияма – посвящ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ученики (взрослую жизн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оки обуч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хманы – с 8 л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шатрии – с 11 л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йшьи – с 12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го – 8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Картинка 38 из 59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1219320"/>
            <a:ext cx="3247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держание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8600" y="990360"/>
            <a:ext cx="86868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сказы в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ение и пись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енное образов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зия, литерату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мматика, философ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матика, астроном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Картинка 77 из 59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1143000"/>
            <a:ext cx="3200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редства воспи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п семейных отно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воение прави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ческого общеж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та за обуч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арки, помощь уче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Картинка 36 из 5929"/>
          <p:cNvPicPr/>
          <p:nvPr/>
        </p:nvPicPr>
        <p:blipFill>
          <a:blip r:embed="rId1"/>
          <a:stretch/>
        </p:blipFill>
        <p:spPr>
          <a:xfrm>
            <a:off x="5638680" y="1523880"/>
            <a:ext cx="3367080" cy="48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итхатха Гаутама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удда = просветл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19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23-544 гг. до н.э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шель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совершенств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рва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ветительск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овате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istina.ucoz.ua/pic/budda.jpg"/>
          <p:cNvPicPr/>
          <p:nvPr/>
        </p:nvPicPr>
        <p:blipFill>
          <a:blip r:embed="rId1"/>
          <a:stretch/>
        </p:blipFill>
        <p:spPr>
          <a:xfrm>
            <a:off x="5486400" y="1523880"/>
            <a:ext cx="3429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уддизм о помощи и взаимопомощ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533520" y="3429000"/>
            <a:ext cx="449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4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ртвенная любовь, имеющая одно чистое побуждение – облегчить страдания друг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статуя Будды Таиланд"/>
          <p:cNvPicPr/>
          <p:nvPr/>
        </p:nvPicPr>
        <p:blipFill>
          <a:blip r:embed="rId1"/>
          <a:stretch/>
        </p:blipFill>
        <p:spPr>
          <a:xfrm>
            <a:off x="5354640" y="1828800"/>
            <a:ext cx="3560760" cy="38098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0"/>
          <p:cNvSpPr/>
          <p:nvPr/>
        </p:nvSpPr>
        <p:spPr>
          <a:xfrm>
            <a:off x="476280" y="1447920"/>
            <a:ext cx="478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ополагающий принцип служение ближне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3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5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даяние и воздая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авая друг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-то свободн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всяких услов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ля с друг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е счасть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гая друг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сти его брем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к получ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аздо больше, чем да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милосерди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теприимст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Картинка 11 из 64000"/>
          <p:cNvPicPr/>
          <p:nvPr/>
        </p:nvPicPr>
        <p:blipFill>
          <a:blip r:embed="rId1"/>
          <a:stretch/>
        </p:blipFill>
        <p:spPr>
          <a:xfrm>
            <a:off x="5105520" y="685800"/>
            <a:ext cx="357012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адии достижения нирва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едварительн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осредоточеннос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кончательного усво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рван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шее блаженство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Картинка 18 из 64000"/>
          <p:cNvPicPr/>
          <p:nvPr/>
        </p:nvPicPr>
        <p:blipFill>
          <a:blip r:embed="rId1"/>
          <a:stretch/>
        </p:blipFill>
        <p:spPr>
          <a:xfrm>
            <a:off x="5591160" y="1600200"/>
            <a:ext cx="33242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спитание в буддийских монастыр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2824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ение древних тракта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философии, математи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ицине, астроном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енство (бессослов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ый харак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т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://www.vyshivai.ru/images/resize/34902.jpg"/>
          <p:cNvPicPr/>
          <p:nvPr/>
        </p:nvPicPr>
        <p:blipFill>
          <a:blip r:embed="rId1"/>
          <a:stretch/>
        </p:blipFill>
        <p:spPr>
          <a:xfrm>
            <a:off x="6705720" y="914400"/>
            <a:ext cx="2292120" cy="2693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Картинка 64 из 64000"/>
          <p:cNvPicPr/>
          <p:nvPr/>
        </p:nvPicPr>
        <p:blipFill>
          <a:blip r:embed="rId2"/>
          <a:stretch/>
        </p:blipFill>
        <p:spPr>
          <a:xfrm>
            <a:off x="6095880" y="3505320"/>
            <a:ext cx="221004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152280" y="1523880"/>
            <a:ext cx="6019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ай-лама XIV (род. 6 июля 1935) — духовный лидер буддистов Тибета, Монголии, Бурят-Монголии, Тывы, Калмыкии,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декабря 1989 года Далай-лама получил Нобелевскую премию от имени всех, кто подвергается гонениям, всех, кто борется за свободу и трудится во имя мира во всём мире, а также от имени тибетского на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Его Святейшество Далай-лама 14 (Тензин Гьяцо)"/>
          <p:cNvPicPr/>
          <p:nvPr/>
        </p:nvPicPr>
        <p:blipFill>
          <a:blip r:embed="rId1"/>
          <a:stretch/>
        </p:blipFill>
        <p:spPr>
          <a:xfrm>
            <a:off x="6356520" y="1371600"/>
            <a:ext cx="2573280" cy="36576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мощь и взаимопомощь в буддизме в настоящее врем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3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1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Картинка 267 из 64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точни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12949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е (миф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щественные (археологические памятник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исьменны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сты художественно-религиозного характера («Бхагавата-пурана», «Махабхарата», «Рамаяна»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ые книги («Бхагавадгита»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тивные документы (законы Ману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23880" y="3063960"/>
          <a:ext cx="6096240" cy="7318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6612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родно-географический фа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www.geopoesia.ru/gp/map/admin/india-map-admin.jpg"/>
          <p:cNvPicPr/>
          <p:nvPr/>
        </p:nvPicPr>
        <p:blipFill>
          <a:blip r:embed="rId1"/>
          <a:stretch/>
        </p:blipFill>
        <p:spPr>
          <a:xfrm>
            <a:off x="1843200" y="1143000"/>
            <a:ext cx="524340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кономический фа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занят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о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мледел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товод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ыболов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мес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Картинка 19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2743200"/>
            <a:ext cx="3276720" cy="2189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Картинка 66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4800600"/>
            <a:ext cx="4038480" cy="186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Картинка 44 из 640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1320" y="762120"/>
            <a:ext cx="30970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ческий фа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сутствие единого государства д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. до н. э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523880" y="3063960"/>
          <a:ext cx="6096240" cy="7318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6612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Picture 1" descr="Картинка 51 из 64000"/>
          <p:cNvPicPr/>
          <p:nvPr/>
        </p:nvPicPr>
        <p:blipFill>
          <a:blip r:embed="rId1"/>
          <a:stretch/>
        </p:blipFill>
        <p:spPr>
          <a:xfrm>
            <a:off x="228600" y="28954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Картинка 98 из 6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33880" y="1905120"/>
            <a:ext cx="4110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уховный фа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560" y="990360"/>
            <a:ext cx="83818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образие религиозных куль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у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ахман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д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" descr="Картинка 101 из 64000"/>
          <p:cNvPicPr/>
          <p:nvPr/>
        </p:nvPicPr>
        <p:blipFill>
          <a:blip r:embed="rId1"/>
          <a:stretch/>
        </p:blipFill>
        <p:spPr>
          <a:xfrm>
            <a:off x="304920" y="3352680"/>
            <a:ext cx="2590560" cy="3364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Картинка 96 из 6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00400" y="1905120"/>
            <a:ext cx="2600280" cy="3409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Картинка 241 из 64000"/>
          <p:cNvPicPr/>
          <p:nvPr/>
        </p:nvPicPr>
        <p:blipFill>
          <a:blip r:embed="rId4"/>
          <a:stretch/>
        </p:blipFill>
        <p:spPr>
          <a:xfrm>
            <a:off x="5943600" y="3700440"/>
            <a:ext cx="304812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циальная струк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ст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ахманы (жрецы) – праведность, чистота помы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шатрии (воины) – мужество и смел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йшьи (крестьяне, ремесленники. Торговцы) – трудолюбие, терп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удры (слуги) – трудолюбие, покорность, безропотность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деал воспи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лько высшие кас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ственное развитие; духовность (способность к самопознанию); физическое совершенство; любовь к природе, прекрасному, самообладание и сдержан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тог воспита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органичное сочетание индивидуального и общественного нач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ифические идеа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560" y="12949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шна                  Рама             Арджу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Бхагавата-пурана»      «Махабхарата»    «Бхагаватги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Картинка 2 из 441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514600"/>
            <a:ext cx="2628720" cy="3809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Картинка 15 из 6226"/>
          <p:cNvPicPr/>
          <p:nvPr/>
        </p:nvPicPr>
        <p:blipFill>
          <a:blip r:embed="rId3"/>
          <a:stretch/>
        </p:blipFill>
        <p:spPr>
          <a:xfrm>
            <a:off x="3505320" y="2514600"/>
            <a:ext cx="2743200" cy="3657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http://www.bvml.org/SBBTM/ram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80000" y="2514600"/>
            <a:ext cx="2511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 Николаевич Грибан</cp:lastModifiedBy>
  <dcterms:modified xsi:type="dcterms:W3CDTF">2011-01-17T12:52:12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40f000000000001024140</vt:lpwstr>
  </property>
  <property fmtid="{D5CDD505-2E9C-101B-9397-08002B2CF9AE}" pid="3" name="Version">
    <vt:r8>1</vt:r8>
  </property>
</Properties>
</file>