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A62-7E77-4553-B40D-8C24B2B2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9B1-641A-42E4-A715-E1AF6A70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B712-C906-4F45-B996-235AD787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555-B03E-4B2C-AD00-0D28A68B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698-6ABE-4077-8214-2F45882C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3B5-A6F0-45C1-A774-D886B706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2A9-FD60-4993-A12D-71FC8FC4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025B-8A90-4997-854C-A0079E75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ECB-4CF4-4534-A024-4D1B809D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D50-F546-4933-8ED4-E14C9D72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DED-945D-4DC3-AC32-A9B2D322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E36-E47B-4627-91C3-3F74CF58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AB08-C0D1-49C4-BC8E-27B6802181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6695-A864-4E89-8F5C-3581EC373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87280" y="2349360"/>
            <a:ext cx="655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имические волокн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й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Нейлоновая куртка"/>
          <p:cNvPicPr/>
          <p:nvPr/>
        </p:nvPicPr>
        <p:blipFill>
          <a:blip r:embed="rId1"/>
          <a:stretch/>
        </p:blipFill>
        <p:spPr>
          <a:xfrm>
            <a:off x="1979640" y="1484280"/>
            <a:ext cx="53690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иэфирное волок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ЭФИРНОЕ ВОЛОКНО, синтетическое волокно, формуемое из расплава полиэтилентерефталата или его производных. Достоинства — незначительная сминаемость, отличная свето- и атмосферостойкость, высокая прочность, хорошая стойкость к истиранию и к органическим растворителям; недостатки — трудность крашения, сильная электризуемость, жесткость — устраняется химическим модифицированием. Применяется, напр., в производстве различных тканей, искусственного меха, канатов, для армирования шин. Основные торговые названия: лавс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авс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Изделия из лавсана"/>
          <p:cNvPicPr/>
          <p:nvPr/>
        </p:nvPicPr>
        <p:blipFill>
          <a:blip r:embed="rId1"/>
          <a:stretch/>
        </p:blipFill>
        <p:spPr>
          <a:xfrm>
            <a:off x="611280" y="14842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Ткань с лавсаном"/>
          <p:cNvPicPr/>
          <p:nvPr/>
        </p:nvPicPr>
        <p:blipFill>
          <a:blip r:embed="rId2"/>
          <a:stretch/>
        </p:blipFill>
        <p:spPr>
          <a:xfrm>
            <a:off x="4500720" y="2349360"/>
            <a:ext cx="408600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риловое волок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АКРИЛОНИТРИЛЬНОЕ ВОЛОКНО (акриловое волокно), синтетическое волокно, формуемое из растворов полиакрилонитрила или его производных. По многим свойствам близко к шерсти, устойчиво к свету и другим атмосферным агентам, кислотам, слабым щелочам, органическим растворителям. Из полиакрилонитрильного волокна изготовляют верхний и бельевой трикотаж, ковры, ткани. Основные торговые названия: нитро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т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Нитрон"/>
          <p:cNvPicPr/>
          <p:nvPr/>
        </p:nvPicPr>
        <p:blipFill>
          <a:blip r:embed="rId1"/>
          <a:stretch/>
        </p:blipFill>
        <p:spPr>
          <a:xfrm>
            <a:off x="611280" y="2276640"/>
            <a:ext cx="4019400" cy="3014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Свитер из пряжи с нитроном"/>
          <p:cNvPicPr/>
          <p:nvPr/>
        </p:nvPicPr>
        <p:blipFill>
          <a:blip r:embed="rId2"/>
          <a:stretch/>
        </p:blipFill>
        <p:spPr>
          <a:xfrm>
            <a:off x="4932360" y="1341360"/>
            <a:ext cx="35766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риловая пря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Пряжа"/>
          <p:cNvPicPr/>
          <p:nvPr/>
        </p:nvPicPr>
        <p:blipFill>
          <a:blip r:embed="rId1"/>
          <a:stretch/>
        </p:blipFill>
        <p:spPr>
          <a:xfrm>
            <a:off x="2765520" y="1754280"/>
            <a:ext cx="36115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воло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Organization Chart 5"/>
          <p:cNvGrpSpPr/>
          <p:nvPr/>
        </p:nvGrpSpPr>
        <p:grpSpPr>
          <a:xfrm>
            <a:off x="457200" y="1600200"/>
            <a:ext cx="8228520" cy="4524480"/>
            <a:chOff x="457200" y="1600200"/>
            <a:chExt cx="8228520" cy="4524480"/>
          </a:xfrm>
        </p:grpSpPr>
        <p:cxnSp>
          <p:nvCxnSpPr>
            <p:cNvPr id="45" name="_s1028"/>
            <p:cNvCxnSpPr>
              <a:stCxn id="46" idx="0"/>
              <a:endCxn id="47" idx="2"/>
            </p:cNvCxnSpPr>
            <p:nvPr/>
          </p:nvCxnSpPr>
          <p:spPr>
            <a:xfrm flipV="1" rot="16200000">
              <a:off x="5225760" y="2753640"/>
              <a:ext cx="905400" cy="2216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029"/>
            <p:cNvCxnSpPr>
              <a:stCxn id="49" idx="0"/>
              <a:endCxn id="47" idx="2"/>
            </p:cNvCxnSpPr>
            <p:nvPr/>
          </p:nvCxnSpPr>
          <p:spPr>
            <a:xfrm flipH="1" flipV="1" rot="5400000">
              <a:off x="3010680" y="2754360"/>
              <a:ext cx="905400" cy="22154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1030"/>
            <p:cNvSpPr/>
            <p:nvPr/>
          </p:nvSpPr>
          <p:spPr>
            <a:xfrm>
              <a:off x="2671920" y="160020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Химически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волокн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1"/>
            <p:cNvSpPr/>
            <p:nvPr/>
          </p:nvSpPr>
          <p:spPr>
            <a:xfrm>
              <a:off x="457200" y="431496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Искусствен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032"/>
            <p:cNvSpPr/>
            <p:nvPr/>
          </p:nvSpPr>
          <p:spPr>
            <a:xfrm>
              <a:off x="4888080" y="431496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Синтетически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кусственные волок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ко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цетатное волок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ск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СКОЗА (от позднелат. viscosus — вязкий), высоковязкий раствор продукта взаимодействия щелочной целлюлозы с сероуглеродом (ксантогената целлюлозы) в разбавленном водном растворе едкого натра. Применяется главным образом для получения вискозного волокна, пленки (целлофан), искусственной кожи (кирз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Вискозная нить"/>
          <p:cNvPicPr/>
          <p:nvPr/>
        </p:nvPicPr>
        <p:blipFill>
          <a:blip r:embed="rId1"/>
          <a:stretch/>
        </p:blipFill>
        <p:spPr>
          <a:xfrm>
            <a:off x="4643280" y="2133720"/>
            <a:ext cx="40388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скозная н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Вискоза"/>
          <p:cNvPicPr/>
          <p:nvPr/>
        </p:nvPicPr>
        <p:blipFill>
          <a:blip r:embed="rId1"/>
          <a:stretch/>
        </p:blipFill>
        <p:spPr>
          <a:xfrm>
            <a:off x="468360" y="1484280"/>
            <a:ext cx="390852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Платье из вискозы"/>
          <p:cNvPicPr/>
          <p:nvPr/>
        </p:nvPicPr>
        <p:blipFill>
          <a:blip r:embed="rId2"/>
          <a:stretch/>
        </p:blipFill>
        <p:spPr>
          <a:xfrm>
            <a:off x="4716360" y="2060640"/>
            <a:ext cx="40388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цетатное волок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ЦЕТАТНЫЕ ВОЛОКНА, искусственные волокна, формуемые из растворов триацетата целлюлозы (триацетатное волокно) и продукта его частичного омыления (собственно ацетатные волокна). Мягкие, эластичные, мало сминаются, пропускают ультрафиолетовые лучи; недостатки: невысокая прочность, низкая термо- и износостойкость, значительная электризуемость. Применяются главным образом в производстве изделий народного потребления, напр. белья. Мировое производство ок. 610 тыс. 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тетические волок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лиамид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лиэфи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иамидные волок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АМИДНОЕ ВОЛОКНО, синтетическое волокно, формуемое из расплавов или растворов полиамидов. Прочно, эластично, устойчиво к истиранию, многократному изгибу и действию многих химических реагентов; недостатки — малая гигроскопичность, повышенная электризуемость, невысокая термо- и светостойкость. Применяется в производстве тканей, трикотажа, шинного корда, фильтровальных материалов и др. Основные торговые названия: капрон, нейл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п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Капроновая штора"/>
          <p:cNvPicPr/>
          <p:nvPr/>
        </p:nvPicPr>
        <p:blipFill>
          <a:blip r:embed="rId1"/>
          <a:stretch/>
        </p:blipFill>
        <p:spPr>
          <a:xfrm>
            <a:off x="684360" y="1628640"/>
            <a:ext cx="4038480" cy="439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Капроновые колготки"/>
          <p:cNvPicPr/>
          <p:nvPr/>
        </p:nvPicPr>
        <p:blipFill>
          <a:blip r:embed="rId2"/>
          <a:stretch/>
        </p:blipFill>
        <p:spPr>
          <a:xfrm>
            <a:off x="5076720" y="2133720"/>
            <a:ext cx="345456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3:27:47Z</dcterms:created>
  <dc:creator>user</dc:creator>
  <dc:description/>
  <dc:language>en-US</dc:language>
  <cp:lastModifiedBy>COMP</cp:lastModifiedBy>
  <dcterms:modified xsi:type="dcterms:W3CDTF">2011-10-16T16:47:16Z</dcterms:modified>
  <cp:revision>5</cp:revision>
  <dc:subject/>
  <dc:title>Слайд 1</dc:title>
</cp:coreProperties>
</file>