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379-EEA7-41C4-9B44-BF9BDC9A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6D6-D2EC-498E-88FD-1E1A497A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39D-04D0-44BC-9D64-B086F5FA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931-7053-4121-BB9B-5787193A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4D0-1DE2-45A2-A89A-4A5637B9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8AEF-C47F-401A-AFA5-983DBB6A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60F-DFDA-4EE2-8EDE-CFA42470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ACB-5D0D-4C1B-A377-A7C26927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07C-391D-4EB5-A8D0-3A50591F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BC2-5699-4186-85B7-529F225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90C-72B4-4DBB-881E-96FB48AB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D63-8C86-4D13-84F1-9201A25E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2E3E-AFD2-45F6-9219-B4A1DD923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137-A585-4BF7-B084-AEDA9CE87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87280" y="2349360"/>
            <a:ext cx="655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имические волок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й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Нейлоновая куртка"/>
          <p:cNvPicPr/>
          <p:nvPr/>
        </p:nvPicPr>
        <p:blipFill>
          <a:blip r:embed="rId1"/>
          <a:stretch/>
        </p:blipFill>
        <p:spPr>
          <a:xfrm>
            <a:off x="1979640" y="1484280"/>
            <a:ext cx="536904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эфирн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ЭФИРНОЕ ВОЛОКНО, синтетическое волокно, формуемое из расплава полиэтилентерефталата или его производных. Достоинства — незначительная сминаемость, отличная свето- и атмосферостойкость, высокая прочность, хорошая стойкость к истиранию и к органическим растворителям; недостатки — трудность крашения, сильная электризуемость, жесткость — устраняется химическим модифицированием. Применяется, напр., в производстве различных тканей, искусственного меха, канатов, для армирования шин. Основные торговые названия: лавс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вс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Изделия из лавсана"/>
          <p:cNvPicPr/>
          <p:nvPr/>
        </p:nvPicPr>
        <p:blipFill>
          <a:blip r:embed="rId1"/>
          <a:stretch/>
        </p:blipFill>
        <p:spPr>
          <a:xfrm>
            <a:off x="611280" y="1484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Ткань с лавсаном"/>
          <p:cNvPicPr/>
          <p:nvPr/>
        </p:nvPicPr>
        <p:blipFill>
          <a:blip r:embed="rId2"/>
          <a:stretch/>
        </p:blipFill>
        <p:spPr>
          <a:xfrm>
            <a:off x="4500720" y="2349360"/>
            <a:ext cx="4086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рилов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АКРИЛОНИТРИЛЬНОЕ ВОЛОКНО (акриловое волокно), синтетическое волокно, формуемое из растворов полиакрилонитрила или его производных. По многим свойствам близко к шерсти, устойчиво к свету и другим атмосферным агентам, кислотам, слабым щелочам, органическим растворителям. Из полиакрилонитрильного волокна изготовляют верхний и бельевой трикотаж, ковры, ткани. Основные торговые названия: нитр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т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Нитрон"/>
          <p:cNvPicPr/>
          <p:nvPr/>
        </p:nvPicPr>
        <p:blipFill>
          <a:blip r:embed="rId1"/>
          <a:stretch/>
        </p:blipFill>
        <p:spPr>
          <a:xfrm>
            <a:off x="611280" y="2276640"/>
            <a:ext cx="4019400" cy="3014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Свитер из пряжи с нитроном"/>
          <p:cNvPicPr/>
          <p:nvPr/>
        </p:nvPicPr>
        <p:blipFill>
          <a:blip r:embed="rId2"/>
          <a:stretch/>
        </p:blipFill>
        <p:spPr>
          <a:xfrm>
            <a:off x="4932360" y="1341360"/>
            <a:ext cx="3576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риловая пря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Пряжа"/>
          <p:cNvPicPr/>
          <p:nvPr/>
        </p:nvPicPr>
        <p:blipFill>
          <a:blip r:embed="rId1"/>
          <a:stretch/>
        </p:blipFill>
        <p:spPr>
          <a:xfrm>
            <a:off x="2765520" y="1754280"/>
            <a:ext cx="36115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воло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Organization Chart 5"/>
          <p:cNvGrpSpPr/>
          <p:nvPr/>
        </p:nvGrpSpPr>
        <p:grpSpPr>
          <a:xfrm>
            <a:off x="457200" y="1600200"/>
            <a:ext cx="8228520" cy="4524480"/>
            <a:chOff x="457200" y="1600200"/>
            <a:chExt cx="8228520" cy="4524480"/>
          </a:xfrm>
        </p:grpSpPr>
        <p:cxnSp>
          <p:nvCxnSpPr>
            <p:cNvPr id="45" name="_s102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225760" y="275364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029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3010680" y="275436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030"/>
            <p:cNvSpPr/>
            <p:nvPr/>
          </p:nvSpPr>
          <p:spPr>
            <a:xfrm>
              <a:off x="2671920" y="160020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Химическ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волокна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1"/>
            <p:cNvSpPr/>
            <p:nvPr/>
          </p:nvSpPr>
          <p:spPr>
            <a:xfrm>
              <a:off x="45720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скусствен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32"/>
            <p:cNvSpPr/>
            <p:nvPr/>
          </p:nvSpPr>
          <p:spPr>
            <a:xfrm>
              <a:off x="488808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Синтетически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кусственны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ко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цетатное волок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с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СКОЗА (от позднелат. viscosus — вязкий), высоковязкий раствор продукта взаимодействия щелочной целлюлозы с сероуглеродом (ксантогената целлюлозы) в разбавленном водном растворе едкого натра. Применяется главным образом для получения вискозного волокна, пленки (целлофан), искусственной кожи (кир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Вискозная нить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скозная 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Вискоза"/>
          <p:cNvPicPr/>
          <p:nvPr/>
        </p:nvPicPr>
        <p:blipFill>
          <a:blip r:embed="rId1"/>
          <a:stretch/>
        </p:blipFill>
        <p:spPr>
          <a:xfrm>
            <a:off x="468360" y="1484280"/>
            <a:ext cx="390852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Платье из вискозы"/>
          <p:cNvPicPr/>
          <p:nvPr/>
        </p:nvPicPr>
        <p:blipFill>
          <a:blip r:embed="rId2"/>
          <a:stretch/>
        </p:blipFill>
        <p:spPr>
          <a:xfrm>
            <a:off x="4716360" y="2060640"/>
            <a:ext cx="40388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цетатное вол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АТНЫЕ ВОЛОКНА, искусственные волокна, формуемые из растворов триацетата целлюлозы (триацетатное волокно) и продукта его частичного омыления (собственно ацетатные волокна). Мягкие, эластичные, мало сминаются, пропускают ультрафиолетовые лучи; недостатки: невысокая прочность, низкая термо- и износостойкость, значительная электризуемость. Применяются главным образом в производстве изделий народного потребления, напр. белья. Мировое производство ок. 610 тыс. 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тетически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лиами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иэфи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иамидные волок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ИАМИДНОЕ ВОЛОКНО, синтетическое волокно, формуемое из расплавов или растворов полиамидов. Прочно, эластично, устойчиво к истиранию, многократному изгибу и действию многих химических реагентов; недостатки — малая гигроскопичность, повышенная электризуемость, невысокая термо- и светостойкость. Применяется в производстве тканей, трикотажа, шинного корда, фильтровальных материалов и др. Основные торговые названия: капрон, нейл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проновая штора"/>
          <p:cNvPicPr/>
          <p:nvPr/>
        </p:nvPicPr>
        <p:blipFill>
          <a:blip r:embed="rId1"/>
          <a:stretch/>
        </p:blipFill>
        <p:spPr>
          <a:xfrm>
            <a:off x="684360" y="1628640"/>
            <a:ext cx="4038480" cy="439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Капроновые колготки"/>
          <p:cNvPicPr/>
          <p:nvPr/>
        </p:nvPicPr>
        <p:blipFill>
          <a:blip r:embed="rId2"/>
          <a:stretch/>
        </p:blipFill>
        <p:spPr>
          <a:xfrm>
            <a:off x="5076720" y="2133720"/>
            <a:ext cx="34545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3:27:47Z</dcterms:created>
  <dc:creator>user</dc:creator>
  <dc:description/>
  <dc:language>en-US</dc:language>
  <cp:lastModifiedBy>COMP</cp:lastModifiedBy>
  <dcterms:modified xsi:type="dcterms:W3CDTF">2011-10-16T16:47:16Z</dcterms:modified>
  <cp:revision>5</cp:revision>
  <dc:subject/>
  <dc:title>Слайд 1</dc:title>
</cp:coreProperties>
</file>