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6A56-5386-4379-B8E6-B0183330A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D270-BD8E-47BA-B0BE-DDA793E56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698-3A01-44F9-A8EB-3BCCD520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8C8-F0CE-44DE-8EF7-3735FB64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536-F6D6-4566-B04B-53B93280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AA4-A087-4D8A-B290-B06CB0FF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AA2-787B-41F9-9531-61586D6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839-3DA4-4524-94BE-D616A80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87C-00A5-48F5-99D2-3D9E641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D02-7D5B-4293-AE9A-8C6988D9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F6D-4C3B-4895-85CA-FAA2D48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6CF-EA8F-4F5D-B056-30CC0F6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567-8B32-4BC4-8901-D80995A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4FA-343F-4734-A3EB-541F7EB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7EE-EFCD-411F-8152-47974B1EE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Foto0677.jpg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авропольский  кра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фтекумский район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.Кара-Тюб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КОУ СОШ №12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оминаци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«ЮИДовцы- достойные граждане России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а: «ЮИДовцы прошлых лет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вания отряда ЮИД «Гайдаровцы»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857760" y="307440"/>
            <a:ext cx="5286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В седьмом классе Рашид становится членом  отряда ЮИД, которым руководил учитель НВП Мартыненко И.Ф. Мы задали вопрос Рашиду Викторовичу, - «Почему именно ЮИД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Он ответил: -« Что пошёл в отряд ЮИД из-за учителя. Иван Филипович всегда  носил военную форму, он был офицером запаса. Его слова не расходились с делами.  Он был для меня эталоном».Отряд ЮИД Каратюбинской средней школы имени А. П. Гайдара в период с 1990 года по 1992 год признавался одним из лучших в рай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софа 012.jpg"/>
          <p:cNvPicPr/>
          <p:nvPr/>
        </p:nvPicPr>
        <p:blipFill>
          <a:blip r:embed="rId1"/>
          <a:stretch/>
        </p:blipFill>
        <p:spPr>
          <a:xfrm>
            <a:off x="428760" y="500040"/>
            <a:ext cx="314316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42960" y="3636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 CYR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К 1994 годуРашид Викторович освоил ряд профессии: водителя, тракториста, свар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верное, это была дедова школа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………</a:t>
            </a: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744099829.gif"/>
          <p:cNvPicPr/>
          <p:nvPr/>
        </p:nvPicPr>
        <p:blipFill>
          <a:blip r:embed="rId1"/>
          <a:stretch/>
        </p:blipFill>
        <p:spPr>
          <a:xfrm>
            <a:off x="6429240" y="2571840"/>
            <a:ext cx="230832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3626977.jpg"/>
          <p:cNvPicPr/>
          <p:nvPr/>
        </p:nvPicPr>
        <p:blipFill>
          <a:blip r:embed="rId2"/>
          <a:stretch/>
        </p:blipFill>
        <p:spPr>
          <a:xfrm>
            <a:off x="3500280" y="2786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279159548.jpg"/>
          <p:cNvPicPr/>
          <p:nvPr/>
        </p:nvPicPr>
        <p:blipFill>
          <a:blip r:embed="rId3"/>
          <a:stretch/>
        </p:blipFill>
        <p:spPr>
          <a:xfrm>
            <a:off x="500040" y="2786040"/>
            <a:ext cx="185724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7440" y="509040"/>
            <a:ext cx="925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CYR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С 1995 по 97 года Рашид проходит служ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в рядах вооружённых сил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Время было неспокойное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……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 принимал участие в наведении конституционн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порядка на территорий РФ. Имеет наг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 просьбу подробнее рассказать о служб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е захотел, отмахнулся. Одна лишь реплика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…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Служба как служба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" descr="Копия Анкета 004.jpg"/>
          <p:cNvPicPr/>
          <p:nvPr/>
        </p:nvPicPr>
        <p:blipFill>
          <a:blip r:embed="rId1"/>
          <a:stretch/>
        </p:blipFill>
        <p:spPr>
          <a:xfrm>
            <a:off x="214200" y="3429000"/>
            <a:ext cx="4143600" cy="293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2" name="Рисунок 8" descr="Копия (2) Анкета 004.jpg"/>
          <p:cNvPicPr/>
          <p:nvPr/>
        </p:nvPicPr>
        <p:blipFill>
          <a:blip r:embed="rId2"/>
          <a:stretch/>
        </p:blipFill>
        <p:spPr>
          <a:xfrm>
            <a:off x="4786200" y="3429000"/>
            <a:ext cx="4143600" cy="295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pull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4572000" y="785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1998 году Рашид, делом своей жизни – службу в рядах МВД РФ г. Кисловод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софа 001.jpg"/>
          <p:cNvPicPr/>
          <p:nvPr/>
        </p:nvPicPr>
        <p:blipFill>
          <a:blip r:embed="rId1"/>
          <a:srcRect l="6053" t="5025" r="6053" b="8884"/>
          <a:stretch/>
        </p:blipFill>
        <p:spPr>
          <a:xfrm>
            <a:off x="714240" y="928800"/>
            <a:ext cx="3429000" cy="4786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m109.png"/>
          <p:cNvPicPr/>
          <p:nvPr/>
        </p:nvPicPr>
        <p:blipFill>
          <a:blip r:embed="rId2"/>
          <a:stretch/>
        </p:blipFill>
        <p:spPr>
          <a:xfrm>
            <a:off x="5857920" y="3286080"/>
            <a:ext cx="20080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0" y="1143000"/>
            <a:ext cx="44290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а время работы в данной должности Рашид Викторович неоднакратно был отмечен награ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Анкета 003.jpg"/>
          <p:cNvPicPr/>
          <p:nvPr/>
        </p:nvPicPr>
        <p:blipFill>
          <a:blip r:embed="rId1"/>
          <a:stretch/>
        </p:blipFill>
        <p:spPr>
          <a:xfrm>
            <a:off x="4929120" y="857160"/>
            <a:ext cx="3859200" cy="5445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8" name="Рисунок 7" descr="gai.gif"/>
          <p:cNvPicPr/>
          <p:nvPr/>
        </p:nvPicPr>
        <p:blipFill>
          <a:blip r:embed="rId2"/>
          <a:stretch/>
        </p:blipFill>
        <p:spPr>
          <a:xfrm>
            <a:off x="1285920" y="3786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яжело в учении, легко в бо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28440" y="1642680"/>
            <a:ext cx="74293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 Викторович поступил в 1998 году в Краснодарский юридический институт, успешно окончил его в 2003 году, и получил  квалификацию юриста</a:t>
            </a:r>
            <a:r>
              <a:rPr b="0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9" descr="Анкета 002.jpg"/>
          <p:cNvPicPr/>
          <p:nvPr/>
        </p:nvPicPr>
        <p:blipFill>
          <a:blip r:embed="rId1">
            <a:lum bright="30000"/>
          </a:blip>
          <a:srcRect l="0" t="1694" r="0" b="0"/>
          <a:stretch/>
        </p:blipFill>
        <p:spPr>
          <a:xfrm>
            <a:off x="2214720" y="3500280"/>
            <a:ext cx="514332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семья.gif"/>
          <p:cNvPicPr/>
          <p:nvPr/>
        </p:nvPicPr>
        <p:blipFill>
          <a:blip r:embed="rId1"/>
          <a:stretch/>
        </p:blipFill>
        <p:spPr>
          <a:xfrm>
            <a:off x="2643120" y="928800"/>
            <a:ext cx="4143600" cy="5524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874520" y="285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емья-залог успеха и побед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457640" y="507960"/>
            <a:ext cx="66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 CYR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2003 год новый рубеж в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а Викторовича- пере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 новую должность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–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 инспек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по пропаганде ДП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size(600).jpg"/>
          <p:cNvPicPr/>
          <p:nvPr/>
        </p:nvPicPr>
        <p:blipFill>
          <a:blip r:embed="rId1"/>
          <a:stretch/>
        </p:blipFill>
        <p:spPr>
          <a:xfrm>
            <a:off x="17146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Будни инспектора по пропаган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16_03_2012_9_m.jpg"/>
          <p:cNvPicPr/>
          <p:nvPr/>
        </p:nvPicPr>
        <p:blipFill>
          <a:blip r:embed="rId1"/>
          <a:stretch/>
        </p:blipFill>
        <p:spPr>
          <a:xfrm>
            <a:off x="357120" y="1571760"/>
            <a:ext cx="3762360" cy="2508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6_03_2012_4_m.jpg"/>
          <p:cNvPicPr/>
          <p:nvPr/>
        </p:nvPicPr>
        <p:blipFill>
          <a:blip r:embed="rId2"/>
          <a:stretch/>
        </p:blipFill>
        <p:spPr>
          <a:xfrm>
            <a:off x="4500720" y="3214800"/>
            <a:ext cx="4298760" cy="28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Интервью с Рашидом Викторович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4880" y="1785960"/>
            <a:ext cx="428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 разговора с ним мы чувствуем как он серьёзно относится к своей работе, он осознаёт и понимает как ценна  человеческая жизнь, а тем более жизнь ребёнка. Он убеждён, что его дело нужно и необходимо. И это всё ради  безопас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3.jpg"/>
          <p:cNvPicPr/>
          <p:nvPr/>
        </p:nvPicPr>
        <p:blipFill>
          <a:blip r:embed="rId1"/>
          <a:srcRect l="0" t="8010" r="14588" b="5017"/>
          <a:stretch/>
        </p:blipFill>
        <p:spPr>
          <a:xfrm>
            <a:off x="555480" y="1785960"/>
            <a:ext cx="30909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уководители: Меннажиева М. 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изванова Д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ры: члены отряда Ю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еннажиев Тамерлан,Урашева А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софа.jpg"/>
          <p:cNvPicPr/>
          <p:nvPr/>
        </p:nvPicPr>
        <p:blipFill>
          <a:blip r:embed="rId1"/>
          <a:stretch/>
        </p:blipFill>
        <p:spPr>
          <a:xfrm>
            <a:off x="5429160" y="2000160"/>
            <a:ext cx="3214800" cy="4535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Анкета.jpg"/>
          <p:cNvPicPr/>
          <p:nvPr/>
        </p:nvPicPr>
        <p:blipFill>
          <a:blip r:embed="rId2"/>
          <a:stretch/>
        </p:blipFill>
        <p:spPr>
          <a:xfrm>
            <a:off x="0" y="1928880"/>
            <a:ext cx="3282840" cy="4500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Анкета 001.jpg"/>
          <p:cNvPicPr/>
          <p:nvPr/>
        </p:nvPicPr>
        <p:blipFill>
          <a:blip r:embed="rId3"/>
          <a:stretch/>
        </p:blipFill>
        <p:spPr>
          <a:xfrm>
            <a:off x="2571840" y="2071800"/>
            <a:ext cx="3143160" cy="44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Заслуги Рашида Викторовича 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инспектора по пропаганде ОГИБДД ОВД г.Кисловодс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m109.png"/>
          <p:cNvPicPr/>
          <p:nvPr/>
        </p:nvPicPr>
        <p:blipFill>
          <a:blip r:embed="rId4"/>
          <a:stretch/>
        </p:blipFill>
        <p:spPr>
          <a:xfrm>
            <a:off x="7858080" y="4572000"/>
            <a:ext cx="150012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42800" y="71424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Рашида Викторовича растёт сын Тимур. На вопрос : - «Кем Вы видите своего сына в будуще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ветил просто:- « Хочу чтобы стал человеком…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274680" y="2749680"/>
            <a:ext cx="8601120" cy="119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«Я –гражданин своей страны», посвящённом 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40- летию отрядов Юных Инспекторов Движения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оминац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ЮИДовцы- достойные граждане Росси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этом можешь ты не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Но гражданином быть обя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ражданин – это достойный сын Отечества! Так охарактеризовал понятие гражданин великий русский писатель Некр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071720" y="1000080"/>
            <a:ext cx="61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977 году в семье Меннажиева Виктора Агалиевича родился сын, корого назвали Рашидом. Тогда никто и не предполагал, и не догадывался что из этого маленького, симпатичного мальчугана вырастет настоящий гражданин своей стр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568944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Знакомьтесь,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нспектор по пропаганде ОГИБДД ОВД г.Кисловодска Меннажиев Рашид Викторович» ГИБДД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ggb[1]"/>
          <p:cNvPicPr/>
          <p:nvPr/>
        </p:nvPicPr>
        <p:blipFill>
          <a:blip r:embed="rId1"/>
          <a:stretch/>
        </p:blipFill>
        <p:spPr>
          <a:xfrm>
            <a:off x="5500800" y="1071720"/>
            <a:ext cx="3340080" cy="250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572000" y="214200"/>
            <a:ext cx="4572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ак сложились семейные обстоятельства , что Рашид воспитывался в семье деда Меннажиева Агали Ажмамбетовича и Марии Петровны. Дед  Агали  был трудолюбивым трактористом   35 летним стажем, уважаемым  человеком на селе. Агали Ажмамбетович старался привить Рашиду трудолюбие и желание браться за любую работу. Благодаря деду Рашид с детства неплохо научился обращаться с техникой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Копия софа 013.jpg"/>
          <p:cNvPicPr/>
          <p:nvPr/>
        </p:nvPicPr>
        <p:blipFill>
          <a:blip r:embed="rId1"/>
          <a:stretch/>
        </p:blipFill>
        <p:spPr>
          <a:xfrm>
            <a:off x="357120" y="714240"/>
            <a:ext cx="23558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Копия софа 008.jpg"/>
          <p:cNvPicPr/>
          <p:nvPr/>
        </p:nvPicPr>
        <p:blipFill>
          <a:blip r:embed="rId2"/>
          <a:stretch/>
        </p:blipFill>
        <p:spPr>
          <a:xfrm>
            <a:off x="2357280" y="714240"/>
            <a:ext cx="21243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500040" y="5716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амым верным техническим средством был велосипед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шид собирал, разбирал велосипеды чуть ли не с закрытыми 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168789240.gif"/>
          <p:cNvPicPr/>
          <p:nvPr/>
        </p:nvPicPr>
        <p:blipFill>
          <a:blip r:embed="rId1"/>
          <a:stretch/>
        </p:blipFill>
        <p:spPr>
          <a:xfrm>
            <a:off x="3857760" y="392904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1_Песенка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318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643280" y="829800"/>
            <a:ext cx="45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шид среди ровесников он был организатор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 душой улицы». Любил устраивать велого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ебята – ровесники вспомин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 Рашид не любил, когда кто то из ребят нечестно пытался прийти к побе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Фото1018.jpg"/>
          <p:cNvPicPr/>
          <p:nvPr/>
        </p:nvPicPr>
        <p:blipFill>
          <a:blip r:embed="rId1"/>
          <a:stretch/>
        </p:blipFill>
        <p:spPr>
          <a:xfrm>
            <a:off x="214200" y="1285920"/>
            <a:ext cx="3978360" cy="2984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3:56:13Z</dcterms:created>
  <dc:creator>Admin</dc:creator>
  <dc:description/>
  <dc:language>en-US</dc:language>
  <cp:lastModifiedBy>1</cp:lastModifiedBy>
  <dcterms:modified xsi:type="dcterms:W3CDTF">2014-01-02T11:07:02Z</dcterms:modified>
  <cp:revision>85</cp:revision>
  <dc:subject/>
  <dc:title>Слайд 1</dc:title>
</cp:coreProperties>
</file>