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gif" ContentType="image/gif"/>
  <Override PartName="/ppt/media/image5.jpeg" ContentType="image/jpeg"/>
  <Override PartName="/ppt/media/image26.jpeg" ContentType="image/jpeg"/>
  <Override PartName="/ppt/media/image27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A2A3-7CF4-44F3-8A78-EA2ADAF890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93BF-F7C2-4473-8171-46669522B3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F05B-4056-45F7-B0A7-9B95C65A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79F-889B-44E5-85F9-A4CD30E6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56A-AB5A-48A0-A9BC-E2E7104E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F04-5A1E-4D03-A35C-394D9A81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883-C42F-4B5C-9D42-C819BD8B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227-EF15-43FB-B44A-A66081EF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3DA-2916-45C1-BA5F-170906AD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97A4-3E86-48B7-AEFB-BC2ED59F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FBB-20FE-4A1F-B425-50268668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8B66-809A-49F4-B8D2-54AEB44B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C79-3EFC-450B-8570-4D9FD2B7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795-2F4A-4775-95BC-7F0CCAC6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5123-4EFB-4E54-A36F-8531C57BED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Foto0677.jpg"/>
          <p:cNvPicPr/>
          <p:nvPr/>
        </p:nvPicPr>
        <p:blipFill>
          <a:blip r:embed="rId1"/>
          <a:stretch/>
        </p:blipFill>
        <p:spPr>
          <a:xfrm>
            <a:off x="-468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85716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тавропольский  кра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фтекумский район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.Кара-Тюбе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КОУ СОШ №12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оминация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«ЮИДовцы- достойные граждане России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ма: «ЮИДовцы прошлых лет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звания отряда ЮИД «Гайдаровцы»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3857760" y="307440"/>
            <a:ext cx="5286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В седьмом классе Рашид становится членом  отряда ЮИД, которым руководил учитель НВП Мартыненко И.Ф. Мы задали вопрос Рашиду Викторовичу, - «Почему именно ЮИД?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Он ответил: -« Что пошёл в отряд ЮИД из-за учителя. Иван Филипович всегда  носил военную форму, он был офицером запаса. Его слова не расходились с делами.  Он был для меня эталоном».Отряд ЮИД Каратюбинской средней школы имени А. П. Гайдара в период с 1990 года по 1992 год признавался одним из лучших в рай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софа 012.jpg"/>
          <p:cNvPicPr/>
          <p:nvPr/>
        </p:nvPicPr>
        <p:blipFill>
          <a:blip r:embed="rId1"/>
          <a:stretch/>
        </p:blipFill>
        <p:spPr>
          <a:xfrm>
            <a:off x="428760" y="500040"/>
            <a:ext cx="3143160" cy="3643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642960" y="36360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 CYR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 CYR"/>
                <a:ea typeface="Times New Roman"/>
              </a:rPr>
              <a:t>К 1994 годуРашид Викторович освоил ряд профессии: водителя, тракториста, сварщ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 CYR"/>
                <a:ea typeface="Times New Roman"/>
              </a:rPr>
              <a:t>Наверное, это была дедова школа</a:t>
            </a:r>
            <a:r>
              <a:rPr b="1" i="1" lang="ru-RU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………</a:t>
            </a:r>
            <a:r>
              <a:rPr b="1" i="1" lang="ru-RU" sz="2400" spc="-1" strike="noStrike">
                <a:solidFill>
                  <a:srgbClr val="0000ff"/>
                </a:solidFill>
                <a:latin typeface="Arial CY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744099829.gif"/>
          <p:cNvPicPr/>
          <p:nvPr/>
        </p:nvPicPr>
        <p:blipFill>
          <a:blip r:embed="rId1"/>
          <a:stretch/>
        </p:blipFill>
        <p:spPr>
          <a:xfrm>
            <a:off x="6429240" y="2571840"/>
            <a:ext cx="2308320" cy="23572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43626977.jpg"/>
          <p:cNvPicPr/>
          <p:nvPr/>
        </p:nvPicPr>
        <p:blipFill>
          <a:blip r:embed="rId2"/>
          <a:stretch/>
        </p:blipFill>
        <p:spPr>
          <a:xfrm>
            <a:off x="3500280" y="278604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279159548.jpg"/>
          <p:cNvPicPr/>
          <p:nvPr/>
        </p:nvPicPr>
        <p:blipFill>
          <a:blip r:embed="rId3"/>
          <a:stretch/>
        </p:blipFill>
        <p:spPr>
          <a:xfrm>
            <a:off x="500040" y="2786040"/>
            <a:ext cx="1857240" cy="205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37440" y="509040"/>
            <a:ext cx="9256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 CYR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С 1995 по 97 года Рашид проходит служб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в рядах вооружённых сил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Время было неспокойное</a:t>
            </a:r>
            <a:r>
              <a:rPr b="1" i="1" lang="ru-RU" sz="2000" spc="-1" strike="noStrike">
                <a:solidFill>
                  <a:srgbClr val="0000ff"/>
                </a:solidFill>
                <a:latin typeface="Calibri"/>
                <a:ea typeface="Times New Roman"/>
              </a:rPr>
              <a:t>……</a:t>
            </a: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Рашид принимал участие в наведении конституционн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порядка на территорий РФ. Имеет нагр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На просьбу подробнее рассказать о служб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не захотел, отмахнулся. Одна лишь реплика</a:t>
            </a:r>
            <a:r>
              <a:rPr b="1" i="1" lang="ru-RU" sz="2000" spc="-1" strike="noStrike">
                <a:solidFill>
                  <a:srgbClr val="0000ff"/>
                </a:solidFill>
                <a:latin typeface="Calibri"/>
                <a:ea typeface="Times New Roman"/>
              </a:rPr>
              <a:t>…</a:t>
            </a: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Calibri"/>
                <a:ea typeface="Times New Roman"/>
              </a:rPr>
              <a:t>«</a:t>
            </a: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 Служба как служба</a:t>
            </a:r>
            <a:r>
              <a:rPr b="1" i="1" lang="ru-RU" sz="2000" spc="-1" strike="noStrike">
                <a:solidFill>
                  <a:srgbClr val="0000ff"/>
                </a:solidFill>
                <a:latin typeface="Calibri"/>
                <a:ea typeface="Times New Roman"/>
              </a:rPr>
              <a:t>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7" descr="Копия Анкета 004.jpg"/>
          <p:cNvPicPr/>
          <p:nvPr/>
        </p:nvPicPr>
        <p:blipFill>
          <a:blip r:embed="rId1"/>
          <a:stretch/>
        </p:blipFill>
        <p:spPr>
          <a:xfrm>
            <a:off x="214200" y="3429000"/>
            <a:ext cx="4143600" cy="2930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72" name="Рисунок 8" descr="Копия (2) Анкета 004.jpg"/>
          <p:cNvPicPr/>
          <p:nvPr/>
        </p:nvPicPr>
        <p:blipFill>
          <a:blip r:embed="rId2"/>
          <a:stretch/>
        </p:blipFill>
        <p:spPr>
          <a:xfrm>
            <a:off x="4786200" y="3429000"/>
            <a:ext cx="4143600" cy="295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ransition spd="slow">
    <p:pull dir="r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2"/>
          <p:cNvSpPr/>
          <p:nvPr/>
        </p:nvSpPr>
        <p:spPr>
          <a:xfrm>
            <a:off x="4572000" y="7858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1998 году Рашид, делом своей жизни – службу в рядах МВД РФ г. Кисловодс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" descr="софа 001.jpg"/>
          <p:cNvPicPr/>
          <p:nvPr/>
        </p:nvPicPr>
        <p:blipFill>
          <a:blip r:embed="rId1"/>
          <a:srcRect l="6053" t="5025" r="6053" b="8884"/>
          <a:stretch/>
        </p:blipFill>
        <p:spPr>
          <a:xfrm>
            <a:off x="714240" y="928800"/>
            <a:ext cx="3429000" cy="47862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m109.png"/>
          <p:cNvPicPr/>
          <p:nvPr/>
        </p:nvPicPr>
        <p:blipFill>
          <a:blip r:embed="rId2"/>
          <a:stretch/>
        </p:blipFill>
        <p:spPr>
          <a:xfrm>
            <a:off x="5857920" y="3286080"/>
            <a:ext cx="20080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400" y="1143000"/>
            <a:ext cx="442908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За время работы в данной должности Рашид Викторович неоднакратно был отмечен наград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" descr="Анкета 003.jpg"/>
          <p:cNvPicPr/>
          <p:nvPr/>
        </p:nvPicPr>
        <p:blipFill>
          <a:blip r:embed="rId1"/>
          <a:stretch/>
        </p:blipFill>
        <p:spPr>
          <a:xfrm>
            <a:off x="4929120" y="857160"/>
            <a:ext cx="3859200" cy="54453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78" name="Рисунок 7" descr="gai.gif"/>
          <p:cNvPicPr/>
          <p:nvPr/>
        </p:nvPicPr>
        <p:blipFill>
          <a:blip r:embed="rId2"/>
          <a:stretch/>
        </p:blipFill>
        <p:spPr>
          <a:xfrm>
            <a:off x="1285920" y="3786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Тяжело в учении, легко в бо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28440" y="1642680"/>
            <a:ext cx="74293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 CYR"/>
                <a:ea typeface="Times New Roman"/>
              </a:rPr>
              <a:t>Рашид Викторович поступил в 1998 году в Краснодарский юридический институт, успешно окончил его в 2003 году, и получил  квалификацию юриста</a:t>
            </a:r>
            <a:r>
              <a:rPr b="0" lang="ru-RU" sz="2400" spc="-1" strike="noStrike">
                <a:solidFill>
                  <a:srgbClr val="0000ff"/>
                </a:solidFill>
                <a:latin typeface="Arial CYR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9" descr="Анкета 002.jpg"/>
          <p:cNvPicPr/>
          <p:nvPr/>
        </p:nvPicPr>
        <p:blipFill>
          <a:blip r:embed="rId1">
            <a:lum bright="30000"/>
          </a:blip>
          <a:srcRect l="0" t="1694" r="0" b="0"/>
          <a:stretch/>
        </p:blipFill>
        <p:spPr>
          <a:xfrm>
            <a:off x="2214720" y="3500280"/>
            <a:ext cx="514332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семья.gif"/>
          <p:cNvPicPr/>
          <p:nvPr/>
        </p:nvPicPr>
        <p:blipFill>
          <a:blip r:embed="rId1"/>
          <a:stretch/>
        </p:blipFill>
        <p:spPr>
          <a:xfrm>
            <a:off x="2643120" y="928800"/>
            <a:ext cx="4143600" cy="55245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1874520" y="28584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Семья-залог успеха и побед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1457640" y="507960"/>
            <a:ext cx="66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 CYR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 CYR"/>
                <a:ea typeface="Times New Roman"/>
              </a:rPr>
              <a:t>2003 год новый рубеж в жиз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 CYR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 CYR"/>
                <a:ea typeface="Times New Roman"/>
              </a:rPr>
              <a:t>Рашида Викторовича- пере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 CYR"/>
                <a:ea typeface="Times New Roman"/>
              </a:rPr>
              <a:t>на новую должность 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  <a:ea typeface="Times New Roman"/>
              </a:rPr>
              <a:t>–</a:t>
            </a:r>
            <a:r>
              <a:rPr b="1" i="1" lang="ru-RU" sz="2800" spc="-1" strike="noStrike">
                <a:solidFill>
                  <a:srgbClr val="0000ff"/>
                </a:solidFill>
                <a:latin typeface="Arial CYR"/>
                <a:ea typeface="Times New Roman"/>
              </a:rPr>
              <a:t> инспект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 CYR"/>
                <a:ea typeface="Times New Roman"/>
              </a:rPr>
              <a:t>по пропаганде ДП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" descr="size(600).jpg"/>
          <p:cNvPicPr/>
          <p:nvPr/>
        </p:nvPicPr>
        <p:blipFill>
          <a:blip r:embed="rId1"/>
          <a:stretch/>
        </p:blipFill>
        <p:spPr>
          <a:xfrm>
            <a:off x="1714680" y="2286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Arial"/>
              </a:rPr>
              <a:t>Будни инспектора по пропаган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2" descr="16_03_2012_9_m.jpg"/>
          <p:cNvPicPr/>
          <p:nvPr/>
        </p:nvPicPr>
        <p:blipFill>
          <a:blip r:embed="rId1"/>
          <a:stretch/>
        </p:blipFill>
        <p:spPr>
          <a:xfrm>
            <a:off x="357120" y="1571760"/>
            <a:ext cx="3762360" cy="25081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16_03_2012_4_m.jpg"/>
          <p:cNvPicPr/>
          <p:nvPr/>
        </p:nvPicPr>
        <p:blipFill>
          <a:blip r:embed="rId2"/>
          <a:stretch/>
        </p:blipFill>
        <p:spPr>
          <a:xfrm>
            <a:off x="4500720" y="3214800"/>
            <a:ext cx="4298760" cy="2865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Arial"/>
              </a:rPr>
              <a:t>Интервью с Рашидом Викторович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214880" y="1785960"/>
            <a:ext cx="4286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Из разговора с ним мы чувствуем как он серьёзно относится к своей работе, он осознаёт и понимает как ценна  человеческая жизнь, а тем более жизнь ребёнка. Он убеждён, что его дело нужно и необходимо. И это всё ради  безопасности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" descr="3.jpg"/>
          <p:cNvPicPr/>
          <p:nvPr/>
        </p:nvPicPr>
        <p:blipFill>
          <a:blip r:embed="rId1"/>
          <a:srcRect l="0" t="8010" r="14588" b="5017"/>
          <a:stretch/>
        </p:blipFill>
        <p:spPr>
          <a:xfrm>
            <a:off x="555480" y="1785960"/>
            <a:ext cx="309096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уководители: Меннажиева М. 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изванова Д.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ры: члены отряда Ю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еннажиев Тамерлан,Урашева Аи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6" descr="софа.jpg"/>
          <p:cNvPicPr/>
          <p:nvPr/>
        </p:nvPicPr>
        <p:blipFill>
          <a:blip r:embed="rId1"/>
          <a:stretch/>
        </p:blipFill>
        <p:spPr>
          <a:xfrm>
            <a:off x="5429160" y="2000160"/>
            <a:ext cx="3214800" cy="45356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Анкета.jpg"/>
          <p:cNvPicPr/>
          <p:nvPr/>
        </p:nvPicPr>
        <p:blipFill>
          <a:blip r:embed="rId2"/>
          <a:stretch/>
        </p:blipFill>
        <p:spPr>
          <a:xfrm>
            <a:off x="0" y="1928880"/>
            <a:ext cx="3282840" cy="45003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Анкета 001.jpg"/>
          <p:cNvPicPr/>
          <p:nvPr/>
        </p:nvPicPr>
        <p:blipFill>
          <a:blip r:embed="rId3"/>
          <a:stretch/>
        </p:blipFill>
        <p:spPr>
          <a:xfrm>
            <a:off x="2571840" y="2071800"/>
            <a:ext cx="3143160" cy="4433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Заслуги Рашида Викторовича </a:t>
            </a: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инспектора по пропаганде ОГИБДД ОВД г.Кисловодс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4" descr="m109.png"/>
          <p:cNvPicPr/>
          <p:nvPr/>
        </p:nvPicPr>
        <p:blipFill>
          <a:blip r:embed="rId4"/>
          <a:stretch/>
        </p:blipFill>
        <p:spPr>
          <a:xfrm>
            <a:off x="7858080" y="4572000"/>
            <a:ext cx="1500120" cy="1920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42800" y="71424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 Рашида Викторовича растёт сын Тимур. На вопрос : - «Кем Вы видите своего сына в будущем?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тветил просто:- « Хочу чтобы стал человеком…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3" descr=""/>
          <p:cNvPicPr/>
          <p:nvPr/>
        </p:nvPicPr>
        <p:blipFill>
          <a:blip r:embed="rId1"/>
          <a:stretch/>
        </p:blipFill>
        <p:spPr>
          <a:xfrm>
            <a:off x="274680" y="2749680"/>
            <a:ext cx="8601120" cy="1199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«Я –гражданин своей страны», посвящённом 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40- летию отрядов Юных Инспекторов Движения»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Номинация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«ЮИДовцы- достойные граждане России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840" y="4996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Поэтом можешь ты не 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                    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Но гражданином быть обяз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Гражданин – это достойный сын Отечества! Так охарактеризовал понятие гражданин великий русский писатель Некр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2"/>
          <p:cNvSpPr/>
          <p:nvPr/>
        </p:nvSpPr>
        <p:spPr>
          <a:xfrm>
            <a:off x="1071720" y="1000080"/>
            <a:ext cx="61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1977 году в семье Меннажиева Виктора Агалиевича родился сын, корого назвали Рашидом. Тогда никто и не предполагал, и не догадывался что из этого маленького, симпатичного мальчугана вырастет настоящий гражданин своей стра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568944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«Знакомьтесь, 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инспектор по пропаганде ОГИБДД ОВД г.Кисловодска Меннажиев Рашид Викторович» ГИБДД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gggb[1]"/>
          <p:cNvPicPr/>
          <p:nvPr/>
        </p:nvPicPr>
        <p:blipFill>
          <a:blip r:embed="rId1"/>
          <a:stretch/>
        </p:blipFill>
        <p:spPr>
          <a:xfrm>
            <a:off x="5500800" y="1071720"/>
            <a:ext cx="3340080" cy="2504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4572000" y="214200"/>
            <a:ext cx="4572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ак сложились семейные обстоятельства , что Рашид воспитывался в семье деда Меннажиева Агали Ажмамбетовича и Марии Петровны. Дед  Агали  был трудолюбивым трактористом   35 летним стажем, уважаемым  человеком на селе. Агали Ажмамбетович старался привить Рашиду трудолюбие и желание браться за любую работу. Благодаря деду Рашид с детства неплохо научился обращаться с техникой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Копия софа 013.jpg"/>
          <p:cNvPicPr/>
          <p:nvPr/>
        </p:nvPicPr>
        <p:blipFill>
          <a:blip r:embed="rId1"/>
          <a:stretch/>
        </p:blipFill>
        <p:spPr>
          <a:xfrm>
            <a:off x="357120" y="714240"/>
            <a:ext cx="235584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Копия софа 008.jpg"/>
          <p:cNvPicPr/>
          <p:nvPr/>
        </p:nvPicPr>
        <p:blipFill>
          <a:blip r:embed="rId2"/>
          <a:stretch/>
        </p:blipFill>
        <p:spPr>
          <a:xfrm>
            <a:off x="2357280" y="714240"/>
            <a:ext cx="212436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500040" y="571680"/>
            <a:ext cx="785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амым верным техническим средством был велосипед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ашид собирал, разбирал велосипеды чуть ли не с закрытыми глаз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4" descr="168789240.gif"/>
          <p:cNvPicPr/>
          <p:nvPr/>
        </p:nvPicPr>
        <p:blipFill>
          <a:blip r:embed="rId1"/>
          <a:stretch/>
        </p:blipFill>
        <p:spPr>
          <a:xfrm>
            <a:off x="3857760" y="3929040"/>
            <a:ext cx="2679480" cy="1785960"/>
          </a:xfrm>
          <a:prstGeom prst="rect">
            <a:avLst/>
          </a:prstGeom>
          <a:ln w="0">
            <a:noFill/>
          </a:ln>
        </p:spPr>
      </p:pic>
      <p:pic>
        <p:nvPicPr>
          <p:cNvPr id="61" name="1_Песенка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23186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4643280" y="829800"/>
            <a:ext cx="450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Рашид среди ровесников он был организатор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« душой улицы». Любил устраивать велого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Ребята – ровесники вспомина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« Рашид не любил, когда кто то из ребят нечестно пытался прийти к побед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Фото1018.jpg"/>
          <p:cNvPicPr/>
          <p:nvPr/>
        </p:nvPicPr>
        <p:blipFill>
          <a:blip r:embed="rId1"/>
          <a:stretch/>
        </p:blipFill>
        <p:spPr>
          <a:xfrm>
            <a:off x="214200" y="1285920"/>
            <a:ext cx="3978360" cy="2984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3:56:13Z</dcterms:created>
  <dc:creator>Admin</dc:creator>
  <dc:description/>
  <dc:language>en-US</dc:language>
  <cp:lastModifiedBy>1</cp:lastModifiedBy>
  <dcterms:modified xsi:type="dcterms:W3CDTF">2014-01-02T11:07:02Z</dcterms:modified>
  <cp:revision>85</cp:revision>
  <dc:subject/>
  <dc:title>Слайд 1</dc:title>
</cp:coreProperties>
</file>