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BA9AA-5751-46CC-981D-85E9C4F2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0B5E5-BFD3-4377-8290-9D42E183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02DB1-F712-4206-89A8-45B26332A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1B038-E22A-4AE1-A3A7-CAF39C0A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474A-F477-4198-8096-5A81F7126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DB56-A402-44D9-A0DA-5F0C5609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0F1E-C381-4378-9C70-34367EE3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7C88-1A38-4E2E-A0FF-F6759B3A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8D19-FA9A-40E7-97D2-F3976E48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99BF-04C0-4581-9581-B36C28BC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AF84-724E-4096-9A11-5F3578C2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46529-8605-47D4-A311-9C1E96AD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D799-4F4A-4E4D-915E-E9D6FCC5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2983-069C-496C-81E5-7B949E8B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23A3-13A6-4742-897A-55B4BFA4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1F5A-91BE-464F-8E63-0ADF0B19F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04D2-83A0-4BCD-AD95-7B2B61258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096F4-AD38-441B-9DA3-03629D21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FA55C-BC03-4B11-A695-8910F843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56EEA-6176-486F-87DC-390CB2BB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3BDDE-3296-4EA5-8447-F7A21559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2AEA5-C3B3-448D-B0E4-876771A6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E4271-212B-418E-A675-4D19C412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A87DA-3335-40B4-BE37-307F8FA0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5EFC-216F-43F1-8A99-9E7C188AFF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9682-767E-45CF-BBAD-B7A4131095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ГОУ гимназия № 528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Невского района г. Санкт-Петербур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97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Програм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«Здоровье школьник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2592360" cy="2952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03640" y="3284640"/>
            <a:ext cx="2952720" cy="2808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610320" y="3284640"/>
            <a:ext cx="23544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92000" y="475920"/>
            <a:ext cx="7451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Какова цель  данной программы?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284720" y="1844280"/>
            <a:ext cx="45352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охранение и укрепление здоровья школьника посредством проведения регулярного мониторинга,  выдачи адресных рекомендаций и воспитания культуры здоровь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сихологическая диагност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388764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75920"/>
            <a:ext cx="701028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Приборы для мониторинга здоровья и психомоторной активности школьника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12501" b="13885"/>
          <a:stretch/>
        </p:blipFill>
        <p:spPr>
          <a:xfrm>
            <a:off x="4859280" y="1995480"/>
            <a:ext cx="3889440" cy="4025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39592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6994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 чего состоит саногенетический мониторинг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27640" y="1483920"/>
            <a:ext cx="446544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следование на приборной базе,       формирование индивидуального профиля ребе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Выдача адресных рекомендац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Повышение культуры здоровья школь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Психологическая диагност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3095640" cy="2519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39640" y="3716280"/>
            <a:ext cx="324036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то такое адресные рекомендаци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5041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мплексы упражнений по физической культуре, оформленные в виде иллюстрированной сказ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комендации по питани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комендации по объему учебных нагрузок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дресные рекомендации выдаются только в случае выявление того или иного функционального отклонения при обследовании на приборной баз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комендации разработаны врачами Санкт-Петербур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508720" y="1989000"/>
            <a:ext cx="343044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На что следует обратить внимание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268280"/>
            <a:ext cx="7010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 мониторинге здоровья школьника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ЕТ ни диагнозов, ни медицинского лечения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рограмма мониторинга ведется в РФ уже на протяжении 10 ле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4000" y="3645000"/>
            <a:ext cx="3816360" cy="244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435640" y="3645000"/>
            <a:ext cx="3168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39640" y="189000"/>
            <a:ext cx="525636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Особенности мет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00720" y="1125000"/>
            <a:ext cx="44640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ективность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намика обследования: каждой осенью и вес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спрессность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матизация измерений и компьютерная обработка результа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745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6424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Как в рамках программы происходит воспитание культуры здоровья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211280" y="1773000"/>
            <a:ext cx="44751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 учащимися проводится Уроки здоровья, классные час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ждому ученику выдается «Дневник здоровья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аздники Здоровья, конкурсы рисун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вивается культура здоровь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37814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ffffff"/>
                </a:solidFill>
                <a:latin typeface="Arial"/>
              </a:rPr>
              <a:t>Надеемся на сотрудничество и поддержку!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72738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14:58:12Z</dcterms:created>
  <dc:creator>Наталья</dc:creator>
  <dc:description/>
  <dc:language>en-US</dc:language>
  <cp:lastModifiedBy>Наталья</cp:lastModifiedBy>
  <dcterms:modified xsi:type="dcterms:W3CDTF">2011-02-27T15:32:07Z</dcterms:modified>
  <cp:revision>6</cp:revision>
  <dc:subject/>
  <dc:title>Государственное образовательное учреждение  гимназия № 528  Невского района г. Санкт-Петербурга</dc:title>
</cp:coreProperties>
</file>