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55283-B5F0-4783-B17F-C9758F06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C99F3-EFA4-458A-BA0D-555CDCE5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DEA4-B64D-42C6-9EB5-A1E09158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D3688-E673-45F4-ACDC-0F32E679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0ADF-21BD-44CF-8B59-421E8B4B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D4BA-6EE5-47DF-BC6A-5F38DBDA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27C0-6E1D-413D-9255-72F02670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1F73-E963-4581-A5CA-7F8F2070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5B46-D152-4C6A-8D7A-9069E877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A1C5-DB3C-4823-9D59-0E6FA665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43E8-24A3-4BF2-9428-85A3961F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E1302-4681-4A7C-9F04-BBED0F2A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A5A2-D825-4966-AF8C-AE8444DC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5BAE-BC92-4512-BB58-802ED3AD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4035-5A30-4F2C-BBDA-F4688E9A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7E7F-05FE-4831-8038-DDD88E97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4FF4-4F30-46AC-825C-122AFB9B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B499-73CC-49C1-8E4D-52BBF728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A5CF-E1D9-47FB-A2D7-F5B475F8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2882-8BE0-444E-AA04-19FC9AF7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56DFA-5AE1-405F-BF04-B298EA26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33C7-1BF8-49EF-AB7E-18932103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FE5D-A1C7-4D92-95B8-4C162954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4279E-6EE7-4D8C-905C-D0A87CB4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1091-1BB4-4439-9B39-C1951260E4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2B8B-8946-41D4-AAF6-5E1ED4D909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ГОУ гимназия № 528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евского района г. Санкт-Петербур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рограм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«Здоровье школьни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259236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03640" y="328464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10320" y="3284640"/>
            <a:ext cx="23544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475920"/>
            <a:ext cx="7451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акова цель  данной программы?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4720" y="1844280"/>
            <a:ext cx="4535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охранение и укрепление здоровья школьника посредством проведения регулярного мониторинга,  выдачи адресных рекомендаций и воспитания культуры здоров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сихологическая диагнос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8876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75920"/>
            <a:ext cx="701028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Приборы для мониторинга здоровья и психомоторной активности школьник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12501" b="13885"/>
          <a:stretch/>
        </p:blipFill>
        <p:spPr>
          <a:xfrm>
            <a:off x="4859280" y="1995480"/>
            <a:ext cx="3889440" cy="402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959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699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чего состоит саногенетический мониторинг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27640" y="1483920"/>
            <a:ext cx="4465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следование на приборной базе,       формирование индивидуального профиля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Выдача адресных рекоменд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Повышение культуры здоровья 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Психологическая диагност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32403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 такое адресные рекомендац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5041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плексы упражнений по физической культуре, оформленные в виде иллюстрированной сказ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омендации по питан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омендации по объему учебных нагрузо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дресные рекомендации выдаются только в случае выявление того или иного функционального отклонения при обследовании на приборной баз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омендации разработаны врачами Санкт-Петербур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08720" y="1989000"/>
            <a:ext cx="343044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а что следует обратить внимание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268280"/>
            <a:ext cx="7010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мониторинге здоровья школьника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НЕТ ни диагнозов, ни медицинского лечения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ограмма мониторинга ведется в РФ уже на протяжении 10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35640" y="3645000"/>
            <a:ext cx="3168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39640" y="189000"/>
            <a:ext cx="5256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мет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00720" y="1125000"/>
            <a:ext cx="4464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ивность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намика обследования: каждой осенью и вес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рессность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зация измерений и компьютерная обработка результа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745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6424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ак в рамках программы происходит воспитание культуры здоровья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11280" y="1773000"/>
            <a:ext cx="4475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учащимися проводится Уроки здоровья, классные час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ждому ученику выдается «Дневник здоровь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здники Здоровья, конкурсы рисун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вивается культура здоров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781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Надеемся на сотрудничество и поддержку!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72738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4:58:12Z</dcterms:created>
  <dc:creator>Наталья</dc:creator>
  <dc:description/>
  <dc:language>en-US</dc:language>
  <cp:lastModifiedBy>Наталья</cp:lastModifiedBy>
  <dcterms:modified xsi:type="dcterms:W3CDTF">2011-02-27T15:32:07Z</dcterms:modified>
  <cp:revision>6</cp:revision>
  <dc:subject/>
  <dc:title>Государственное образовательное учреждение  гимназия № 528  Невского района г. Санкт-Петербурга</dc:title>
</cp:coreProperties>
</file>