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8A1CF-5AE9-44E4-B9D8-BBF3DE656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20364-27A8-4337-8DDB-AE19A4090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38BBA-0FA1-4BB9-A263-2C97A31D5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4E51A-675E-4698-8856-79560B5D8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0ACF2-CD5A-48CF-A4BA-870916772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20F87-0EF6-4397-92A1-B125BF446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D1B50-EB73-4466-807A-AC500AF24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A1874-13A9-4F6C-B43E-C81D6A8D3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24DBC-1531-43D5-823B-7019C9077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5501C-6595-414B-9CCA-E91C4DD1D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0855E-FC52-4259-B257-37008F1B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B1527-43AA-4F17-811B-8BF481248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B7918-5845-4903-A13C-47D532855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58C00-EA88-441E-8E4F-226B712AA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C9868-6D25-4CA7-9864-ECD931B18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1DCAB-3DFC-47CC-8904-8D4477F68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500C4-96A6-448C-ABE0-C89195D35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A43E6-D979-4668-988C-6C091099B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D3956-960F-42EE-BF53-5FB7DCE88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F8051-6A32-4791-A391-5FC1DF8F2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5264F-7CD1-4B83-BF11-2D45757CA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CF692-C0D0-48AD-9CA4-570FD8E35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35427-A886-4F49-A3D6-E026C408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955AF-3CD2-4AB8-9992-B0FCC17D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D84AF-8408-4494-9194-B9B15CA1D17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35338-3A06-410B-AB75-4C6DAB8CCFB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01028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ГОУ гимназия № 528 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Невского района г. Санкт-Петербург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4978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Программ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«Здоровье школьника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9280" y="3213000"/>
            <a:ext cx="2592360" cy="29527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203640" y="3284640"/>
            <a:ext cx="2952720" cy="2808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6610320" y="3284640"/>
            <a:ext cx="23544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92000" y="475920"/>
            <a:ext cx="7451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Какова цель  данной программы?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284720" y="1844280"/>
            <a:ext cx="45352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Сохранение и укрепление здоровья школьника посредством проведения регулярного мониторинга,  выдачи адресных рекомендаций и воспитания культуры здоровь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Психологическая диагности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388764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76160" y="475920"/>
            <a:ext cx="701028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Приборы для мониторинга здоровья и психомоторной активности школьника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12501" b="13885"/>
          <a:stretch/>
        </p:blipFill>
        <p:spPr>
          <a:xfrm>
            <a:off x="4859280" y="1995480"/>
            <a:ext cx="3889440" cy="40258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68360" y="2060640"/>
            <a:ext cx="39592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92000" y="620640"/>
            <a:ext cx="6994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з чего состоит саногенетический мониторинг?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427640" y="1483920"/>
            <a:ext cx="446544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бследование на приборной базе,       формирование индивидуального профиля ребен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Выдача адресных рекомендац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Повышение культуры здоровья школьни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 Психологическая диагности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3095640" cy="25192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39640" y="3716280"/>
            <a:ext cx="3240360" cy="24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010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Что такое адресные рекомендаци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5041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мплексы упражнений по физической культуре, оформленные в виде иллюстрированной сказк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екомендации по питанию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екомендации по объему учебных нагрузок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дресные рекомендации выдаются только в случае выявление того или иного функционального отклонения при обследовании на приборной баз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екомендации разработаны врачами Санкт-Петербург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508720" y="1989000"/>
            <a:ext cx="3430440" cy="31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На что следует обратить внимание!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676160" y="1268280"/>
            <a:ext cx="701028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в мониторинге здоровья школьника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НЕТ ни диагнозов, ни медицинского лечения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программа мониторинга ведется в РФ уже на протяжении 10 лет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24000" y="3645000"/>
            <a:ext cx="3816360" cy="2448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435640" y="3645000"/>
            <a:ext cx="31687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339640" y="189000"/>
            <a:ext cx="525636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Особенности мето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00720" y="1125000"/>
            <a:ext cx="44640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ъективность,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инамика обследования: каждой осенью и весн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кспрессность,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втоматизация измерений и компьютерная обработка результат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37450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64245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Как в рамках программы происходит воспитание культуры здоровья?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211280" y="1773000"/>
            <a:ext cx="447516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 учащимися проводится Уроки здоровья, классные час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ждому ученику выдается «Дневник здоровья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аздники Здоровья, конкурсы рисунк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вивается культура здоровь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2205000"/>
            <a:ext cx="378144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>
                <a:solidFill>
                  <a:srgbClr val="ffffff"/>
                </a:solidFill>
                <a:latin typeface="Arial"/>
              </a:rPr>
              <a:t>Надеемся на сотрудничество и поддержку!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258920" y="1916280"/>
            <a:ext cx="72738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5T14:58:12Z</dcterms:created>
  <dc:creator>Наталья</dc:creator>
  <dc:description/>
  <dc:language>en-US</dc:language>
  <cp:lastModifiedBy>Наталья</cp:lastModifiedBy>
  <dcterms:modified xsi:type="dcterms:W3CDTF">2011-02-27T15:32:07Z</dcterms:modified>
  <cp:revision>6</cp:revision>
  <dc:subject/>
  <dc:title>Государственное образовательное учреждение  гимназия № 528  Невского района г. Санкт-Петербурга</dc:title>
</cp:coreProperties>
</file>