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EFA-A012-41E8-8677-89B304B1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0CB-51E7-4E50-A035-026CBF09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7F1-07F0-45BB-93F3-688F3065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1C5-A5A1-4BCB-9768-6DB3E0AE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051-B92C-403C-83D2-02DE722F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57D-7CAD-4DFD-946C-42C9DBE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25C-7B02-4797-94B2-1451262E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8BF-F379-4445-8775-5061608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813-CFAC-450F-B0C8-68F57AF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E79-9235-4CA2-9275-B6FB5B4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A07-5037-4268-9871-31346FF0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3E3-EC1B-4D3A-86AE-91C6C3E7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A2B-5A62-4C71-8F37-1145A688A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357120" y="40464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У «Дубровская средняя общеобразовательная 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755640" y="2060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онститу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187280" y="5157720"/>
            <a:ext cx="64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амалов С.А. – учитель МОУ «Дубровская СОШ» Красноармейского района Челябин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3678480" y="6165720"/>
            <a:ext cx="20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 Дубровка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едеративное устро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457200" y="1268280"/>
            <a:ext cx="8353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тивное устройство Российской Федерации регулируется нормами статьи 65 и главы 3 Конституции Российской Федерации 1993 года. Субъектами федерации в Росси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и в составе Российской Федерации (государ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ода федерального зна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номная обла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номные ок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субъекты Российской Федерации равноправны, то есть не допускается их дискриминация или придание привилегированного положения исходя из конституционно-правового статуса конкретного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тивное устройство России основано на ряде принци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ая целостность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стве системы государственной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граничение предметов ведения и полномочий между федеральными органами государственной власти и органами государственной власти субъектов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оправие и самоопределение народов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Президе́нт Росси́йской Федера́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4920" y="907920"/>
            <a:ext cx="454644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иде́нт Росси́йской Федера́ции — высшая государственная должность Российской Федерации, а также лицо, избранное на эту должность. Президент России является главой государства. Многие полномочия президента либо имеют непосредственно исполнительный характер, либо приближены к исполнительной власти. Наряду с этим, по мнению некоторых исследователей, президент не относится к какой-либо одной ветви власти, а возвышается над нею, поскольку осуществляет координирующие функции и имеет право роспуска Государственной думы. Президент Российской Федерации является также гарантом Конституции Российской Федерации, прав и свобод человека и гражданина и Верховным Главнокомандующим Вооружёнными Силами Российской Федерации. В соответствии с Конституцией Российской Федерации и федеральными законами Президент Российской Федерации определяет основные направления внутренней и внешней поли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40863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Федера́льное собра́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едера́льное собра́ние — высший представительный и законодательный орган России (согласно статье 94 Конституции РФ). Парламент Р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тус Федерального собрания определен в главе 5 Конституции Р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ункции и полномочия Федерального собрания распределены между двумя палатами — Государственной думой и Советом Федерации (согласно статье 95 Конституции Р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едеральное собрание является постоянно действующим органом (статья 99 Конституции Р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 палаты могут собираться совместно для заслушивания посланий Президента Российской Федерации, посланий Конституционного суда РФ, выступлений руководителей иностранных государств (статья 100 Конституции Р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push dir="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6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90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250"/>
                            </p:stCondLst>
                            <p:childTnLst>
                              <p:par>
                                <p:cTn id="2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6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тельство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и — высший федеральный орган, осуществляющий исполнительную власть в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ус Правительства и порядок его деятельности определены Главой 6-й Конституции и федеральным конституционным законом «О Правительстве Российской Федерации» от 17 декабря 1997 года[2] с позднейшими измен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Правительства Российской Федерации расположен на берегу Москвы-реки в Москве, по адресу: Краснопресненская набережная, до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Ф имеет свой интернет-сайт и принимает обращения граждан в электронном виде. Почтовый адрес Правительства РФ для обращений в письменном виде: 103274, г. Москва, Краснопресненская набережная,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21776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15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дебная вл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ответствии с принципом разделения властей одной из трёх (наряду с законодательной и исполнительной властью) ветвей является судебн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4762440" cy="400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стное самоуправ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стное самоуправление — система организации и деятельности граждан, обеспечивающая самостоятельное решение населением вопросов местного значения, управление муниципальной собственностью, исходя из интересов всех жителей данной территор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овременном мире большое распространение получили те системы местного самоуправления, классификация которых основана на складывании отношений между местным самоуправлением и центральными властями. Так, распространение получили следующие модели местного самоуправления: англосаксонская (классическая) модель, континентальная, смешанная и советская модел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push dir="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700"/>
                            </p:stCondLst>
                            <p:childTnLst>
                              <p:par>
                                <p:cTn id="3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личие Конституции от зак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титуц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государственный строй, основные права и свободы, определяет форму государства и систему высших органов государственной вла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ладает высшей юридической сил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личается стабильностью, обусловленной особым, усложненным порядком принятия и измен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вляется базой для текущего законодатель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50"/>
                            </p:stCondLst>
                            <p:childTnLst>
                              <p:par>
                                <p:cTn id="3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6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6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149"/>
                            </p:stCondLst>
                            <p:childTnLst>
                              <p:par>
                                <p:cTn id="4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284720" y="16286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нституция Российской Федерации — это нормативный правовой акт, обладающий высшей юридической силой, закрепляющий основы конституционного строя, государственное устройство, образование представительных, исполнительных, судебных органов власти и систему местного самоуправления, права и свободы человека и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1763640" y="40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ение Конститу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333600" cy="4724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3463200" y="260280"/>
            <a:ext cx="232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95280" y="1197000"/>
            <a:ext cx="80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6 июня 1990 года была образована Конституционная комиссия I Съезда народных депутатов РСФСР, которая начала эту работу. Секретарём комиссии был утверждён О. Г. Румянцев. Сначала в состав комиссии вошли 102 депутата, но к ноябрю 1992 года её численность сократилась до 98 человек, в частности, из-за того, что три члена Конституционной комиссии были избраны в состав Конституционного Суда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0920" y="2781360"/>
            <a:ext cx="8788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5 октября 1993 года президент Б. Н. Ельцин подписал указ о всенародном голосовании по проекту Конституции России и утвердил «Положение о всенародном голосовании по проекту Конституции Российской Федерации 12 декабря 1993 года» Согласно Положению, Конституция считалась одобренной, если за её принятие проголосовало большинство избирателей, принявших участие в голосовании, при том условии, что участие в голосовании приняло более половины числа зарегистрированных избирателей. Термин «всенародное голосование» (а не «референдум») был использован для того, чтобы обойти положение действовавшего Закона о референдуме РСФСР, согласно которому соответствующий референдум, мог быть назначен лишь Съездом народных депутатов или Верховным Советом РФ, согласно ст. 9 упомянутого закона. Конституция Российской Федерации 1993 года вступила в силу в день её опубликования в «Российской газете» — 25 декабря 1993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2 декабря 1993 года голосование состоялось. За принятие Конституции проголосовало 58,43 %, против — 41,57 %. Новая Конституция была принята и вступила в действие со дня её опубликования 25 декабря того же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2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484280"/>
            <a:ext cx="4114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Действующая Конституция России состоит из Преамбулы и двух разделов. В Преамбуле провозглашается, что народ России принимает данную Конституцию; закрепляются демократические и гуманистические ценности; определяется место России в современном мире. Первый раздел включает 9 глав и состоит из 137 статей, закрепляющих основы политической, общественной, правовой, экономической, социальной систем в Российской Федерации, основные права и свободы личности, федеративное устройство Российской Федерации, статус органов публичной власти, а также порядок пересмотра Конституции и внесения в неё поправок. Второй раздел определяет заключительные и переходные положения и служит основой преемственности и стабильности конституционно-правовых нор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15612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39640" y="76500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амб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1. Основы конституционного строя (статьи 1—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2. Права и свободы человека и гражданина (статьи 17—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3. Федеративное устройство (статьи 65—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4. Президент Российской Федерации (статьи 80—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5. Федеральное Собрание (статьи 94—1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6. Правительство Российской Федерации (статьи 110—1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7. Судебная власть (статьи 118—1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8. Местное самоуправление (статьи 130—1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9. Конституционные поправки и пересмотр конституции (статьи 134—1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 второй. Заключительные и переходны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870440" y="1125360"/>
            <a:ext cx="4035600" cy="43657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7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ституционный ст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36831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нституционный строй — система социальных, экономических и политико-правовых отношений, устанавливаемых и охраняемых конституцией и другими конституционно-правовыми актами государств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сновной нормой права, в которой закреплен Конституционный строй государства является Конституц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нституционный строй не следует отождествлять с государственным строем. В отличие от последнего он всегда предполагает наличие в государстве конституц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ешение споров, связанных с конституционным строем государства относятся к исключительной компетенции Конституционного Суд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140360" y="16286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ыми признаками конституционного строя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одный суверенитет — исключительное право народа как основного носителя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е власти(власть одна и она делится на :) на законодательную, исполнительную, судебн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рушимость и неотчуждаемость общепризнанных прав и свобод человека — права и свободы человека есть основной предмет обеспечения и защиты конституционного ст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65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Права́ челове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3640" y="1628640"/>
            <a:ext cx="461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а́ челове́ка — права, образующие основу правового статуса лич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тавляют ядро конституционного права правовых государств (т. н. Права́ и свобо́ды челове́ка и граждани́на). Конкретное выражение и объём этих прав в позитивном праве различных государств, как и в различных международно-правовых договорах может отличаться. В международном публичном праве известнейший документ, их закрепляющий — Всеобщая декларация прав человека ОО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003640" y="1432080"/>
            <a:ext cx="285768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push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прав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жизн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свободу и личную неприкосновенност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достоинство личнос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неприкосновенность частной жизн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неприкосновенность жилищ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самозащиту, в том числе право на эффективные средства самозащиты, такие как огнестрельное оружие, и в том числе право на очень эффективные, крайне эффективные и бесконечно эффективны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национальную и культурную самоидентификацию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совести и свобода мысл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передвижения и выбора местожительств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выбора национальности и языка обще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судебную защит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вобода вероисповедания (каждый человек может придерживаться любой религии, или создать свою собственную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им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аво на частную собственность (некоторыми правоведами относится к экономическим; во Франции признано одним из основных личных прав со времён Великой французской революции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push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7:08:17Z</dcterms:created>
  <dc:creator>Николай Александрови</dc:creator>
  <dc:description/>
  <dc:language>en-US</dc:language>
  <cp:lastModifiedBy>Олег</cp:lastModifiedBy>
  <dcterms:modified xsi:type="dcterms:W3CDTF">2012-02-06T17:55:06Z</dcterms:modified>
  <cp:revision>16</cp:revision>
  <dc:subject/>
  <dc:title>Презентация PowerPoint</dc:title>
</cp:coreProperties>
</file>