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ECB-AC9A-411A-9D66-27B4098B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BE9-A980-44D7-B417-800C55AC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915-F72F-47B0-9952-A9B98541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409-6A2B-4E61-BB25-B47978E1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F4A-CD89-47A0-B779-42DBF7D2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D38-7E6A-4133-97A3-E209D797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395-690F-46D3-8FEF-91AEB387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EF6-C782-43B9-8884-0F3AF9B7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F91-0318-48E4-8F96-E5D3E920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BE9-8A22-4612-8BD6-8C8608D1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DF2-E3F2-45B4-BC3B-EDBFB149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1F6-255B-425A-B15B-2C5896C3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4FC7-8CD6-4D03-B72E-B67E84C55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8 январ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Краеведени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4А 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ff"/>
                </a:solidFill>
                <a:latin typeface="Arial"/>
              </a:rPr>
              <a:t>                             </a:t>
            </a:r>
            <a:r>
              <a:rPr b="1" i="1" lang="ru-RU" sz="3200" spc="-1" strike="noStrike">
                <a:solidFill>
                  <a:srgbClr val="ff3399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3399ff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3399ff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3399ff"/>
                </a:solidFill>
                <a:latin typeface="Arial"/>
              </a:rPr>
              <a:t>ТРУКТУРА ЖИВОЙ ВОД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Arial"/>
              </a:rPr>
              <a:t>Цели урока:</a:t>
            </a:r>
            <a:r>
              <a:rPr b="1" i="1" lang="ru-RU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99ff"/>
                </a:solidFill>
                <a:latin typeface="Arial"/>
              </a:rPr>
              <a:t>познакомить детей со свойствами и особенностями  воды, значением для жизни человека; показать наглядно научные наблюдения над структурой воды; развивать кругозор; воспитывать бережное отношение к воде и стремление  говорить тольк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учитель: Копыло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42920" y="357120"/>
            <a:ext cx="6337080" cy="5792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15040" y="928800"/>
            <a:ext cx="277344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сталл воды после показа (мысленного произнесения) слова "Любовь" и "Благодар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5410080" cy="6264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72000" y="1600200"/>
            <a:ext cx="25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графии воды, взятой из ледника с горы Кука в Новой Зелан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507520" cy="6337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24000" y="1125360"/>
            <a:ext cx="31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из источника близ города Сайджо, расположенного в горах и известного своей чистотой и первозда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оду изучали очень давно и довольно подробно, но несмотря на это только сейчас ученые поняли, что о воде они почти ничего не знают. Ученые доказали, что у воды есть память. Проводимые результаты ученых многих стран мира показали, что вода запоминает и запечатлевает любое воздействие, которое происходит в окружающем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гадывались ли наши предки, когда использовали в лечебных целях серебрянную воду. Запечатлевая информацию вода приобретает новые свойства, при этом ее химический состав остается прежним, что действительно было господствующей точкой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887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труктура воды – это то, как организованы ее молекулы. Молекулы объединяются в группы, эти группы называются кластарами. Ученные предположили, что именно кластары, являются своеобразными ячейками памяти, в которые вода записывает все, что видит и слышит, как на магнитофонную пленку. Вода конечно остается водой, но ее структура меняется в зависимости от воздействия в положительную или отрицательную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549000"/>
            <a:ext cx="3754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понский ученный Эмото Масару исследовал воду, которая подвергалась различным впечатлениям, впоследствии чего вода стремительно замораживалась в креагенной камере. Если посмотреть под микроскопом, то вы увидите как, выглядит вода которой сказали: «Спасибо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140360" y="549360"/>
            <a:ext cx="48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«Извини».      «Ты мне противен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16400" cy="507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4648320" y="1052640"/>
            <a:ext cx="42447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ктор Эмото провел еще один любопытный эксперимент. Поместил в три стеклянные банки рис и залил его водой. Потом каждый день в течении месяца говорил: «Спасибо» первой, второй говорил: «Ты - дурак», а на третью не обращал внимание. Через месяц рис, которому говорили спасибо начал бродить и издавал сильный приятный запах, рис из второй банки почернел, а рис, на который не обращали внимание начал загни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Я думаю, что вы уже сделали свои выводы, и поняли, что если человек обращается к воде с хорошими мыслями или благословляет ее, говорит ей: «Спасибо», то качество этой воды будет расти, и она будет положительно влиять на наши мысли. Человек влияет также на себя, в духовном плане на уровни мысли, те, чьи мысли негативные, загрязняет свою собственную воду, из которой на 75-90% состоит организм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95 году впервые удалось зафиксировать музыкальные впечатления воды, ей дали послушать музыку, после чего стремительно заморозили и под микроскопом увидели кристаллы, которые в результате образовала вода. Посмотрите, как выглядит музыка Баха, Моцарта, Бетховена, а также тяжелый рок. Разница наверное понятна без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В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79280" y="1700280"/>
            <a:ext cx="57927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ду изучали очень давно и довольно подробно, но несмотря на это только сейчас ученые поняли, что о воде они почти ничего не знают. Ученые доказали, что у воды есть память. Проводимые результаты ученых многих стран мира показали, что вода запоминает и запечатлевает любое воздействие, которое происходит в окружающем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Arial"/>
              </a:rPr>
              <a:t>Музыка Баха          музыка Бетхов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248360" cy="518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827600" y="1413000"/>
            <a:ext cx="43164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Моцарт, симфония №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Тяжелый  р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Верите ли вы в Высшие силы? Задумывались ли вы, почему во всех мировых религиях (христианстве, исламе, иудаизме) принято читать перед принятием пищи молитву и освящать еду и воду во время больших религиозных праздников? Отчего нашим предкам казалось очевидным то, что наука пытается объяснить только сей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Сравните воду из под крана, от освященной крещенской воды. Вы видите, что кристаллы воды из под крана выглядят как хаотичное расплывчатое пятно, в то время как Крещенская вода имеет правильную симметричную форму шестилучиковой зве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424476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71640" y="1341360"/>
            <a:ext cx="69850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егите воду и себя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2296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гадывались ли наши предки, когда использовали в лечебных целях серебрянную воду. Запечатлевая информацию вода приобретает новые свойства, при этом ее химический состав остается прежним, что действительно было господствующей точкой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39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а до молит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6960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Слова молитвы к БОГУ - это всегда слова благодати, слова любви, благодарности, добра, плача, уми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2400" cy="611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819440" y="12600"/>
            <a:ext cx="50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Вода, освященная в хра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Вода из-под кра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551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256360" cy="6408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, показанные (мысленно произнесённые) воде, были следующими: "Ты надоела мне. Я убью тебя." Эти слова часто используются молодёжью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5:13:51Z</dcterms:created>
  <dc:creator>Customer</dc:creator>
  <dc:description/>
  <dc:language>en-US</dc:language>
  <cp:lastModifiedBy>Дмитрий Каленюк</cp:lastModifiedBy>
  <dcterms:modified xsi:type="dcterms:W3CDTF">2011-08-13T10:16:30Z</dcterms:modified>
  <cp:revision>4</cp:revision>
  <dc:subject/>
  <dc:title>Слайд 1</dc:title>
</cp:coreProperties>
</file>