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32C6-37B9-4325-AD10-D79B241BF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437D-14B8-47F1-A4E2-E685F26C6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28D7-0377-4D44-921C-086B41CA7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A2AC-1A38-4BFC-8157-1C984D684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BFF5-96D0-4A33-8208-651EF7D64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8AA3-66DD-47B7-91D4-4BC3194C9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76A5-E84C-4F12-A9EE-89C696AB6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837F-B53F-4BF8-8E35-229432DCF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5A85-D87D-4E9D-83F2-86EDF0473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2FB3-135D-47CE-BDA1-EDFE4FD5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CE50-DB74-4692-8650-5CABBA30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3C6A-2F20-43D2-9453-55E55129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E0660-EA9A-4AFC-8DDA-0A1327DB72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18 январ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4400" spc="-1" strike="noStrike">
                <a:solidFill>
                  <a:srgbClr val="ff3399"/>
                </a:solidFill>
                <a:latin typeface="Arial"/>
              </a:rPr>
              <a:t>Краеведение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4А к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ccff"/>
                </a:solidFill>
                <a:latin typeface="Arial"/>
              </a:rPr>
              <a:t>                             </a:t>
            </a:r>
            <a:r>
              <a:rPr b="1" i="1" lang="ru-RU" sz="3200" spc="-1" strike="noStrike">
                <a:solidFill>
                  <a:srgbClr val="ff3399"/>
                </a:solidFill>
                <a:latin typeface="Arial"/>
              </a:rPr>
              <a:t>Тем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ccff"/>
                </a:solidFill>
                <a:latin typeface="Arial"/>
              </a:rPr>
              <a:t>        </a:t>
            </a:r>
            <a:r>
              <a:rPr b="1" i="1" lang="ru-RU" sz="3200" spc="-1" strike="noStrike">
                <a:solidFill>
                  <a:srgbClr val="3399ff"/>
                </a:solidFill>
                <a:latin typeface="Arial"/>
              </a:rPr>
              <a:t>«</a:t>
            </a:r>
            <a:r>
              <a:rPr b="1" i="1" lang="ru-RU" sz="4400" spc="-1" strike="noStrike">
                <a:solidFill>
                  <a:srgbClr val="3399ff"/>
                </a:solidFill>
                <a:latin typeface="Arial"/>
              </a:rPr>
              <a:t>С</a:t>
            </a:r>
            <a:r>
              <a:rPr b="1" i="1" lang="ru-RU" sz="3200" spc="-1" strike="noStrike">
                <a:solidFill>
                  <a:srgbClr val="3399ff"/>
                </a:solidFill>
                <a:latin typeface="Arial"/>
              </a:rPr>
              <a:t>ТРУКТУРА ЖИВОЙ ВОДЫ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99"/>
                </a:solidFill>
                <a:latin typeface="Arial"/>
              </a:rPr>
              <a:t>Цели урока:</a:t>
            </a:r>
            <a:r>
              <a:rPr b="1" i="1" lang="ru-RU" sz="3200" spc="-1" strike="noStrike">
                <a:solidFill>
                  <a:srgbClr val="33cc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99ff"/>
                </a:solidFill>
                <a:latin typeface="Arial"/>
              </a:rPr>
              <a:t>познакомить детей со свойствами и особенностями  воды, значением для жизни человека; показать наглядно научные наблюдения над структурой воды; развивать кругозор; воспитывать бережное отношение к воде и стремление  говорить только хорош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учитель: Копылова О.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142920" y="357120"/>
            <a:ext cx="6337080" cy="57927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215040" y="928800"/>
            <a:ext cx="2773440" cy="52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исталл воды после показа (мысленного произнесения) слова "Любовь" и "Благодар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457200" y="404640"/>
            <a:ext cx="5410080" cy="626436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372000" y="1600200"/>
            <a:ext cx="259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тографии воды, взятой из ледника с горы Кука в Новой Зеланд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457200" y="260280"/>
            <a:ext cx="8507520" cy="633744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5"/>
          <p:cNvSpPr/>
          <p:nvPr/>
        </p:nvSpPr>
        <p:spPr>
          <a:xfrm>
            <a:off x="324000" y="1125360"/>
            <a:ext cx="316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да из источника близ города Сайджо, расположенного в горах и известного своей чистотой и первозданн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8320" y="260280"/>
            <a:ext cx="403848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оду изучали очень давно и довольно подробно, но несмотря на это только сейчас ученые поняли, что о воде они почти ничего не знают. Ученые доказали, что у воды есть память. Проводимые результаты ученых многих стран мира показали, что вода запоминает и запечатлевает любое воздействие, которое происходит в окружающем пространст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Догадывались ли наши предки, когда использовали в лечебных целях серебрянную воду. Запечатлевая информацию вода приобретает новые свойства, при этом ее химический состав остается прежним, что действительно было господствующей точкой зр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388764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Структура воды – это то, как организованы ее молекулы. Молекулы объединяются в группы, эти группы называются кластарами. Ученные предположили, что именно кластары, являются своеобразными ячейками памяти, в которые вода записывает все, что видит и слышит, как на магнитофонную пленку. Вода конечно остается водой, но ее структура меняется в зависимости от воздействия в положительную или отрицательную сторо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549000"/>
            <a:ext cx="37544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Японский ученный Эмото Масару исследовал воду, которая подвергалась различным впечатлениям, впоследствии чего вода стремительно замораживалась в креагенной камере. Если посмотреть под микроскопом, то вы увидите как, выглядит вода которой сказали: «Спасибо»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>
            <a:off x="4140360" y="549360"/>
            <a:ext cx="48243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«Извини».      «Ты мне противен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4316400" cy="5073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4648320" y="1052640"/>
            <a:ext cx="424476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Доктор Эмото провел еще один любопытный эксперимент. Поместил в три стеклянные банки рис и залил его водой. Потом каждый день в течении месяца говорил: «Спасибо» первой, второй говорил: «Ты - дурак», а на третью не обращал внимание. Через месяц рис, которому говорили спасибо начал бродить и издавал сильный приятный запах, рис из второй банки почернел, а рис, на который не обращали внимание начал загнив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Я думаю, что вы уже сделали свои выводы, и поняли, что если человек обращается к воде с хорошими мыслями или благословляет ее, говорит ей: «Спасибо», то качество этой воды будет расти, и она будет положительно влиять на наши мысли. Человек влияет также на себя, в духовном плане на уровни мысли, те, чьи мысли негативные, загрязняет свою собственную воду, из которой на 75-90% состоит организм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995 году впервые удалось зафиксировать музыкальные впечатления воды, ей дали послушать музыку, после чего стремительно заморозили и под микроскопом увидели кристаллы, которые в результате образовала вода. Посмотрите, как выглядит музыка Баха, Моцарта, Бетховена, а также тяжелый рок. Разница наверное понятна без с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99"/>
                </a:solidFill>
                <a:latin typeface="Arial"/>
              </a:rPr>
              <a:t>ВОД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979280" y="1700280"/>
            <a:ext cx="57927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оду изучали очень давно и довольно подробно, но несмотря на это только сейчас ученые поняли, что о воде они почти ничего не знают. Ученые доказали, что у воды есть память. Проводимые результаты ученых многих стран мира показали, что вода запоминает и запечатлевает любое воздействие, которое происходит в окружающем пространст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4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99"/>
                </a:solidFill>
                <a:latin typeface="Arial"/>
              </a:rPr>
              <a:t>Музыка Баха          музыка Бетхове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4248360" cy="5184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"/>
          <p:cNvPicPr/>
          <p:nvPr/>
        </p:nvPicPr>
        <p:blipFill>
          <a:blip r:embed="rId2"/>
          <a:stretch/>
        </p:blipFill>
        <p:spPr>
          <a:xfrm>
            <a:off x="4827600" y="1413000"/>
            <a:ext cx="431640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99"/>
                </a:solidFill>
                <a:latin typeface="Arial"/>
              </a:rPr>
              <a:t>Моцарт, симфония №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457200" y="1125360"/>
            <a:ext cx="822960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99"/>
                </a:solidFill>
                <a:latin typeface="Arial"/>
              </a:rPr>
              <a:t>Тяжелый  ро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457200" y="1197000"/>
            <a:ext cx="82296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Верите ли вы в Высшие силы? Задумывались ли вы, почему во всех мировых религиях (христианстве, исламе, иудаизме) принято читать перед принятием пищи молитву и освящать еду и воду во время больших религиозных праздников? Отчего нашим предкам казалось очевидным то, что наука пытается объяснить только сейча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Сравните воду из под крана, от освященной крещенской воды. Вы видите, что кристаллы воды из под крана выглядят как хаотичное расплывчатое пятно, в то время как Крещенская вода имеет правильную симметричную форму шестилучиковой звез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33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250920" y="1600200"/>
            <a:ext cx="4244760" cy="4525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495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WordArt 4"/>
          <p:cNvSpPr txBox="1"/>
          <p:nvPr/>
        </p:nvSpPr>
        <p:spPr>
          <a:xfrm>
            <a:off x="971640" y="1341360"/>
            <a:ext cx="698508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ерегите воду и себя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457200" y="549360"/>
            <a:ext cx="822960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огадывались ли наши предки, когда использовали в лечебных целях серебрянную воду. Запечатлевая информацию вода приобретает новые свойства, при этом ее химический состав остается прежним, что действительно было господствующей точкой зр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4500720" y="1125360"/>
            <a:ext cx="43923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да до молитв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1332000" y="1125360"/>
            <a:ext cx="669600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Arial"/>
              </a:rPr>
              <a:t>Слова молитвы к БОГУ - это всегда слова благодати, слова любви, благодарности, добра, плача, уми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7772400" cy="61196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819440" y="12600"/>
            <a:ext cx="505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99"/>
                </a:solidFill>
                <a:latin typeface="Arial"/>
              </a:rPr>
              <a:t>Вода, освященная в хра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99"/>
                </a:solidFill>
                <a:latin typeface="Arial"/>
              </a:rPr>
              <a:t>Вода из-под кран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1476360" y="1125360"/>
            <a:ext cx="655164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5256360" cy="64087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64000" y="1600200"/>
            <a:ext cx="332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а, показанные (мысленно произнесённые) воде, были следующими: "Ты надоела мне. Я убью тебя." Эти слова часто используются молодёжью в повседневной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6T15:13:51Z</dcterms:created>
  <dc:creator>Customer</dc:creator>
  <dc:description/>
  <dc:language>en-US</dc:language>
  <cp:lastModifiedBy>Дмитрий Каленюк</cp:lastModifiedBy>
  <dcterms:modified xsi:type="dcterms:W3CDTF">2011-08-13T10:16:30Z</dcterms:modified>
  <cp:revision>4</cp:revision>
  <dc:subject/>
  <dc:title>Слайд 1</dc:title>
</cp:coreProperties>
</file>