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8C5C-DD7A-4004-AC94-36762A21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29BA-9379-43A3-9A22-7B0FE09E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BA28-1131-447F-91EA-A865BAD7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ACCD-DE4E-4898-96C9-4E7B215E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0E96-81A6-4C9C-AAE2-1B5AC0B8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24A2-FF99-4B3F-9DFA-EF315638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0D8-A95E-4B0F-A037-F863764B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ABC-4A88-4C62-A2F9-879A594E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895-1FBD-4DBE-BFAF-A9E3D5EB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A02-AA17-4FC4-9BD4-50069349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6809-A1A5-4A98-8BEA-2D98AC9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C226-D831-46BE-AD85-38855C3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8E1A-4B21-4958-92E3-6018CEA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4B9B-93E2-4C70-A29E-E84D844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3A1B-7CAC-40AA-9691-EC00801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718-9F32-45A0-9B34-01474096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921-F3AE-4397-A9AB-79573338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EBFA-D6A1-4E9C-A3C0-62D3567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6D14-973F-4DF6-A62A-1F2ACFB0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4381-7FAB-48C2-9C96-794A918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8C18-0445-43AD-BCF7-D9C7BB9A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ABEB-2EB1-44F1-9726-BF791F1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9717-400F-4455-9805-33C601A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3ABF-3520-4DEF-9D6F-8C0459B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459-4C01-4289-B9E2-A65086A48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407-9E0D-43B0-8503-63C2A3E8CF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oralworld.ru/" TargetMode="External"/><Relationship Id="rId2" Type="http://schemas.openxmlformats.org/officeDocument/2006/relationships/hyperlink" Target="http://www.floralworld.ru/" TargetMode="External"/><Relationship Id="rId3" Type="http://schemas.openxmlformats.org/officeDocument/2006/relationships/hyperlink" Target="http://www.floralworld.ru/" TargetMode="External"/><Relationship Id="rId4" Type="http://schemas.openxmlformats.org/officeDocument/2006/relationships/hyperlink" Target="http://www.floralworld.ru/" TargetMode="External"/><Relationship Id="rId5" Type="http://schemas.openxmlformats.org/officeDocument/2006/relationships/hyperlink" Target="http://www.floralworld.ru/" TargetMode="External"/><Relationship Id="rId6" Type="http://schemas.openxmlformats.org/officeDocument/2006/relationships/hyperlink" Target="http://www.floralworld.ru/" TargetMode="External"/><Relationship Id="rId7" Type="http://schemas.openxmlformats.org/officeDocument/2006/relationships/hyperlink" Target="http://www.floralworld.ru/" TargetMode="External"/><Relationship Id="rId8" Type="http://schemas.openxmlformats.org/officeDocument/2006/relationships/hyperlink" Target="http://www.floranimal.ru/" TargetMode="External"/><Relationship Id="rId9" Type="http://schemas.openxmlformats.org/officeDocument/2006/relationships/hyperlink" Target="http://www.floranimal.ru/" TargetMode="External"/><Relationship Id="rId10" Type="http://schemas.openxmlformats.org/officeDocument/2006/relationships/hyperlink" Target="http://www.floranimal.ru/" TargetMode="External"/><Relationship Id="rId11" Type="http://schemas.openxmlformats.org/officeDocument/2006/relationships/hyperlink" Target="http://www.floranimal.ru/" TargetMode="External"/><Relationship Id="rId12" Type="http://schemas.openxmlformats.org/officeDocument/2006/relationships/hyperlink" Target="http://www.floranimal.ru/" TargetMode="External"/><Relationship Id="rId13" Type="http://schemas.openxmlformats.org/officeDocument/2006/relationships/hyperlink" Target="http://www.floranimal.ru/" TargetMode="External"/><Relationship Id="rId14" Type="http://schemas.openxmlformats.org/officeDocument/2006/relationships/hyperlink" Target="http://www.floranimal.ru/" TargetMode="External"/><Relationship Id="rId15" Type="http://schemas.openxmlformats.org/officeDocument/2006/relationships/hyperlink" Target="http://www.floriculture.ru/" TargetMode="External"/><Relationship Id="rId16" Type="http://schemas.openxmlformats.org/officeDocument/2006/relationships/hyperlink" Target="http://www.floriculture.ru/" TargetMode="External"/><Relationship Id="rId17" Type="http://schemas.openxmlformats.org/officeDocument/2006/relationships/hyperlink" Target="http://www.floriculture.ru/" TargetMode="External"/><Relationship Id="rId18" Type="http://schemas.openxmlformats.org/officeDocument/2006/relationships/hyperlink" Target="http://www.floriculture.ru/" TargetMode="External"/><Relationship Id="rId19" Type="http://schemas.openxmlformats.org/officeDocument/2006/relationships/hyperlink" Target="http://www.floriculture.ru/" TargetMode="External"/><Relationship Id="rId20" Type="http://schemas.openxmlformats.org/officeDocument/2006/relationships/hyperlink" Target="http://www.floriculture.ru/" TargetMode="External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5"/>
          <p:cNvSpPr txBox="1"/>
          <p:nvPr/>
        </p:nvSpPr>
        <p:spPr>
          <a:xfrm>
            <a:off x="468360" y="476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c0ebe"/>
                    </a:gs>
                    <a:gs pos="100000">
                      <a:srgbClr val="1c0658"/>
                    </a:gs>
                  </a:gsLst>
                  <a:lin ang="0"/>
                </a:gradFill>
                <a:latin typeface="Arial"/>
              </a:rPr>
              <a:t>Результаты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c0ebe"/>
                  </a:gs>
                  <a:gs pos="100000">
                    <a:srgbClr val="1c065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1628640"/>
          <a:ext cx="8209080" cy="4594320"/>
        </p:xfrm>
        <a:graphic>
          <a:graphicData uri="http://schemas.openxmlformats.org/drawingml/2006/table">
            <a:tbl>
              <a:tblPr/>
              <a:tblGrid>
                <a:gridCol w="1440000"/>
                <a:gridCol w="316872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Д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рас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 за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День до экс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перимента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40"/>
          <p:cNvSpPr/>
          <p:nvPr/>
        </p:nvSpPr>
        <p:spPr>
          <a:xfrm>
            <a:off x="454320" y="981000"/>
            <a:ext cx="86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Garamond"/>
              </a:rPr>
              <a:t>В ходе эксперимента были получены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AutoShape 143"/>
          <p:cNvSpPr/>
          <p:nvPr/>
        </p:nvSpPr>
        <p:spPr>
          <a:xfrm>
            <a:off x="3203640" y="342900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AutoShape 144"/>
          <p:cNvSpPr/>
          <p:nvPr/>
        </p:nvSpPr>
        <p:spPr>
          <a:xfrm>
            <a:off x="831708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146"/>
          <p:cNvSpPr/>
          <p:nvPr/>
        </p:nvSpPr>
        <p:spPr>
          <a:xfrm>
            <a:off x="90000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47"/>
          <p:cNvSpPr/>
          <p:nvPr/>
        </p:nvSpPr>
        <p:spPr>
          <a:xfrm>
            <a:off x="6588000" y="350028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48"/>
          <p:cNvSpPr/>
          <p:nvPr/>
        </p:nvSpPr>
        <p:spPr>
          <a:xfrm>
            <a:off x="6588000" y="285264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149"/>
          <p:cNvSpPr/>
          <p:nvPr/>
        </p:nvSpPr>
        <p:spPr>
          <a:xfrm>
            <a:off x="320364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AutoShape 150"/>
          <p:cNvSpPr/>
          <p:nvPr/>
        </p:nvSpPr>
        <p:spPr>
          <a:xfrm>
            <a:off x="658800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В ходе проведения эксперимента наши ожидания не оправдались. У кислицы не наблюдалась бессонница, как это прогнозировалось – цветок после опыта вёл себя как обычно. Возможно на  состояние здоровья растения повлияла транспортировка в холодное время года, а также быстрая смена условий и частое изменение влажности воздуха.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                                 </a:t>
            </a:r>
            <a:r>
              <a:rPr b="1" lang="ru-RU" sz="8800" spc="-1" strike="noStrike">
                <a:solidFill>
                  <a:srgbClr val="ff0066"/>
                </a:solidFill>
                <a:latin typeface="Garamond"/>
              </a:rPr>
              <a:t>??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684360" y="47628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Результаты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1763640" y="551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AutoShape 6"/>
          <p:cNvSpPr/>
          <p:nvPr/>
        </p:nvSpPr>
        <p:spPr>
          <a:xfrm flipV="1">
            <a:off x="8388360" y="1700280"/>
            <a:ext cx="287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25092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7164360" y="1341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32400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020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В ходе исследования мы убедились, что у растений может наблюдаться смена сна и бодрствования на примере  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кислицы обыкновенной (О</a:t>
            </a:r>
            <a:r>
              <a:rPr b="1" lang="en-US" sz="40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66000"/>
                  </a:blip>
                  <a:srcRect/>
                  <a:stretch/>
                </a:blipFill>
                <a:latin typeface="Times New Roman"/>
              </a:rPr>
              <a:t>Вы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66000"/>
                </a:blip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987640" y="5229360"/>
            <a:ext cx="3240000" cy="1108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547640" y="6093000"/>
            <a:ext cx="28764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2124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388360" y="198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7740720" y="5157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2916360" y="645336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7596360" y="3645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AutoShape 18"/>
          <p:cNvSpPr/>
          <p:nvPr/>
        </p:nvSpPr>
        <p:spPr>
          <a:xfrm flipV="1">
            <a:off x="8317080" y="6165720"/>
            <a:ext cx="287280" cy="4096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5148360" y="76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395280" y="220500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3276720" y="5877000"/>
            <a:ext cx="503280" cy="287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25" descr="j0233040"/>
          <p:cNvPicPr/>
          <p:nvPr/>
        </p:nvPicPr>
        <p:blipFill>
          <a:blip r:embed="rId3"/>
          <a:stretch/>
        </p:blipFill>
        <p:spPr>
          <a:xfrm>
            <a:off x="4427640" y="4508640"/>
            <a:ext cx="1836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33cc"/>
                </a:solidFill>
                <a:latin typeface="Garamond"/>
              </a:rPr>
              <a:t>В ходе исследования наша гипотеза не подтвердилась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авнение с гипотезо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35124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7"/>
          <p:cNvSpPr/>
          <p:nvPr/>
        </p:nvSpPr>
        <p:spPr>
          <a:xfrm>
            <a:off x="140328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596360" y="4653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95280" y="184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2124000" y="3573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810108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68360" y="4941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759636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755640" y="6093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1332000" y="407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6659640" y="3789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673272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ловкин Б.Н. и др. Комнатные растения. – М.: Лесная промышленность, 198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ат Ю.А. Комнатные растения в вашем доме. – М.: ООО АСТ «Сталкер»,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ронцов Н.Н., Сухорукова Л.Н. Эволюция органического мира. – М.: Просвещение, 1991, 221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floralworld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floranimal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floriculture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biol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//www.wikipedia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68360" y="692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Информационные ресур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257" name="Picture 10" descr="j0088078"/>
          <p:cNvPicPr/>
          <p:nvPr/>
        </p:nvPicPr>
        <p:blipFill>
          <a:blip r:embed="rId21"/>
          <a:stretch/>
        </p:blipFill>
        <p:spPr>
          <a:xfrm>
            <a:off x="5651640" y="3500280"/>
            <a:ext cx="156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0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Times New Roman"/>
              </a:rPr>
              <a:t>Пробл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Страдают ли растения бессонницей?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611280" y="2565360"/>
            <a:ext cx="835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Цель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08000" y="4076640"/>
            <a:ext cx="92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Изучить влияние продолжительности освещения на движени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листьев кислицы обыкновенной (О</a:t>
            </a:r>
            <a:r>
              <a:rPr b="1" lang="en-US" sz="36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8459640" y="3716280"/>
            <a:ext cx="216000" cy="432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7236000" y="5950080"/>
            <a:ext cx="36036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468360" y="3357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2843280" y="371628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28472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1403280" y="4724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8244000" y="134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7524720" y="4797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250920" y="98100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6372360" y="115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6516720" y="386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1258920" y="6381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26"/>
          <p:cNvSpPr/>
          <p:nvPr/>
        </p:nvSpPr>
        <p:spPr>
          <a:xfrm>
            <a:off x="1116000" y="3716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Объект исследования: комнатные растения кабинета экологии и природопользования №3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Предмет исследования: смена сна и бодрствования листьев кислицы обыкновенн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55000"/>
                  </a:srgbClr>
                </a:solidFill>
                <a:latin typeface="Arial"/>
              </a:rPr>
              <a:t>Предмет и объект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5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39640" y="177336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39640" y="350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500720" y="4724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877080" y="2852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349236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8244000" y="458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1042920" y="5589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843280" y="5589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0" descr="bd08070_"/>
          <p:cNvPicPr/>
          <p:nvPr/>
        </p:nvPicPr>
        <p:blipFill>
          <a:blip r:embed="rId1"/>
          <a:stretch/>
        </p:blipFill>
        <p:spPr>
          <a:xfrm>
            <a:off x="5796000" y="4619520"/>
            <a:ext cx="2303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6"/>
          <p:cNvSpPr txBox="1"/>
          <p:nvPr/>
        </p:nvSpPr>
        <p:spPr>
          <a:xfrm>
            <a:off x="539640" y="189000"/>
            <a:ext cx="82296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Задачи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4000" y="213372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зучить информацию по данной проблеме и выявить биологические особенности кислицы обыкновен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33cc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сследовать реакцию кислицы обыкновенной на изменение продолжительности дневного осве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3. Произвести анализ полученных дан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4. Сделать выводы на основании полученных данных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250920" y="4724280"/>
            <a:ext cx="50472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24000" y="342900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156360" y="3141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250920" y="2133720"/>
            <a:ext cx="43164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244000" y="2492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49236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565164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7020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845964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69236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324000" y="5157720"/>
            <a:ext cx="4330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    </a:t>
            </a:r>
            <a:r>
              <a:rPr b="1" lang="ru-RU" sz="4000" spc="-1" strike="noStrike">
                <a:solidFill>
                  <a:srgbClr val="cc00ff"/>
                </a:solidFill>
                <a:latin typeface="Garamond"/>
              </a:rPr>
              <a:t>Если у растения нет мозга, значит оно страдает бессонниц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4000" y="476280"/>
            <a:ext cx="728316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13" descr="j0234131"/>
          <p:cNvPicPr/>
          <p:nvPr/>
        </p:nvPicPr>
        <p:blipFill>
          <a:blip r:embed="rId1"/>
          <a:stretch/>
        </p:blipFill>
        <p:spPr>
          <a:xfrm>
            <a:off x="3492360" y="364500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/>
          <p:cNvSpPr/>
          <p:nvPr/>
        </p:nvSpPr>
        <p:spPr>
          <a:xfrm>
            <a:off x="6588000" y="3933720"/>
            <a:ext cx="649440" cy="5050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332000" y="5589720"/>
            <a:ext cx="64908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1835280" y="371628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7956720" y="5013360"/>
            <a:ext cx="287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8028000" y="1628640"/>
            <a:ext cx="358920" cy="4334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6227640" y="5805360"/>
            <a:ext cx="505080" cy="719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95280" y="148392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Garamon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Многолетнее травянистое растение 5-10 см. высотой, с тонким ползучим подземным корневищем, покрытым мясистыми чешуевидными листочками. Листья тройчатые собраны в розетки на длинных черешках. Листочки обратносердцевидные до 2,5 см. длины 3 см. ширины, сидячие. Листовые розетки расположены на небольшом расстоянии друг от друга. Цветки одиночные на пазушных цветоносах, 1-1,5 см. в диаметре. Лепестки белые с розовыми жилками, редко - розовы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826920" y="115920"/>
            <a:ext cx="734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3c0eb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"/>
              </a:rPr>
              <a:t>Особенности кисл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3c0ebe"/>
                  </a:gs>
                  <a:gs pos="100000">
                    <a:srgbClr val="00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826920" y="162864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804000" y="6021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7812000" y="3429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900000" y="59500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643280" y="5445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79280" y="26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Кислица предпочитает интенсивный рассеянный свет. Оптимально для размещения окна с восточной ориентацией. При размещении на окнах с южной ориентацией необходимо притенять или создавать рассеянное освещение с 11-17 часов полупрозрачной тканью или бумагой (например, марля, тюль). При размещении на окнах и балконах с западной ориентацией также создают рассеянный с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116000" y="333360"/>
            <a:ext cx="66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Отношение к све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8317080" y="907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8244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68360" y="620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95280" y="57340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900000" y="1989000"/>
            <a:ext cx="503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7524720" y="393372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6516720" y="155736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635280" y="1125360"/>
            <a:ext cx="1584360" cy="1008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и непрерывном освещении электрическим светом листья кислицы не складываю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мноте кислица тоже не складывает лист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осле непрерывного освещения в течение 2-3-х суток уже при нормальной ночи у кислицы наблюдается «бессонница»: её листья складываются не на 7, а на 4-5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чении следующих дней у такой кислицы наблюдается нормальное засыпание даже на све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971640" y="3333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afff"/>
                    </a:gs>
                    <a:gs pos="50000">
                      <a:srgbClr val="0000ff"/>
                    </a:gs>
                    <a:gs pos="100000">
                      <a:srgbClr val="afafff"/>
                    </a:gs>
                  </a:gsLst>
                  <a:lin ang="5400000"/>
                </a:gradFill>
                <a:latin typeface="Arial"/>
              </a:rPr>
              <a:t>Условия проведения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afff"/>
                  </a:gs>
                  <a:gs pos="50000">
                    <a:srgbClr val="0000ff"/>
                  </a:gs>
                  <a:gs pos="100000">
                    <a:srgbClr val="afa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39640" y="1700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39640" y="2924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39640" y="458136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268360" y="6165720"/>
            <a:ext cx="36072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8317080" y="1557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724360" y="5661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956720" y="6165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33cc"/>
                </a:solidFill>
                <a:latin typeface="Garamond"/>
              </a:rPr>
              <a:t>Оборудование: настольная лампа, настольные часы, цифровой фотоаппа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Кашпо с цветком поместили рядом с лампой так, чтобы на неё падали лучи света. В таком состоянии кислица пребывала 3 дня. Каждый день записывались данные о раскрытии и закрытии листьев кислицы. На 4 день цветок извлекли из-под лампы и также вели наблюдения за его состоянием. При этом каждый этап эксперимента фотографировал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463680" y="182520"/>
            <a:ext cx="8242200" cy="1433520"/>
            <a:chOff x="463680" y="182520"/>
            <a:chExt cx="8242200" cy="143352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>
              <a:off x="463680" y="182520"/>
              <a:ext cx="82422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189000"/>
              <a:ext cx="82296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Impact"/>
                </a:rPr>
                <a:t>Ход исследования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7" name="AutoShape 7"/>
          <p:cNvSpPr/>
          <p:nvPr/>
        </p:nvSpPr>
        <p:spPr>
          <a:xfrm>
            <a:off x="611280" y="2637000"/>
            <a:ext cx="504720" cy="50472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1280" y="1628640"/>
            <a:ext cx="504720" cy="5050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843280" y="6021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4211640" y="566100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8028000" y="170028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7380360" y="530064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826920" y="5877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6084720" y="6381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6227640" y="551664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1908000" y="5589720"/>
            <a:ext cx="36036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31:12Z</dcterms:created>
  <dc:creator>user</dc:creator>
  <dc:description/>
  <dc:language>en-US</dc:language>
  <cp:lastModifiedBy>Admin</cp:lastModifiedBy>
  <dcterms:modified xsi:type="dcterms:W3CDTF">2010-01-18T15:31:34Z</dcterms:modified>
  <cp:revision>11</cp:revision>
  <dc:subject/>
  <dc:title>Слайд 1</dc:title>
</cp:coreProperties>
</file>