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C00F-ECCA-4E41-95DE-02ABEE3F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54E1-D44A-45AB-BC12-FAF350E6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3DB5-88DB-4E43-862F-6D550821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1737-ED50-483C-9A4B-01B2DC54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CB21-4453-4BFD-BC92-B76AEFD7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A1A7-B2D4-4EB5-82EF-602251E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5CAF-5D27-4269-8E93-234E8111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D85C-875E-4BC2-89DA-6665DB71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509D-13D5-4753-A785-9857E07D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C1CB-2D7C-42CC-B997-77ACBC78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EC03-57B3-4452-B119-8D626666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CC3F-3BB1-43F6-9174-7B36D33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24AA-C56C-4376-B2FC-2AB899B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8B7A-A66B-430E-8237-DBF9922E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AAF-2862-43DE-B752-CC91BB94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716F-051C-4DA6-857E-5CF99696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03B-15C2-467A-B00C-4DF3C14C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5145E-E7CF-42B2-901F-4ED694B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E576-46B5-4681-98AC-D4B318E7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54D7-3F9D-44D5-B339-B02A51A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F4BF-F2B3-4EA1-861F-51DBDAE0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1CD0-F4BD-413C-A526-6B86817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4EB6-D5A1-4787-B1D0-F5909A1B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4767-ACA1-41F6-9AE6-8B278DD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F3E5-B13F-4BFF-889A-416121255A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B2D-155E-411C-AF93-1B2DC24576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loralworld.ru/" TargetMode="External"/><Relationship Id="rId2" Type="http://schemas.openxmlformats.org/officeDocument/2006/relationships/hyperlink" Target="http://www.floralworld.ru/" TargetMode="External"/><Relationship Id="rId3" Type="http://schemas.openxmlformats.org/officeDocument/2006/relationships/hyperlink" Target="http://www.floralworld.ru/" TargetMode="External"/><Relationship Id="rId4" Type="http://schemas.openxmlformats.org/officeDocument/2006/relationships/hyperlink" Target="http://www.floralworld.ru/" TargetMode="External"/><Relationship Id="rId5" Type="http://schemas.openxmlformats.org/officeDocument/2006/relationships/hyperlink" Target="http://www.floralworld.ru/" TargetMode="External"/><Relationship Id="rId6" Type="http://schemas.openxmlformats.org/officeDocument/2006/relationships/hyperlink" Target="http://www.floralworld.ru/" TargetMode="External"/><Relationship Id="rId7" Type="http://schemas.openxmlformats.org/officeDocument/2006/relationships/hyperlink" Target="http://www.floralworld.ru/" TargetMode="External"/><Relationship Id="rId8" Type="http://schemas.openxmlformats.org/officeDocument/2006/relationships/hyperlink" Target="http://www.floranimal.ru/" TargetMode="External"/><Relationship Id="rId9" Type="http://schemas.openxmlformats.org/officeDocument/2006/relationships/hyperlink" Target="http://www.floranimal.ru/" TargetMode="External"/><Relationship Id="rId10" Type="http://schemas.openxmlformats.org/officeDocument/2006/relationships/hyperlink" Target="http://www.floranimal.ru/" TargetMode="External"/><Relationship Id="rId11" Type="http://schemas.openxmlformats.org/officeDocument/2006/relationships/hyperlink" Target="http://www.floranimal.ru/" TargetMode="External"/><Relationship Id="rId12" Type="http://schemas.openxmlformats.org/officeDocument/2006/relationships/hyperlink" Target="http://www.floranimal.ru/" TargetMode="External"/><Relationship Id="rId13" Type="http://schemas.openxmlformats.org/officeDocument/2006/relationships/hyperlink" Target="http://www.floranimal.ru/" TargetMode="External"/><Relationship Id="rId14" Type="http://schemas.openxmlformats.org/officeDocument/2006/relationships/hyperlink" Target="http://www.floranimal.ru/" TargetMode="External"/><Relationship Id="rId15" Type="http://schemas.openxmlformats.org/officeDocument/2006/relationships/hyperlink" Target="http://www.floriculture.ru/" TargetMode="External"/><Relationship Id="rId16" Type="http://schemas.openxmlformats.org/officeDocument/2006/relationships/hyperlink" Target="http://www.floriculture.ru/" TargetMode="External"/><Relationship Id="rId17" Type="http://schemas.openxmlformats.org/officeDocument/2006/relationships/hyperlink" Target="http://www.floriculture.ru/" TargetMode="External"/><Relationship Id="rId18" Type="http://schemas.openxmlformats.org/officeDocument/2006/relationships/hyperlink" Target="http://www.floriculture.ru/" TargetMode="External"/><Relationship Id="rId19" Type="http://schemas.openxmlformats.org/officeDocument/2006/relationships/hyperlink" Target="http://www.floriculture.ru/" TargetMode="External"/><Relationship Id="rId20" Type="http://schemas.openxmlformats.org/officeDocument/2006/relationships/hyperlink" Target="http://www.floriculture.ru/" TargetMode="External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2"/>
          <p:cNvSpPr txBox="1"/>
          <p:nvPr/>
        </p:nvSpPr>
        <p:spPr>
          <a:xfrm>
            <a:off x="539640" y="40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"Сон" кислиц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7-го класса МОУ сош №7 г. Рассказо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Галушина Екатерина, Горелкин Дмитрий. Кобзев Артё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Руководитель: учитель  биологии Тихонова Е.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0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00720" cy="2401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40280" cy="30193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2"/>
          <p:cNvSpPr/>
          <p:nvPr/>
        </p:nvSpPr>
        <p:spPr>
          <a:xfrm>
            <a:off x="539640" y="558972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AutoShape 34"/>
          <p:cNvSpPr/>
          <p:nvPr/>
        </p:nvSpPr>
        <p:spPr>
          <a:xfrm>
            <a:off x="6659640" y="566100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35"/>
          <p:cNvSpPr/>
          <p:nvPr/>
        </p:nvSpPr>
        <p:spPr>
          <a:xfrm>
            <a:off x="539640" y="450864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AutoShape 36"/>
          <p:cNvSpPr/>
          <p:nvPr/>
        </p:nvSpPr>
        <p:spPr>
          <a:xfrm>
            <a:off x="3492360" y="4365720"/>
            <a:ext cx="289080" cy="28872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43"/>
          <p:cNvSpPr/>
          <p:nvPr/>
        </p:nvSpPr>
        <p:spPr>
          <a:xfrm>
            <a:off x="25092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6"/>
          <p:cNvSpPr/>
          <p:nvPr/>
        </p:nvSpPr>
        <p:spPr>
          <a:xfrm>
            <a:off x="3995640" y="29242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AutoShape 47"/>
          <p:cNvSpPr/>
          <p:nvPr/>
        </p:nvSpPr>
        <p:spPr>
          <a:xfrm>
            <a:off x="8604360" y="6308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48"/>
          <p:cNvSpPr/>
          <p:nvPr/>
        </p:nvSpPr>
        <p:spPr>
          <a:xfrm>
            <a:off x="7667640" y="530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82692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4211640" y="4076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4"/>
          <p:cNvSpPr/>
          <p:nvPr/>
        </p:nvSpPr>
        <p:spPr>
          <a:xfrm flipH="1">
            <a:off x="838764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5"/>
          <p:cNvSpPr txBox="1"/>
          <p:nvPr/>
        </p:nvSpPr>
        <p:spPr>
          <a:xfrm>
            <a:off x="468360" y="476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c0ebe"/>
                    </a:gs>
                    <a:gs pos="100000">
                      <a:srgbClr val="1c0658"/>
                    </a:gs>
                  </a:gsLst>
                  <a:lin ang="0"/>
                </a:gradFill>
                <a:latin typeface="Arial"/>
              </a:rPr>
              <a:t>Результаты исслед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c0ebe"/>
                  </a:gs>
                  <a:gs pos="100000">
                    <a:srgbClr val="1c0658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9640" y="1628640"/>
          <a:ext cx="8209080" cy="4594320"/>
        </p:xfrm>
        <a:graphic>
          <a:graphicData uri="http://schemas.openxmlformats.org/drawingml/2006/table">
            <a:tbl>
              <a:tblPr/>
              <a:tblGrid>
                <a:gridCol w="1440000"/>
                <a:gridCol w="3168720"/>
                <a:gridCol w="360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Д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Время раскрытия листь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ff"/>
                          </a:solidFill>
                          <a:latin typeface="Garamond"/>
                        </a:rPr>
                        <a:t>Время  закрытия листье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День до экс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перимента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1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3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----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1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3 день по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03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cc"/>
                          </a:solidFill>
                          <a:latin typeface="Garamond"/>
                        </a:rPr>
                        <a:t>20: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140"/>
          <p:cNvSpPr/>
          <p:nvPr/>
        </p:nvSpPr>
        <p:spPr>
          <a:xfrm>
            <a:off x="454320" y="981000"/>
            <a:ext cx="86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99"/>
                </a:solidFill>
                <a:uFillTx/>
                <a:latin typeface="Garamond"/>
              </a:rPr>
              <a:t>В ходе эксперимента были получены следующие результат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AutoShape 143"/>
          <p:cNvSpPr/>
          <p:nvPr/>
        </p:nvSpPr>
        <p:spPr>
          <a:xfrm>
            <a:off x="3203640" y="342900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AutoShape 144"/>
          <p:cNvSpPr/>
          <p:nvPr/>
        </p:nvSpPr>
        <p:spPr>
          <a:xfrm>
            <a:off x="8317080" y="105264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146"/>
          <p:cNvSpPr/>
          <p:nvPr/>
        </p:nvSpPr>
        <p:spPr>
          <a:xfrm>
            <a:off x="900000" y="105264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AutoShape 147"/>
          <p:cNvSpPr/>
          <p:nvPr/>
        </p:nvSpPr>
        <p:spPr>
          <a:xfrm>
            <a:off x="6588000" y="350028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AutoShape 148"/>
          <p:cNvSpPr/>
          <p:nvPr/>
        </p:nvSpPr>
        <p:spPr>
          <a:xfrm>
            <a:off x="6588000" y="285264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149"/>
          <p:cNvSpPr/>
          <p:nvPr/>
        </p:nvSpPr>
        <p:spPr>
          <a:xfrm>
            <a:off x="3203640" y="400536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AutoShape 150"/>
          <p:cNvSpPr/>
          <p:nvPr/>
        </p:nvSpPr>
        <p:spPr>
          <a:xfrm>
            <a:off x="6588000" y="4005360"/>
            <a:ext cx="720720" cy="360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В ходе проведения эксперимента наши ожидания не оправдались. У кислицы не наблюдалась бессонница, как это прогнозировалось – цветок после опыта вёл себя как обычно. Возможно на  состояние здоровья растения повлияла транспортировка в холодное время года, а также быстрая смена условий и частое изменение влажности воздуха.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                                        </a:t>
            </a:r>
            <a:r>
              <a:rPr b="1" lang="ru-RU" sz="8800" spc="-1" strike="noStrike">
                <a:solidFill>
                  <a:srgbClr val="ff0066"/>
                </a:solidFill>
                <a:latin typeface="Garamond"/>
              </a:rPr>
              <a:t>??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684360" y="476280"/>
            <a:ext cx="76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c0ebe"/>
                </a:solidFill>
                <a:latin typeface="Arial"/>
              </a:rPr>
              <a:t>Результаты эксперим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c0ebe"/>
              </a:solidFill>
              <a:latin typeface="Arial"/>
              <a:ea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1763640" y="5516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AutoShape 6"/>
          <p:cNvSpPr/>
          <p:nvPr/>
        </p:nvSpPr>
        <p:spPr>
          <a:xfrm flipV="1">
            <a:off x="8388360" y="1700280"/>
            <a:ext cx="287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250920" y="342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7164360" y="1341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324000" y="508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11"/>
          <p:cNvSpPr/>
          <p:nvPr/>
        </p:nvSpPr>
        <p:spPr>
          <a:xfrm>
            <a:off x="7020000" y="544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В ходе исследования мы убедились, что у растений может наблюдаться смена сна и бодрствования на примере  </a:t>
            </a: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кислицы обыкновенной (О</a:t>
            </a:r>
            <a:r>
              <a:rPr b="1" lang="en-US" sz="4000" spc="-1" strike="noStrike">
                <a:solidFill>
                  <a:srgbClr val="ff33cc"/>
                </a:solidFill>
                <a:latin typeface="Garamond"/>
              </a:rPr>
              <a:t>xalis acetosella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66000"/>
                  </a:blip>
                  <a:srcRect/>
                  <a:stretch/>
                </a:blipFill>
                <a:latin typeface="Times New Roman"/>
              </a:rPr>
              <a:t>Вы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66000"/>
                </a:blip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987640" y="5229360"/>
            <a:ext cx="3240000" cy="11080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547640" y="6093000"/>
            <a:ext cx="28764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AutoShape 13"/>
          <p:cNvSpPr/>
          <p:nvPr/>
        </p:nvSpPr>
        <p:spPr>
          <a:xfrm>
            <a:off x="2124000" y="544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8388360" y="198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7740720" y="515772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2916360" y="645336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7596360" y="364500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AutoShape 18"/>
          <p:cNvSpPr/>
          <p:nvPr/>
        </p:nvSpPr>
        <p:spPr>
          <a:xfrm flipV="1">
            <a:off x="8317080" y="6165720"/>
            <a:ext cx="287280" cy="4096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5148360" y="765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23"/>
          <p:cNvSpPr/>
          <p:nvPr/>
        </p:nvSpPr>
        <p:spPr>
          <a:xfrm>
            <a:off x="395280" y="220500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AutoShape 24"/>
          <p:cNvSpPr/>
          <p:nvPr/>
        </p:nvSpPr>
        <p:spPr>
          <a:xfrm>
            <a:off x="3276720" y="5877000"/>
            <a:ext cx="503280" cy="287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25" descr="j0233040"/>
          <p:cNvPicPr/>
          <p:nvPr/>
        </p:nvPicPr>
        <p:blipFill>
          <a:blip r:embed="rId3"/>
          <a:stretch/>
        </p:blipFill>
        <p:spPr>
          <a:xfrm>
            <a:off x="4427640" y="4508640"/>
            <a:ext cx="1836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33cc"/>
                </a:solidFill>
                <a:latin typeface="Garamond"/>
              </a:rPr>
              <a:t>В ходе исследования наша гипотеза не подтвердилась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авнение с гипотезой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351240" cy="36748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7"/>
          <p:cNvSpPr/>
          <p:nvPr/>
        </p:nvSpPr>
        <p:spPr>
          <a:xfrm>
            <a:off x="1403280" y="508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596360" y="4653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95280" y="1844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2124000" y="3573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8101080" y="573408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468360" y="494172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7596360" y="342900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755640" y="6093000"/>
            <a:ext cx="28728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AutoShape 15"/>
          <p:cNvSpPr/>
          <p:nvPr/>
        </p:nvSpPr>
        <p:spPr>
          <a:xfrm>
            <a:off x="1332000" y="407664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6659640" y="378936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6732720" y="5734080"/>
            <a:ext cx="28728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оловкин Б.Н. и др. Комнатные растения. – М.: Лесная промышленность, 198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ат Ю.А. Комнатные растения в вашем доме. – М.: ООО АСТ «Сталкер», 2004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ронцов Н.Н., Сухорукова Л.Н. Эволюция органического мира. – М.: Просвещение, 1991, 221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floralworld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floranimal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www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floriculture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ww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dbiol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//www.wikipedia.r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468360" y="692280"/>
            <a:ext cx="822960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Информационные ресур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257" name="Picture 10" descr="j0088078"/>
          <p:cNvPicPr/>
          <p:nvPr/>
        </p:nvPicPr>
        <p:blipFill>
          <a:blip r:embed="rId21"/>
          <a:stretch/>
        </p:blipFill>
        <p:spPr>
          <a:xfrm>
            <a:off x="5651640" y="3500280"/>
            <a:ext cx="156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2"/>
          <p:cNvSpPr txBox="1"/>
          <p:nvPr/>
        </p:nvSpPr>
        <p:spPr>
          <a:xfrm>
            <a:off x="539640" y="40464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"Сон" кислиц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Выполнили учени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7-го класса МОУ сош №7 г. Рассказо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Галушина Екатерина, Горелкин Дмитрий. Кобзев Артё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     </a:t>
            </a:r>
            <a:r>
              <a:rPr b="1" lang="ru-RU" sz="2000" spc="-1" strike="noStrike">
                <a:solidFill>
                  <a:srgbClr val="ff33cc"/>
                </a:solidFill>
                <a:latin typeface="Garamond"/>
              </a:rPr>
              <a:t>Руководитель: учитель  биологии Тихонова Е.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0" name="Picture 30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00720" cy="2401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1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40280" cy="30193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2"/>
          <p:cNvSpPr/>
          <p:nvPr/>
        </p:nvSpPr>
        <p:spPr>
          <a:xfrm>
            <a:off x="539640" y="558972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AutoShape 34"/>
          <p:cNvSpPr/>
          <p:nvPr/>
        </p:nvSpPr>
        <p:spPr>
          <a:xfrm>
            <a:off x="6659640" y="566100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35"/>
          <p:cNvSpPr/>
          <p:nvPr/>
        </p:nvSpPr>
        <p:spPr>
          <a:xfrm>
            <a:off x="539640" y="4508640"/>
            <a:ext cx="289080" cy="28872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36"/>
          <p:cNvSpPr/>
          <p:nvPr/>
        </p:nvSpPr>
        <p:spPr>
          <a:xfrm>
            <a:off x="3492360" y="4365720"/>
            <a:ext cx="289080" cy="28872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AutoShape 43"/>
          <p:cNvSpPr/>
          <p:nvPr/>
        </p:nvSpPr>
        <p:spPr>
          <a:xfrm>
            <a:off x="25092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6"/>
          <p:cNvSpPr/>
          <p:nvPr/>
        </p:nvSpPr>
        <p:spPr>
          <a:xfrm>
            <a:off x="3995640" y="29242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AutoShape 47"/>
          <p:cNvSpPr/>
          <p:nvPr/>
        </p:nvSpPr>
        <p:spPr>
          <a:xfrm>
            <a:off x="8604360" y="6308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AutoShape 48"/>
          <p:cNvSpPr/>
          <p:nvPr/>
        </p:nvSpPr>
        <p:spPr>
          <a:xfrm>
            <a:off x="7667640" y="530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AutoShape 49"/>
          <p:cNvSpPr/>
          <p:nvPr/>
        </p:nvSpPr>
        <p:spPr>
          <a:xfrm>
            <a:off x="82692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50"/>
          <p:cNvSpPr/>
          <p:nvPr/>
        </p:nvSpPr>
        <p:spPr>
          <a:xfrm>
            <a:off x="4211640" y="4076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AutoShape 54"/>
          <p:cNvSpPr/>
          <p:nvPr/>
        </p:nvSpPr>
        <p:spPr>
          <a:xfrm flipH="1">
            <a:off x="8387640" y="260280"/>
            <a:ext cx="64764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Times New Roman"/>
              </a:rPr>
              <a:t>Пробл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aramond"/>
              </a:rPr>
              <a:t>Страдают ли растения бессонницей?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WordArt 12"/>
          <p:cNvSpPr txBox="1"/>
          <p:nvPr/>
        </p:nvSpPr>
        <p:spPr>
          <a:xfrm>
            <a:off x="611280" y="2565360"/>
            <a:ext cx="835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Цель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08000" y="4076640"/>
            <a:ext cx="92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Изучить влияние продолжительности освещения на движение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листьев кислицы обыкновенной (О</a:t>
            </a:r>
            <a:r>
              <a:rPr b="1" lang="en-US" sz="3600" spc="-1" strike="noStrike">
                <a:solidFill>
                  <a:srgbClr val="ff33cc"/>
                </a:solidFill>
                <a:latin typeface="Garamond"/>
              </a:rPr>
              <a:t>xalis acetosell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8459640" y="3716280"/>
            <a:ext cx="216000" cy="432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7236000" y="5950080"/>
            <a:ext cx="360360" cy="647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AutoShape 16"/>
          <p:cNvSpPr/>
          <p:nvPr/>
        </p:nvSpPr>
        <p:spPr>
          <a:xfrm>
            <a:off x="468360" y="335772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17"/>
          <p:cNvSpPr/>
          <p:nvPr/>
        </p:nvSpPr>
        <p:spPr>
          <a:xfrm>
            <a:off x="2843280" y="3716280"/>
            <a:ext cx="288720" cy="28908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28472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1403280" y="4724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8244000" y="134136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7524720" y="479736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250920" y="98100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6372360" y="11592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6516720" y="3860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1258920" y="6381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26"/>
          <p:cNvSpPr/>
          <p:nvPr/>
        </p:nvSpPr>
        <p:spPr>
          <a:xfrm>
            <a:off x="1116000" y="3716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Объект исследования: комнатные растения кабинета экологии и природопользования №3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33cc"/>
                </a:solidFill>
                <a:latin typeface="Garamond"/>
              </a:rPr>
              <a:t>Предмет исследования: смена сна и бодрствования листьев кислицы обыкновенн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84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>
                    <a:alpha val="55000"/>
                  </a:srgbClr>
                </a:solidFill>
                <a:latin typeface="Arial"/>
              </a:rPr>
              <a:t>Предмет и объект 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>
                  <a:alpha val="55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539640" y="177336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539640" y="3500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500720" y="472428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877080" y="285264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3492360" y="616572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8244000" y="458136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1042920" y="558972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843280" y="558972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20" descr="bd08070_"/>
          <p:cNvPicPr/>
          <p:nvPr/>
        </p:nvPicPr>
        <p:blipFill>
          <a:blip r:embed="rId1"/>
          <a:stretch/>
        </p:blipFill>
        <p:spPr>
          <a:xfrm>
            <a:off x="5796000" y="4619520"/>
            <a:ext cx="2303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6"/>
          <p:cNvSpPr txBox="1"/>
          <p:nvPr/>
        </p:nvSpPr>
        <p:spPr>
          <a:xfrm>
            <a:off x="539640" y="189000"/>
            <a:ext cx="82296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Задачи исслед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4000" y="213372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33cc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Изучить информацию по данной проблеме и выявить биологические особенности кислицы обыкновенн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33cc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Исследовать реакцию кислицы обыкновенной на изменение продолжительности дневного освещ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3. Произвести анализ полученных дан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4. Сделать выводы на основании полученных данных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250920" y="4724280"/>
            <a:ext cx="50472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324000" y="3429000"/>
            <a:ext cx="433080" cy="576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156360" y="314172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250920" y="2133720"/>
            <a:ext cx="43164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244000" y="249228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492360" y="587700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565164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7020000" y="587700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18"/>
          <p:cNvSpPr/>
          <p:nvPr/>
        </p:nvSpPr>
        <p:spPr>
          <a:xfrm>
            <a:off x="8459640" y="587700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1692360" y="623736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324000" y="5157720"/>
            <a:ext cx="4330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    </a:t>
            </a:r>
            <a:r>
              <a:rPr b="1" lang="ru-RU" sz="4000" spc="-1" strike="noStrike">
                <a:solidFill>
                  <a:srgbClr val="cc00ff"/>
                </a:solidFill>
                <a:latin typeface="Garamond"/>
              </a:rPr>
              <a:t>Если у растения нет мозга, значит оно страдает бессоннице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4000" y="476280"/>
            <a:ext cx="728316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ипотез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13" descr="j0234131"/>
          <p:cNvPicPr/>
          <p:nvPr/>
        </p:nvPicPr>
        <p:blipFill>
          <a:blip r:embed="rId1"/>
          <a:stretch/>
        </p:blipFill>
        <p:spPr>
          <a:xfrm>
            <a:off x="3492360" y="3645000"/>
            <a:ext cx="1952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14"/>
          <p:cNvSpPr/>
          <p:nvPr/>
        </p:nvSpPr>
        <p:spPr>
          <a:xfrm>
            <a:off x="6588000" y="3933720"/>
            <a:ext cx="649440" cy="5050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332000" y="5589720"/>
            <a:ext cx="649080" cy="647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1835280" y="3716280"/>
            <a:ext cx="433080" cy="5763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7956720" y="5013360"/>
            <a:ext cx="2872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8028000" y="1628640"/>
            <a:ext cx="358920" cy="4334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6227640" y="5805360"/>
            <a:ext cx="505080" cy="719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395280" y="148392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Garamond"/>
              </a:rPr>
              <a:t>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Многолетнее травянистое растение 5-10 см. высотой, с тонким ползучим подземным корневищем, покрытым мясистыми чешуевидными листочками. Листья тройчатые собраны в розетки на длинных черешках. Листочки обратносердцевидные до 2,5 см. длины 3 см. ширины, сидячие. Листовые розетки расположены на небольшом расстоянии друг от друга. Цветки одиночные на пазушных цветоносах, 1-1,5 см. в диаметре. Лепестки белые с розовыми жилками, редко - розовы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826920" y="115920"/>
            <a:ext cx="734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3c0ebe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Arial"/>
              </a:rPr>
              <a:t>Особенности кисл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3c0ebe"/>
                  </a:gs>
                  <a:gs pos="100000">
                    <a:srgbClr val="00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826920" y="162864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804000" y="602136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7812000" y="342900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900000" y="5950080"/>
            <a:ext cx="35892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4643280" y="544500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79280" y="2602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33cc"/>
                </a:solidFill>
                <a:latin typeface="Garamond"/>
              </a:rPr>
              <a:t>Кислица предпочитает интенсивный рассеянный свет. Оптимально для размещения окна с восточной ориентацией. При размещении на окнах с южной ориентацией необходимо притенять или создавать рассеянное освещение с 11-17 часов полупрозрачной тканью или бумагой (например, марля, тюль). При размещении на окнах и балконах с западной ориентацией также создают рассеянный с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116000" y="333360"/>
            <a:ext cx="66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c0ebe"/>
                </a:solidFill>
                <a:latin typeface="Arial"/>
              </a:rPr>
              <a:t>Отношение к све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c0ebe"/>
              </a:solidFill>
              <a:latin typeface="Arial"/>
              <a:ea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8317080" y="90792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8244000" y="5877000"/>
            <a:ext cx="35856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68360" y="620640"/>
            <a:ext cx="35856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395280" y="5734080"/>
            <a:ext cx="35892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900000" y="1989000"/>
            <a:ext cx="503280" cy="50328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7524720" y="3933720"/>
            <a:ext cx="21600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6516720" y="1557360"/>
            <a:ext cx="21600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635280" y="1125360"/>
            <a:ext cx="1584360" cy="100836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и непрерывном освещении электрическим светом листья кислицы не складываютс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В темноте кислица тоже не складывает листь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осле непрерывного освещения в течение 2-3-х суток уже при нормальной ночи у кислицы наблюдается «бессонница»: её листья складываются не на 7, а на 4-5 ча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В течении следующих дней у такой кислицы наблюдается нормальное засыпание даже на све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971640" y="33336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afff"/>
                    </a:gs>
                    <a:gs pos="50000">
                      <a:srgbClr val="0000ff"/>
                    </a:gs>
                    <a:gs pos="100000">
                      <a:srgbClr val="afafff"/>
                    </a:gs>
                  </a:gsLst>
                  <a:lin ang="5400000"/>
                </a:gradFill>
                <a:latin typeface="Arial"/>
              </a:rPr>
              <a:t>Условия проведения эксперим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afff"/>
                  </a:gs>
                  <a:gs pos="50000">
                    <a:srgbClr val="0000ff"/>
                  </a:gs>
                  <a:gs pos="100000">
                    <a:srgbClr val="afa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539640" y="1700280"/>
            <a:ext cx="503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539640" y="2924280"/>
            <a:ext cx="503280" cy="35856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39640" y="4581360"/>
            <a:ext cx="503280" cy="35892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268360" y="6165720"/>
            <a:ext cx="36072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8317080" y="155736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724360" y="566100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956720" y="616572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3399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33cc"/>
                </a:solidFill>
                <a:latin typeface="Garamond"/>
              </a:rPr>
              <a:t>Оборудование: настольная лампа, настольные часы, цифровой фотоаппар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	</a:t>
            </a:r>
            <a:r>
              <a:rPr b="1" lang="ru-RU" sz="2400" spc="-1" strike="noStrike">
                <a:solidFill>
                  <a:srgbClr val="ff33cc"/>
                </a:solidFill>
                <a:latin typeface="Garamond"/>
              </a:rPr>
              <a:t>Кашпо с цветком поместили рядом с лампой так, чтобы на неё падали лучи света. В таком состоянии кислица пребывала 3 дня. Каждый день записывались данные о раскрытии и закрытии листьев кислицы. На 4 день цветок извлекли из-под лампы и также вели наблюдения за его состоянием. При этом каждый этап эксперимента фотографировал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4" name="WordArt 5"/>
          <p:cNvGrpSpPr/>
          <p:nvPr/>
        </p:nvGrpSpPr>
        <p:grpSpPr>
          <a:xfrm>
            <a:off x="463680" y="182520"/>
            <a:ext cx="8242200" cy="1433520"/>
            <a:chOff x="463680" y="182520"/>
            <a:chExt cx="8242200" cy="1433520"/>
          </a:xfrm>
        </p:grpSpPr>
        <p:pic>
          <p:nvPicPr>
            <p:cNvPr id="195" name="WordArt 5" descr=""/>
            <p:cNvPicPr/>
            <p:nvPr/>
          </p:nvPicPr>
          <p:blipFill>
            <a:blip r:embed="rId1"/>
            <a:stretch/>
          </p:blipFill>
          <p:spPr>
            <a:xfrm>
              <a:off x="463680" y="182520"/>
              <a:ext cx="82422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8360" y="189000"/>
              <a:ext cx="82296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Impact"/>
                </a:rPr>
                <a:t>Ход исследования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7" name="AutoShape 7"/>
          <p:cNvSpPr/>
          <p:nvPr/>
        </p:nvSpPr>
        <p:spPr>
          <a:xfrm>
            <a:off x="611280" y="2637000"/>
            <a:ext cx="504720" cy="50472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611280" y="1628640"/>
            <a:ext cx="504720" cy="5050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843280" y="602136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4211640" y="566100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8028000" y="170028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7380360" y="5300640"/>
            <a:ext cx="360360" cy="36036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826920" y="587700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6084720" y="638172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6227640" y="5516640"/>
            <a:ext cx="360360" cy="21600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1908000" y="5589720"/>
            <a:ext cx="360360" cy="215640"/>
          </a:xfrm>
          <a:prstGeom prst="irregularSeal1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31:12Z</dcterms:created>
  <dc:creator>user</dc:creator>
  <dc:description/>
  <dc:language>en-US</dc:language>
  <cp:lastModifiedBy>Admin</cp:lastModifiedBy>
  <dcterms:modified xsi:type="dcterms:W3CDTF">2010-01-18T15:31:34Z</dcterms:modified>
  <cp:revision>11</cp:revision>
  <dc:subject/>
  <dc:title>Слайд 1</dc:title>
</cp:coreProperties>
</file>