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7.gif" ContentType="image/gif"/>
  <Override PartName="/ppt/media/image7.jpeg" ContentType="image/jpeg"/>
  <Override PartName="/ppt/media/image3.gif" ContentType="image/gif"/>
  <Override PartName="/ppt/media/image18.jpeg" ContentType="image/jpeg"/>
  <Override PartName="/ppt/media/image8.gif" ContentType="image/gif"/>
  <Override PartName="/ppt/media/image16.jpeg" ContentType="image/jpeg"/>
  <Override PartName="/ppt/media/image13.gif" ContentType="image/gif"/>
  <Override PartName="/ppt/media/image4.jpeg" ContentType="image/jpeg"/>
  <Override PartName="/ppt/media/image10.jpeg" ContentType="image/jpeg"/>
  <Override PartName="/ppt/media/image25.gif" ContentType="image/gif"/>
  <Override PartName="/ppt/media/image6.jpeg" ContentType="image/jpeg"/>
  <Override PartName="/ppt/media/image11.gif" ContentType="image/gif"/>
  <Override PartName="/ppt/media/image9.jpeg" ContentType="image/jpeg"/>
  <Override PartName="/ppt/media/image30.gif" ContentType="image/gif"/>
  <Override PartName="/ppt/media/image15.gif" ContentType="image/gif"/>
  <Override PartName="/ppt/media/image5.jpeg" ContentType="image/jpe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12.gif" ContentType="image/gif"/>
  <Override PartName="/ppt/media/image17.jpeg" ContentType="image/jpeg"/>
  <Override PartName="/ppt/media/image2.gif" ContentType="image/gif"/>
  <Override PartName="/ppt/media/image3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298C-766D-4893-A6D8-7000980A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A8B-522A-4B5B-93AA-1CEAB5A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E95-7F93-4C96-8BA9-A6E4BBF4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10BE-E0B5-4CEA-B44F-BF5DD8D9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E69-2656-4A51-9634-A7F39CD0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8AE-AEC6-4A6A-9029-4D4068A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3B5F-DBE2-40AA-9116-BD4760F8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14F7-026A-4BB4-B66C-147A422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503-700A-4C27-9C66-989CCA3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FBD-B0C8-425C-A895-315F43D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EA62-78D0-4CBB-9ECF-3F5B38D4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9C4-5B04-434B-B19C-E51A49EF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66ED-63BA-4AF7-9EAB-703B3C5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C283-6539-43DD-9130-062C2513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7721-044A-4D9E-86B0-1AC72F9B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FEC4-C45D-4EA8-8F6B-28C9FA97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70E9-1CA4-46D1-83A7-ECA639B3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F21-9A48-4955-B636-B08F944D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39E-FD6C-49C1-8147-FCB31E8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74A-0A56-403C-8D78-ACE766F2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FAC-BB98-4DD4-95CF-2D180CD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342-18A8-4F31-8B62-CFE3E833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ED5-22AA-4511-ACD1-BE70A8B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B65-F1E8-4283-93E1-134068D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014-4115-44D0-A4D4-AD4CBBB54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A26-27B3-4B0B-BF32-056AD9004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Научно – практическая конференция  по эколог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038480" y="35809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«Экология и гидролог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2819160" cy="2719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2819160" cy="168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2854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419720" y="304920"/>
            <a:ext cx="4572000" cy="28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572000" cy="276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5257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м элементом реки являетс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речная доли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состоящая из русла, поймы и террас.  Русло реки Меленки изменяется на всем ее протяжении, в верхнем течении оно широкое и глубокое, в среднем течении становится узким, река течет быстрее – по небольшим порожкам, в нижнем течении она углубляется и русло расширяется, на входе в Оку русло превращается в тонкую ниточ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005280" cy="19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07044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638680" y="4495680"/>
            <a:ext cx="3097440" cy="20527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Arial"/>
              </a:rPr>
              <a:t>Гидрологические показател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29240" cy="3517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920" y="4952880"/>
            <a:ext cx="419076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реднем течении ре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15 – 0,30 м., ширина реки в этом мест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 см. Песчаное –чуть заиленное д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тительность только в прибреж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оне. Расход воды = 112,5 кв.с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429000" y="3428640"/>
            <a:ext cx="12952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124080"/>
            <a:ext cx="381240" cy="38124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4952880"/>
            <a:ext cx="3962520" cy="17528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ижнем течении река име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бину0,60 м, ширина реки 1,70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д воды = 420 кв.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глубина 0,3 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238880" y="1980720"/>
            <a:ext cx="228600" cy="304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1600200"/>
            <a:ext cx="380880" cy="3808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Органолептические свойства воды в реке Меленке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Вода в реке не соответствует требованиям по цветности, так как наблюдается цвет от слабо желтого до желтого, из – за влияния  смыва горных пород с обнажений на склонах оврага, и наличия свалок и мусорных куч по берегам ре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4267440" cy="2801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057400" cy="1152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2971800" y="4572000"/>
            <a:ext cx="108900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Осад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отличается наличием осадка, который увеличивается  к нижнему течению, под животноводческой фермой осадок незначительный – характер песчаный, цвет осадка серый. По улице Касимовская объем, осадка увеличивается, становится заметным, его характер изменяется – глинистый и илистый, цвет становится коричнев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Мутность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ffff"/>
                </a:solidFill>
                <a:latin typeface="Arial"/>
              </a:rPr>
              <a:t>и прозрач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а  в реке имеет мутность от слабой до средней. Мутность увеличивается в зависимости от увеличения осадка и цве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казатели прозрачности воды  в реке Меленке выше допустимых пределов, но без специальных мер очистки ее   использовать для питья не желатель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202520" y="4952880"/>
            <a:ext cx="1703520" cy="19051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6ffff"/>
                </a:solidFill>
                <a:latin typeface="Arial"/>
              </a:rPr>
              <a:t>Гидрохимические показатели качества воды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еличина pH природных вод определяется составом пород, слагающих водосборный бассей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,3 - Нейтральные воды, ближе к слабо щелочны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,3 - Слабокислые вод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52280" y="5029200"/>
            <a:ext cx="2438640" cy="1771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Биологические показател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биотического  индекса Вудивисса - незначительное загрязнение водоема (3 класс качеств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Результаты оценки Индекса Майера - 11-16 баллов - умеренная загрязненность водоема, 3 класс ка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Результаты экспресс - оценки качества воды в реке по ряск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Наиболее загрязненной оказалась вода в среднем течении реки, по сравнению с нижнем теч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048120" cy="2762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419720" y="4343400"/>
            <a:ext cx="4047840" cy="1028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 итогам комплексного обследования реки был составлен экологический паспорт реки Мел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410080" y="3886200"/>
            <a:ext cx="3505320" cy="2216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«Определение качества воды в реке Меленке, район села Карачар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</a:rPr>
              <a:t>Автор: Алена Сух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3282600">
            <a:off x="1599480" y="137160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7696200">
            <a:off x="6095880" y="1447560"/>
            <a:ext cx="1228680" cy="117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-60984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Выводы и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Вода в реке Меленке  умеренно загрязненн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Уровень загрязненности средний, поэтому в воде можно купаться, воду можно использовать в бытовых и хозяйственных нуждах, то есть на полив садов и огород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88e4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Наличие животных организмов  в воде говорит о том, что естественное самоочищение реки находится на среднем уров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553080" y="4692600"/>
            <a:ext cx="2162160" cy="1917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9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Необходимо запретить мытье машин около водоема, тем самым исключить загрязнение нефтяными сливами и маслами воду в реке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Ограничить использование удобрений и ядохимикатов на полях и огородах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- В целях достижения чистоты воды и оптимальной глубины реки Меленке необходимо ежегодно проводить дноуглубительные работы, очищать реку от бытового мусора, а также не устраивать несанкционированных свалок на берегу реки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86600" y="4987800"/>
            <a:ext cx="1676520" cy="1613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алые водные объекты — речки, озера, пруды — важная часть нашей малой Родины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339408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624852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ff"/>
                </a:solidFill>
                <a:latin typeface="Book Antiqua"/>
              </a:rPr>
              <a:t>Малая река</a:t>
            </a:r>
            <a:r>
              <a:rPr b="1" lang="en-US" sz="2800" spc="-1" strike="noStrike">
                <a:solidFill>
                  <a:srgbClr val="ccecff"/>
                </a:solidFill>
                <a:latin typeface="Book Antiqua"/>
              </a:rPr>
              <a:t> — важная часть водного фонда страны. Часто большие реки сравнивают с артериями. Если так, то малые реки — это капилляры. Действительно, их насчитывается в России более 200 тысяч!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809880" cy="2855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76920" y="3352680"/>
            <a:ext cx="38098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477120" y="457200"/>
            <a:ext cx="2361960" cy="1697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ff99ff"/>
                </a:solidFill>
                <a:latin typeface="Arial"/>
              </a:rPr>
              <a:t>Наши бессловесные друз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речки, пруды, озера — начинают болеть: вода становится грязной, мутной, летом она может зацвести. Постепенно угасает жизнь в вод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3429000" cy="20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952880" y="2666880"/>
            <a:ext cx="3353040" cy="251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06668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Book Antiqua"/>
              </a:rPr>
              <a:t>Цель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олучение информации, связанной с конкретной проблемой состояния водного объекта - реки Меленки и последующее представление этой информации для заинтересованных сторон (общественности, государственных органов), направленное на разработку и принятие мер по улучшению ситу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828800" cy="2629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Задачи работы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1. Собрать общие сведения о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 Оценить качество воды в реке Меле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1.      Провести химический анализ во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2.      Провести статистическую обработку информ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2.3.      Оценить результаты биологических исследо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3. Определить  степень загрязнения водоема методом биоинд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4. Составить экологический паспорт р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238880" y="3581280"/>
            <a:ext cx="152424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Методы и материалы</a:t>
            </a: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одика описания маршру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велирование речной до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блюдения за уровнем воды(измерение глубины и ширины реки, измерение скорости и расхода воды в реке, измерение температуры вод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дрохимические наблю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ологическая оценка водного объекта(биотический индекс Вудивисса, индекс Майера, метод оценки состояния водоема в проекте RiverWatch, оценка состояния водного объекта по ряск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315200" y="762120"/>
            <a:ext cx="1447920" cy="1314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400800" y="5181480"/>
            <a:ext cx="2124000" cy="1543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Описание реки Меленк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ка Меленка – одна из множества малых рек города Мурома и Муромского района. Протекает река в Меленковском овраге на юге села Карачарово. Река принадлежит бассейну  реки Оки. Начинается в Зворыкинском болоте, расположенном на выезде из города в по направлению на Вербовский. И является одним из основных источников питания О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209680" cy="1969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10T09:33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