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28.gif" ContentType="image/gif"/>
  <Override PartName="/ppt/media/image27.gif" ContentType="image/gif"/>
  <Override PartName="/ppt/media/image7.jpeg" ContentType="image/jpeg"/>
  <Override PartName="/ppt/media/image3.gif" ContentType="image/gif"/>
  <Override PartName="/ppt/media/image18.jpeg" ContentType="image/jpeg"/>
  <Override PartName="/ppt/media/image8.gif" ContentType="image/gif"/>
  <Override PartName="/ppt/media/image16.jpeg" ContentType="image/jpeg"/>
  <Override PartName="/ppt/media/image13.gif" ContentType="image/gif"/>
  <Override PartName="/ppt/media/image4.jpeg" ContentType="image/jpeg"/>
  <Override PartName="/ppt/media/image10.jpeg" ContentType="image/jpeg"/>
  <Override PartName="/ppt/media/image25.gif" ContentType="image/gif"/>
  <Override PartName="/ppt/media/image6.jpeg" ContentType="image/jpeg"/>
  <Override PartName="/ppt/media/image11.gif" ContentType="image/gif"/>
  <Override PartName="/ppt/media/image9.jpeg" ContentType="image/jpeg"/>
  <Override PartName="/ppt/media/image30.gif" ContentType="image/gif"/>
  <Override PartName="/ppt/media/image15.gif" ContentType="image/gif"/>
  <Override PartName="/ppt/media/image5.jpeg" ContentType="image/jpeg"/>
  <Override PartName="/ppt/media/image31.gif" ContentType="image/gif"/>
  <Override PartName="/ppt/media/image1.gif" ContentType="image/gif"/>
  <Override PartName="/ppt/media/image24.gif" ContentType="image/gif"/>
  <Override PartName="/ppt/media/image14.gif" ContentType="image/gif"/>
  <Override PartName="/ppt/media/image12.gif" ContentType="image/gif"/>
  <Override PartName="/ppt/media/image17.jpeg" ContentType="image/jpeg"/>
  <Override PartName="/ppt/media/image2.gif" ContentType="image/gif"/>
  <Override PartName="/ppt/media/image32.gif" ContentType="image/gif"/>
  <Override PartName="/ppt/media/image19.jpeg" ContentType="image/jpeg"/>
  <Override PartName="/ppt/media/image26.gif" ContentType="image/gif"/>
  <Override PartName="/ppt/media/image20.jpeg" ContentType="image/jpeg"/>
  <Override PartName="/ppt/media/image21.jpeg" ContentType="image/jpeg"/>
  <Override PartName="/ppt/media/image2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801D-7A32-42B2-BB39-2843781B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7A94-1A24-48B1-A69C-DC07DF49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041C-631F-4CA6-8929-19B0490E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2FC-6B36-4A16-B8D7-8035CC61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6D8B-E4A6-407B-AD5F-F80CAA28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CE77-7472-4345-B674-A2782AA9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5E5D-0BF8-4A4A-B5FD-57DF18AB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D575-7A9B-4170-B851-E1327420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584F-F965-45A3-8B33-B29601D4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27D8-03EF-41BA-8F75-641B33C1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D2EA-2892-4EF0-806B-E0340DCE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C13-52E9-4C3A-9B14-9A30A05A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9714-4D49-4F79-838F-7C8431B9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4605-753A-40D4-B9AF-CEA007E9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B286-0BBC-4CC8-86A5-EE66AD99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666D-A0CD-46B0-8A17-94F35EB3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1422-13A3-45DD-B5DC-2FF61F88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761-2A83-47D6-99E6-3ED6FE6E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4F1C-0F54-4DFC-8654-5E39F686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F784-F35B-4673-BA96-04C46BBE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DA25-4F68-496D-9F37-5CE67EB7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0968-B075-4AA1-9296-17324E2B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EC5-E888-4796-B64F-70C02943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B6B-658D-49FC-BB26-1EA7DEEE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3870-1D64-4EBC-8390-5062B72CEC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2F36-7A0F-42E5-9E7E-9C49552710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Научно – практическая конференция  по эколог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038480" y="3580920"/>
            <a:ext cx="4648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ек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«Экология и гидрологи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2819160" cy="2719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2819160" cy="1683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038480" cy="2854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419720" y="304920"/>
            <a:ext cx="4572000" cy="286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2209680" y="3429000"/>
            <a:ext cx="4572000" cy="276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5257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новным элементом реки является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ечная долин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состоящая из русла, поймы и террас.  Русло реки Меленки изменяется на всем ее протяжении, в верхнем течении оно широкое и глубокое, в среднем течении становится узким, река течет быстрее – по небольшим порожкам, в нижнем течении она углубляется и русло расширяется, на входе в Оку русло превращается в тонкую ниточ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638680" y="228600"/>
            <a:ext cx="3005280" cy="196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638680" y="2286000"/>
            <a:ext cx="307044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5638680" y="4495680"/>
            <a:ext cx="3097440" cy="20527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Arial"/>
              </a:rPr>
              <a:t>Гидрологические показатели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29240" cy="3517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04920" y="4952880"/>
            <a:ext cx="4190760" cy="17528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среднем течении рек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15 – 0,30 м., ширина реки в этом мест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 см. Песчаное –чуть заиленное дн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тительность только в прибреж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оне. Расход воды = 112,5 кв.с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429000" y="3428640"/>
            <a:ext cx="12952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124080"/>
            <a:ext cx="381240" cy="381240"/>
          </a:xfrm>
          <a:prstGeom prst="ellipse">
            <a:avLst/>
          </a:prstGeom>
          <a:solidFill>
            <a:srgbClr val="0088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952880" y="4952880"/>
            <a:ext cx="3962520" cy="17528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нижнем течении река име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убину0,60 м, ширина реки 1,70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ход воды = 420 кв.с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яя глубина 0,3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238880" y="1980720"/>
            <a:ext cx="22860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15200" y="1600200"/>
            <a:ext cx="380880" cy="380880"/>
          </a:xfrm>
          <a:prstGeom prst="ellipse">
            <a:avLst/>
          </a:prstGeom>
          <a:solidFill>
            <a:srgbClr val="0088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Органолептические свойства воды в реке Меленке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Вода в реке не соответствует требованиям по цветности, так как наблюдается цвет от слабо желтого до желтого, из – за влияния  смыва горных пород с обнажений на склонах оврага, и наличия свалок и мусорных куч по берегам ре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724280" y="3505320"/>
            <a:ext cx="4267440" cy="2801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6019920" y="1676520"/>
            <a:ext cx="2057400" cy="11523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2971800" y="4572000"/>
            <a:ext cx="1089000" cy="2133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Осад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да  в реке отличается наличием осадка, который увеличивается  к нижнему течению, под животноводческой фермой осадок незначительный – характер песчаный, цвет осадка серый. По улице Касимовская объем, осадка увеличивается, становится заметным, его характер изменяется – глинистый и илистый, цвет становится коричнев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Мутность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и прозрач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да  в реке имеет мутность от слабой до средней. Мутность увеличивается в зависимости от увеличения осадка и цвет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казатели прозрачности воды  в реке Меленке выше допустимых пределов, но без специальных мер очистки ее   использовать для питья не желатель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202520" y="4952880"/>
            <a:ext cx="1703520" cy="19051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Гидрохимические показатели качества воды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личина pH природных вод определяется составом пород, слагающих водосборный бассей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,3 - Нейтральные воды, ближе к слабо щелочны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,3 - Слабокислые вод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52280" y="5029200"/>
            <a:ext cx="2438640" cy="1771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Биологические показател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Результаты оценки биотического  индекса Вудивисса - незначительное загрязнение водоема (3 класс качества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Результаты оценки Индекса Майера - 11-16 баллов - умеренная загрязненность водоема, 3 класс кач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Результаты экспресс - оценки качества воды в реке по ряск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Наиболее загрязненной оказалась вода в среднем течении реки, по сравнению с нижнем теч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3048120" cy="2762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419720" y="4343400"/>
            <a:ext cx="4047840" cy="10288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 итогам комплексного обследования реки был составлен экологический паспорт реки Меле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410080" y="3886200"/>
            <a:ext cx="3505320" cy="22161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1905120" cy="1981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сследовательская рабо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925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«Определение качества воды в реке Меленке, район села Карачарово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Автор: Алена Сух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 rot="3282600">
            <a:off x="1599480" y="1371600"/>
            <a:ext cx="1228680" cy="1171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 rot="7696200">
            <a:off x="6095880" y="1447560"/>
            <a:ext cx="1228680" cy="1171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-609840" y="22860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Выводы и предло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88e4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Вода в реке Меленке  умеренно загрязнен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88e4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Уровень загрязненности средний, поэтому в воде можно купаться, воду можно использовать в бытовых и хозяйственных нуждах, то есть на полив садов и огород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88e4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Наличие животных организмов  в воде говорит о том, что естественное самоочищение реки находится на среднем уров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553080" y="4692600"/>
            <a:ext cx="2162160" cy="1917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971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Book Antiqua"/>
              </a:rPr>
              <a:t>- Необходимо запретить мытье машин около водоема, тем самым исключить загрязнение нефтяными сливами и маслами воду в реке.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Book Antiqua"/>
              </a:rPr>
              <a:t>- Ограничить использование удобрений и ядохимикатов на полях и огородах.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Book Antiqua"/>
              </a:rPr>
              <a:t>- В целях достижения чистоты воды и оптимальной глубины реки Меленке необходимо ежегодно проводить дноуглубительные работы, очищать реку от бытового мусора, а также не устраивать несанкционированных свалок на берегу реки.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86600" y="4987800"/>
            <a:ext cx="1676520" cy="1613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Малые водные объекты — речки, озера, пруды — важная часть нашей малой Родины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3581280" cy="247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029200" y="2971800"/>
            <a:ext cx="3394080" cy="254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624852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ff"/>
                </a:solidFill>
                <a:latin typeface="Book Antiqua"/>
              </a:rPr>
              <a:t>Малая река</a:t>
            </a:r>
            <a:r>
              <a:rPr b="1" lang="en-US" sz="2800" spc="-1" strike="noStrike">
                <a:solidFill>
                  <a:srgbClr val="ccecff"/>
                </a:solidFill>
                <a:latin typeface="Book Antiqua"/>
              </a:rPr>
              <a:t> — важная часть водного фонда страны. Часто большие реки сравнивают с артериями. Если так, то малые реки — это капилляры. Действительно, их насчитывается в России более 200 тысяч!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3809880" cy="2855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76920" y="3352680"/>
            <a:ext cx="3809880" cy="28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6477120" y="457200"/>
            <a:ext cx="2361960" cy="16970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ff99ff"/>
                </a:solidFill>
                <a:latin typeface="Arial"/>
              </a:rPr>
              <a:t>Наши бессловесные друзь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— речки, пруды, озера — начинают болеть: вода становится грязной, мутной, летом она может зацвести. Постепенно угасает жизнь в вод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3429000" cy="20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952880" y="2666880"/>
            <a:ext cx="3353040" cy="2513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066680" y="3045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Book Antiqua"/>
              </a:rPr>
              <a:t>Цель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Получение информации, связанной с конкретной проблемой состояния водного объекта - реки Меленки и последующее представление этой информации для заинтересованных сторон (общественности, государственных органов), направленное на разработку и принятие мер по улучшению ситу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1828800" cy="2629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Задачи работы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1. Собрать общие сведения о реке Мелен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2. Оценить качество воды в реке Мелен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2.1.      Провести химический анализ вод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2.2.      Провести статистическую обработку информа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2.3.      Оценить результаты биологических исследов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3. Определить  степень загрязнения водоема методом биоиндик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4. Составить экологический паспорт ре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238880" y="3581280"/>
            <a:ext cx="152424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Методы и материалы</a:t>
            </a: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тодика описания маршру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ивелирование речной дол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блюдения за уровнем воды(измерение глубины и ширины реки, измерение скорости и расхода воды в реке, измерение температуры воды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идрохимические наблю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иологическая оценка водного объекта(биотический индекс Вудивисса, индекс Майера, метод оценки состояния водоема в проекте RiverWatch, оценка состояния водного объекта по ряск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315200" y="762120"/>
            <a:ext cx="1447920" cy="13143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400800" y="5181480"/>
            <a:ext cx="2124000" cy="15433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Описание реки Меленк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ека Меленка – одна из множества малых рек города Мурома и Муромского района. Протекает река в Меленковском овраге на юге села Карачарово. Река принадлежит бассейну  реки Оки. Начинается в Зворыкинском болоте, расположенном на выезде из города в по направлению на Вербовский. И является одним из основных источников питания О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934320" y="2590920"/>
            <a:ext cx="2209680" cy="1969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7-10T09:33:4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