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gif" ContentType="image/gif"/>
  <Override PartName="/ppt/media/image7.jpeg" ContentType="image/jpeg"/>
  <Override PartName="/ppt/media/image3.gif" ContentType="image/gif"/>
  <Override PartName="/ppt/media/image18.jpeg" ContentType="image/jpeg"/>
  <Override PartName="/ppt/media/image8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0.jpeg" ContentType="image/jpeg"/>
  <Override PartName="/ppt/media/image25.gif" ContentType="image/gif"/>
  <Override PartName="/ppt/media/image6.jpeg" ContentType="image/jpeg"/>
  <Override PartName="/ppt/media/image11.gif" ContentType="image/gif"/>
  <Override PartName="/ppt/media/image9.jpeg" ContentType="image/jpeg"/>
  <Override PartName="/ppt/media/image30.gif" ContentType="image/gif"/>
  <Override PartName="/ppt/media/image15.gif" ContentType="image/gif"/>
  <Override PartName="/ppt/media/image5.jpeg" ContentType="image/jpe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2.gif" ContentType="image/gif"/>
  <Override PartName="/ppt/media/image17.jpeg" ContentType="image/jpeg"/>
  <Override PartName="/ppt/media/image2.gif" ContentType="image/gif"/>
  <Override PartName="/ppt/media/image3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5B3-99D2-4D90-893C-EE91CCFA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206-9B6E-453B-AA94-FCE74625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F42-1089-44CE-B3C3-2AEB978E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235-6131-4A56-B3E2-EC17F5C8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C482-50BF-43C5-85F5-4E8B8ED5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817C-58C6-4B48-92C7-1B4427DE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89B1-4C29-4E91-94B3-32E89FBD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9283-F84D-4199-8DB6-D03B7D1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4197-FFCF-4288-A997-7F677F4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4DAE-4833-4CAB-8C91-B89F9D67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903E-D614-4C5D-BB0F-B2807B5A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AE7-18A9-42C5-8360-DED0A8D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52E0-D9B2-487B-B7FB-7486AD4A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826-5DA8-4B5E-A664-37EBFDA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11D2-86C1-4593-BFF5-A5C14A6A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2940-83C5-44FA-82BE-6086D2FE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5010-4D60-4BE4-8213-9416FE7E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6CB-E7C6-48B0-A524-3776A62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416-6160-4587-8FE1-98CFA988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400-DD5F-45A5-84EA-37AC3633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A20-8D4C-4433-A1DF-6150BDA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AD2-E478-4135-B607-CF1807A1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6AA-69FC-47BC-AEF9-F453445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6B1-5122-4B57-B8A3-F63E8587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BF28-15D5-4697-8D3D-0430F27F8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E822-4A60-4CA2-913D-4784F6B5A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учно – практическая конференция  по эколог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038480" y="35809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«Экология и гидролог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2819160" cy="2719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819160" cy="168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38480" cy="285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4572000" cy="28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4572000" cy="276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257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ым элементом реки является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ечная доли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состоящая из русла, поймы и террас.  Русло реки Меленки изменяется на всем ее протяжении, в верхнем течении оно широкое и глубокое, в среднем течении становится узким, река течет быстрее – по небольшим порожкам, в нижнем течении она углубляется и русло расширяется, на входе в Оку русло превращается в тонкую ниточ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005280" cy="19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070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3097440" cy="2052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Гидрологические показател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29240" cy="3517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4920" y="4952880"/>
            <a:ext cx="4190760" cy="1752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среднем течении ре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5 – 0,30 м., ширина реки в этом мест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 см. Песчаное –чуть заиленное д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тительность только в прибреж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оне. Расход воды = 112,5 кв.с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429000" y="3428640"/>
            <a:ext cx="12952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381240" cy="38124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4952880"/>
            <a:ext cx="3962520" cy="1752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ижнем течении река име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убину0,60 м, ширина реки 1,70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ход воды = 420 кв.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глубина 0,3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238880" y="1980720"/>
            <a:ext cx="2286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1600200"/>
            <a:ext cx="380880" cy="38088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Органолептические свойства воды в реке Меленк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Вода в реке не соответствует требованиям по цветности, так как наблюдается цвет от слабо желтого до желтого, из – за влияния  смыва горных пород с обнажений на склонах оврага, и наличия свалок и мусорных куч по берегам ре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267440" cy="280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057400" cy="1152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108900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Осад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а  в реке отличается наличием осадка, который увеличивается  к нижнему течению, под животноводческой фермой осадок незначительный – характер песчаный, цвет осадка серый. По улице Касимовская объем, осадка увеличивается, становится заметным, его характер изменяется – глинистый и илистый, цвет становится коричне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Мутност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и прозра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а  в реке имеет мутность от слабой до средней. Мутность увеличивается в зависимости от увеличения осадка и цве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атели прозрачности воды  в реке Меленке выше допустимых пределов, но без специальных мер очистки ее   использовать для питья не жел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202520" y="4952880"/>
            <a:ext cx="170352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Гидрохимические показатели качества вод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личина pH природных вод определяется составом пород, слагающих водосборный бассей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,3 - Нейтральные воды, ближе к слабо щелоч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,3 - Слабокислые в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2438640" cy="1771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иологические показате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Результаты оценки биотического  индекса Вудивисса - незначительное загрязнение водоема (3 класс качеств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Результаты оценки Индекса Майера - 11-16 баллов - умеренная загрязненность водоема, 3 класс ка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езультаты экспресс - оценки качества воды в реке по ряск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Наиболее загрязненной оказалась вода в среднем течении реки, по сравнению с нижнем теч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048120" cy="2762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419720" y="4343400"/>
            <a:ext cx="4047840" cy="1028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итогам комплексного обследования реки был составлен экологический паспорт реки Мел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505320" cy="2216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0512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«Определение качества воды в реке Меленке, район села Карачар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Автор: Алена С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3282600">
            <a:off x="1599480" y="137160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rot="7696200">
            <a:off x="6095880" y="1447560"/>
            <a:ext cx="1228680" cy="117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60984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Выводы и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Вода в реке Меленке  умеренно загрязн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Уровень загрязненности средний, поэтому в воде можно купаться, воду можно использовать в бытовых и хозяйственных нуждах, то есть на полив садов и огор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Наличие животных организмов  в воде говорит о том, что естественное самоочищение реки находится на среднем уров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553080" y="4692600"/>
            <a:ext cx="2162160" cy="1917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Необходимо запретить мытье машин около водоема, тем самым исключить загрязнение нефтяными сливами и маслами воду в реке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Ограничить использование удобрений и ядохимикатов на полях и огородах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В целях достижения чистоты воды и оптимальной глубины реки Меленке необходимо ежегодно проводить дноуглубительные работы, очищать реку от бытового мусора, а также не устраивать несанкционированных свалок на берегу реки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86600" y="4987800"/>
            <a:ext cx="1676520" cy="1613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Малые водные объекты — речки, озера, пруды — важная часть нашей малой Родины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24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394080" cy="254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62485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ff"/>
                </a:solidFill>
                <a:latin typeface="Book Antiqua"/>
              </a:rPr>
              <a:t>Малая река</a:t>
            </a: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 — важная часть водного фонда страны. Часто большие реки сравнивают с артериями. Если так, то малые реки — это капилляры. Действительно, их насчитывается в России более 200 тысяч!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809880" cy="285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477120" y="457200"/>
            <a:ext cx="2361960" cy="1697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Наши бессловесные друзь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речки, пруды, озера — начинают болеть: вода становится грязной, мутной, летом она может зацвести. Постепенно угасает жизнь в во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3429000" cy="20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353040" cy="251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Book Antiqua"/>
              </a:rPr>
              <a:t>Цель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олучение информации, связанной с конкретной проблемой состояния водного объекта - реки Меленки и последующее представление этой информации для заинтересованных сторон (общественности, государственных органов), направленное на разработку и принятие мер по улучшению ситу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828800" cy="2629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Задачи работы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. Собрать общие сведения о реке Меле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 Оценить качество воды в реке Меле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1.      Провести химический анализ в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2.      Провести статистическую обработку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3.      Оценить результаты биолог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. Определить  степень загрязнения водоема методом биоинд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4. Составить экологический паспорт ре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238880" y="3581280"/>
            <a:ext cx="152424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Методы и материалы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одика описания маршру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велирование речной до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блюдения за уровнем воды(измерение глубины и ширины реки, измерение скорости и расхода воды в реке, измерение температуры вод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дрохимические наблю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логическая оценка водного объекта(биотический индекс Вудивисса, индекс Майера, метод оценки состояния водоема в проекте RiverWatch, оценка состояния водного объекта по ряск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15200" y="762120"/>
            <a:ext cx="1447920" cy="1314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400800" y="5181480"/>
            <a:ext cx="2124000" cy="1543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Описание реки Мелен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ка Меленка – одна из множества малых рек города Мурома и Муромского района. Протекает река в Меленковском овраге на юге села Карачарово. Река принадлежит бассейну  реки Оки. Начинается в Зворыкинском болоте, расположенном на выезде из города в по направлению на Вербовский. И является одним из основных источников питания О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209680" cy="1969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7-10T09:33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