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27B-75E6-478A-A28D-AB9675AE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11B-0CB8-47BB-868A-3D6E2B57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D507-6956-47C7-B513-4969D44A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2197-1DB9-4586-B9B6-B8A95CBF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C5FB-EE02-40EE-BE53-65812111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6F79-8F6B-471E-8A80-2B686DE5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99FD-42E9-407E-BCFD-AD9EEE08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BCF5-6E82-4B40-A141-B77D9A57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7CCC-6F3E-478E-8F3B-745229FE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654D-3C24-4E5F-A297-E48A0B4F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DD48-CD99-4A70-99C7-C54263E6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591-1C37-41FD-AE58-B71B0E13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1B95-B035-4A4D-937D-EC80ABFF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EC48-E27C-4D37-BCB5-BBF74A70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5060-1EDB-48BF-8F7E-3BB78360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C013-DE11-470F-A118-D96D91A5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887A-6ACB-469C-BF36-2DC15198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4A4D-4898-42EF-87D4-39751902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7842-C92D-4EE8-A947-7D62B647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4724-D3F4-4B09-BBAA-ED88A9D9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CEC2-D690-4F31-8C4A-BDB10C98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9C96-D647-4881-8C54-3C0801E1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85D-BAE0-4573-B840-8B96D260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6B5E-E1D3-4D29-B728-7E0113C0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10045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40052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5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808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38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f0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4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71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41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b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a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1717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3D61-A434-49EA-A6F6-4DEBD2F10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10045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40052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5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808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38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f0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4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71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8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41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3e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2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6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5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3b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50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a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1717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B40D-A85A-4241-8307-F1E623C20C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Arial"/>
              </a:rPr>
              <a:t>Почему вредно разговаривать долго по сотовому телефону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214360" y="5572080"/>
            <a:ext cx="65451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ект  ученика  4 «Б»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ужаназарова Саш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6" descr="слайд1"/>
          <p:cNvPicPr/>
          <p:nvPr/>
        </p:nvPicPr>
        <p:blipFill>
          <a:blip r:embed="rId1"/>
          <a:stretch/>
        </p:blipFill>
        <p:spPr>
          <a:xfrm>
            <a:off x="4645080" y="2116080"/>
            <a:ext cx="4038480" cy="284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слайд3"/>
          <p:cNvPicPr/>
          <p:nvPr/>
        </p:nvPicPr>
        <p:blipFill>
          <a:blip r:embed="rId2"/>
          <a:stretch/>
        </p:blipFill>
        <p:spPr>
          <a:xfrm>
            <a:off x="1173240" y="1600200"/>
            <a:ext cx="260964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42920" y="620640"/>
            <a:ext cx="4038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SzPct val="1289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Когда вы набираете номер и начинаете звонить, ну, или вам кто-нибудь звонит, то ваш аппарат по радиоканалу связывается с одной из антенн ближайшей базовой станции, а эта станция по приемо-передающим антеннам, направленных в разные стороны, обеспечивает связь абонентов со всех сторон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язь эта осуществляется по электромагнитным волн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8" descr="слайд5-принцип работы сот"/>
          <p:cNvPicPr/>
          <p:nvPr/>
        </p:nvPicPr>
        <p:blipFill>
          <a:blip r:embed="rId3"/>
          <a:stretch/>
        </p:blipFill>
        <p:spPr>
          <a:xfrm>
            <a:off x="971640" y="549360"/>
            <a:ext cx="3591000" cy="2466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001_mobil3"/>
          <p:cNvPicPr/>
          <p:nvPr/>
        </p:nvPicPr>
        <p:blipFill>
          <a:blip r:embed="rId4"/>
          <a:stretch/>
        </p:blipFill>
        <p:spPr>
          <a:xfrm>
            <a:off x="755640" y="3573360"/>
            <a:ext cx="341640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ловек, используя мобильный телефон, вынужден находиться в непосредственной близости от не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ответственно он находится под воздействием этих электромагнитных излуч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7" descr="слайд16"/>
          <p:cNvPicPr/>
          <p:nvPr/>
        </p:nvPicPr>
        <p:blipFill>
          <a:blip r:embed="rId3"/>
          <a:stretch/>
        </p:blipFill>
        <p:spPr>
          <a:xfrm>
            <a:off x="2411280" y="3573360"/>
            <a:ext cx="4248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Влияние  сотовой связи  на  человека изучали  врачи, учёные, исследовател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И вот что они установил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воздействие сигналов мобильного телефона в течение всего 5 минут заставляет клетки человека делиться, что может привести к такой страшной болезни, как ра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859280" y="549360"/>
            <a:ext cx="39672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SzPct val="141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Исследователи заявляют о том, что постоянное использование мобильных телефонов детьми может плохо сказаться на их здоровье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ызывая неврозы, головные боли, потерю памяти и нарушения сн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12" descr="слайд4"/>
          <p:cNvPicPr/>
          <p:nvPr/>
        </p:nvPicPr>
        <p:blipFill>
          <a:blip r:embed="rId4"/>
          <a:stretch/>
        </p:blipFill>
        <p:spPr>
          <a:xfrm>
            <a:off x="4859280" y="3860640"/>
            <a:ext cx="39434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Схема влияния излучения</a:t>
            </a:r>
            <a:br>
              <a:rPr sz="4000"/>
            </a:b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 на мозг человека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десь очень наглядно видно, что для детей опасность излучения гораздо силь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 тоже доказано опытным путём учёны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13" descr="влияние тлф на мозг"/>
          <p:cNvPicPr/>
          <p:nvPr/>
        </p:nvPicPr>
        <p:blipFill>
          <a:blip r:embed="rId3"/>
          <a:stretch/>
        </p:blipFill>
        <p:spPr>
          <a:xfrm>
            <a:off x="4643280" y="1628640"/>
            <a:ext cx="4176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850920" y="620640"/>
            <a:ext cx="48308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Мнению уважаемых людей, конечно, нужно доверять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SzPct val="1022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Но я сам решил поставить опыт и лично убедиться, действительно ли существует это излучение, и правда ли, что оно может влиять на живые организмы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7" descr="слайд14-принцип работы сот"/>
          <p:cNvPicPr/>
          <p:nvPr/>
        </p:nvPicPr>
        <p:blipFill>
          <a:blip r:embed="rId3"/>
          <a:stretch/>
        </p:blipFill>
        <p:spPr>
          <a:xfrm>
            <a:off x="903240" y="1841400"/>
            <a:ext cx="24447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755640" y="476280"/>
            <a:ext cx="8013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Для этого я взял семена пшеницы, два одноразовых стаканчика, насыпал в оба одинаковое количество семян, залил водо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Затем один стаканчик с семенами поставил рядом с подставкой для телефона, где почти всегда стоит и работает сотовый телефон, а другой на расстоянии 5 метров от телефона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7" descr="слайд15-пшеница"/>
          <p:cNvPicPr/>
          <p:nvPr/>
        </p:nvPicPr>
        <p:blipFill>
          <a:blip r:embed="rId3"/>
          <a:stretch/>
        </p:blipFill>
        <p:spPr>
          <a:xfrm>
            <a:off x="1547640" y="2781360"/>
            <a:ext cx="6121440" cy="21160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826920" y="5013360"/>
            <a:ext cx="777744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Через неделю результат меня удивил!   Что получилось – посмотрите на фотографию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СЛЕВА – ОБЛУЧЕННЫЕ СЕМЕНА,  СПРАВА – НЕОБЛУЧЕННЫЕ!!!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Еще несколько фотографий результатов опыта: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201" name="Содержимое 8" descr="DSC01636.JPG"/>
          <p:cNvPicPr/>
          <p:nvPr/>
        </p:nvPicPr>
        <p:blipFill>
          <a:blip r:embed="rId1"/>
          <a:stretch/>
        </p:blipFill>
        <p:spPr>
          <a:xfrm>
            <a:off x="142920" y="1500120"/>
            <a:ext cx="5214960" cy="5143680"/>
          </a:xfrm>
          <a:prstGeom prst="rect">
            <a:avLst/>
          </a:prstGeom>
          <a:ln w="0">
            <a:noFill/>
          </a:ln>
        </p:spPr>
      </p:pic>
      <p:pic>
        <p:nvPicPr>
          <p:cNvPr id="202" name="Содержимое 9" descr="DSC01634.JPG"/>
          <p:cNvPicPr/>
          <p:nvPr/>
        </p:nvPicPr>
        <p:blipFill>
          <a:blip r:embed="rId2"/>
          <a:stretch/>
        </p:blipFill>
        <p:spPr>
          <a:xfrm>
            <a:off x="5500800" y="1428840"/>
            <a:ext cx="3500280" cy="3043080"/>
          </a:xfrm>
          <a:prstGeom prst="rect">
            <a:avLst/>
          </a:prstGeom>
          <a:ln w="0">
            <a:noFill/>
          </a:ln>
        </p:spPr>
      </p:pic>
      <p:pic>
        <p:nvPicPr>
          <p:cNvPr id="203" name="Содержимое 10" descr="DSC01635.JPG"/>
          <p:cNvPicPr/>
          <p:nvPr/>
        </p:nvPicPr>
        <p:blipFill>
          <a:blip r:embed="rId3"/>
          <a:stretch/>
        </p:blipFill>
        <p:spPr>
          <a:xfrm>
            <a:off x="5572080" y="4714920"/>
            <a:ext cx="3286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81579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ccff"/>
                </a:solidFill>
                <a:uFillTx/>
                <a:latin typeface="Arial"/>
              </a:rPr>
              <a:t>В Ы В О Д :</a:t>
            </a:r>
            <a:br>
              <a:rPr sz="2800"/>
            </a:b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Изучив информацию и проведя опыт,</a:t>
            </a:r>
            <a:br>
              <a:rPr sz="2800"/>
            </a:b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 я уже не сомневаюсь во вредности излучения сотового телефона!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28760" y="371484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Буду следовать советам врачей, учёных и исследователей, а также другим ребятам могу посоветовать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- старайтесь реже пользоваться сотовым телефоном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- не разговаривать более 3 минут подряд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- не носить телефон рядом с сердцем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- не оставлять на ночь рядом с головой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- использовать наушники или гарнитуру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buSzPct val="141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А самое главное – не забывать, что личное общение с друзьями телефон никогда не заменит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7" descr="слайд12-не разговаривай долго"/>
          <p:cNvPicPr/>
          <p:nvPr/>
        </p:nvPicPr>
        <p:blipFill>
          <a:blip r:embed="rId8"/>
          <a:stretch/>
        </p:blipFill>
        <p:spPr>
          <a:xfrm>
            <a:off x="2000160" y="1857240"/>
            <a:ext cx="504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И С Т О Ч Н И К И :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Л.В. Яковлев «Большая энциклопедия знаний школьника», 2009г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Ю.Н. Касаткина «Все о технике. Новая иллюстрированная детская энциклопедия», 2009г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Н.Надеждин «Подробно о сотовых телефонах», 2004г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А. Инджиев «Ваш мобильный телефон», 2007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А.Н.Стожаров «Медицинская экология» : Учеб. пособие для вузов 2007г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. Интернет источ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Т Е М А :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товый телеф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реден ли он для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Ц Е Л Ь : 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знать, вредно ли долго разговарива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 сотовому телефо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З А Д А Ч И :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Познакомиться с принципом работы сотового телеф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Изучить мнения ученых о вредности влияния сотового телеф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Исследовать влияние излучения сотового телефона на мозг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Провести опыт  по изучению влияния электровол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Г И П О Т Е З А :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умаю, что долго разговаривать п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товому телефону опасно для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П Л А Н   Р А Б О Т Ы :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Определение те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Сбор информации и её обработ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Оформление презент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Выступление на конкурс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Самоанализ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МЕТОДЫ  ИССЛЕДОВАНИЯ: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Чтение и изучение литературы по данной тем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Изучение публикаций и статей в интернет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оведение практического опы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4920" y="475920"/>
            <a:ext cx="4321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SzPct val="141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егодня сотовые телефоны можно встретить практически у любого человека. Существует множество моделей различных производителей. Без них трудно представить современную жизнь. Дети тоже с раннего возраста пользуются сотовыми телефонами – они разговаривают, играют в игры, слушают музыку, пишут смс-ки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41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560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НО ТАК ЛИ БЕЗОПАСНА ЭТА СОТОВАЯ СВЯЗЬ ДЛЯ ЧЕЛОВЕКА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8" descr="слайд2"/>
          <p:cNvPicPr/>
          <p:nvPr/>
        </p:nvPicPr>
        <p:blipFill>
          <a:blip r:embed="rId4"/>
          <a:stretch/>
        </p:blipFill>
        <p:spPr>
          <a:xfrm>
            <a:off x="4951440" y="907920"/>
            <a:ext cx="3709800" cy="2473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слайд13-дети с сотовым"/>
          <p:cNvPicPr/>
          <p:nvPr/>
        </p:nvPicPr>
        <p:blipFill>
          <a:blip r:embed="rId5"/>
          <a:stretch/>
        </p:blipFill>
        <p:spPr>
          <a:xfrm>
            <a:off x="4994280" y="3789360"/>
            <a:ext cx="3483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Рассмотрим что же такое телефон и как он работает.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товые телефоны представляют собой устройство, сочетающее в себе приёмник и передатчик радиосигнала. Различные аппараты работают по абсолютно одинаковому принципу – они являются излучателями электромагнитных вол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7" descr="слайд14- титульный лист"/>
          <p:cNvPicPr/>
          <p:nvPr/>
        </p:nvPicPr>
        <p:blipFill>
          <a:blip r:embed="rId2"/>
          <a:stretch/>
        </p:blipFill>
        <p:spPr>
          <a:xfrm>
            <a:off x="1619280" y="3860640"/>
            <a:ext cx="59054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0:21:12Z</dcterms:created>
  <dc:creator>ИРИНА</dc:creator>
  <dc:description/>
  <dc:language>en-US</dc:language>
  <cp:lastModifiedBy>Asus1</cp:lastModifiedBy>
  <dcterms:modified xsi:type="dcterms:W3CDTF">2010-04-09T08:21:03Z</dcterms:modified>
  <cp:revision>46</cp:revision>
  <dc:subject/>
  <dc:title>Почему вредно разговаривать долго по сотовому телефону</dc:title>
</cp:coreProperties>
</file>