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5D4-AE83-4298-868C-CA5DC323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F18-BD37-4E2D-9057-94987F32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E60-65CB-45BA-830E-16ECE88F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04E-6E5B-4AAA-B9FB-48F66FC4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DA2A-E814-426F-B74F-FF4B015D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D4BE-584B-433F-8FF8-DD9D7E9C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6C88-F45E-4572-A299-BC0B9638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256D-DB94-4D8A-9799-B4170C38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48CE-88A4-457B-A0F5-0D55013C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E2BA-633E-4E81-A050-3EE5A6DA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8B10-1AF7-45F0-8253-44CA827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A69-D14A-46B8-9BE4-88231AA3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9945-8ACA-4B40-BE5D-8D2CE09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A44A-DA52-4515-90D8-95C8207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70D1-DCE4-4596-BF79-F3C2A928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92A1-4961-4508-849C-3C47BDD9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65C2-7349-458D-B4B2-8BF7B113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32D-50AF-4515-AE0E-E1B5C95B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231-674A-41C5-A07C-1E2EF80D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9F1-5B59-4866-8922-8E1B1724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4A4-8F2E-4CC7-AC50-D76E8406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B13-9232-47AA-9D74-1D32C585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C55-90E7-4397-BB2B-EBF99004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BD6-C171-4B3F-B3DC-8B255CE5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814C-F241-4122-B86D-43CBFE869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6D18-903B-47D2-AC38-F55B2A7078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Почему вредно разговаривать долго по сотовому телефону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14360" y="5572080"/>
            <a:ext cx="65451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т  ученика  4 «Б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жаназарова Са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слайд1"/>
          <p:cNvPicPr/>
          <p:nvPr/>
        </p:nvPicPr>
        <p:blipFill>
          <a:blip r:embed="rId1"/>
          <a:stretch/>
        </p:blipFill>
        <p:spPr>
          <a:xfrm>
            <a:off x="4645080" y="2116080"/>
            <a:ext cx="4038480" cy="284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слайд3"/>
          <p:cNvPicPr/>
          <p:nvPr/>
        </p:nvPicPr>
        <p:blipFill>
          <a:blip r:embed="rId2"/>
          <a:stretch/>
        </p:blipFill>
        <p:spPr>
          <a:xfrm>
            <a:off x="1173240" y="1600200"/>
            <a:ext cx="26096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2920" y="620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Когда вы набираете номер и начинаете звонить, ну, или вам кто-нибудь звонит, то ваш аппарат по радиоканалу связывается с одной из антенн ближайшей базовой станции, а эта станция по приемо-передающим антеннам, направленных в разные стороны, обеспечивает связь абонентов со всех сторон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язь эта осуществляется по электромагнитным вол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слайд5-принцип работы сот"/>
          <p:cNvPicPr/>
          <p:nvPr/>
        </p:nvPicPr>
        <p:blipFill>
          <a:blip r:embed="rId3"/>
          <a:stretch/>
        </p:blipFill>
        <p:spPr>
          <a:xfrm>
            <a:off x="971640" y="549360"/>
            <a:ext cx="3591000" cy="246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001_mobil3"/>
          <p:cNvPicPr/>
          <p:nvPr/>
        </p:nvPicPr>
        <p:blipFill>
          <a:blip r:embed="rId4"/>
          <a:stretch/>
        </p:blipFill>
        <p:spPr>
          <a:xfrm>
            <a:off x="755640" y="3573360"/>
            <a:ext cx="34164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, используя мобильный телефон, вынужден находиться в непосредственной близости от н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тветственно он находится под воздействием этих электромагнитных излуч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слайд16"/>
          <p:cNvPicPr/>
          <p:nvPr/>
        </p:nvPicPr>
        <p:blipFill>
          <a:blip r:embed="rId3"/>
          <a:stretch/>
        </p:blipFill>
        <p:spPr>
          <a:xfrm>
            <a:off x="2411280" y="3573360"/>
            <a:ext cx="424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Влияние  сотовой связи  на  человека изучали  врачи, учёные, исследовател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И вот что они установил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здействие сигналов мобильного телефона в течение всего 5 минут заставляет клетки человека делиться, что может привести к такой страшной болезни, как р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859280" y="549360"/>
            <a:ext cx="39672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SzPct val="141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сследователи заявляют о том, что постоянное использование мобильных телефонов детьми может плохо сказаться на их здоровье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зывая неврозы, головные боли, потерю памяти и нарушения с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2" descr="слайд4"/>
          <p:cNvPicPr/>
          <p:nvPr/>
        </p:nvPicPr>
        <p:blipFill>
          <a:blip r:embed="rId4"/>
          <a:stretch/>
        </p:blipFill>
        <p:spPr>
          <a:xfrm>
            <a:off x="4859280" y="3860640"/>
            <a:ext cx="39434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Схема влияния излучения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 на мозг человека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есь очень наглядно видно, что для детей опасность излучения гораздо силь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тоже доказано опытным путём учён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3" descr="влияние тлф на мозг"/>
          <p:cNvPicPr/>
          <p:nvPr/>
        </p:nvPicPr>
        <p:blipFill>
          <a:blip r:embed="rId3"/>
          <a:stretch/>
        </p:blipFill>
        <p:spPr>
          <a:xfrm>
            <a:off x="4643280" y="1628640"/>
            <a:ext cx="41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850920" y="620640"/>
            <a:ext cx="48308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нению уважаемых людей, конечно, нужно доверять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SzPct val="1022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Но я сам решил поставить опыт и лично убедиться, действительно ли существует это излучение, и правда ли, что оно может влиять на живые организмы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" descr="слайд14-принцип работы сот"/>
          <p:cNvPicPr/>
          <p:nvPr/>
        </p:nvPicPr>
        <p:blipFill>
          <a:blip r:embed="rId3"/>
          <a:stretch/>
        </p:blipFill>
        <p:spPr>
          <a:xfrm>
            <a:off x="903240" y="1841400"/>
            <a:ext cx="24447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8013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Для этого я взял семена пшеницы, два одноразовых стаканчика, насыпал в оба одинаковое количество семян, залил водо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Затем один стаканчик с семенами поставил рядом с подставкой для телефона, где почти всегда стоит и работает сотовый телефон, а другой на расстоянии 5 метров от телефон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слайд15-пшеница"/>
          <p:cNvPicPr/>
          <p:nvPr/>
        </p:nvPicPr>
        <p:blipFill>
          <a:blip r:embed="rId3"/>
          <a:stretch/>
        </p:blipFill>
        <p:spPr>
          <a:xfrm>
            <a:off x="1547640" y="2781360"/>
            <a:ext cx="6121440" cy="2116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826920" y="5013360"/>
            <a:ext cx="777744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Через неделю результат меня удивил!   Что получилось – посмотрите на фотографию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СЛЕВА – ОБЛУЧЕННЫЕ СЕМЕНА,  СПРАВА – НЕОБЛУЧЕННЫЕ!!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Еще несколько фотографий результатов опыта: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201" name="Содержимое 8" descr="DSC01636.JPG"/>
          <p:cNvPicPr/>
          <p:nvPr/>
        </p:nvPicPr>
        <p:blipFill>
          <a:blip r:embed="rId1"/>
          <a:stretch/>
        </p:blipFill>
        <p:spPr>
          <a:xfrm>
            <a:off x="142920" y="1500120"/>
            <a:ext cx="521496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9" descr="DSC01634.JPG"/>
          <p:cNvPicPr/>
          <p:nvPr/>
        </p:nvPicPr>
        <p:blipFill>
          <a:blip r:embed="rId2"/>
          <a:stretch/>
        </p:blipFill>
        <p:spPr>
          <a:xfrm>
            <a:off x="5500800" y="1428840"/>
            <a:ext cx="3500280" cy="304308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10" descr="DSC01635.JPG"/>
          <p:cNvPicPr/>
          <p:nvPr/>
        </p:nvPicPr>
        <p:blipFill>
          <a:blip r:embed="rId3"/>
          <a:stretch/>
        </p:blipFill>
        <p:spPr>
          <a:xfrm>
            <a:off x="5572080" y="4714920"/>
            <a:ext cx="3286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1579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В Ы В О Д :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Изучив информацию и проведя опыт,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я уже не сомневаюсь во вредности излучения сотового телефона!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8760" y="371484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Буду следовать советам врачей, учёных и исследователей, а также другим ребятам могу посоветовать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старайтесь реже пользоваться сотовым телефоном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не разговаривать более 3 минут подряд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не носить телефон рядом с сердцем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не оставлять на ночь рядом с голов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использовать наушники или гарнитур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А самое главное – не забывать, что личное общение с друзьями телефон никогда не заменит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слайд12-не разговаривай долго"/>
          <p:cNvPicPr/>
          <p:nvPr/>
        </p:nvPicPr>
        <p:blipFill>
          <a:blip r:embed="rId8"/>
          <a:stretch/>
        </p:blipFill>
        <p:spPr>
          <a:xfrm>
            <a:off x="2000160" y="1857240"/>
            <a:ext cx="504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И С Т О Ч Н И К И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Л.В. Яковлев «Большая энциклопедия знаний школьника», 2009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Ю.Н. Касаткина «Все о технике. Новая иллюстрированная детская энциклопедия», 2009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Н.Надеждин «Подробно о сотовых телефонах», 2004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А. Инджиев «Ваш мобильный телефон», 2007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А.Н.Стожаров «Медицинская экология» : Учеб. пособие для вузов 2007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Интернет источ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Т Е М А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товый телеф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ден ли он для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Ц Е Л Ь : 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, вредно ли долго разговарив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сотовому телеф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З А Д А Ч И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знакомиться с принципом работы сотового телеф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Изучить мнения ученых о вредности влияния сотового телеф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Исследовать влияние излучения сотового телефона на мозг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овести опыт  по изучению влияния электровол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Г И П О Т Е З А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умаю, что долго разговаривать п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товому телефону опасно для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П Л А Н   Р А Б О Т Ы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Определение 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Сбор информации и её обрабо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Оформление презент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Выступление на конкур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Самоанали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МЕТОДЫ  ИССЛЕДОВАНИЯ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Чтение и изучение литературы по данной тем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Изучение публикаций и статей в интерне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ведение практического оп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475920"/>
            <a:ext cx="4321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егодня сотовые телефоны можно встретить практически у любого человека. Существует множество моделей различных производителей. Без них трудно представить современную жизнь. Дети тоже с раннего возраста пользуются сотовыми телефонами – они разговаривают, играют в игры, слушают музыку, пишут смс-к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560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НО ТАК ЛИ БЕЗОПАСНА ЭТА СОТОВАЯ СВЯЗЬ ДЛЯ ЧЕЛОВЕК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слайд2"/>
          <p:cNvPicPr/>
          <p:nvPr/>
        </p:nvPicPr>
        <p:blipFill>
          <a:blip r:embed="rId4"/>
          <a:stretch/>
        </p:blipFill>
        <p:spPr>
          <a:xfrm>
            <a:off x="4951440" y="907920"/>
            <a:ext cx="3709800" cy="247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слайд13-дети с сотовым"/>
          <p:cNvPicPr/>
          <p:nvPr/>
        </p:nvPicPr>
        <p:blipFill>
          <a:blip r:embed="rId5"/>
          <a:stretch/>
        </p:blipFill>
        <p:spPr>
          <a:xfrm>
            <a:off x="4994280" y="3789360"/>
            <a:ext cx="3483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Рассмотрим что же такое телефон и как он работает.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товые телефоны представляют собой устройство, сочетающее в себе приёмник и передатчик радиосигнала. Различные аппараты работают по абсолютно одинаковому принципу – они являются излучателями электромагнитных вол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слайд14- титульный лист"/>
          <p:cNvPicPr/>
          <p:nvPr/>
        </p:nvPicPr>
        <p:blipFill>
          <a:blip r:embed="rId2"/>
          <a:stretch/>
        </p:blipFill>
        <p:spPr>
          <a:xfrm>
            <a:off x="1619280" y="3860640"/>
            <a:ext cx="5905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0:21:12Z</dcterms:created>
  <dc:creator>ИРИНА</dc:creator>
  <dc:description/>
  <dc:language>en-US</dc:language>
  <cp:lastModifiedBy>Asus1</cp:lastModifiedBy>
  <dcterms:modified xsi:type="dcterms:W3CDTF">2010-04-09T08:21:03Z</dcterms:modified>
  <cp:revision>46</cp:revision>
  <dc:subject/>
  <dc:title>Почему вредно разговаривать долго по сотовому телефону</dc:title>
</cp:coreProperties>
</file>