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21.gif" ContentType="image/gif"/>
  <Override PartName="/ppt/media/image6.jpeg" ContentType="image/jpeg"/>
  <Override PartName="/ppt/media/image20.gif" ContentType="image/gif"/>
  <Override PartName="/ppt/media/image18.jpeg" ContentType="image/jpeg"/>
  <Override PartName="/ppt/media/image3.gif" ContentType="image/gif"/>
  <Override PartName="/ppt/media/image19.jpeg" ContentType="image/jpeg"/>
  <Override PartName="/ppt/media/image4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4DA-C4BF-43E9-9A53-2385D193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08F-D3C9-48CD-893D-C5490498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7D4-EFBC-4FE6-8DE2-690F53D8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31C-0066-459E-BD01-50A7616B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7564-BB46-4ABB-837D-98F8927A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3333-8EE1-4D76-A539-A648051F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10FC-B5AC-4CF1-97A0-F9F1E5E7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D8B3-B75F-440C-A1F5-3121BEA4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6A65-E4D3-4713-9019-B340045D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9A72-4625-4F57-A6AB-0E5A04F8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8123-EBF1-4880-9CED-3DFBC05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331-9836-4EA7-80A3-C7C40820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2C30-FAC4-47F0-8A24-157017B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B42E-F430-4D56-81AD-44A0648B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9157-AD3A-4574-99CC-7246531E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E1F3-AFA7-4034-9F5A-16FF7D37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2893-E60C-4D38-8A82-28C585ED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02C09-B590-4872-AEAB-19287179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13CAA-D21D-4C89-9D92-2505B10A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3EB54-BED0-4E60-AB01-BCD9726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DE9E-2C47-480C-81AE-F248AB88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48D2-8ACD-4885-B19B-E9622BE1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032-A88A-45F1-8DB6-3881E77D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9805-3BD9-4979-A11D-8164FEA6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AE83C-851F-47E3-8F69-1E1004CD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13D0-31F9-4272-A6EB-86D6E54F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6E8A1-580E-4343-A26D-012C1B2E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E064-5C80-4984-8F9A-4CB7A013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094D0-322E-4CD8-A519-28BA7355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D422-A4C5-49B5-A711-7CBF4EE1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AB07-E0C8-4829-8EEA-7746FD7A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219A7-1851-425D-8B6C-202C4B4C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DE63E-35C4-4184-BB6C-F1D0BB87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568-E726-4124-88C0-2D7A88E0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031A6-35DD-4705-913E-E9FD3CF4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87178-D90F-4E07-AA91-6D66AB0E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1AC6B-402F-48D3-9B29-4F58FEB0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CCD6C-4A79-49D5-9412-4A4247BC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4DFD-C3A7-4F20-9292-8D711543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9C3B-AA88-4881-BAA7-B5595D99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370AE-AADB-4DED-A45F-AFA80419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EF74C-C71D-4250-A752-8DF17950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0A6C-FC6D-4F46-ABEE-900E7CCA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67A-B7F0-4E22-9367-F903131B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0F1-90E0-4977-8E60-F957B29D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C0D-8383-492C-857F-C84CE783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8D4-DD8F-46BE-B54A-B75ABB69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C11-4989-4586-84F9-FEAAB14C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ED84-FDDB-4DF2-9975-C3E82D4357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CCC7-DCA2-48F8-A0D8-264C0EBB76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129D-6CB6-4640-AA7C-05504622FC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F168-EF08-4023-81CB-24AE0FD006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21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33&amp;text=&#1057;&#1087;&#1091;&#1090;&#1085;&#1080;&#1082;%20%22&#1052;&#1086;&#1083;&#1085;&#1080;&#1103;%22&amp;rpt=simag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yandex.ru/yandpage?&amp;p=23&amp;text=&#1057;&#1087;&#1091;&#1090;&#1085;&#1080;&#1082;%20%22&#1052;&#1086;&#1083;&#1085;&#1080;&#1103;%22&amp;rpt=simage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yandex.ru/yandpage?&amp;p=203&amp;text=&#1050;&#1086;&#1089;&#1084;&#1080;&#1095;&#1077;&#1089;&#1082;&#1080;&#1077;%20&#1082;&#1086;&#1088;&#1072;&#1073;&#1083;&#1080;&amp;rpt=simage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9.jpeg"/><Relationship Id="rId8" Type="http://schemas.openxmlformats.org/officeDocument/2006/relationships/image" Target="../media/image8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62360" y="736560"/>
            <a:ext cx="4481640" cy="612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Первый в мире искусственный спутник Земли"/>
          <p:cNvPicPr/>
          <p:nvPr/>
        </p:nvPicPr>
        <p:blipFill>
          <a:blip r:embed="rId2"/>
          <a:stretch/>
        </p:blipFill>
        <p:spPr>
          <a:xfrm>
            <a:off x="539640" y="2708280"/>
            <a:ext cx="1619280" cy="1327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755640" y="404640"/>
            <a:ext cx="792180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0 лет со дня запус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ервого совет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пут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403280" y="3645000"/>
            <a:ext cx="2592360" cy="2454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 rot="505800">
            <a:off x="0" y="4797000"/>
            <a:ext cx="7951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 октября 1957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340000" y="2421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3995640" y="1052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908000" y="54936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84360" y="1268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3708360" y="314172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995640" cy="5040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5111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еты всегда поражали воображение людей. В древности их изображали в виде отрубленных голов с развевающимися волосами. Видимо, по этому слово «комета» переводится как «волосатая звезда». Обитая  на окраинах Вселенной, они, словно в холодильнике, сохранили свое первозданное состояние. Вот почему к комете Галлея, которая приближается к Земле раз в 76 лет, отправились советские автоматические станции «Вега». Они-то и передали впервые изображение ядра ком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годня тысячи спутников бороздят небо над Землёй и все они несут свою служб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11280" y="333360"/>
            <a:ext cx="69627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втоматическая станция «Вег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 rot="21025800">
            <a:off x="5435280" y="620640"/>
            <a:ext cx="4033800" cy="2654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1619280" y="5445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68360" y="5373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2987640" y="53737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tretch/>
        </p:blipFill>
        <p:spPr>
          <a:xfrm>
            <a:off x="7740720" y="333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7885080" y="2060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5580000" y="47242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0"/>
          <a:stretch/>
        </p:blipFill>
        <p:spPr>
          <a:xfrm>
            <a:off x="5148360" y="1989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1"/>
          <a:stretch/>
        </p:blipFill>
        <p:spPr>
          <a:xfrm>
            <a:off x="395280" y="33336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076720" y="189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87708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6372360" y="2637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4932360" y="3284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2987640" y="29242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tretch/>
        </p:blipFill>
        <p:spPr>
          <a:xfrm>
            <a:off x="539640" y="4046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3492360" y="53737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5580000" y="5157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0" y="1413000"/>
            <a:ext cx="7596360" cy="5445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2"/>
          <a:stretch/>
        </p:blipFill>
        <p:spPr>
          <a:xfrm>
            <a:off x="6516720" y="4076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3"/>
          <a:stretch/>
        </p:blipFill>
        <p:spPr>
          <a:xfrm>
            <a:off x="7667640" y="2924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4"/>
          <a:stretch/>
        </p:blipFill>
        <p:spPr>
          <a:xfrm>
            <a:off x="5508720" y="1700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5"/>
          <a:stretch/>
        </p:blipFill>
        <p:spPr>
          <a:xfrm>
            <a:off x="3419640" y="1773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6"/>
          <a:stretch/>
        </p:blipFill>
        <p:spPr>
          <a:xfrm>
            <a:off x="971640" y="1989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7"/>
          <a:stretch/>
        </p:blipFill>
        <p:spPr>
          <a:xfrm>
            <a:off x="250920" y="4221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8"/>
          <a:stretch/>
        </p:blipFill>
        <p:spPr>
          <a:xfrm>
            <a:off x="2268360" y="3284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9"/>
          <a:stretch/>
        </p:blipFill>
        <p:spPr>
          <a:xfrm>
            <a:off x="3924360" y="551664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0"/>
          <a:stretch/>
        </p:blipFill>
        <p:spPr>
          <a:xfrm>
            <a:off x="684360" y="508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1"/>
          <a:stretch/>
        </p:blipFill>
        <p:spPr>
          <a:xfrm>
            <a:off x="7236000" y="5229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2"/>
          <a:stretch/>
        </p:blipFill>
        <p:spPr>
          <a:xfrm>
            <a:off x="4068720" y="35020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3"/>
          <a:stretch/>
        </p:blipFill>
        <p:spPr>
          <a:xfrm>
            <a:off x="7956720" y="98100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Первый в мире искусственный спутник Земли"/>
          <p:cNvPicPr/>
          <p:nvPr/>
        </p:nvPicPr>
        <p:blipFill>
          <a:blip r:embed="rId1"/>
          <a:stretch/>
        </p:blipFill>
        <p:spPr>
          <a:xfrm>
            <a:off x="250920" y="404640"/>
            <a:ext cx="6769080" cy="5551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58920" y="3494520"/>
            <a:ext cx="630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утник-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первый искусственный спутник Земли, был запущен на орбиту вокруг Земли в ССС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октября 1957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довое обозначение спутника —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-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Простейший Спутник-1). Запуск осуществлялся с 5-го научно-исследовательского полигона министерства обороны СССР «Тюра-Там» (получившего впоследствии название космодром Байконур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40000" y="404640"/>
            <a:ext cx="417528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вый космиче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путник Зем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835280" y="692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067280" y="40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6084720" y="4762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7667640" y="1413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7596360" y="3141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4859280" y="34290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2987640" y="3068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0"/>
          <a:stretch/>
        </p:blipFill>
        <p:spPr>
          <a:xfrm>
            <a:off x="1042920" y="28526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1"/>
          <a:stretch/>
        </p:blipFill>
        <p:spPr>
          <a:xfrm>
            <a:off x="611280" y="4724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2700360" y="4797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>
            <a:off x="5364000" y="47973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4"/>
          <a:stretch/>
        </p:blipFill>
        <p:spPr>
          <a:xfrm>
            <a:off x="7093080" y="458136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30680" cy="6249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092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2f5d"/>
                </a:solidFill>
                <a:latin typeface="Arial"/>
              </a:rPr>
              <a:t>Устройство спут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1557000"/>
            <a:ext cx="4125960" cy="48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пус спутника состоял из двух полуоболочек со стыковочными шпангоутами, соединёнными между собой 36 болтами. Внешне спутник выглядел как сфера, диаметром полметра, с четырьмя антеннами. На нём были установлены 2 радиопередатчика с источниками п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45160" y="0"/>
            <a:ext cx="4398840" cy="65977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24360" y="1989000"/>
            <a:ext cx="63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честь запуска первого спутник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Москве на проспекте Ми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 1964 году  возле станции метро ВДНХ был  сооружен 99-метров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елиск «Покорителям космос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виде взлетающей раке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тавляющей за соб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гненный шлей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564600">
            <a:off x="179280" y="333360"/>
            <a:ext cx="705672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63000"/>
                  </a:srgbClr>
                </a:solidFill>
                <a:latin typeface="Arial"/>
              </a:rPr>
              <a:t>"покорители космос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63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050560" y="1628640"/>
            <a:ext cx="70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ёту первого спутника предшествовала титаническая работа советских ракетных конструкторов во главе с Сергеем Королё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 августа 1957 осуществился второй успешный запуск. Через 6 дней ТАСС сообщило о создании в СССР межконтинентальной баллистической ракеты и 4 октября 1957 года был запущен первый космический спутник Земли. С тех пор спутники находятся на служб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765000"/>
            <a:ext cx="575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d12f5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стория запус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d12f5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аши связ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4859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ы привыкли к телевизору и не задумываемся над тем, каким образом на экране возникает изобра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что если поставить антенну на спутник? И вот появился такой спутник, который назвали «Молнией». С высоты его полета видна чуть ли не половина Земли. Посылает главная телебашня свои сигналы на спутник - он их принимает, усиливает и отправляет обратно на Землю. Вслед за «Молнией» появились и другие спутники: «Радуга», «Экран», «Горизонт». Они помогают людям не только смотреть телепередачи, но и вести телефонные переговоры, посылать и получать телеграм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наше время для моряков созданы специальные спутники, их называют навигационные. Навигационные спутники, летая вокруг Земли, непрерывно посылают сигналы. Штурман включает специально устройство, которое по сигналу спутника с помощью электронно-вычислитеньной машины рассчитывает, где находится корабль. По этим данным штурман определяет, куда плыть дальше и когда корабль прибудет в пор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i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941720"/>
            <a:ext cx="1963800" cy="1660680"/>
          </a:xfrm>
          <a:prstGeom prst="rect">
            <a:avLst/>
          </a:prstGeom>
          <a:ln w="0">
            <a:noFill/>
          </a:ln>
        </p:spPr>
      </p:pic>
      <p:pic>
        <p:nvPicPr>
          <p:cNvPr id="226" name="i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125360"/>
            <a:ext cx="1009800" cy="905040"/>
          </a:xfrm>
          <a:prstGeom prst="rect">
            <a:avLst/>
          </a:prstGeom>
          <a:ln w="0">
            <a:noFill/>
          </a:ln>
        </p:spPr>
      </p:pic>
      <p:pic>
        <p:nvPicPr>
          <p:cNvPr id="227" name="i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8360" y="2233440"/>
            <a:ext cx="3527280" cy="2421000"/>
          </a:xfrm>
          <a:prstGeom prst="rect">
            <a:avLst/>
          </a:prstGeom>
          <a:ln w="0">
            <a:noFill/>
          </a:ln>
        </p:spPr>
      </p:pic>
      <p:pic>
        <p:nvPicPr>
          <p:cNvPr id="228" name="i" descr=" "/>
          <p:cNvPicPr/>
          <p:nvPr/>
        </p:nvPicPr>
        <p:blipFill>
          <a:blip r:embed="rId7"/>
          <a:stretch/>
        </p:blipFill>
        <p:spPr>
          <a:xfrm>
            <a:off x="7093080" y="620640"/>
            <a:ext cx="1801800" cy="1614600"/>
          </a:xfrm>
          <a:prstGeom prst="rect">
            <a:avLst/>
          </a:prstGeom>
          <a:ln w="0">
            <a:noFill/>
          </a:ln>
        </p:spPr>
      </p:pic>
      <p:pic>
        <p:nvPicPr>
          <p:cNvPr id="229" name="i" descr=" "/>
          <p:cNvPicPr/>
          <p:nvPr/>
        </p:nvPicPr>
        <p:blipFill>
          <a:blip r:embed="rId8"/>
          <a:stretch/>
        </p:blipFill>
        <p:spPr>
          <a:xfrm>
            <a:off x="7524720" y="5013360"/>
            <a:ext cx="1171440" cy="990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0" y="692280"/>
            <a:ext cx="87850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557360"/>
            <a:ext cx="3970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ставить хорошую карту очень трудно, в этом нам может помочь спутник. Он летит по орбите и как фотограф отщелкивает снимок за снимком. А поскольку снимает он с большой высоты, то на одной фотографии помещается сразу вся Московская область, снял и через несколько минут он уже над Владимирской областью. Заснял и дальше, остается только правильно перенести на бумагу все, что изображено на снимках, и карта гот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 rot="267000">
            <a:off x="1332000" y="404280"/>
            <a:ext cx="5688000" cy="10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дезический спут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133880" cy="5419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492360" y="3068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0" y="5516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3059280" y="58294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7596360" y="333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179280" y="1484280"/>
            <a:ext cx="6585120" cy="4938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1042920" y="1341360"/>
            <a:ext cx="7093080" cy="5321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1258920" y="1773360"/>
            <a:ext cx="6084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340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4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4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74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310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авних времен люди связывали с погодой урожаи на полях, здоровье своих детей и даже удачи на охоте. Важную роль в жизни человека играет погода и сейчас. Какой она будет завтра? Это хотят знать моряки и летчики, крестьяне и строители, геологи и туристы. Сегодня предсказывать погоду помогают метеоспут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47640" y="333360"/>
            <a:ext cx="5581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ая завтра будет погода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4830840" cy="4862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059280" y="1628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50920" y="476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759636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2627280" y="5157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250920" y="58294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5435640" y="40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-1909800" y="59738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305928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-4286160" y="5829480"/>
            <a:ext cx="10285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4032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моряков есть такой закон: сам погибай, а товарищ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ручай. Все, кто слышат сигнал бедствия, спешат на помощь людям, терпящим бедствие. Но бывают случаи, когда рядом никого нет и тогда используются спутники. Они летают высоко и далеко видят. Да и помочь они могут не только морякам, но и летчикам, туристам. Ученные подсчитали, что для этой цели нужно создать систему из шести спутников. Тогда из какого бы уголка Земли ни посылали сигнал бедствия, его непременно услышит хотя бы один из спутни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619280" y="115920"/>
            <a:ext cx="6048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«Спасите наши души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3992760" cy="52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1:17:16Z</dcterms:created>
  <dc:creator>Фирма</dc:creator>
  <dc:description/>
  <dc:language>en-US</dc:language>
  <cp:lastModifiedBy>FoM</cp:lastModifiedBy>
  <dcterms:modified xsi:type="dcterms:W3CDTF">2010-08-03T13:09:34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