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21.gif" ContentType="image/gif"/>
  <Override PartName="/ppt/media/image6.jpeg" ContentType="image/jpeg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4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A10-227B-4FEC-8A94-A017B50C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810-C080-4888-8A12-CB948D6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B7E-73BB-44DC-831C-E1415325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A63-5AF0-4ABB-8D4D-40232DFA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08F1-F43B-41B5-8095-631A02C9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1CEB-AFD3-4965-A7EB-B53FD04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7FEC-3E69-490D-849E-DC03D17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6055-48F5-438B-A604-893C34F0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6AC-1CA6-492B-A7A4-F0EE80E0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74E4-F28B-46B1-BE74-25F75C13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1D15-C089-43EE-9BDE-C99D908A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B15-FE5C-480C-81BE-7BB743FA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B560-4272-410C-99B3-C3D4FB6D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878A-369D-4102-B009-A510130A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8B6B-3B5B-4FBC-9B26-0866B063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6B67-77A3-4F0B-940A-F0E86E6B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296-D3B5-441F-9EC9-0BC1C72A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6D63-90E6-44F7-9A2E-F5AE8ADD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8A38-E370-4460-A44D-35B97D16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CA02-97F8-4F3A-A3AE-6AF45854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46FE-D7A1-4A16-8C04-41E27D57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E648-9013-4738-86DB-CB0D944D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05E-B7CF-4B44-80FB-84D3E2D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6014-F8A7-4367-9F77-6C9CFAB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E659-EAF7-475F-9BD2-13F4187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5623-84F7-4FA7-A9DE-C5165FCE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20D6-5E6E-4F7D-A107-F355C62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871F-E74C-4647-BF70-6D846CDD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E0D0-8BD7-4269-AEDD-E964CEF5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1F51-B7FE-4292-987A-B3D8D686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24C1-A023-4C75-AB11-97942893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BA69-9665-4706-8961-5B8F9FCB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5C76-AA1F-4F02-BF07-B90C0030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AD7-D369-47FD-9DDA-1B3F0F6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697C-8CEB-47CF-B1A9-4D1397D1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A14A-61DE-493D-AF78-8DD1E9BD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19AB-331C-4C73-A410-D2176EA5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E061-71C1-47D4-9F4A-56236C7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EF67-F50D-4DE9-A649-D942D6D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77CE-BFBB-47CB-B130-1F3774AE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B0AD-BF95-46B6-9AB2-998F3A8F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446A-AF49-4D7D-8F4E-61C56257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EB59-6D6D-4C48-893E-C6CFB9F5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221-89C1-4E9D-8F7F-3BEBE31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725-852F-4670-AC0C-85CF1B25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05B-D6A4-4A2B-B984-2EDDBDA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2F3-092B-4360-B41B-F5E775A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6FC-EFEF-4594-9970-5FF32AB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D83-5C9D-45C6-8DDF-F355D04DF6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798C-79F8-4E4A-BE8F-0C4E5ECEE3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C1C-7341-4C5E-9DB8-C7468F6A93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1CE-3585-41BD-BA3A-DB39C15DCB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21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33&amp;text=&#1057;&#1087;&#1091;&#1090;&#1085;&#1080;&#1082;%20%22&#1052;&#1086;&#1083;&#1085;&#1080;&#1103;%22&amp;rpt=simag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yandex.ru/yandpage?&amp;p=23&amp;text=&#1057;&#1087;&#1091;&#1090;&#1085;&#1080;&#1082;%20%22&#1052;&#1086;&#1083;&#1085;&#1080;&#1103;%22&amp;rpt=simag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yandex.ru/yandpage?&amp;p=203&amp;text=&#1050;&#1086;&#1089;&#1084;&#1080;&#1095;&#1077;&#1089;&#1082;&#1080;&#1077;%20&#1082;&#1086;&#1088;&#1072;&#1073;&#1083;&#1080;&amp;rpt=simage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8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62360" y="736560"/>
            <a:ext cx="4481640" cy="612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Первый в мире искусственный спутник Земли"/>
          <p:cNvPicPr/>
          <p:nvPr/>
        </p:nvPicPr>
        <p:blipFill>
          <a:blip r:embed="rId2"/>
          <a:stretch/>
        </p:blipFill>
        <p:spPr>
          <a:xfrm>
            <a:off x="539640" y="270828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755640" y="404640"/>
            <a:ext cx="792180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0 лет со дня запус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рвого советск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пут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403280" y="3645000"/>
            <a:ext cx="2592360" cy="245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 rot="505800">
            <a:off x="0" y="4797000"/>
            <a:ext cx="7951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 октября 1957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40000" y="2421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995640" y="1052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908000" y="54936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84360" y="1268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708360" y="314172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995640" cy="5040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1628640"/>
            <a:ext cx="5111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меты всегда поражали воображение людей. В древности их изображали в виде отрубленных голов с развевающимися волосами. Видимо, по этому слово «комета» переводится как «волосатая звезда». Обитая  на окраинах Вселенной, они, словно в холодильнике, сохранили свое первозданное состояние. Вот почему к комете Галлея, которая приближается к Земле раз в 76 лет, отправились советские автоматические станции «Вега». Они-то и передали впервые изображение ядра ко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годня тысячи спутников бороздят небо над Землёй и все они несут свою служ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11280" y="333360"/>
            <a:ext cx="69627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втоматическая станция «Вег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 rot="21025800">
            <a:off x="5435280" y="620640"/>
            <a:ext cx="4033800" cy="2654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619280" y="5445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68360" y="5373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298764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774072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7885080" y="2060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5580000" y="47242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514836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1"/>
          <a:stretch/>
        </p:blipFill>
        <p:spPr>
          <a:xfrm>
            <a:off x="395280" y="33336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076720" y="189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8770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6372360" y="2637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2987640" y="2924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8"/>
          <a:stretch/>
        </p:blipFill>
        <p:spPr>
          <a:xfrm>
            <a:off x="539640" y="404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9"/>
          <a:stretch/>
        </p:blipFill>
        <p:spPr>
          <a:xfrm>
            <a:off x="3492360" y="53737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558000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0" y="1413000"/>
            <a:ext cx="7596360" cy="5445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2"/>
          <a:stretch/>
        </p:blipFill>
        <p:spPr>
          <a:xfrm>
            <a:off x="6516720" y="4076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3"/>
          <a:stretch/>
        </p:blipFill>
        <p:spPr>
          <a:xfrm>
            <a:off x="7667640" y="2924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5508720" y="1700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5"/>
          <a:stretch/>
        </p:blipFill>
        <p:spPr>
          <a:xfrm>
            <a:off x="3419640" y="1773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6"/>
          <a:stretch/>
        </p:blipFill>
        <p:spPr>
          <a:xfrm>
            <a:off x="971640" y="1989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7"/>
          <a:stretch/>
        </p:blipFill>
        <p:spPr>
          <a:xfrm>
            <a:off x="250920" y="42210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8"/>
          <a:stretch/>
        </p:blipFill>
        <p:spPr>
          <a:xfrm>
            <a:off x="2268360" y="3284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9"/>
          <a:stretch/>
        </p:blipFill>
        <p:spPr>
          <a:xfrm>
            <a:off x="3924360" y="551664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0"/>
          <a:stretch/>
        </p:blipFill>
        <p:spPr>
          <a:xfrm>
            <a:off x="684360" y="508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1"/>
          <a:stretch/>
        </p:blipFill>
        <p:spPr>
          <a:xfrm>
            <a:off x="7236000" y="52293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2"/>
          <a:stretch/>
        </p:blipFill>
        <p:spPr>
          <a:xfrm>
            <a:off x="4068720" y="35020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3"/>
          <a:stretch/>
        </p:blipFill>
        <p:spPr>
          <a:xfrm>
            <a:off x="7956720" y="98100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Первый в мире искусственный спутник Земли"/>
          <p:cNvPicPr/>
          <p:nvPr/>
        </p:nvPicPr>
        <p:blipFill>
          <a:blip r:embed="rId1"/>
          <a:stretch/>
        </p:blipFill>
        <p:spPr>
          <a:xfrm>
            <a:off x="250920" y="404640"/>
            <a:ext cx="6769080" cy="555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258920" y="3494520"/>
            <a:ext cx="630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утник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первый искусственный спутник Земли, был запущен на орбиту вокруг Земли в ССС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октября 1957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овое обозначение спутника —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-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Простейший Спутник-1). Запуск осуществлялся с 5-го научно-исследовательского полигона министерства обороны СССР «Тюра-Там» (получившего впоследствии название космодром Байконур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40000" y="404640"/>
            <a:ext cx="4175280" cy="14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вый косм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путник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835280" y="692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06728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84720" y="4762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7667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7596360" y="31417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8"/>
          <a:stretch/>
        </p:blipFill>
        <p:spPr>
          <a:xfrm>
            <a:off x="485928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9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0"/>
          <a:stretch/>
        </p:blipFill>
        <p:spPr>
          <a:xfrm>
            <a:off x="1042920" y="285264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1"/>
          <a:stretch/>
        </p:blipFill>
        <p:spPr>
          <a:xfrm>
            <a:off x="611280" y="4724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2700360" y="4797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5364000" y="47973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4"/>
          <a:stretch/>
        </p:blipFill>
        <p:spPr>
          <a:xfrm>
            <a:off x="7093080" y="4581360"/>
            <a:ext cx="102852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30680" cy="6249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2f5d"/>
                </a:solidFill>
                <a:latin typeface="Arial"/>
              </a:rPr>
              <a:t>Устройство спут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1557000"/>
            <a:ext cx="4125960" cy="48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пус спутника состоял из двух полуоболочек со стыковочными шпангоутами, соединёнными между собой 36 болтами. Внешне спутник выглядел как сфера, диаметром полметра, с четырьмя антеннами. На нём были установлены 2 радиопередатчика с источниками 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45160" y="0"/>
            <a:ext cx="4398840" cy="65977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24360" y="1989000"/>
            <a:ext cx="63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честь запуска первого спутник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Москве на проспекте Ми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 1964 году  возле станции метро ВДНХ был  сооружен 99-метров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лиск «Покорителям космос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виде взлетающей раке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тавляющей за соб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ненный шлей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564600">
            <a:off x="179280" y="333360"/>
            <a:ext cx="705672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63000"/>
                  </a:srgbClr>
                </a:solidFill>
                <a:latin typeface="Arial"/>
              </a:rPr>
              <a:t>"покорители космо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63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050560" y="1628640"/>
            <a:ext cx="70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ёту первого спутника предшествовала титаническая работа советских ракетных конструкторов во главе с Сергеем Королё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августа 1957 осуществился второй успешный запуск. Через 6 дней ТАСС сообщило о создании в СССР межконтинентальной баллистической ракеты и 4 октября 1957 года был запущен первый космический спутник Земли. С тех пор спутники находятся на служб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765000"/>
            <a:ext cx="57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d12f5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запус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d12f5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аши связ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4859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ы привыкли к телевизору и не задумываемся над тем, каким образом на экране возникает из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что если поставить антенну на спутник? И вот появился такой спутник, который назвали «Молнией». С высоты его полета видна чуть ли не половина Земли. Посылает главная телебашня свои сигналы на спутник - он их принимает, усиливает и отправляет обратно на Землю. Вслед за «Молнией» появились и другие спутники: «Радуга», «Экран», «Горизонт». Они помогают людям не только смотреть телепередачи, но и вести телефонные переговоры, посылать и получать телеграм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аше время для моряков созданы специальные спутники, их называют навигационные. Навигационные спутники, летая вокруг Земли, непрерывно посылают сигналы. Штурман включает специально устройство, которое по сигналу спутника с помощью электронно-вычислитеньной машины рассчитывает, где находится корабль. По этим данным штурман определяет, куда плыть дальше и когда корабль прибудет в п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i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4941720"/>
            <a:ext cx="1963800" cy="1660680"/>
          </a:xfrm>
          <a:prstGeom prst="rect">
            <a:avLst/>
          </a:prstGeom>
          <a:ln w="0">
            <a:noFill/>
          </a:ln>
        </p:spPr>
      </p:pic>
      <p:pic>
        <p:nvPicPr>
          <p:cNvPr id="226" name="i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1125360"/>
            <a:ext cx="100980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i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2233440"/>
            <a:ext cx="352728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i" descr=" "/>
          <p:cNvPicPr/>
          <p:nvPr/>
        </p:nvPicPr>
        <p:blipFill>
          <a:blip r:embed="rId7"/>
          <a:stretch/>
        </p:blipFill>
        <p:spPr>
          <a:xfrm>
            <a:off x="7093080" y="620640"/>
            <a:ext cx="1801800" cy="1614600"/>
          </a:xfrm>
          <a:prstGeom prst="rect">
            <a:avLst/>
          </a:prstGeom>
          <a:ln w="0">
            <a:noFill/>
          </a:ln>
        </p:spPr>
      </p:pic>
      <p:pic>
        <p:nvPicPr>
          <p:cNvPr id="229" name="i" descr=" "/>
          <p:cNvPicPr/>
          <p:nvPr/>
        </p:nvPicPr>
        <p:blipFill>
          <a:blip r:embed="rId8"/>
          <a:stretch/>
        </p:blipFill>
        <p:spPr>
          <a:xfrm>
            <a:off x="7524720" y="5013360"/>
            <a:ext cx="1171440" cy="990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0" y="692280"/>
            <a:ext cx="87850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3970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хорошую карту очень трудно, в этом нам может помочь спутник. Он летит по орбите и как фотограф отщелкивает снимок за снимком. А поскольку снимает он с большой высоты, то на одной фотографии помещается сразу вся Московская область, снял и через несколько минут он уже над Владимирской областью. Заснял и дальше, остается только правильно перенести на бумагу все, что изображено на снимках, и карта гот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 rot="267000">
            <a:off x="1332000" y="404280"/>
            <a:ext cx="5688000" cy="10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одезический спу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133880" cy="5419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49236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2400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0" y="5516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305928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7596360" y="333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79280" y="1484280"/>
            <a:ext cx="6585120" cy="493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042920" y="1341360"/>
            <a:ext cx="7093080" cy="5321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1258920" y="177336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3400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4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74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310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авних времен люди связывали с погодой урожаи на полях, здоровье своих детей и даже удачи на охоте. Важную роль в жизни человека играет погода и сейчас. Какой она будет завтра? Это хотят знать моряки и летчики, крестьяне и строители, геологи и туристы. Сегодня предсказывать погоду помогают метеоспут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47640" y="333360"/>
            <a:ext cx="5581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ая завтра будет погода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4830840" cy="4862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059280" y="1628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50920" y="4762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59636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2627280" y="5157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50920" y="58294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5435640" y="4046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-1909800" y="59738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3059280" y="2602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-4286160" y="582948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4032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 моряков есть такой закон: сам погибай, а товарищ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ручай. Все, кто слышат сигнал бедствия, спешат на помощь людям, терпящим бедствие. Но бывают случаи, когда рядом никого нет и тогда используются спутники. Они летают высоко и далеко видят. Да и помочь они могут не только морякам, но и летчикам, туристам. Ученные подсчитали, что для этой цели нужно создать систему из шести спутников. Тогда из какого бы уголка Земли ни посылали сигнал бедствия, его непременно услышит хотя бы один из спут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19280" y="115920"/>
            <a:ext cx="60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«Спасите наши душ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9927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1:17:16Z</dcterms:created>
  <dc:creator>Фирма</dc:creator>
  <dc:description/>
  <dc:language>en-US</dc:language>
  <cp:lastModifiedBy>FoM</cp:lastModifiedBy>
  <dcterms:modified xsi:type="dcterms:W3CDTF">2010-08-03T13:09:34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