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5.jpeg" ContentType="image/jpeg"/>
  <Override PartName="/ppt/media/image21.gif" ContentType="image/gif"/>
  <Override PartName="/ppt/media/image6.jpeg" ContentType="image/jpeg"/>
  <Override PartName="/ppt/media/image20.gif" ContentType="image/gif"/>
  <Override PartName="/ppt/media/image18.jpeg" ContentType="image/jpeg"/>
  <Override PartName="/ppt/media/image3.gif" ContentType="image/gif"/>
  <Override PartName="/ppt/media/image19.jpeg" ContentType="image/jpeg"/>
  <Override PartName="/ppt/media/image4.gif" ContentType="image/gif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616-C54B-4A44-A9F5-F535E32E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A1B-0ABB-42A8-A77E-5FB853C0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828-5BDF-4E94-BAE0-20A42C53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4F7-ACB8-44DA-AE56-39EE5348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1CD6-496F-4D70-ACF2-42645CED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F7BF-23C9-44CB-8275-7B921F34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1C78-1528-453A-A09B-BDAC1819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F8DC-24FA-4229-B7F2-5353A518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387C-4963-47CB-A3B5-78157964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94B4-F480-4806-B6CC-EA6F0E93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06C6-9441-4A0E-9BC8-60DB65F9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7C5-4D6B-475E-AB56-1B079187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59FD-1F96-4C9E-8EDB-EF842504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671C-0246-44CC-9EA1-3291040C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061E-C3ED-4E36-BC14-53C2C950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6561-EF33-4082-9FA2-3172EE79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D5E8-40F3-4F89-8D64-CE47716F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2727-12B4-4A67-8478-2AAE63B5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4C5D7-EFD8-4751-8567-98D49E98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48E3A-BBD9-45C9-AE54-DB723C97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5A24F-7AFD-49B3-8BCA-F605A3B2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632C6-B7E0-4886-885A-51330940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04F-3D00-458F-888D-94C73F95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7847F-22B5-4F38-BF1C-DA602DFE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5EA5-3C22-47F7-AB1E-6DB717A9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C34EB-AB45-407C-A833-17CD73B9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BC364-BDD0-4510-989F-46030CF7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A5E99-68A2-442D-82F5-A77E9276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D14D2-8294-40F1-A4C0-1FD46434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71F92-F3A8-4FB9-BA70-E96260EA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5EA40-6AF0-45C5-9798-F9997EFE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27302-75AB-4B62-A088-64DA5F43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4A195-E89B-44AF-9B73-72A83B81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FDE-D3E6-4F3E-8C02-FE89A7A5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D70E7-F9D7-4CC1-93D0-00CA77EF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C77E7-29BD-47A4-8D0D-88F8144E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4354D-722C-4D96-9A4B-28B9FF71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83D27-599E-43C8-B8DA-E5723AAD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312FF-8034-416E-B307-A28F59BC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D5343-3B07-4824-80E3-B710239B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2623C-A22E-4F56-BDB1-AD0E102E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7CBBC-940C-47CD-994E-CA0C005D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B1141-D2FE-4716-8A11-33FA5448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38E-DB85-43BB-9B4C-49F20C87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128-C09E-4C83-B7A8-CD955638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134-BD79-4D0E-8BCA-0D6C00C3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881-C8A8-40A6-873E-A103CA44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DF5-1361-4C97-960B-813AD26B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BE30-7023-44C1-B181-0D63A873F8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E7C4-604D-4FBD-AB7C-16CD8831D2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8C95-3A3D-4701-867B-0C823A966C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217F-DA1B-4457-BFF3-2D802F7AA0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21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33&amp;text=&#1057;&#1087;&#1091;&#1090;&#1085;&#1080;&#1082;%20%22&#1052;&#1086;&#1083;&#1085;&#1080;&#1103;%22&amp;rpt=simage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yandex.ru/yandpage?&amp;p=23&amp;text=&#1057;&#1087;&#1091;&#1090;&#1085;&#1080;&#1082;%20%22&#1052;&#1086;&#1083;&#1085;&#1080;&#1103;%22&amp;rpt=simage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yandex.ru/yandpage?&amp;p=203&amp;text=&#1050;&#1086;&#1089;&#1084;&#1080;&#1095;&#1077;&#1089;&#1082;&#1080;&#1077;%20&#1082;&#1086;&#1088;&#1072;&#1073;&#1083;&#1080;&amp;rpt=simage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9.jpeg"/><Relationship Id="rId8" Type="http://schemas.openxmlformats.org/officeDocument/2006/relationships/image" Target="../media/image8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62360" y="736560"/>
            <a:ext cx="4481640" cy="612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Первый в мире искусственный спутник Земли"/>
          <p:cNvPicPr/>
          <p:nvPr/>
        </p:nvPicPr>
        <p:blipFill>
          <a:blip r:embed="rId2"/>
          <a:stretch/>
        </p:blipFill>
        <p:spPr>
          <a:xfrm>
            <a:off x="539640" y="2708280"/>
            <a:ext cx="1619280" cy="1327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755640" y="404640"/>
            <a:ext cx="7921800" cy="24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50 лет со дня запус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ервого совет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пут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403280" y="3645000"/>
            <a:ext cx="2592360" cy="2454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 rot="505800">
            <a:off x="0" y="4797000"/>
            <a:ext cx="7951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 октября 1957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340000" y="2421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3995640" y="1052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1908000" y="54936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84360" y="1268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3708360" y="314172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995640" cy="50403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-360" y="1628640"/>
            <a:ext cx="5111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еты всегда поражали воображение людей. В древности их изображали в виде отрубленных голов с развевающимися волосами. Видимо, по этому слово «комета» переводится как «волосатая звезда». Обитая  на окраинах Вселенной, они, словно в холодильнике, сохранили свое первозданное состояние. Вот почему к комете Галлея, которая приближается к Земле раз в 76 лет, отправились советские автоматические станции «Вега». Они-то и передали впервые изображение ядра коме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годня тысячи спутников бороздят небо над Землёй и все они несут свою служб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11280" y="333360"/>
            <a:ext cx="69627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втоматическая станция «Вега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 rot="21025800">
            <a:off x="5435280" y="620640"/>
            <a:ext cx="4033800" cy="2654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1619280" y="5445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68360" y="53737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2987640" y="53737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7"/>
          <a:stretch/>
        </p:blipFill>
        <p:spPr>
          <a:xfrm>
            <a:off x="7740720" y="333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8"/>
          <a:stretch/>
        </p:blipFill>
        <p:spPr>
          <a:xfrm>
            <a:off x="7885080" y="2060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9"/>
          <a:stretch/>
        </p:blipFill>
        <p:spPr>
          <a:xfrm>
            <a:off x="5580000" y="47242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0"/>
          <a:stretch/>
        </p:blipFill>
        <p:spPr>
          <a:xfrm>
            <a:off x="5148360" y="1989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1"/>
          <a:stretch/>
        </p:blipFill>
        <p:spPr>
          <a:xfrm>
            <a:off x="395280" y="33336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5076720" y="189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877080" y="26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6372360" y="2637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4932360" y="3284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2987640" y="292428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8"/>
          <a:stretch/>
        </p:blipFill>
        <p:spPr>
          <a:xfrm>
            <a:off x="539640" y="40464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>
            <a:off x="3492360" y="53737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0"/>
          <a:stretch/>
        </p:blipFill>
        <p:spPr>
          <a:xfrm>
            <a:off x="5580000" y="5157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1"/>
          <a:stretch/>
        </p:blipFill>
        <p:spPr>
          <a:xfrm>
            <a:off x="0" y="1413000"/>
            <a:ext cx="7596360" cy="5445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2"/>
          <a:stretch/>
        </p:blipFill>
        <p:spPr>
          <a:xfrm>
            <a:off x="6516720" y="4076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3"/>
          <a:stretch/>
        </p:blipFill>
        <p:spPr>
          <a:xfrm>
            <a:off x="7667640" y="2924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4"/>
          <a:stretch/>
        </p:blipFill>
        <p:spPr>
          <a:xfrm>
            <a:off x="5508720" y="1700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5"/>
          <a:stretch/>
        </p:blipFill>
        <p:spPr>
          <a:xfrm>
            <a:off x="3419640" y="17733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6"/>
          <a:stretch/>
        </p:blipFill>
        <p:spPr>
          <a:xfrm>
            <a:off x="971640" y="1989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7"/>
          <a:stretch/>
        </p:blipFill>
        <p:spPr>
          <a:xfrm>
            <a:off x="250920" y="4221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8"/>
          <a:stretch/>
        </p:blipFill>
        <p:spPr>
          <a:xfrm>
            <a:off x="2268360" y="3284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9"/>
          <a:stretch/>
        </p:blipFill>
        <p:spPr>
          <a:xfrm>
            <a:off x="3924360" y="551664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0"/>
          <a:stretch/>
        </p:blipFill>
        <p:spPr>
          <a:xfrm>
            <a:off x="684360" y="5084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1"/>
          <a:stretch/>
        </p:blipFill>
        <p:spPr>
          <a:xfrm>
            <a:off x="7236000" y="52293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2"/>
          <a:stretch/>
        </p:blipFill>
        <p:spPr>
          <a:xfrm>
            <a:off x="4068720" y="350208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3"/>
          <a:stretch/>
        </p:blipFill>
        <p:spPr>
          <a:xfrm>
            <a:off x="7956720" y="981000"/>
            <a:ext cx="10285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Первый в мире искусственный спутник Земли"/>
          <p:cNvPicPr/>
          <p:nvPr/>
        </p:nvPicPr>
        <p:blipFill>
          <a:blip r:embed="rId1"/>
          <a:stretch/>
        </p:blipFill>
        <p:spPr>
          <a:xfrm>
            <a:off x="250920" y="404640"/>
            <a:ext cx="6769080" cy="5551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258920" y="3494520"/>
            <a:ext cx="630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утник-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первый искусственный спутник Земли, был запущен на орбиту вокруг Земли в ССС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октября 1957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довое обозначение спутника —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-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Простейший Спутник-1). Запуск осуществлялся с 5-го научно-исследовательского полигона министерства обороны СССР «Тюра-Там» (получившего впоследствии название космодром Байконур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40000" y="404640"/>
            <a:ext cx="417528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вый космиче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путник Зем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835280" y="692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067280" y="404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6084720" y="47628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7667640" y="1413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7596360" y="31417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4859280" y="34290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2987640" y="3068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0"/>
          <a:stretch/>
        </p:blipFill>
        <p:spPr>
          <a:xfrm>
            <a:off x="1042920" y="285264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1"/>
          <a:stretch/>
        </p:blipFill>
        <p:spPr>
          <a:xfrm>
            <a:off x="611280" y="4724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2"/>
          <a:stretch/>
        </p:blipFill>
        <p:spPr>
          <a:xfrm>
            <a:off x="2700360" y="4797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3"/>
          <a:stretch/>
        </p:blipFill>
        <p:spPr>
          <a:xfrm>
            <a:off x="5364000" y="47973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4"/>
          <a:stretch/>
        </p:blipFill>
        <p:spPr>
          <a:xfrm>
            <a:off x="7093080" y="4581360"/>
            <a:ext cx="10285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30680" cy="62499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092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2f5d"/>
                </a:solidFill>
                <a:latin typeface="Arial"/>
              </a:rPr>
              <a:t>Устройство спут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1557000"/>
            <a:ext cx="4125960" cy="48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пус спутника состоял из двух полуоболочек со стыковочными шпангоутами, соединёнными между собой 36 болтами. Внешне спутник выглядел как сфера, диаметром полметра, с четырьмя антеннами. На нём были установлены 2 радиопередатчика с источниками пит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45160" y="0"/>
            <a:ext cx="4398840" cy="65977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24360" y="1989000"/>
            <a:ext cx="63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честь запуска первого спутник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Москве на проспекте Ми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 1964 году  возле станции метро ВДНХ был  сооружен 99-метров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елиск «Покорителям космос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виде взлетающей раке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тавляющей за соб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гненный шлей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 rot="564600">
            <a:off x="179280" y="333360"/>
            <a:ext cx="705672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63000"/>
                  </a:srgbClr>
                </a:solidFill>
                <a:latin typeface="Arial"/>
              </a:rPr>
              <a:t>"покорители космос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63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050560" y="1628640"/>
            <a:ext cx="70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ёту первого спутника предшествовала титаническая работа советских ракетных конструкторов во главе с Сергеем Королёв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 августа 1957 осуществился второй успешный запуск. Через 6 дней ТАСС сообщило о создании в СССР межконтинентальной баллистической ракеты и 4 октября 1957 года был запущен первый космический спутник Земли. С тех пор спутники находятся на служб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979640" y="765000"/>
            <a:ext cx="575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d12f5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стория запус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d12f5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аши связны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4859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ы привыкли к телевизору и не задумываемся над тем, каким образом на экране возникает изобра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что если поставить антенну на спутник? И вот появился такой спутник, который назвали «Молнией». С высоты его полета видна чуть ли не половина Земли. Посылает главная телебашня свои сигналы на спутник - он их принимает, усиливает и отправляет обратно на Землю. Вслед за «Молнией» появились и другие спутники: «Радуга», «Экран», «Горизонт». Они помогают людям не только смотреть телепередачи, но и вести телефонные переговоры, посылать и получать телеграмм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наше время для моряков созданы специальные спутники, их называют навигационные. Навигационные спутники, летая вокруг Земли, непрерывно посылают сигналы. Штурман включает специально устройство, которое по сигналу спутника с помощью электронно-вычислитеньной машины рассчитывает, где находится корабль. По этим данным штурман определяет, куда плыть дальше и когда корабль прибудет в пор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i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4941720"/>
            <a:ext cx="1963800" cy="1660680"/>
          </a:xfrm>
          <a:prstGeom prst="rect">
            <a:avLst/>
          </a:prstGeom>
          <a:ln w="0">
            <a:noFill/>
          </a:ln>
        </p:spPr>
      </p:pic>
      <p:pic>
        <p:nvPicPr>
          <p:cNvPr id="226" name="i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125360"/>
            <a:ext cx="1009800" cy="905040"/>
          </a:xfrm>
          <a:prstGeom prst="rect">
            <a:avLst/>
          </a:prstGeom>
          <a:ln w="0">
            <a:noFill/>
          </a:ln>
        </p:spPr>
      </p:pic>
      <p:pic>
        <p:nvPicPr>
          <p:cNvPr id="227" name="i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48360" y="2233440"/>
            <a:ext cx="3527280" cy="2421000"/>
          </a:xfrm>
          <a:prstGeom prst="rect">
            <a:avLst/>
          </a:prstGeom>
          <a:ln w="0">
            <a:noFill/>
          </a:ln>
        </p:spPr>
      </p:pic>
      <p:pic>
        <p:nvPicPr>
          <p:cNvPr id="228" name="i" descr=" "/>
          <p:cNvPicPr/>
          <p:nvPr/>
        </p:nvPicPr>
        <p:blipFill>
          <a:blip r:embed="rId7"/>
          <a:stretch/>
        </p:blipFill>
        <p:spPr>
          <a:xfrm>
            <a:off x="7093080" y="620640"/>
            <a:ext cx="1801800" cy="1614600"/>
          </a:xfrm>
          <a:prstGeom prst="rect">
            <a:avLst/>
          </a:prstGeom>
          <a:ln w="0">
            <a:noFill/>
          </a:ln>
        </p:spPr>
      </p:pic>
      <p:pic>
        <p:nvPicPr>
          <p:cNvPr id="229" name="i" descr=" "/>
          <p:cNvPicPr/>
          <p:nvPr/>
        </p:nvPicPr>
        <p:blipFill>
          <a:blip r:embed="rId8"/>
          <a:stretch/>
        </p:blipFill>
        <p:spPr>
          <a:xfrm>
            <a:off x="7524720" y="5013360"/>
            <a:ext cx="1171440" cy="990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0" y="692280"/>
            <a:ext cx="87850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1557360"/>
            <a:ext cx="3970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ставить хорошую карту очень трудно, в этом нам может помочь спутник. Он летит по орбите и как фотограф отщелкивает снимок за снимком. А поскольку снимает он с большой высоты, то на одной фотографии помещается сразу вся Московская область, снял и через несколько минут он уже над Владимирской областью. Заснял и дальше, остается только правильно перенести на бумагу все, что изображено на снимках, и карта гот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 rot="267000">
            <a:off x="1332000" y="404280"/>
            <a:ext cx="5688000" cy="10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одезический спут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133880" cy="5419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492360" y="3068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24000" y="404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0" y="5516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3059280" y="58294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7596360" y="333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179280" y="1484280"/>
            <a:ext cx="6585120" cy="4938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1042920" y="1341360"/>
            <a:ext cx="7093080" cy="5321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1"/>
          <a:stretch/>
        </p:blipFill>
        <p:spPr>
          <a:xfrm>
            <a:off x="1258920" y="1773360"/>
            <a:ext cx="60847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340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34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4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74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310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давних времен люди связывали с погодой урожаи на полях, здоровье своих детей и даже удачи на охоте. Важную роль в жизни человека играет погода и сейчас. Какой она будет завтра? Это хотят знать моряки и летчики, крестьяне и строители, геологи и туристы. Сегодня предсказывать погоду помогают метеоспут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547640" y="333360"/>
            <a:ext cx="5581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ая завтра будет погода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4830840" cy="48625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987640" y="3068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059280" y="1628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50920" y="476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7596360" y="26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2627280" y="5157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250920" y="58294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5435640" y="404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-1909800" y="59738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3059280" y="26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-4286160" y="5829480"/>
            <a:ext cx="10285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4032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 моряков есть такой закон: сам погибай, а товарищ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ручай. Все, кто слышат сигнал бедствия, спешат на помощь людям, терпящим бедствие. Но бывают случаи, когда рядом никого нет и тогда используются спутники. Они летают высоко и далеко видят. Да и помочь они могут не только морякам, но и летчикам, туристам. Ученные подсчитали, что для этой цели нужно создать систему из шести спутников. Тогда из какого бы уголка Земли ни посылали сигнал бедствия, его непременно услышит хотя бы один из спутник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619280" y="115920"/>
            <a:ext cx="6048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«Спасите наши души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716360" y="1125360"/>
            <a:ext cx="3992760" cy="52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1:17:16Z</dcterms:created>
  <dc:creator>Фирма</dc:creator>
  <dc:description/>
  <dc:language>en-US</dc:language>
  <cp:lastModifiedBy>FoM</cp:lastModifiedBy>
  <dcterms:modified xsi:type="dcterms:W3CDTF">2010-08-03T13:09:34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