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D94FE5-58B8-47A5-A6D7-BD8309218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F2550D-6E52-4E90-9EFE-D493EA5F2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4E9BCE-853C-4A2F-B7E9-038AD26D2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15BDA8-524B-47D7-9D3D-4A02908F4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A3A5C-2E50-459C-B64B-F7CD28F4E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181A6-DF1F-4041-BAA1-81285B4FB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64BB0-711F-4949-8E9B-4BA83C6AB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7CE7E-4134-4569-90A9-6E0EBC5DF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FB532-3198-437A-B85F-4269B81A8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30AD8-4157-4D3F-861F-C7486EA97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B7FBE-0A19-41C4-9A21-3CC23E65E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414911-BC86-4BD2-9E28-B0C2F25D2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F1F16-5720-4F6A-8407-8EDBCEE83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416C1-20F4-41E0-99CC-AA6474434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BB4B6-C97B-4985-B221-4543D27B1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1C968-517C-434F-B6E8-D5820F9D4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1A45F-FDD3-43AD-B544-1960CB4F3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6F5C99-09BB-4D0A-BF60-160D47FFE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4BB3EE-2993-4342-B59E-62639FA89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7BB6AE-5692-42D6-BBEB-4570AD5DD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C15C7A-6D81-4498-B0A3-569E385EE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0E8866-0514-497E-B486-DBF5DE2A3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A16F4E-6A67-41AC-996A-D98849FED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A91BD5-ED2D-43EB-8E64-0469D6278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76ADA-9DEB-4FA3-982C-00CF05DD558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95397-8A38-41BA-8768-F6DE9EE1232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0" y="-10008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Arial"/>
              </a:rPr>
              <a:t>1) Жанр, в котором излагалась история жизни святых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Arial"/>
              </a:rPr>
              <a:t>2) Митрополит, затем патриарх, решивший исправить богослужебные книг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Arial"/>
              </a:rPr>
              <a:t>3) «Неистовый протопоп», возглавивший старообрядцев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Arial"/>
              </a:rPr>
              <a:t>4) Результат церковной реформы 1653 – 1656 гг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Arial"/>
              </a:rPr>
              <a:t>5) Патриарх, отец Михаила Федоровича Романов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cc"/>
                </a:solidFill>
                <a:uFillTx/>
                <a:latin typeface="Arial"/>
              </a:rPr>
              <a:t>Восстание Степана Разина  - 1667 - 167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Arial"/>
              </a:rPr>
              <a:t>Итоги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Arial"/>
              </a:rPr>
              <a:t>Разин казне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Arial"/>
              </a:rPr>
              <a:t>Восстание подавле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Arial"/>
              </a:rPr>
              <a:t>Казнено ок. 100 тысяч восставши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d"/>
  </p:transition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 u="sng">
                <a:solidFill>
                  <a:srgbClr val="ffffcc"/>
                </a:solidFill>
                <a:uFillTx/>
                <a:latin typeface="Arial"/>
              </a:rPr>
              <a:t>Восстания старообрядцев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Arial"/>
              </a:rPr>
              <a:t>Причина:</a:t>
            </a:r>
            <a:r>
              <a:rPr b="1" lang="ru-RU" sz="3200" spc="-1" strike="noStrike">
                <a:solidFill>
                  <a:srgbClr val="00007d"/>
                </a:solidFill>
                <a:latin typeface="Arial"/>
              </a:rPr>
              <a:t> церковный Раско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Arial"/>
              </a:rPr>
              <a:t>События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Arial"/>
              </a:rPr>
              <a:t>Самосожжения старообрядцев, отказ признавать реформы Нико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Arial"/>
              </a:rPr>
              <a:t>1668 – 1676 – Соловецкое восста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Arial"/>
              </a:rPr>
              <a:t>Результаты:</a:t>
            </a:r>
            <a:r>
              <a:rPr b="1" lang="ru-RU" sz="3200" spc="-1" strike="noStrike">
                <a:solidFill>
                  <a:srgbClr val="00007d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Arial"/>
              </a:rPr>
              <a:t>Жестокие расправы со старообрядц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Arial"/>
              </a:rPr>
              <a:t>Выступления старообрядцев продолжалис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d"/>
  </p:transition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7" dur="10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1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2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7d"/>
                </a:solidFill>
                <a:latin typeface="Arial"/>
              </a:rPr>
              <a:t>§ 8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0" y="-10008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11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800000"/>
                </a:solidFill>
                <a:latin typeface="Arial"/>
              </a:rPr>
              <a:t>Письменно ответьте на вопрос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11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3300"/>
                </a:solidFill>
                <a:latin typeface="Arial"/>
              </a:rPr>
              <a:t>1 вариант: 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11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7d"/>
                </a:solidFill>
                <a:latin typeface="Arial"/>
              </a:rPr>
              <a:t>Чем была вызвана церковная  реформа середины 17 в.?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11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3300"/>
                </a:solidFill>
                <a:latin typeface="Arial"/>
              </a:rPr>
              <a:t>2 вариант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11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7d"/>
                </a:solidFill>
                <a:latin typeface="Arial"/>
              </a:rPr>
              <a:t>Суть церковной реформы 17 в.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d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40000" y="1844280"/>
            <a:ext cx="709128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ff00"/>
                </a:solidFill>
                <a:latin typeface="Arial"/>
              </a:rPr>
              <a:t>«Бунташный век»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442764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cc"/>
                </a:solidFill>
                <a:latin typeface="Arial"/>
              </a:rPr>
              <a:t>9.02. 201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d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549360"/>
            <a:ext cx="9144000" cy="611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7d"/>
                </a:solidFill>
                <a:latin typeface="Arial"/>
              </a:rPr>
              <a:t>Что изменилось в положении крестьян в первой половине 17 в.? Какую роль в этом сыграло Соборное Уложение 1649 г.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00"/>
                </a:solidFill>
                <a:latin typeface="Arial"/>
              </a:rPr>
              <a:t>Кого называли казаками? Почему они проживали на окраинах государств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7d"/>
                </a:solidFill>
                <a:latin typeface="Arial"/>
              </a:rPr>
              <a:t>Как складывались отношения между никонианцами и старообрядцами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d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8446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cc"/>
                </a:solidFill>
                <a:latin typeface="Arial"/>
              </a:rPr>
              <a:t>Причины народных выступлений 17 в.</a:t>
            </a:r>
            <a:r>
              <a:rPr b="1" lang="en-US" sz="6000" spc="-1" strike="noStrike" u="sng">
                <a:solidFill>
                  <a:srgbClr val="ffffcc"/>
                </a:solidFill>
                <a:uFillTx/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1989000"/>
            <a:ext cx="914400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7d"/>
                </a:solidFill>
                <a:latin typeface="Arial"/>
              </a:rPr>
              <a:t>С. 61 – выпишите в тетрад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Arial"/>
              </a:rPr>
              <a:t>Закрепощение крестьянства и рост феодальных повинност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Arial"/>
              </a:rPr>
              <a:t>Усиление налогов, ведение войн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Arial"/>
              </a:rPr>
              <a:t>Приказная волокит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Arial"/>
              </a:rPr>
              <a:t>Попытки ограничения казачьей вольност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Arial"/>
              </a:rPr>
              <a:t>Церковный раскол и расправы со старообрядц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d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ffffcc"/>
                </a:solidFill>
                <a:uFillTx/>
                <a:latin typeface="Arial"/>
              </a:rPr>
              <a:t>Восстания </a:t>
            </a:r>
            <a:r>
              <a:rPr b="1" lang="en-US" sz="4800" spc="-1" strike="noStrike" u="sng">
                <a:solidFill>
                  <a:srgbClr val="ffffcc"/>
                </a:solidFill>
                <a:uFillTx/>
                <a:latin typeface="Arial"/>
              </a:rPr>
              <a:t>XVII</a:t>
            </a:r>
            <a:r>
              <a:rPr b="1" lang="ru-RU" sz="4800" spc="-1" strike="noStrike" u="sng">
                <a:solidFill>
                  <a:srgbClr val="ffffcc"/>
                </a:solidFill>
                <a:uFillTx/>
                <a:latin typeface="Arial"/>
              </a:rPr>
              <a:t> в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981000"/>
            <a:ext cx="9144000" cy="187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5000"/>
          </a:bodyPr>
          <a:p>
            <a:pPr marL="257040" indent="-257040" algn="ctr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Arial"/>
              </a:rPr>
              <a:t>Заполните таблицу (параграф 8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 algn="ctr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00"/>
                </a:solidFill>
                <a:latin typeface="Arial"/>
              </a:rPr>
              <a:t>Соляной бунт, Медный бунт, Восстание Степана Разина, восстания старообрядце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0" y="4076640"/>
          <a:ext cx="9144000" cy="2781360"/>
        </p:xfrm>
        <a:graphic>
          <a:graphicData uri="http://schemas.openxmlformats.org/drawingml/2006/table">
            <a:tbl>
              <a:tblPr/>
              <a:tblGrid>
                <a:gridCol w="1547640"/>
                <a:gridCol w="1944720"/>
                <a:gridCol w="3167280"/>
                <a:gridCol w="2484360"/>
              </a:tblGrid>
              <a:tr h="180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дата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причины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события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результаты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strips dir="rd"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 u="sng">
                <a:solidFill>
                  <a:srgbClr val="ffffcc"/>
                </a:solidFill>
                <a:uFillTx/>
                <a:latin typeface="Arial"/>
              </a:rPr>
              <a:t>Соляной бунт - 1648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Причина:</a:t>
            </a:r>
            <a:r>
              <a:rPr b="1" lang="en-US" sz="3200" spc="-1" strike="noStrike">
                <a:solidFill>
                  <a:srgbClr val="00007d"/>
                </a:solidFill>
                <a:latin typeface="Arial"/>
              </a:rPr>
              <a:t> введение дополнительной пошлины на сол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События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Arial"/>
              </a:rPr>
              <a:t>1 июня 164 г. – жалоба москвичей на главу Земского приказа Л.С. Плещеева (казнокрадство, волокита, высокие цены на хлеб и соль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Результаты:</a:t>
            </a:r>
            <a:r>
              <a:rPr b="1" lang="en-US" sz="3200" spc="-1" strike="noStrike">
                <a:solidFill>
                  <a:srgbClr val="00007d"/>
                </a:solidFill>
                <a:latin typeface="Arial"/>
              </a:rPr>
              <a:t> Плещеев отдан на расправу народу, в отставку отправлен боярин Б.Морозов – воспитатель Алексея и фактический правител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d"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 u="sng">
                <a:solidFill>
                  <a:srgbClr val="ffffcc"/>
                </a:solidFill>
                <a:uFillTx/>
                <a:latin typeface="Arial"/>
              </a:rPr>
              <a:t>Медный бунт - 1662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Причина:</a:t>
            </a:r>
            <a:r>
              <a:rPr b="1" lang="en-US" sz="3200" spc="-1" strike="noStrike">
                <a:solidFill>
                  <a:srgbClr val="00007d"/>
                </a:solidFill>
                <a:latin typeface="Arial"/>
              </a:rPr>
              <a:t> чеканка медной монеты, обесценивание дене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События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Arial"/>
              </a:rPr>
              <a:t>1662 г. – обращение горожан к царю, переговоры, разгром толпы с помощью войс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Результаты:</a:t>
            </a:r>
            <a:r>
              <a:rPr b="1" lang="en-US" sz="3200" spc="-1" strike="noStrike">
                <a:solidFill>
                  <a:srgbClr val="00007d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Arial"/>
              </a:rPr>
              <a:t>восстание подавлено, зачинщики казнены, многие наказаны и отправлены в ссылк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Arial"/>
              </a:rPr>
              <a:t>Отмена медных дене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d"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cc"/>
                </a:solidFill>
                <a:uFillTx/>
                <a:latin typeface="Arial"/>
              </a:rPr>
              <a:t>Восстание Степана Разина  - 1667 - 167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Arial"/>
              </a:rPr>
              <a:t>Причины:</a:t>
            </a:r>
            <a:r>
              <a:rPr b="1" lang="ru-RU" sz="3200" spc="-1" strike="noStrike">
                <a:solidFill>
                  <a:srgbClr val="00007d"/>
                </a:solidFill>
                <a:latin typeface="Arial"/>
              </a:rPr>
              <a:t> бегство крестьян на окраины страны, разорение казаче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Arial"/>
              </a:rPr>
              <a:t>События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Arial"/>
              </a:rPr>
              <a:t>1 этап. </a:t>
            </a:r>
            <a:r>
              <a:rPr b="1" lang="ru-RU" sz="3200" spc="-1" strike="noStrike" u="sng">
                <a:solidFill>
                  <a:srgbClr val="003300"/>
                </a:solidFill>
                <a:uFillTx/>
                <a:latin typeface="Arial"/>
              </a:rPr>
              <a:t>1667 – 1669 гг</a:t>
            </a:r>
            <a:r>
              <a:rPr b="1" lang="ru-RU" sz="3200" spc="-1" strike="noStrike">
                <a:solidFill>
                  <a:srgbClr val="00007d"/>
                </a:solidFill>
                <a:latin typeface="Arial"/>
              </a:rPr>
              <a:t>.  - «</a:t>
            </a:r>
            <a:r>
              <a:rPr b="1" i="1" lang="ru-RU" sz="3200" spc="-1" strike="noStrike">
                <a:solidFill>
                  <a:srgbClr val="800000"/>
                </a:solidFill>
                <a:latin typeface="Arial"/>
              </a:rPr>
              <a:t>поход за зипунами»</a:t>
            </a:r>
            <a:r>
              <a:rPr b="1" lang="ru-RU" sz="3200" spc="-1" strike="noStrike">
                <a:solidFill>
                  <a:srgbClr val="00007d"/>
                </a:solidFill>
                <a:latin typeface="Arial"/>
              </a:rPr>
              <a:t>. Отряды Разина блокировали Волгу и захватывали торговые корабли русских и персидских купцов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Arial"/>
              </a:rPr>
              <a:t>2 этап. </a:t>
            </a:r>
            <a:r>
              <a:rPr b="1" lang="ru-RU" sz="3200" spc="-1" strike="noStrike" u="sng">
                <a:solidFill>
                  <a:srgbClr val="003300"/>
                </a:solidFill>
                <a:uFillTx/>
                <a:latin typeface="Arial"/>
              </a:rPr>
              <a:t>1670 – 1671 гг.</a:t>
            </a:r>
            <a:r>
              <a:rPr b="1" lang="ru-RU" sz="3200" spc="-1" strike="noStrike">
                <a:solidFill>
                  <a:srgbClr val="00007d"/>
                </a:solidFill>
                <a:latin typeface="Arial"/>
              </a:rPr>
              <a:t> – захват Царицина, Астрахани, Саратова, Самары, Пензы и др. Осада Симбирска. Зажиточные казаки выдали Разина властя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d"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4T10:00:02Z</dcterms:created>
  <dc:creator>Андрей</dc:creator>
  <dc:description/>
  <dc:language>en-US</dc:language>
  <cp:lastModifiedBy>Ната</cp:lastModifiedBy>
  <dcterms:modified xsi:type="dcterms:W3CDTF">2010-02-08T21:50:56Z</dcterms:modified>
  <cp:revision>51</cp:revision>
  <dc:subject/>
  <dc:title>Слайд 1</dc:title>
</cp:coreProperties>
</file>