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09153-FBEB-42E8-850C-E15689B0A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F8549-5FBB-4AA1-AB4B-71ABAF3D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961FD-E09C-40DA-BDE3-921AD5289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D8983-36A5-4BBF-9F4B-245D30BD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96D6-5C49-4CBB-8B1D-8AA93887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836B-DC40-483E-9451-9D66E8F0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B1ED-9EBD-4838-AA14-BA9F1230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43C6-1A52-48E1-8F10-3F53BBE3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00E2-B85D-499D-A7D8-9741D108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C7AF-2879-4CD4-97E0-5FF74EEE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18B6-9A2A-4D6D-B60D-096A4B05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C932D-9476-4524-9060-F9100401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42DB-651E-403F-A02E-61A34895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4B88-3EF5-4AFF-9C7D-2C4F3552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013A-FC4D-4F6C-8DBC-FFC94180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60F0-0043-45FD-B7DB-67B864A2D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95CF-EB2B-4128-BB85-6760869D5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15427-1E21-4DBE-8D91-546E03CB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7DBAC-7D4C-4915-825B-181A5AE1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3B2BB-257C-4314-9A35-7E30AAFA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E842F-AD62-424F-8D76-DD6399B7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CD3DF-E14E-40BA-9380-7AD5E5C8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4BEC7-689D-4444-9D29-4CD748A4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E2958-9CC7-4BAE-B052-4CB2E688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6FD6-A04E-4B4B-90EA-8026F05B95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AF96-9B02-4129-A0B2-B763BD541E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-10008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1) Жанр, в котором излагалась история жизни свят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2) Митрополит, затем патриарх, решивший исправить богослужебные книг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3) «Неистовый протопоп», возглавивший старообрядце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4) Результат церковной реформы 1653 – 1656 г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5) Патриарх, отец Михаила Федоровича Романо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Восстание Степана Разина  - 1667 - 16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Итог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Разин казн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Восстание подавле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Казнено ок. 100 тысяч восставш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ffffcc"/>
                </a:solidFill>
                <a:uFillTx/>
                <a:latin typeface="Arial"/>
              </a:rPr>
              <a:t>Восстания старообрядцев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Причина: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 церковный Раск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Событ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Самосожжения старообрядцев, отказ признавать реформы Ник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1668 – 1676 – Соловецкое восст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Результаты: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Жестокие расправы со старообрядц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Выступления старообрядцев продолжа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7d"/>
                </a:solidFill>
                <a:latin typeface="Arial"/>
              </a:rPr>
              <a:t>§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-10008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11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800000"/>
                </a:solidFill>
                <a:latin typeface="Arial"/>
              </a:rPr>
              <a:t>Письменно ответьте на вопрос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1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300"/>
                </a:solidFill>
                <a:latin typeface="Arial"/>
              </a:rPr>
              <a:t>1 вариант: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7d"/>
                </a:solidFill>
                <a:latin typeface="Arial"/>
              </a:rPr>
              <a:t>Чем была вызвана церковная  реформа середины 17 в.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1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300"/>
                </a:solidFill>
                <a:latin typeface="Arial"/>
              </a:rPr>
              <a:t>2 вариант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7d"/>
                </a:solidFill>
                <a:latin typeface="Arial"/>
              </a:rPr>
              <a:t>Суть церковной реформы 17 в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40000" y="1844280"/>
            <a:ext cx="70912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Arial"/>
              </a:rPr>
              <a:t>«Бунташный век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442764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Arial"/>
              </a:rPr>
              <a:t>9.02. 20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549360"/>
            <a:ext cx="9144000" cy="611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Что изменилось в положении крестьян в первой половине 17 в.? Какую роль в этом сыграло Соборное Уложение 1649 г.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Кого называли казаками? Почему они проживали на окраинах государств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Как складывались отношения между никонианцами и старообрядца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"/>
              </a:rPr>
              <a:t>Причины народных выступлений 17 в.</a:t>
            </a:r>
            <a:r>
              <a:rPr b="1" lang="en-US" sz="6000" spc="-1" strike="noStrike" u="sng">
                <a:solidFill>
                  <a:srgbClr val="ffffcc"/>
                </a:solidFill>
                <a:uFillTx/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989000"/>
            <a:ext cx="91440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7d"/>
                </a:solidFill>
                <a:latin typeface="Arial"/>
              </a:rPr>
              <a:t>С. 61 – выпишите в тетрад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Закрепощение крестьянства и рост феодальных повин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Усиление налогов, ведение вой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Приказная волоки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Попытки ограничения казачьей во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Церковный раскол и расправы со старообряд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cc"/>
                </a:solidFill>
                <a:uFillTx/>
                <a:latin typeface="Arial"/>
              </a:rPr>
              <a:t>Восстания </a:t>
            </a:r>
            <a:r>
              <a:rPr b="1" lang="en-US" sz="4800" spc="-1" strike="noStrike" u="sng">
                <a:solidFill>
                  <a:srgbClr val="ffffcc"/>
                </a:solidFill>
                <a:uFillTx/>
                <a:latin typeface="Arial"/>
              </a:rPr>
              <a:t>XVII</a:t>
            </a:r>
            <a:r>
              <a:rPr b="1" lang="ru-RU" sz="4800" spc="-1" strike="noStrike" u="sng">
                <a:solidFill>
                  <a:srgbClr val="ffffcc"/>
                </a:solidFill>
                <a:uFillTx/>
                <a:latin typeface="Arial"/>
              </a:rPr>
              <a:t> 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981000"/>
            <a:ext cx="914400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Заполните таблицу (параграф 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Соляной бунт, Медный бунт, Восстание Степана Разина, восстания старообрядц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4076640"/>
          <a:ext cx="9144000" cy="2781360"/>
        </p:xfrm>
        <a:graphic>
          <a:graphicData uri="http://schemas.openxmlformats.org/drawingml/2006/table">
            <a:tbl>
              <a:tblPr/>
              <a:tblGrid>
                <a:gridCol w="1547640"/>
                <a:gridCol w="1944720"/>
                <a:gridCol w="3167280"/>
                <a:gridCol w="2484360"/>
              </a:tblGrid>
              <a:tr h="180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дат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причин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событи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результат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r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ffffcc"/>
                </a:solidFill>
                <a:uFillTx/>
                <a:latin typeface="Arial"/>
              </a:rPr>
              <a:t>Соляной бунт - 1648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Причина: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 введение дополнительной пошлины на со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Событ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1 июня 164 г. – жалоба москвичей на главу Земского приказа Л.С. Плещеева (казнокрадство, волокита, высокие цены на хлеб и со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Результаты: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 Плещеев отдан на расправу народу, в отставку отправлен боярин Б.Морозов – воспитатель Алексея и фактический прав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ffffcc"/>
                </a:solidFill>
                <a:uFillTx/>
                <a:latin typeface="Arial"/>
              </a:rPr>
              <a:t>Медный бунт - 166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Причина: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 чеканка медной монеты, обесценивание дене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Событ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1662 г. – обращение горожан к царю, переговоры, разгром толпы с помощью вой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Результаты: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восстание подавлено, зачинщики казнены, многие наказаны и отправлены в ссыл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Отмена медных дене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Восстание Степана Разина  - 1667 - 16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Причины: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 бегство крестьян на окраины страны, разорение каза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Событ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1 этап. </a:t>
            </a:r>
            <a:r>
              <a:rPr b="1" lang="ru-RU" sz="3200" spc="-1" strike="noStrike" u="sng">
                <a:solidFill>
                  <a:srgbClr val="003300"/>
                </a:solidFill>
                <a:uFillTx/>
                <a:latin typeface="Arial"/>
              </a:rPr>
              <a:t>1667 – 1669 гг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.  - «</a:t>
            </a: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поход за зипунами»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. Отряды Разина блокировали Волгу и захватывали торговые корабли русских и персидских купцов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2 этап. </a:t>
            </a:r>
            <a:r>
              <a:rPr b="1" lang="ru-RU" sz="3200" spc="-1" strike="noStrike" u="sng">
                <a:solidFill>
                  <a:srgbClr val="003300"/>
                </a:solidFill>
                <a:uFillTx/>
                <a:latin typeface="Arial"/>
              </a:rPr>
              <a:t>1670 – 1671 гг.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 – захват Царицина, Астрахани, Саратова, Самары, Пензы и др. Осада Симбирска. Зажиточные казаки выдали Разина власт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0:00:02Z</dcterms:created>
  <dc:creator>Андрей</dc:creator>
  <dc:description/>
  <dc:language>en-US</dc:language>
  <cp:lastModifiedBy>Ната</cp:lastModifiedBy>
  <dcterms:modified xsi:type="dcterms:W3CDTF">2010-02-08T21:50:56Z</dcterms:modified>
  <cp:revision>51</cp:revision>
  <dc:subject/>
  <dc:title>Слайд 1</dc:title>
</cp:coreProperties>
</file>