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A8044-3382-44BE-B487-189CC8C3E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2964D-F186-4F1C-842E-78EB57CE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CDEE2-D4FA-450F-96F8-2ED5B9885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41290-07BC-481C-89C2-52BDCE4F9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FAC9-41DD-4A72-B251-26475F926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D97B-DF80-4F61-99B2-66BDFE49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F8A2-3D03-48BA-9510-926C5447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DC2D-6552-4AD9-A54C-DD720283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E6C9-8401-418B-B42C-25297798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C972-8DA7-455D-BA40-27296DA2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3BC4-D0CC-46BA-BF57-A00BB2A2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25477-F290-41BB-9798-8CF7459C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1F9F-12C0-4234-AAF2-D3189F30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F88A-2CD4-4577-BD5B-CAA5D4DA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D4D3-3ED9-4C08-8D5D-AB3B0368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158D-7A7C-4C37-8491-BA06CE4E9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1062-C8E9-4196-B496-23371140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6446E-AE6D-43F9-B8D9-AEFCD17A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6E09F-EC3F-4646-8564-442E9E09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0E70D-95F2-4F36-9FBC-BB3A7FC8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2C705-38D0-45A8-BE34-7C259CA7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FF83B-2F36-4F8F-89D3-AFF13BBE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79D92-EDC8-4861-AF88-BEE877CE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CF67C-62AF-4F3E-979A-9D608480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D9DF-E043-4ACC-BDC1-E7B26363F4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62D8-9E10-4CC5-A802-E631426549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-10008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1) Жанр, в котором излагалась история жизни свят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2) Митрополит, затем патриарх, решивший исправить богослужебные книг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3) «Неистовый протопоп», возглавивший старообрядце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4) Результат церковной реформы 1653 – 1656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5) Патриарх, отец Михаила Федоровича Романо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Восстание Степана Разина  - 1667 - 16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Итог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Разин казн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Восстание подавле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Казнено ок. 100 тысяч восставш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ffffcc"/>
                </a:solidFill>
                <a:uFillTx/>
                <a:latin typeface="Arial"/>
              </a:rPr>
              <a:t>Восстания старообрядцев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Причина: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 церковный Раск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Событ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Самосожжения старообрядцев, отказ признавать реформы Ник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1668 – 1676 – Соловецкое восст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Результаты: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Жестокие расправы со старообрядц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Выступления старообрядцев продолжа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7d"/>
                </a:solidFill>
                <a:latin typeface="Arial"/>
              </a:rPr>
              <a:t>§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-10008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11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800000"/>
                </a:solidFill>
                <a:latin typeface="Arial"/>
              </a:rPr>
              <a:t>Письменно ответьте на вопрос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1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300"/>
                </a:solidFill>
                <a:latin typeface="Arial"/>
              </a:rPr>
              <a:t>1 вариант: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7d"/>
                </a:solidFill>
                <a:latin typeface="Arial"/>
              </a:rPr>
              <a:t>Чем была вызвана церковная  реформа середины 17 в.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1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3300"/>
                </a:solidFill>
                <a:latin typeface="Arial"/>
              </a:rPr>
              <a:t>2 вариант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7d"/>
                </a:solidFill>
                <a:latin typeface="Arial"/>
              </a:rPr>
              <a:t>Суть церковной реформы 17 в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40000" y="1844280"/>
            <a:ext cx="70912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Arial"/>
              </a:rPr>
              <a:t>«Бунташный век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442764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Arial"/>
              </a:rPr>
              <a:t>9.02. 20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549360"/>
            <a:ext cx="9144000" cy="61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Что изменилось в положении крестьян в первой половине 17 в.? Какую роль в этом сыграло Соборное Уложение 1649 г.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Кого называли казаками? Почему они проживали на окраинах государств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Как складывались отношения между никонианцами и старообрядца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"/>
              </a:rPr>
              <a:t>Причины народных выступлений 17 в.</a:t>
            </a:r>
            <a:r>
              <a:rPr b="1" lang="en-US" sz="6000" spc="-1" strike="noStrike" u="sng">
                <a:solidFill>
                  <a:srgbClr val="ffffcc"/>
                </a:solidFill>
                <a:uFillTx/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989000"/>
            <a:ext cx="91440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7d"/>
                </a:solidFill>
                <a:latin typeface="Arial"/>
              </a:rPr>
              <a:t>С. 61 – выпишите в тетрад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Закрепощение крестьянства и рост феодальных повин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Усиление налогов, ведение вой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Приказная волоки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Попытки ограничения казачьей во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Церковный раскол и расправы со старообряд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cc"/>
                </a:solidFill>
                <a:uFillTx/>
                <a:latin typeface="Arial"/>
              </a:rPr>
              <a:t>Восстания </a:t>
            </a:r>
            <a:r>
              <a:rPr b="1" lang="en-US" sz="4800" spc="-1" strike="noStrike" u="sng">
                <a:solidFill>
                  <a:srgbClr val="ffffcc"/>
                </a:solidFill>
                <a:uFillTx/>
                <a:latin typeface="Arial"/>
              </a:rPr>
              <a:t>XVII</a:t>
            </a:r>
            <a:r>
              <a:rPr b="1" lang="ru-RU" sz="4800" spc="-1" strike="noStrike" u="sng">
                <a:solidFill>
                  <a:srgbClr val="ffffcc"/>
                </a:solidFill>
                <a:uFillTx/>
                <a:latin typeface="Arial"/>
              </a:rPr>
              <a:t> 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981000"/>
            <a:ext cx="914400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Заполните таблицу (параграф 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Соляной бунт, Медный бунт, Восстание Степана Разина, восстания старообрядц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4076640"/>
          <a:ext cx="9144000" cy="2781360"/>
        </p:xfrm>
        <a:graphic>
          <a:graphicData uri="http://schemas.openxmlformats.org/drawingml/2006/table">
            <a:tbl>
              <a:tblPr/>
              <a:tblGrid>
                <a:gridCol w="1547640"/>
                <a:gridCol w="1944720"/>
                <a:gridCol w="3167280"/>
                <a:gridCol w="2484360"/>
              </a:tblGrid>
              <a:tr h="180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дат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причин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событи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результат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ffffcc"/>
                </a:solidFill>
                <a:uFillTx/>
                <a:latin typeface="Arial"/>
              </a:rPr>
              <a:t>Соляной бунт - 1648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Причина: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 введение дополнительной пошлины на с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Событ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1 июня 164 г. – жалоба москвичей на главу Земского приказа Л.С. Плещеева (казнокрадство, волокита, высокие цены на хлеб и со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Результаты: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 Плещеев отдан на расправу народу, в отставку отправлен боярин Б.Морозов – воспитатель Алексея и фактический прав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ffffcc"/>
                </a:solidFill>
                <a:uFillTx/>
                <a:latin typeface="Arial"/>
              </a:rPr>
              <a:t>Медный бунт - 166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Причина: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 чеканка медной монеты, обесценивание дене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Событ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1662 г. – обращение горожан к царю, переговоры, разгром толпы с помощью вой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Результаты:</a:t>
            </a: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восстание подавлено, зачинщики казнены, многие наказаны и отправлены в ссыл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Отмена медных дене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Восстание Степана Разина  - 1667 - 16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Причины: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 бегство крестьян на окраины страны, разорение каза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Событ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1 этап. </a:t>
            </a:r>
            <a:r>
              <a:rPr b="1" lang="ru-RU" sz="3200" spc="-1" strike="noStrike" u="sng">
                <a:solidFill>
                  <a:srgbClr val="003300"/>
                </a:solidFill>
                <a:uFillTx/>
                <a:latin typeface="Arial"/>
              </a:rPr>
              <a:t>1667 – 1669 гг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.  - «</a:t>
            </a: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поход за зипунами»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. Отряды Разина блокировали Волгу и захватывали торговые корабли русских и персидских купцов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2 этап. </a:t>
            </a:r>
            <a:r>
              <a:rPr b="1" lang="ru-RU" sz="3200" spc="-1" strike="noStrike" u="sng">
                <a:solidFill>
                  <a:srgbClr val="003300"/>
                </a:solidFill>
                <a:uFillTx/>
                <a:latin typeface="Arial"/>
              </a:rPr>
              <a:t>1670 – 1671 гг.</a:t>
            </a:r>
            <a:r>
              <a:rPr b="1" lang="ru-RU" sz="3200" spc="-1" strike="noStrike">
                <a:solidFill>
                  <a:srgbClr val="00007d"/>
                </a:solidFill>
                <a:latin typeface="Arial"/>
              </a:rPr>
              <a:t> – захват Царицина, Астрахани, Саратова, Самары, Пензы и др. Осада Симбирска. Зажиточные казаки выдали Разина власт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0:00:02Z</dcterms:created>
  <dc:creator>Андрей</dc:creator>
  <dc:description/>
  <dc:language>en-US</dc:language>
  <cp:lastModifiedBy>Ната</cp:lastModifiedBy>
  <dcterms:modified xsi:type="dcterms:W3CDTF">2010-02-08T21:50:56Z</dcterms:modified>
  <cp:revision>51</cp:revision>
  <dc:subject/>
  <dc:title>Слайд 1</dc:title>
</cp:coreProperties>
</file>