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1"/>
          <p:cNvSpPr/>
          <p:nvPr/>
        </p:nvSpPr>
        <p:spPr>
          <a:xfrm>
            <a:off x="0" y="0"/>
            <a:ext cx="6858000" cy="96724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72480"/>
              <a:gd name="textAreaBottom" fmla="*/ 9672120 h 9672480"/>
            </a:gdLst>
            <a:ahLst/>
            <a:rect l="textAreaLeft" t="textAreaTop" r="textAreaRight" b="textAreaBottom"/>
            <a:pathLst>
              <a:path w="21600" h="30464">
                <a:moveTo>
                  <a:pt x="5" y="0"/>
                </a:moveTo>
                <a:arcTo wR="5" hR="5" stAng="16200000" swAng="-5400000"/>
                <a:lnTo>
                  <a:pt x="0" y="30459"/>
                </a:lnTo>
                <a:arcTo wR="5" hR="5" stAng="10800000" swAng="-5400000"/>
                <a:lnTo>
                  <a:pt x="21595" y="304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0" y="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918684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4"/>
          </p:nvPr>
        </p:nvSpPr>
        <p:spPr>
          <a:xfrm>
            <a:off x="3884760" y="918648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C71F-3A3E-407C-BE19-5F3DBECBF9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4189-16DD-4DFF-9EB7-39661891A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75BF67-B659-4E31-9A6E-B1604C9874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954EC-38C1-4E63-8797-18D9B40567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2AD48-AFD2-4C12-AECB-51822DF469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ивть сравнительную картину о работе по годам за предыдущ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10335-9B05-4596-B58A-282694FF65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мерших (чел)Летальность ( %)2010г491,12011г470,42012г360,8Структура летальных и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) 17чел -  47,2 % заболевания сердечно-сосудистой 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 чел – 19,4 % раковые заболевания различной этиоло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 чел -  16,6 % заболевания желудочно-кишечного тра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 чел – 13,9 % ВИЧ инфицированные 3-4 стадии с сопутствующей патолог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 чел –   2,8 % ожоговые раны после перенесённого ОНМ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)  По возрастному состав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30 лет        – 1 чел =  2,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50 лет        – 6 чел = 16,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60 лет        - 3 чел =  8,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70 лет         –10чел = 27,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ыше 70 лет - 16 чел =44,4%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F07ED-59EB-428B-A366-EF009EA5D9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07841-2FC5-4C0C-AC35-2F5B2BF463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AE3511-C1EE-4034-A40A-779920444FD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628B4-6CC9-4644-AB7A-42FFE284E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F8DB3-2792-42B0-9F13-13AD3AB0F9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8A418-0AFE-4F7A-B131-07B5D3CED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AF76D-EFAD-4A5F-9485-E04805E0E1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DD51A8-6581-4907-B67F-A547377BE45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B3C27-82AD-4AAE-8381-D9F561E410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D49571-B863-4321-9826-BF17A2C96D9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B8B86-EBF6-4D87-8271-AE717101D2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83A25-C82A-457B-ADC3-0AFB55DA71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2785F-37F6-4CB4-8C66-9E1864C521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5913B-8274-4192-873A-DBC3ED1C3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B63B9E-6F02-4EAB-A6B4-9BDF482F0C6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521E-A214-4AFF-A9AD-47398F01A8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6EC7B2-CD3C-4B52-A945-4B148627B8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E9C56-7CE3-4976-A36A-A2E99CBE29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958073-1556-41BB-BB7F-834B6A24B1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96203-ED0B-4C29-99E9-DF3C2D6E9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723EB2-96BA-4539-9891-A56095890DC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587E7-026F-42D4-AFC8-769A36DD84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241C09-4AB9-4F95-AC98-ED5B51D4095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217AA-EA4C-476C-A90D-CD14B5DDF2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70141F-36FC-4550-91D9-0B949E6AA4E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F3938-3682-4BB9-91F7-3098FF24E3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CA81-9052-4B17-81A4-D97A66DC5A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11BEA5-2D39-469D-8728-D6D7B0D9A6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648EF-0FFB-432E-A13C-A43F0C1D54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91A05F-4EFF-4791-A862-F1129B6536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8A073-DC94-40C6-8147-685123FF46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8B3829-4CFF-48FE-ACCE-3A082B0F64E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AD31-3567-46D9-B1CF-0948EA873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EF27D5-B8EE-49BC-B3BF-EE21420D9AF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D2E7E-62DE-4860-BA5E-F383B5341E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D5442A-A9D4-4C03-A9C7-3A31782ED3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ьшее количество посещений приходится на терапевтов и педиатров, из узких специалистов – на хирурга-травматоло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36F26-D327-46EF-B058-499DE38DF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12352-E763-494C-B575-9AEB805ACF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7EBA6-10F1-46F5-933A-59F4D9BAF5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0891B-727C-4193-81A6-93BB7F3D84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85763-E526-46C9-B6CE-56A823B8E3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7C01-2185-4243-8B8D-C9BBDC67A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F476-8EEC-4C15-84A9-DDDA2BCBE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7F82-52D3-481B-8CCE-1B46115C8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764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492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764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492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F109-C4E4-442E-B74F-879B2224B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BA60-8453-4E41-B75F-8056EB25C1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F050-B2A5-4E85-8450-8D4B96476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DA88-D8F5-4783-B24A-D1D119EF4B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2D42-EC5D-4CAA-A900-B45CDA294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19D8-599E-4815-8154-EF8C98DCE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430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808E-1A8F-45FD-A9B5-E6DDB8051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EFF6-2970-4D77-95F2-1AE4997F3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9DE5-4852-4FBE-AA3A-39C6BD4D8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F3B3-F961-4C9A-A00A-BA9D931D96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D8A5-0F85-47C3-B342-AE0B33BCEF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8B75-2A62-4F1F-9C46-9DCF0860D4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4E6B-7FF2-444E-988B-6898A3D58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79764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2492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7000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79764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2492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A138-02F3-47F6-9B99-C5F3F925D7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B9BA-89C0-4322-8060-3D2D31F4B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008E-20C6-4FED-AACE-EDBEA33D6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6A80-A4D5-4CF7-9EC9-D515C1C8B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C779-2F48-46F7-A9ED-828D8208B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C3D1-26EB-426E-A545-D7A8A674C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6465-E2E6-45EE-8B86-E18050AF9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0B0C-831F-4092-9B39-81EC1D484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75960" y="161640"/>
              <a:ext cx="150480" cy="6549840"/>
              <a:chOff x="75960" y="161640"/>
              <a:chExt cx="150480" cy="654984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75960" y="17532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75960" y="1982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5960" y="24400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75960" y="28969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0"/>
              <p:cNvSpPr/>
              <p:nvPr/>
            </p:nvSpPr>
            <p:spPr>
              <a:xfrm>
                <a:off x="75960" y="31273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75960" y="3355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3"/>
              <p:cNvSpPr/>
              <p:nvPr/>
            </p:nvSpPr>
            <p:spPr>
              <a:xfrm>
                <a:off x="75960" y="381276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4"/>
              <p:cNvSpPr/>
              <p:nvPr/>
            </p:nvSpPr>
            <p:spPr>
              <a:xfrm>
                <a:off x="75960" y="40428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5"/>
              <p:cNvSpPr/>
              <p:nvPr/>
            </p:nvSpPr>
            <p:spPr>
              <a:xfrm>
                <a:off x="75960" y="42710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7"/>
              <p:cNvSpPr/>
              <p:nvPr/>
            </p:nvSpPr>
            <p:spPr>
              <a:xfrm>
                <a:off x="75960" y="47282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>
                <a:off x="75960" y="49568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>
                <a:off x="75960" y="54136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>
                <a:off x="75960" y="56437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>
                <a:off x="75960" y="58741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>
                <a:off x="75960" y="61005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>
                <a:off x="75960" y="6330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>
                <a:off x="75960" y="65577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>
                <a:off x="75960" y="1616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>
                <a:off x="75960" y="107676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Text Box 34"/>
          <p:cNvSpPr/>
          <p:nvPr/>
        </p:nvSpPr>
        <p:spPr>
          <a:xfrm>
            <a:off x="11430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35"/>
          <p:cNvSpPr/>
          <p:nvPr/>
        </p:nvSpPr>
        <p:spPr>
          <a:xfrm>
            <a:off x="35812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ldNum" idx="1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9411E2-B985-4D9E-A404-0D3746132A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74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75960" y="161640"/>
              <a:ext cx="150480" cy="6549840"/>
              <a:chOff x="75960" y="161640"/>
              <a:chExt cx="150480" cy="654984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75960" y="17532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75960" y="1982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75960" y="24400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75960" y="28969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0"/>
              <p:cNvSpPr/>
              <p:nvPr/>
            </p:nvSpPr>
            <p:spPr>
              <a:xfrm>
                <a:off x="75960" y="31273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1"/>
              <p:cNvSpPr/>
              <p:nvPr/>
            </p:nvSpPr>
            <p:spPr>
              <a:xfrm>
                <a:off x="75960" y="3355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3"/>
              <p:cNvSpPr/>
              <p:nvPr/>
            </p:nvSpPr>
            <p:spPr>
              <a:xfrm>
                <a:off x="75960" y="381276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4"/>
              <p:cNvSpPr/>
              <p:nvPr/>
            </p:nvSpPr>
            <p:spPr>
              <a:xfrm>
                <a:off x="75960" y="40428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5"/>
              <p:cNvSpPr/>
              <p:nvPr/>
            </p:nvSpPr>
            <p:spPr>
              <a:xfrm>
                <a:off x="75960" y="42710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7"/>
              <p:cNvSpPr/>
              <p:nvPr/>
            </p:nvSpPr>
            <p:spPr>
              <a:xfrm>
                <a:off x="75960" y="47282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8"/>
              <p:cNvSpPr/>
              <p:nvPr/>
            </p:nvSpPr>
            <p:spPr>
              <a:xfrm>
                <a:off x="75960" y="49568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0"/>
              <p:cNvSpPr/>
              <p:nvPr/>
            </p:nvSpPr>
            <p:spPr>
              <a:xfrm>
                <a:off x="75960" y="54136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1"/>
              <p:cNvSpPr/>
              <p:nvPr/>
            </p:nvSpPr>
            <p:spPr>
              <a:xfrm>
                <a:off x="75960" y="56437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2"/>
              <p:cNvSpPr/>
              <p:nvPr/>
            </p:nvSpPr>
            <p:spPr>
              <a:xfrm>
                <a:off x="75960" y="58741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3"/>
              <p:cNvSpPr/>
              <p:nvPr/>
            </p:nvSpPr>
            <p:spPr>
              <a:xfrm>
                <a:off x="75960" y="61005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4"/>
              <p:cNvSpPr/>
              <p:nvPr/>
            </p:nvSpPr>
            <p:spPr>
              <a:xfrm>
                <a:off x="75960" y="6330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5"/>
              <p:cNvSpPr/>
              <p:nvPr/>
            </p:nvSpPr>
            <p:spPr>
              <a:xfrm>
                <a:off x="75960" y="65577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6"/>
              <p:cNvSpPr/>
              <p:nvPr/>
            </p:nvSpPr>
            <p:spPr>
              <a:xfrm>
                <a:off x="75960" y="1616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0"/>
              <p:cNvSpPr/>
              <p:nvPr/>
            </p:nvSpPr>
            <p:spPr>
              <a:xfrm>
                <a:off x="75960" y="107676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Group 33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06" name="Rectangle 34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5"/>
            <p:cNvGrpSpPr/>
            <p:nvPr/>
          </p:nvGrpSpPr>
          <p:grpSpPr>
            <a:xfrm>
              <a:off x="75960" y="163080"/>
              <a:ext cx="150480" cy="6546600"/>
              <a:chOff x="75960" y="163080"/>
              <a:chExt cx="150480" cy="6546600"/>
            </a:xfrm>
          </p:grpSpPr>
          <p:sp>
            <p:nvSpPr>
              <p:cNvPr id="108" name="Rectangle 36"/>
              <p:cNvSpPr/>
              <p:nvPr/>
            </p:nvSpPr>
            <p:spPr>
              <a:xfrm>
                <a:off x="75960" y="17528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37"/>
              <p:cNvSpPr/>
              <p:nvPr/>
            </p:nvSpPr>
            <p:spPr>
              <a:xfrm>
                <a:off x="75960" y="19828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38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39"/>
              <p:cNvSpPr/>
              <p:nvPr/>
            </p:nvSpPr>
            <p:spPr>
              <a:xfrm>
                <a:off x="75960" y="24397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40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41"/>
              <p:cNvSpPr/>
              <p:nvPr/>
            </p:nvSpPr>
            <p:spPr>
              <a:xfrm>
                <a:off x="75960" y="2896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42"/>
              <p:cNvSpPr/>
              <p:nvPr/>
            </p:nvSpPr>
            <p:spPr>
              <a:xfrm>
                <a:off x="75960" y="3126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43"/>
              <p:cNvSpPr/>
              <p:nvPr/>
            </p:nvSpPr>
            <p:spPr>
              <a:xfrm>
                <a:off x="75960" y="3357000"/>
                <a:ext cx="150480" cy="1486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45"/>
              <p:cNvSpPr/>
              <p:nvPr/>
            </p:nvSpPr>
            <p:spPr>
              <a:xfrm>
                <a:off x="75960" y="38138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46"/>
              <p:cNvSpPr/>
              <p:nvPr/>
            </p:nvSpPr>
            <p:spPr>
              <a:xfrm>
                <a:off x="75960" y="40438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47"/>
              <p:cNvSpPr/>
              <p:nvPr/>
            </p:nvSpPr>
            <p:spPr>
              <a:xfrm>
                <a:off x="75960" y="42696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48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49"/>
              <p:cNvSpPr/>
              <p:nvPr/>
            </p:nvSpPr>
            <p:spPr>
              <a:xfrm>
                <a:off x="75960" y="47264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50"/>
              <p:cNvSpPr/>
              <p:nvPr/>
            </p:nvSpPr>
            <p:spPr>
              <a:xfrm>
                <a:off x="75960" y="49564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51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52"/>
              <p:cNvSpPr/>
              <p:nvPr/>
            </p:nvSpPr>
            <p:spPr>
              <a:xfrm>
                <a:off x="75960" y="5413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53"/>
              <p:cNvSpPr/>
              <p:nvPr/>
            </p:nvSpPr>
            <p:spPr>
              <a:xfrm>
                <a:off x="75960" y="5643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54"/>
              <p:cNvSpPr/>
              <p:nvPr/>
            </p:nvSpPr>
            <p:spPr>
              <a:xfrm>
                <a:off x="75960" y="5873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55"/>
              <p:cNvSpPr/>
              <p:nvPr/>
            </p:nvSpPr>
            <p:spPr>
              <a:xfrm>
                <a:off x="75960" y="610020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56"/>
              <p:cNvSpPr/>
              <p:nvPr/>
            </p:nvSpPr>
            <p:spPr>
              <a:xfrm>
                <a:off x="75960" y="633060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57"/>
              <p:cNvSpPr/>
              <p:nvPr/>
            </p:nvSpPr>
            <p:spPr>
              <a:xfrm>
                <a:off x="75960" y="65592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58"/>
              <p:cNvSpPr/>
              <p:nvPr/>
            </p:nvSpPr>
            <p:spPr>
              <a:xfrm>
                <a:off x="75960" y="1630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59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60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61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62"/>
              <p:cNvSpPr/>
              <p:nvPr/>
            </p:nvSpPr>
            <p:spPr>
              <a:xfrm>
                <a:off x="75960" y="1075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63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64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7"/>
          <p:cNvSpPr/>
          <p:nvPr/>
        </p:nvSpPr>
        <p:spPr>
          <a:xfrm>
            <a:off x="11430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35812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5BD762-236F-452E-A2B4-0B5728B798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30492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ПОЯСНИТЕЛЬНАЯ ЗАПИСКА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ГОДОВОМУ ОТЧЕТУ ЗА </a:t>
            </a:r>
            <a:r>
              <a:rPr b="1" lang="en-GB" sz="2800" spc="-1" strike="noStrike">
                <a:solidFill>
                  <a:srgbClr val="ffff00"/>
                </a:solidFill>
                <a:latin typeface="Arial Black"/>
              </a:rPr>
              <a:t>201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3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ГОД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МУЗ </a:t>
            </a: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«высоковская городская 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БОЛЬНИЦА»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И ПЛАН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Ы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РАБОТ 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НА </a:t>
            </a:r>
            <a:r>
              <a:rPr b="1" lang="en-GB" sz="2800" spc="-1" strike="noStrike">
                <a:solidFill>
                  <a:srgbClr val="ffff00"/>
                </a:solidFill>
                <a:latin typeface="Arial Black"/>
              </a:rPr>
              <a:t>201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4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ГО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828800" y="4572000"/>
            <a:ext cx="69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Главный врач МУЗ «Высоковск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городская больниц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Моисеев Андрей Никола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ЫЯВЛЕНИЕ ОНКОЛОГИЧЕСКИХ БОЛЬНЫХ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1285920" y="928800"/>
            <a:ext cx="7858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взято на «Д» учёт  49 чел. , из 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4 ч  онкопатология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I-IY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  (48,9%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5 ч  онкопатология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-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  (51,1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о на диспансерном учёте 232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7 чел  онкопатология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I-IY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–   28,9%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65 чел  онкопатология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-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т    - 71,1%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нято с «Д» учета 21 чел в связи со смертью   (12,9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стадиям  запущеннос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Диаграмма 4" descr=""/>
          <p:cNvPicPr/>
          <p:nvPr/>
        </p:nvPicPr>
        <p:blipFill>
          <a:blip r:embed="rId1"/>
          <a:stretch/>
        </p:blipFill>
        <p:spPr>
          <a:xfrm>
            <a:off x="1494000" y="4286160"/>
            <a:ext cx="70704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714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ЕРВИЧНЫЙ ВЫХОД НА ИНВАЛИДНОСТЬ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рослые:</a:t>
            </a:r>
            <a:br>
              <a:rPr sz="24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 вышло  на инвалидность 54 че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 из них:                             трудоспособного возраста  25 чел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спределение по группам инвалидност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1 гр. 4 чел  (трудоспособ. возраста 0 чел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2 гр. 19 чел (трудоспособ. возраста 9 чел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3 гр. 31 чел. (трудоспособ.возрата 16 чел)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профиля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 терапия        – 7 чел ( трудоспособ возраста 5 чел)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неврология – 11 чел (трудоспос возраста 8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хирургия     – 14 чел (трудоспособ возраста 8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онкология   – 20 чел ( трудоспособ озраста 4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офтальмология – 2 чел  ( трудоспос возраста 0 чел)</a:t>
            </a:r>
            <a:br>
              <a:rPr sz="20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ти </a:t>
            </a:r>
            <a:br>
              <a:rPr sz="24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явленол впервые инвалидов среди детей в 2013г – 8 человек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ТСКАЯ ИНВАЛИДНОСТЬ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116000" y="819360"/>
            <a:ext cx="8028000" cy="55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т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инвали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:        55 ч. из них:                                                                                                                                город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2 ч                                                                                                                                                   село    - 1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о  впервы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8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нозология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нервной системы  -   18 ч,              из них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пилепс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ДЦП          -  16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образования                                             -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атрические болезни                              -   16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эндокринной системы                      -   2 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глаз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уха                                                      -   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органов дыхания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 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костно- мышечной системы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почек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ожденные аномал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9,  из них  сердца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1722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ИСПАНСЕРИЗАЦИЯ НАСЕЛЕНИЯ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7142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диспансеризац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определенных групп взрослого населения –по плану на 2013 год - 3 375 чел.,                                                                            осмотрено -2972 чел. (88,1 %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профилактическом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едосмотру взрослого населения – по плану на 2013 год  -  2 554 чел.,                                                                              осмотрено – 994 чел. (39 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 201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ду планируется продолжение диспансеризации определенных групп взрослого населения в количестве примерно     30 % от общего числа взрослого приписного насел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о: расширять группу по прохождению диспансеризации с целью более  раннего выявления заболеваний  и выявления на ранней стадии онкопат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оведение диспансеризации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бывающих в стационарах учреждения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етей-сирот и детей, находящихся в трудной жизненной ситуации»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о подлежало осмотру    54 че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54 чел =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иодический осмотр детей: план 2021 ч , выполнено 870 ч =4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ФОСМОТРЫ    ДЕТЕЙ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70000" y="549360"/>
            <a:ext cx="77709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го осмотрено при профилактических осмотрах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ей и подростков   -  1754 ч  = 101,8% (план – 1723ч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лено патологий: - с нарушением слуха     -  1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нарушение зрения   -  29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дефектами речи     –   39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нарушением осанки–  14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 сколиозом             –  10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т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поступление в детское дошкольное учреждение –  7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за год до поступление в школу                                         –  28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поступление в школу                                               -  11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конце 1 года обучения                                                       -  5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и переходе к предметному  обучению                         –  26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возрасте 15 лет                                                                  - 12 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окончанием школы                                                    -  4 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ляемость заболеваний на проф осмотрах составила – 5,3 %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дети с выявленной патологией, взяты на  «Д»  уч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КРУГЛОСУТОЧНОГО СТАЦИОНАРА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 2013г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1000080"/>
          <a:ext cx="7715160" cy="3032280"/>
        </p:xfrm>
        <a:graphic>
          <a:graphicData uri="http://schemas.openxmlformats.org/drawingml/2006/table">
            <a:tbl>
              <a:tblPr/>
              <a:tblGrid>
                <a:gridCol w="1714680"/>
                <a:gridCol w="1211040"/>
                <a:gridCol w="957240"/>
                <a:gridCol w="959040"/>
                <a:gridCol w="957240"/>
                <a:gridCol w="766800"/>
                <a:gridCol w="11491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годовых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о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пл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пл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сть кой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 кой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длительность ле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 3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3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3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 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67"/>
          <p:cNvSpPr/>
          <p:nvPr/>
        </p:nvSpPr>
        <p:spPr>
          <a:xfrm flipV="1" rot="10800000">
            <a:off x="1071360" y="3944520"/>
            <a:ext cx="80722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лановые задания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 хирургии и инфекционному отделениям перевыполнены (105%-102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Гинекологические  койки круглосуточные работали только 7 месяцев до 01.08.2013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апевтические койки сработали на 97% в результате путаницы с объёмами, выставленными ТФОМС, из которых следовало, что в отделении 10 коек дневных и 50 коек круглосуточных, приходилось выполнять данные объёмы в 1 квартале, во 2 квартале  пересмотрели наши объёмы и выставили цифры на весь 2014год как  на 55 круглосуточных коек и 5 коек дневного пребывания, в результате и произошёл перекос в выполнении плановых объёмов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5716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довыполнение  объёмов по круглосуточному стационар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выполнение по дневному стационару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ДНЕВНОГО СТАЦИОНАРА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 2012г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4280" y="787320"/>
          <a:ext cx="7500960" cy="3506760"/>
        </p:xfrm>
        <a:graphic>
          <a:graphicData uri="http://schemas.openxmlformats.org/drawingml/2006/table">
            <a:tbl>
              <a:tblPr/>
              <a:tblGrid>
                <a:gridCol w="1785960"/>
                <a:gridCol w="1071720"/>
                <a:gridCol w="857160"/>
                <a:gridCol w="1071720"/>
                <a:gridCol w="857160"/>
                <a:gridCol w="1000080"/>
                <a:gridCol w="857160"/>
              </a:tblGrid>
              <a:tr h="112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среднегодовых ко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пл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пл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сть к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 к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длит л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6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3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63"/>
          <p:cNvSpPr/>
          <p:nvPr/>
        </p:nvSpPr>
        <p:spPr>
          <a:xfrm>
            <a:off x="1258920" y="4572000"/>
            <a:ext cx="763416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лановые зада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хирургического и терапевтического отделений выполнены свыше 10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инекология дневной при стационаре – план на 9 месяцев, а работала дневная койка при стационаре работала всего 8 месяцев, поэтому и выполнение плана ниже 10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рот койки высокий выше 20 во всех дневных отделен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АЦИОНАР ДНЕВНОГО ПРЕБЫВАНИЯ ПРИ ЖЕНСКОЙ КОНСУЛЬТАЦИИ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142640" y="857160"/>
            <a:ext cx="8001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поликлинике работал 4 месяца в 2013г с 01.08.2013г по 31.12.2013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71760" y="1643040"/>
          <a:ext cx="6095880" cy="3943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ко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3 к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лана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выполнение плана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койки в го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леченных б-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 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 ле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 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кой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а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468720" y="0"/>
            <a:ext cx="1036332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ЕТАЛЬНОСТЬ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08000" y="1413000"/>
          <a:ext cx="5521680" cy="1449360"/>
        </p:xfrm>
        <a:graphic>
          <a:graphicData uri="http://schemas.openxmlformats.org/drawingml/2006/table">
            <a:tbl>
              <a:tblPr/>
              <a:tblGrid>
                <a:gridCol w="1157400"/>
                <a:gridCol w="2644920"/>
                <a:gridCol w="1719360"/>
              </a:tblGrid>
              <a:tr h="50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оличество умерш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Лета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1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7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4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2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6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3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3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Box 9"/>
          <p:cNvSpPr/>
          <p:nvPr/>
        </p:nvSpPr>
        <p:spPr>
          <a:xfrm>
            <a:off x="1285920" y="3357720"/>
            <a:ext cx="764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438200" y="3510000"/>
            <a:ext cx="764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143000" y="2924280"/>
            <a:ext cx="8001000" cy="59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 умерш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ерапевтическом отд   практических на тех же цифрах ( 5ч-2011г,            7 ч -  2012г,  7 ч - 2013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хирургическом отд практически на одних и тех же цифрах в течении 3-х лет, ( 20ч – 2011г, 23ч – 2012г, 22 ч – 2013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нфекционном отделении наметилась тенденция к уменьшению количества умерших (7 ч  -  2011г,  6 ч -  2012г,  4 ч – 2013г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инекологическом отделении 0 умерш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целом по больнице количество умерших  по сравнению с 2011г значительно  уменьшилась ( на 14 ч ) и по сравнению с 2012г немного уменьшилась (3 ч)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 вскрыти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нфекционном отд на одних и тех же цифр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илось в хирургическом отделении (3ч-2011г, 5ч- 2012г, 8ч – 2013г), и в целом по больнице  (8ч-2011г, 8ч. – 2012г , 11ч -2013г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 flipV="1" rot="8522400">
            <a:off x="1042200" y="4305600"/>
            <a:ext cx="8101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116000" y="404640"/>
            <a:ext cx="78487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тальные исходы наблюдались только в круглосуточном стациона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гинекологической койке круглосуточного стационара летальных исходов не был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РУКТУРА ЛЕТАЛЬНОСТИ ПО СТАЦИОНАРУ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70000" y="714240"/>
            <a:ext cx="7770960" cy="65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го умерло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3 ч -0,8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зведено вскрытий 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11 ч =33,3%,       22 ч=  66,7% не вскры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2.Расхождения диагноз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:         1ч =   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.Работоспособного возрас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: 11 ч =  33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4.Возрастной соста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    д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л =0,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30л до 40л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ч =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40л до 50 л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2 ч =6,1%,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50 л  до 6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  - 8 ч =24,2%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60  л до 70 л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ч =6,1%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70 л  до 80 л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 ч =48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ыш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       -  4 ч   = 12,1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о нозолог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1 ч =  3%  - ВИЧ -3-4 ст  +цирроз печен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 ч =  9%  - хронический гепатит, хр алкоголизм,                12 ч = 36,3% –сосудистые заболевания нижних конечнос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 ч = 30,3% - онкология различной этиологи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ч = 12,1% - сердечно-сосудистая патология  (ИБС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ч =  6%     - ХОБ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ч =   3%    - сосудистое заболевания головного моз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171440" y="0"/>
            <a:ext cx="746784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МБУЛАТОРНО – ПОЛИКЛИНИЧЕСК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Я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СЛУЖБ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ОЛИКЛИНИКА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а 500 посещений в сме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7 терапевтических участков (6 городских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 сельский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6 ФАП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зкие специалисты (хирург, невролог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ул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ист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ториноларинголог, стоматоло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инфекционист, кардиолог, онколог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етская консультац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женская консультация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участка ОВП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ационар на дому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5  кое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(в две смены)  - терапевтически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невной стационар  ОВП  в 2 смен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01.08.14г  открыто 10 коек дневного пребывания  при поликлинике  гинекологического профиля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РАБОТ НА 2014 г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70000" y="499680"/>
            <a:ext cx="7974000" cy="67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а)План амбулаторно-поликлинической помощ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ещений –154 286 посещений и  стационары на дому –  7 000 п/д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менить план по дневному стационару при поликлинике, так как  присланный план рассчитан на 40 ко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)Планы по стационару:  круглосуточный стационар – 41 350 к\д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менить план работ по дневному стационару  при стационаре, так как по терапии  план рассчитан план на 15 коек дневного пребы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Продолжить совершенствовать принципы взаимодействия поликлиники с подразделением скорой медицинской помощи и со стационарными отделен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Продолжить работу по оказанию медицинской помощи сельскому населению (выездные бригады), включая проведение диспансеризации и медицинские осмот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Продолжить держать среднюю занятость койки стационара  не менее 330 – 340 дней в год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.Внедрить в практику новое оборудование,  с целью улучшения качества оказания медицинской помощи населению и уменьшения количества штрафных санкций вневедомственной экспертиз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.Продолжить внедрение схем лечения  оказания медицинской помо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ДЕЙСТВИЕ МЕЖДУ ПОДРАЗДЕЛЕНИЯМИ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684360" y="981000"/>
            <a:ext cx="8459640" cy="55976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Стационар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оликлиника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                 Дневной стационар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Дневной стационар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при стационар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при поликлинике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Стационар на д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ЗИ кабинет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араклиника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абин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доскопи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Лаборатория        Физиотерапия         Рентгенкабин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нкциональн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9" name="AutoShape 3"/>
          <p:cNvCxnSpPr/>
          <p:nvPr/>
        </p:nvCxnSpPr>
        <p:spPr>
          <a:xfrm>
            <a:off x="4071600" y="1285920"/>
            <a:ext cx="18579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0" name="AutoShape 4"/>
          <p:cNvCxnSpPr/>
          <p:nvPr/>
        </p:nvCxnSpPr>
        <p:spPr>
          <a:xfrm flipH="1">
            <a:off x="1285200" y="1428840"/>
            <a:ext cx="57204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AutoShape 5"/>
          <p:cNvCxnSpPr/>
          <p:nvPr/>
        </p:nvCxnSpPr>
        <p:spPr>
          <a:xfrm>
            <a:off x="2642760" y="1428840"/>
            <a:ext cx="857880" cy="429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AutoShape 6"/>
          <p:cNvCxnSpPr/>
          <p:nvPr/>
        </p:nvCxnSpPr>
        <p:spPr>
          <a:xfrm>
            <a:off x="7524360" y="1268280"/>
            <a:ext cx="429480" cy="1789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AutoShape 7"/>
          <p:cNvCxnSpPr/>
          <p:nvPr/>
        </p:nvCxnSpPr>
        <p:spPr>
          <a:xfrm flipH="1">
            <a:off x="1762920" y="4941720"/>
            <a:ext cx="252180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4" name="AutoShape 8"/>
          <p:cNvCxnSpPr/>
          <p:nvPr/>
        </p:nvCxnSpPr>
        <p:spPr>
          <a:xfrm flipH="1">
            <a:off x="3634920" y="5013360"/>
            <a:ext cx="1224720" cy="930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5" name="AutoShape 9"/>
          <p:cNvCxnSpPr/>
          <p:nvPr/>
        </p:nvCxnSpPr>
        <p:spPr>
          <a:xfrm>
            <a:off x="5148000" y="5084640"/>
            <a:ext cx="641880" cy="859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AutoShape 10"/>
          <p:cNvCxnSpPr/>
          <p:nvPr/>
        </p:nvCxnSpPr>
        <p:spPr>
          <a:xfrm>
            <a:off x="5796000" y="5013000"/>
            <a:ext cx="1596240" cy="87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AutoShape 11"/>
          <p:cNvCxnSpPr/>
          <p:nvPr/>
        </p:nvCxnSpPr>
        <p:spPr>
          <a:xfrm>
            <a:off x="4932000" y="2421000"/>
            <a:ext cx="1080" cy="23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AutoShape 12"/>
          <p:cNvCxnSpPr/>
          <p:nvPr/>
        </p:nvCxnSpPr>
        <p:spPr>
          <a:xfrm flipH="1">
            <a:off x="3203280" y="48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AutoShape 13"/>
          <p:cNvCxnSpPr/>
          <p:nvPr/>
        </p:nvCxnSpPr>
        <p:spPr>
          <a:xfrm>
            <a:off x="6156360" y="4868640"/>
            <a:ext cx="720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" name="AutoShape 14"/>
          <p:cNvCxnSpPr/>
          <p:nvPr/>
        </p:nvCxnSpPr>
        <p:spPr>
          <a:xfrm>
            <a:off x="2340000" y="1413000"/>
            <a:ext cx="2520000" cy="3240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AutoShape 15"/>
          <p:cNvCxnSpPr/>
          <p:nvPr/>
        </p:nvCxnSpPr>
        <p:spPr>
          <a:xfrm flipV="1">
            <a:off x="5076720" y="1483560"/>
            <a:ext cx="2160000" cy="322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Прямая со стрелкой 24"/>
          <p:cNvCxnSpPr/>
          <p:nvPr/>
        </p:nvCxnSpPr>
        <p:spPr>
          <a:xfrm>
            <a:off x="7667640" y="1341360"/>
            <a:ext cx="50544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3" name="Прямая со стрелкой 31"/>
          <p:cNvCxnSpPr/>
          <p:nvPr/>
        </p:nvCxnSpPr>
        <p:spPr>
          <a:xfrm flipV="1">
            <a:off x="6372360" y="1340640"/>
            <a:ext cx="504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4" name="Прямая со стрелкой 34"/>
          <p:cNvCxnSpPr/>
          <p:nvPr/>
        </p:nvCxnSpPr>
        <p:spPr>
          <a:xfrm flipH="1">
            <a:off x="6011640" y="1628280"/>
            <a:ext cx="505440" cy="28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5" name="Прямая со стрелкой 36"/>
          <p:cNvCxnSpPr/>
          <p:nvPr/>
        </p:nvCxnSpPr>
        <p:spPr>
          <a:xfrm>
            <a:off x="2987280" y="1341360"/>
            <a:ext cx="374580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АЛИЗ ФИНАНСОВО –ЭКОНОМИЧЕСКОЙ ДЕЯТЕЛЬНОСТИ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70000" y="396720"/>
          <a:ext cx="7770960" cy="6432840"/>
        </p:xfrm>
        <a:graphic>
          <a:graphicData uri="http://schemas.openxmlformats.org/drawingml/2006/table">
            <a:tbl>
              <a:tblPr/>
              <a:tblGrid>
                <a:gridCol w="3402000"/>
                <a:gridCol w="1944720"/>
                <a:gridCol w="2424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 ОМ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таток на 01.01.2013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5 55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09 56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ступил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317 09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6 4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зрасходова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сего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 495 61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40 192 руб. Из н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аботная плата с начислениями на оплату тру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 183 973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 09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каменты и расходный матери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60 95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 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35 179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 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ий инвент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 98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 524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ые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3 495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 72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по содержанию  имущ-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20 87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37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37 973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 52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основных сред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 017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59 398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орская задолж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биторская задолж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58 29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35 808 руб.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3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9 999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ОГОВОРА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764640"/>
            <a:ext cx="7655040" cy="64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заключено 43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договора на сумму        44 964,7 тыс руб сроком до 31.12.2013г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укты питания                                                 5 270,5 тыс.руб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медикаменты и расходные материалы               11 088,5 тыс руб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ммунальные услуги                                           5 279,7 тыс руб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слуги связи                                                             474,5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прочие услуги (лабораторные исследования)    7 463,4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ГСМ                                                                         1 087,3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хозяйственный инвентарь                                    4 613,5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питальный ремонт пищеблока                          2 834,4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на приобретение основных средств                     2 491,3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на содержание имущества                                     4 361,6 тыс ру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37160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С КАДР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257480" y="620640"/>
            <a:ext cx="757224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начало год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татных единиц было 350,5 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зменения в штатном распис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С 01.12.2013г  8 ставок в связи с передачей медицинского персонала образовательных учрежд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На конец года 358,5 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комплектованность штатов составляет 70%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эффициент совместительства:     врачи – 1,39,   медсестры – 1 28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Прямоугольник 4"/>
          <p:cNvSpPr/>
          <p:nvPr/>
        </p:nvSpPr>
        <p:spPr>
          <a:xfrm flipV="1">
            <a:off x="1428840" y="3745800"/>
            <a:ext cx="7358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285920" y="3571920"/>
            <a:ext cx="7357680" cy="857160"/>
            <a:chOff x="1285920" y="3571920"/>
            <a:chExt cx="7357680" cy="857160"/>
          </a:xfrm>
        </p:grpSpPr>
        <p:sp>
          <p:nvSpPr>
            <p:cNvPr id="264" name="Rectangle 4"/>
            <p:cNvSpPr/>
            <p:nvPr/>
          </p:nvSpPr>
          <p:spPr>
            <a:xfrm>
              <a:off x="128592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Физические 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275724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4228560" y="3571920"/>
              <a:ext cx="147096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569952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Перв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717084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128592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75724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5ч-41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4228560" y="4041720"/>
              <a:ext cx="147096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-13,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569952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0ч -2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717084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14"/>
            <p:cNvSpPr/>
            <p:nvPr/>
          </p:nvSpPr>
          <p:spPr>
            <a:xfrm>
              <a:off x="275724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15"/>
            <p:cNvSpPr/>
            <p:nvPr/>
          </p:nvSpPr>
          <p:spPr>
            <a:xfrm>
              <a:off x="422856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6"/>
            <p:cNvSpPr/>
            <p:nvPr/>
          </p:nvSpPr>
          <p:spPr>
            <a:xfrm>
              <a:off x="5699520" y="3571920"/>
              <a:ext cx="180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7"/>
            <p:cNvSpPr/>
            <p:nvPr/>
          </p:nvSpPr>
          <p:spPr>
            <a:xfrm>
              <a:off x="717084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18"/>
            <p:cNvSpPr/>
            <p:nvPr/>
          </p:nvSpPr>
          <p:spPr>
            <a:xfrm>
              <a:off x="1285920" y="4041720"/>
              <a:ext cx="735624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19"/>
            <p:cNvSpPr/>
            <p:nvPr/>
          </p:nvSpPr>
          <p:spPr>
            <a:xfrm>
              <a:off x="1285920" y="3571920"/>
              <a:ext cx="180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864216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1285920" y="3571920"/>
              <a:ext cx="7356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2"/>
            <p:cNvSpPr/>
            <p:nvPr/>
          </p:nvSpPr>
          <p:spPr>
            <a:xfrm>
              <a:off x="1285920" y="4428000"/>
              <a:ext cx="7356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3"/>
          <p:cNvGrpSpPr/>
          <p:nvPr/>
        </p:nvGrpSpPr>
        <p:grpSpPr>
          <a:xfrm>
            <a:off x="1290600" y="3571920"/>
            <a:ext cx="7567200" cy="1010880"/>
            <a:chOff x="1290600" y="3571920"/>
            <a:chExt cx="7567200" cy="1010880"/>
          </a:xfrm>
        </p:grpSpPr>
        <p:sp>
          <p:nvSpPr>
            <p:cNvPr id="284" name="Rectangle 4"/>
            <p:cNvSpPr/>
            <p:nvPr/>
          </p:nvSpPr>
          <p:spPr>
            <a:xfrm>
              <a:off x="129060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Физические 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280368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317120" y="3571920"/>
              <a:ext cx="151272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582984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Перв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34328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>
              <a:off x="129060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280368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9 ч-25,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4317120" y="4125960"/>
              <a:ext cx="151272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4ч-44,4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582984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 -55,6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734328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280368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431712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5829840" y="3571920"/>
              <a:ext cx="180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34328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>
              <a:off x="1290600" y="4125960"/>
              <a:ext cx="756576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>
              <a:off x="885636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1290600" y="3571920"/>
              <a:ext cx="7565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290600" y="4581720"/>
              <a:ext cx="7565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Group 3"/>
          <p:cNvGrpSpPr/>
          <p:nvPr/>
        </p:nvGrpSpPr>
        <p:grpSpPr>
          <a:xfrm>
            <a:off x="1214640" y="5572080"/>
            <a:ext cx="7724520" cy="928800"/>
            <a:chOff x="1214640" y="5572080"/>
            <a:chExt cx="7724520" cy="928800"/>
          </a:xfrm>
        </p:grpSpPr>
        <p:sp>
          <p:nvSpPr>
            <p:cNvPr id="303" name="Rectangle 4"/>
            <p:cNvSpPr/>
            <p:nvPr/>
          </p:nvSpPr>
          <p:spPr>
            <a:xfrm flipV="1" rot="10800000">
              <a:off x="728244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 flipV="1" rot="10800000">
              <a:off x="576576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ервая 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 flipV="1" rot="10800000">
              <a:off x="4249440" y="5572080"/>
              <a:ext cx="151596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 flipV="1" rot="10800000">
              <a:off x="273312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 flipV="1" rot="10800000">
              <a:off x="121464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изические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 flipV="1" rot="10800000">
              <a:off x="7282440" y="6020280"/>
              <a:ext cx="1516320" cy="3603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2ч-3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 flipV="1" rot="10800000">
              <a:off x="5765400" y="6005520"/>
              <a:ext cx="1593000" cy="37548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2ч-17,9%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1"/>
            <p:cNvSpPr/>
            <p:nvPr/>
          </p:nvSpPr>
          <p:spPr>
            <a:xfrm flipV="1" rot="10800000">
              <a:off x="4249440" y="5999760"/>
              <a:ext cx="1515960" cy="3812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3ч-79,1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 flipV="1" rot="10800000">
              <a:off x="2715480" y="6020280"/>
              <a:ext cx="1587240" cy="3603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67ч-75,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 flipV="1" rot="10800000">
              <a:off x="1216440" y="6005520"/>
              <a:ext cx="1516320" cy="37548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90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 flipH="1">
              <a:off x="728064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 flipH="1">
              <a:off x="576396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 flipH="1">
              <a:off x="4247640" y="5572080"/>
              <a:ext cx="180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 flipH="1">
              <a:off x="273132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 flipH="1">
              <a:off x="8796960" y="5572080"/>
              <a:ext cx="180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 flipH="1">
              <a:off x="121464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 flipH="1">
              <a:off x="1216440" y="5572080"/>
              <a:ext cx="7582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 flipH="1">
              <a:off x="1357200" y="6439680"/>
              <a:ext cx="7581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114300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ЕСПЕЧЕННОСТЬ КАД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Диаграмма 9" descr=""/>
          <p:cNvPicPr/>
          <p:nvPr/>
        </p:nvPicPr>
        <p:blipFill>
          <a:blip r:embed="rId1"/>
          <a:stretch/>
        </p:blipFill>
        <p:spPr>
          <a:xfrm>
            <a:off x="1255680" y="901800"/>
            <a:ext cx="7570800" cy="5340240"/>
          </a:xfrm>
          <a:prstGeom prst="rect">
            <a:avLst/>
          </a:prstGeom>
          <a:ln w="0">
            <a:noFill/>
          </a:ln>
        </p:spPr>
      </p:pic>
      <p:pic>
        <p:nvPicPr>
          <p:cNvPr id="323" name="Диаграмма 4" descr=""/>
          <p:cNvPicPr/>
          <p:nvPr/>
        </p:nvPicPr>
        <p:blipFill>
          <a:blip r:embed="rId2"/>
          <a:stretch/>
        </p:blipFill>
        <p:spPr>
          <a:xfrm>
            <a:off x="1255680" y="1189080"/>
            <a:ext cx="7894800" cy="5052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285920" y="214200"/>
            <a:ext cx="757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КОМПЛЕКТОВАННОСТЬ</a:t>
            </a:r>
            <a:br>
              <a:rPr sz="2400"/>
            </a:b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МЕДИЦИНСКИМИ КАДРАМИ  (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Диаграмма 3" descr=""/>
          <p:cNvPicPr/>
          <p:nvPr/>
        </p:nvPicPr>
        <p:blipFill>
          <a:blip r:embed="rId1"/>
          <a:stretch/>
        </p:blipFill>
        <p:spPr>
          <a:xfrm>
            <a:off x="1133640" y="1279440"/>
            <a:ext cx="7802280" cy="5297400"/>
          </a:xfrm>
          <a:prstGeom prst="rect">
            <a:avLst/>
          </a:prstGeom>
          <a:ln w="0">
            <a:noFill/>
          </a:ln>
        </p:spPr>
      </p:pic>
      <p:pic>
        <p:nvPicPr>
          <p:cNvPr id="326" name="Диаграмма 4" descr=""/>
          <p:cNvPicPr/>
          <p:nvPr/>
        </p:nvPicPr>
        <p:blipFill>
          <a:blip r:embed="rId2"/>
          <a:stretch/>
        </p:blipFill>
        <p:spPr>
          <a:xfrm>
            <a:off x="1322280" y="974880"/>
            <a:ext cx="765036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1143000" y="0"/>
            <a:ext cx="8001000" cy="73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УЧЁБА и ВАКАН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 прошли курсы повышения квалификации и получили сертификат специалис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 – 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естры – 17 че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твердили квалификационную категорию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– 4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естры – 16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чёбы повышения квалификации на 2014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 -  8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ёстры – 14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Вакантные должности специалист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ача-рентгеноло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ст.  врача  - анестезиолога - реаниматоло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 ст. врача-терапевта поликлиник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терапевта стационар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врача педиатра для работы в детсадах и школа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врача УЗИ кабинет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 ст. фельдшера для работы на ФАПа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медсестры анестезистк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1332000" y="260280"/>
            <a:ext cx="750096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ОЩРЕНИЯ ПЕРСОНАЛА ЗА 2013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Выплаты стимулирующего характера основываются на критериях оценки деятельности, степени участия в лечебном процессе, объёме и качестве проводимых мероприятий составили 6 359,5 тыс.руб.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Членам профсоюза выплачиваю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премии к юбилейным дата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выходе работников на пенсию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ьная помощь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увольнении пенсионе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похоро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ходатайству зав отделениям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го в 2013г израсходовано 205 000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1143000" y="276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ТЕРИАЛЬНО-ТЕХНИЧЕСКАЯ Б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000080" y="928800"/>
            <a:ext cx="8001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ондооснащенность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– отношение балансовой стоимости активной части основных средств к площади учреждения на которой осуществляется профилактическая, лечебно-диагностическая и реабилитационная деятельность учрежд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5 792 759 руб. / 7296,3 кв.м = 114 499,5 руб. на ед.мощн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2012г — 15 092 ру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Фондовооруженность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определяется отношением балансовой стоимости активной части основных средств к среднегодовой (штатной), численности врач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5 792 759руб. / 35 чел. = 3 022 650 руб.на ед.мощ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2012г – 2 775 984 ру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143000" y="0"/>
            <a:ext cx="785808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РУКТУР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АЦИОНА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Всего - 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0 кое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начало 201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: 16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стационар  - 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стационаре 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 01.08.2014г сокращено 20 коек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рургического отделени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инекологического профи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ец 201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: 14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стационар - 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кое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стационаре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кое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i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дел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Хирургическо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0 коек из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их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35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дневных ко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20 коек гинекологического  профил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кращены с 01.08.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Терапевтическо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– 60 коек, из них 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0 коек неврологических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0  круглосуточны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0 дневных ко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Инфекционно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– 40 коек, их них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35 круглосуточны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5 дневных коек.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1143000" y="276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отребность в медицинском оборудовании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1071720" y="928800"/>
            <a:ext cx="79293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г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ыло получен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единиц медицинского оборудования на сумму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931 606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руб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 средства по родовым сертификатам получено 7 единиц  на сумму 202 950  руб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2013г списано основных средств по причине негодности на сумму 2 636 542 ру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году планируется заключение контрактов на поставку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единиц медицинского оборудования на сумму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 2 837 600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руб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11430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ый проект Здоровь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000080" y="785880"/>
            <a:ext cx="8001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.  Дополнительная диспансеризация работающих гражд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2 972 чел.,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 – 6 092,6 тыс.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 Дополнительная диспансеризация пребывающих в стационарных  учреждениях детей сирот и детей находящихся в трудной жизненной ситуации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54 чел,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-185,5 тыс.руб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 Финансовое обеспечение расходов на оплату услуг по мед.помощи, оказанной женщинам в период беременности, родов и послеродовой пери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ано 198 сер.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из ФСС 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94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тыс.руб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 поступившие средства  израсходованы на оплату труда  сотрудников,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едикаменты, услуги сторонних организаций,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иобретение обору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грамма Модернизация здравоохранения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Прямоугольник 3"/>
          <p:cNvSpPr/>
          <p:nvPr/>
        </p:nvSpPr>
        <p:spPr>
          <a:xfrm flipV="1" rot="10800000">
            <a:off x="1042560" y="5192280"/>
            <a:ext cx="810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аток средств на 01.01.2013 года составил 19610,90 руб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а погашение кредиторской задолженности по приобрете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медицинского  оборудова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495 377,10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Израсходовано  средств в сумме  3 514 988 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87280" y="0"/>
            <a:ext cx="7772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рофилактика внутрибольничных инфек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1143000" y="404640"/>
            <a:ext cx="800100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.Ежемесячное проведение заседаний комиссии по профилактике ВБ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Ежемесячное проведение мероприятий согласно плана  производственного контрол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Проверка на стерильность мед инструментария и еревязочного материал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роверено 486 ед инструментар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4.Проверка микробной обсеменённости воздушной сред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98 точе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.Проверка бак тестами  автоклавов и воздушных стерилизато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Самоконтроль  за качеством очистки медицинских изделий средством  «Азопирам» (контроль на скрытую кровь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Фенолфталеиновая проба ( на наличие остаточных количеств моющих средств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8.Контроль за проведением генеральных уборок в режимных кабинетах, контроль за работой бактерицидных лам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9.Экспресс контроль индикаторными полосками за качеством рабочих растворов дезинфицирующих средств (концентрация р-ра по препарату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-291960"/>
            <a:ext cx="77724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Обеспечение безопасности и антитеррористической защищенно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214280" y="1071720"/>
            <a:ext cx="77868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42920" y="264600"/>
            <a:ext cx="8101080" cy="66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Ежеквартально проводились инструктажи с мед. персоналом по противодействию терроризму с подписью в журна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1раз в две недели проводились проверки кнопок тревожной сигнализации с записью в журна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Ежеквартально на объектах больницы проводились тренировки по противодействию террориз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Ежемесячно проводились проверки всех  помещений, запасных выходов, подвальных и чердачных помещений с составлением а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Перезаключен договор с МУП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енное хозяйств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техническому обслуживанию кнопок тревожной сигнализ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.В течении 2013 года издавались приказы и распоряжения по повышению антитеррористической защищ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 2013 году закуплено 19 штук носилок; установлено 4 распашные решетки в поликлини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Оба въезда на территорию поликлиники оборудованы шлагбаум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По периметру поликлиники имеется система видеонаблю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Заключен договор с ЧОП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ка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 сопровождении наркотически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Комната хранения наркотических средств сдается под охрану О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071720" y="285840"/>
            <a:ext cx="7858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мероприятий на 2014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000080" y="27360"/>
            <a:ext cx="792972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заключить  договор  с ЧОП на охрану объектов больницы    сторожевой   охраной: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сторожевую будку и шлагбаум  при въезде на территорию больницы для запрета въезда постороннего транспорт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по периметру и внутри объектов больницы камеры видеонаблюд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установить на объектах больницы автономные источники электропит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забор по периметру больничного комплексе (терапия, хирургия, инфекция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овести освещение в вечернее и ночное время по периметру всего комплекс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расширить   подъездные пути к комплексу, и построить площадку для постановки транспорта персонала , больных и инвалид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остроить пандусы для инвалидов при посещении врачей в поликлини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электронные металлоискатели при входе в поликлини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опечатывающие устройства на кабинеты врачей поликлини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одолжить перевод  работы регистратуры  на электронную, для записи к врачам, и замены амбулаторной  карты на электронные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11430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практическая работа ЛП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000080" y="714240"/>
            <a:ext cx="8001000" cy="71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Один раз в месяц в МУЗ «Высоковская городская больница» проводятся совещания, семинары для медицинского персонала,  затрагивающие все аспекты медицинск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ачи участвуют в работе областных конферен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году сотрудниками  больницы проводилась санитарно-просветительная рабо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почитано лекций -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 проведено бесед 1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 выпущено сан.бюллетеней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1000080" y="0"/>
            <a:ext cx="8001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ВНЕДРЕНИЕ НОВЫХ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 ЛЕЧЕБНО-ДИАГНОСТИЧЕСКИХ ТЕХНОЛОГИЙ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  в 201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нтгенкабин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Освоен  и введён в действие аппарат дентальный визиограф «ФОНО Х70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Освоен и введён в действие флюорограф цифровой малодозный   с возможностью исследования: лёгки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п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тей конечнос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воночн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Лаборатор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Освоены методики: ИФА исследова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определение гормон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газов кров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электролиты крови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ЗИ кабин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Освоена методика эхокардиографии серд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1285920" y="785880"/>
            <a:ext cx="764388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201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году планируется внедр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в практику нового оборудования на базе нашей больницы для провед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Допплерографии сосудов  конечнос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олучением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видеогастрофиброскоп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трансдуоденального полипосфинктеротом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удаление полипов желудочно-кишечного тракт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285920" y="2243160"/>
            <a:ext cx="7643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071720" y="0"/>
            <a:ext cx="7929360" cy="69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роприятия по улучшению условий и охраны труда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201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редварительные и периодические медосмотр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ботников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занятых на работах  с вредными условиями тру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Обеспечение спец одеждой и средствами защиты .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На работах с вредными условиями труда выдается специализированный продукт диетического (профилактического)питания при вредных условиях труда-  концентрата киселя, заменяющий молоко по личным заявлениям работников и согласия профсоюзной организации..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Назначены ответственные лица за состояние по 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Проводится обучение с вновь поступающими сотрудниками по 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Составлена программа занятий по охране труда. Проведены проверки знаний по вопросам охраны труда у работников, работающих на объектах повышенной 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Проведена аттестация 11 рабочих мест на сумму 27 500 ру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Прошли обучени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 ОТ 3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челове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и 7 - по  «Пожарно-техническому минимуму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инансирование обучения было из средств бюджета и ОМС на сумму 31600 ру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Осуществлено дополнительное страхование от несчастных случаев и профессиональных заболеваний медицинских работников профессий группы риска за счет средств бюджета на сумму 14000 рубл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1143000" y="142920"/>
            <a:ext cx="78580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ы на 2014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Разработка, проверка, пересмотр  инструкций по охране труда по истечении срока действия и  при изменении  условий  тру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беспечение  работников  спецодеждой, спецобувью  и другими средствами индивидуальной защиты в соответствии с норма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На работах с вредными условиями труда  выдавать работникам молоко или другие равноценные проду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Проводить специальную оценку условий труда с привлечением акредитованной оргаз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Осуществлять дополнительное страхование от несчастных случаев и проф. заболе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Проводитьл обучение по ОТ руководителей, специалистов, всех работников боль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Провести капитальный ремонт 6 ФАП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0.Ремонт и модернизация пищеблока боль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.Проводить предварительные, при поступлении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у, и периодические мед.осмотры работ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КАЗАТЕЛИ  ДЕЯТЕЛЬНОСТИ  ПОЛИКЛИ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344600" y="836640"/>
            <a:ext cx="7799400" cy="67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                               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1 г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.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2г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3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 посещений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34 126         140 039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146 0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ом числе  ФАПы                   -                        -                12 8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и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з ни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: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сельских                 28 947               32 35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 42 3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профилактических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43 945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4214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43 14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Число посещений на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жител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,7                    8,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7,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Количество вызовов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а дом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6 949                 6 18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5 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%  активных вызовов                  36,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36,9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%          36,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бслуживание вызов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узкими специалистами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55                    18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2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.Количество посещений в поликлинику увеличилось  на  6 000 посещений по сравнению с 2012 го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Возросло число обслуживания вызовов узкими специалистами ( на 84  посещений в сравнении с 2012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32000" y="571680"/>
          <a:ext cx="7572240" cy="4640040"/>
        </p:xfrm>
        <a:graphic>
          <a:graphicData uri="http://schemas.openxmlformats.org/drawingml/2006/table">
            <a:tbl>
              <a:tblPr/>
              <a:tblGrid>
                <a:gridCol w="2693880"/>
                <a:gridCol w="1625760"/>
                <a:gridCol w="1627200"/>
                <a:gridCol w="1625400"/>
              </a:tblGrid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ев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-травмат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р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оларинг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у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иат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мат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он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крин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3040" y="-360"/>
            <a:ext cx="77709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ДЕЛЬНЫЙ ВЕС ПОСЕЩЕНИЙ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1403280" y="5373720"/>
            <a:ext cx="7272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ьшее количество посещений приходится на терапевтов и педиатров, из узких специалистов – на хирурга-травматоло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 2013 г в систему ОМС вошла работа ФАП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 на 2013 г. – 12825 посеще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факту – 12878 посещений на ФАПах  (100,4 %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096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БОЛЕВАЕМОСТЬ ПО ОСНОВНЫМ НОЗОЛОГИЧЕСКИМ ГРУППАМ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43000" y="1214280"/>
          <a:ext cx="7715160" cy="2862360"/>
        </p:xfrm>
        <a:graphic>
          <a:graphicData uri="http://schemas.openxmlformats.org/drawingml/2006/table">
            <a:tbl>
              <a:tblPr/>
              <a:tblGrid>
                <a:gridCol w="4005360"/>
                <a:gridCol w="1152360"/>
                <a:gridCol w="1366920"/>
                <a:gridCol w="119052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зарегистрирова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2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2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1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нко  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серд.сосуд.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8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бронхо-легочной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9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8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органов пищева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перифер.нервной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трав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5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67"/>
          <p:cNvSpPr/>
          <p:nvPr/>
        </p:nvSpPr>
        <p:spPr>
          <a:xfrm>
            <a:off x="1116000" y="4292640"/>
            <a:ext cx="802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1 месте заболевания  бронхо- лёгочной системы(включая простудные заболевания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2 месте – травм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3 месте – сердечно-сосудистые патолог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мечается тенденция к снижению онкологической заболеваемости (11сл  в 2012г,  13 сл  в 2013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дечно-сосудистая заболеваемость  по сравнению с 2011г  уменьшилась, но в сравнении с 2012г практически не изменила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НЫЕ ДЕМОГРАФИЧЕСКИЕ ПОКАЗАТЕЛИ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 flipV="1" rot="10800000">
            <a:off x="1571400" y="5130000"/>
            <a:ext cx="7358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2011г и 2012г произошло изменение общей демографической ситуации приписного населения-   рождаемость превышает смертность   (2012г  на 42 чел в 2013г  на 60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Диаграмма 14" descr=""/>
          <p:cNvPicPr/>
          <p:nvPr/>
        </p:nvPicPr>
        <p:blipFill>
          <a:blip r:embed="rId1"/>
          <a:stretch/>
        </p:blipFill>
        <p:spPr>
          <a:xfrm>
            <a:off x="1987560" y="901800"/>
            <a:ext cx="669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НАЛИЗ СМЕРТНОСТИ НА ДОМУ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3880" y="928800"/>
          <a:ext cx="6635880" cy="2895480"/>
        </p:xfrm>
        <a:graphic>
          <a:graphicData uri="http://schemas.openxmlformats.org/drawingml/2006/table">
            <a:tbl>
              <a:tblPr/>
              <a:tblGrid>
                <a:gridCol w="3222720"/>
                <a:gridCol w="1228680"/>
                <a:gridCol w="1092240"/>
                <a:gridCol w="1092240"/>
              </a:tblGrid>
              <a:tr h="47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кологических заболев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системы кровообра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реброваскулярные 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 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Box 4"/>
          <p:cNvSpPr/>
          <p:nvPr/>
        </p:nvSpPr>
        <p:spPr>
          <a:xfrm>
            <a:off x="1571760" y="4286160"/>
            <a:ext cx="69292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ая причина смертности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место – заболевания системы кровообраще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место – онкологические заболе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ин смерти от онкологических заболеваний  увеличилась по сравнению с 2011-2012г на  13сл (2012г) и   на14 сл ( 2011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520" y="360"/>
            <a:ext cx="333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09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ЬГОТНОЕ ЛЕКАРСТВЕННОЕ ОБЕСПЕЧЕНИЕ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85920" y="549360"/>
            <a:ext cx="7858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Количество федеральных льготников в  2013г -     7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 по селу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16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областных льготников                       - 1 109 че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 пользуются льготным лекарственным обеспечением всего 176ч.                                       из них по селу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 28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Выписано рецептов за 2013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ым льготникам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729 рецепт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стным льготникам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888 рецеп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 «7 нозологиям» состоит на учёте   11 льготников, из них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чел после трансплантации почк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чел с миелолейкозом, множественной миелом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исано рецептов по «7 нозологиям»               - 154 рецеп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Терапевтические заявки на льготные препараты составляются до   10 числа  на месяц вперё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кологом составляется заявка по рекомендации областных специалистов  и утверждались на ЦВК У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докринолог отдельно подаёт заяв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новых больных формируется внеплановая заявка.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ргМетод</dc:creator>
  <dc:description/>
  <dc:language>en-US</dc:language>
  <cp:lastModifiedBy>Нина Анатольевна</cp:lastModifiedBy>
  <dcterms:modified xsi:type="dcterms:W3CDTF">2014-02-13T09:25:59Z</dcterms:modified>
  <cp:revision>364</cp:revision>
  <dc:subject/>
  <dc:title>Слайд 1</dc:title>
</cp:coreProperties>
</file>