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1"/>
          <p:cNvSpPr/>
          <p:nvPr/>
        </p:nvSpPr>
        <p:spPr>
          <a:xfrm>
            <a:off x="0" y="0"/>
            <a:ext cx="6858000" cy="96724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72480"/>
              <a:gd name="textAreaBottom" fmla="*/ 9672120 h 9672480"/>
            </a:gdLst>
            <a:ahLst/>
            <a:rect l="textAreaLeft" t="textAreaTop" r="textAreaRight" b="textAreaBottom"/>
            <a:pathLst>
              <a:path w="21600" h="30464">
                <a:moveTo>
                  <a:pt x="5" y="0"/>
                </a:moveTo>
                <a:arcTo wR="5" hR="5" stAng="16200000" swAng="-5400000"/>
                <a:lnTo>
                  <a:pt x="0" y="30459"/>
                </a:lnTo>
                <a:arcTo wR="5" hR="5" stAng="10800000" swAng="-5400000"/>
                <a:lnTo>
                  <a:pt x="21595" y="304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0" y="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918684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4"/>
          </p:nvPr>
        </p:nvSpPr>
        <p:spPr>
          <a:xfrm>
            <a:off x="3884760" y="918648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C1D90-1C2B-4239-BC9B-EB3A5CD040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9C0B7-5E5F-4F9D-A816-18FD5585F4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F8DEB0-9009-4BC8-AD32-E2845AF1481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34C53-157B-435D-81C6-9E87489865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5A3DE-4D03-4E0F-8037-14DE6667C2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ивть сравнительную картину о работе по годам за предыдущ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1301F-58B1-4FE5-85A9-855A0CFA78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мерших (чел)Летальность ( %)2010г491,12011г470,42012г360,8Структура летальных и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) 17чел -  47,2 % заболевания сердечно-сосудистой сист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 чел – 19,4 % раковые заболевания различной этиолог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 чел -  16,6 % заболевания желудочно-кишечного тра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 чел – 13,9 % ВИЧ инфицированные 3-4 стадии с сопутствующей патолог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 чел –   2,8 % ожоговые раны после перенесённого ОНМ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)  По возрастному состав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30 лет        – 1 чел =  2,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50 лет        – 6 чел = 16,7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60 лет        - 3 чел =  8,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 70 лет         –10чел = 27,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ыше 70 лет - 16 чел =44,4%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EDE2C-2E95-448A-A1DF-583FD42548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A418F-35A3-45E2-9D44-75ABB3E44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3EF800-4EF1-4867-A602-B9A50673F7B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A7B11-FB04-403C-B876-9934E5AFCB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A7C26D-185A-4ECC-987A-B2ED4CCBA79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EC450-D274-48DC-BEB0-903BF47ACD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02160-68EE-4381-A956-384A705092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2E4223-16A3-466F-913F-B5330A1C0C0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BBC03-5023-4EA5-9F4F-7E7A06EFC5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BA1106-24E3-4673-BD51-C4E005A1641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881CA-F679-4358-AE74-8230041DCF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F15D8-1637-4DE6-9051-F6ECE562EA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C8D65-12DA-4284-A43F-F19D49BE03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6012A-CB57-4E4B-A2DC-A849939412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46BFB3-1497-4107-AFD4-0525ACBF4B5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D63B6-8DF6-46D3-A7E5-DAFFF2B246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C395B2-2F31-40A8-BFA5-3601765D18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7166E-F120-43C7-9E35-2879368876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959989-FF31-4AAF-B5E0-E2F2785A2A2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09BC5-18DD-4011-9FB9-8D3008B301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F4BEEE0-DA03-4E9B-83C5-8D63495B35D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818B0-3773-4258-A97D-A8B4F8B76F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F743A0-2DC8-43AC-807E-634045FD04F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F424F-9AA5-4845-B98D-B41FFDD985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2850B4-DFA8-4C86-96A5-0B4E754B5E5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8105B-8581-4E9E-BF56-83A90B1CFA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6D528-7F6B-4DA1-A51B-3DD875589A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CF4619-C7BF-44ED-9852-C549CAB98F0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43545-0A09-4007-9B38-A99CEABCE8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439DF6-026D-47DA-9690-191AF3FDBF0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15FB8-D75C-4085-BA08-54F1A3D7FA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FBFF18-D84A-4935-96DC-E7F30ED518D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7E34E-4725-4711-814F-D702A636F6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B200BD-8744-4C36-9E1C-173844F0CE7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DE5DC-5F4E-48D2-97A5-91BB3CD027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1011240" y="725400"/>
            <a:ext cx="483552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685800" y="4595760"/>
            <a:ext cx="5486400" cy="43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D225F7-7D93-442B-9E7B-83A5C2D9F6B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ьшее количество посещений приходится на терапевтов и педиатров, из узких специалистов – на хирурга-травматоло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FB209-B29D-4935-A1CA-F0EA673CE7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45418-E60D-4934-8C70-88E7FB9F15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75802-35FD-4F68-A1BE-4DB2B8697E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66E22-55AE-43F9-9804-52A8C6DC44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4080" cy="3625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4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9186840"/>
            <a:ext cx="2970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9D8D5-CA7C-45D9-9307-B22D81DD4B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D18B-8CEB-487C-9D1C-DC11BE6BB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7CB9-6AA9-4540-BAEE-CB85C02D5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2278-9697-454F-9B1F-3B6BCC5B7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764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492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764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492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1600-C6AF-423C-BA45-D292A9B29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480A-427C-4020-B5B9-46852B367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A15C-BA8B-4CE3-A72F-3052787E5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299FA-390F-4CF3-B5FE-FABF61E2DE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5FCC-9BAA-4261-A93D-57BC822DC1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585E-80EA-424A-8A2B-8F32542EF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1430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D054-5FBF-4D0E-9D27-C4D5BDC64E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D46B-83F1-407E-8654-17F358291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20B1-A594-4958-BAEF-5C9FD47B6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C648-27DD-4BDA-AC6C-C688CB3596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6C8B-A0C0-4F98-80D3-2DDE3CD21F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3AD6-81E9-4F43-8E3C-D27BB220F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DCA3-5751-494E-A693-E0F497EFE8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79764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24920" y="194616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17000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79764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24920" y="4709880"/>
            <a:ext cx="250200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6250-0503-400A-9FDA-A77CDFE99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7D6C-E7E5-4669-B42E-F1134EE6B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C23F-C91E-4C6A-A9E1-939A2F717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30B8-3133-4B2C-A8F1-1C7ABB8C4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78B6-CA6C-4252-B80E-38CE6879B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21B3-984B-4CBF-B939-B0042D740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1960" y="470988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EC23-B8F1-4D29-9264-532510864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960" y="1946160"/>
            <a:ext cx="37918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709880"/>
            <a:ext cx="77709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BE86-5C47-425A-AF95-A0D8A4F2F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75960" y="161640"/>
              <a:ext cx="150480" cy="6549840"/>
              <a:chOff x="75960" y="161640"/>
              <a:chExt cx="150480" cy="654984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75960" y="17532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75960" y="1982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75960" y="24400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8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9"/>
              <p:cNvSpPr/>
              <p:nvPr/>
            </p:nvSpPr>
            <p:spPr>
              <a:xfrm>
                <a:off x="75960" y="28969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0"/>
              <p:cNvSpPr/>
              <p:nvPr/>
            </p:nvSpPr>
            <p:spPr>
              <a:xfrm>
                <a:off x="75960" y="31273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1"/>
              <p:cNvSpPr/>
              <p:nvPr/>
            </p:nvSpPr>
            <p:spPr>
              <a:xfrm>
                <a:off x="75960" y="3355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2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3"/>
              <p:cNvSpPr/>
              <p:nvPr/>
            </p:nvSpPr>
            <p:spPr>
              <a:xfrm>
                <a:off x="75960" y="381276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4"/>
              <p:cNvSpPr/>
              <p:nvPr/>
            </p:nvSpPr>
            <p:spPr>
              <a:xfrm>
                <a:off x="75960" y="40428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5"/>
              <p:cNvSpPr/>
              <p:nvPr/>
            </p:nvSpPr>
            <p:spPr>
              <a:xfrm>
                <a:off x="75960" y="42710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6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7"/>
              <p:cNvSpPr/>
              <p:nvPr/>
            </p:nvSpPr>
            <p:spPr>
              <a:xfrm>
                <a:off x="75960" y="47282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>
                <a:off x="75960" y="49568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>
                <a:off x="75960" y="54136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>
                <a:off x="75960" y="56437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>
                <a:off x="75960" y="58741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>
                <a:off x="75960" y="61005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>
                <a:off x="75960" y="6330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>
                <a:off x="75960" y="65577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>
                <a:off x="75960" y="1616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>
                <a:off x="75960" y="107676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Text Box 34"/>
          <p:cNvSpPr/>
          <p:nvPr/>
        </p:nvSpPr>
        <p:spPr>
          <a:xfrm>
            <a:off x="114300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Text Box 35"/>
          <p:cNvSpPr/>
          <p:nvPr/>
        </p:nvSpPr>
        <p:spPr>
          <a:xfrm>
            <a:off x="3581280" y="624852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ldNum" idx="1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3D41EC-54C5-4884-87CD-DC3B57F2B5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74" name="Rectangle 2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3"/>
            <p:cNvGrpSpPr/>
            <p:nvPr/>
          </p:nvGrpSpPr>
          <p:grpSpPr>
            <a:xfrm>
              <a:off x="75960" y="161640"/>
              <a:ext cx="150480" cy="6549840"/>
              <a:chOff x="75960" y="161640"/>
              <a:chExt cx="150480" cy="6549840"/>
            </a:xfrm>
          </p:grpSpPr>
          <p:sp>
            <p:nvSpPr>
              <p:cNvPr id="76" name="Rectangle 4"/>
              <p:cNvSpPr/>
              <p:nvPr/>
            </p:nvSpPr>
            <p:spPr>
              <a:xfrm>
                <a:off x="75960" y="17532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5"/>
              <p:cNvSpPr/>
              <p:nvPr/>
            </p:nvSpPr>
            <p:spPr>
              <a:xfrm>
                <a:off x="75960" y="1982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6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7"/>
              <p:cNvSpPr/>
              <p:nvPr/>
            </p:nvSpPr>
            <p:spPr>
              <a:xfrm>
                <a:off x="75960" y="24400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8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9"/>
              <p:cNvSpPr/>
              <p:nvPr/>
            </p:nvSpPr>
            <p:spPr>
              <a:xfrm>
                <a:off x="75960" y="28969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0"/>
              <p:cNvSpPr/>
              <p:nvPr/>
            </p:nvSpPr>
            <p:spPr>
              <a:xfrm>
                <a:off x="75960" y="31273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1"/>
              <p:cNvSpPr/>
              <p:nvPr/>
            </p:nvSpPr>
            <p:spPr>
              <a:xfrm>
                <a:off x="75960" y="3355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2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3"/>
              <p:cNvSpPr/>
              <p:nvPr/>
            </p:nvSpPr>
            <p:spPr>
              <a:xfrm>
                <a:off x="75960" y="381276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4"/>
              <p:cNvSpPr/>
              <p:nvPr/>
            </p:nvSpPr>
            <p:spPr>
              <a:xfrm>
                <a:off x="75960" y="40428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5"/>
              <p:cNvSpPr/>
              <p:nvPr/>
            </p:nvSpPr>
            <p:spPr>
              <a:xfrm>
                <a:off x="75960" y="42710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6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7"/>
              <p:cNvSpPr/>
              <p:nvPr/>
            </p:nvSpPr>
            <p:spPr>
              <a:xfrm>
                <a:off x="75960" y="47282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8"/>
              <p:cNvSpPr/>
              <p:nvPr/>
            </p:nvSpPr>
            <p:spPr>
              <a:xfrm>
                <a:off x="75960" y="49568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9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0"/>
              <p:cNvSpPr/>
              <p:nvPr/>
            </p:nvSpPr>
            <p:spPr>
              <a:xfrm>
                <a:off x="75960" y="54136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1"/>
              <p:cNvSpPr/>
              <p:nvPr/>
            </p:nvSpPr>
            <p:spPr>
              <a:xfrm>
                <a:off x="75960" y="56437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2"/>
              <p:cNvSpPr/>
              <p:nvPr/>
            </p:nvSpPr>
            <p:spPr>
              <a:xfrm>
                <a:off x="75960" y="58741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3"/>
              <p:cNvSpPr/>
              <p:nvPr/>
            </p:nvSpPr>
            <p:spPr>
              <a:xfrm>
                <a:off x="75960" y="61005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4"/>
              <p:cNvSpPr/>
              <p:nvPr/>
            </p:nvSpPr>
            <p:spPr>
              <a:xfrm>
                <a:off x="75960" y="6330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5"/>
              <p:cNvSpPr/>
              <p:nvPr/>
            </p:nvSpPr>
            <p:spPr>
              <a:xfrm>
                <a:off x="75960" y="65577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6"/>
              <p:cNvSpPr/>
              <p:nvPr/>
            </p:nvSpPr>
            <p:spPr>
              <a:xfrm>
                <a:off x="75960" y="1616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7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8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29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0"/>
              <p:cNvSpPr/>
              <p:nvPr/>
            </p:nvSpPr>
            <p:spPr>
              <a:xfrm>
                <a:off x="75960" y="107676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1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2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Group 33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106" name="Rectangle 34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Group 35"/>
            <p:cNvGrpSpPr/>
            <p:nvPr/>
          </p:nvGrpSpPr>
          <p:grpSpPr>
            <a:xfrm>
              <a:off x="75960" y="163080"/>
              <a:ext cx="150480" cy="6546600"/>
              <a:chOff x="75960" y="163080"/>
              <a:chExt cx="150480" cy="6546600"/>
            </a:xfrm>
          </p:grpSpPr>
          <p:sp>
            <p:nvSpPr>
              <p:cNvPr id="108" name="Rectangle 36"/>
              <p:cNvSpPr/>
              <p:nvPr/>
            </p:nvSpPr>
            <p:spPr>
              <a:xfrm>
                <a:off x="75960" y="17528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Rectangle 37"/>
              <p:cNvSpPr/>
              <p:nvPr/>
            </p:nvSpPr>
            <p:spPr>
              <a:xfrm>
                <a:off x="75960" y="19828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38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39"/>
              <p:cNvSpPr/>
              <p:nvPr/>
            </p:nvSpPr>
            <p:spPr>
              <a:xfrm>
                <a:off x="75960" y="24397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40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41"/>
              <p:cNvSpPr/>
              <p:nvPr/>
            </p:nvSpPr>
            <p:spPr>
              <a:xfrm>
                <a:off x="75960" y="2896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Rectangle 42"/>
              <p:cNvSpPr/>
              <p:nvPr/>
            </p:nvSpPr>
            <p:spPr>
              <a:xfrm>
                <a:off x="75960" y="3126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43"/>
              <p:cNvSpPr/>
              <p:nvPr/>
            </p:nvSpPr>
            <p:spPr>
              <a:xfrm>
                <a:off x="75960" y="3357000"/>
                <a:ext cx="150480" cy="1486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44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45"/>
              <p:cNvSpPr/>
              <p:nvPr/>
            </p:nvSpPr>
            <p:spPr>
              <a:xfrm>
                <a:off x="75960" y="38138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46"/>
              <p:cNvSpPr/>
              <p:nvPr/>
            </p:nvSpPr>
            <p:spPr>
              <a:xfrm>
                <a:off x="75960" y="40438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47"/>
              <p:cNvSpPr/>
              <p:nvPr/>
            </p:nvSpPr>
            <p:spPr>
              <a:xfrm>
                <a:off x="75960" y="42696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48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49"/>
              <p:cNvSpPr/>
              <p:nvPr/>
            </p:nvSpPr>
            <p:spPr>
              <a:xfrm>
                <a:off x="75960" y="47264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50"/>
              <p:cNvSpPr/>
              <p:nvPr/>
            </p:nvSpPr>
            <p:spPr>
              <a:xfrm>
                <a:off x="75960" y="49564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51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52"/>
              <p:cNvSpPr/>
              <p:nvPr/>
            </p:nvSpPr>
            <p:spPr>
              <a:xfrm>
                <a:off x="75960" y="5413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53"/>
              <p:cNvSpPr/>
              <p:nvPr/>
            </p:nvSpPr>
            <p:spPr>
              <a:xfrm>
                <a:off x="75960" y="5643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54"/>
              <p:cNvSpPr/>
              <p:nvPr/>
            </p:nvSpPr>
            <p:spPr>
              <a:xfrm>
                <a:off x="75960" y="5873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55"/>
              <p:cNvSpPr/>
              <p:nvPr/>
            </p:nvSpPr>
            <p:spPr>
              <a:xfrm>
                <a:off x="75960" y="610020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56"/>
              <p:cNvSpPr/>
              <p:nvPr/>
            </p:nvSpPr>
            <p:spPr>
              <a:xfrm>
                <a:off x="75960" y="633060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57"/>
              <p:cNvSpPr/>
              <p:nvPr/>
            </p:nvSpPr>
            <p:spPr>
              <a:xfrm>
                <a:off x="75960" y="65592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58"/>
              <p:cNvSpPr/>
              <p:nvPr/>
            </p:nvSpPr>
            <p:spPr>
              <a:xfrm>
                <a:off x="75960" y="1630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59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60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61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62"/>
              <p:cNvSpPr/>
              <p:nvPr/>
            </p:nvSpPr>
            <p:spPr>
              <a:xfrm>
                <a:off x="75960" y="1075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63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64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7"/>
          <p:cNvSpPr/>
          <p:nvPr/>
        </p:nvSpPr>
        <p:spPr>
          <a:xfrm>
            <a:off x="1143000" y="6248520"/>
            <a:ext cx="1905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8"/>
          <p:cNvSpPr/>
          <p:nvPr/>
        </p:nvSpPr>
        <p:spPr>
          <a:xfrm>
            <a:off x="3581280" y="6248520"/>
            <a:ext cx="2895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7F04CC-3B5C-4FDD-8286-F2FB1C0B323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838080" y="30492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ПОЯСНИТЕЛЬНАЯ ЗАПИСКА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ГОДОВОМУ ОТЧЕТУ ЗА </a:t>
            </a:r>
            <a:r>
              <a:rPr b="1" lang="en-GB" sz="2800" spc="-1" strike="noStrike">
                <a:solidFill>
                  <a:srgbClr val="ffff00"/>
                </a:solidFill>
                <a:latin typeface="Arial Black"/>
              </a:rPr>
              <a:t>201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3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ГОД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МУЗ </a:t>
            </a:r>
            <a:r>
              <a:rPr b="1" lang="en-GB" sz="3200" spc="-1" strike="noStrike">
                <a:solidFill>
                  <a:srgbClr val="ffff00"/>
                </a:solidFill>
                <a:latin typeface="Arial Black"/>
              </a:rPr>
              <a:t>«высоковская городская 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БОЛЬНИЦА»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И ПЛАН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Ы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РАБОТ 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НА </a:t>
            </a:r>
            <a:r>
              <a:rPr b="1" lang="en-GB" sz="2800" spc="-1" strike="noStrike">
                <a:solidFill>
                  <a:srgbClr val="ffff00"/>
                </a:solidFill>
                <a:latin typeface="Arial Black"/>
              </a:rPr>
              <a:t>201</a:t>
            </a:r>
            <a:r>
              <a:rPr b="1" lang="ru-RU" sz="2800" spc="-1" strike="noStrike">
                <a:solidFill>
                  <a:srgbClr val="ffff00"/>
                </a:solidFill>
                <a:latin typeface="Arial Black"/>
              </a:rPr>
              <a:t>4</a:t>
            </a:r>
            <a:r>
              <a:rPr b="1" lang="en-GB" sz="2400" spc="-1" strike="noStrike">
                <a:solidFill>
                  <a:srgbClr val="ffff00"/>
                </a:solidFill>
                <a:latin typeface="Arial Black"/>
              </a:rPr>
              <a:t> ГО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828800" y="4572000"/>
            <a:ext cx="6934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Главный врач МУЗ «Высоковска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городская больниц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Моисеев Андрей Николаеви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ЫЯВЛЕНИЕ ОНКОЛОГИЧЕСКИХ БОЛЬНЫХ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TextBox 2"/>
          <p:cNvSpPr/>
          <p:nvPr/>
        </p:nvSpPr>
        <p:spPr>
          <a:xfrm>
            <a:off x="1285920" y="928800"/>
            <a:ext cx="7858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2013г взято на «Д» учёт  49 чел. , из н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4 ч  онкопатология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II-IY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   (48,9%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5 ч  онкопатология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-II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   (51,1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го на диспансерном учёте 232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их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7 чел  онкопатология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II-IY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 –   28,9%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65 чел  онкопатология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-II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ст    - 71,1%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нято с «Д» учета 21 чел в связи со смертью   (12,9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стадиям  запущенност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Диаграмма 4" descr=""/>
          <p:cNvPicPr/>
          <p:nvPr/>
        </p:nvPicPr>
        <p:blipFill>
          <a:blip r:embed="rId1"/>
          <a:stretch/>
        </p:blipFill>
        <p:spPr>
          <a:xfrm>
            <a:off x="1494000" y="4286160"/>
            <a:ext cx="70704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714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ЕРВИЧНЫЙ ВЫХОД НА ИНВАЛИДНОСТЬ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зрослые:</a:t>
            </a:r>
            <a:br>
              <a:rPr sz="24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сего вышло  на инвалидность 54 чел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,  из них:                             трудоспособного возраста  25 чел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аспределение по группам инвалидност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1 гр. 4 чел  (трудоспособ. возраста 0 чел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2 гр. 19 чел (трудоспособ. возраста 9 чел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3 гр. 31 чел. (трудоспособ.возрата 16 чел).</a:t>
            </a: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профиля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 терапия        – 7 чел ( трудоспособ возраста 5 чел)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неврология – 11 чел (трудоспос возраста 8 чел)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хирургия     – 14 чел (трудоспособ возраста 8 чел)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онкология   – 20 чел ( трудоспособ озраста 4 чел)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офтальмология – 2 чел  ( трудоспос возраста 0 чел)</a:t>
            </a:r>
            <a:br>
              <a:rPr sz="20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ети </a:t>
            </a:r>
            <a:br>
              <a:rPr sz="24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ыявленол впервые инвалидов среди детей в 2013г – 8 человек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ЕТСКАЯ ИНВАЛИДНОСТЬ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116000" y="819360"/>
            <a:ext cx="8028000" cy="55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ет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инвали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го:        55 ч. из них:                                                                                                                                город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2 ч                                                                                                                                                   село    - 13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явлено  впервые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8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нозологиям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нервной системы  -   18 ч,              из них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пилепсии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ДЦП          -  16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образования                                             -   1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иатрические болезни                              -   16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эндокринной системы                      -   2 ч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глаз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уха                                                      -   3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органов дыхания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 ч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костно- мышечной системы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1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зни почек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1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ожденные аномалии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9,  из них  сердца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3 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1722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ИСПАНСЕРИЗАЦИЯ НАСЕЛЕНИЯ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71424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диспансеризац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определенных групп взрослого населения –по плану на 2013 год - 3 375 чел.,                                                                            осмотрено -2972 чел. (88,1 %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о профилактическом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медосмотру взрослого населения – по плану на 2013 год  -  2 554 чел.,                                                                              осмотрено – 994 чел. (39 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 2014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ду планируется продолжение диспансеризации определенных групп взрослого населения в количестве примерно     30 % от общего числа взрослого приписного насел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обходимо: расширять группу по прохождению диспансеризации с целью более  раннего выявления заболеваний  и выявления на ранней стадии онкопатолог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оведение диспансеризации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бывающих в стационарах учреждениях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детей-сирот и детей, находящихся в трудной жизненной ситуации»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его подлежало осмотру    54 чел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мотрено 54 чел = 10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иодический осмотр детей: план 2021 ч , выполнено 870 ч =4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ФОСМОТРЫ    ДЕТЕЙ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70000" y="549360"/>
            <a:ext cx="77709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го осмотрено при профилактических осмотрах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тей и подростков   -  1754 ч  = 101,8% (план – 1723ч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лено патологий: - с нарушением слуха     -  1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 нарушение зрения   -  29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 дефектами речи     –   39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 нарушением осанки–  14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 сколиозом             –  10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т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еред поступление в детское дошкольное учреждение –  7 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за год до поступление в школу                                         –  28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еред поступление в школу                                               -  11 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 конце 1 года обучения                                                       -  5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ри переходе к предметному  обучению                         –  26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в возрасте 15 лет                                                                  - 12  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перед окончанием школы                                                    -  4  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являемость заболеваний на проф осмотрах составила – 5,3 %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дети с выявленной патологией, взяты на  «Д»  уч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БОТА КРУГЛОСУТОЧНОГО СТАЦИОНАРА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 2013г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1000080"/>
          <a:ext cx="7715160" cy="3032280"/>
        </p:xfrm>
        <a:graphic>
          <a:graphicData uri="http://schemas.openxmlformats.org/drawingml/2006/table">
            <a:tbl>
              <a:tblPr/>
              <a:tblGrid>
                <a:gridCol w="1714680"/>
                <a:gridCol w="1211040"/>
                <a:gridCol w="957240"/>
                <a:gridCol w="959040"/>
                <a:gridCol w="957240"/>
                <a:gridCol w="766800"/>
                <a:gridCol w="114912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и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егодовых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о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пл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олнения пл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ятость кой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 кой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длительность ле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 3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3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нек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е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3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4 1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67"/>
          <p:cNvSpPr/>
          <p:nvPr/>
        </p:nvSpPr>
        <p:spPr>
          <a:xfrm flipV="1" rot="10800000">
            <a:off x="1071360" y="3944520"/>
            <a:ext cx="807228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лановые задания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 хирургии и инфекционному отделениям перевыполнены (105%-102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Гинекологические  койки круглосуточные работали только 7 месяцев до 01.08.2013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апевтические койки сработали на 97% в результате путаницы с объёмами, выставленными ТФОМС, из которых следовало, что в отделении 10 коек дневных и 50 коек круглосуточных, приходилось выполнять данные объёмы в 1 квартале, во 2 квартале  пересмотрели наши объёмы и выставили цифры на весь 2014год как  на 55 круглосуточных коек и 5 коек дневного пребывания, в результате и произошёл перекос в выполнении плановых объёмов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571680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довыполнение  объёмов по круглосуточному стационару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571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выполнение по дневному стационару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БОТА ДНЕВНОГО СТАЦИОНАРА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 2012г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214280" y="787320"/>
          <a:ext cx="7500960" cy="3506760"/>
        </p:xfrm>
        <a:graphic>
          <a:graphicData uri="http://schemas.openxmlformats.org/drawingml/2006/table">
            <a:tbl>
              <a:tblPr/>
              <a:tblGrid>
                <a:gridCol w="1785960"/>
                <a:gridCol w="1071720"/>
                <a:gridCol w="857160"/>
                <a:gridCol w="1071720"/>
                <a:gridCol w="857160"/>
                <a:gridCol w="1000080"/>
                <a:gridCol w="857160"/>
              </a:tblGrid>
              <a:tr h="112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и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среднегодовых ко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пл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олнения пл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нятость ко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от кой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длит л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6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нек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ек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4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3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63"/>
          <p:cNvSpPr/>
          <p:nvPr/>
        </p:nvSpPr>
        <p:spPr>
          <a:xfrm>
            <a:off x="1258920" y="4572000"/>
            <a:ext cx="763416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лановые задан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хирургического и терапевтического отделений выполнены свыше 10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инекология дневной при стационаре – план на 9 месяцев, а работала дневная койка при стационаре работала всего 8 месяцев, поэтому и выполнение плана ниже 10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орот койки высокий выше 20 во всех дневных отделения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АЦИОНАР ДНЕВНОГО ПРЕБЫВАНИЯ ПРИ ЖЕНСКОЙ КОНСУЛЬТАЦИИ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142640" y="857160"/>
            <a:ext cx="8001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невной стационар при поликлинике работал 4 месяца в 2013г с 01.08.2013г по 31.12.2013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71760" y="1643040"/>
          <a:ext cx="6095880" cy="39434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ко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93 к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е плана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выполнение плана к\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 койки в год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ролеченных б-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 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яя длит ле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 д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кой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а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468720" y="0"/>
            <a:ext cx="10363320" cy="40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ЛЕТАЛЬНОСТЬ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08000" y="1413000"/>
          <a:ext cx="5521680" cy="1449360"/>
        </p:xfrm>
        <a:graphic>
          <a:graphicData uri="http://schemas.openxmlformats.org/drawingml/2006/table">
            <a:tbl>
              <a:tblPr/>
              <a:tblGrid>
                <a:gridCol w="1157400"/>
                <a:gridCol w="2644920"/>
                <a:gridCol w="1719360"/>
              </a:tblGrid>
              <a:tr h="50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Количество умерш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(человек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Лета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1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7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4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2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6 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8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013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3 че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8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TextBox 9"/>
          <p:cNvSpPr/>
          <p:nvPr/>
        </p:nvSpPr>
        <p:spPr>
          <a:xfrm>
            <a:off x="1285920" y="3357720"/>
            <a:ext cx="764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1438200" y="3510000"/>
            <a:ext cx="7643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1143000" y="2924280"/>
            <a:ext cx="8001000" cy="59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о умерш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терапевтическом отд   практических на тех же цифрах ( 5ч-2011г,            7 ч -  2012г,  7 ч - 2013г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хирургическом отд практически на одних и тех же цифрах в течении 3-х лет, ( 20ч – 2011г, 23ч – 2012г, 22 ч – 2013г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инфекционном отделении наметилась тенденция к уменьшению количества умерших (7 ч  -  2011г,  6 ч -  2012г,  4 ч – 2013г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гинекологическом отделении 0 умерши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целом по больнице количество умерших  по сравнению с 2011г значительно  уменьшилась ( на 14 ч ) и по сравнению с 2012г немного уменьшилась (3 ч)            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о вскрыти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инфекционном отд на одних и тех же цифр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илось в хирургическом отделении (3ч-2011г, 5ч- 2012г, 8ч – 2013г), и в целом по больнице  (8ч-2011г, 8ч. – 2012г , 11ч -2013г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 flipV="1" rot="8522400">
            <a:off x="1042200" y="4305600"/>
            <a:ext cx="81010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116000" y="404640"/>
            <a:ext cx="78487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тальные исходы наблюдались только в круглосуточном стациона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гинекологической койке круглосуточного стационара летальных исходов не был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РУКТУРА ЛЕТАЛЬНОСТИ ПО СТАЦИОНАРУ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70000" y="714240"/>
            <a:ext cx="7770960" cy="65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сего умерло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3 ч -0,8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1.Произведено вскрытий :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11 ч =33,3%,       22 ч=  66,7% не вскры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2.Расхождения диагноз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:         1ч =   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3.Работоспособного возраст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: 11 ч =  33,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4.Возрастной соста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    до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л =0,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30л до 40л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ч =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40л до 50 л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2 ч =6,1%,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50 л  до 6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  - 8 ч =24,2%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60  л до 70 л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ч =6,1%,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 70 л  до 80 л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6 ч =48,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ыше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       -  4 ч   = 12,1%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По нозолог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1 ч =  3%  - ВИЧ -3-4 ст  +цирроз печен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 ч =  9%  - хронический гепатит, хр алкоголизм,                12 ч = 36,3% –сосудистые заболевания нижних конечносте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 ч = 30,3% - онкология различной этиологи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 ч = 12,1% - сердечно-сосудистая патология  (ИБС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 ч =  6%     - ХОБ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ч =   3%    - сосудистое заболевания головного моз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171440" y="0"/>
            <a:ext cx="746784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МБУЛАТОРНО – ПОЛИКЛИНИЧЕСК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Я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СЛУЖБ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ПОЛИКЛИНИКА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на 500 посещений в смен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7 терапевтических участков (6 городских,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 сельский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6 ФАП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узкие специалисты (хирург, невролог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ул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ист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ториноларинголог, стоматоло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инфекционист, кардиолог, онколог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детская консультац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женская консультация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участка ОВП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тационар на дому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5  коек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(в две смены)  - терапевтически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невной стационар  ОВП  в 2 смен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01.08.14г  открыто 10 коек дневного пребывания  при поликлинике  гинекологического профиля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708336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096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РАБОТ НА 2014 г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70000" y="499680"/>
            <a:ext cx="7974000" cy="67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а)План амбулаторно-поликлинической помощи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ещений –154 286 посещений и  стационары на дому –  7 000 п/д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менить план по дневному стационару при поликлинике, так как  присланный план рассчитан на 40 кое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)Планы по стационару:  круглосуточный стационар – 41 350 к\д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зменить план работ по дневному стационару  при стационаре, так как по терапии  план рассчитан план на 15 коек дневного пребы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Продолжить совершенствовать принципы взаимодействия поликлиники с подразделением скорой медицинской помощи и со стационарными отделен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Продолжить работу по оказанию медицинской помощи сельскому населению (выездные бригады), включая проведение диспансеризации и медицинские осмот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Продолжить держать среднюю занятость койки стационара  не менее 330 – 340 дней в год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.Внедрить в практику новое оборудование,  с целью улучшения качества оказания медицинской помощи населению и уменьшения количества штрафных санкций вневедомственной экспертиз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6.Продолжить внедрение схем лечения  оказания медицинской помо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63723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430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ЗАИМОДЕЙСТВИЕ МЕЖДУ ПОДРАЗДЕЛЕНИЯМИ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684360" y="981000"/>
            <a:ext cx="8459640" cy="559764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Стационар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Поликлиника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й                  Дневной стационар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Дневной стационар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при стационар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при поликлинике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Стационар на д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УЗИ кабинет                  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Параклиника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абинет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доскопи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Лаборатория        Физиотерапия         Рентгенкабинет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ункциональна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иагности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9" name="AutoShape 3"/>
          <p:cNvCxnSpPr/>
          <p:nvPr/>
        </p:nvCxnSpPr>
        <p:spPr>
          <a:xfrm>
            <a:off x="4071600" y="1285920"/>
            <a:ext cx="18579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0" name="AutoShape 4"/>
          <p:cNvCxnSpPr/>
          <p:nvPr/>
        </p:nvCxnSpPr>
        <p:spPr>
          <a:xfrm flipH="1">
            <a:off x="1285200" y="1428840"/>
            <a:ext cx="572040" cy="286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AutoShape 5"/>
          <p:cNvCxnSpPr/>
          <p:nvPr/>
        </p:nvCxnSpPr>
        <p:spPr>
          <a:xfrm>
            <a:off x="2642760" y="1428840"/>
            <a:ext cx="857880" cy="429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AutoShape 6"/>
          <p:cNvCxnSpPr/>
          <p:nvPr/>
        </p:nvCxnSpPr>
        <p:spPr>
          <a:xfrm>
            <a:off x="7524360" y="1268280"/>
            <a:ext cx="429480" cy="1789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AutoShape 7"/>
          <p:cNvCxnSpPr/>
          <p:nvPr/>
        </p:nvCxnSpPr>
        <p:spPr>
          <a:xfrm flipH="1">
            <a:off x="1762920" y="4941720"/>
            <a:ext cx="252180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4" name="AutoShape 8"/>
          <p:cNvCxnSpPr/>
          <p:nvPr/>
        </p:nvCxnSpPr>
        <p:spPr>
          <a:xfrm flipH="1">
            <a:off x="3634920" y="5013360"/>
            <a:ext cx="1224720" cy="930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5" name="AutoShape 9"/>
          <p:cNvCxnSpPr/>
          <p:nvPr/>
        </p:nvCxnSpPr>
        <p:spPr>
          <a:xfrm>
            <a:off x="5148000" y="5084640"/>
            <a:ext cx="641880" cy="859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6" name="AutoShape 10"/>
          <p:cNvCxnSpPr/>
          <p:nvPr/>
        </p:nvCxnSpPr>
        <p:spPr>
          <a:xfrm>
            <a:off x="5796000" y="5013000"/>
            <a:ext cx="1596240" cy="872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AutoShape 11"/>
          <p:cNvCxnSpPr/>
          <p:nvPr/>
        </p:nvCxnSpPr>
        <p:spPr>
          <a:xfrm>
            <a:off x="4932000" y="2421000"/>
            <a:ext cx="1080" cy="23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AutoShape 12"/>
          <p:cNvCxnSpPr/>
          <p:nvPr/>
        </p:nvCxnSpPr>
        <p:spPr>
          <a:xfrm flipH="1">
            <a:off x="3203280" y="4868640"/>
            <a:ext cx="1152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9" name="AutoShape 13"/>
          <p:cNvCxnSpPr/>
          <p:nvPr/>
        </p:nvCxnSpPr>
        <p:spPr>
          <a:xfrm>
            <a:off x="6156360" y="4868640"/>
            <a:ext cx="720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0" name="AutoShape 14"/>
          <p:cNvCxnSpPr/>
          <p:nvPr/>
        </p:nvCxnSpPr>
        <p:spPr>
          <a:xfrm>
            <a:off x="2340000" y="1413000"/>
            <a:ext cx="2520000" cy="3240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AutoShape 15"/>
          <p:cNvCxnSpPr/>
          <p:nvPr/>
        </p:nvCxnSpPr>
        <p:spPr>
          <a:xfrm flipV="1">
            <a:off x="5076720" y="1483560"/>
            <a:ext cx="2160000" cy="322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Прямая со стрелкой 24"/>
          <p:cNvCxnSpPr/>
          <p:nvPr/>
        </p:nvCxnSpPr>
        <p:spPr>
          <a:xfrm>
            <a:off x="7667640" y="1341360"/>
            <a:ext cx="50544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3" name="Прямая со стрелкой 31"/>
          <p:cNvCxnSpPr/>
          <p:nvPr/>
        </p:nvCxnSpPr>
        <p:spPr>
          <a:xfrm flipV="1">
            <a:off x="6372360" y="1340640"/>
            <a:ext cx="50400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4" name="Прямая со стрелкой 34"/>
          <p:cNvCxnSpPr/>
          <p:nvPr/>
        </p:nvCxnSpPr>
        <p:spPr>
          <a:xfrm flipH="1">
            <a:off x="6011640" y="1628280"/>
            <a:ext cx="505440" cy="28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5" name="Прямая со стрелкой 36"/>
          <p:cNvCxnSpPr/>
          <p:nvPr/>
        </p:nvCxnSpPr>
        <p:spPr>
          <a:xfrm>
            <a:off x="2987280" y="1341360"/>
            <a:ext cx="374580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АЛИЗ ФИНАНСОВО –ЭКОНОМИЧЕСКОЙ ДЕЯТЕЛЬНОСТИ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70000" y="396720"/>
          <a:ext cx="7770960" cy="6432840"/>
        </p:xfrm>
        <a:graphic>
          <a:graphicData uri="http://schemas.openxmlformats.org/drawingml/2006/table">
            <a:tbl>
              <a:tblPr/>
              <a:tblGrid>
                <a:gridCol w="3402000"/>
                <a:gridCol w="1944720"/>
                <a:gridCol w="24242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 ОМ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таток на 01.01.2013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5 551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09 56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Поступил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 317 091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56 40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Израсходовано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сего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 495 610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40 192 руб. Из н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аботная плата с начислениями на оплату тру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 183 973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6 09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каменты и расходный матери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860 95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 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35 179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 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ягкий инвент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8 98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уги связ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 524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ые усл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83 495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 72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уги по содержанию  имущ-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20 87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 376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услуг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37 973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 52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величение стоимости основных сред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3 017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59 398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орская задолж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биторская задолж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58 292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735 808 руб.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3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9 999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9720" y="-36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ДОГОВОРА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764640"/>
            <a:ext cx="7655040" cy="64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2013г заключено 434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договора на сумму        44 964,7 тыс руб сроком до 31.12.2013г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дукты питания                                                 5 270,5 тыс.руб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медикаменты и расходные материалы               11 088,5 тыс руб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коммунальные услуги                                           5 279,7 тыс руб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услуги связи                                                             474,5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прочие услуги (лабораторные исследования)    7 463,4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ГСМ                                                                         1 087,3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хозяйственный инвентарь                                    4 613,5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апитальный ремонт пищеблока                          2 834,4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на приобретение основных средств                     2 491,3 тыс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на содержание имущества                                     4 361,6 тыс руб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1371600" y="0"/>
            <a:ext cx="7772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БОТА С КАДР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1257480" y="620640"/>
            <a:ext cx="7572240" cy="60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начало года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штатных единиц было 350,5 с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Изменения в штатном распис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С 01.12.2013г  8 ставок в связи с передачей медицинского персонала образовательных учрежд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На конец года 358,5 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комплектованность штатов составляет 70%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эффициент совместительства:     врачи – 1,39,   медсестры – 1 28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Прямоугольник 4"/>
          <p:cNvSpPr/>
          <p:nvPr/>
        </p:nvSpPr>
        <p:spPr>
          <a:xfrm flipV="1">
            <a:off x="1428840" y="3745800"/>
            <a:ext cx="7358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285920" y="3571920"/>
            <a:ext cx="7357680" cy="857160"/>
            <a:chOff x="1285920" y="3571920"/>
            <a:chExt cx="7357680" cy="857160"/>
          </a:xfrm>
        </p:grpSpPr>
        <p:sp>
          <p:nvSpPr>
            <p:cNvPr id="264" name="Rectangle 4"/>
            <p:cNvSpPr/>
            <p:nvPr/>
          </p:nvSpPr>
          <p:spPr>
            <a:xfrm>
              <a:off x="128592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Физические  л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275724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меют категори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4228560" y="3571920"/>
              <a:ext cx="147096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ысш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7"/>
            <p:cNvSpPr/>
            <p:nvPr/>
          </p:nvSpPr>
          <p:spPr>
            <a:xfrm>
              <a:off x="569952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Перв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7170840" y="3571920"/>
              <a:ext cx="1471320" cy="4698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торая категори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128592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75724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15ч-41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4228560" y="4041720"/>
              <a:ext cx="147096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ч-13,5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569952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10ч -2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3"/>
            <p:cNvSpPr/>
            <p:nvPr/>
          </p:nvSpPr>
          <p:spPr>
            <a:xfrm>
              <a:off x="7170840" y="4041720"/>
              <a:ext cx="1471320" cy="38592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14"/>
            <p:cNvSpPr/>
            <p:nvPr/>
          </p:nvSpPr>
          <p:spPr>
            <a:xfrm>
              <a:off x="275724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Line 15"/>
            <p:cNvSpPr/>
            <p:nvPr/>
          </p:nvSpPr>
          <p:spPr>
            <a:xfrm>
              <a:off x="422856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16"/>
            <p:cNvSpPr/>
            <p:nvPr/>
          </p:nvSpPr>
          <p:spPr>
            <a:xfrm>
              <a:off x="5699520" y="3571920"/>
              <a:ext cx="180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Line 17"/>
            <p:cNvSpPr/>
            <p:nvPr/>
          </p:nvSpPr>
          <p:spPr>
            <a:xfrm>
              <a:off x="717084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Line 18"/>
            <p:cNvSpPr/>
            <p:nvPr/>
          </p:nvSpPr>
          <p:spPr>
            <a:xfrm>
              <a:off x="1285920" y="4041720"/>
              <a:ext cx="735624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19"/>
            <p:cNvSpPr/>
            <p:nvPr/>
          </p:nvSpPr>
          <p:spPr>
            <a:xfrm>
              <a:off x="1285920" y="3571920"/>
              <a:ext cx="180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8642160" y="3571920"/>
              <a:ext cx="1440" cy="85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21"/>
            <p:cNvSpPr/>
            <p:nvPr/>
          </p:nvSpPr>
          <p:spPr>
            <a:xfrm>
              <a:off x="1285920" y="3571920"/>
              <a:ext cx="7356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22"/>
            <p:cNvSpPr/>
            <p:nvPr/>
          </p:nvSpPr>
          <p:spPr>
            <a:xfrm>
              <a:off x="1285920" y="4428000"/>
              <a:ext cx="73562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3"/>
          <p:cNvGrpSpPr/>
          <p:nvPr/>
        </p:nvGrpSpPr>
        <p:grpSpPr>
          <a:xfrm>
            <a:off x="1290600" y="3571920"/>
            <a:ext cx="7567200" cy="1010880"/>
            <a:chOff x="1290600" y="3571920"/>
            <a:chExt cx="7567200" cy="1010880"/>
          </a:xfrm>
        </p:grpSpPr>
        <p:sp>
          <p:nvSpPr>
            <p:cNvPr id="284" name="Rectangle 4"/>
            <p:cNvSpPr/>
            <p:nvPr/>
          </p:nvSpPr>
          <p:spPr>
            <a:xfrm>
              <a:off x="129060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Физические  л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280368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меют категорию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4317120" y="3571920"/>
              <a:ext cx="151272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ысш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582984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Перв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343280" y="3571920"/>
              <a:ext cx="1513080" cy="5540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торая категория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9"/>
            <p:cNvSpPr/>
            <p:nvPr/>
          </p:nvSpPr>
          <p:spPr>
            <a:xfrm>
              <a:off x="129060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280368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9 ч-25,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11"/>
            <p:cNvSpPr/>
            <p:nvPr/>
          </p:nvSpPr>
          <p:spPr>
            <a:xfrm>
              <a:off x="4317120" y="4125960"/>
              <a:ext cx="151272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4ч-44,4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12"/>
            <p:cNvSpPr/>
            <p:nvPr/>
          </p:nvSpPr>
          <p:spPr>
            <a:xfrm>
              <a:off x="582984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ч -55,6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7343280" y="4125960"/>
              <a:ext cx="1513080" cy="45540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280368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431712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5829840" y="3571920"/>
              <a:ext cx="180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734328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>
              <a:off x="1290600" y="4125960"/>
              <a:ext cx="756576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>
              <a:off x="8856360" y="3571920"/>
              <a:ext cx="1440" cy="10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1290600" y="3571920"/>
              <a:ext cx="7565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290600" y="4581720"/>
              <a:ext cx="7565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Group 3"/>
          <p:cNvGrpSpPr/>
          <p:nvPr/>
        </p:nvGrpSpPr>
        <p:grpSpPr>
          <a:xfrm>
            <a:off x="1214640" y="5572080"/>
            <a:ext cx="7724520" cy="928800"/>
            <a:chOff x="1214640" y="5572080"/>
            <a:chExt cx="7724520" cy="928800"/>
          </a:xfrm>
        </p:grpSpPr>
        <p:sp>
          <p:nvSpPr>
            <p:cNvPr id="303" name="Rectangle 4"/>
            <p:cNvSpPr/>
            <p:nvPr/>
          </p:nvSpPr>
          <p:spPr>
            <a:xfrm flipV="1" rot="10800000">
              <a:off x="728244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тор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Rectangle 5"/>
            <p:cNvSpPr/>
            <p:nvPr/>
          </p:nvSpPr>
          <p:spPr>
            <a:xfrm flipV="1" rot="10800000">
              <a:off x="576576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ервая 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 flipV="1" rot="10800000">
              <a:off x="4249440" y="5572080"/>
              <a:ext cx="151596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Высшая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Rectangle 7"/>
            <p:cNvSpPr/>
            <p:nvPr/>
          </p:nvSpPr>
          <p:spPr>
            <a:xfrm flipV="1" rot="10800000">
              <a:off x="273312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меют категорию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категори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 flipV="1" rot="10800000">
              <a:off x="1214640" y="5572080"/>
              <a:ext cx="1516320" cy="5097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Физические лиц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 flipV="1" rot="10800000">
              <a:off x="7282440" y="6020280"/>
              <a:ext cx="1516320" cy="3603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2ч-3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 flipV="1" rot="10800000">
              <a:off x="5765400" y="6005520"/>
              <a:ext cx="1593000" cy="37548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12ч-17,9%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Rectangle 11"/>
            <p:cNvSpPr/>
            <p:nvPr/>
          </p:nvSpPr>
          <p:spPr>
            <a:xfrm flipV="1" rot="10800000">
              <a:off x="4249440" y="5999760"/>
              <a:ext cx="1515960" cy="38124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53ч-79,1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12"/>
            <p:cNvSpPr/>
            <p:nvPr/>
          </p:nvSpPr>
          <p:spPr>
            <a:xfrm flipV="1" rot="10800000">
              <a:off x="2715480" y="6020280"/>
              <a:ext cx="1587240" cy="36036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67ч-75,2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3"/>
            <p:cNvSpPr/>
            <p:nvPr/>
          </p:nvSpPr>
          <p:spPr>
            <a:xfrm flipV="1" rot="10800000">
              <a:off x="1216440" y="6005520"/>
              <a:ext cx="1516320" cy="375480"/>
            </a:xfrm>
            <a:prstGeom prst="rect">
              <a:avLst/>
            </a:prstGeom>
            <a:solidFill>
              <a:srgbClr val="d6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90ч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 flipH="1">
              <a:off x="728064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 flipH="1">
              <a:off x="576396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Line 16"/>
            <p:cNvSpPr/>
            <p:nvPr/>
          </p:nvSpPr>
          <p:spPr>
            <a:xfrm flipH="1">
              <a:off x="4247640" y="5572080"/>
              <a:ext cx="180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7"/>
            <p:cNvSpPr/>
            <p:nvPr/>
          </p:nvSpPr>
          <p:spPr>
            <a:xfrm flipH="1">
              <a:off x="273132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Line 19"/>
            <p:cNvSpPr/>
            <p:nvPr/>
          </p:nvSpPr>
          <p:spPr>
            <a:xfrm flipH="1">
              <a:off x="8796960" y="5572080"/>
              <a:ext cx="180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Line 20"/>
            <p:cNvSpPr/>
            <p:nvPr/>
          </p:nvSpPr>
          <p:spPr>
            <a:xfrm flipH="1">
              <a:off x="1214640" y="5572080"/>
              <a:ext cx="1440" cy="9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 flipH="1">
              <a:off x="1216440" y="5572080"/>
              <a:ext cx="7582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22"/>
            <p:cNvSpPr/>
            <p:nvPr/>
          </p:nvSpPr>
          <p:spPr>
            <a:xfrm flipH="1">
              <a:off x="1357200" y="6439680"/>
              <a:ext cx="7581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1143000" y="0"/>
            <a:ext cx="7772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БЕСПЕЧЕННОСТЬ КАДР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Диаграмма 9" descr=""/>
          <p:cNvPicPr/>
          <p:nvPr/>
        </p:nvPicPr>
        <p:blipFill>
          <a:blip r:embed="rId1"/>
          <a:stretch/>
        </p:blipFill>
        <p:spPr>
          <a:xfrm>
            <a:off x="1255680" y="901800"/>
            <a:ext cx="7570800" cy="5340240"/>
          </a:xfrm>
          <a:prstGeom prst="rect">
            <a:avLst/>
          </a:prstGeom>
          <a:ln w="0">
            <a:noFill/>
          </a:ln>
        </p:spPr>
      </p:pic>
      <p:pic>
        <p:nvPicPr>
          <p:cNvPr id="323" name="Диаграмма 4" descr=""/>
          <p:cNvPicPr/>
          <p:nvPr/>
        </p:nvPicPr>
        <p:blipFill>
          <a:blip r:embed="rId2"/>
          <a:stretch/>
        </p:blipFill>
        <p:spPr>
          <a:xfrm>
            <a:off x="1255680" y="1189080"/>
            <a:ext cx="7894800" cy="50529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1"/>
          <p:cNvSpPr/>
          <p:nvPr/>
        </p:nvSpPr>
        <p:spPr>
          <a:xfrm>
            <a:off x="1285920" y="214200"/>
            <a:ext cx="757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КОМПЛЕКТОВАННОСТЬ</a:t>
            </a:r>
            <a:br>
              <a:rPr sz="2400"/>
            </a:b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МЕДИЦИНСКИМИ КАДРАМИ  (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Диаграмма 3" descr=""/>
          <p:cNvPicPr/>
          <p:nvPr/>
        </p:nvPicPr>
        <p:blipFill>
          <a:blip r:embed="rId1"/>
          <a:stretch/>
        </p:blipFill>
        <p:spPr>
          <a:xfrm>
            <a:off x="1133640" y="1279440"/>
            <a:ext cx="7802280" cy="5297400"/>
          </a:xfrm>
          <a:prstGeom prst="rect">
            <a:avLst/>
          </a:prstGeom>
          <a:ln w="0">
            <a:noFill/>
          </a:ln>
        </p:spPr>
      </p:pic>
      <p:pic>
        <p:nvPicPr>
          <p:cNvPr id="326" name="Диаграмма 4" descr=""/>
          <p:cNvPicPr/>
          <p:nvPr/>
        </p:nvPicPr>
        <p:blipFill>
          <a:blip r:embed="rId2"/>
          <a:stretch/>
        </p:blipFill>
        <p:spPr>
          <a:xfrm>
            <a:off x="1322280" y="974880"/>
            <a:ext cx="765036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"/>
          <p:cNvSpPr/>
          <p:nvPr/>
        </p:nvSpPr>
        <p:spPr>
          <a:xfrm>
            <a:off x="1143000" y="0"/>
            <a:ext cx="8001000" cy="73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УЧЁБА и ВАКАНС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2013г  прошли курсы повышения квалификации и получили сертификат специалист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ачи           – 4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сестры – 17 че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твердили квалификационную категорию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ачи          – 4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сестры – 16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чёбы повышения квалификации на 2014г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ачи           -  8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сёстры – 14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Вакантные должности специалисто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ача-рентгеноло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ст.  врача  - анестезиолога - реаниматоло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 ст. врача-терапевта поликлиник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терапевта стационар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врача педиатра для работы в детсадах и школа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врача УЗИ кабинет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 ст. фельдшера для работы на ФАПа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ст.  медсестры анестезистки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1332000" y="260280"/>
            <a:ext cx="750096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ОЩРЕНИЯ ПЕРСОНАЛА ЗА 2013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Выплаты стимулирующего характера основываются на критериях оценки деятельности, степени участия в лечебном процессе, объёме и качестве проводимых мероприятий составили 6 359,5 тыс.руб.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.Членам профсоюза выплачивают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премии к юбилейным датам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выходе работников на пенсию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териальная помощь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увольнении пенсионе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похоро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 ходатайству зав отделениям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его в 2013г израсходовано 205 000 ру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1143000" y="2761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М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Times New Roman"/>
              </a:rPr>
              <a:t>АТЕРИАЛЬНО-ТЕХНИЧЕСКАЯ БАЗ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000080" y="928800"/>
            <a:ext cx="80010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Фондооснащенность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– отношение балансовой стоимости активной части основных средств к площади учреждения на которой осуществляется профилактическая, лечебно-диагностическая и реабилитационная деятельность учрежд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5 792 759 руб. / 7296,3 кв.м = 114 499,5 руб. на ед.мощност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(2012г — 15 092 ру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Фондовооруженность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определяется отношением балансовой стоимости активной части основных средств к среднегодовой (штатной), численности врач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5 792 759руб. / 35 чел. = 3 022 650 руб.на ед.мощ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2012г – 2 775 984 ру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1143000" y="0"/>
            <a:ext cx="785808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РУКТУРА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ТАЦИОНА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Всего - 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0 коек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начало 201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: 160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й стационар  - 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0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дневной стационар при стационаре  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с 01.08.2014г сокращено 20 коек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ирургического отделени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инекологического профи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На конец 201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г.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: 140 ко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й стационар - 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 кое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дневной стационар при стационаре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 кое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i="1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тделе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Хирургическое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0 коек из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них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35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круглосуточны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 дневных ко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20 коек гинекологического  профил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сокращены с 01.08.20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Терапевтическо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– 60 коек, из них :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0 коек неврологических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0  круглосуточны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0 дневных ко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Инфекционное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– 40 коек, их них: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35 круглосуточны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5 дневных коек.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1143000" y="2761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отребность в медицинском оборудовании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1071720" y="928800"/>
            <a:ext cx="79293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В 20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г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ыло получен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единиц медицинского оборудования на сумму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931 606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руб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а средства по родовым сертификатам получено 7 единиц  на сумму 202 950  руб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2013г списано основных средств по причине негодности на сумму 2 636 542 руб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В 20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году планируется заключение контрактов на поставку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единиц медицинского оборудования на сумму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7 2 837 600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руб.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1143000" y="14292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Национальный проект Здоровь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000080" y="785880"/>
            <a:ext cx="80010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.  Дополнительная диспансеризация работающих гражд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мотрено 2 972 чел.,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 – 6 092,6 тыс.р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. Дополнительная диспансеризация пребывающих в стационарных  учреждениях детей сирот и детей находящихся в трудной жизненной ситуации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мотрено 54 чел, 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-185,5 тыс.руб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. Финансовое обеспечение расходов на оплату услуг по мед.помощи, оказанной женщинам в период беременности, родов и послеродовой период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ано 198 сер. 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из ФСС —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94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тыс.руб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се поступившие средства  израсходованы на оплату труда  сотрудников,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медикаменты, услуги сторонних организаций,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риобретение оборудо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грамма Модернизация здравоохранения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Прямоугольник 3"/>
          <p:cNvSpPr/>
          <p:nvPr/>
        </p:nvSpPr>
        <p:spPr>
          <a:xfrm flipV="1" rot="10800000">
            <a:off x="1042560" y="5192280"/>
            <a:ext cx="810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аток средств на 01.01.2013 года составил 19610,90 руб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а погашение кредиторской задолженности по приобрете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медицинского  оборудован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п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оступило средст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495 377,10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р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Израсходовано  средств в сумме  3 514 988 р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1187280" y="0"/>
            <a:ext cx="7772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Профилактика внутрибольничных инфек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1143000" y="404640"/>
            <a:ext cx="800100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.Ежемесячное проведение заседаний комиссии по профилактике ВБ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.Ежемесячное проведение мероприятий согласно плана  производственного контрол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.Проверка на стерильность мед инструментария и еревязочного материал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проверено 486 ед инструментар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4.Проверка микробной обсеменённости воздушной среды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98 точек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.Проверка бак тестами  автоклавов и воздушных стерилизато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6.Самоконтроль  за качеством очистки медицинских изделий средством  «Азопирам» (контроль на скрытую кровь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.Фенолфталеиновая проба ( на наличие остаточных количеств моющих средств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8.Контроль за проведением генеральных уборок в режимных кабинетах, контроль за работой бактерицидных лам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9.Экспресс контроль индикаторными полосками за качеством рабочих растворов дезинфицирующих средств (концентрация р-ра по препарату,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143000" y="-291960"/>
            <a:ext cx="77724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</a:rPr>
              <a:t>Обеспечение безопасности и антитеррористической защищенност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214280" y="1071720"/>
            <a:ext cx="77868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042920" y="264600"/>
            <a:ext cx="8101080" cy="66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Ежеквартально проводились инструктажи с мед. персоналом по противодействию терроризму с подписью в журна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1раз в две недели проводились проверки кнопок тревожной сигнализации с записью в журна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Ежеквартально на объектах больницы проводились тренировки по противодействию террориз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Ежемесячно проводились проверки всех  помещений, запасных выходов, подвальных и чердачных помещений с составлением ак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Перезаключен договор с МУП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енное хозяйств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 техническому обслуживанию кнопок тревожной сигнализ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.В течении 2013 года издавались приказы и распоряжения по повышению антитеррористической защищ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В 2013 году закуплено 19 штук носилок; установлено 4 распашные решетки в поликлиник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Оба въезда на территорию поликлиники оборудованы шлагбаум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По периметру поликлиники имеется система видеонаблюд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Заключен договор с ЧОП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кан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 сопровождении наркотических сред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Комната хранения наркотических средств сдается под охрану ОВ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1071720" y="285840"/>
            <a:ext cx="785808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мероприятий на 2014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1000080" y="27360"/>
            <a:ext cx="792972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заключить  договор  с ЧОП на охрану объектов больницы    сторожевой   охраной: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сторожевую будку и шлагбаум  при въезде на территорию больницы для запрета въезда постороннего транспорт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по периметру и внутри объектов больницы камеры видеонаблюде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 установить на объектах больницы автономные источники электропитани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забор по периметру больничного комплексе (терапия, хирургия, инфекция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ровести освещение в вечернее и ночное время по периметру всего комплекс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расширить   подъездные пути к комплексу, и построить площадку для постановки транспорта персонала , больных и инвалид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остроить пандусы для инвалидов при посещении врачей в поликлиник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электронные металлоискатели при входе в поликлинику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установить опечатывающие устройства на кабинеты врачей поликлиник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-продолжить перевод  работы регистратуры  на электронную, для записи к врачам, и замены амбулаторной  карты на электронные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11430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практическая работа ЛП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1000080" y="714240"/>
            <a:ext cx="8001000" cy="71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Один раз в месяц в МУЗ «Высоковская городская больница» проводятся совещания, семинары для медицинского персонала,  затрагивающие все аспекты медицинск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ачи участвуют в работе областных конферен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В 20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году сотрудниками  больницы проводилась санитарно-просветительная работ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почитано лекций -1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55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 проведено бесед 18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- выпущено сан.бюллетеней –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1000080" y="0"/>
            <a:ext cx="8001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ВНЕДРЕНИЕ НОВЫХ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 ЛЕЧЕБНО-ДИАГНОСТИЧЕСКИХ ТЕХНОЛОГИЙ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  в 201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Times New Roman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Рентгенкабин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Освоен  и введён в действие аппарат дентальный визиограф «ФОНО Х70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Освоен и введён в действие флюорограф цифровой малодозный   с возможностью исследования: лёгких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п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стей конечност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воночни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Лаборатор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Освоены методики: ИФА исследовани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определение гормон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 газов кров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электролиты крови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УЗИ кабинет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Освоена методика эхокардиографии сердц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1285920" y="785880"/>
            <a:ext cx="7643880" cy="62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201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году планируется внедрен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в практику нового оборудования на базе нашей больницы для проведен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Допплерографии сосудов  конечносте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олучением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видеогастрофиброскопа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трансдуоденального полипосфинктеротоми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удаление полипов желудочно-кишечного тракта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1285920" y="2243160"/>
            <a:ext cx="76438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1071720" y="0"/>
            <a:ext cx="7929360" cy="69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Мероприятия по улучшению условий и охраны труда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 201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3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П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редварительные и периодические медосмотры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ботников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занятых на работах  с вредными условиями тру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Обеспечение спец одеждой и средствами защиты .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 На работах с вредными условиями труда выдается специализированный продукт диетического (профилактического)питания при вредных условиях труда-  концентрата киселя, заменяющий молоко по личным заявлениям работников и согласия профсоюзной организации..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Назначены ответственные лица за состояние по 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Проводится обучение с вновь поступающими сотрудниками по 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1.Составлена программа занятий по охране труда. Проведены проверки знаний по вопросам охраны труда у работников, работающих на объектах повышенной 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.Проведена аттестация 11 рабочих мест на сумму 27 500 руб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Прошли обучение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о ОТ 3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человек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и 7 - по  «Пожарно-техническому минимуму.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инансирование обучения было из средств бюджета и ОМС на сумму 31600 ру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.Осуществлено дополнительное страхование от несчастных случаев и профессиональных заболеваний медицинских работников профессий группы риска за счет средств бюджета на сумму 14000 рубле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1143000" y="142920"/>
            <a:ext cx="78580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ланы на 2014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Разработка, проверка, пересмотр  инструкций по охране труда по истечении срока действия и  при изменении  условий  тру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Обеспечение  работников  спецодеждой, спецобувью  и другими средствами индивидуальной защиты в соответствии с норма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.На работах с вредными условиями труда  выдавать работникам молоко или другие равноценные продук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.Проводить специальную оценку условий труда с привлечением акредитованной оргаз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Осуществлять дополнительное страхование от несчастных случаев и проф. заболева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Проводитьл обучение по ОТ руководителей, специалистов, всех работников больниц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Провести капитальный ремонт 6 ФАП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0.Ремонт и модернизация пищеблока больниц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1.Проводить предварительные, при поступлении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у, и периодические мед.осмотры работник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1430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КАЗАТЕЛИ  ДЕЯТЕЛЬНОСТИ  ПОЛИКЛИ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344600" y="836640"/>
            <a:ext cx="7799400" cy="67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                                     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Times New Roman"/>
                <a:ea typeface="MS Gothic"/>
              </a:rPr>
              <a:t>2011 г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.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Times New Roman"/>
                <a:ea typeface="MS Gothic"/>
              </a:rPr>
              <a:t>2012г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.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     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imes New Roman"/>
                <a:ea typeface="MS Gothic"/>
              </a:rPr>
              <a:t>2013г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Всего посещений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34 126         140 039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146 0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том числе  ФАПы                   -                        -                12 8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и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з них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: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 сельских                 28 947               32 35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          42 3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профилактических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43 945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42145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43 14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Число посещений на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 жителя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,7                    8,1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7,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Количество вызовов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на дом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6 949                 6 188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5 1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%  активных вызовов                  36,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36,9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%          36,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бслуживание вызовов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узкими специалистами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55                    183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26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.Количество посещений в поликлинику увеличилось  на  6 000 посещений по сравнению с 2012 год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Возросло число обслуживания вызовов узкими специалистами ( на 84  посещений в сравнении с 2012г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332000" y="571680"/>
          <a:ext cx="7572240" cy="4640040"/>
        </p:xfrm>
        <a:graphic>
          <a:graphicData uri="http://schemas.openxmlformats.org/drawingml/2006/table">
            <a:tbl>
              <a:tblPr/>
              <a:tblGrid>
                <a:gridCol w="2693880"/>
                <a:gridCol w="1625760"/>
                <a:gridCol w="1627200"/>
                <a:gridCol w="1625400"/>
              </a:tblGrid>
              <a:tr h="32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апев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рург-травмат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нек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вр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оларинг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у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диат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мат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екцион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ач общей практ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ндокринол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3040" y="-360"/>
            <a:ext cx="777096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ДЕЛЬНЫЙ ВЕС ПОСЕЩЕНИЙ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Rectangle 73"/>
          <p:cNvSpPr/>
          <p:nvPr/>
        </p:nvSpPr>
        <p:spPr>
          <a:xfrm>
            <a:off x="1403280" y="5373720"/>
            <a:ext cx="72723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ьшее количество посещений приходится на терапевтов и педиатров, из узких специалистов – на хирурга-травматоло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С 2013 г в систему ОМС вошла работа ФАП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н на 2013 г. – 12825 посещени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факту – 12878 посещений на ФАПах  (100,4 %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777096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ЗАБОЛЕВАЕМОСТЬ ПО ОСНОВНЫМ НОЗОЛОГИЧЕСКИМ ГРУППАМ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43000" y="1214280"/>
          <a:ext cx="7715160" cy="2862360"/>
        </p:xfrm>
        <a:graphic>
          <a:graphicData uri="http://schemas.openxmlformats.org/drawingml/2006/table">
            <a:tbl>
              <a:tblPr/>
              <a:tblGrid>
                <a:gridCol w="4005360"/>
                <a:gridCol w="1152360"/>
                <a:gridCol w="1366920"/>
                <a:gridCol w="1190520"/>
              </a:tblGrid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г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зарегистрирова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2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2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 1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онко  заболе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серд.сосуд.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8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2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2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бронхо-легочной 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9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87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органов пищева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аб. перифер.нервной систе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трав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5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4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67"/>
          <p:cNvSpPr/>
          <p:nvPr/>
        </p:nvSpPr>
        <p:spPr>
          <a:xfrm>
            <a:off x="1116000" y="4292640"/>
            <a:ext cx="8028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1 месте заболевания  бронхо- лёгочной системы(включая простудные заболевания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2 месте – травм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3 месте – сердечно-сосудистые патолог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мечается тенденция к снижению онкологической заболеваемости (11сл  в 2012г,  13 сл  в 2013г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дечно-сосудистая заболеваемость  по сравнению с 2011г  уменьшилась, но в сравнении с 2012г практически не изменила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ОСНОВНЫЕ ДЕМОГРАФИЧЕСКИЕ ПОКАЗАТЕЛИ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TextBox 7"/>
          <p:cNvSpPr/>
          <p:nvPr/>
        </p:nvSpPr>
        <p:spPr>
          <a:xfrm flipV="1" rot="10800000">
            <a:off x="1571400" y="5130000"/>
            <a:ext cx="73580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2011г и 2012г произошло изменение общей демографической ситуации приписного населения-   рождаемость превышает смертность   (2012г  на 42 чел в 2013г  на 60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Диаграмма 14" descr=""/>
          <p:cNvPicPr/>
          <p:nvPr/>
        </p:nvPicPr>
        <p:blipFill>
          <a:blip r:embed="rId1"/>
          <a:stretch/>
        </p:blipFill>
        <p:spPr>
          <a:xfrm>
            <a:off x="1987560" y="901800"/>
            <a:ext cx="6692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096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НАЛИЗ СМЕРТНОСТИ НА ДОМУ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793880" y="928800"/>
          <a:ext cx="6635880" cy="2895480"/>
        </p:xfrm>
        <a:graphic>
          <a:graphicData uri="http://schemas.openxmlformats.org/drawingml/2006/table">
            <a:tbl>
              <a:tblPr/>
              <a:tblGrid>
                <a:gridCol w="3222720"/>
                <a:gridCol w="1228680"/>
                <a:gridCol w="1092240"/>
                <a:gridCol w="1092240"/>
              </a:tblGrid>
              <a:tr h="47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1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2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кологических заболев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 системы кровообра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8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6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реброваскулярные заболе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 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Box 4"/>
          <p:cNvSpPr/>
          <p:nvPr/>
        </p:nvSpPr>
        <p:spPr>
          <a:xfrm>
            <a:off x="1571760" y="4286160"/>
            <a:ext cx="69292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ая причина смертности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место – заболевания системы кровообращен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место – онкологические заболева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чин смерти от онкологических заболеваний  увеличилась по сравнению с 2011-2012г на  13сл (2012г) и   на14 сл ( 2011г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2520" y="360"/>
            <a:ext cx="333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09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ЛЬГОТНОЕ ЛЕКАРСТВЕННОЕ ОБЕСПЕЧЕНИЕ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1285920" y="549360"/>
            <a:ext cx="78580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Количество федеральных льготников в  2013г -     74 ч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их по селу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16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областных льготников                       - 1 109 че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них пользуются льготным лекарственным обеспечением всего 176ч.                                       из них по селу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  28 ч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Выписано рецептов за 2013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едеральным льготникам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729 рецепт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ластным льготникам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888 рецеп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о «7 нозологиям» состоит на учёте   11 льготников, из них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чел после трансплантации почк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чел с миелолейкозом, множественной миелом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исано рецептов по «7 нозологиям»               - 154 рецепт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Терапевтические заявки на льготные препараты составляются до   10 числа  на месяц вперё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кологом составляется заявка по рекомендации областных специалистов  и утверждались на ЦВК У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ндокринолог отдельно подаёт заявк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новых больных формируется внеплановая заявка.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ргМетод</dc:creator>
  <dc:description/>
  <dc:language>en-US</dc:language>
  <cp:lastModifiedBy>Нина Анатольевна</cp:lastModifiedBy>
  <dcterms:modified xsi:type="dcterms:W3CDTF">2014-02-13T09:25:59Z</dcterms:modified>
  <cp:revision>364</cp:revision>
  <dc:subject/>
  <dc:title>Слайд 1</dc:title>
</cp:coreProperties>
</file>