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1"/>
          <p:cNvSpPr/>
          <p:nvPr/>
        </p:nvSpPr>
        <p:spPr>
          <a:xfrm>
            <a:off x="0" y="0"/>
            <a:ext cx="6858000" cy="967248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72480"/>
              <a:gd name="textAreaBottom" fmla="*/ 9672120 h 9672480"/>
            </a:gdLst>
            <a:ahLst/>
            <a:rect l="textAreaLeft" t="textAreaTop" r="textAreaRight" b="textAreaBottom"/>
            <a:pathLst>
              <a:path w="21600" h="30464">
                <a:moveTo>
                  <a:pt x="5" y="0"/>
                </a:moveTo>
                <a:arcTo wR="5" hR="5" stAng="16200000" swAng="-5400000"/>
                <a:lnTo>
                  <a:pt x="0" y="30459"/>
                </a:lnTo>
                <a:arcTo wR="5" hR="5" stAng="10800000" swAng="-5400000"/>
                <a:lnTo>
                  <a:pt x="21595" y="304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0" y="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0" y="918684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4"/>
          </p:nvPr>
        </p:nvSpPr>
        <p:spPr>
          <a:xfrm>
            <a:off x="3884760" y="918648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8C3A3-1F59-49E0-B078-D13492DDB5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869CD-A8BC-46C7-89B7-1B19D53E5B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FB1422-3D15-4F32-B332-D661B4E5B49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56CC2-B21C-4FB8-B317-820A9CF72D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A2F73-DCDE-4143-8276-26856E1368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ивть сравнительную картину о работе по годам за предыдущ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7736C-4E0F-4D07-A41A-C52902180E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умерших (чел)Летальность ( %)2010г491,12011г470,42012г360,8Структура летальных и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) 17чел -  47,2 % заболевания сердечно-сосудистой систе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 чел – 19,4 % раковые заболевания различной этиолог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 чел -  16,6 % заболевания желудочно-кишечного тра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 чел – 13,9 % ВИЧ инфицированные 3-4 стадии с сопутствующей патолог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 чел –   2,8 % ожоговые раны после перенесённого ОНМ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)  По возрастному состав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 30 лет        – 1 чел =  2,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 50 лет        – 6 чел = 16,7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 60 лет        - 3 чел =  8,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 70 лет         –10чел = 27,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выше 70 лет - 16 чел =44,4%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A33C8-08FF-4BAA-A04B-520F994121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6B7FE-F4CE-410B-B0E4-27C8BFCF27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6FDF0B-C599-466A-8BA9-5C57A25A42B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88989-79F2-48B3-8262-E081CF8EA4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6530AA-3624-4DF7-9016-2C20EB56381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EA021-886E-4961-81E2-F72BF1B0E2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ECC71-4519-43AB-9FC2-5097FF0076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E61FEE-5A7C-4286-A7A5-7645097CF42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5B424-0DD8-4091-A3C4-0BA34F9557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376DED-7270-4E5C-B5C1-114150FE686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A5AB0-C9F8-4559-88B6-FD673BA00C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D9CEE-CA0C-4A12-9AB7-CB62E62DD9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DE1A4-58B9-4D52-8719-D0E4C75D70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F48AC-B89D-4486-9925-92E0DDF7B0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44AA09-0EA9-4CCB-B456-B8E6BB369E3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24F52-5E57-4761-A18B-9322B160A0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41615E-978C-42AD-A6D2-07361F9A49E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DFFD1-C350-4AEB-969A-89BD145288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490EF2-FE60-4B17-99BD-DE242CC3563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F17BB-CD3D-452A-A7BB-88E1135608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2BA313-94E4-4454-9C6E-4288FDC7DD3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F6D86-BC6D-4AD9-8AED-D6212DCB4D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327E24-64D9-411B-A13D-3732C2303D2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5DFDA-4031-4DCF-9E5A-8377E5EC4F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0BE251-81A3-4BC3-9196-AD1790E061A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49A62-C0F3-4BBB-9011-89CFEBE8FF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B4C0C-1936-4068-BE1B-A26FF9F862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A04B0A-6C3A-4B2A-B83F-A8762D7FA42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BCDF0-49EF-4431-83D4-B2F74025BD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40E77E-82F5-4C84-A4B7-008819116DD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5796E-95FE-42B3-9AB7-C3F3528316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C98ABE-DC16-41A8-BC60-C7948E554DF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60BCD-617C-4F6E-8DDB-3BE2E1A115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7165FB-5954-435B-B8AC-D68F50D35E2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931F4-365F-42F8-B89A-8294E126ED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68D612-6573-4882-B149-BFD3A3511A0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ьшее количество посещений приходится на терапевтов и педиатров, из узких специалистов – на хирурга-травматоло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3BF49-2C1F-44E1-82CE-5FCDAA63A6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9A35F-AB2D-4EA4-8520-AEB79D2329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94018-F170-436E-851B-A333094CA3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D6E44-9801-4F5D-BF5D-7E9987DDE5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D97EA-B5F8-4F3A-ADE6-EDC63ABB37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E4A7-23E7-4236-BD73-F87D383EF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09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709880"/>
            <a:ext cx="77709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FB58-509F-4340-A585-DF93D95F5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196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DDE7-D0C8-400B-A8FF-C3D8967BA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7640" y="194616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4920" y="194616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70988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7640" y="470988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4920" y="470988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497B-4AEF-47EC-B871-99F2991EC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BC9C-EA74-46A2-9EBE-D4D57E3B5D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D0311-3F80-451B-AD85-E0D6D7F18E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3111-E890-4386-9DFC-B12C2CC13A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BCD3A-E0CC-4CE4-9A7B-A468487721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FA6C2-F54E-4CE5-B5E2-3B5CA776C4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1430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0241-C0FA-45B8-BBEE-15E56FA247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7000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AABA5-6807-46D3-8323-D4CE0198B1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01E3-BD4F-4B60-8E0E-AB8ABF79F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5196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E1E6-5C9A-48D3-8AE2-C644D0AC46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70000" y="4709880"/>
            <a:ext cx="77709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0744-6769-4FAC-B91B-0AF127734C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09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170000" y="4709880"/>
            <a:ext cx="77709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7302-0068-4291-A391-404A0EAEC7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7000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15196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3E789-1A78-416D-8187-B815D419A7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797640" y="194616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424920" y="194616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170000" y="470988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797640" y="470988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424920" y="470988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AF52-3AFD-4C04-A1D8-1B7BBB5BA4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C33E-6F92-4B5E-93F4-2FBB1CACC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2BA5-46FC-4963-A6CA-30CF39841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60FD-E895-46A1-8CD2-9F0E7648A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09D5-2719-410A-87E9-CACC70B9C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AC8E-0794-4623-A69F-90DBA098E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196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E714-B633-4100-99C7-A6806F93E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709880"/>
            <a:ext cx="77709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D4D8-A2CE-4CA9-BDEC-EA704D6C0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1084320" cy="6853320"/>
            <a:chOff x="0" y="0"/>
            <a:chExt cx="1084320" cy="685332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084320" cy="685332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75960" y="161640"/>
              <a:ext cx="150480" cy="6549840"/>
              <a:chOff x="75960" y="161640"/>
              <a:chExt cx="150480" cy="6549840"/>
            </a:xfrm>
          </p:grpSpPr>
          <p:sp>
            <p:nvSpPr>
              <p:cNvPr id="3" name="Rectangle 4"/>
              <p:cNvSpPr/>
              <p:nvPr/>
            </p:nvSpPr>
            <p:spPr>
              <a:xfrm>
                <a:off x="75960" y="175320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5"/>
              <p:cNvSpPr/>
              <p:nvPr/>
            </p:nvSpPr>
            <p:spPr>
              <a:xfrm>
                <a:off x="75960" y="19828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6"/>
              <p:cNvSpPr/>
              <p:nvPr/>
            </p:nvSpPr>
            <p:spPr>
              <a:xfrm>
                <a:off x="75960" y="22100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75960" y="24400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8"/>
              <p:cNvSpPr/>
              <p:nvPr/>
            </p:nvSpPr>
            <p:spPr>
              <a:xfrm>
                <a:off x="75960" y="2670120"/>
                <a:ext cx="150480" cy="1501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9"/>
              <p:cNvSpPr/>
              <p:nvPr/>
            </p:nvSpPr>
            <p:spPr>
              <a:xfrm>
                <a:off x="75960" y="28969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0"/>
              <p:cNvSpPr/>
              <p:nvPr/>
            </p:nvSpPr>
            <p:spPr>
              <a:xfrm>
                <a:off x="75960" y="312732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1"/>
              <p:cNvSpPr/>
              <p:nvPr/>
            </p:nvSpPr>
            <p:spPr>
              <a:xfrm>
                <a:off x="75960" y="335592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2"/>
              <p:cNvSpPr/>
              <p:nvPr/>
            </p:nvSpPr>
            <p:spPr>
              <a:xfrm>
                <a:off x="75960" y="35841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3"/>
              <p:cNvSpPr/>
              <p:nvPr/>
            </p:nvSpPr>
            <p:spPr>
              <a:xfrm>
                <a:off x="75960" y="381276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4"/>
              <p:cNvSpPr/>
              <p:nvPr/>
            </p:nvSpPr>
            <p:spPr>
              <a:xfrm>
                <a:off x="75960" y="404280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5"/>
              <p:cNvSpPr/>
              <p:nvPr/>
            </p:nvSpPr>
            <p:spPr>
              <a:xfrm>
                <a:off x="75960" y="42710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6"/>
              <p:cNvSpPr/>
              <p:nvPr/>
            </p:nvSpPr>
            <p:spPr>
              <a:xfrm>
                <a:off x="75960" y="449964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7"/>
              <p:cNvSpPr/>
              <p:nvPr/>
            </p:nvSpPr>
            <p:spPr>
              <a:xfrm>
                <a:off x="75960" y="47282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8"/>
              <p:cNvSpPr/>
              <p:nvPr/>
            </p:nvSpPr>
            <p:spPr>
              <a:xfrm>
                <a:off x="75960" y="495684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9"/>
              <p:cNvSpPr/>
              <p:nvPr/>
            </p:nvSpPr>
            <p:spPr>
              <a:xfrm>
                <a:off x="75960" y="5186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0"/>
              <p:cNvSpPr/>
              <p:nvPr/>
            </p:nvSpPr>
            <p:spPr>
              <a:xfrm>
                <a:off x="75960" y="541368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1"/>
              <p:cNvSpPr/>
              <p:nvPr/>
            </p:nvSpPr>
            <p:spPr>
              <a:xfrm>
                <a:off x="75960" y="564372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2"/>
              <p:cNvSpPr/>
              <p:nvPr/>
            </p:nvSpPr>
            <p:spPr>
              <a:xfrm>
                <a:off x="75960" y="58741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3"/>
              <p:cNvSpPr/>
              <p:nvPr/>
            </p:nvSpPr>
            <p:spPr>
              <a:xfrm>
                <a:off x="75960" y="61005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4"/>
              <p:cNvSpPr/>
              <p:nvPr/>
            </p:nvSpPr>
            <p:spPr>
              <a:xfrm>
                <a:off x="75960" y="63309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5"/>
              <p:cNvSpPr/>
              <p:nvPr/>
            </p:nvSpPr>
            <p:spPr>
              <a:xfrm>
                <a:off x="75960" y="65577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6"/>
              <p:cNvSpPr/>
              <p:nvPr/>
            </p:nvSpPr>
            <p:spPr>
              <a:xfrm>
                <a:off x="75960" y="1616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7"/>
              <p:cNvSpPr/>
              <p:nvPr/>
            </p:nvSpPr>
            <p:spPr>
              <a:xfrm>
                <a:off x="75960" y="3898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8"/>
              <p:cNvSpPr/>
              <p:nvPr/>
            </p:nvSpPr>
            <p:spPr>
              <a:xfrm>
                <a:off x="75960" y="61992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9"/>
              <p:cNvSpPr/>
              <p:nvPr/>
            </p:nvSpPr>
            <p:spPr>
              <a:xfrm>
                <a:off x="75960" y="848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0"/>
              <p:cNvSpPr/>
              <p:nvPr/>
            </p:nvSpPr>
            <p:spPr>
              <a:xfrm>
                <a:off x="75960" y="107676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1"/>
              <p:cNvSpPr/>
              <p:nvPr/>
            </p:nvSpPr>
            <p:spPr>
              <a:xfrm>
                <a:off x="75960" y="13053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2"/>
              <p:cNvSpPr/>
              <p:nvPr/>
            </p:nvSpPr>
            <p:spPr>
              <a:xfrm>
                <a:off x="75960" y="153576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Text Box 34"/>
          <p:cNvSpPr/>
          <p:nvPr/>
        </p:nvSpPr>
        <p:spPr>
          <a:xfrm>
            <a:off x="1143000" y="624852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Text Box 35"/>
          <p:cNvSpPr/>
          <p:nvPr/>
        </p:nvSpPr>
        <p:spPr>
          <a:xfrm>
            <a:off x="3581280" y="624852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ldNum" idx="1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C0A1F2-44FA-49CC-9596-CC971BD098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"/>
          <p:cNvGrpSpPr/>
          <p:nvPr/>
        </p:nvGrpSpPr>
        <p:grpSpPr>
          <a:xfrm>
            <a:off x="0" y="0"/>
            <a:ext cx="1084320" cy="6853320"/>
            <a:chOff x="0" y="0"/>
            <a:chExt cx="1084320" cy="6853320"/>
          </a:xfrm>
        </p:grpSpPr>
        <p:sp>
          <p:nvSpPr>
            <p:cNvPr id="74" name="Rectangle 2"/>
            <p:cNvSpPr/>
            <p:nvPr/>
          </p:nvSpPr>
          <p:spPr>
            <a:xfrm>
              <a:off x="0" y="0"/>
              <a:ext cx="1084320" cy="685332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3"/>
            <p:cNvGrpSpPr/>
            <p:nvPr/>
          </p:nvGrpSpPr>
          <p:grpSpPr>
            <a:xfrm>
              <a:off x="75960" y="161640"/>
              <a:ext cx="150480" cy="6549840"/>
              <a:chOff x="75960" y="161640"/>
              <a:chExt cx="150480" cy="6549840"/>
            </a:xfrm>
          </p:grpSpPr>
          <p:sp>
            <p:nvSpPr>
              <p:cNvPr id="76" name="Rectangle 4"/>
              <p:cNvSpPr/>
              <p:nvPr/>
            </p:nvSpPr>
            <p:spPr>
              <a:xfrm>
                <a:off x="75960" y="175320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5"/>
              <p:cNvSpPr/>
              <p:nvPr/>
            </p:nvSpPr>
            <p:spPr>
              <a:xfrm>
                <a:off x="75960" y="19828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6"/>
              <p:cNvSpPr/>
              <p:nvPr/>
            </p:nvSpPr>
            <p:spPr>
              <a:xfrm>
                <a:off x="75960" y="22100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7"/>
              <p:cNvSpPr/>
              <p:nvPr/>
            </p:nvSpPr>
            <p:spPr>
              <a:xfrm>
                <a:off x="75960" y="24400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8"/>
              <p:cNvSpPr/>
              <p:nvPr/>
            </p:nvSpPr>
            <p:spPr>
              <a:xfrm>
                <a:off x="75960" y="2670120"/>
                <a:ext cx="150480" cy="1501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9"/>
              <p:cNvSpPr/>
              <p:nvPr/>
            </p:nvSpPr>
            <p:spPr>
              <a:xfrm>
                <a:off x="75960" y="28969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0"/>
              <p:cNvSpPr/>
              <p:nvPr/>
            </p:nvSpPr>
            <p:spPr>
              <a:xfrm>
                <a:off x="75960" y="312732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1"/>
              <p:cNvSpPr/>
              <p:nvPr/>
            </p:nvSpPr>
            <p:spPr>
              <a:xfrm>
                <a:off x="75960" y="335592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2"/>
              <p:cNvSpPr/>
              <p:nvPr/>
            </p:nvSpPr>
            <p:spPr>
              <a:xfrm>
                <a:off x="75960" y="35841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3"/>
              <p:cNvSpPr/>
              <p:nvPr/>
            </p:nvSpPr>
            <p:spPr>
              <a:xfrm>
                <a:off x="75960" y="381276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4"/>
              <p:cNvSpPr/>
              <p:nvPr/>
            </p:nvSpPr>
            <p:spPr>
              <a:xfrm>
                <a:off x="75960" y="404280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5"/>
              <p:cNvSpPr/>
              <p:nvPr/>
            </p:nvSpPr>
            <p:spPr>
              <a:xfrm>
                <a:off x="75960" y="42710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6"/>
              <p:cNvSpPr/>
              <p:nvPr/>
            </p:nvSpPr>
            <p:spPr>
              <a:xfrm>
                <a:off x="75960" y="449964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7"/>
              <p:cNvSpPr/>
              <p:nvPr/>
            </p:nvSpPr>
            <p:spPr>
              <a:xfrm>
                <a:off x="75960" y="47282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8"/>
              <p:cNvSpPr/>
              <p:nvPr/>
            </p:nvSpPr>
            <p:spPr>
              <a:xfrm>
                <a:off x="75960" y="495684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19"/>
              <p:cNvSpPr/>
              <p:nvPr/>
            </p:nvSpPr>
            <p:spPr>
              <a:xfrm>
                <a:off x="75960" y="5186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0"/>
              <p:cNvSpPr/>
              <p:nvPr/>
            </p:nvSpPr>
            <p:spPr>
              <a:xfrm>
                <a:off x="75960" y="541368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1"/>
              <p:cNvSpPr/>
              <p:nvPr/>
            </p:nvSpPr>
            <p:spPr>
              <a:xfrm>
                <a:off x="75960" y="564372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2"/>
              <p:cNvSpPr/>
              <p:nvPr/>
            </p:nvSpPr>
            <p:spPr>
              <a:xfrm>
                <a:off x="75960" y="58741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3"/>
              <p:cNvSpPr/>
              <p:nvPr/>
            </p:nvSpPr>
            <p:spPr>
              <a:xfrm>
                <a:off x="75960" y="61005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4"/>
              <p:cNvSpPr/>
              <p:nvPr/>
            </p:nvSpPr>
            <p:spPr>
              <a:xfrm>
                <a:off x="75960" y="63309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5"/>
              <p:cNvSpPr/>
              <p:nvPr/>
            </p:nvSpPr>
            <p:spPr>
              <a:xfrm>
                <a:off x="75960" y="65577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6"/>
              <p:cNvSpPr/>
              <p:nvPr/>
            </p:nvSpPr>
            <p:spPr>
              <a:xfrm>
                <a:off x="75960" y="1616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7"/>
              <p:cNvSpPr/>
              <p:nvPr/>
            </p:nvSpPr>
            <p:spPr>
              <a:xfrm>
                <a:off x="75960" y="3898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8"/>
              <p:cNvSpPr/>
              <p:nvPr/>
            </p:nvSpPr>
            <p:spPr>
              <a:xfrm>
                <a:off x="75960" y="61992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29"/>
              <p:cNvSpPr/>
              <p:nvPr/>
            </p:nvSpPr>
            <p:spPr>
              <a:xfrm>
                <a:off x="75960" y="848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0"/>
              <p:cNvSpPr/>
              <p:nvPr/>
            </p:nvSpPr>
            <p:spPr>
              <a:xfrm>
                <a:off x="75960" y="107676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1"/>
              <p:cNvSpPr/>
              <p:nvPr/>
            </p:nvSpPr>
            <p:spPr>
              <a:xfrm>
                <a:off x="75960" y="13053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2"/>
              <p:cNvSpPr/>
              <p:nvPr/>
            </p:nvSpPr>
            <p:spPr>
              <a:xfrm>
                <a:off x="75960" y="153576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Group 33"/>
          <p:cNvGrpSpPr/>
          <p:nvPr/>
        </p:nvGrpSpPr>
        <p:grpSpPr>
          <a:xfrm>
            <a:off x="0" y="0"/>
            <a:ext cx="1084320" cy="6853320"/>
            <a:chOff x="0" y="0"/>
            <a:chExt cx="1084320" cy="6853320"/>
          </a:xfrm>
        </p:grpSpPr>
        <p:sp>
          <p:nvSpPr>
            <p:cNvPr id="106" name="Rectangle 34"/>
            <p:cNvSpPr/>
            <p:nvPr/>
          </p:nvSpPr>
          <p:spPr>
            <a:xfrm>
              <a:off x="0" y="0"/>
              <a:ext cx="1084320" cy="685332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Group 35"/>
            <p:cNvGrpSpPr/>
            <p:nvPr/>
          </p:nvGrpSpPr>
          <p:grpSpPr>
            <a:xfrm>
              <a:off x="75960" y="163080"/>
              <a:ext cx="150480" cy="6546600"/>
              <a:chOff x="75960" y="163080"/>
              <a:chExt cx="150480" cy="6546600"/>
            </a:xfrm>
          </p:grpSpPr>
          <p:sp>
            <p:nvSpPr>
              <p:cNvPr id="108" name="Rectangle 36"/>
              <p:cNvSpPr/>
              <p:nvPr/>
            </p:nvSpPr>
            <p:spPr>
              <a:xfrm>
                <a:off x="75960" y="17528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37"/>
              <p:cNvSpPr/>
              <p:nvPr/>
            </p:nvSpPr>
            <p:spPr>
              <a:xfrm>
                <a:off x="75960" y="198288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38"/>
              <p:cNvSpPr/>
              <p:nvPr/>
            </p:nvSpPr>
            <p:spPr>
              <a:xfrm>
                <a:off x="75960" y="22100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39"/>
              <p:cNvSpPr/>
              <p:nvPr/>
            </p:nvSpPr>
            <p:spPr>
              <a:xfrm>
                <a:off x="75960" y="24397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40"/>
              <p:cNvSpPr/>
              <p:nvPr/>
            </p:nvSpPr>
            <p:spPr>
              <a:xfrm>
                <a:off x="75960" y="2670120"/>
                <a:ext cx="150480" cy="1501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41"/>
              <p:cNvSpPr/>
              <p:nvPr/>
            </p:nvSpPr>
            <p:spPr>
              <a:xfrm>
                <a:off x="75960" y="289692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42"/>
              <p:cNvSpPr/>
              <p:nvPr/>
            </p:nvSpPr>
            <p:spPr>
              <a:xfrm>
                <a:off x="75960" y="31269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43"/>
              <p:cNvSpPr/>
              <p:nvPr/>
            </p:nvSpPr>
            <p:spPr>
              <a:xfrm>
                <a:off x="75960" y="3357000"/>
                <a:ext cx="150480" cy="1486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44"/>
              <p:cNvSpPr/>
              <p:nvPr/>
            </p:nvSpPr>
            <p:spPr>
              <a:xfrm>
                <a:off x="75960" y="35841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45"/>
              <p:cNvSpPr/>
              <p:nvPr/>
            </p:nvSpPr>
            <p:spPr>
              <a:xfrm>
                <a:off x="75960" y="38138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46"/>
              <p:cNvSpPr/>
              <p:nvPr/>
            </p:nvSpPr>
            <p:spPr>
              <a:xfrm>
                <a:off x="75960" y="4043880"/>
                <a:ext cx="1504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47"/>
              <p:cNvSpPr/>
              <p:nvPr/>
            </p:nvSpPr>
            <p:spPr>
              <a:xfrm>
                <a:off x="75960" y="426960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48"/>
              <p:cNvSpPr/>
              <p:nvPr/>
            </p:nvSpPr>
            <p:spPr>
              <a:xfrm>
                <a:off x="75960" y="449964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49"/>
              <p:cNvSpPr/>
              <p:nvPr/>
            </p:nvSpPr>
            <p:spPr>
              <a:xfrm>
                <a:off x="75960" y="47264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50"/>
              <p:cNvSpPr/>
              <p:nvPr/>
            </p:nvSpPr>
            <p:spPr>
              <a:xfrm>
                <a:off x="75960" y="495648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51"/>
              <p:cNvSpPr/>
              <p:nvPr/>
            </p:nvSpPr>
            <p:spPr>
              <a:xfrm>
                <a:off x="75960" y="5186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52"/>
              <p:cNvSpPr/>
              <p:nvPr/>
            </p:nvSpPr>
            <p:spPr>
              <a:xfrm>
                <a:off x="75960" y="54133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53"/>
              <p:cNvSpPr/>
              <p:nvPr/>
            </p:nvSpPr>
            <p:spPr>
              <a:xfrm>
                <a:off x="75960" y="56433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54"/>
              <p:cNvSpPr/>
              <p:nvPr/>
            </p:nvSpPr>
            <p:spPr>
              <a:xfrm>
                <a:off x="75960" y="587376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55"/>
              <p:cNvSpPr/>
              <p:nvPr/>
            </p:nvSpPr>
            <p:spPr>
              <a:xfrm>
                <a:off x="75960" y="610020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56"/>
              <p:cNvSpPr/>
              <p:nvPr/>
            </p:nvSpPr>
            <p:spPr>
              <a:xfrm>
                <a:off x="75960" y="633060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57"/>
              <p:cNvSpPr/>
              <p:nvPr/>
            </p:nvSpPr>
            <p:spPr>
              <a:xfrm>
                <a:off x="75960" y="655920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58"/>
              <p:cNvSpPr/>
              <p:nvPr/>
            </p:nvSpPr>
            <p:spPr>
              <a:xfrm>
                <a:off x="75960" y="163080"/>
                <a:ext cx="1504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59"/>
              <p:cNvSpPr/>
              <p:nvPr/>
            </p:nvSpPr>
            <p:spPr>
              <a:xfrm>
                <a:off x="75960" y="3898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60"/>
              <p:cNvSpPr/>
              <p:nvPr/>
            </p:nvSpPr>
            <p:spPr>
              <a:xfrm>
                <a:off x="75960" y="61992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61"/>
              <p:cNvSpPr/>
              <p:nvPr/>
            </p:nvSpPr>
            <p:spPr>
              <a:xfrm>
                <a:off x="75960" y="848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62"/>
              <p:cNvSpPr/>
              <p:nvPr/>
            </p:nvSpPr>
            <p:spPr>
              <a:xfrm>
                <a:off x="75960" y="10753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63"/>
              <p:cNvSpPr/>
              <p:nvPr/>
            </p:nvSpPr>
            <p:spPr>
              <a:xfrm>
                <a:off x="75960" y="13053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Rectangle 64"/>
              <p:cNvSpPr/>
              <p:nvPr/>
            </p:nvSpPr>
            <p:spPr>
              <a:xfrm>
                <a:off x="75960" y="153576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7"/>
          <p:cNvSpPr/>
          <p:nvPr/>
        </p:nvSpPr>
        <p:spPr>
          <a:xfrm>
            <a:off x="1143000" y="624852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68"/>
          <p:cNvSpPr/>
          <p:nvPr/>
        </p:nvSpPr>
        <p:spPr>
          <a:xfrm>
            <a:off x="3581280" y="624852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CBCA6A-7205-4B75-985D-8300407ADB7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838080" y="304920"/>
            <a:ext cx="807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ПОЯСНИТЕЛЬНАЯ ЗАПИСКА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ГОДОВОМУ ОТЧЕТУ ЗА </a:t>
            </a:r>
            <a:r>
              <a:rPr b="1" lang="en-GB" sz="2800" spc="-1" strike="noStrike">
                <a:solidFill>
                  <a:srgbClr val="ffff00"/>
                </a:solidFill>
                <a:latin typeface="Arial Black"/>
              </a:rPr>
              <a:t>201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3</a:t>
            </a: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 ГОД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МУЗ </a:t>
            </a:r>
            <a:r>
              <a:rPr b="1" lang="en-GB" sz="3200" spc="-1" strike="noStrike">
                <a:solidFill>
                  <a:srgbClr val="ffff00"/>
                </a:solidFill>
                <a:latin typeface="Arial Black"/>
              </a:rPr>
              <a:t>«высоковская городская </a:t>
            </a: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БОЛЬНИЦА»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 И ПЛАН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Ы</a:t>
            </a: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 РАБОТ 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НА </a:t>
            </a:r>
            <a:r>
              <a:rPr b="1" lang="en-GB" sz="2800" spc="-1" strike="noStrike">
                <a:solidFill>
                  <a:srgbClr val="ffff00"/>
                </a:solidFill>
                <a:latin typeface="Arial Black"/>
              </a:rPr>
              <a:t>201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4</a:t>
            </a: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 ГОД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828800" y="4572000"/>
            <a:ext cx="6934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Главный врач МУЗ «Высоковска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городская больниц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Моисеев Андрей Николаеви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ЫЯВЛЕНИЕ ОНКОЛОГИЧЕСКИХ БОЛЬНЫХ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TextBox 2"/>
          <p:cNvSpPr/>
          <p:nvPr/>
        </p:nvSpPr>
        <p:spPr>
          <a:xfrm>
            <a:off x="1285920" y="928800"/>
            <a:ext cx="78580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2013г взято на «Д» учёт  49 чел. , из 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4 ч  онкопатология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II-IY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   (48,9%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5 ч  онкопатология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-II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   (51,1%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его на диспансерном учёте 232 челове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них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7 чел  онкопатология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II-IY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 –   28,9%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65 чел  онкопатология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-II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т    - 71,1%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нято с «Д» учета 21 чел в связи со смертью   (12,9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о стадиям  запущенност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Диаграмма 4" descr=""/>
          <p:cNvPicPr/>
          <p:nvPr/>
        </p:nvPicPr>
        <p:blipFill>
          <a:blip r:embed="rId1"/>
          <a:stretch/>
        </p:blipFill>
        <p:spPr>
          <a:xfrm>
            <a:off x="1494000" y="4286160"/>
            <a:ext cx="707040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0960" cy="714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ЕРВИЧНЫЙ ВЫХОД НА ИНВАЛИДНОСТЬ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зрослые:</a:t>
            </a:r>
            <a:br>
              <a:rPr sz="24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сего вышло  на инвалидность 54 чел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 из них:                             трудоспособного возраста  25 чел.</a:t>
            </a: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аспределение по группам инвалидност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1 гр. 4 чел  (трудоспособ. возраста 0 чел)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2 гр. 19 чел (трудоспособ. возраста 9 чел)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3 гр. 31 чел. (трудоспособ.возрата 16 чел).</a:t>
            </a: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о профиля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 терапия        – 7 чел ( трудоспособ возраста 5 чел)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неврология – 11 чел (трудоспос возраста 8 чел)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хирургия     – 14 чел (трудоспособ возраста 8 чел)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онкология   – 20 чел ( трудоспособ озраста 4 чел)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офтальмология – 2 чел  ( трудоспос возраста 0 чел)</a:t>
            </a:r>
            <a:br>
              <a:rPr sz="20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Дети </a:t>
            </a:r>
            <a:br>
              <a:rPr sz="24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ыявленол впервые инвалидов среди детей в 2013г – 8 человек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096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ДЕТСКАЯ ИНВАЛИДНОСТЬ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116000" y="819360"/>
            <a:ext cx="8028000" cy="55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ети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–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инвалид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го:        55 ч. из них:                                                                                                                                город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2 ч                                                                                                                                                   село    - 13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явлено  впервые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8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нозология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нервной системы  -   18 ч,              из них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пилепсии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1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ДЦП          -  16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ообразования                                             -   1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иатрические болезни                              -   16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эндокринной системы                      -   2 ч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глаз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2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уха                                                      -   3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органов дыхания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1 ч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костно- мышечной системы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1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почек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1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ожденные аномалии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9,  из них  сердца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3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17228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ДИСПАНСЕРИЗАЦИЯ НАСЕЛЕНИЯ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714240"/>
            <a:ext cx="77724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о диспансеризаци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определенных групп взрослого населения –по плану на 2013 год - 3 375 чел.,                                                                            осмотрено -2972 чел. (88,1 %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о профилактическом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медосмотру взрослого населения – по плану на 2013 год  -  2 554 чел.,                                                                              осмотрено – 994 чел. (39 %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 2014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оду планируется продолжение диспансеризации определенных групп взрослого населения в количестве примерно     30 % от общего числа взрослого приписного насел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обходимо: расширять группу по прохождению диспансеризации с целью более  раннего выявления заболеваний  и выявления на ранней стадии онкопатолог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роведение диспансеризации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бывающих в стационарах учреждениях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детей-сирот и детей, находящихся в трудной жизненной ситуации»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его подлежало осмотру    54 чел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мотрено 54 чел = 10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иодический осмотр детей: план 2021 ч , выполнено 870 ч =43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096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ФОСМОТРЫ    ДЕТЕЙ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70000" y="549360"/>
            <a:ext cx="777096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го осмотрено при профилактических осмотрах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ей и подростков   -  1754 ч  = 101,8% (план – 1723ч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явлено патологий: - с нарушением слуха     -  1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 нарушение зрения   -  29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 дефектами речи     –   39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 нарушением осанки–  14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о сколиозом             –  10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дети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еред поступление в детское дошкольное учреждение –  7 ч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за год до поступление в школу                                         –  28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еред поступление в школу                                               -  11 ч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в конце 1 года обучения                                                       -  5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ри переходе к предметному  обучению                         –  26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в возрасте 15 лет                                                                  - 12 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еред окончанием школы                                                    -  4  ч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являемость заболеваний на проф осмотрах составила – 5,3 %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 дети с выявленной патологией, взяты на  «Д»  уч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АБОТА КРУГЛОСУТОЧНОГО СТАЦИОНАРА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за 2013г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43000" y="1000080"/>
          <a:ext cx="7715160" cy="3032280"/>
        </p:xfrm>
        <a:graphic>
          <a:graphicData uri="http://schemas.openxmlformats.org/drawingml/2006/table">
            <a:tbl>
              <a:tblPr/>
              <a:tblGrid>
                <a:gridCol w="1714680"/>
                <a:gridCol w="1211040"/>
                <a:gridCol w="957240"/>
                <a:gridCol w="959040"/>
                <a:gridCol w="957240"/>
                <a:gridCol w="766800"/>
                <a:gridCol w="114912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и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егодовых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кое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ение пл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выполнения пл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нятость кой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рот кой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яя длительность леч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ап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 3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рург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3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инеколог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ек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3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 1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Rectangle 67"/>
          <p:cNvSpPr/>
          <p:nvPr/>
        </p:nvSpPr>
        <p:spPr>
          <a:xfrm flipV="1" rot="10800000">
            <a:off x="1071360" y="3944520"/>
            <a:ext cx="807228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Плановые задания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 хирургии и инфекционному отделениям перевыполнены (105%-102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Гинекологические  койки круглосуточные работали только 7 месяцев до 01.08.2013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апевтические койки сработали на 97% в результате путаницы с объёмами, выставленными ТФОМС, из которых следовало, что в отделении 10 коек дневных и 50 коек круглосуточных, приходилось выполнять данные объёмы в 1 квартале, во 2 квартале  пересмотрели наши объёмы и выставили цифры на весь 2014год как  на 55 круглосуточных коек и 5 коек дневного пребывания, в результате и произошёл перекос в выполнении плановых объёмов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5716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довыполнение  объёмов по круглосуточному стационару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571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ревыполнение по дневному стационару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09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АБОТА ДНЕВНОГО СТАЦИОНАРА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за 2012г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14280" y="787320"/>
          <a:ext cx="7500960" cy="3506760"/>
        </p:xfrm>
        <a:graphic>
          <a:graphicData uri="http://schemas.openxmlformats.org/drawingml/2006/table">
            <a:tbl>
              <a:tblPr/>
              <a:tblGrid>
                <a:gridCol w="1785960"/>
                <a:gridCol w="1071720"/>
                <a:gridCol w="857160"/>
                <a:gridCol w="1071720"/>
                <a:gridCol w="857160"/>
                <a:gridCol w="1000080"/>
                <a:gridCol w="857160"/>
              </a:tblGrid>
              <a:tr h="112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и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среднегодовых ко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ение пла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выполнения пла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нятость кой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рот кой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яя длит леч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ап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6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рург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6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инеколог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ек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4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3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,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63"/>
          <p:cNvSpPr/>
          <p:nvPr/>
        </p:nvSpPr>
        <p:spPr>
          <a:xfrm>
            <a:off x="1258920" y="4572000"/>
            <a:ext cx="763416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лановые задан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хирургического и терапевтического отделений выполнены свыше 10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инекология дневной при стационаре – план на 9 месяцев, а работала дневная койка при стационаре работала всего 8 месяцев, поэтому и выполнение плана ниже 10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орот койки высокий выше 20 во всех дневных отделения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ТАЦИОНАР ДНЕВНОГО ПРЕБЫВАНИЯ ПРИ ЖЕНСКОЙ КОНСУЛЬТАЦИИ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142640" y="857160"/>
            <a:ext cx="8001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невной стационар при поликлинике работал 4 месяца в 2013г с 01.08.2013г по 31.12.2013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71760" y="1643040"/>
          <a:ext cx="6095880" cy="39434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ко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к\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93 к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е плана к\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55 к\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выполнение плана к\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койки в год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пролеченных б-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 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длит ле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7 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рот кой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таль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468720" y="0"/>
            <a:ext cx="10363320" cy="40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ЛЕТАЛЬНОСТЬ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908000" y="1413000"/>
          <a:ext cx="5521680" cy="1449360"/>
        </p:xfrm>
        <a:graphic>
          <a:graphicData uri="http://schemas.openxmlformats.org/drawingml/2006/table">
            <a:tbl>
              <a:tblPr/>
              <a:tblGrid>
                <a:gridCol w="1157400"/>
                <a:gridCol w="2644920"/>
                <a:gridCol w="1719360"/>
              </a:tblGrid>
              <a:tr h="50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оличество умерши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(человек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Лета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011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7ч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,4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012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6 ч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,8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013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3 ч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,8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Box 9"/>
          <p:cNvSpPr/>
          <p:nvPr/>
        </p:nvSpPr>
        <p:spPr>
          <a:xfrm>
            <a:off x="1285920" y="3357720"/>
            <a:ext cx="764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Box 10"/>
          <p:cNvSpPr/>
          <p:nvPr/>
        </p:nvSpPr>
        <p:spPr>
          <a:xfrm>
            <a:off x="1438200" y="3510000"/>
            <a:ext cx="764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1143000" y="2924280"/>
            <a:ext cx="8001000" cy="59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оличество умерши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терапевтическом отд   практических на тех же цифрах ( 5ч-2011г,            7 ч -  2012г,  7 ч - 2013г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хирургическом отд практически на одних и тех же цифрах в течении 3-х лет, ( 20ч – 2011г, 23ч – 2012г, 22 ч – 2013г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инфекционном отделении наметилась тенденция к уменьшению количества умерших (7 ч  -  2011г,  6 ч -  2012г,  4 ч – 2013г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гинекологическом отделении 0 умерши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целом по больнице количество умерших  по сравнению с 2011г значительно  уменьшилась ( на 14 ч ) и по сравнению с 2012г немного уменьшилась (3 ч)    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оличество вскрыти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инфекционном отд на одних и тех же цифр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илось в хирургическом отделении (3ч-2011г, 5ч- 2012г, 8ч – 2013г), и в целом по больнице  (8ч-2011г, 8ч. – 2012г , 11ч -2013г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 flipV="1" rot="8522400">
            <a:off x="1042200" y="4305600"/>
            <a:ext cx="81010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116000" y="404640"/>
            <a:ext cx="78487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етальные исходы наблюдались только в круглосуточном стационар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гинекологической койке круглосуточного стационара летальных исходов не был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096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ТРУКТУРА ЛЕТАЛЬНОСТИ ПО СТАЦИОНАРУ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70000" y="714240"/>
            <a:ext cx="7770960" cy="65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сего умерло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3 ч -0,8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1.Произведено вскрытий 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11 ч =33,3%,       22 ч=  66,7% не вскры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2.Расхождения диагноз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:         1ч =   3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3.Работоспособного возрас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: 11 ч =  33,3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4.Возрастной соста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    до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л =0,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30л до 40л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ч =3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40л до 50 л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2 ч =6,1%,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50 л  до 6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  - 8 ч =24,2%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60  л до 70 л 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ч =6,1%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70 л  до 80 л 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6 ч =48,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ыше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       -  4 ч   = 12,1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о нозологи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1 ч =  3%  - ВИЧ -3-4 ст  +цирроз печен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 ч =  9%  - хронический гепатит, хр алкоголизм,                12 ч = 36,3% –сосудистые заболевания нижних конечносте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0 ч = 30,3% - онкология различной этиологи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 ч = 12,1% - сердечно-сосудистая патология  (ИБС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ч =  6%     - ХОБЛ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 ч =   3%    - сосудистое заболевания головного мозг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171440" y="0"/>
            <a:ext cx="7467840" cy="70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АМБУЛАТОРНО – ПОЛИКЛИНИЧЕСК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АЯ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 СЛУЖБ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Times New Roman"/>
              </a:rPr>
              <a:t>ПОЛИКЛИНИКА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на 500 посещений в смен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7 терапевтических участков (6 городских,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 сельский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6 ФАПов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узкие специалисты (хирург, невролог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кул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ист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оториноларинголог, стоматолог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инфекционист, кардиолог, онколог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детская консультаци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женская консультация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 участка ОВП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тационар на дому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5  коек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(в две смены)  - терапевтических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невной стационар  ОВП  в 2 смены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 01.08.14г  открыто 10 коек дневного пребывания  при поликлинике  гинекологического профиля.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096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РАБОТ НА 2014 г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70000" y="499680"/>
            <a:ext cx="7974000" cy="67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.а)План амбулаторно-поликлинической помощи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ещений –154 286 посещений и  стационары на дому –  7 000 п/д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зменить план по дневному стационару при поликлинике, так как  присланный план рассчитан на 40 кое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)Планы по стационару:  круглосуточный стационар – 41 350 к\д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зменить план работ по дневному стационару  при стационаре, так как по терапии  план рассчитан план на 15 коек дневного пребы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.Продолжить совершенствовать принципы взаимодействия поликлиники с подразделением скорой медицинской помощи и со стационарными отделен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.Продолжить работу по оказанию медицинской помощи сельскому населению (выездные бригады), включая проведение диспансеризации и медицинские осмот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.Продолжить держать среднюю занятость койки стационара  не менее 330 – 340 дней в год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5.Внедрить в практику новое оборудование,  с целью улучшения качества оказания медицинской помощи населению и уменьшения количества штрафных санкций вневедомственной экспертиз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6.Продолжить внедрение схем лечения  оказания медицинской помощ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1430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ЗАИМОДЕЙСТВИЕ МЕЖДУ ПОДРАЗДЕЛЕНИЯМИ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684360" y="981000"/>
            <a:ext cx="8459640" cy="559764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Стационар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Поликлиника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Круглосуточный                  Дневной стационар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Дневной стационар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при стационар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при поликлинике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Стационар на д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УЗИ кабинет                  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Параклиника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Кабинет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ндоскопи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Лаборатория        Физиотерапия         Рентгенкабинет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ункциональна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агности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9" name="AutoShape 3"/>
          <p:cNvCxnSpPr/>
          <p:nvPr/>
        </p:nvCxnSpPr>
        <p:spPr>
          <a:xfrm>
            <a:off x="4071600" y="1285920"/>
            <a:ext cx="18579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0" name="AutoShape 4"/>
          <p:cNvCxnSpPr/>
          <p:nvPr/>
        </p:nvCxnSpPr>
        <p:spPr>
          <a:xfrm flipH="1">
            <a:off x="1285200" y="1428840"/>
            <a:ext cx="572040" cy="286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AutoShape 5"/>
          <p:cNvCxnSpPr/>
          <p:nvPr/>
        </p:nvCxnSpPr>
        <p:spPr>
          <a:xfrm>
            <a:off x="2642760" y="1428840"/>
            <a:ext cx="857880" cy="429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AutoShape 6"/>
          <p:cNvCxnSpPr/>
          <p:nvPr/>
        </p:nvCxnSpPr>
        <p:spPr>
          <a:xfrm>
            <a:off x="7524360" y="1268280"/>
            <a:ext cx="429480" cy="1789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AutoShape 7"/>
          <p:cNvCxnSpPr/>
          <p:nvPr/>
        </p:nvCxnSpPr>
        <p:spPr>
          <a:xfrm flipH="1">
            <a:off x="1762920" y="4941720"/>
            <a:ext cx="2521800" cy="929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4" name="AutoShape 8"/>
          <p:cNvCxnSpPr/>
          <p:nvPr/>
        </p:nvCxnSpPr>
        <p:spPr>
          <a:xfrm flipH="1">
            <a:off x="3634920" y="5013360"/>
            <a:ext cx="1224720" cy="930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5" name="AutoShape 9"/>
          <p:cNvCxnSpPr/>
          <p:nvPr/>
        </p:nvCxnSpPr>
        <p:spPr>
          <a:xfrm>
            <a:off x="5148000" y="5084640"/>
            <a:ext cx="641880" cy="859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6" name="AutoShape 10"/>
          <p:cNvCxnSpPr/>
          <p:nvPr/>
        </p:nvCxnSpPr>
        <p:spPr>
          <a:xfrm>
            <a:off x="5796000" y="5013000"/>
            <a:ext cx="1596240" cy="872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7" name="AutoShape 11"/>
          <p:cNvCxnSpPr/>
          <p:nvPr/>
        </p:nvCxnSpPr>
        <p:spPr>
          <a:xfrm>
            <a:off x="4932000" y="2421000"/>
            <a:ext cx="1080" cy="2304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8" name="AutoShape 12"/>
          <p:cNvCxnSpPr/>
          <p:nvPr/>
        </p:nvCxnSpPr>
        <p:spPr>
          <a:xfrm flipH="1">
            <a:off x="3203280" y="4868640"/>
            <a:ext cx="1152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AutoShape 13"/>
          <p:cNvCxnSpPr/>
          <p:nvPr/>
        </p:nvCxnSpPr>
        <p:spPr>
          <a:xfrm>
            <a:off x="6156360" y="4868640"/>
            <a:ext cx="720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0" name="AutoShape 14"/>
          <p:cNvCxnSpPr/>
          <p:nvPr/>
        </p:nvCxnSpPr>
        <p:spPr>
          <a:xfrm>
            <a:off x="2340000" y="1413000"/>
            <a:ext cx="2520000" cy="3240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1" name="AutoShape 15"/>
          <p:cNvCxnSpPr/>
          <p:nvPr/>
        </p:nvCxnSpPr>
        <p:spPr>
          <a:xfrm flipV="1">
            <a:off x="5076720" y="1483560"/>
            <a:ext cx="2160000" cy="322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Прямая со стрелкой 24"/>
          <p:cNvCxnSpPr/>
          <p:nvPr/>
        </p:nvCxnSpPr>
        <p:spPr>
          <a:xfrm>
            <a:off x="7667640" y="1341360"/>
            <a:ext cx="505440" cy="432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3" name="Прямая со стрелкой 31"/>
          <p:cNvCxnSpPr/>
          <p:nvPr/>
        </p:nvCxnSpPr>
        <p:spPr>
          <a:xfrm flipV="1">
            <a:off x="6372360" y="1340640"/>
            <a:ext cx="50400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4" name="Прямая со стрелкой 34"/>
          <p:cNvCxnSpPr/>
          <p:nvPr/>
        </p:nvCxnSpPr>
        <p:spPr>
          <a:xfrm flipH="1">
            <a:off x="6011640" y="1628280"/>
            <a:ext cx="505440" cy="28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5" name="Прямая со стрелкой 36"/>
          <p:cNvCxnSpPr/>
          <p:nvPr/>
        </p:nvCxnSpPr>
        <p:spPr>
          <a:xfrm>
            <a:off x="2987280" y="1341360"/>
            <a:ext cx="3745800" cy="504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09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НАЛИЗ ФИНАНСОВО –ЭКОНОМИЧЕСКОЙ ДЕЯТЕЛЬНОСТИ 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170000" y="396720"/>
          <a:ext cx="7770960" cy="6432840"/>
        </p:xfrm>
        <a:graphic>
          <a:graphicData uri="http://schemas.openxmlformats.org/drawingml/2006/table">
            <a:tbl>
              <a:tblPr/>
              <a:tblGrid>
                <a:gridCol w="3402000"/>
                <a:gridCol w="1944720"/>
                <a:gridCol w="2424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а ОМ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 субъекта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статок на 01.01.2013г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5 551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09 56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оступил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 317 091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56 4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Израсходован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сего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 495 61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340 192 руб. Из н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работная плата с начислениями на оплату тру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 183 973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6 096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каменты и расходный матери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860 956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 000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т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35 179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 000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ягкий инвента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8 982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уги связ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1 524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ые услу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83 495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 726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уги по содержанию  имущ-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20 872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 376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услу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637 973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 522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стоимости основных сред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3 017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59 398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орская задолж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биторская задолж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658 292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735 808 руб.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30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9 999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64388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ДОГОВОРА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5920" y="764640"/>
            <a:ext cx="7655040" cy="64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2013г заключено 434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договора на сумму        44 964,7 тыс руб сроком до 31.12.2013г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дукты питания                                                 5 270,5 тыс.руб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медикаменты и расходные материалы               11 088,5 тыс руб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оммунальные услуги                                           5 279,7 тыс руб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услуги связи                                                             474,5 тыс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прочие услуги (лабораторные исследования)    7 463,4 тыс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ГСМ                                                                         1 087,3 тыс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хозяйственный инвентарь                                    4 613,5 тыс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капитальный ремонт пищеблока                          2 834,4 тыс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на приобретение основных средств                     2 491,3 тыс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на содержание имущества                                     4 361,6 тыс руб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1371600" y="0"/>
            <a:ext cx="7772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АБОТА С КАДР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1257480" y="620640"/>
            <a:ext cx="7572240" cy="60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 начало года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штатных единиц было 350,5 с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Изменения в штатном расписа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. С 01.12.2013г  8 ставок в связи с передачей медицинского персонала образовательных учрежде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. На конец года 358,5 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комплектованность штатов составляет 70%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эффициент совместительства:     врачи – 1,39,   медсестры – 1 28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Прямоугольник 4"/>
          <p:cNvSpPr/>
          <p:nvPr/>
        </p:nvSpPr>
        <p:spPr>
          <a:xfrm flipV="1">
            <a:off x="1428840" y="3745800"/>
            <a:ext cx="7358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1285920" y="3571920"/>
            <a:ext cx="7357680" cy="857160"/>
            <a:chOff x="1285920" y="3571920"/>
            <a:chExt cx="7357680" cy="857160"/>
          </a:xfrm>
        </p:grpSpPr>
        <p:sp>
          <p:nvSpPr>
            <p:cNvPr id="264" name="Rectangle 4"/>
            <p:cNvSpPr/>
            <p:nvPr/>
          </p:nvSpPr>
          <p:spPr>
            <a:xfrm>
              <a:off x="1285920" y="3571920"/>
              <a:ext cx="1471320" cy="4698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Физические  лиц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Rectangle 5"/>
            <p:cNvSpPr/>
            <p:nvPr/>
          </p:nvSpPr>
          <p:spPr>
            <a:xfrm>
              <a:off x="2757240" y="3571920"/>
              <a:ext cx="1471320" cy="4698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меют категори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4228560" y="3571920"/>
              <a:ext cx="1470960" cy="4698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Высшая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7"/>
            <p:cNvSpPr/>
            <p:nvPr/>
          </p:nvSpPr>
          <p:spPr>
            <a:xfrm>
              <a:off x="5699520" y="3571920"/>
              <a:ext cx="1471320" cy="4698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Первая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>
              <a:off x="7170840" y="3571920"/>
              <a:ext cx="1471320" cy="4698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Вторая категория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Rectangle 9"/>
            <p:cNvSpPr/>
            <p:nvPr/>
          </p:nvSpPr>
          <p:spPr>
            <a:xfrm>
              <a:off x="1285920" y="4041720"/>
              <a:ext cx="1471320" cy="38592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2757240" y="4041720"/>
              <a:ext cx="1471320" cy="38592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15ч-41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11"/>
            <p:cNvSpPr/>
            <p:nvPr/>
          </p:nvSpPr>
          <p:spPr>
            <a:xfrm>
              <a:off x="4228560" y="4041720"/>
              <a:ext cx="1470960" cy="38592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5ч-13,5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5699520" y="4041720"/>
              <a:ext cx="1471320" cy="38592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10ч -27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Rectangle 13"/>
            <p:cNvSpPr/>
            <p:nvPr/>
          </p:nvSpPr>
          <p:spPr>
            <a:xfrm>
              <a:off x="7170840" y="4041720"/>
              <a:ext cx="1471320" cy="38592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14"/>
            <p:cNvSpPr/>
            <p:nvPr/>
          </p:nvSpPr>
          <p:spPr>
            <a:xfrm>
              <a:off x="2757240" y="3571920"/>
              <a:ext cx="1440" cy="85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Line 15"/>
            <p:cNvSpPr/>
            <p:nvPr/>
          </p:nvSpPr>
          <p:spPr>
            <a:xfrm>
              <a:off x="4228560" y="3571920"/>
              <a:ext cx="1440" cy="85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16"/>
            <p:cNvSpPr/>
            <p:nvPr/>
          </p:nvSpPr>
          <p:spPr>
            <a:xfrm>
              <a:off x="5699520" y="3571920"/>
              <a:ext cx="1800" cy="85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Line 17"/>
            <p:cNvSpPr/>
            <p:nvPr/>
          </p:nvSpPr>
          <p:spPr>
            <a:xfrm>
              <a:off x="7170840" y="3571920"/>
              <a:ext cx="1440" cy="85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Line 18"/>
            <p:cNvSpPr/>
            <p:nvPr/>
          </p:nvSpPr>
          <p:spPr>
            <a:xfrm>
              <a:off x="1285920" y="4041720"/>
              <a:ext cx="7356240" cy="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19"/>
            <p:cNvSpPr/>
            <p:nvPr/>
          </p:nvSpPr>
          <p:spPr>
            <a:xfrm>
              <a:off x="1285920" y="3571920"/>
              <a:ext cx="1800" cy="85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20"/>
            <p:cNvSpPr/>
            <p:nvPr/>
          </p:nvSpPr>
          <p:spPr>
            <a:xfrm>
              <a:off x="8642160" y="3571920"/>
              <a:ext cx="1440" cy="85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Line 21"/>
            <p:cNvSpPr/>
            <p:nvPr/>
          </p:nvSpPr>
          <p:spPr>
            <a:xfrm>
              <a:off x="1285920" y="3571920"/>
              <a:ext cx="7356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22"/>
            <p:cNvSpPr/>
            <p:nvPr/>
          </p:nvSpPr>
          <p:spPr>
            <a:xfrm>
              <a:off x="1285920" y="4428000"/>
              <a:ext cx="7356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3"/>
          <p:cNvGrpSpPr/>
          <p:nvPr/>
        </p:nvGrpSpPr>
        <p:grpSpPr>
          <a:xfrm>
            <a:off x="1290600" y="3571920"/>
            <a:ext cx="7567200" cy="1010880"/>
            <a:chOff x="1290600" y="3571920"/>
            <a:chExt cx="7567200" cy="1010880"/>
          </a:xfrm>
        </p:grpSpPr>
        <p:sp>
          <p:nvSpPr>
            <p:cNvPr id="284" name="Rectangle 4"/>
            <p:cNvSpPr/>
            <p:nvPr/>
          </p:nvSpPr>
          <p:spPr>
            <a:xfrm>
              <a:off x="1290600" y="3571920"/>
              <a:ext cx="1513080" cy="55404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Физические  лиц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>
              <a:off x="2803680" y="3571920"/>
              <a:ext cx="1513080" cy="55404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меют категори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Rectangle 6"/>
            <p:cNvSpPr/>
            <p:nvPr/>
          </p:nvSpPr>
          <p:spPr>
            <a:xfrm>
              <a:off x="4317120" y="3571920"/>
              <a:ext cx="1512720" cy="55404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Высшая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5829840" y="3571920"/>
              <a:ext cx="1513080" cy="55404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Первая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7343280" y="3571920"/>
              <a:ext cx="1513080" cy="55404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Вторая категория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Rectangle 9"/>
            <p:cNvSpPr/>
            <p:nvPr/>
          </p:nvSpPr>
          <p:spPr>
            <a:xfrm>
              <a:off x="1290600" y="4125960"/>
              <a:ext cx="1513080" cy="4554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5ч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Rectangle 10"/>
            <p:cNvSpPr/>
            <p:nvPr/>
          </p:nvSpPr>
          <p:spPr>
            <a:xfrm>
              <a:off x="2803680" y="4125960"/>
              <a:ext cx="1513080" cy="4554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9 ч-25,7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4317120" y="4125960"/>
              <a:ext cx="1512720" cy="4554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4ч-44,4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Rectangle 12"/>
            <p:cNvSpPr/>
            <p:nvPr/>
          </p:nvSpPr>
          <p:spPr>
            <a:xfrm>
              <a:off x="5829840" y="4125960"/>
              <a:ext cx="1513080" cy="4554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5ч -55,6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Rectangle 13"/>
            <p:cNvSpPr/>
            <p:nvPr/>
          </p:nvSpPr>
          <p:spPr>
            <a:xfrm>
              <a:off x="7343280" y="4125960"/>
              <a:ext cx="1513080" cy="4554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2803680" y="3571920"/>
              <a:ext cx="1440" cy="10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4317120" y="3571920"/>
              <a:ext cx="1440" cy="10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16"/>
            <p:cNvSpPr/>
            <p:nvPr/>
          </p:nvSpPr>
          <p:spPr>
            <a:xfrm>
              <a:off x="5829840" y="3571920"/>
              <a:ext cx="1800" cy="10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>
              <a:off x="7343280" y="3571920"/>
              <a:ext cx="1440" cy="10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18"/>
            <p:cNvSpPr/>
            <p:nvPr/>
          </p:nvSpPr>
          <p:spPr>
            <a:xfrm>
              <a:off x="1290600" y="4125960"/>
              <a:ext cx="7565760" cy="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20"/>
            <p:cNvSpPr/>
            <p:nvPr/>
          </p:nvSpPr>
          <p:spPr>
            <a:xfrm>
              <a:off x="8856360" y="3571920"/>
              <a:ext cx="1440" cy="10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Line 21"/>
            <p:cNvSpPr/>
            <p:nvPr/>
          </p:nvSpPr>
          <p:spPr>
            <a:xfrm>
              <a:off x="1290600" y="3571920"/>
              <a:ext cx="7565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Line 22"/>
            <p:cNvSpPr/>
            <p:nvPr/>
          </p:nvSpPr>
          <p:spPr>
            <a:xfrm>
              <a:off x="1290600" y="4581720"/>
              <a:ext cx="7565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Group 3"/>
          <p:cNvGrpSpPr/>
          <p:nvPr/>
        </p:nvGrpSpPr>
        <p:grpSpPr>
          <a:xfrm>
            <a:off x="1214640" y="5572080"/>
            <a:ext cx="7724520" cy="928800"/>
            <a:chOff x="1214640" y="5572080"/>
            <a:chExt cx="7724520" cy="928800"/>
          </a:xfrm>
        </p:grpSpPr>
        <p:sp>
          <p:nvSpPr>
            <p:cNvPr id="303" name="Rectangle 4"/>
            <p:cNvSpPr/>
            <p:nvPr/>
          </p:nvSpPr>
          <p:spPr>
            <a:xfrm flipV="1" rot="10800000">
              <a:off x="7282440" y="5572080"/>
              <a:ext cx="1516320" cy="5097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торая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Rectangle 5"/>
            <p:cNvSpPr/>
            <p:nvPr/>
          </p:nvSpPr>
          <p:spPr>
            <a:xfrm flipV="1" rot="10800000">
              <a:off x="5765760" y="5572080"/>
              <a:ext cx="1516320" cy="5097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ервая 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 flipV="1" rot="10800000">
              <a:off x="4249440" y="5572080"/>
              <a:ext cx="1515960" cy="5097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Высшая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7"/>
            <p:cNvSpPr/>
            <p:nvPr/>
          </p:nvSpPr>
          <p:spPr>
            <a:xfrm flipV="1" rot="10800000">
              <a:off x="2733120" y="5572080"/>
              <a:ext cx="1516320" cy="5097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меют категорию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 flipV="1" rot="10800000">
              <a:off x="1214640" y="5572080"/>
              <a:ext cx="1516320" cy="5097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изические лиц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 flipV="1" rot="10800000">
              <a:off x="7282440" y="6020280"/>
              <a:ext cx="1516320" cy="3603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2ч-3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 flipV="1" rot="10800000">
              <a:off x="5765400" y="6005520"/>
              <a:ext cx="1593000" cy="37548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12ч-17,9%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Rectangle 11"/>
            <p:cNvSpPr/>
            <p:nvPr/>
          </p:nvSpPr>
          <p:spPr>
            <a:xfrm flipV="1" rot="10800000">
              <a:off x="4249440" y="5999760"/>
              <a:ext cx="1515960" cy="38124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53ч-79,1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12"/>
            <p:cNvSpPr/>
            <p:nvPr/>
          </p:nvSpPr>
          <p:spPr>
            <a:xfrm flipV="1" rot="10800000">
              <a:off x="2715480" y="6020280"/>
              <a:ext cx="1587240" cy="3603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67ч-75,2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3"/>
            <p:cNvSpPr/>
            <p:nvPr/>
          </p:nvSpPr>
          <p:spPr>
            <a:xfrm flipV="1" rot="10800000">
              <a:off x="1216440" y="6005520"/>
              <a:ext cx="1516320" cy="37548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90ч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 flipH="1">
              <a:off x="7280640" y="5572080"/>
              <a:ext cx="1440" cy="9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 flipH="1">
              <a:off x="5763960" y="5572080"/>
              <a:ext cx="1440" cy="9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 flipH="1">
              <a:off x="4247640" y="5572080"/>
              <a:ext cx="1800" cy="9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 flipH="1">
              <a:off x="2731320" y="5572080"/>
              <a:ext cx="1440" cy="9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Line 19"/>
            <p:cNvSpPr/>
            <p:nvPr/>
          </p:nvSpPr>
          <p:spPr>
            <a:xfrm flipH="1">
              <a:off x="8796960" y="5572080"/>
              <a:ext cx="1800" cy="9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Line 20"/>
            <p:cNvSpPr/>
            <p:nvPr/>
          </p:nvSpPr>
          <p:spPr>
            <a:xfrm flipH="1">
              <a:off x="1214640" y="5572080"/>
              <a:ext cx="1440" cy="9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 flipH="1">
              <a:off x="1216440" y="5572080"/>
              <a:ext cx="7582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Line 22"/>
            <p:cNvSpPr/>
            <p:nvPr/>
          </p:nvSpPr>
          <p:spPr>
            <a:xfrm flipH="1">
              <a:off x="1357200" y="6439680"/>
              <a:ext cx="75819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1143000" y="0"/>
            <a:ext cx="77724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БЕСПЕЧЕННОСТЬ КАДР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Диаграмма 9" descr=""/>
          <p:cNvPicPr/>
          <p:nvPr/>
        </p:nvPicPr>
        <p:blipFill>
          <a:blip r:embed="rId1"/>
          <a:stretch/>
        </p:blipFill>
        <p:spPr>
          <a:xfrm>
            <a:off x="1255680" y="901800"/>
            <a:ext cx="7570800" cy="5340240"/>
          </a:xfrm>
          <a:prstGeom prst="rect">
            <a:avLst/>
          </a:prstGeom>
          <a:ln w="0">
            <a:noFill/>
          </a:ln>
        </p:spPr>
      </p:pic>
      <p:pic>
        <p:nvPicPr>
          <p:cNvPr id="323" name="Диаграмма 4" descr=""/>
          <p:cNvPicPr/>
          <p:nvPr/>
        </p:nvPicPr>
        <p:blipFill>
          <a:blip r:embed="rId2"/>
          <a:stretch/>
        </p:blipFill>
        <p:spPr>
          <a:xfrm>
            <a:off x="1255680" y="1189080"/>
            <a:ext cx="7894800" cy="5052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1"/>
          <p:cNvSpPr/>
          <p:nvPr/>
        </p:nvSpPr>
        <p:spPr>
          <a:xfrm>
            <a:off x="1285920" y="214200"/>
            <a:ext cx="75722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КОМПЛЕКТОВАННОСТЬ</a:t>
            </a:r>
            <a:br>
              <a:rPr sz="2400"/>
            </a:b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 МЕДИЦИНСКИМИ КАДРАМИ  (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Диаграмма 3" descr=""/>
          <p:cNvPicPr/>
          <p:nvPr/>
        </p:nvPicPr>
        <p:blipFill>
          <a:blip r:embed="rId1"/>
          <a:stretch/>
        </p:blipFill>
        <p:spPr>
          <a:xfrm>
            <a:off x="1133640" y="1279440"/>
            <a:ext cx="7802280" cy="5297400"/>
          </a:xfrm>
          <a:prstGeom prst="rect">
            <a:avLst/>
          </a:prstGeom>
          <a:ln w="0">
            <a:noFill/>
          </a:ln>
        </p:spPr>
      </p:pic>
      <p:pic>
        <p:nvPicPr>
          <p:cNvPr id="326" name="Диаграмма 4" descr=""/>
          <p:cNvPicPr/>
          <p:nvPr/>
        </p:nvPicPr>
        <p:blipFill>
          <a:blip r:embed="rId2"/>
          <a:stretch/>
        </p:blipFill>
        <p:spPr>
          <a:xfrm>
            <a:off x="1322280" y="974880"/>
            <a:ext cx="765036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"/>
          <p:cNvSpPr/>
          <p:nvPr/>
        </p:nvSpPr>
        <p:spPr>
          <a:xfrm>
            <a:off x="1143000" y="0"/>
            <a:ext cx="8001000" cy="73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УЧЁБА и ВАКАНС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2013г  прошли курсы повышения квалификации и получили сертификат специалист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рачи           – 4 ч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сестры – 17 че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твердили квалификационную категорию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рачи          – 4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сестры – 16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чёбы повышения квалификации на 2014г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рачи           -  8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сёстры – 14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Вакантные должности специалистов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ст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рача-рентгенолог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 ст.  врача  - анестезиолога - реаниматолог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  ст. врача-терапевта поликлиники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ст.  терапевта стационар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ст.  врача педиатра для работы в детсадах и школах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ст.  врача УЗИ кабинет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  ст. фельдшера для работы на ФАПах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ст.  медсестры анестезистки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3"/>
          <p:cNvSpPr/>
          <p:nvPr/>
        </p:nvSpPr>
        <p:spPr>
          <a:xfrm>
            <a:off x="1332000" y="260280"/>
            <a:ext cx="750096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ОЩРЕНИЯ ПЕРСОНАЛА ЗА 2013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Выплаты стимулирующего характера основываются на критериях оценки деятельности, степени участия в лечебном процессе, объёме и качестве проводимых мероприятий составили 6 359,5 тыс.руб.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.Членам профсоюза выплачиваю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премии к юбилейным датам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 выходе работников на пенсию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атериальная помощь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 увольнении пенсионер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похорон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 ходатайству зав отделениями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го в 2013г израсходовано 205 000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1143000" y="27612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М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АТЕРИАЛЬНО-ТЕХНИЧЕСКАЯ БА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1000080" y="928800"/>
            <a:ext cx="8001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Фондооснащенность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– отношение балансовой стоимости активной части основных средств к площади учреждения на которой осуществляется профилактическая, лечебно-диагностическая и реабилитационная деятельность учрежд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05 792 759 руб. / 7296,3 кв.м = 114 499,5 руб. на ед.мощност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2012г — 15 092 руб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Фондовооруженность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определяется отношением балансовой стоимости активной части основных средств к среднегодовой (штатной), численности враче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05 792 759руб. / 35 чел. = 3 022 650 руб.на ед.мощ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2012г – 2 775 984 руб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1143000" y="0"/>
            <a:ext cx="7858080" cy="69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ТРУКТУРА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ТАЦИОНАР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Всего - 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0 коек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 начало 201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г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: 160 ко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круглосуточный стационар  - 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0 ко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дневной стационар при стационаре  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ко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 01.08.2014г сокращено 20 коек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ирургического отделени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гинекологического профи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 конец 201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г.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: 140 ко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круглосуточный стационар - 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5 коек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дневной стационар при стационаре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5 коек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i="1" lang="en-GB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делени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Хирургическое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4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0 коек из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них: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35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круглосуточных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5 дневных кое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20 коек гинекологического  профил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сокращены с 01.08.20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Терапевтическое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– 60 коек, из них :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0 коек неврологических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50  круглосуточных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0 дневных кое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Инфекционное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– 40 коек, их них: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35 круглосуточных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5 дневных коек.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1143000" y="27612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Потребность в медицинском оборудовании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1071720" y="928800"/>
            <a:ext cx="792936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В 201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г.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было получено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единиц медицинского оборудования на сумму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931 606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руб.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а средства по родовым сертификатам получено 7 единиц  на сумму 202 950  руб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2013г списано основных средств по причине негодности на сумму 2 636 542 руб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В 201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году планируется заключение контрактов на поставку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единиц медицинского оборудования на сумму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7 2 837 600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руб.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1143000" y="14292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Национальный проект Здоровь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1000080" y="785880"/>
            <a:ext cx="800100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.  Дополнительная диспансеризация работающих гражд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мотрено 2 972 чел.,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оступило средств  – 6 092,6 тыс.р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2. Дополнительная диспансеризация пребывающих в стационарных  учреждениях детей сирот и детей находящихся в трудной жизненной ситуации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мотрено 54 чел, п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оступило средств -185,5 тыс.руб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3. Финансовое обеспечение расходов на оплату услуг по мед.помощи, оказанной женщинам в период беременности, родов и послеродовой период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дано 198 сер. п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оступило средств из ФСС —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94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тыс.руб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се поступившие средства  израсходованы на оплату труда  сотрудников,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медикаменты, услуги сторонних организаций,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риобретение оборудов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грамма Модернизация здравоохранения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Прямоугольник 3"/>
          <p:cNvSpPr/>
          <p:nvPr/>
        </p:nvSpPr>
        <p:spPr>
          <a:xfrm flipV="1" rot="10800000">
            <a:off x="1042560" y="5192280"/>
            <a:ext cx="8101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Остаток средств на 01.01.2013 года составил 19610,90 руб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а погашение кредиторской задолженности по приобретен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медицинского  оборудован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 п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оступило средств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495 377,10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р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Израсходовано  средств в сумме  3 514 988 р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1187280" y="0"/>
            <a:ext cx="7772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Профилактика внутрибольничных инфекц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1143000" y="404640"/>
            <a:ext cx="800100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.Ежемесячное проведение заседаний комиссии по профилактике ВБ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2.Ежемесячное проведение мероприятий согласно плана  производственного контрол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3.Проверка на стерильность мед инструментария и еревязочного материал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проверено 486 ед инструментария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4.Проверка микробной обсеменённости воздушной среды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98 точек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5.Проверка бак тестами  автоклавов и воздушных стерилизатор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6.Самоконтроль  за качеством очистки медицинских изделий средством  «Азопирам» (контроль на скрытую кровь)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7.Фенолфталеиновая проба ( на наличие остаточных количеств моющих средств)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8.Контроль за проведением генеральных уборок в режимных кабинетах, контроль за работой бактерицидных лам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9.Экспресс контроль индикаторными полосками за качеством рабочих растворов дезинфицирующих средств (концентрация р-ра по препарату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1143000" y="-291960"/>
            <a:ext cx="77724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Обеспечение безопасности и антитеррористической защищенност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214280" y="1071720"/>
            <a:ext cx="77868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042920" y="264600"/>
            <a:ext cx="8101080" cy="66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Ежеквартально проводились инструктажи с мед. персоналом по противодействию терроризму с подписью в журна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1раз в две недели проводились проверки кнопок тревожной сигнализации с записью в журна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Ежеквартально на объектах больницы проводились тренировки по противодействию терроризм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Ежемесячно проводились проверки всех  помещений, запасных выходов, подвальных и чердачных помещений с составлением ак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Перезаключен договор с МУП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енное хозяйство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 техническому обслуживанию кнопок тревожной сигнализ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.В течении 2013 года издавались приказы и распоряжения по повышению антитеррористической защищ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В 2013 году закуплено 19 штук носилок; установлено 4 распашные решетки в поликлиник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Оба въезда на территорию поликлиники оборудованы шлагбаум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По периметру поликлиники имеется система видеонаблюд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Заключен договор с ЧОП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кан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 сопровождении наркотических сред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Комната хранения наркотических средств сдается под охрану О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1071720" y="285840"/>
            <a:ext cx="785808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лан мероприятий на 2014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"/>
          <p:cNvSpPr/>
          <p:nvPr/>
        </p:nvSpPr>
        <p:spPr>
          <a:xfrm>
            <a:off x="1000080" y="27360"/>
            <a:ext cx="792972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заключить  договор  с ЧОП на охрану объектов больницы    сторожевой   охраной: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становить сторожевую будку и шлагбаум  при въезде на территорию больницы для запрета въезда постороннего транспорт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становить по периметру и внутри объектов больницы камеры видеонаблюдени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 установить на объектах больницы автономные источники электропитани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становить забор по периметру больничного комплексе (терапия, хирургия, инфекция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провести освещение в вечернее и ночное время по периметру всего комплекс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расширить   подъездные пути к комплексу, и построить площадку для постановки транспорта персонала , больных и инвалид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построить пандусы для инвалидов при посещении врачей в поликлиник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становить электронные металлоискатели при входе в поликлиник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становить опечатывающие устройства на кабинеты врачей поликлиник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продолжить перевод  работы регистратуры  на электронную, для записи к врачам, и замены амбулаторной  карты на электронные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1143000" y="142920"/>
            <a:ext cx="777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практическая работа ЛП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1000080" y="714240"/>
            <a:ext cx="8001000" cy="71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Один раз в месяц в МУЗ «Высоковская городская больница» проводятся совещания, семинары для медицинского персонала,  затрагивающие все аспекты медицинской деятель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рачи участвуют в работе областных конференц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В 20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году сотрудниками  больницы проводилась санитарно-просветительная работ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почитано лекций -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5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 проведено бесед 18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 выпущено сан.бюллетеней –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1000080" y="0"/>
            <a:ext cx="8001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Times New Roman"/>
              </a:rPr>
              <a:t>ВНЕДРЕНИЕ НОВЫХ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 ЛЕЧЕБНО-ДИАГНОСТИЧЕСКИХ ТЕХНОЛОГИЙ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Times New Roman"/>
              </a:rPr>
              <a:t>  в 201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3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Times New Roman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ентгенкабин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Освоен  и введён в действие аппарат дентальный визиограф «ФОНО Х70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Освоен и введён в действие флюорограф цифровой малодозный   с возможностью исследования: лёгких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реп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стей конечносте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воночн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Лаборатори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Освоены методики: ИФА исследовани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определение гормонов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газов кров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электролиты крови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ЗИ кабинет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Освоена методика эхокардиографии сердц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1285920" y="785880"/>
            <a:ext cx="7643880" cy="62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201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году планируется внедрени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в практику нового оборудования на базе нашей больницы для проведени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Допплерографии сосудов  конечносте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получением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видеогастрофиброскоп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трансдуоденального полипосфинктеротоми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удаление полипов желудочно-кишечного тракт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1285920" y="2243160"/>
            <a:ext cx="76438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1071720" y="0"/>
            <a:ext cx="7929360" cy="69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Мероприятия по улучшению условий и охраны труда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 201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3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П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редварительные и периодические медосмотры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а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ботников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занятых на работах  с вредными условиями тру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Обеспечение спец одеждой и средствами защиты .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 На работах с вредными условиями труда выдается специализированный продукт диетического (профилактического)питания при вредных условиях труда-  концентрата киселя, заменяющий молоко по личным заявлениям работников и согласия профсоюзной организации..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.Назначены ответственные лица за состояние по 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Проводится обучение с вновь поступающими сотрудниками по 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1.Составлена программа занятий по охране труда. Проведены проверки знаний по вопросам охраны труда у работников, работающих на объектах повышенной опас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6.Проведена аттестация 11 рабочих мест на сумму 27 500 руб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Прошли обучение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о ОТ 3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человек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и 7 - по  «Пожарно-техническому минимуму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инансирование обучения было из средств бюджета и ОМС на сумму 31600 ру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9.Осуществлено дополнительное страхование от несчастных случаев и профессиональных заболеваний медицинских работников профессий группы риска за счет средств бюджета на сумму 14000 рубл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1143000" y="142920"/>
            <a:ext cx="785808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ланы на 2014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Разработка, проверка, пересмотр  инструкций по охране труда по истечении срока действия и  при изменении  условий  тру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Обеспечение  работников  спецодеждой, спецобувью  и другими средствами индивидуальной защиты в соответствии с нормам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.На работах с вредными условиями труда  выдавать работникам молоко или другие равноценные продук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.Проводить специальную оценку условий труда с привлечением акредитованной оргаза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Осуществлять дополнительное страхование от несчастных случаев и проф. заболева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Проводитьл обучение по ОТ руководителей, специалистов, всех работников больниц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9.Провести капитальный ремонт 6 ФАП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0.Ремонт и модернизация пищеблока больниц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1.Проводить предварительные, при поступлении 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у, и периодические мед.осмотры работник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143000" y="142920"/>
            <a:ext cx="777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КАЗАТЕЛИ  ДЕЯТЕЛЬНОСТИ  ПОЛИКЛИН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344600" y="836640"/>
            <a:ext cx="7799400" cy="67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MS Gothic"/>
              </a:rPr>
              <a:t>                                         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Times New Roman"/>
                <a:ea typeface="MS Gothic"/>
              </a:rPr>
              <a:t>2011 г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MS Gothic"/>
              </a:rPr>
              <a:t>. 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MS Gothic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MS Gothic"/>
              </a:rPr>
              <a:t> 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Times New Roman"/>
                <a:ea typeface="MS Gothic"/>
              </a:rPr>
              <a:t>2012г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MS Gothic"/>
              </a:rPr>
              <a:t>.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MS Gothic"/>
              </a:rPr>
              <a:t>        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  <a:ea typeface="MS Gothic"/>
              </a:rPr>
              <a:t>2013г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сего посещений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34 126         140 039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146 03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том числе  ФАПы                   -                        -                12 87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и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з них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: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 сельских                 28 947               32 358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          42 3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профилактических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43 945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42145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43 14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Число посещений на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жителя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7,7                    8,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7,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Количество вызовов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на дом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6 949                 6 188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5 1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%  активных вызовов                  36,4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36,9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%          36,4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бслуживание вызовов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узкими специалистами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55                    183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26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5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.Количество посещений в поликлинику увеличилось  на  6 000 посещений по сравнению с 2012 год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5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5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Возросло число обслуживания вызовов узкими специалистами ( на 84  посещений в сравнении с 2012г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332000" y="571680"/>
          <a:ext cx="7572240" cy="4640040"/>
        </p:xfrm>
        <a:graphic>
          <a:graphicData uri="http://schemas.openxmlformats.org/drawingml/2006/table">
            <a:tbl>
              <a:tblPr/>
              <a:tblGrid>
                <a:gridCol w="2693880"/>
                <a:gridCol w="1625760"/>
                <a:gridCol w="1627200"/>
                <a:gridCol w="1625400"/>
              </a:tblGrid>
              <a:tr h="32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2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3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апев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рург-травматол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инекол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врол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оларингол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ул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диат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матол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екцион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ач общей практ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ндокринол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3040" y="-360"/>
            <a:ext cx="777096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ДЕЛЬНЫЙ ВЕС ПОСЕЩЕНИЙ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Rectangle 73"/>
          <p:cNvSpPr/>
          <p:nvPr/>
        </p:nvSpPr>
        <p:spPr>
          <a:xfrm>
            <a:off x="1403280" y="5373720"/>
            <a:ext cx="72723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ибольшее количество посещений приходится на терапевтов и педиатров, из узких специалистов – на хирурга-травматолог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С 2013 г в систему ОМС вошла работа ФАП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н на 2013 г. – 12825 посещени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факту – 12878 посещений на ФАПах  (100,4 %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096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ЗАБОЛЕВАЕМОСТЬ ПО ОСНОВНЫМ НОЗОЛОГИЧЕСКИМ ГРУППАМ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43000" y="1214280"/>
          <a:ext cx="7715160" cy="2862360"/>
        </p:xfrm>
        <a:graphic>
          <a:graphicData uri="http://schemas.openxmlformats.org/drawingml/2006/table">
            <a:tbl>
              <a:tblPr/>
              <a:tblGrid>
                <a:gridCol w="4005360"/>
                <a:gridCol w="1152360"/>
                <a:gridCol w="1366920"/>
                <a:gridCol w="1190520"/>
              </a:tblGrid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г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2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3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зарегистрирова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 2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 2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 1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онко  заболе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аб. серд.сосуд.сист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8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2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2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аб. бронхо-легочной сист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9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8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аб. органов пищева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аб. перифер.нервной сист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трав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4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5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4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67"/>
          <p:cNvSpPr/>
          <p:nvPr/>
        </p:nvSpPr>
        <p:spPr>
          <a:xfrm>
            <a:off x="1116000" y="4292640"/>
            <a:ext cx="8028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1 месте заболевания  бронхо- лёгочной системы(включая простудные заболевания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2 месте – травмы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3 месте – сердечно-сосудистые патолог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мечается тенденция к снижению онкологической заболеваемости (11сл  в 2012г,  13 сл  в 2013г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рдечно-сосудистая заболеваемость  по сравнению с 2011г  уменьшилась, но в сравнении с 2012г практически не изменила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СНОВНЫЕ ДЕМОГРАФИЧЕСКИЕ ПОКАЗАТЕЛИ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TextBox 7"/>
          <p:cNvSpPr/>
          <p:nvPr/>
        </p:nvSpPr>
        <p:spPr>
          <a:xfrm flipV="1" rot="10800000">
            <a:off x="1571400" y="5130000"/>
            <a:ext cx="73580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2011г и 2012г произошло изменение общей демографической ситуации приписного населения-   рождаемость превышает смертность   (2012г  на 42 чел в 2013г  на 60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Диаграмма 14" descr=""/>
          <p:cNvPicPr/>
          <p:nvPr/>
        </p:nvPicPr>
        <p:blipFill>
          <a:blip r:embed="rId1"/>
          <a:stretch/>
        </p:blipFill>
        <p:spPr>
          <a:xfrm>
            <a:off x="1987560" y="901800"/>
            <a:ext cx="6692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0960" cy="121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АНАЛИЗ СМЕРТНОСТИ НА ДОМУ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793880" y="928800"/>
          <a:ext cx="6635880" cy="2895480"/>
        </p:xfrm>
        <a:graphic>
          <a:graphicData uri="http://schemas.openxmlformats.org/drawingml/2006/table">
            <a:tbl>
              <a:tblPr/>
              <a:tblGrid>
                <a:gridCol w="3222720"/>
                <a:gridCol w="1228680"/>
                <a:gridCol w="1092240"/>
                <a:gridCol w="1092240"/>
              </a:tblGrid>
              <a:tr h="47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2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3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7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нкологических заболева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я системы кровообращ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реброваскулярные заболе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 ч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TextBox 4"/>
          <p:cNvSpPr/>
          <p:nvPr/>
        </p:nvSpPr>
        <p:spPr>
          <a:xfrm>
            <a:off x="1571760" y="4286160"/>
            <a:ext cx="692928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ая причина смертности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место – заболевания системы кровообращени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место – онкологические заболев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чин смерти от онкологических заболеваний  увеличилась по сравнению с 2011-2012г на  13сл (2012г) и   на14 сл ( 2011г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2520" y="360"/>
            <a:ext cx="333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09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ЛЬГОТНОЕ ЛЕКАРСТВЕННОЕ ОБЕСПЕЧЕНИЕ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1285920" y="549360"/>
            <a:ext cx="785808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Количество федеральных льготников в  2013г -     74 ч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них по селу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16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о областных льготников                       - 1 109 че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них пользуются льготным лекарственным обеспечением всего 176ч.                                       из них по селу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 28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Выписано рецептов за 2013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едеральным льготникам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729 рецептов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ластным льготникам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888 рецепт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По «7 нозологиям» состоит на учёте   11 льготников, из них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чел после трансплантации почк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чел с миелолейкозом, множественной миелом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писано рецептов по «7 нозологиям»               - 154 рецепт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Терапевтические заявки на льготные препараты составляются до   10 числа  на месяц вперё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кологом составляется заявка по рекомендации областных специалистов  и утверждались на ЦВК УЗ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ндокринолог отдельно подаёт заявк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новых больных формируется внеплановая заявка.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ргМетод</dc:creator>
  <dc:description/>
  <dc:language>en-US</dc:language>
  <cp:lastModifiedBy>Нина Анатольевна</cp:lastModifiedBy>
  <dcterms:modified xsi:type="dcterms:W3CDTF">2014-02-13T09:25:59Z</dcterms:modified>
  <cp:revision>364</cp:revision>
  <dc:subject/>
  <dc:title>Слайд 1</dc:title>
</cp:coreProperties>
</file>