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FF0B-435B-41CD-9460-EBC7E8DD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2026-F36D-4911-9023-DAECC008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32A3-2625-4C96-90B3-EADAF504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4A57-9491-4E11-B73A-BE32CBC0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DE4B-08F1-49FC-AF04-9BA7544E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C708-FDE8-4A98-9C88-6E8740F2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0962-7C1E-4EDC-A9E4-79E83998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86E7-F256-4A54-81A7-63F3D45A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ADA7-5493-4855-8411-EE7F4EDD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9981-8369-4B20-BF7D-1BD40077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D98A-9D8A-480E-8AB7-08AC7D49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CF94-BF92-4A23-8EA0-199669F4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101E-CE87-44C7-AD9F-F87AA12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9EF9-FBE5-4CD2-8B3A-592AEED8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B663-0653-4A1A-A778-426C06C5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4A6E-C9EC-41F0-A0E2-E588FF24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F5EF-FFE5-4BA0-9A5A-0D1133AF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BF8A8-B8A5-4F29-A906-24627C4F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1F36-1DBD-4FA1-8024-C8551D86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D7BD-45C5-41FD-912F-4A97BDBF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6FF3-96C1-41DA-A101-A3E994F7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8877-DF7C-437A-8F2B-6F876715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DA2E-1CF2-4C23-B2DF-D61C9A16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AE86-9053-4568-80F5-13FD88C5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4C5D-F6C3-495F-B0E9-5F5FDF54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0983-BD53-4925-926E-E63EE783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9CA4-D62B-4808-B6B8-CB9E1F6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C4AB-3545-4261-A764-03BA298D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7F9F-F0F7-4B98-AB97-437CA027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1AFF-39F8-48AE-AC69-40D5FE48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1C72-903F-4FFF-AFB5-E6D0D218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7F168-E1C9-42C6-A6A0-B28B0893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0F79-DB84-47F8-8CFF-5F7F69F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0189-4DC2-4CBC-85E4-58729960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67B4-1844-4222-B24D-325C2D85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33B8-7DBA-4B8F-9E27-9422E418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14D37-14A9-43AC-9300-EE4F1C66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C27E-A8AD-44AC-8F16-63862EED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D4982-CE69-4DE8-836D-8FB4DF80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7420-1A5B-4FC6-938F-E01FD56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F3934-F6A8-4510-ADCA-83CF69ED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FC3C9-D890-4AE4-8BEA-000A7316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D175-BF02-4C89-ADF0-8122DE8A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FCA0-C181-410F-9708-7562B718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1057-383F-43C5-8E22-5E98AC10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EAC8-61A0-4576-A4BA-8E2FFF2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6E05-0C89-45EA-A317-9F5E0BB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F0D6-734F-4170-A4E3-3483AF8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855B-3BFA-45FA-BC8F-30585CBDBF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3CD6-571B-4946-AFD0-299605CD2B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AE70-D2FC-439A-B735-6366C57B4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4B10-FA84-40C6-8A83-F341E32BDF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uznarod.net/" TargetMode="External"/><Relationship Id="rId2" Type="http://schemas.openxmlformats.org/officeDocument/2006/relationships/hyperlink" Target="http://alekseev.numi.ru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600" spc="-1" strike="noStrike">
                <a:solidFill>
                  <a:srgbClr val="d8f6f8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d8f6f8"/>
                </a:solidFill>
                <a:latin typeface="Tahoma"/>
              </a:rPr>
              <a:t>Путешествие в мир знакомой музыки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d8f6f8"/>
                </a:solidFill>
                <a:latin typeface="Tahoma"/>
              </a:rPr>
              <a:t> урок музыки, 2 класс,</a:t>
            </a:r>
            <a:br>
              <a:rPr sz="2500"/>
            </a:br>
            <a:r>
              <a:rPr b="0" lang="ru-RU" sz="2500" spc="-1" strike="noStrike">
                <a:solidFill>
                  <a:srgbClr val="d8f6f8"/>
                </a:solidFill>
                <a:latin typeface="Tahoma"/>
              </a:rPr>
              <a:t>программа Д.Кабалевского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411280" y="4267080"/>
            <a:ext cx="64008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8f6f8"/>
                </a:solidFill>
                <a:latin typeface="Tahoma"/>
              </a:rPr>
              <a:t>Автор: Пчелинцева Лариса Петро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8f6f8"/>
                </a:solidFill>
                <a:latin typeface="Tahoma"/>
              </a:rPr>
              <a:t>учитель муз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8f6f8"/>
                </a:solidFill>
                <a:latin typeface="Tahoma"/>
              </a:rPr>
              <a:t>МОУ СОШ с углублённым изучением отдельных предметов № 7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8f6f8"/>
                </a:solidFill>
                <a:latin typeface="Tahoma"/>
              </a:rPr>
              <a:t>г.Ворон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4800600" y="2590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зяли за руки друг друг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месте встали все по круг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село скачи и толь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зываем танец 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(полька)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5" descr="полька"/>
          <p:cNvPicPr/>
          <p:nvPr/>
        </p:nvPicPr>
        <p:blipFill>
          <a:blip r:embed="rId1"/>
          <a:stretch/>
        </p:blipFill>
        <p:spPr>
          <a:xfrm>
            <a:off x="990720" y="1828800"/>
            <a:ext cx="281916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9" name="Итальянская полька. Рахманинов  аа.mp3" descr=""/>
          <p:cNvPicPr/>
          <p:nvPr/>
        </p:nvPicPr>
        <p:blipFill>
          <a:blip r:embed="rId2"/>
          <a:stretch/>
        </p:blipFill>
        <p:spPr>
          <a:xfrm>
            <a:off x="828684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585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5257800" y="18288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танец самый рус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танцуют в юбке уз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то вприсядку, кто с платк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яшет, кружится волч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яшет Оля, Таня, 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т танец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(барыня)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Рисунок 4" descr="barinya02_b.jpg"/>
          <p:cNvPicPr/>
          <p:nvPr/>
        </p:nvPicPr>
        <p:blipFill>
          <a:blip r:embed="rId1"/>
          <a:stretch/>
        </p:blipFill>
        <p:spPr>
          <a:xfrm>
            <a:off x="457200" y="1143000"/>
            <a:ext cx="4368960" cy="32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2" name="Барыня .mp3" descr=""/>
          <p:cNvPicPr/>
          <p:nvPr/>
        </p:nvPicPr>
        <p:blipFill>
          <a:blip r:embed="rId2"/>
          <a:stretch/>
        </p:blipFill>
        <p:spPr>
          <a:xfrm>
            <a:off x="83581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6319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42840" y="33526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арыня</a:t>
            </a:r>
            <a:endParaRPr b="0" lang="en-US" sz="2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533160"/>
            <a:ext cx="3429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аль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638320" y="-36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л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7" descr="полька"/>
          <p:cNvPicPr/>
          <p:nvPr/>
        </p:nvPicPr>
        <p:blipFill>
          <a:blip r:embed="rId1"/>
          <a:stretch/>
        </p:blipFill>
        <p:spPr>
          <a:xfrm rot="792000">
            <a:off x="5977080" y="1328400"/>
            <a:ext cx="259056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7" name="Рисунок 7" descr="barinya02_b.jpg"/>
          <p:cNvPicPr/>
          <p:nvPr/>
        </p:nvPicPr>
        <p:blipFill>
          <a:blip r:embed="rId2"/>
          <a:stretch/>
        </p:blipFill>
        <p:spPr>
          <a:xfrm>
            <a:off x="3200400" y="4038480"/>
            <a:ext cx="3124080" cy="23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8" name="Рисунок 8" descr="вальс.jpg"/>
          <p:cNvPicPr/>
          <p:nvPr/>
        </p:nvPicPr>
        <p:blipFill>
          <a:blip r:embed="rId3"/>
          <a:stretch/>
        </p:blipFill>
        <p:spPr>
          <a:xfrm rot="20631000">
            <a:off x="794880" y="1333440"/>
            <a:ext cx="2309760" cy="276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523880" y="21337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третье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0" name="В мире животных .mp3" descr=""/>
          <p:cNvPicPr/>
          <p:nvPr/>
        </p:nvPicPr>
        <p:blipFill>
          <a:blip r:embed="rId1"/>
          <a:stretch/>
        </p:blipFill>
        <p:spPr>
          <a:xfrm>
            <a:off x="8286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0188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голубой кит"/>
          <p:cNvPicPr/>
          <p:nvPr/>
        </p:nvPicPr>
        <p:blipFill>
          <a:blip r:embed="rId1"/>
          <a:stretch/>
        </p:blipFill>
        <p:spPr>
          <a:xfrm rot="20458800">
            <a:off x="5551560" y="2426760"/>
            <a:ext cx="2577960" cy="19828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 rot="20247600">
            <a:off x="6248520" y="441936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ff"/>
                </a:solidFill>
                <a:latin typeface="Tahoma"/>
              </a:rPr>
              <a:t>Пес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берез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перепелка"/>
          <p:cNvPicPr/>
          <p:nvPr/>
        </p:nvPicPr>
        <p:blipFill>
          <a:blip r:embed="rId2"/>
          <a:stretch/>
        </p:blipFill>
        <p:spPr>
          <a:xfrm>
            <a:off x="7086600" y="53150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55" name="голос перепелки.mp3" descr=""/>
          <p:cNvPicPr/>
          <p:nvPr/>
        </p:nvPicPr>
        <p:blipFill>
          <a:blip r:embed="rId3"/>
          <a:stretch/>
        </p:blipFill>
        <p:spPr>
          <a:xfrm>
            <a:off x="8786880" y="650088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5199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523880" y="21337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узыкальные загадки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7" name="волшебство.mp3" descr=""/>
          <p:cNvPicPr/>
          <p:nvPr/>
        </p:nvPicPr>
        <p:blipFill>
          <a:blip r:embed="rId1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559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5"/>
          <p:cNvSpPr/>
          <p:nvPr/>
        </p:nvSpPr>
        <p:spPr>
          <a:xfrm>
            <a:off x="928800" y="19288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ном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12" descr="01s"/>
          <p:cNvPicPr/>
          <p:nvPr/>
        </p:nvPicPr>
        <p:blipFill>
          <a:blip r:embed="rId1"/>
          <a:stretch/>
        </p:blipFill>
        <p:spPr>
          <a:xfrm>
            <a:off x="642960" y="2500200"/>
            <a:ext cx="1596960" cy="160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0" name="Picture 15" descr="солнышко (69)"/>
          <p:cNvPicPr/>
          <p:nvPr/>
        </p:nvPicPr>
        <p:blipFill>
          <a:blip r:embed="rId2"/>
          <a:stretch/>
        </p:blipFill>
        <p:spPr>
          <a:xfrm>
            <a:off x="3714840" y="1285920"/>
            <a:ext cx="1936800" cy="1743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друзья"/>
          <p:cNvPicPr/>
          <p:nvPr/>
        </p:nvPicPr>
        <p:blipFill>
          <a:blip r:embed="rId3"/>
          <a:stretch/>
        </p:blipFill>
        <p:spPr>
          <a:xfrm rot="1091400">
            <a:off x="6814800" y="2910960"/>
            <a:ext cx="1479600" cy="133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2" name="Picture 22" descr="скрипач"/>
          <p:cNvPicPr/>
          <p:nvPr/>
        </p:nvPicPr>
        <p:blipFill>
          <a:blip r:embed="rId4"/>
          <a:stretch/>
        </p:blipFill>
        <p:spPr>
          <a:xfrm>
            <a:off x="3929040" y="4286160"/>
            <a:ext cx="1487520" cy="177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3" name="Picture 30" descr="1210155889_12"/>
          <p:cNvPicPr/>
          <p:nvPr/>
        </p:nvPicPr>
        <p:blipFill>
          <a:blip r:embed="rId5"/>
          <a:stretch/>
        </p:blipFill>
        <p:spPr>
          <a:xfrm rot="20295000">
            <a:off x="6705360" y="1447560"/>
            <a:ext cx="1523880" cy="121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4" name="Rectangle 34"/>
          <p:cNvSpPr/>
          <p:nvPr/>
        </p:nvSpPr>
        <p:spPr>
          <a:xfrm>
            <a:off x="3201120" y="7128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сть всегда будет солнц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7986960" y="25909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з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37"/>
          <p:cNvSpPr/>
          <p:nvPr/>
        </p:nvSpPr>
        <p:spPr>
          <a:xfrm>
            <a:off x="3481200" y="37861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селый музык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Гномики вступление.mp3" descr=""/>
          <p:cNvPicPr/>
          <p:nvPr/>
        </p:nvPicPr>
        <p:blipFill>
          <a:blip r:embed="rId6"/>
          <a:stretch/>
        </p:blipFill>
        <p:spPr>
          <a:xfrm>
            <a:off x="2000160" y="3714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Солнеч. круг вступление.mp3" descr=""/>
          <p:cNvPicPr/>
          <p:nvPr/>
        </p:nvPicPr>
        <p:blipFill>
          <a:blip r:embed="rId7"/>
          <a:stretch/>
        </p:blipFill>
        <p:spPr>
          <a:xfrm>
            <a:off x="5072040" y="2428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Друзья вступление.mp3" descr=""/>
          <p:cNvPicPr/>
          <p:nvPr/>
        </p:nvPicPr>
        <p:blipFill>
          <a:blip r:embed="rId8"/>
          <a:stretch/>
        </p:blipFill>
        <p:spPr>
          <a:xfrm>
            <a:off x="8215200" y="3143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4389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7994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3579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8f6f8"/>
                </a:solidFill>
                <a:latin typeface="Tahoma"/>
              </a:rPr>
              <a:t>Вслушиваться в музыку, которая всегда рядом с нами.</a:t>
            </a:r>
            <a:endParaRPr b="0" lang="en-US" sz="2800" spc="-1" strike="noStrike">
              <a:solidFill>
                <a:srgbClr val="d8f6f8"/>
              </a:solidFill>
              <a:latin typeface="Tahoma"/>
            </a:endParaRPr>
          </a:p>
        </p:txBody>
      </p:sp>
      <p:pic>
        <p:nvPicPr>
          <p:cNvPr id="271" name="Бременские музыканты.mp3" descr=""/>
          <p:cNvPicPr/>
          <p:nvPr/>
        </p:nvPicPr>
        <p:blipFill>
          <a:blip r:embed="rId1"/>
          <a:stretch/>
        </p:blipFill>
        <p:spPr>
          <a:xfrm>
            <a:off x="828684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9989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Список использованной литературы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Т.А.Затямина «Современный урок музыки». «Глобус», 2007г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Е.А.Смолина «Современный урок музыки». Академия развития, 2006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ограмма по музыке 1-8 классы.  Д.Б.Кабалевский, Просвещение 2006г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Музыкальный материал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musicrossosh.my1.ru/ </a:t>
            </a:r>
            <a:br>
              <a:rPr sz="1400"/>
            </a:br>
            <a:r>
              <a:rPr b="0" lang="ru-RU" sz="14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1"/>
              </a:rPr>
              <a:t>http://www.muznarod.net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br>
              <a:rPr sz="1400"/>
            </a:br>
            <a:r>
              <a:rPr b="0" lang="ru-RU" sz="14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http://alekseev.numi.ru/</a:t>
            </a:r>
            <a:br>
              <a:rPr sz="1400"/>
            </a:br>
            <a:r>
              <a:rPr b="0" lang="ru-RU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mp3minusovki.ru/</a:t>
            </a:r>
            <a:br>
              <a:rPr sz="1400"/>
            </a:br>
            <a:r>
              <a:rPr b="0" lang="ru-RU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mp3ostrov.com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zvuki-tut.narod.ru/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точники заимствования картинок: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www.zel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grushka.ru/index.php?productID=281i3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ww.socialdance.r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finalday.ru/1/1/muzika-dlya-valsa-na-vipusknoy.html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idancer.tv/news/reports/507/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ria.ru/sport/20110530/381970676.htm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sfw.org.ua/1148850877-pionerskaja-podborka.-nostalgija..htm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hq-pictures.ru/hq.php?hd=72161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saintpetersburg.olx.ru/iid-9578661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www.liveinternet.ru/users/2010239/post104954900/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cccp-kino.narod.ru/multiki_cccp/bremenskie_muzikanti.html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suetyak.blog.ru/?year=2009&amp;month=03&amp;day=3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www.krassota.com/deti.htm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ополнительный материал:</a:t>
            </a:r>
            <a:br>
              <a:rPr sz="1400"/>
            </a:br>
            <a:r>
              <a:rPr b="0" lang="ru-RU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ttp://detkam.e-papa.ru/mp/90/957.html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zvuki-tut.narod.ru/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5"/>
          <p:cNvSpPr txBox="1"/>
          <p:nvPr/>
        </p:nvSpPr>
        <p:spPr>
          <a:xfrm>
            <a:off x="1066680" y="259092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d8f6f8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-ПУТЕШЕСТВИЕ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d8f6f8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Бременские музыканты.mp3" descr=""/>
          <p:cNvPicPr/>
          <p:nvPr/>
        </p:nvPicPr>
        <p:blipFill>
          <a:blip r:embed="rId1"/>
          <a:stretch/>
        </p:blipFill>
        <p:spPr>
          <a:xfrm>
            <a:off x="82152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89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голубой кит"/>
          <p:cNvPicPr/>
          <p:nvPr/>
        </p:nvPicPr>
        <p:blipFill>
          <a:blip r:embed="rId1"/>
          <a:stretch/>
        </p:blipFill>
        <p:spPr>
          <a:xfrm>
            <a:off x="6324480" y="2209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голубой кит"/>
          <p:cNvPicPr/>
          <p:nvPr/>
        </p:nvPicPr>
        <p:blipFill>
          <a:blip r:embed="rId2"/>
          <a:stretch/>
        </p:blipFill>
        <p:spPr>
          <a:xfrm>
            <a:off x="3657600" y="21337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голубой кит"/>
          <p:cNvPicPr/>
          <p:nvPr/>
        </p:nvPicPr>
        <p:blipFill>
          <a:blip r:embed="rId3"/>
          <a:stretch/>
        </p:blipFill>
        <p:spPr>
          <a:xfrm>
            <a:off x="1066680" y="2133720"/>
            <a:ext cx="1981440" cy="15238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 rot="20485800">
            <a:off x="6832440" y="382716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f6f8"/>
                </a:solidFill>
                <a:latin typeface="Tahoma"/>
              </a:rPr>
              <a:t>Пес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6"/>
          <p:cNvSpPr/>
          <p:nvPr/>
        </p:nvSpPr>
        <p:spPr>
          <a:xfrm rot="20398200">
            <a:off x="4235760" y="37623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f6f8"/>
                </a:solidFill>
                <a:latin typeface="Tahoma"/>
              </a:rPr>
              <a:t>Тан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7"/>
          <p:cNvSpPr/>
          <p:nvPr/>
        </p:nvSpPr>
        <p:spPr>
          <a:xfrm rot="20487000">
            <a:off x="1442880" y="374616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f6f8"/>
                </a:solidFill>
                <a:latin typeface="Tahoma"/>
              </a:rPr>
              <a:t>Мар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6"/>
          <p:cNvSpPr txBox="1"/>
          <p:nvPr/>
        </p:nvSpPr>
        <p:spPr>
          <a:xfrm>
            <a:off x="1523880" y="21337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ервое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9" name="В мире животных .mp3" descr=""/>
          <p:cNvPicPr/>
          <p:nvPr/>
        </p:nvPicPr>
        <p:blipFill>
          <a:blip r:embed="rId1"/>
          <a:stretch/>
        </p:blipFill>
        <p:spPr>
          <a:xfrm>
            <a:off x="82152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018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1523880" y="991080"/>
            <a:ext cx="460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военный, он походн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позиторский, народн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на свадьбе, и в печа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у музыку встреч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дохновляет при борьб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ень нужен при ходьб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рковой, спортивный н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омкий, чёткий, бодрый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4" descr="голубой кит"/>
          <p:cNvPicPr/>
          <p:nvPr/>
        </p:nvPicPr>
        <p:blipFill>
          <a:blip r:embed="rId1"/>
          <a:stretch/>
        </p:blipFill>
        <p:spPr>
          <a:xfrm rot="21012000">
            <a:off x="5944680" y="3365280"/>
            <a:ext cx="2214720" cy="17031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 rot="20311800">
            <a:off x="7072200" y="5244840"/>
            <a:ext cx="2667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ff"/>
                </a:solidFill>
                <a:latin typeface="Tahoma"/>
              </a:rPr>
              <a:t>Марш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Марш. Л.Бетховен.mp3" descr=""/>
          <p:cNvPicPr/>
          <p:nvPr/>
        </p:nvPicPr>
        <p:blipFill>
          <a:blip r:embed="rId2"/>
          <a:stretch/>
        </p:blipFill>
        <p:spPr>
          <a:xfrm>
            <a:off x="828684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178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6" descr="381969504.jpg"/>
          <p:cNvPicPr/>
          <p:nvPr/>
        </p:nvPicPr>
        <p:blipFill>
          <a:blip r:embed="rId1"/>
          <a:stretch/>
        </p:blipFill>
        <p:spPr>
          <a:xfrm>
            <a:off x="3352680" y="380880"/>
            <a:ext cx="2702160" cy="152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5" name="Рисунок 7" descr="parad-pobedi-9-maya.jpg"/>
          <p:cNvPicPr/>
          <p:nvPr/>
        </p:nvPicPr>
        <p:blipFill>
          <a:blip r:embed="rId2"/>
          <a:stretch/>
        </p:blipFill>
        <p:spPr>
          <a:xfrm>
            <a:off x="685800" y="2209680"/>
            <a:ext cx="2743200" cy="18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6" name="Рисунок 9" descr="64463673_britancuy.jpg"/>
          <p:cNvPicPr/>
          <p:nvPr/>
        </p:nvPicPr>
        <p:blipFill>
          <a:blip r:embed="rId3"/>
          <a:stretch/>
        </p:blipFill>
        <p:spPr>
          <a:xfrm>
            <a:off x="3352680" y="4343400"/>
            <a:ext cx="2743200" cy="2054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7" name="Рисунок 6" descr="original.jpg"/>
          <p:cNvPicPr/>
          <p:nvPr/>
        </p:nvPicPr>
        <p:blipFill>
          <a:blip r:embed="rId4"/>
          <a:stretch/>
        </p:blipFill>
        <p:spPr>
          <a:xfrm>
            <a:off x="5943600" y="2209680"/>
            <a:ext cx="2583000" cy="172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1523880" y="21337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второе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9" name="В мире животных .mp3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0188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1828800" y="867600"/>
            <a:ext cx="444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встают ребята в кру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ы мне друг и я твой дру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кти – крылья, пальцы – перь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и птица, толи зверь 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ратиться все хотя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жёлтых маленьких…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(утят)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голубой кит"/>
          <p:cNvPicPr/>
          <p:nvPr/>
        </p:nvPicPr>
        <p:blipFill>
          <a:blip r:embed="rId1"/>
          <a:stretch/>
        </p:blipFill>
        <p:spPr>
          <a:xfrm rot="20696400">
            <a:off x="6259320" y="3187440"/>
            <a:ext cx="2266920" cy="1743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 rot="20077200">
            <a:off x="6477120" y="518112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ff"/>
                </a:solidFill>
                <a:latin typeface="Tahoma"/>
              </a:rPr>
              <a:t>Танец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танец утят.mp3" descr=""/>
          <p:cNvPicPr/>
          <p:nvPr/>
        </p:nvPicPr>
        <p:blipFill>
          <a:blip r:embed="rId2"/>
          <a:stretch/>
        </p:blipFill>
        <p:spPr>
          <a:xfrm>
            <a:off x="80010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5375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5334120" y="16765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 музыку красиву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ужатся в зале па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деюсь, этот танец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ворожит и в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н белый или школьны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н молодой и стары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н танец наших бабуше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н вечно юный 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(вальс)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Рисунок 4" descr="вальс.jpg"/>
          <p:cNvPicPr/>
          <p:nvPr/>
        </p:nvPicPr>
        <p:blipFill>
          <a:blip r:embed="rId1"/>
          <a:stretch/>
        </p:blipFill>
        <p:spPr>
          <a:xfrm rot="20338200">
            <a:off x="1031760" y="975960"/>
            <a:ext cx="3175200" cy="3792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" name="вальс из балета Спящая красавица.mp3" descr=""/>
          <p:cNvPicPr/>
          <p:nvPr/>
        </p:nvPicPr>
        <p:blipFill>
          <a:blip r:embed="rId2"/>
          <a:stretch/>
        </p:blipFill>
        <p:spPr>
          <a:xfrm>
            <a:off x="800100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079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3T08:55:44Z</dcterms:modified>
  <cp:revision>42</cp:revision>
  <dc:subject/>
  <dc:title>Слайд 1</dc:title>
</cp:coreProperties>
</file>