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75F1-1C38-47F2-BF17-C6C899D9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ED8DD-9DC6-4F00-91D8-C1443B5C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CC0C-2954-4CE9-8F7A-55CC8E78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BCDF8-E634-4806-963F-18EBC54B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8AEF-38A8-49DD-8F93-4B600F18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A9CA-1CCA-4704-94FD-300B3B26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B39E-2B29-4D12-8B7E-10B7F98F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A3F1-5B8D-4AA3-AFD5-3A8AB40C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6E1F-EF6D-4D6D-A7EF-5FEEF330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4852-8C9B-44EF-8687-5E0B6A0F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0AC2-F7F2-4A0F-9B74-D1D11F94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CFBD-757B-49A2-BE93-70170F3F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C634-224D-45CC-A993-FB50B7F9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2493-A055-4917-903F-528676DB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2FE6-ACB5-404E-A792-3CF93FFC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0AB1-50E2-499A-B7F9-5F5380BA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FD02-FD7A-45B0-BAE3-23808006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CF87-7D3B-43EA-B1E9-E310C1C7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54E80-B142-4838-B907-7285D2F9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AF5B6-252F-4E7B-89C5-D91B23D7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9A93-AC23-45C8-A54A-5511913F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F683-F032-4888-AF75-22D9FC7B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B60A-C252-41A3-B1FA-C4825E5E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A2128-9D33-44B6-9E76-DDC71CF6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2F54B-64C2-4E0D-A4D7-427C6D69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D26F-5263-4DA4-9A8C-569A3AC5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0387-C961-4F12-9401-1A6CC82E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A492-B789-4138-9B46-EC60081C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81BC-B629-4D71-9DE6-1AE403DD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5930B-1ADF-434B-811B-D59E8E60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885E8-9646-4AC0-9B3D-0C831CA9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99E06-4032-4BAB-8750-9FBB92CD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79E55-C7D8-4976-8FC8-A4E83E75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E1372-E014-427D-83F5-E27D7E20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4E70A-AABC-4465-8C24-4693D78A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771B5-4A86-429F-9348-4C63F902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A41AB-53E6-4F42-A8F0-C81628FA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3FD96-C9DC-4A27-AA5B-AB2DB38F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9C7DF-4607-42D2-9678-2ECF5DD3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F8AC-3FDB-4B51-B3A9-39D31F73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B643-7F72-4EB6-B9D8-81D1E153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B1A62-BCC7-4095-9D91-22A0AC84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E4EC8-9645-4CF6-A265-A53628CC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2DE7-7BC2-4223-85DA-7304180F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A7D6-58DA-419B-B873-27EBFB97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68AE-5705-4F37-B93E-A6B20E00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E087-7FCF-4FDF-A7F6-BAE2C8A2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5B8F-9091-4729-BDCA-5261E501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E2F1-8F68-4C0A-BCF5-75285C8350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F9E0-C285-4FE4-AAB2-CF87C9107F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3523-346E-4445-9F39-2F4271687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71D9-6D65-4F92-A37C-C8BD0DAA96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uznarod.net/" TargetMode="External"/><Relationship Id="rId2" Type="http://schemas.openxmlformats.org/officeDocument/2006/relationships/hyperlink" Target="http://alekseev.numi.ru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600" spc="-1" strike="noStrike">
                <a:solidFill>
                  <a:srgbClr val="d8f6f8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d8f6f8"/>
                </a:solidFill>
                <a:latin typeface="Tahoma"/>
              </a:rPr>
              <a:t>Путешествие в мир знакомой музыки 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d8f6f8"/>
                </a:solidFill>
                <a:latin typeface="Tahoma"/>
              </a:rPr>
              <a:t> урок музыки, 2 класс,</a:t>
            </a:r>
            <a:br>
              <a:rPr sz="2500"/>
            </a:br>
            <a:r>
              <a:rPr b="0" lang="ru-RU" sz="2500" spc="-1" strike="noStrike">
                <a:solidFill>
                  <a:srgbClr val="d8f6f8"/>
                </a:solidFill>
                <a:latin typeface="Tahoma"/>
              </a:rPr>
              <a:t>программа Д.Кабалевского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411280" y="4267080"/>
            <a:ext cx="64008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8f6f8"/>
                </a:solidFill>
                <a:latin typeface="Tahoma"/>
              </a:rPr>
              <a:t>Автор: Пчелинцева Лариса Петров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8f6f8"/>
                </a:solidFill>
                <a:latin typeface="Tahoma"/>
              </a:rPr>
              <a:t>учитель муз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8f6f8"/>
                </a:solidFill>
                <a:latin typeface="Tahoma"/>
              </a:rPr>
              <a:t>МОУ СОШ с углублённым изучением отдельных предметов № 7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8f6f8"/>
                </a:solidFill>
                <a:latin typeface="Tahoma"/>
              </a:rPr>
              <a:t>г.Вороне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4800600" y="25909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зяли за руки друг друг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месте встали все по круг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село скачи и толь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зываем танец 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           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(полька)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5" descr="полька"/>
          <p:cNvPicPr/>
          <p:nvPr/>
        </p:nvPicPr>
        <p:blipFill>
          <a:blip r:embed="rId1"/>
          <a:stretch/>
        </p:blipFill>
        <p:spPr>
          <a:xfrm>
            <a:off x="990720" y="1828800"/>
            <a:ext cx="281916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9" name="Итальянская полька. Рахманинов  аа.mp3" descr=""/>
          <p:cNvPicPr/>
          <p:nvPr/>
        </p:nvPicPr>
        <p:blipFill>
          <a:blip r:embed="rId2"/>
          <a:stretch/>
        </p:blipFill>
        <p:spPr>
          <a:xfrm>
            <a:off x="828684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585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5257800" y="18288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т танец самый рус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танцуют в юбке уз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то вприсядку, кто с платк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яшет, кружится волчк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яшет Оля, Таня, 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т танец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(барыня)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Рисунок 4" descr="barinya02_b.jpg"/>
          <p:cNvPicPr/>
          <p:nvPr/>
        </p:nvPicPr>
        <p:blipFill>
          <a:blip r:embed="rId1"/>
          <a:stretch/>
        </p:blipFill>
        <p:spPr>
          <a:xfrm>
            <a:off x="457200" y="1143000"/>
            <a:ext cx="4368960" cy="32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2" name="Барыня .mp3" descr=""/>
          <p:cNvPicPr/>
          <p:nvPr/>
        </p:nvPicPr>
        <p:blipFill>
          <a:blip r:embed="rId2"/>
          <a:stretch/>
        </p:blipFill>
        <p:spPr>
          <a:xfrm>
            <a:off x="83581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6319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42840" y="3352680"/>
            <a:ext cx="396252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Барыня</a:t>
            </a:r>
            <a:endParaRPr b="0" lang="en-US" sz="2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533160"/>
            <a:ext cx="3429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аль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638320" y="-36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л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7" descr="полька"/>
          <p:cNvPicPr/>
          <p:nvPr/>
        </p:nvPicPr>
        <p:blipFill>
          <a:blip r:embed="rId1"/>
          <a:stretch/>
        </p:blipFill>
        <p:spPr>
          <a:xfrm rot="792000">
            <a:off x="5977080" y="1328400"/>
            <a:ext cx="259056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7" name="Рисунок 7" descr="barinya02_b.jpg"/>
          <p:cNvPicPr/>
          <p:nvPr/>
        </p:nvPicPr>
        <p:blipFill>
          <a:blip r:embed="rId2"/>
          <a:stretch/>
        </p:blipFill>
        <p:spPr>
          <a:xfrm>
            <a:off x="3200400" y="4038480"/>
            <a:ext cx="3124080" cy="23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8" name="Рисунок 8" descr="вальс.jpg"/>
          <p:cNvPicPr/>
          <p:nvPr/>
        </p:nvPicPr>
        <p:blipFill>
          <a:blip r:embed="rId3"/>
          <a:stretch/>
        </p:blipFill>
        <p:spPr>
          <a:xfrm rot="20631000">
            <a:off x="794880" y="1333440"/>
            <a:ext cx="2309760" cy="2760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523880" y="21337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третье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0" name="В мире животных .mp3" descr=""/>
          <p:cNvPicPr/>
          <p:nvPr/>
        </p:nvPicPr>
        <p:blipFill>
          <a:blip r:embed="rId1"/>
          <a:stretch/>
        </p:blipFill>
        <p:spPr>
          <a:xfrm>
            <a:off x="828684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0188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голубой кит"/>
          <p:cNvPicPr/>
          <p:nvPr/>
        </p:nvPicPr>
        <p:blipFill>
          <a:blip r:embed="rId1"/>
          <a:stretch/>
        </p:blipFill>
        <p:spPr>
          <a:xfrm rot="20458800">
            <a:off x="5551560" y="2426760"/>
            <a:ext cx="2577960" cy="19828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 rot="20247600">
            <a:off x="6248520" y="441936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ff"/>
                </a:solidFill>
                <a:latin typeface="Tahoma"/>
              </a:rPr>
              <a:t>Пес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берез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перепелка"/>
          <p:cNvPicPr/>
          <p:nvPr/>
        </p:nvPicPr>
        <p:blipFill>
          <a:blip r:embed="rId2"/>
          <a:stretch/>
        </p:blipFill>
        <p:spPr>
          <a:xfrm>
            <a:off x="7086600" y="531504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55" name="голос перепелки.mp3" descr=""/>
          <p:cNvPicPr/>
          <p:nvPr/>
        </p:nvPicPr>
        <p:blipFill>
          <a:blip r:embed="rId3"/>
          <a:stretch/>
        </p:blipFill>
        <p:spPr>
          <a:xfrm>
            <a:off x="8786880" y="6500880"/>
            <a:ext cx="3571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5199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523880" y="21337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узыкальные загадки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7" name="волшебство.mp3" descr=""/>
          <p:cNvPicPr/>
          <p:nvPr/>
        </p:nvPicPr>
        <p:blipFill>
          <a:blip r:embed="rId1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559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5"/>
          <p:cNvSpPr/>
          <p:nvPr/>
        </p:nvSpPr>
        <p:spPr>
          <a:xfrm>
            <a:off x="928800" y="19288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ном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12" descr="01s"/>
          <p:cNvPicPr/>
          <p:nvPr/>
        </p:nvPicPr>
        <p:blipFill>
          <a:blip r:embed="rId1"/>
          <a:stretch/>
        </p:blipFill>
        <p:spPr>
          <a:xfrm>
            <a:off x="642960" y="2500200"/>
            <a:ext cx="1596960" cy="1608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0" name="Picture 15" descr="солнышко (69)"/>
          <p:cNvPicPr/>
          <p:nvPr/>
        </p:nvPicPr>
        <p:blipFill>
          <a:blip r:embed="rId2"/>
          <a:stretch/>
        </p:blipFill>
        <p:spPr>
          <a:xfrm>
            <a:off x="3714840" y="1285920"/>
            <a:ext cx="1936800" cy="1743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друзья"/>
          <p:cNvPicPr/>
          <p:nvPr/>
        </p:nvPicPr>
        <p:blipFill>
          <a:blip r:embed="rId3"/>
          <a:stretch/>
        </p:blipFill>
        <p:spPr>
          <a:xfrm rot="1091400">
            <a:off x="6814800" y="2910960"/>
            <a:ext cx="1479600" cy="133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2" name="Picture 22" descr="скрипач"/>
          <p:cNvPicPr/>
          <p:nvPr/>
        </p:nvPicPr>
        <p:blipFill>
          <a:blip r:embed="rId4"/>
          <a:stretch/>
        </p:blipFill>
        <p:spPr>
          <a:xfrm>
            <a:off x="3929040" y="4286160"/>
            <a:ext cx="1487520" cy="177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3" name="Picture 30" descr="1210155889_12"/>
          <p:cNvPicPr/>
          <p:nvPr/>
        </p:nvPicPr>
        <p:blipFill>
          <a:blip r:embed="rId5"/>
          <a:stretch/>
        </p:blipFill>
        <p:spPr>
          <a:xfrm rot="20295000">
            <a:off x="6705360" y="1447560"/>
            <a:ext cx="1523880" cy="1211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4" name="Rectangle 34"/>
          <p:cNvSpPr/>
          <p:nvPr/>
        </p:nvSpPr>
        <p:spPr>
          <a:xfrm>
            <a:off x="3201120" y="71280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сть всегда будет солнц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36"/>
          <p:cNvSpPr/>
          <p:nvPr/>
        </p:nvSpPr>
        <p:spPr>
          <a:xfrm>
            <a:off x="7986960" y="25909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з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37"/>
          <p:cNvSpPr/>
          <p:nvPr/>
        </p:nvSpPr>
        <p:spPr>
          <a:xfrm>
            <a:off x="3481200" y="378612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селый музык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Гномики вступление.mp3" descr=""/>
          <p:cNvPicPr/>
          <p:nvPr/>
        </p:nvPicPr>
        <p:blipFill>
          <a:blip r:embed="rId6"/>
          <a:stretch/>
        </p:blipFill>
        <p:spPr>
          <a:xfrm>
            <a:off x="2000160" y="3714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8" name="Солнеч. круг вступление.mp3" descr=""/>
          <p:cNvPicPr/>
          <p:nvPr/>
        </p:nvPicPr>
        <p:blipFill>
          <a:blip r:embed="rId7"/>
          <a:stretch/>
        </p:blipFill>
        <p:spPr>
          <a:xfrm>
            <a:off x="5072040" y="2428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Друзья вступление.mp3" descr=""/>
          <p:cNvPicPr/>
          <p:nvPr/>
        </p:nvPicPr>
        <p:blipFill>
          <a:blip r:embed="rId8"/>
          <a:stretch/>
        </p:blipFill>
        <p:spPr>
          <a:xfrm>
            <a:off x="8215200" y="3143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4389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7994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3579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8f6f8"/>
                </a:solidFill>
                <a:latin typeface="Tahoma"/>
              </a:rPr>
              <a:t>Вслушиваться в музыку, которая всегда рядом с нами.</a:t>
            </a:r>
            <a:endParaRPr b="0" lang="en-US" sz="2800" spc="-1" strike="noStrike">
              <a:solidFill>
                <a:srgbClr val="d8f6f8"/>
              </a:solidFill>
              <a:latin typeface="Tahoma"/>
            </a:endParaRPr>
          </a:p>
        </p:txBody>
      </p:sp>
      <p:pic>
        <p:nvPicPr>
          <p:cNvPr id="271" name="Бременские музыканты.mp3" descr=""/>
          <p:cNvPicPr/>
          <p:nvPr/>
        </p:nvPicPr>
        <p:blipFill>
          <a:blip r:embed="rId1"/>
          <a:stretch/>
        </p:blipFill>
        <p:spPr>
          <a:xfrm>
            <a:off x="828684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9989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Список использованной литературы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Т.А.Затямина «Современный урок музыки». «Глобус», 2007г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Е.А.Смолина «Современный урок музыки». Академия развития, 2006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ограмма по музыке 1-8 классы.  Д.Б.Кабалевский, Просвещение 2006г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Музыкальный материал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musicrossosh.my1.ru/ </a:t>
            </a:r>
            <a:br>
              <a:rPr sz="1400"/>
            </a:br>
            <a:r>
              <a:rPr b="0" lang="ru-RU" sz="14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1"/>
              </a:rPr>
              <a:t>http://www.muznarod.net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br>
              <a:rPr sz="1400"/>
            </a:br>
            <a:r>
              <a:rPr b="0" lang="ru-RU" sz="14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http://alekseev.numi.ru/</a:t>
            </a:r>
            <a:br>
              <a:rPr sz="1400"/>
            </a:br>
            <a:r>
              <a:rPr b="0" lang="ru-RU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mp3minusovki.ru/</a:t>
            </a:r>
            <a:br>
              <a:rPr sz="1400"/>
            </a:br>
            <a:r>
              <a:rPr b="0" lang="ru-RU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mp3ostrov.com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zvuki-tut.narod.ru/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точники заимствования картинок: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www.zel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grushka.ru/index.php?productID=281i3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www.socialdance.ru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finalday.ru/1/1/muzika-dlya-valsa-na-vipusknoy.html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idancer.tv/news/reports/507/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ria.ru/sport/20110530/381970676.htm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sfw.org.ua/1148850877-pionerskaja-podborka.-nostalgija..htm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hq-pictures.ru/hq.php?hd=72161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saintpetersburg.olx.ru/iid-95786618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www.liveinternet.ru/users/2010239/post104954900/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cccp-kino.narod.ru/multiki_cccp/bremenskie_muzikanti.html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suetyak.blog.ru/?year=2009&amp;month=03&amp;day=3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www.krassota.com/deti.htm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Дополнительный материал:</a:t>
            </a:r>
            <a:br>
              <a:rPr sz="1400"/>
            </a:br>
            <a:r>
              <a:rPr b="0" lang="ru-RU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detkam.e-papa.ru/mp/90/957.html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zvuki-tut.narod.ru/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5"/>
          <p:cNvSpPr txBox="1"/>
          <p:nvPr/>
        </p:nvSpPr>
        <p:spPr>
          <a:xfrm>
            <a:off x="1066680" y="259092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d8f6f8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-ПУТЕШЕСТВИЕ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solidFill>
                <a:srgbClr val="d8f6f8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Бременские музыканты.mp3" descr=""/>
          <p:cNvPicPr/>
          <p:nvPr/>
        </p:nvPicPr>
        <p:blipFill>
          <a:blip r:embed="rId1"/>
          <a:stretch/>
        </p:blipFill>
        <p:spPr>
          <a:xfrm>
            <a:off x="821520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89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голубой кит"/>
          <p:cNvPicPr/>
          <p:nvPr/>
        </p:nvPicPr>
        <p:blipFill>
          <a:blip r:embed="rId1"/>
          <a:stretch/>
        </p:blipFill>
        <p:spPr>
          <a:xfrm>
            <a:off x="6324480" y="22096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голубой кит"/>
          <p:cNvPicPr/>
          <p:nvPr/>
        </p:nvPicPr>
        <p:blipFill>
          <a:blip r:embed="rId2"/>
          <a:stretch/>
        </p:blipFill>
        <p:spPr>
          <a:xfrm>
            <a:off x="3657600" y="21337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голубой кит"/>
          <p:cNvPicPr/>
          <p:nvPr/>
        </p:nvPicPr>
        <p:blipFill>
          <a:blip r:embed="rId3"/>
          <a:stretch/>
        </p:blipFill>
        <p:spPr>
          <a:xfrm>
            <a:off x="1066680" y="2133720"/>
            <a:ext cx="1981440" cy="15238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 rot="20485800">
            <a:off x="6832440" y="382716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f6f8"/>
                </a:solidFill>
                <a:latin typeface="Tahoma"/>
              </a:rPr>
              <a:t>Пес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6"/>
          <p:cNvSpPr/>
          <p:nvPr/>
        </p:nvSpPr>
        <p:spPr>
          <a:xfrm rot="20398200">
            <a:off x="4235760" y="376236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f6f8"/>
                </a:solidFill>
                <a:latin typeface="Tahoma"/>
              </a:rPr>
              <a:t>Тане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7"/>
          <p:cNvSpPr/>
          <p:nvPr/>
        </p:nvSpPr>
        <p:spPr>
          <a:xfrm rot="20487000">
            <a:off x="1442880" y="374616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f6f8"/>
                </a:solidFill>
                <a:latin typeface="Tahoma"/>
              </a:rPr>
              <a:t>Мар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6"/>
          <p:cNvSpPr txBox="1"/>
          <p:nvPr/>
        </p:nvSpPr>
        <p:spPr>
          <a:xfrm>
            <a:off x="1523880" y="21337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первое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9" name="В мире животных .mp3" descr=""/>
          <p:cNvPicPr/>
          <p:nvPr/>
        </p:nvPicPr>
        <p:blipFill>
          <a:blip r:embed="rId1"/>
          <a:stretch/>
        </p:blipFill>
        <p:spPr>
          <a:xfrm>
            <a:off x="821520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0188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1523880" y="991080"/>
            <a:ext cx="460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 военный, он походны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позиторский, народны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на свадьбе, и в печа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у музыку встреча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дохновляет при борьб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ень нужен при ходьб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ирковой, спортивный наш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омкий, чёткий, бодрый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4" descr="голубой кит"/>
          <p:cNvPicPr/>
          <p:nvPr/>
        </p:nvPicPr>
        <p:blipFill>
          <a:blip r:embed="rId1"/>
          <a:stretch/>
        </p:blipFill>
        <p:spPr>
          <a:xfrm rot="21012000">
            <a:off x="5944680" y="3365280"/>
            <a:ext cx="2214720" cy="17031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 rot="20311800">
            <a:off x="7072200" y="5244840"/>
            <a:ext cx="2667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ff"/>
                </a:solidFill>
                <a:latin typeface="Tahoma"/>
              </a:rPr>
              <a:t>Марш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Марш. Л.Бетховен.mp3" descr=""/>
          <p:cNvPicPr/>
          <p:nvPr/>
        </p:nvPicPr>
        <p:blipFill>
          <a:blip r:embed="rId2"/>
          <a:stretch/>
        </p:blipFill>
        <p:spPr>
          <a:xfrm>
            <a:off x="828684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6178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6" descr="381969504.jpg"/>
          <p:cNvPicPr/>
          <p:nvPr/>
        </p:nvPicPr>
        <p:blipFill>
          <a:blip r:embed="rId1"/>
          <a:stretch/>
        </p:blipFill>
        <p:spPr>
          <a:xfrm>
            <a:off x="3352680" y="380880"/>
            <a:ext cx="2702160" cy="152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5" name="Рисунок 7" descr="parad-pobedi-9-maya.jpg"/>
          <p:cNvPicPr/>
          <p:nvPr/>
        </p:nvPicPr>
        <p:blipFill>
          <a:blip r:embed="rId2"/>
          <a:stretch/>
        </p:blipFill>
        <p:spPr>
          <a:xfrm>
            <a:off x="685800" y="2209680"/>
            <a:ext cx="2743200" cy="1828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6" name="Рисунок 9" descr="64463673_britancuy.jpg"/>
          <p:cNvPicPr/>
          <p:nvPr/>
        </p:nvPicPr>
        <p:blipFill>
          <a:blip r:embed="rId3"/>
          <a:stretch/>
        </p:blipFill>
        <p:spPr>
          <a:xfrm>
            <a:off x="3352680" y="4343400"/>
            <a:ext cx="2743200" cy="2054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7" name="Рисунок 6" descr="original.jpg"/>
          <p:cNvPicPr/>
          <p:nvPr/>
        </p:nvPicPr>
        <p:blipFill>
          <a:blip r:embed="rId4"/>
          <a:stretch/>
        </p:blipFill>
        <p:spPr>
          <a:xfrm>
            <a:off x="5943600" y="2209680"/>
            <a:ext cx="2583000" cy="172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2"/>
          <p:cNvSpPr txBox="1"/>
          <p:nvPr/>
        </p:nvSpPr>
        <p:spPr>
          <a:xfrm>
            <a:off x="1523880" y="21337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второе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9" name="В мире животных .mp3" descr=""/>
          <p:cNvPicPr/>
          <p:nvPr/>
        </p:nvPicPr>
        <p:blipFill>
          <a:blip r:embed="rId1"/>
          <a:stretch/>
        </p:blipFill>
        <p:spPr>
          <a:xfrm>
            <a:off x="814392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0188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1828800" y="867600"/>
            <a:ext cx="444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встают ребята в кру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ы мне друг и я твой дру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кти – крылья, пальцы – перь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и птица, толи зверь 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вратиться все хотя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жёлтых маленьких…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(утят)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6" descr="голубой кит"/>
          <p:cNvPicPr/>
          <p:nvPr/>
        </p:nvPicPr>
        <p:blipFill>
          <a:blip r:embed="rId1"/>
          <a:stretch/>
        </p:blipFill>
        <p:spPr>
          <a:xfrm rot="20696400">
            <a:off x="6259320" y="3187440"/>
            <a:ext cx="2266920" cy="1743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 rot="20077200">
            <a:off x="6477120" y="518112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ff"/>
                </a:solidFill>
                <a:latin typeface="Tahoma"/>
              </a:rPr>
              <a:t>Танец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танец утят.mp3" descr=""/>
          <p:cNvPicPr/>
          <p:nvPr/>
        </p:nvPicPr>
        <p:blipFill>
          <a:blip r:embed="rId2"/>
          <a:stretch/>
        </p:blipFill>
        <p:spPr>
          <a:xfrm>
            <a:off x="800100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5375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5334120" y="16765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д музыку красиву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ужатся в зале па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деюсь, этот танец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ворожит и ва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н белый или школьны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н молодой и стары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н танец наших бабуше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н вечно юный 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(вальс)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Рисунок 4" descr="вальс.jpg"/>
          <p:cNvPicPr/>
          <p:nvPr/>
        </p:nvPicPr>
        <p:blipFill>
          <a:blip r:embed="rId1"/>
          <a:stretch/>
        </p:blipFill>
        <p:spPr>
          <a:xfrm rot="20338200">
            <a:off x="1031760" y="975960"/>
            <a:ext cx="3175200" cy="3792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" name="вальс из балета Спящая красавица.mp3" descr=""/>
          <p:cNvPicPr/>
          <p:nvPr/>
        </p:nvPicPr>
        <p:blipFill>
          <a:blip r:embed="rId2"/>
          <a:stretch/>
        </p:blipFill>
        <p:spPr>
          <a:xfrm>
            <a:off x="800100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0799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3T08:55:44Z</dcterms:modified>
  <cp:revision>42</cp:revision>
  <dc:subject/>
  <dc:title>Слайд 1</dc:title>
</cp:coreProperties>
</file>