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F34-5877-482A-8DA0-52823FF6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368-4326-4E76-BAEA-D9A915F3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761-AE7E-4EF1-9426-7E5148D4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9B7-44DD-4ABC-8418-B04E31B3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B3A-F138-47E7-9AAE-FF3C7189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8C1-D5C1-4690-96EF-FB8562C2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D9B-1291-4B1B-83DD-5D63EB2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99B-3669-490E-A015-765B0AE0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537-E102-412B-B2BF-AA46A4B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923-16C0-48FD-87A9-4EB5B3C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62D-D2FF-4BAA-B366-3A2573B9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394-C1F9-4437-B6D9-A4F2DDCB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479-F152-401B-AB83-DFF091FD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                  </a:t>
            </a:r>
            <a:r>
              <a:rPr b="0" i="1" lang="ru-RU" sz="2400" spc="-1" strike="noStrike">
                <a:solidFill>
                  <a:srgbClr val="800000"/>
                </a:solidFill>
                <a:latin typeface="Georgia"/>
              </a:rPr>
              <a:t>«Лев Толстой в Алексеевском крае»</a:t>
            </a:r>
            <a:br>
              <a:rPr sz="24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Авторы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члены кружка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«Юный краевед»,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МОУ Ильичевская ООШ                        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Руководитель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Жаксиликова Н.Н.                                                         </a:t>
            </a:r>
            <a:br>
              <a:rPr sz="2000"/>
            </a:b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                                                                       учитель истори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1917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ный памятник природы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ский род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 реки Съез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ся в 4-х км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лка Гаврил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ник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лубине 4-х метров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нке оврага.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и пре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ая раститель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ыль-тырсак, мят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говой, полынь горькая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6720" y="3428640"/>
            <a:ext cx="388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оду приношу из родн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Что на дне глубокого овра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Под замшелой скрюченной коря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зарослях густого та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Не в близи родник, не на вид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За версту от нашего сел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Я к нему не ради развлеч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 не ради прихоти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В роднике вода – всех вод свет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Из земли моей, из самой глуб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1923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ухой Тананык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ухом Танан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ся памя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ита. Это знак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е налож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на друга п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жняя выполнена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бетона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оритовой крош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ей находится мраморная пл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573800" cy="25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. Моча (Чапа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16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есте второй усадьб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еке Моче, в 1978 г.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а 4-х ме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ла со скульптурном портр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кого русского писател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рет помещен в сере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менной книги. Н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а белая мрам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та, на которой высеч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: «На этом месте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адьба Л.Н.Толстого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иезжал в 1872-1883 год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DSC00152"/>
          <p:cNvPicPr/>
          <p:nvPr/>
        </p:nvPicPr>
        <p:blipFill>
          <a:blip r:embed="rId1"/>
          <a:stretch/>
        </p:blipFill>
        <p:spPr>
          <a:xfrm>
            <a:off x="4788000" y="2133720"/>
            <a:ext cx="4176720" cy="3062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7" name="Rectangle 12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озвышенность Шиш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3-х верстах от усадь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находилась г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. Здесь в 1875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состоялись ска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зами на 50 верст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 гуля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вященных пребыва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го в нашем кра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шка становится цент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IMG_0054"/>
          <p:cNvPicPr/>
          <p:nvPr/>
        </p:nvPicPr>
        <p:blipFill>
          <a:blip r:embed="rId1"/>
          <a:stretch/>
        </p:blipFill>
        <p:spPr>
          <a:xfrm>
            <a:off x="4500720" y="1484280"/>
            <a:ext cx="4317840" cy="2516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5508720" y="4149720"/>
            <a:ext cx="2600280" cy="1951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620800" cy="41097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Народные гуляния в бывшем имении </a:t>
            </a:r>
            <a:br>
              <a:rPr sz="4000"/>
            </a:br>
            <a:r>
              <a:rPr b="0" i="1" lang="ru-RU" sz="4000" spc="-1" strike="noStrike">
                <a:solidFill>
                  <a:srgbClr val="800000"/>
                </a:solidFill>
                <a:latin typeface="Palatino Linotype"/>
              </a:rPr>
              <a:t>     Льва Николаевича Толстог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4" name="Picture 4" descr="IMG_0023"/>
          <p:cNvPicPr/>
          <p:nvPr/>
        </p:nvPicPr>
        <p:blipFill>
          <a:blip r:embed="rId2"/>
          <a:stretch/>
        </p:blipFill>
        <p:spPr>
          <a:xfrm>
            <a:off x="179280" y="3429000"/>
            <a:ext cx="3024360" cy="1816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5" name="Picture 6" descr="IMG_0022"/>
          <p:cNvPicPr/>
          <p:nvPr/>
        </p:nvPicPr>
        <p:blipFill>
          <a:blip r:embed="rId3"/>
          <a:stretch/>
        </p:blipFill>
        <p:spPr>
          <a:xfrm>
            <a:off x="6012000" y="1700280"/>
            <a:ext cx="2916000" cy="187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6" name="Picture 7" descr="P1013846"/>
          <p:cNvPicPr/>
          <p:nvPr/>
        </p:nvPicPr>
        <p:blipFill>
          <a:blip r:embed="rId4"/>
          <a:stretch/>
        </p:blipFill>
        <p:spPr>
          <a:xfrm>
            <a:off x="6012000" y="3789360"/>
            <a:ext cx="2952720" cy="1724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7" name="Picture 10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952720" cy="160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5000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131640" y="260280"/>
            <a:ext cx="36068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степь была в его суд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ынью дикой, зноем, рож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звала его к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ехал раз – и задерж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и купил. Поставил 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нраву быт степной каз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ь трижды был с семьей по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зьями стали и калмы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шкир и русский, и кирг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вал в Землянках, в Каралы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ухамеда пил кумы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уллой калякал и с морм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ьи издателям пи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дя в Гавриловку с поклон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стьян от голода спас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тал, предсказывал и вер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тепь заплещется в пруд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кнет плита в бетонный бер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Тананыка в двух вер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орил во благо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перечислить добрых 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девятнадцатого 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рядущий праведно гля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ядел взволнованно и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роком, графом, мужико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стой родился не в Заволжь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стал заволжским степня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.Востр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476440" cy="3311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 advTm="3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иодическая печ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ная правда. 1989, 2002, 2004-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гументы и факты.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я семья.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фанасьев И.П. Л.Н.Толстой в Самарском Заволжье: Очерки. Куйбышев, 1984 – 6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триков.Ф.С. Тостой и степь. Пермь, 1999.- 6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онский Н.А. Степняки. 198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волуцкая Л.И. По Куйбышевской области. М.: Физкультура и спорт, 1987. – 17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 Толстой в Самаре: Воспоминание, письма, статьи. /Сост. А.И.Мартиновская, М.С.Силина. Куйбышев, 1988. – 288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тешествие в прошлое. /сост. Завальный А.Н., Рыбалко Ю.Е. Самара, 1992 – 288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лстой и степь неразделимы. /сост. Аникина Л.В. с.Алексеевка, 2005.- 17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истории названия реки Моча (Чапаевка). /сост. Бирюков В.М. с.Алексеевска, 2006.- 11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повалов Е. Рассказы о Толстом. Куйбышев, 1968 – 14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лю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тографии из архива  учителя истории Жаксиликовой Н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50004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Приобщение ровесников к истории малой родины, к истории нашего района, а также популяризация памятных мест, посвященных пребыванию Л.Н.Толстого на Алексеевской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аршрут «Лев Толстой в Алексеевском крае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5" name="Picture 4" descr="IMG_0014"/>
          <p:cNvPicPr/>
          <p:nvPr/>
        </p:nvPicPr>
        <p:blipFill>
          <a:blip r:embed="rId1"/>
          <a:stretch/>
        </p:blipFill>
        <p:spPr>
          <a:xfrm>
            <a:off x="2268360" y="3429000"/>
            <a:ext cx="2851200" cy="316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" name="Rectangle 6"/>
          <p:cNvSpPr/>
          <p:nvPr/>
        </p:nvSpPr>
        <p:spPr>
          <a:xfrm>
            <a:off x="5581080" y="155736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4068720" cy="258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24360" cy="1812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Землянки (Алексее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1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еевке плодотво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ет музей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аеведения. Он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 в 1987 г.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ем муз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лся замеч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, патриот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й род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 Петрович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анас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DSC01246"/>
          <p:cNvPicPr/>
          <p:nvPr/>
        </p:nvPicPr>
        <p:blipFill>
          <a:blip r:embed="rId1"/>
          <a:stretch/>
        </p:blipFill>
        <p:spPr>
          <a:xfrm>
            <a:off x="5508720" y="1125360"/>
            <a:ext cx="1665360" cy="237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097440" cy="2324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узей истории и краеведения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 краевед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ее представл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о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Толстого и 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ьи в  степ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евском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0018"/>
          <p:cNvPicPr/>
          <p:nvPr/>
        </p:nvPicPr>
        <p:blipFill>
          <a:blip r:embed="rId1"/>
          <a:stretch/>
        </p:blipFill>
        <p:spPr>
          <a:xfrm>
            <a:off x="4284720" y="1341360"/>
            <a:ext cx="1806480" cy="2952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460600" cy="2109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5003640" y="4508640"/>
            <a:ext cx="3095640" cy="2030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Романовка (Патровка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9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о Патровка – бывш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ое с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енное на р. Съезж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Толстой часто приезжал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ровку, беседовал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ьянами о жизни, помо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ой Патровке м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ых мест, связанных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ю Л.Н.Толстого.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е действует яснополя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иал «Муравейное братств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узеи истории села име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зиция «Толстой и Патр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6300720" y="1125360"/>
            <a:ext cx="2535480" cy="19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2614680" cy="2077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20368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008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. были установлены новые памятные знаки в с.Патровка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колхозного правления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174920" cy="2371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292720" y="3414600"/>
            <a:ext cx="3564000" cy="2617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ело Гавриловка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788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селе Гаври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несколько  памя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, которые свидетель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ребывании Льва Толстог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ном  Заволж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здесь Толстой пров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ись каждого деся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а во время страшного голода в Поволж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DSC00161"/>
          <p:cNvPicPr/>
          <p:nvPr/>
        </p:nvPicPr>
        <p:blipFill>
          <a:blip r:embed="rId1"/>
          <a:stretch/>
        </p:blipFill>
        <p:spPr>
          <a:xfrm>
            <a:off x="4788000" y="2060640"/>
            <a:ext cx="4038480" cy="3029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1" name="Rectangle 8"/>
          <p:cNvSpPr/>
          <p:nvPr/>
        </p:nvSpPr>
        <p:spPr>
          <a:xfrm>
            <a:off x="4427640" y="530064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мориальная доска на фаса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дохранилище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ухом Тананыке, в 2-х км от бывшей усадьбы Толстого, построено водохранил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 великого писателя о том, что здесь «вода будет везде, где запрудишь пруд», оказались проро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есь любят отдыхать местные жители и гости нашего райо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DSC00113"/>
          <p:cNvPicPr/>
          <p:nvPr/>
        </p:nvPicPr>
        <p:blipFill>
          <a:blip r:embed="rId1"/>
          <a:stretch/>
        </p:blipFill>
        <p:spPr>
          <a:xfrm>
            <a:off x="5076720" y="1413000"/>
            <a:ext cx="3672000" cy="2754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4572000" y="4365720"/>
            <a:ext cx="3530520" cy="2095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4:14:10Z</dcterms:created>
  <dc:creator>1</dc:creator>
  <dc:description/>
  <dc:language>en-US</dc:language>
  <cp:lastModifiedBy>Admin</cp:lastModifiedBy>
  <dcterms:modified xsi:type="dcterms:W3CDTF">2002-01-23T20:02:43Z</dcterms:modified>
  <cp:revision>46</cp:revision>
  <dc:subject/>
  <dc:title>                                                                                 Авторы                                            учащиеся МОУ                                             Ильичевской ООШ                                            Руководитель                                             Жаксиликова Н.Н.</dc:title>
</cp:coreProperties>
</file>