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00A3-0707-4E1B-9364-9868A465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D807-CB99-4D8A-8B4C-14480F30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B8D8-FEEB-44B4-AB51-E1DA6A54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4E04-CA2A-4DDE-B3D0-C755A695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0FEF-34F6-45BB-9E09-081B2BDF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6DDE-D49F-4978-8727-1729DBAF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596D-9655-4E00-9912-0CCBFF6D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304C-516E-4460-B6FC-6CFB5213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516-0132-4F4F-BAEA-AB0BF3C9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95A6-F1F8-4048-9F2A-7EF56983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3812-3065-44B7-8491-ACA9580C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CA0-814F-4CD7-B67E-D1E534F8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BEB9-7118-46CC-91B6-E28126AC7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800000"/>
                </a:solidFill>
                <a:latin typeface="Georgia"/>
              </a:rPr>
              <a:t>                  </a:t>
            </a:r>
            <a:r>
              <a:rPr b="0" i="1" lang="ru-RU" sz="2400" spc="-1" strike="noStrike">
                <a:solidFill>
                  <a:srgbClr val="800000"/>
                </a:solidFill>
                <a:latin typeface="Georgia"/>
              </a:rPr>
              <a:t>«Лев Толстой в Алексеевском крае»</a:t>
            </a:r>
            <a:br>
              <a:rPr sz="2400"/>
            </a:br>
            <a:br>
              <a:rPr sz="1800"/>
            </a:b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                                                                     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Авторы</a:t>
            </a:r>
            <a:br>
              <a:rPr sz="2000"/>
            </a:b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                                                                      члены кружка             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                                                                       «Юный краевед»,</a:t>
            </a:r>
            <a:br>
              <a:rPr sz="2000"/>
            </a:b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                                                                       МОУ Ильичевская ООШ                          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                                                                       Руководитель</a:t>
            </a:r>
            <a:br>
              <a:rPr sz="2000"/>
            </a:b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                                                                       Жаксиликова Н.Н.  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                                                                       учитель истории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191772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дный памятник природы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ский родн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к реки Съезж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ится в 4-х км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лка Гаврилов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ник наход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глубине 4-х метров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нке оврага.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и преоблад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пная раститель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выль-тырсак, мят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говой, полынь горькая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6720" y="3428640"/>
            <a:ext cx="3888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Воду приношу из родн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Что на дне глубокого овра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Под замшелой скрюченной коряг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В зарослях густого та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Не в близи родник, не на виду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За версту от нашего селен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Я к нему не ради развлечен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И не ради прихоти и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В роднике вода – всех вод свет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Из земли моей, из самой глуб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240000" cy="19238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ухой Тананык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3164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ухом Тананы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ходится памя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ита. Это знак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е налож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 на друга пл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жняя выполнена 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езобетона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оритовой крош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ней находится мраморная пли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3" descr=""/>
          <p:cNvPicPr/>
          <p:nvPr/>
        </p:nvPicPr>
        <p:blipFill>
          <a:blip r:embed="rId1"/>
          <a:stretch/>
        </p:blipFill>
        <p:spPr>
          <a:xfrm>
            <a:off x="4356000" y="2349360"/>
            <a:ext cx="4573800" cy="2573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. Моча (Чапаевка)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16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есте второй усадьб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еке Моче, в 1978 г. бы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а 4-х мет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ла со скульптурном портр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ого русского писателя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трет помещен в серед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менной книги. Ни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оложена белая мрамо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ита, на которой высеч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: «На этом месте бы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адьба Л.Н.Толстого, в котор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приезжал в 1872-1883 годы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DSC00152"/>
          <p:cNvPicPr/>
          <p:nvPr/>
        </p:nvPicPr>
        <p:blipFill>
          <a:blip r:embed="rId1"/>
          <a:stretch/>
        </p:blipFill>
        <p:spPr>
          <a:xfrm>
            <a:off x="4788000" y="2133720"/>
            <a:ext cx="4176720" cy="30621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87" name="Rectangle 12"/>
          <p:cNvSpPr/>
          <p:nvPr/>
        </p:nvSpPr>
        <p:spPr>
          <a:xfrm>
            <a:off x="6012000" y="5589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озвышенность Шишка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316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3-х верстах от усадь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Толстого находилась г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шка. Здесь в 1875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вые состоялись скач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ризами на 50 верст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 гуля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вященных пребыва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Толстого в нашем кра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шка становится цент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одн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IMG_0054"/>
          <p:cNvPicPr/>
          <p:nvPr/>
        </p:nvPicPr>
        <p:blipFill>
          <a:blip r:embed="rId1"/>
          <a:stretch/>
        </p:blipFill>
        <p:spPr>
          <a:xfrm>
            <a:off x="4500720" y="1484280"/>
            <a:ext cx="4317840" cy="25164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1" name="Picture 13" descr=""/>
          <p:cNvPicPr/>
          <p:nvPr/>
        </p:nvPicPr>
        <p:blipFill>
          <a:blip r:embed="rId2"/>
          <a:stretch/>
        </p:blipFill>
        <p:spPr>
          <a:xfrm>
            <a:off x="5508720" y="4149720"/>
            <a:ext cx="2600280" cy="19512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 advTm="5000"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2620800" cy="41097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291960"/>
            <a:ext cx="8507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800000"/>
                </a:solidFill>
                <a:latin typeface="Palatino Linotype"/>
              </a:rPr>
              <a:t>Народные гуляния в бывшем имении </a:t>
            </a:r>
            <a:br>
              <a:rPr sz="4000"/>
            </a:br>
            <a:r>
              <a:rPr b="0" i="1" lang="ru-RU" sz="4000" spc="-1" strike="noStrike">
                <a:solidFill>
                  <a:srgbClr val="800000"/>
                </a:solidFill>
                <a:latin typeface="Palatino Linotype"/>
              </a:rPr>
              <a:t>     Льва Николаевича Толстого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4" name="Picture 4" descr="IMG_0023"/>
          <p:cNvPicPr/>
          <p:nvPr/>
        </p:nvPicPr>
        <p:blipFill>
          <a:blip r:embed="rId2"/>
          <a:stretch/>
        </p:blipFill>
        <p:spPr>
          <a:xfrm>
            <a:off x="179280" y="3429000"/>
            <a:ext cx="3024360" cy="18162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5" name="Picture 6" descr="IMG_0022"/>
          <p:cNvPicPr/>
          <p:nvPr/>
        </p:nvPicPr>
        <p:blipFill>
          <a:blip r:embed="rId3"/>
          <a:stretch/>
        </p:blipFill>
        <p:spPr>
          <a:xfrm>
            <a:off x="6012000" y="1700280"/>
            <a:ext cx="2916000" cy="18716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6" name="Picture 7" descr="P1013846"/>
          <p:cNvPicPr/>
          <p:nvPr/>
        </p:nvPicPr>
        <p:blipFill>
          <a:blip r:embed="rId4"/>
          <a:stretch/>
        </p:blipFill>
        <p:spPr>
          <a:xfrm>
            <a:off x="6012000" y="3789360"/>
            <a:ext cx="2952720" cy="17240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7" name="Picture 10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952720" cy="16016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 advTm="5000"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131640" y="260280"/>
            <a:ext cx="36068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лстой родился не в Заволжь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степь была в его судьб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ынью дикой, зноем, рож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звала его к себ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ехал раз – и задержал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емли купил. Поставил д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нраву быт степной казал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ль трижды был с семьей по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узьями стали и калмы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шкир и русский, и кирги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вал в Землянках, в Каралык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Мухамеда пил кумы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муллой калякал и с мормон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тьи издателям пис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йдя в Гавриловку с поклон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естьян от голода спас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чтал, предсказывал и вери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степь заплещется в пруд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лкнет плита в бетонный бер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 Тананыка в двух верст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орил во благо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перечислить добрых д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 девятнадцатого 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грядущий праведно гляд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ядел взволнованно и строж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роком, графом, мужиком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лстой родился не в Заволжь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стал заволжским степня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.Востр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5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476440" cy="33116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 advTm="3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c1c1c"/>
                </a:solidFill>
                <a:latin typeface="Arial"/>
              </a:rPr>
              <a:t>Использованная литература: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981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иодическая печ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пная правда. 1989, 2002, 2004-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гументы и факты. 199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я семья.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фанасьев И.П. Л.Н.Толстой в Самарском Заволжье: Очерки. Куйбышев, 1984 – 64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триков.Ф.С. Тостой и степь. Пермь, 1999.- 63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онский Н.А. Степняки. 198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иволуцкая Л.И. По Куйбышевской области. М.: Физкультура и спорт, 1987. – 174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в Толстой в Самаре: Воспоминание, письма, статьи. /Сост. А.И.Мартиновская, М.С.Силина. Куйбышев, 1988. – 288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тешествие в прошлое. /сост. Завальный А.Н., Рыбалко Ю.Е. Самара, 1992 – 288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лстой и степь неразделимы. /сост. Аникина Л.В. с.Алексеевка, 2005.- 17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истории названия реки Моча (Чапаевка). /сост. Бирюков В.М. с.Алексеевска, 2006.- 11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аповалов Е. Рассказы о Толстом. Куйбышев, 1968 – 14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ллю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тографии из архива  учителя истории Жаксиликовой Н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500040"/>
            <a:ext cx="8229600" cy="60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     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Ц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Приобщение ровесников к истории малой родины, к истории нашего района, а также популяризация памятных мест, посвященных пребыванию Л.Н.Толстого на Алексеевской зем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Маршрут «Лев Толстой в Алексеевском крае»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5" name="Picture 4" descr="IMG_0014"/>
          <p:cNvPicPr/>
          <p:nvPr/>
        </p:nvPicPr>
        <p:blipFill>
          <a:blip r:embed="rId1"/>
          <a:stretch/>
        </p:blipFill>
        <p:spPr>
          <a:xfrm>
            <a:off x="2268360" y="3429000"/>
            <a:ext cx="2851200" cy="3168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46" name="Rectangle 6"/>
          <p:cNvSpPr/>
          <p:nvPr/>
        </p:nvSpPr>
        <p:spPr>
          <a:xfrm>
            <a:off x="5581080" y="1557360"/>
            <a:ext cx="32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ело Землянки (Алексеев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4068720" cy="258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48" name="Picture 9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3924360" cy="18129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ело Землянки (Алексеевка)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176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в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ксеевке плодотвор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ет музей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краеведения. Он бы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 в 1987 г.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телем музе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лся замечате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, патриот сво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ой род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ван Петрович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фанась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DSC01246"/>
          <p:cNvPicPr/>
          <p:nvPr/>
        </p:nvPicPr>
        <p:blipFill>
          <a:blip r:embed="rId1"/>
          <a:stretch/>
        </p:blipFill>
        <p:spPr>
          <a:xfrm>
            <a:off x="5508720" y="1125360"/>
            <a:ext cx="1665360" cy="2376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097440" cy="23241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узей истории и краеведения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2447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 краеведче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зее представл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ес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 о жиз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Н.Толстого и е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ьи в  степ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ексеевском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IMG_0018"/>
          <p:cNvPicPr/>
          <p:nvPr/>
        </p:nvPicPr>
        <p:blipFill>
          <a:blip r:embed="rId1"/>
          <a:stretch/>
        </p:blipFill>
        <p:spPr>
          <a:xfrm>
            <a:off x="4284720" y="1341360"/>
            <a:ext cx="1806480" cy="2952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6443640" y="1628640"/>
            <a:ext cx="2460600" cy="21099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58" name="Picture 10" descr=""/>
          <p:cNvPicPr/>
          <p:nvPr/>
        </p:nvPicPr>
        <p:blipFill>
          <a:blip r:embed="rId3"/>
          <a:stretch/>
        </p:blipFill>
        <p:spPr>
          <a:xfrm>
            <a:off x="5003640" y="4508640"/>
            <a:ext cx="3095640" cy="20304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ело Романовка (Патровка)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249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ло Патровка – бывш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ое се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оложенное на р. Съезж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Толстой часто приезжал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тровку, беседовал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стьянами о жизни, помог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мо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временной Патровке мног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ых мест, связанных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ью Л.Н.Толстого.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е действует яснополя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иал «Муравейное братство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узеи истории села име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озиция «Толстой и Патров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"/>
          <p:cNvPicPr/>
          <p:nvPr/>
        </p:nvPicPr>
        <p:blipFill>
          <a:blip r:embed="rId1"/>
          <a:stretch/>
        </p:blipFill>
        <p:spPr>
          <a:xfrm>
            <a:off x="6300720" y="1125360"/>
            <a:ext cx="2535480" cy="1908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"/>
          <p:cNvPicPr/>
          <p:nvPr/>
        </p:nvPicPr>
        <p:blipFill>
          <a:blip r:embed="rId2"/>
          <a:stretch/>
        </p:blipFill>
        <p:spPr>
          <a:xfrm>
            <a:off x="4284720" y="2924280"/>
            <a:ext cx="2614680" cy="2077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"/>
          <p:cNvPicPr/>
          <p:nvPr/>
        </p:nvPicPr>
        <p:blipFill>
          <a:blip r:embed="rId3"/>
          <a:stretch/>
        </p:blipFill>
        <p:spPr>
          <a:xfrm>
            <a:off x="6877080" y="3789360"/>
            <a:ext cx="2036880" cy="2730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В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2008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г. были установлены новые памятные знаки в с.Патровка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ание колхозного правления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ь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4174920" cy="2371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5292720" y="3414600"/>
            <a:ext cx="3564000" cy="26179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ело Гавриловка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788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селе Гаври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ся несколько  памя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, которые свидетель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пребывании Льва Толстого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пном  Заволж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нно здесь Толстой пров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пись каждого деся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ора во время страшного голода в Поволж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DSC00161"/>
          <p:cNvPicPr/>
          <p:nvPr/>
        </p:nvPicPr>
        <p:blipFill>
          <a:blip r:embed="rId1"/>
          <a:stretch/>
        </p:blipFill>
        <p:spPr>
          <a:xfrm>
            <a:off x="4788000" y="2060640"/>
            <a:ext cx="4038480" cy="30290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71" name="Rectangle 8"/>
          <p:cNvSpPr/>
          <p:nvPr/>
        </p:nvSpPr>
        <p:spPr>
          <a:xfrm>
            <a:off x="4427640" y="5300640"/>
            <a:ext cx="47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мориальная доска на фасад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дохранилище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3164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ухом Тананыке, в 2-х км от бывшей усадьбы Толстого, построено водохранил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 великого писателя о том, что здесь «вода будет везде, где запрудишь пруд», оказались пророчес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сь любят отдыхать местные жители и гости нашего район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DSC00113"/>
          <p:cNvPicPr/>
          <p:nvPr/>
        </p:nvPicPr>
        <p:blipFill>
          <a:blip r:embed="rId1"/>
          <a:stretch/>
        </p:blipFill>
        <p:spPr>
          <a:xfrm>
            <a:off x="5076720" y="1413000"/>
            <a:ext cx="3672000" cy="27543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76" name="Picture 11" descr=""/>
          <p:cNvPicPr/>
          <p:nvPr/>
        </p:nvPicPr>
        <p:blipFill>
          <a:blip r:embed="rId2"/>
          <a:stretch/>
        </p:blipFill>
        <p:spPr>
          <a:xfrm>
            <a:off x="4572000" y="4365720"/>
            <a:ext cx="3530520" cy="20955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4:14:10Z</dcterms:created>
  <dc:creator>1</dc:creator>
  <dc:description/>
  <dc:language>en-US</dc:language>
  <cp:lastModifiedBy>Admin</cp:lastModifiedBy>
  <dcterms:modified xsi:type="dcterms:W3CDTF">2002-01-23T20:02:43Z</dcterms:modified>
  <cp:revision>46</cp:revision>
  <dc:subject/>
  <dc:title>                                                                                 Авторы                                            учащиеся МОУ                                             Ильичевской ООШ                                            Руководитель                                             Жаксиликова Н.Н.</dc:title>
</cp:coreProperties>
</file>